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7C3-05F3-4317-80B4-A70CB2F9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FCB-7D57-4FED-ACBF-7016A220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661-0D5B-4D24-ADE8-886C9F7F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5B6-5913-4D08-9368-7B33F029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C1C-B098-4854-848B-1369B545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842-AC8D-4AA3-A502-E83D723C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4E7-F921-46CB-9DA9-C18EB3B7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BA7-36BA-4235-8416-2A2299CC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737-F4A4-4172-92A4-87515532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9F9-11EB-471E-B4FF-A50953B5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A81-A9F4-4D86-9418-F41E1143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25C-097B-4650-9D42-B3F494EA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855C-6E92-40BB-8E05-CE70E599E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500" spc="-1" strike="noStrike">
                <a:solidFill>
                  <a:srgbClr val="993366"/>
                </a:solidFill>
                <a:latin typeface="Arial"/>
              </a:rPr>
              <a:t>Климат </a:t>
            </a:r>
            <a:br>
              <a:rPr sz="8500"/>
            </a:br>
            <a:r>
              <a:rPr b="0" i="1" lang="en-US" sz="8500" spc="-1" strike="noStrike">
                <a:solidFill>
                  <a:srgbClr val="993366"/>
                </a:solidFill>
                <a:latin typeface="Arial"/>
              </a:rPr>
              <a:t>и человек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4787640" y="5733720"/>
            <a:ext cx="42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еева Вера Николаевна,                 МАОУ-Гимназия № 47, г. 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.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дание 4 после параграфа.  Дайте характеристику климата Свердловской области ( на 8 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чему в районах с низким уровнем комфортности население строит города? (9 балл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8360" y="119700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9700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48360" y="227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48360" y="335772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48360" y="458136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341360"/>
            <a:ext cx="24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ператур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08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76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5772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2421000"/>
            <a:ext cx="2305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ад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3500280"/>
            <a:ext cx="244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4653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и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84720" y="1484280"/>
            <a:ext cx="3019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27640" y="2492280"/>
            <a:ext cx="2686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00720" y="3573360"/>
            <a:ext cx="2592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84720" y="4797360"/>
            <a:ext cx="305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26028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333360"/>
            <a:ext cx="1187640" cy="696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333360"/>
            <a:ext cx="1368360" cy="69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71640" y="404640"/>
            <a:ext cx="67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236000" y="404640"/>
            <a:ext cx="100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 rot="5400000">
            <a:off x="4355280" y="404640"/>
            <a:ext cx="648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Narrow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Narrow"/>
              <a:ea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8360" y="119700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9700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48360" y="227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48360" y="335772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48360" y="458136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9280" y="1341360"/>
            <a:ext cx="24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ператур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08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276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5772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9280" y="2421000"/>
            <a:ext cx="2305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ад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3500280"/>
            <a:ext cx="244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4653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и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84720" y="1484280"/>
            <a:ext cx="3019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27640" y="2492280"/>
            <a:ext cx="2686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00720" y="3573360"/>
            <a:ext cx="2592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84720" y="4797360"/>
            <a:ext cx="305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26028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333360"/>
            <a:ext cx="1187640" cy="696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333360"/>
            <a:ext cx="1368360" cy="69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71640" y="404640"/>
            <a:ext cx="67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236000" y="404640"/>
            <a:ext cx="100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51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48360" y="119700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9700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360" y="227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8360" y="335772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48360" y="458136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9280" y="1341360"/>
            <a:ext cx="24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ператур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08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276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5772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9280" y="2421000"/>
            <a:ext cx="2305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ад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3500280"/>
            <a:ext cx="244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4653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и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84720" y="1484280"/>
            <a:ext cx="3019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27640" y="2492280"/>
            <a:ext cx="2686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300720" y="3573360"/>
            <a:ext cx="2592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84720" y="4797360"/>
            <a:ext cx="305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26028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333360"/>
            <a:ext cx="1187640" cy="696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33360"/>
            <a:ext cx="1368360" cy="69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71640" y="404640"/>
            <a:ext cx="67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236000" y="404640"/>
            <a:ext cx="100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16360" y="551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4284360" y="1483920"/>
            <a:ext cx="360360" cy="3816360"/>
          </a:xfrm>
          <a:prstGeom prst="upArrow">
            <a:avLst>
              <a:gd name="adj1" fmla="val 50000"/>
              <a:gd name="adj2" fmla="val 2647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48360" y="119700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9700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48360" y="227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48360" y="335772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48360" y="458136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9280" y="1341360"/>
            <a:ext cx="24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ператур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08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76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5772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2421000"/>
            <a:ext cx="2305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ад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9280" y="3500280"/>
            <a:ext cx="244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4653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и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84720" y="1484280"/>
            <a:ext cx="3019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27640" y="2492280"/>
            <a:ext cx="2686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300720" y="3573360"/>
            <a:ext cx="2592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84720" y="4797360"/>
            <a:ext cx="305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26028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333360"/>
            <a:ext cx="1187640" cy="696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333360"/>
            <a:ext cx="1368360" cy="69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404640"/>
            <a:ext cx="67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236000" y="404640"/>
            <a:ext cx="100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551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1484280"/>
            <a:ext cx="360360" cy="3816360"/>
          </a:xfrm>
          <a:prstGeom prst="upArrow">
            <a:avLst>
              <a:gd name="adj1" fmla="val 50000"/>
              <a:gd name="adj2" fmla="val 2647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4716000" y="1483920"/>
            <a:ext cx="360360" cy="3816360"/>
          </a:xfrm>
          <a:prstGeom prst="upArrow">
            <a:avLst>
              <a:gd name="adj1" fmla="val 50000"/>
              <a:gd name="adj2" fmla="val 2647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66"/>
                </a:solidFill>
                <a:latin typeface="Arial"/>
              </a:rPr>
              <a:t>Как климат влияет  на человека </a:t>
            </a:r>
            <a:br>
              <a:rPr sz="5400"/>
            </a:br>
            <a:r>
              <a:rPr b="1" i="1" lang="en-US" sz="5400" spc="-1" strike="noStrike">
                <a:solidFill>
                  <a:srgbClr val="993366"/>
                </a:solidFill>
                <a:latin typeface="Arial"/>
              </a:rPr>
              <a:t>и его хозяйственную деятельно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413000"/>
            <a:ext cx="914400" cy="51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Как климат влияет  на человека </a:t>
            </a:r>
            <a:br>
              <a:rPr sz="3600"/>
            </a:b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и его хозяйственную дея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 rot="5400000">
            <a:off x="-1286640" y="3454920"/>
            <a:ext cx="41767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2360" y="1413000"/>
            <a:ext cx="6551640" cy="7207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2360" y="3284640"/>
            <a:ext cx="6551640" cy="7189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2360" y="2349360"/>
            <a:ext cx="6551640" cy="7207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4221000"/>
            <a:ext cx="6551640" cy="79056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2360" y="5157720"/>
            <a:ext cx="6551640" cy="71928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2360" y="6093000"/>
            <a:ext cx="6551640" cy="76500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3573360"/>
            <a:ext cx="976320" cy="341280"/>
          </a:xfrm>
          <a:prstGeom prst="rightArrow">
            <a:avLst>
              <a:gd name="adj1" fmla="val 50000"/>
              <a:gd name="adj2" fmla="val 7151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1413000"/>
            <a:ext cx="914400" cy="51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Как климат влияет  на человека </a:t>
            </a:r>
            <a:br>
              <a:rPr sz="3600"/>
            </a:b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и его хозяйственную дея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5400000">
            <a:off x="-1286640" y="3454920"/>
            <a:ext cx="41767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1413000"/>
            <a:ext cx="6551640" cy="7207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, его быт,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2360" y="3284640"/>
            <a:ext cx="6551640" cy="7189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ительство  и архитектура до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92360" y="2349360"/>
            <a:ext cx="6551640" cy="7207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2360" y="4221000"/>
            <a:ext cx="6551640" cy="79056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ительство и ремонт до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2360" y="5157720"/>
            <a:ext cx="6551640" cy="71928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ыча полезных ископ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2360" y="6093000"/>
            <a:ext cx="6551640" cy="76500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332000" y="3068640"/>
            <a:ext cx="976320" cy="341280"/>
          </a:xfrm>
          <a:prstGeom prst="rightArrow">
            <a:avLst>
              <a:gd name="adj1" fmla="val 50000"/>
              <a:gd name="adj2" fmla="val 7151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4508640"/>
            <a:ext cx="976320" cy="341280"/>
          </a:xfrm>
          <a:prstGeom prst="rightArrow">
            <a:avLst>
              <a:gd name="adj1" fmla="val 50000"/>
              <a:gd name="adj2" fmla="val 7151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025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700" spc="-1" strike="noStrike">
                <a:solidFill>
                  <a:srgbClr val="993366"/>
                </a:solidFill>
                <a:latin typeface="Arial"/>
              </a:rPr>
              <a:t>Климат </a:t>
            </a:r>
            <a:br>
              <a:rPr sz="11700"/>
            </a:br>
            <a:r>
              <a:rPr b="0" i="1" lang="en-US" sz="11700" spc="-1" strike="noStrike">
                <a:solidFill>
                  <a:srgbClr val="993366"/>
                </a:solidFill>
                <a:latin typeface="Arial"/>
              </a:rPr>
              <a:t>и человек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0:33:32Z</dcterms:created>
  <dc:creator>miheeva</dc:creator>
  <dc:description/>
  <dc:language>en-US</dc:language>
  <cp:lastModifiedBy>Miheeva</cp:lastModifiedBy>
  <dcterms:modified xsi:type="dcterms:W3CDTF">2011-08-29T13:39:47Z</dcterms:modified>
  <cp:revision>9</cp:revision>
  <dc:subject/>
  <dc:title>Климат и челове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00000000000010243100207f6000400038000</vt:lpwstr>
  </property>
</Properties>
</file>