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F71C-A8E5-41CD-B5C9-D0C99C72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D23-183C-4BAF-B582-BD0C371D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017E-0644-48F5-ACC0-B5584E4F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1D2B-2F18-4A0C-9F21-E83F35AF1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68A9-03E2-44C3-A236-02B6C797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856-5470-4D83-BB02-0DD6578D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3B7-9437-4B7A-9A69-32C6A48E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10BA-C18F-453F-9D09-7F4F757C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0A5-9547-493C-843C-AFB6559C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FAF9-C093-4B9C-B12B-41E07E62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5CA3-3311-4299-BEB1-F748EBB9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94C8-A085-4158-BB0D-0D64863E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E87E-FC7F-4100-AEE3-97FA33D42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500" spc="-1" strike="noStrike">
                <a:solidFill>
                  <a:srgbClr val="993366"/>
                </a:solidFill>
                <a:latin typeface="Arial"/>
              </a:rPr>
              <a:t>Климат </a:t>
            </a:r>
            <a:br>
              <a:rPr sz="8500"/>
            </a:br>
            <a:r>
              <a:rPr b="0" i="1" lang="en-US" sz="8500" spc="-1" strike="noStrike">
                <a:solidFill>
                  <a:srgbClr val="993366"/>
                </a:solidFill>
                <a:latin typeface="Arial"/>
              </a:rPr>
              <a:t>и человек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 rot="10800000">
            <a:off x="4787640" y="5733720"/>
            <a:ext cx="42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еева Вера Николаевна,                 МАОУ-Гимназия № 47, г. Екатери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. 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Задание 4 после параграфа.  Дайте характеристику климата Свердловской области ( на 8 бал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очему в районах с низким уровнем комфортности население строит города? (9 балл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214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48360" y="119700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9700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48360" y="227664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48360" y="335772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48360" y="458136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341360"/>
            <a:ext cx="24577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температур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0864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7664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5772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9280" y="2421000"/>
            <a:ext cx="2305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сад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9280" y="3500280"/>
            <a:ext cx="2448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циклон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4653000"/>
            <a:ext cx="2521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антициклон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84720" y="1484280"/>
            <a:ext cx="30196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тительност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27640" y="2492280"/>
            <a:ext cx="26863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300720" y="3573360"/>
            <a:ext cx="2592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чв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84720" y="4797360"/>
            <a:ext cx="3059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утренние вод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26028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4360" y="333360"/>
            <a:ext cx="1187640" cy="696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333360"/>
            <a:ext cx="1368360" cy="698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71640" y="404640"/>
            <a:ext cx="676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ДА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236000" y="404640"/>
            <a:ext cx="100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НЕТ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 rot="5400000">
            <a:off x="4355280" y="404640"/>
            <a:ext cx="6480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 Narrow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 Narrow"/>
              <a:ea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214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8360" y="119700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19700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48360" y="227664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48360" y="335772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48360" y="458136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79280" y="1341360"/>
            <a:ext cx="24577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температур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50864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27664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35772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79280" y="2421000"/>
            <a:ext cx="2305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сад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9280" y="3500280"/>
            <a:ext cx="2448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циклон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79280" y="4653000"/>
            <a:ext cx="2521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антициклон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84720" y="1484280"/>
            <a:ext cx="30196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тительност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227640" y="2492280"/>
            <a:ext cx="26863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300720" y="3573360"/>
            <a:ext cx="2592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чв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84720" y="4797360"/>
            <a:ext cx="3059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утренние вод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7640" y="26028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64360" y="333360"/>
            <a:ext cx="1187640" cy="696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333360"/>
            <a:ext cx="1368360" cy="698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71640" y="404640"/>
            <a:ext cx="676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ДА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236000" y="404640"/>
            <a:ext cx="100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НЕТ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16360" y="551664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214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48360" y="119700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9700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8360" y="227664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48360" y="335772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48360" y="458136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79280" y="1341360"/>
            <a:ext cx="24577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температур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50864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27664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35772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79280" y="2421000"/>
            <a:ext cx="2305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сад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9280" y="3500280"/>
            <a:ext cx="2448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циклон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9280" y="4653000"/>
            <a:ext cx="2521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антициклон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84720" y="1484280"/>
            <a:ext cx="30196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тительност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27640" y="2492280"/>
            <a:ext cx="26863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300720" y="3573360"/>
            <a:ext cx="2592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чв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84720" y="4797360"/>
            <a:ext cx="3059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утренние вод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87640" y="26028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4360" y="333360"/>
            <a:ext cx="1187640" cy="696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333360"/>
            <a:ext cx="1368360" cy="698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71640" y="404640"/>
            <a:ext cx="676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ДА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236000" y="404640"/>
            <a:ext cx="100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НЕТ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16360" y="551664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4284360" y="1483920"/>
            <a:ext cx="360360" cy="3816360"/>
          </a:xfrm>
          <a:prstGeom prst="upArrow">
            <a:avLst>
              <a:gd name="adj1" fmla="val 50000"/>
              <a:gd name="adj2" fmla="val 26476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214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48360" y="119700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19700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48360" y="227664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48360" y="335772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48360" y="458136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9280" y="1341360"/>
            <a:ext cx="24577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температур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50864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7664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357720"/>
            <a:ext cx="2843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9280" y="2421000"/>
            <a:ext cx="2305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сад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79280" y="3500280"/>
            <a:ext cx="2448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циклон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4653000"/>
            <a:ext cx="2521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антициклон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84720" y="1484280"/>
            <a:ext cx="30196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тительност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27640" y="2492280"/>
            <a:ext cx="26863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300720" y="3573360"/>
            <a:ext cx="2592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чв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84720" y="4797360"/>
            <a:ext cx="3059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утренние вод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87640" y="26028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64360" y="333360"/>
            <a:ext cx="1187640" cy="696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333360"/>
            <a:ext cx="1368360" cy="698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71640" y="404640"/>
            <a:ext cx="676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ДА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236000" y="404640"/>
            <a:ext cx="100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НЕТ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16360" y="5516640"/>
            <a:ext cx="3095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1484280"/>
            <a:ext cx="360360" cy="3816360"/>
          </a:xfrm>
          <a:prstGeom prst="upArrow">
            <a:avLst>
              <a:gd name="adj1" fmla="val 50000"/>
              <a:gd name="adj2" fmla="val 26476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4716000" y="1483920"/>
            <a:ext cx="360360" cy="3816360"/>
          </a:xfrm>
          <a:prstGeom prst="upArrow">
            <a:avLst>
              <a:gd name="adj1" fmla="val 50000"/>
              <a:gd name="adj2" fmla="val 26476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3366"/>
                </a:solidFill>
                <a:latin typeface="Arial"/>
              </a:rPr>
              <a:t>Как климат влияет  на человека </a:t>
            </a:r>
            <a:br>
              <a:rPr sz="5400"/>
            </a:br>
            <a:r>
              <a:rPr b="1" i="1" lang="en-US" sz="5400" spc="-1" strike="noStrike">
                <a:solidFill>
                  <a:srgbClr val="993366"/>
                </a:solidFill>
                <a:latin typeface="Arial"/>
              </a:rPr>
              <a:t>и его хозяйственную деятельнос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4000" y="1413000"/>
            <a:ext cx="914400" cy="51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6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3366"/>
                </a:solidFill>
                <a:latin typeface="Arial"/>
              </a:rPr>
              <a:t>Как климат влияет  на человека </a:t>
            </a:r>
            <a:br>
              <a:rPr sz="3600"/>
            </a:br>
            <a:r>
              <a:rPr b="1" i="1" lang="en-US" sz="3600" spc="-1" strike="noStrike">
                <a:solidFill>
                  <a:srgbClr val="993366"/>
                </a:solidFill>
                <a:latin typeface="Arial"/>
              </a:rPr>
              <a:t>и его хозяйственную деятель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 rot="5400000">
            <a:off x="-1286640" y="3454920"/>
            <a:ext cx="41767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КЛИМ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92360" y="1413000"/>
            <a:ext cx="6551640" cy="72072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92360" y="3284640"/>
            <a:ext cx="6551640" cy="71892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92360" y="2349360"/>
            <a:ext cx="6551640" cy="72072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4221000"/>
            <a:ext cx="6551640" cy="79056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2360" y="5157720"/>
            <a:ext cx="6551640" cy="71928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92360" y="6093000"/>
            <a:ext cx="6551640" cy="76500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3573360"/>
            <a:ext cx="976320" cy="341280"/>
          </a:xfrm>
          <a:prstGeom prst="rightArrow">
            <a:avLst>
              <a:gd name="adj1" fmla="val 50000"/>
              <a:gd name="adj2" fmla="val 7151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4000" y="1413000"/>
            <a:ext cx="914400" cy="51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6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3366"/>
                </a:solidFill>
                <a:latin typeface="Arial"/>
              </a:rPr>
              <a:t>Как климат влияет  на человека </a:t>
            </a:r>
            <a:br>
              <a:rPr sz="3600"/>
            </a:br>
            <a:r>
              <a:rPr b="1" i="1" lang="en-US" sz="3600" spc="-1" strike="noStrike">
                <a:solidFill>
                  <a:srgbClr val="993366"/>
                </a:solidFill>
                <a:latin typeface="Arial"/>
              </a:rPr>
              <a:t>и его хозяйственную деятель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5400000">
            <a:off x="-1286640" y="3454920"/>
            <a:ext cx="41767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КЛИМ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1413000"/>
            <a:ext cx="6551640" cy="72072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, его быт, куль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92360" y="3284640"/>
            <a:ext cx="6551640" cy="71892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ительство  и архитектура до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92360" y="2349360"/>
            <a:ext cx="6551640" cy="72072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92360" y="4221000"/>
            <a:ext cx="6551640" cy="79056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ительство и ремонт дор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2360" y="5157720"/>
            <a:ext cx="6551640" cy="71928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ыча полезных ископае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2360" y="6093000"/>
            <a:ext cx="6551640" cy="765000"/>
          </a:xfrm>
          <a:prstGeom prst="rect">
            <a:avLst/>
          </a:prstGeom>
          <a:solidFill>
            <a:srgbClr val="ffffcc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1332000" y="3068640"/>
            <a:ext cx="976320" cy="341280"/>
          </a:xfrm>
          <a:prstGeom prst="rightArrow">
            <a:avLst>
              <a:gd name="adj1" fmla="val 50000"/>
              <a:gd name="adj2" fmla="val 7151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03280" y="4508640"/>
            <a:ext cx="976320" cy="341280"/>
          </a:xfrm>
          <a:prstGeom prst="rightArrow">
            <a:avLst>
              <a:gd name="adj1" fmla="val 50000"/>
              <a:gd name="adj2" fmla="val 7151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025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700" spc="-1" strike="noStrike">
                <a:solidFill>
                  <a:srgbClr val="993366"/>
                </a:solidFill>
                <a:latin typeface="Arial"/>
              </a:rPr>
              <a:t>Климат </a:t>
            </a:r>
            <a:br>
              <a:rPr sz="11700"/>
            </a:br>
            <a:r>
              <a:rPr b="0" i="1" lang="en-US" sz="11700" spc="-1" strike="noStrike">
                <a:solidFill>
                  <a:srgbClr val="993366"/>
                </a:solidFill>
                <a:latin typeface="Arial"/>
              </a:rPr>
              <a:t>и человек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0:33:32Z</dcterms:created>
  <dc:creator>miheeva</dc:creator>
  <dc:description/>
  <dc:language>en-US</dc:language>
  <cp:lastModifiedBy>Miheeva</cp:lastModifiedBy>
  <dcterms:modified xsi:type="dcterms:W3CDTF">2011-08-29T13:39:47Z</dcterms:modified>
  <cp:revision>9</cp:revision>
  <dc:subject/>
  <dc:title>Климат и челове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00000000000010243100207f6000400038000</vt:lpwstr>
  </property>
</Properties>
</file>