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AA0F-008F-42D5-8080-B5D1E0BD8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75B2-A580-45A6-BD3D-01F2F4EE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0ABC-501E-4049-BA2E-0991D10CC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45ED-36AB-4DB9-98EC-22D02E197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B0FD0-3663-47A8-AAB4-F35D096EE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BA936-3F6F-4308-ACC1-085784643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8C52A-631F-45DB-AE33-A685C4F95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B2E8E-FB7B-4692-A234-641FAE653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6E7B3-660A-44A3-84DC-6372E0117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20ADE-682C-4251-BB68-4947018AB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0CD7B-DAE4-4554-A232-083A7FAE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40DB-7B12-482F-BDCF-A57B34311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37C72-279B-450D-9F0E-99769D06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FB5A6-2D2C-4BF9-BA8A-5E4C803C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F94A5-BC54-4CA8-8C25-CAD957AF8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30032-39EB-4E6C-B140-F6CF524C0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3B092-52B4-4305-96DA-7B069F630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1DFF-B07E-4F98-82CC-98F4225EB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007A-7E2D-486B-A3F7-B407F142C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6690-6C67-4A30-A4C2-4E5938CC2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5FF2-4FEF-4F27-BC62-5A19165C7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A1D7-BDC7-4B5D-ADF9-2587A26C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8DE4-7001-4C4B-A83F-6F1ED5E5C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EF48-4615-41B4-8A5D-370E2D98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15795-5EB8-4ECD-86CF-273E0B51D9E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D4A1A-DEA4-4AFE-ABE6-3DF0D55B25B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1763640" y="2133720"/>
            <a:ext cx="5688000" cy="825120"/>
          </a:xfrm>
          <a:prstGeom prst="rect">
            <a:avLst/>
          </a:prstGeom>
          <a:solidFill>
            <a:srgbClr val="5a5c6c"/>
          </a:solidFill>
          <a:ln w="9360">
            <a:solidFill>
              <a:srgbClr val="5a5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00"/>
                </a:solidFill>
                <a:latin typeface="Arial"/>
              </a:rPr>
              <a:t>Климат Африк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932360" y="5013360"/>
            <a:ext cx="3816360" cy="642600"/>
          </a:xfrm>
          <a:prstGeom prst="rect">
            <a:avLst/>
          </a:prstGeom>
          <a:solidFill>
            <a:srgbClr val="5b5d6b"/>
          </a:solidFill>
          <a:ln w="9360">
            <a:solidFill>
              <a:srgbClr val="5a5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Учитель географии Е.С.Дуни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Заполните таблицу: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Климатические пояса Африк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179280" y="1600200"/>
          <a:ext cx="8785440" cy="4795920"/>
        </p:xfrm>
        <a:graphic>
          <a:graphicData uri="http://schemas.openxmlformats.org/drawingml/2006/table">
            <a:tbl>
              <a:tblPr/>
              <a:tblGrid>
                <a:gridCol w="1743120"/>
                <a:gridCol w="2104920"/>
                <a:gridCol w="1668600"/>
                <a:gridCol w="1525680"/>
                <a:gridCol w="174312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ип клима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оздушные масс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авл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 ле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 зим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л-во осадк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1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кваториаль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убэкваториаль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73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ропическ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убтропиче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33"/>
                    </a:solidFill>
                  </a:tcPr>
                </a:tc>
              </a:tr>
            </a:tbl>
          </a:graphicData>
        </a:graphic>
      </p:graphicFrame>
      <p:sp>
        <p:nvSpPr>
          <p:cNvPr id="408" name=""/>
          <p:cNvSpPr/>
          <p:nvPr/>
        </p:nvSpPr>
        <p:spPr>
          <a:xfrm>
            <a:off x="2050920" y="2421000"/>
            <a:ext cx="193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Tahoma"/>
              </a:rPr>
              <a:t>В течение г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Tahoma"/>
              </a:rPr>
              <a:t>экваториа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Tahoma"/>
              </a:rPr>
              <a:t>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140360" y="2637000"/>
            <a:ext cx="8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940360" y="2565360"/>
            <a:ext cx="11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+24-+25˚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236000" y="2492280"/>
            <a:ext cx="158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Много в течение всего г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908000" y="3357720"/>
            <a:ext cx="201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Tahoma"/>
              </a:rPr>
              <a:t>Летом- экват.возду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Tahoma"/>
              </a:rPr>
              <a:t>Зимой - тропиче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067280" y="3429000"/>
            <a:ext cx="13683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Летом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Н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зимой-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В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867280" y="3357720"/>
            <a:ext cx="115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лето +24-25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зима + 18-+24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236000" y="3284640"/>
            <a:ext cx="13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Лето влажное, зима-сух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20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500"/>
                            </p:stCondLst>
                            <p:childTnLst>
                              <p:par>
                                <p:cTn id="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20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20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50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20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6500"/>
                            </p:stCondLst>
                            <p:childTnLst>
                              <p:par>
                                <p:cTn id="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20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Круглый год господствуют чрезвычайно жаркие и сухие тропические воздушные массы. 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Такой климат способствует образованию пустынь.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250920" y="1949400"/>
            <a:ext cx="8642160" cy="45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Заполните таблицу: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Климатические пояса Африк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179280" y="1600200"/>
          <a:ext cx="8785440" cy="4870440"/>
        </p:xfrm>
        <a:graphic>
          <a:graphicData uri="http://schemas.openxmlformats.org/drawingml/2006/table">
            <a:tbl>
              <a:tblPr/>
              <a:tblGrid>
                <a:gridCol w="1743120"/>
                <a:gridCol w="2104920"/>
                <a:gridCol w="1668600"/>
                <a:gridCol w="1525680"/>
                <a:gridCol w="174312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ип клима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оздушные масс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авл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 ле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 зим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л-во осадк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кваториаль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убэкваториаль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ропическ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убтропиче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33"/>
                    </a:solidFill>
                  </a:tcPr>
                </a:tc>
              </a:tr>
            </a:tbl>
          </a:graphicData>
        </a:graphic>
      </p:graphicFrame>
      <p:sp>
        <p:nvSpPr>
          <p:cNvPr id="420" name=""/>
          <p:cNvSpPr/>
          <p:nvPr/>
        </p:nvSpPr>
        <p:spPr>
          <a:xfrm>
            <a:off x="2050920" y="2421000"/>
            <a:ext cx="193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Tahoma"/>
              </a:rPr>
              <a:t>В течение г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Tahoma"/>
              </a:rPr>
              <a:t>экваториа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Tahoma"/>
              </a:rPr>
              <a:t>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140360" y="2637000"/>
            <a:ext cx="8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940360" y="2565360"/>
            <a:ext cx="11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+24-+25˚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236000" y="2492280"/>
            <a:ext cx="158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Много в течение всего г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908000" y="3357720"/>
            <a:ext cx="201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Tahoma"/>
              </a:rPr>
              <a:t>Летом- экват.возду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Tahoma"/>
              </a:rPr>
              <a:t>Зимой - тропиче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067280" y="3429000"/>
            <a:ext cx="13683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Летом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Н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зимой-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В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867280" y="3357720"/>
            <a:ext cx="115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лето +24-25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зима + 18-+24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236000" y="3284640"/>
            <a:ext cx="13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Лето влажное, зима-сух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050920" y="472428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тропическ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356000" y="4724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940360" y="6589800"/>
            <a:ext cx="59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867280" y="4581360"/>
            <a:ext cx="122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Лето+32˚зима+16˚+18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236000" y="4653000"/>
            <a:ext cx="165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Сухой клим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50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50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ahoma"/>
              </a:rPr>
              <a:t>Субтропический климат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ffffcc"/>
                </a:solidFill>
                <a:latin typeface="Tahoma"/>
              </a:rPr>
              <a:t>с сухим жарким летом и влажной мягкой зимой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благоприятный для жизни и хозяйственной деятельности человека.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75596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5" name=""/>
          <p:cNvGraphicFramePr/>
          <p:nvPr/>
        </p:nvGraphicFramePr>
        <p:xfrm>
          <a:off x="179280" y="620640"/>
          <a:ext cx="8856720" cy="6061320"/>
        </p:xfrm>
        <a:graphic>
          <a:graphicData uri="http://schemas.openxmlformats.org/drawingml/2006/table">
            <a:tbl>
              <a:tblPr/>
              <a:tblGrid>
                <a:gridCol w="2089080"/>
                <a:gridCol w="1943280"/>
                <a:gridCol w="1414440"/>
                <a:gridCol w="1451160"/>
                <a:gridCol w="1958760"/>
              </a:tblGrid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ип клима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оздушные масс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авл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ред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 ле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 зим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садк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Tahoma"/>
                        </a:rPr>
                        <a:t>Экваториаль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Tahoma"/>
                        </a:rPr>
                        <a:t>В течение всего года –экваториальн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6600"/>
                          </a:solidFill>
                          <a:latin typeface="Tahoma"/>
                        </a:rPr>
                        <a:t>+24-+25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˚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Tahoma"/>
                        </a:rPr>
                        <a:t>Много в течение всего г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Субэкваториаль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ный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Летом- экват.воздух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Зимой - тропическ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Летом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Н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;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зимой-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лето +24-25˚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Зима + 18-+24˚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Tahoma"/>
                        </a:rPr>
                        <a:t>Лето влажное, зима-сух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тропическ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тропическ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Лето-+32˚зима +16˚-+18˚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Сухой клима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13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Субтропическ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3c14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3c14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3c14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3c14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3c145"/>
                    </a:solidFill>
                  </a:tcPr>
                </a:tc>
              </a:tr>
            </a:tbl>
          </a:graphicData>
        </a:graphic>
      </p:graphicFrame>
      <p:sp>
        <p:nvSpPr>
          <p:cNvPr id="436" name=""/>
          <p:cNvSpPr/>
          <p:nvPr/>
        </p:nvSpPr>
        <p:spPr>
          <a:xfrm>
            <a:off x="2247840" y="5300640"/>
            <a:ext cx="239544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Tahoma"/>
              </a:rPr>
              <a:t>Летом- тропически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6600"/>
                </a:solidFill>
                <a:latin typeface="Tahoma"/>
              </a:rPr>
              <a:t>зимой –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Tahoma"/>
              </a:rPr>
              <a:t>Умере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284720" y="544500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Tahoma"/>
              </a:rPr>
              <a:t>Летом</a:t>
            </a:r>
            <a:r>
              <a:rPr b="0" lang="en-US" sz="1800" spc="-1" strike="noStrike">
                <a:solidFill>
                  <a:srgbClr val="cc9900"/>
                </a:solidFill>
                <a:latin typeface="Tahoma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Tahoma"/>
              </a:rPr>
              <a:t>Зимой-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796000" y="537372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Tahoma"/>
              </a:rPr>
              <a:t>Лето+24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Tahoma"/>
              </a:rPr>
              <a:t>Зима+8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164360" y="5445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Tahoma"/>
              </a:rPr>
              <a:t>Лето - сухое, зима влаж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Tahoma"/>
              </a:rPr>
              <a:t>План работы с климатограммами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то можно узнать по климатической диаграмм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пределите годовой ход температу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 летние и зимние температуры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пределите годовое количество осадков. Каков режим осадков в течение год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пределите тип клима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1116000" y="836640"/>
            <a:ext cx="7343640" cy="511344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1116000" y="6093000"/>
            <a:ext cx="244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258920" y="60404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Экваториаль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564000" y="60404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субэкваториаль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567480" y="5969160"/>
            <a:ext cx="182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тропиче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406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Установите соответствие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741672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8388360" cy="659772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4284720" y="301608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Экваториаль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287600" y="2224080"/>
            <a:ext cx="332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Субэкваториаль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079600" y="3808440"/>
            <a:ext cx="332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Субэкваториаль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078160" y="1557360"/>
            <a:ext cx="21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Тропиче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410720" y="1000080"/>
            <a:ext cx="26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Субтропиче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3780000" y="5318280"/>
            <a:ext cx="266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209560" y="4941720"/>
            <a:ext cx="23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ahoma"/>
              </a:rPr>
              <a:t>Тропиче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630680" y="544500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ahoma"/>
              </a:rPr>
              <a:t>Субтропиче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301680" y="476280"/>
            <a:ext cx="854064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ahoma"/>
              </a:rPr>
              <a:t>Вопросы и зад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. Докажите, что Африка самый жаркий материк земной шар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 В каком поясе всегда влажно и тепло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. Почему в тропических поясах распространен сухой пустынный климат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. В каких поясах от времени года зависит  наличие или отсутствие дождей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5. Подумайте, какие районы Африки имеют наиболее благоприятные для жизни и хозяйственной деятельности человека климатические условия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6. Почему в основных климатических поясах погода в течение года заметно не меняется? Почему она меняется в переходных поясах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сли в пустыне в июле холоднее, чем в январе, то это пустыня </a:t>
            </a:r>
            <a:r>
              <a:rPr b="1" lang="ru-RU" sz="2000" spc="-1" strike="noStrike">
                <a:solidFill>
                  <a:srgbClr val="cc6600"/>
                </a:solidFill>
                <a:latin typeface="Tahoma"/>
              </a:rPr>
              <a:t>Сахара или Калахари?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ahoma"/>
              </a:rPr>
              <a:t>Цель: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2800"/>
            </a:br>
            <a:r>
              <a:rPr b="0" i="1" lang="en-US" sz="2400" spc="-1" strike="noStrike">
                <a:solidFill>
                  <a:srgbClr val="ffffcc"/>
                </a:solidFill>
                <a:latin typeface="Tahoma"/>
              </a:rPr>
              <a:t>определить причины формирования различных типов климата на континенте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2133360"/>
            <a:ext cx="8540640" cy="39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ahoma"/>
              </a:rPr>
              <a:t>Задачи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называть и показывать территории с определенным типом климата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характеризовать климатические пояса на материке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пределять температуру и количество осадков по климатической карте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аботать с климатическими диаграмма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Tahoma"/>
              </a:rPr>
              <a:t>Занимательная география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Ответьте на вопрос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В июне 2010 года гости чемпионата мира по футболу в ЮАР были удивлены вечерними температурами (+4˚С - +8˚С ). Объясните характерны ли такие температуры для этого регион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Какую одежду вы бы взяли с собой если бы поехали в июл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А) в город Харту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Б) в город Кейптау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Домашнее задание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араграф 18  стр. 80-8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 учебник Душина, Коринская, Щенев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Климатообразующие факторы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Географическая широ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Перемещение воздушных мас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Подстилающая поверхн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Близость к побережь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Теч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20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20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2000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2000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Климатические пояса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301680" y="1600200"/>
          <a:ext cx="8540640" cy="4394160"/>
        </p:xfrm>
        <a:graphic>
          <a:graphicData uri="http://schemas.openxmlformats.org/drawingml/2006/table">
            <a:tbl>
              <a:tblPr/>
              <a:tblGrid>
                <a:gridCol w="4270320"/>
                <a:gridCol w="4270320"/>
              </a:tblGrid>
              <a:tr h="94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сновны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ереход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45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Экваториальный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9933"/>
                          </a:solidFill>
                          <a:latin typeface="Tahoma"/>
                        </a:rPr>
                        <a:t>Тропический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a3c145"/>
                          </a:solidFill>
                          <a:latin typeface="Tahoma"/>
                        </a:rPr>
                        <a:t>Умеренный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Арктический и антарктический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Субэкваториальн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6600"/>
                          </a:solidFill>
                          <a:latin typeface="Tahoma"/>
                        </a:rPr>
                        <a:t>Субтропическ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Субарктический и субантарктическ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Заполните таблицу: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Климатические пояса Африк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179280" y="1600200"/>
          <a:ext cx="8713800" cy="4524480"/>
        </p:xfrm>
        <a:graphic>
          <a:graphicData uri="http://schemas.openxmlformats.org/drawingml/2006/table">
            <a:tbl>
              <a:tblPr/>
              <a:tblGrid>
                <a:gridCol w="1728720"/>
                <a:gridCol w="2087640"/>
                <a:gridCol w="1656000"/>
                <a:gridCol w="1512720"/>
                <a:gridCol w="1728720"/>
              </a:tblGrid>
              <a:tr h="90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ип клима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оздушные масс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авл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 ле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 зим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л-во осадк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кваториаль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3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убэкваториаль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83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ропическ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убтропиче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3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7991280" cy="476244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324000" y="5229360"/>
            <a:ext cx="820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Экваториальный климат постоянно жаркий и постоянно влажны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Температура в течение года +24 - +25˚. Осадков выпадает 2000-3000 мм в го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Заполните таблицу: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Климатические пояса Африк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179280" y="1600200"/>
          <a:ext cx="8713800" cy="4524480"/>
        </p:xfrm>
        <a:graphic>
          <a:graphicData uri="http://schemas.openxmlformats.org/drawingml/2006/table">
            <a:tbl>
              <a:tblPr/>
              <a:tblGrid>
                <a:gridCol w="1728720"/>
                <a:gridCol w="2087640"/>
                <a:gridCol w="1656000"/>
                <a:gridCol w="1512720"/>
                <a:gridCol w="1728720"/>
              </a:tblGrid>
              <a:tr h="90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ип клима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оздушные масс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авл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 ле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 зим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л-во осадк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кваториаль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3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убэкваториаль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83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ропическ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убтропиче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33"/>
                    </a:solidFill>
                  </a:tcPr>
                </a:tc>
              </a:tr>
            </a:tbl>
          </a:graphicData>
        </a:graphic>
      </p:graphicFrame>
      <p:sp>
        <p:nvSpPr>
          <p:cNvPr id="400" name=""/>
          <p:cNvSpPr/>
          <p:nvPr/>
        </p:nvSpPr>
        <p:spPr>
          <a:xfrm>
            <a:off x="2050920" y="2421000"/>
            <a:ext cx="193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Tahoma"/>
              </a:rPr>
              <a:t>В течение г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Tahoma"/>
              </a:rPr>
              <a:t>экваториа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Tahoma"/>
              </a:rPr>
              <a:t>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140360" y="2637000"/>
            <a:ext cx="8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940360" y="2565360"/>
            <a:ext cx="11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+24-+25˚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236000" y="2492280"/>
            <a:ext cx="158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Много в течение всего г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В субэкваториальном климате четко выделяются два сезона - летний влажный, зимний сухой.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000"/>
            </a:br>
            <a:r>
              <a:rPr b="0" i="1" lang="en-US" sz="2400" spc="-1" strike="noStrike">
                <a:solidFill>
                  <a:srgbClr val="ffffcc"/>
                </a:solidFill>
                <a:latin typeface="Tahoma"/>
              </a:rPr>
              <a:t>Климат постоянно жаркий и переменно влажный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971640" y="1989000"/>
            <a:ext cx="734544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5T16:46:42Z</dcterms:created>
  <dc:creator>Леночка</dc:creator>
  <dc:description/>
  <dc:language>en-US</dc:language>
  <cp:lastModifiedBy>Леночка</cp:lastModifiedBy>
  <dcterms:modified xsi:type="dcterms:W3CDTF">2014-09-10T17:37:03Z</dcterms:modified>
  <cp:revision>17</cp:revision>
  <dc:subject/>
  <dc:title>Тема: Климат Африк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6080000000000010250300207f7000400038000</vt:lpwstr>
  </property>
</Properties>
</file>