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AF2-7384-41AD-AF3B-4238276A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6FD-6943-488E-BB20-DE0805BF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B1C-6214-4E23-8F24-3E1A25BC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54B-F732-4688-81CF-E506D615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0D3C-D4FD-49C7-AA54-1389186E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A848-1B18-4441-AD12-789392C3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5C34-6208-46D7-8DB5-2226368F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3957-5672-4173-BC80-D2E58617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73E8-8EB4-47DE-97C8-94309AB6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D016-FABA-4D60-85DC-F8753C67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B67B-FE5D-4A6E-8953-A5ED4977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187-7F03-48BB-AE78-225CB87B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40F9-2ED8-405E-B9FA-5EBAC60B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120E-E392-4544-A26E-F0B22C57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D899-D4F3-4DF4-B2F9-D531EB9A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AEFD-600A-4EC9-9540-C936F708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F6BB-7D05-4B8C-981D-4F2E4731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136-5D3F-42F0-B57E-01591D92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4D4-2D25-4D43-B87B-89458482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154-E1AD-4EFF-962F-A11BEB74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5AA-695F-4AB6-86D0-CC27DC09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B43-E24C-4304-A954-1A128BED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5C6-0E82-49B3-8F51-49B562C7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C64-84E5-40D5-B900-4EAEBAB9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8CAE-AFFC-4F84-97EB-BE3B8DFC14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6836-80DF-4DE9-B730-61619A5AE4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63640" y="2133720"/>
            <a:ext cx="5688000" cy="825120"/>
          </a:xfrm>
          <a:prstGeom prst="rect">
            <a:avLst/>
          </a:prstGeom>
          <a:solidFill>
            <a:srgbClr val="5a5c6c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Климат Афри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32360" y="5013360"/>
            <a:ext cx="3816360" cy="642600"/>
          </a:xfrm>
          <a:prstGeom prst="rect">
            <a:avLst/>
          </a:prstGeom>
          <a:solidFill>
            <a:srgbClr val="5b5d6b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итель географии Е.С.Дун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аполните таблицу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Климатические пояса Афр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79280" y="1600200"/>
          <a:ext cx="8785440" cy="4795920"/>
        </p:xfrm>
        <a:graphic>
          <a:graphicData uri="http://schemas.openxmlformats.org/drawingml/2006/table">
            <a:tbl>
              <a:tblPr/>
              <a:tblGrid>
                <a:gridCol w="1743120"/>
                <a:gridCol w="2104920"/>
                <a:gridCol w="1668600"/>
                <a:gridCol w="1525680"/>
                <a:gridCol w="1743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-во осад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тропич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2050920" y="2421000"/>
            <a:ext cx="19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В течение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экватори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40360" y="2637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40360" y="25653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+24-+25˚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36000" y="249228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Много в течение всего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08000" y="335772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Летом- экват.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Зимой - троп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67280" y="3429000"/>
            <a:ext cx="1368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зимой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335772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 +24-25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зима + 18-+24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236000" y="3284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 влажное, зима-сух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руглый год господствуют чрезвычайно жаркие и сухие тропические воздушные массы.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Такой климат способствует образованию пустынь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50920" y="1949400"/>
            <a:ext cx="86421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аполните таблицу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Климатические пояса Афр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79280" y="1600200"/>
          <a:ext cx="8785440" cy="4870440"/>
        </p:xfrm>
        <a:graphic>
          <a:graphicData uri="http://schemas.openxmlformats.org/drawingml/2006/table">
            <a:tbl>
              <a:tblPr/>
              <a:tblGrid>
                <a:gridCol w="1743120"/>
                <a:gridCol w="2104920"/>
                <a:gridCol w="1668600"/>
                <a:gridCol w="1525680"/>
                <a:gridCol w="1743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-во осад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тропич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2050920" y="2421000"/>
            <a:ext cx="19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В течение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экватори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40360" y="2637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25653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+24-+25˚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6000" y="249228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Много в течение всего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08000" y="335772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Летом- экват.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Зимой - троп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67280" y="3429000"/>
            <a:ext cx="1368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зимой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35772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 +24-25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зима + 18-+24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236000" y="3284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 влажное, зима-сух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50920" y="472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троп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56000" y="472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40360" y="658980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4581360"/>
            <a:ext cx="12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Лето+32˚зима+16˚+18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36000" y="465300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Сухо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Субтропический климат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с сухим жарким летом и влажной мягкой зимой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благоприятный для жизни и хозяйственной деятельности человека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559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179280" y="620640"/>
          <a:ext cx="8856720" cy="6061320"/>
        </p:xfrm>
        <a:graphic>
          <a:graphicData uri="http://schemas.openxmlformats.org/drawingml/2006/table">
            <a:tbl>
              <a:tblPr/>
              <a:tblGrid>
                <a:gridCol w="2089080"/>
                <a:gridCol w="1943280"/>
                <a:gridCol w="1414440"/>
                <a:gridCol w="1451160"/>
                <a:gridCol w="1958760"/>
              </a:tblGrid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В течение всего года –экваториа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+24-+2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Много в течение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Субэкваториаль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етом- экват.возду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Зимой - 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ето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Н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;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зимой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ето +24-25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Зима + 18-+24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ето влажное, зима-сух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роп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то-+32˚зима +16˚-+18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ухой кли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Суб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>
            <a:off x="2247840" y="5300640"/>
            <a:ext cx="23954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Летом- тропическ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зимой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Умер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84720" y="544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Летом</a:t>
            </a:r>
            <a:r>
              <a:rPr b="0" lang="en-US" sz="1800" spc="-1" strike="noStrike">
                <a:solidFill>
                  <a:srgbClr val="cc99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Зимой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6000" y="537372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Лето+24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Зима+8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64360" y="54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Лето - сухое, зима влаж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План работы с климатограмма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можно узнать по климатической диаграмм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е годовой ход температ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 летние и зимние температур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е годовое количество осадков. Каков режим осадков в течение го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е тип клима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343640" cy="51134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116000" y="609300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58920" y="60404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кватори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64000" y="60404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субэкватори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67480" y="59691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троп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Установите соответстви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416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8388360" cy="65977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284720" y="3016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Экватори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87600" y="22240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Субэкватори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79600" y="380844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Субэкватори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78160" y="155736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Троп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10720" y="10000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Субтроп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780000" y="531828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09560" y="494172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Троп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30680" y="54450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Субтроп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01680" y="476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ahoma"/>
              </a:rPr>
              <a:t>Вопросы и за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Докажите, что Африка самый жаркий материк земной ш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В каком поясе всегда влажно и тепло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Почему в тропических поясах распространен сухой пустынный клима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В каких поясах от времени года зависит  наличие или отсутствие дожде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Подумайте, какие районы Африки имеют наиболее благоприятные для жизни и хозяйственной деятельности человека климатические условия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Почему в основных климатических поясах погода в течение года заметно не меняется? Почему она меняется в переходных поясах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в пустыне в июле холоднее, чем в январе, то это пустыня </a:t>
            </a:r>
            <a:r>
              <a:rPr b="1" lang="ru-RU" sz="2000" spc="-1" strike="noStrike">
                <a:solidFill>
                  <a:srgbClr val="cc6600"/>
                </a:solidFill>
                <a:latin typeface="Tahoma"/>
              </a:rPr>
              <a:t>Сахара или Калахари?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Цель: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определить причины формирования различных типов климата на континент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2133360"/>
            <a:ext cx="85406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ahoma"/>
              </a:rPr>
              <a:t>Задачи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называть и показывать территории с определенным типом клима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арактеризовать климатические пояса на материк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ять температуру и количество осадков по климатической карт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ботать с климатическими диаграмм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Tahoma"/>
              </a:rPr>
              <a:t>Занимательная географ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июне 2010 года гости чемпионата мира по футболу в ЮАР были удивлены вечерними температурами (+4˚С - +8˚С ). Объясните характерны ли такие температуры для этого регио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кую одежду вы бы взяли с собой если бы поехали в ию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) в город Харту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) в город Кейптау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8  стр. 80-8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 учебник Душина, Коринская, Щене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Климатообразующие фактор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Географическая шир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еремещение воздушных м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дстилающая поверх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лизость к побереж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Те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Климатические пояс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01680" y="1600200"/>
          <a:ext cx="8540640" cy="439416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ы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ход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4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Тропическ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3c145"/>
                          </a:solidFill>
                          <a:latin typeface="Tahoma"/>
                        </a:rPr>
                        <a:t>Умеренны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Арктический и антарктическ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Субтроп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Субарктический и субантаркт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аполните таблицу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Климатические пояса Афр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9280" y="1600200"/>
          <a:ext cx="8713800" cy="4524480"/>
        </p:xfrm>
        <a:graphic>
          <a:graphicData uri="http://schemas.openxmlformats.org/drawingml/2006/table">
            <a:tbl>
              <a:tblPr/>
              <a:tblGrid>
                <a:gridCol w="1728720"/>
                <a:gridCol w="2087640"/>
                <a:gridCol w="1656000"/>
                <a:gridCol w="1512720"/>
                <a:gridCol w="17287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-во осад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тропич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91280" cy="47624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24000" y="52293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Экваториальный климат постоянно жаркий и постоянно влаж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емпература в течение года +24 - +25˚. Осадков выпадает 2000-3000 мм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аполните таблицу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Климатические пояса Афр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79280" y="1600200"/>
          <a:ext cx="8713800" cy="4524480"/>
        </p:xfrm>
        <a:graphic>
          <a:graphicData uri="http://schemas.openxmlformats.org/drawingml/2006/table">
            <a:tbl>
              <a:tblPr/>
              <a:tblGrid>
                <a:gridCol w="1728720"/>
                <a:gridCol w="2087640"/>
                <a:gridCol w="1656000"/>
                <a:gridCol w="1512720"/>
                <a:gridCol w="17287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-во осад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тропич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2050920" y="2421000"/>
            <a:ext cx="19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В течение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экватори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2637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40360" y="25653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+24-+25˚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36000" y="249228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Много в течение всего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 субэкваториальном климате четко выделяются два сезона - летний влажный, зимний сухой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Климат постоянно жаркий и переменно влажный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345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6:46:42Z</dcterms:created>
  <dc:creator>Леночка</dc:creator>
  <dc:description/>
  <dc:language>en-US</dc:language>
  <cp:lastModifiedBy>Леночка</cp:lastModifiedBy>
  <dcterms:modified xsi:type="dcterms:W3CDTF">2014-09-10T17:37:03Z</dcterms:modified>
  <cp:revision>17</cp:revision>
  <dc:subject/>
  <dc:title>Тема: Климат Аф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80000000000010250300207f7000400038000</vt:lpwstr>
  </property>
</Properties>
</file>