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E90C-CE04-49B9-AC33-D7DDF103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D13E-4F26-45C9-8EC4-DC468ADD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31E-3461-4874-86B9-A99064C7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5C23-0D1A-491D-9D4B-CC4FD029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3776-C35A-4314-A515-E6B6C0C8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FB12-FD45-426E-9A37-5C400324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B5E0-1C98-4F8C-A221-B4FAEA8D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822C-8B99-459F-99F1-F93DC346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B9D0-AAAC-4B00-8DCA-60C30F1C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E2CF-7C0E-4DD0-BE7A-3ECBB4C1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FE4E-6E9B-4C81-9201-689EB480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7C0F-797B-41AE-86D3-EBC4BB52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4B5E-7625-4534-A8CD-A104E15D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9839-D937-4152-82EC-CDDDA628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3307-F485-487A-83B6-E9DF63C9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3FF4-5307-4A85-A3E2-30F62E31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54BF-6FBB-4C3F-BF8D-EA3A8C83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246B-C0DB-4539-924D-77266797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F7D0-06DA-43FA-A076-8E63A63E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4B37-80A8-41D3-8D42-DA4A329A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AA68-7825-4341-9E89-BEEA1AA3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166B-D7FE-4BE4-BD2C-73335DCE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7754-4448-468D-B79C-605FB5C9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372C-7625-46CD-906E-A62CBDAC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DED5-FA70-4081-B8B8-01CDADBA5D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86CF-C4A7-4107-8A29-C6A8FE539C8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763640" y="2133720"/>
            <a:ext cx="5688000" cy="825120"/>
          </a:xfrm>
          <a:prstGeom prst="rect">
            <a:avLst/>
          </a:prstGeom>
          <a:solidFill>
            <a:srgbClr val="5a5c6c"/>
          </a:solidFill>
          <a:ln w="93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Климат Афри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932360" y="5013360"/>
            <a:ext cx="3816360" cy="642600"/>
          </a:xfrm>
          <a:prstGeom prst="rect">
            <a:avLst/>
          </a:prstGeom>
          <a:solidFill>
            <a:srgbClr val="5b5d6b"/>
          </a:solidFill>
          <a:ln w="93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читель географии Е.С.Дун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Заполните таблицу: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Климатические пояса Афри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79280" y="1600200"/>
          <a:ext cx="8785440" cy="4795920"/>
        </p:xfrm>
        <a:graphic>
          <a:graphicData uri="http://schemas.openxmlformats.org/drawingml/2006/table">
            <a:tbl>
              <a:tblPr/>
              <a:tblGrid>
                <a:gridCol w="1743120"/>
                <a:gridCol w="2104920"/>
                <a:gridCol w="1668600"/>
                <a:gridCol w="1525680"/>
                <a:gridCol w="1743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ип клима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душные мас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в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л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зи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-во осад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ватори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бэкватори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оп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бтропиче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</a:tr>
            </a:tbl>
          </a:graphicData>
        </a:graphic>
      </p:graphicFrame>
      <p:sp>
        <p:nvSpPr>
          <p:cNvPr id="408" name=""/>
          <p:cNvSpPr/>
          <p:nvPr/>
        </p:nvSpPr>
        <p:spPr>
          <a:xfrm>
            <a:off x="2050920" y="2421000"/>
            <a:ext cx="19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В течение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экваториа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140360" y="26370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940360" y="256536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+24-+25˚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236000" y="2492280"/>
            <a:ext cx="15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Много в течение всего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908000" y="335772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ahoma"/>
              </a:rPr>
              <a:t>Летом- экват.возду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ahoma"/>
              </a:rPr>
              <a:t>Зимой - троп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67280" y="3429000"/>
            <a:ext cx="1368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Лето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зимой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67280" y="3357720"/>
            <a:ext cx="11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лето +24-25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зима + 18-+24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236000" y="328464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Лето влажное, зима-сух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2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2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Круглый год господствуют чрезвычайно жаркие и сухие тропические воздушные массы.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Такой климат способствует образованию пустынь.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250920" y="1949400"/>
            <a:ext cx="86421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Заполните таблицу: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Климатические пояса Афри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79280" y="1600200"/>
          <a:ext cx="8785440" cy="4870440"/>
        </p:xfrm>
        <a:graphic>
          <a:graphicData uri="http://schemas.openxmlformats.org/drawingml/2006/table">
            <a:tbl>
              <a:tblPr/>
              <a:tblGrid>
                <a:gridCol w="1743120"/>
                <a:gridCol w="2104920"/>
                <a:gridCol w="1668600"/>
                <a:gridCol w="1525680"/>
                <a:gridCol w="1743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ип клима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душные мас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в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л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зи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-во осад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ватори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бэкватори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оп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бтропиче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>
            <a:off x="2050920" y="2421000"/>
            <a:ext cx="19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В течение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экваториа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140360" y="26370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40360" y="256536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+24-+25˚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6000" y="2492280"/>
            <a:ext cx="15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Много в течение всего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908000" y="335772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ahoma"/>
              </a:rPr>
              <a:t>Летом- экват.возду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ahoma"/>
              </a:rPr>
              <a:t>Зимой - троп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067280" y="3429000"/>
            <a:ext cx="1368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Лето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зимой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867280" y="3357720"/>
            <a:ext cx="11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лето +24-25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зима + 18-+24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236000" y="328464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Лето влажное, зима-сух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050920" y="4724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троп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356000" y="4724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40360" y="6589800"/>
            <a:ext cx="59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4581360"/>
            <a:ext cx="12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Лето+32˚зима+16˚+18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236000" y="4653000"/>
            <a:ext cx="165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Сухой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Субтропический климат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с сухим жарким летом и влажной мягкой зимой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благоприятный для жизни и хозяйственной деятельности человека.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559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5" name=""/>
          <p:cNvGraphicFramePr/>
          <p:nvPr/>
        </p:nvGraphicFramePr>
        <p:xfrm>
          <a:off x="179280" y="620640"/>
          <a:ext cx="8856720" cy="6061320"/>
        </p:xfrm>
        <a:graphic>
          <a:graphicData uri="http://schemas.openxmlformats.org/drawingml/2006/table">
            <a:tbl>
              <a:tblPr/>
              <a:tblGrid>
                <a:gridCol w="2089080"/>
                <a:gridCol w="1943280"/>
                <a:gridCol w="1414440"/>
                <a:gridCol w="1451160"/>
                <a:gridCol w="1958760"/>
              </a:tblGrid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ип клима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душные мас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в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ле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зи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ад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Экватори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В течение всего года –экваториаль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+24-+25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˚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Много в течение всего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Субэкваториаль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ны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Летом- экват.воздух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Зимой - троп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Летом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Н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;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зимой-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лето +24-25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Зима + 18-+24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Лето влажное, зима-сух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роп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роп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ето-+32˚зима +16˚-+18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ухой клим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Субтроп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</a:tr>
            </a:tbl>
          </a:graphicData>
        </a:graphic>
      </p:graphicFrame>
      <p:sp>
        <p:nvSpPr>
          <p:cNvPr id="436" name=""/>
          <p:cNvSpPr/>
          <p:nvPr/>
        </p:nvSpPr>
        <p:spPr>
          <a:xfrm>
            <a:off x="2247840" y="5300640"/>
            <a:ext cx="239544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Летом- тропическ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зимой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Умер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84720" y="544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Летом</a:t>
            </a:r>
            <a:r>
              <a:rPr b="0" lang="en-US" sz="1800" spc="-1" strike="noStrike">
                <a:solidFill>
                  <a:srgbClr val="cc99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Зимой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6000" y="537372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Лето+24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Зима+8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164360" y="54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Лето - сухое, зима влаж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План работы с климатограммам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можно узнать по климатической диаграмм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ределите годовой ход температу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 летние и зимние температуры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ределите годовое количество осадков. Каков режим осадков в течение год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ределите тип клима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343640" cy="51134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116000" y="6093000"/>
            <a:ext cx="244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258920" y="60404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Экватори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564000" y="60404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субэкватори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567480" y="5969160"/>
            <a:ext cx="18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троп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Установите соответствие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416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8388360" cy="65977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284720" y="3016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Экваториа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287600" y="222408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Субэкваториа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079600" y="380844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Субэкваториа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078160" y="1557360"/>
            <a:ext cx="21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Троп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410720" y="10000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Субтроп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3780000" y="5318280"/>
            <a:ext cx="26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209560" y="4941720"/>
            <a:ext cx="23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Троп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630680" y="544500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Субтроп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301680" y="476280"/>
            <a:ext cx="8540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ahoma"/>
              </a:rPr>
              <a:t>Вопросы и зад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Докажите, что Африка самый жаркий материк земной ша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В каком поясе всегда влажно и тепло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Почему в тропических поясах распространен сухой пустынный климат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В каких поясах от времени года зависит  наличие или отсутствие дождей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Подумайте, какие районы Африки имеют наиболее благоприятные для жизни и хозяйственной деятельности человека климатические условия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. Почему в основных климатических поясах погода в течение года заметно не меняется? Почему она меняется в переходных поясах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в пустыне в июле холоднее, чем в январе, то это пустыня </a:t>
            </a:r>
            <a:r>
              <a:rPr b="1" lang="ru-RU" sz="2000" spc="-1" strike="noStrike">
                <a:solidFill>
                  <a:srgbClr val="cc6600"/>
                </a:solidFill>
                <a:latin typeface="Tahoma"/>
              </a:rPr>
              <a:t>Сахара или Калахари?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Цель: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определить причины формирования различных типов климата на континенте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2133360"/>
            <a:ext cx="854064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ahoma"/>
              </a:rPr>
              <a:t>Задачи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называть и показывать территории с определенным типом климат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арактеризовать климатические пояса на материке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ределять температуру и количество осадков по климатической карте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ботать с климатическими диаграмм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Tahoma"/>
              </a:rPr>
              <a:t>Занимательная географи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тветьте на вопрос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июне 2010 года гости чемпионата мира по футболу в ЮАР были удивлены вечерними температурами (+4˚С - +8˚С ). Объясните характерны ли такие температуры для этого регион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акую одежду вы бы взяли с собой если бы поехали в июл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) в город Харту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) в город Кейптау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18  стр. 80-8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 учебник Душина, Коринская, Щенев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Климатообразующие фактор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Географическая шир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еремещение воздушных м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дстилающая поверх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Близость к побереж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Теч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2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2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2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Климатические пояс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301680" y="1600200"/>
          <a:ext cx="8540640" cy="4394160"/>
        </p:xfrm>
        <a:graphic>
          <a:graphicData uri="http://schemas.openxmlformats.org/drawingml/2006/table">
            <a:tbl>
              <a:tblPr/>
              <a:tblGrid>
                <a:gridCol w="4270320"/>
                <a:gridCol w="4270320"/>
              </a:tblGrid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ы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еход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4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кваториальны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Тропически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a3c145"/>
                          </a:solidFill>
                          <a:latin typeface="Tahoma"/>
                        </a:rPr>
                        <a:t>Умеренны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Арктический и антарктически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убэкватори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Субтропиче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Субарктический и субантарктиче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Заполните таблицу: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Климатические пояса Афри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79280" y="1600200"/>
          <a:ext cx="8713800" cy="4524480"/>
        </p:xfrm>
        <a:graphic>
          <a:graphicData uri="http://schemas.openxmlformats.org/drawingml/2006/table">
            <a:tbl>
              <a:tblPr/>
              <a:tblGrid>
                <a:gridCol w="1728720"/>
                <a:gridCol w="2087640"/>
                <a:gridCol w="1656000"/>
                <a:gridCol w="1512720"/>
                <a:gridCol w="172872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ип клима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душные мас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в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л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зи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-во осад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ватори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бэкватори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оп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бтропиче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991280" cy="47624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324000" y="522936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Экваториальный климат постоянно жаркий и постоянно влаж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Температура в течение года +24 - +25˚. Осадков выпадает 2000-3000 мм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Заполните таблицу: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Климатические пояса Афри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79280" y="1600200"/>
          <a:ext cx="8713800" cy="4524480"/>
        </p:xfrm>
        <a:graphic>
          <a:graphicData uri="http://schemas.openxmlformats.org/drawingml/2006/table">
            <a:tbl>
              <a:tblPr/>
              <a:tblGrid>
                <a:gridCol w="1728720"/>
                <a:gridCol w="2087640"/>
                <a:gridCol w="1656000"/>
                <a:gridCol w="1512720"/>
                <a:gridCol w="172872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ип клима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душные мас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в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л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зи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-во осад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ватори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бэкватори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оп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бтропиче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</a:tr>
            </a:tbl>
          </a:graphicData>
        </a:graphic>
      </p:graphicFrame>
      <p:sp>
        <p:nvSpPr>
          <p:cNvPr id="400" name=""/>
          <p:cNvSpPr/>
          <p:nvPr/>
        </p:nvSpPr>
        <p:spPr>
          <a:xfrm>
            <a:off x="2050920" y="2421000"/>
            <a:ext cx="19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В течение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экваториа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26370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940360" y="256536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+24-+25˚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236000" y="2492280"/>
            <a:ext cx="15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Много в течение всего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В субэкваториальном климате четко выделяются два сезона - летний влажный, зимний сухой.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Климат постоянно жаркий и переменно влажный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7345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6:46:42Z</dcterms:created>
  <dc:creator>Леночка</dc:creator>
  <dc:description/>
  <dc:language>en-US</dc:language>
  <cp:lastModifiedBy>Леночка</cp:lastModifiedBy>
  <dcterms:modified xsi:type="dcterms:W3CDTF">2014-09-10T17:37:03Z</dcterms:modified>
  <cp:revision>17</cp:revision>
  <dc:subject/>
  <dc:title>Тема: Климат Афр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080000000000010250300207f7000400038000</vt:lpwstr>
  </property>
</Properties>
</file>