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218-8654-4D6B-9E87-9C165F3E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518-9782-41C7-884E-E780DEAE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5D-E4F6-4E4A-91CD-775B15FD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193-02B1-4292-9836-6DA73D7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6529-F745-46F7-9E61-E740147B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E28-3E33-47C0-8AC8-000C578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DB9C-82C7-4351-BC8B-64B34BBE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E4B6-A329-4E78-95DF-FDD0380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40B0-945D-4635-B839-E8B97F65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6A80-92C3-415B-B425-B91DC671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3AF9-543D-4D56-ABEC-09EF70C1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61F-1758-4E1B-961E-0EDEE630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14E8-298F-4463-8385-A747616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3DA-5314-478B-BC4C-EA1DC26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5B2-5962-4291-9BBA-CDEA557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819A-ED72-48A8-91E8-826600B4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8A0-6D27-4C0A-A2AD-E687D793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285-CF94-44A3-9816-3E29E97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ABE-9B7E-493A-82A1-34D831E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8D6-4479-483A-9642-1845A053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81C-407B-4763-A02F-9F762105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F63-7A4F-4CF1-9DB2-9251FCD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771-CD67-4A01-8426-ADB898B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783-8F2D-41FA-A9A3-B974EAE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4E6B-EECA-4C29-90D8-4060FAA48A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BE1-35C4-433D-9BD3-45D4DA59681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h-kray.narod.ru/arhive/2004/28/9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иселевск – мой город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357800" y="299988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eaea"/>
                </a:solidFill>
                <a:latin typeface="Verdana"/>
              </a:rPr>
              <a:t>Автор :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Ширинская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Любовь Анатольевна,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учитель географии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город Киселевск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Кемеровская область 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5 октября 1921 года закончено строительство кольчугинской ветки железной дороги Кольчугино-Усяты. Пошел первый эшелон угля киселево-прокопьевских копе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57200" y="2349360"/>
            <a:ext cx="82296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932 году Заложены первые шахты «Наклонная № 1» и «Капитальная № 1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3322800" cy="349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427640" y="322128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Здесь отец мой и дед под землёй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ждый день уходят в забой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давать всей стране уголька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тоб хватило зимой огоньк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 ноября 1932 года на месте деревень Афонино и Черкасове образован Киселевский рабочий поселок и избран поселковый Совет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390920" cy="317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81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20 января 1936 года рабочий поселок Киселевский постановлением ВЦИК переименован в город Киселевск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886120" cy="23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132000" y="191628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ими славными делами вписали киселевчане свои имена в историю Кузбасса. Иван Петрович Гореликов, Леонид Наумович Туйгунов, Петр Иванович Колпаков, Иван Сергеевич Черных, Афанасий Гаврилович Чумов, Федор Васильевич Буслов, Петр Мартынович Перепечин, Ириней Федорович Беляев - Герои Советского Союза, Дмитрий Васильевич Иванов, Василий Васильевич Гутник, Алексей Ефимович Солдатов, Николай Иванович Щелканов - кавалеры орденов Славы 3-х степеней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сканирование0019"/>
          <p:cNvPicPr/>
          <p:nvPr/>
        </p:nvPicPr>
        <p:blipFill>
          <a:blip r:embed="rId1"/>
          <a:stretch/>
        </p:blipFill>
        <p:spPr>
          <a:xfrm>
            <a:off x="1042920" y="3068640"/>
            <a:ext cx="720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род  состоит из 6 обособленных территориальных районов: Красный Камень, Афонино, Центральный, Зеленая Казанка, Черкасов Камень, Карагайла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36720" cy="335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-он "Красный Камень" является одним из самых густонаселённых районов города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3178080" cy="41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3851280" y="270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фонино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амый старый район горо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219640" y="4626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4788000" y="1341360"/>
            <a:ext cx="4032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нтр гор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467160" cy="277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8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2484360" y="4265640"/>
            <a:ext cx="357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-он 12 Шахт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76280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529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720" y="-171360"/>
            <a:ext cx="4402080" cy="640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расположен в юго-западной части Кемеровской области, предгорьях Салаирского кряжа, в верховьях реки Аба, в 240 км к югу от Кемерово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рагай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36720" cy="381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3492360" cy="3960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йон обувной фабри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14800" cy="362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381560" y="263700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еленая каза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400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762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еркасов кам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27160" cy="4087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140360" y="549000"/>
            <a:ext cx="4340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иселевск город  тружени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овезло мне, что здесь я р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десь я вырос и здесь пригодился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 пускай город мой не велик,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о его я люблю и к нему я привы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иселёвск входит в число городов Кузбасса, имеющих четко выраженную специализацию на добычу и обогащение угл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598920" cy="3097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328840" cy="194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032000" cy="28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иселевск сегодня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330800" cy="4530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374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егодня в Киселёвске осталось только две работающие шахты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(ОАО шахта "Киселевская"(СДС)и шахта №12)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4608360" y="2133720"/>
            <a:ext cx="4535640" cy="4508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7360" y="1413000"/>
            <a:ext cx="69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88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ри угольных разреза («Киселёвский» компании "СДС-уголь", Вахрушевский угольный разрез угольной компании "Кузбассразрезуголь»,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67280" y="1600200"/>
            <a:ext cx="460836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ОО "Участок "Коксовый" "Промышленно-металлургического холдинга"),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две обогатительные фабрики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148360" cy="44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56000" cy="44323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-531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ень рождение города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0 января1936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да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4176720" cy="4149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4572000" y="1700280"/>
            <a:ext cx="417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терялся в глубине Росси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За Уралом в далекой Сибири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редь тайги и глубоких болот,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иселёвск-небольшой городок.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городе продолжают работать два машиностроительных завода, специализирующихся на выпуске горно-шахтного оборудования завод им.Черных и Гормаш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,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19640" cy="4681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140360" y="1405080"/>
            <a:ext cx="46796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завод "Знамя" по изготовлению взрывчатки для горных предприят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15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Афонинский кирпичный завод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абрика «Кондитер», колбасная фабрика «Рено», мебельная фабрика «Киселёвскмебель», молочный завод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467160" cy="2476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3024360" cy="266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673440" cy="280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735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Визитной  карточкой  город стал </a:t>
            </a:r>
            <a:r>
              <a:rPr b="0" lang="ru-RU" sz="4000" spc="-1" strike="noStrike" u="sng">
                <a:solidFill>
                  <a:srgbClr val="eaeaea"/>
                </a:solidFill>
                <a:uFillTx/>
                <a:latin typeface="Arial"/>
              </a:rPr>
              <a:t>храм в честь иконы Божией Матери Скоропослушни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224240" cy="439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908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 рабочего города множество дел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мотрит он всеми окнами в дали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Чтобы наш Киселевск никогда не старел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Мы сердца ему наши отдал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Киселевск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- город угля и машиностро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сканирование0006"/>
          <p:cNvPicPr/>
          <p:nvPr/>
        </p:nvPicPr>
        <p:blipFill>
          <a:blip r:embed="rId1"/>
          <a:stretch/>
        </p:blipFill>
        <p:spPr>
          <a:xfrm>
            <a:off x="539640" y="378936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2 из 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3933720"/>
            <a:ext cx="2514600" cy="233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1"/>
          <p:cNvPicPr/>
          <p:nvPr/>
        </p:nvPicPr>
        <p:blipFill>
          <a:blip r:embed="rId4"/>
          <a:stretch/>
        </p:blipFill>
        <p:spPr>
          <a:xfrm>
            <a:off x="5867280" y="170028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kar1"/>
          <p:cNvPicPr/>
          <p:nvPr/>
        </p:nvPicPr>
        <p:blipFill>
          <a:blip r:embed="rId5"/>
          <a:stretch/>
        </p:blipFill>
        <p:spPr>
          <a:xfrm>
            <a:off x="324000" y="1557360"/>
            <a:ext cx="271440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3780000" y="2382840"/>
            <a:ext cx="208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ы на карте городок наш не от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 тех, кто знает о нем врятли сыщешь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о стоит 70 лет городок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И живет в нем обычный народ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1770 г. переселенцами из Центральной России основана деревня Черкасово, один из концов которой назывался Киселёвка.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6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36 г. инженер-капитан Н. Соколовский исследовал химические и металлургические свойства афонинского угля. Позже, уже в 1842 г., он написал статью в «Горном журнале» о возможности его использования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на железоделательных завода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3457440" cy="30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074ZK082"/>
          <p:cNvPicPr/>
          <p:nvPr/>
        </p:nvPicPr>
        <p:blipFill>
          <a:blip r:embed="rId2"/>
          <a:stretch/>
        </p:blipFill>
        <p:spPr>
          <a:xfrm>
            <a:off x="5003640" y="3645000"/>
            <a:ext cx="3384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1850 г. в Афонино началась незначительная добыча угля из мелких штолен для нужд Томского железоделательного завод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1692360" y="2327400"/>
            <a:ext cx="60404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5 октября 1917 года из открытого угольного разреза № 1 выданы первые 752 пуда угля. Этот день считается днем рождения Киселевского рудник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9901080" y="1915920"/>
            <a:ext cx="94532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7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0 января 1920 года Киселевские копи включены в состав созданного объединения угольной промышленности Сибири-Сибугол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765600" cy="314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1749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08:17:15Z</dcterms:created>
  <dc:creator>Админ</dc:creator>
  <dc:description/>
  <dc:language>en-US</dc:language>
  <cp:lastModifiedBy>География</cp:lastModifiedBy>
  <dcterms:modified xsi:type="dcterms:W3CDTF">2012-04-18T03:19:25Z</dcterms:modified>
  <cp:revision>10</cp:revision>
  <dc:subject/>
  <dc:title>Визитная карточка города Киселевс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220000000000010250300207f7000400038000</vt:lpwstr>
  </property>
</Properties>
</file>