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8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22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6248-66D4-427A-883A-794A84932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6BBE-FD4C-432F-9806-AE370CA4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E441-E488-45C6-ABAE-0F187B58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3325-1A1A-49DC-9EA3-BB1C817F2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7706-8E9B-45C9-8E6C-5B908E0FD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3205-18F3-473A-B275-B408635C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A073A-0DE2-4E29-8A1A-59B03511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C3D4-4F35-4569-A4B0-6AFCE2AC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B74E-48DF-414E-B679-AFED8446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613D-348E-4F5B-BCA1-2B6E1939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052C-D7D5-4C00-8DF9-1AF3171C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4ABC-00C7-49DE-B810-D1647934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F3C1-804B-4EC7-99E2-27B07C25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CD30-8DC3-4CE2-999E-AD4CB6B9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0B3B-9C3A-40F4-8D92-7F93C6AE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FD5C-35AF-424D-8580-3C1E919B4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3F4E-4E3F-449B-8E75-C5C87222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436E-42C5-43FD-BF05-BDFD7B70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FACB-DC19-4498-8CEB-5D0148FB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20ED-6CFF-4403-822C-3992B112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EBFF-EF4E-4EF0-BF43-523CEE45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5B39-CA6D-40B7-B639-FE0B0C68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980A-D0F9-466B-A766-C95F61F6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C117-9770-4B9B-9BAC-CFCD0A50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15C4-2E6C-493E-A231-2D9132F82F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9121-AA0E-4585-856D-3077EA04CECD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sh-kray.narod.ru/arhive/2004/28/9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Киселевск – мой город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357800" y="299988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eaeaea"/>
                </a:solidFill>
                <a:latin typeface="Verdana"/>
              </a:rPr>
              <a:t>Автор : </a:t>
            </a:r>
            <a:r>
              <a:rPr b="0" lang="ru-RU" sz="1900" spc="-1" strike="noStrike">
                <a:solidFill>
                  <a:srgbClr val="eaeaea"/>
                </a:solidFill>
                <a:latin typeface="Verdana"/>
              </a:rPr>
              <a:t>Ширинская 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eaeaea"/>
                </a:solidFill>
                <a:latin typeface="Verdana"/>
              </a:rPr>
              <a:t>Любовь Анатольевна, 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eaeaea"/>
                </a:solidFill>
                <a:latin typeface="Verdana"/>
              </a:rPr>
              <a:t>учитель географии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eaeaea"/>
                </a:solidFill>
                <a:latin typeface="Verdana"/>
              </a:rPr>
              <a:t>город Киселевск 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eaeaea"/>
                </a:solidFill>
                <a:latin typeface="Verdana"/>
              </a:rPr>
              <a:t>Кемеровская область 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38098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25 октября 1921 года закончено строительство кольчугинской ветки железной дороги Кольчугино-Усяты. Пошел первый эшелон угля киселево-прокопьевских копей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457200" y="2349360"/>
            <a:ext cx="822960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 1932 году Заложены первые шахты «Наклонная № 1» и «Капитальная № 1»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3322800" cy="34941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427640" y="3221280"/>
            <a:ext cx="3889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Здесь отец мой и дед под землёй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Каждый день уходят в забой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Чтоб давать всей стране уголька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Чтоб хватило зимой огонька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1 ноября 1932 года на месте деревень Афонино и Черкасове образован Киселевский рабочий поселок и избран поселковый Совет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4500720" y="3213000"/>
            <a:ext cx="4390920" cy="3171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179280" y="2565360"/>
            <a:ext cx="38163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20 января 1936 года рабочий поселок Киселевский постановлением ВЦИК переименован в город Киселевск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229600" cy="27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5003640" y="4365720"/>
            <a:ext cx="2886120" cy="2330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2"/>
          <a:stretch/>
        </p:blipFill>
        <p:spPr>
          <a:xfrm>
            <a:off x="468360" y="4149720"/>
            <a:ext cx="3809880" cy="2505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"/>
          <p:cNvPicPr/>
          <p:nvPr/>
        </p:nvPicPr>
        <p:blipFill>
          <a:blip r:embed="rId3"/>
          <a:stretch/>
        </p:blipFill>
        <p:spPr>
          <a:xfrm>
            <a:off x="3132000" y="1916280"/>
            <a:ext cx="37339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Многими славными делами вписали киселевчане свои имена в историю Кузбасса. Иван Петрович Гореликов, Леонид Наумович Туйгунов, Петр Иванович Колпаков, Иван Сергеевич Черных, Афанасий Гаврилович Чумов, Федор Васильевич Буслов, Петр Мартынович Перепечин, Ириней Федорович Беляев - Герои Советского Союза, Дмитрий Васильевич Иванов, Василий Васильевич Гутник, Алексей Ефимович Солдатов, Николай Иванович Щелканов - кавалеры орденов Славы 3-х степеней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7" name="Picture 4" descr="сканирование0019"/>
          <p:cNvPicPr/>
          <p:nvPr/>
        </p:nvPicPr>
        <p:blipFill>
          <a:blip r:embed="rId1"/>
          <a:stretch/>
        </p:blipFill>
        <p:spPr>
          <a:xfrm>
            <a:off x="1042920" y="3068640"/>
            <a:ext cx="7201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Город  состоит из 6 обособленных территориальных районов: Красный Камень, Афонино, Центральный, Зеленая Казанка, Черкасов Камень, Карагайла.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2736720" cy="3355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"/>
          <p:cNvPicPr/>
          <p:nvPr/>
        </p:nvPicPr>
        <p:blipFill>
          <a:blip r:embed="rId2"/>
          <a:stretch/>
        </p:blipFill>
        <p:spPr>
          <a:xfrm>
            <a:off x="3851280" y="2349360"/>
            <a:ext cx="48974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М-он "Красный Камень" является одним из самых густонаселённых районов города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457200" y="2565360"/>
            <a:ext cx="3178080" cy="4103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2"/>
          <a:stretch/>
        </p:blipFill>
        <p:spPr>
          <a:xfrm>
            <a:off x="3851280" y="27082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Афонино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амый старый район город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5219640" y="4626000"/>
            <a:ext cx="3024360" cy="2232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3960720" cy="2808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3"/>
          <a:stretch/>
        </p:blipFill>
        <p:spPr>
          <a:xfrm>
            <a:off x="4788000" y="1341360"/>
            <a:ext cx="40320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нтр город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467160" cy="2773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2"/>
          <a:stretch/>
        </p:blipFill>
        <p:spPr>
          <a:xfrm>
            <a:off x="4067280" y="1268280"/>
            <a:ext cx="4825800" cy="2952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3"/>
          <a:stretch/>
        </p:blipFill>
        <p:spPr>
          <a:xfrm>
            <a:off x="2484360" y="4265640"/>
            <a:ext cx="35719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р-он 12 Шахта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4762800" cy="2664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611280" y="3933720"/>
            <a:ext cx="3600360" cy="2735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4788000" y="3716280"/>
            <a:ext cx="352908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4720" y="-171360"/>
            <a:ext cx="4402080" cy="640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Киселевск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расположен в юго-западной части Кемеровской области, предгорьях Салаирского кряжа, в верховьях реки Аба, в 240 км к югу от Кемерово.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38163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арагайл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736720" cy="3817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"/>
          <p:cNvPicPr/>
          <p:nvPr/>
        </p:nvPicPr>
        <p:blipFill>
          <a:blip r:embed="rId2"/>
          <a:stretch/>
        </p:blipFill>
        <p:spPr>
          <a:xfrm>
            <a:off x="5651640" y="1413000"/>
            <a:ext cx="3492360" cy="3960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"/>
          <p:cNvPicPr/>
          <p:nvPr/>
        </p:nvPicPr>
        <p:blipFill>
          <a:blip r:embed="rId3"/>
          <a:stretch/>
        </p:blipFill>
        <p:spPr>
          <a:xfrm>
            <a:off x="2484360" y="4437000"/>
            <a:ext cx="285768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Район обувной фабрик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179280" y="2708280"/>
            <a:ext cx="4114800" cy="36291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"/>
          <p:cNvPicPr/>
          <p:nvPr/>
        </p:nvPicPr>
        <p:blipFill>
          <a:blip r:embed="rId2"/>
          <a:stretch/>
        </p:blipFill>
        <p:spPr>
          <a:xfrm>
            <a:off x="4381560" y="2637000"/>
            <a:ext cx="476244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еленая казан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3240000" cy="4530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3924360" y="2133720"/>
            <a:ext cx="476244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Черкасов камен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827160" cy="40878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140360" y="549000"/>
            <a:ext cx="43401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     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иселевск город  труженик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Повезло мне, что здесь я родился.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Здесь я вырос и здесь пригодился.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И пускай город мой не велик,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Но его я люблю и к нему я привык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иселёвск входит в число городов Кузбасса, имеющих четко выраженную специализацию на добычу и обогащение угля.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3598920" cy="30970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"/>
          <p:cNvPicPr/>
          <p:nvPr/>
        </p:nvPicPr>
        <p:blipFill>
          <a:blip r:embed="rId2"/>
          <a:stretch/>
        </p:blipFill>
        <p:spPr>
          <a:xfrm>
            <a:off x="5580000" y="4724280"/>
            <a:ext cx="2328840" cy="1944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"/>
          <p:cNvPicPr/>
          <p:nvPr/>
        </p:nvPicPr>
        <p:blipFill>
          <a:blip r:embed="rId3"/>
          <a:stretch/>
        </p:blipFill>
        <p:spPr>
          <a:xfrm>
            <a:off x="4788000" y="1628640"/>
            <a:ext cx="4032000" cy="2880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"/>
          <p:cNvPicPr/>
          <p:nvPr/>
        </p:nvPicPr>
        <p:blipFill>
          <a:blip r:embed="rId4"/>
          <a:stretch/>
        </p:blipFill>
        <p:spPr>
          <a:xfrm>
            <a:off x="1403280" y="4653000"/>
            <a:ext cx="2160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иселевск сегодня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4356000" y="1600200"/>
            <a:ext cx="4330800" cy="4530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37447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Сегодня в Киселёвске осталось только две работающие шахты 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(ОАО шахта "Киселевская"(СДС)и шахта №12), 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4608360" y="2133720"/>
            <a:ext cx="4535640" cy="45082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7360" y="1413000"/>
            <a:ext cx="69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1" name="Picture 7" descr=""/>
          <p:cNvPicPr/>
          <p:nvPr/>
        </p:nvPicPr>
        <p:blipFill>
          <a:blip r:embed="rId2"/>
          <a:stretch/>
        </p:blipFill>
        <p:spPr>
          <a:xfrm>
            <a:off x="395280" y="2060640"/>
            <a:ext cx="3889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три угольных разреза («Киселёвский» компании "СДС-уголь", Вахрушевский угольный разрез угольной компании "Кузбассразрезуголь», 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4067280" y="1600200"/>
            <a:ext cx="4608360" cy="45306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"/>
          <p:cNvPicPr/>
          <p:nvPr/>
        </p:nvPicPr>
        <p:blipFill>
          <a:blip r:embed="rId2"/>
          <a:stretch/>
        </p:blipFill>
        <p:spPr>
          <a:xfrm>
            <a:off x="468360" y="256536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ООО "Участок "Коксовый" "Промышленно-металлургического холдинга"),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две обогатительные фабрики.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3995640" y="2060640"/>
            <a:ext cx="5148360" cy="4464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"/>
          <p:cNvPicPr/>
          <p:nvPr/>
        </p:nvPicPr>
        <p:blipFill>
          <a:blip r:embed="rId2"/>
          <a:stretch/>
        </p:blipFill>
        <p:spPr>
          <a:xfrm>
            <a:off x="324000" y="1989000"/>
            <a:ext cx="3456000" cy="44323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-53172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День рождение города: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20 января1936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года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0" y="1700280"/>
            <a:ext cx="4176720" cy="41497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4"/>
          <p:cNvSpPr/>
          <p:nvPr/>
        </p:nvSpPr>
        <p:spPr>
          <a:xfrm>
            <a:off x="4572000" y="1700280"/>
            <a:ext cx="4176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Затерялся в глубине России,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За Уралом в далекой Сибири,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Средь тайги и глубоких болот,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Киселёвск-небольшой городок.</a:t>
            </a: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В городе продолжают работать два машиностроительных завода, специализирующихся на выпуске горно-шахтного оборудования завод им.Черных и Гормаш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,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419640" cy="46814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2"/>
          <a:stretch/>
        </p:blipFill>
        <p:spPr>
          <a:xfrm>
            <a:off x="4140360" y="1405080"/>
            <a:ext cx="467964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завод "Знамя" по изготовлению взрывчатки для горных предприят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8209080" cy="43196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154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Афонинский кирпичный завод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136000" cy="51116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фабрика «Кондитер», колбасная фабрика «Рено», мебельная фабрика «Киселёвскмебель», молочный завод.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3467160" cy="2476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2"/>
          <a:stretch/>
        </p:blipFill>
        <p:spPr>
          <a:xfrm>
            <a:off x="5724360" y="1125360"/>
            <a:ext cx="3024360" cy="2664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3"/>
          <a:stretch/>
        </p:blipFill>
        <p:spPr>
          <a:xfrm>
            <a:off x="1476360" y="3789360"/>
            <a:ext cx="3673440" cy="2809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"/>
          <p:cNvPicPr/>
          <p:nvPr/>
        </p:nvPicPr>
        <p:blipFill>
          <a:blip r:embed="rId4"/>
          <a:stretch/>
        </p:blipFill>
        <p:spPr>
          <a:xfrm>
            <a:off x="5940360" y="3860640"/>
            <a:ext cx="27352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cc"/>
                </a:solidFill>
                <a:uFillTx/>
                <a:latin typeface="Arial"/>
              </a:rPr>
              <a:t>Визитной  карточкой  город стал </a:t>
            </a:r>
            <a:r>
              <a:rPr b="0" lang="ru-RU" sz="4000" spc="-1" strike="noStrike" u="sng">
                <a:solidFill>
                  <a:srgbClr val="eaeaea"/>
                </a:solidFill>
                <a:uFillTx/>
                <a:latin typeface="Arial"/>
              </a:rPr>
              <a:t>храм в честь иконы Божией Матери Скоропослушниц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4284720" y="2276640"/>
            <a:ext cx="4224240" cy="4392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2"/>
          <a:stretch/>
        </p:blipFill>
        <p:spPr>
          <a:xfrm>
            <a:off x="826920" y="2421000"/>
            <a:ext cx="29084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У рабочего города множество дел.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мотрит он всеми окнами в дали.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Чтобы наш Киселевск никогда не старел,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Мы сердца ему наши отдали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1"/>
          <a:stretch/>
        </p:blipFill>
        <p:spPr>
          <a:xfrm>
            <a:off x="2195640" y="1773360"/>
            <a:ext cx="4608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Киселевск</a:t>
            </a: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 - город угля и машиностроения.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3" name="Picture 4" descr="сканирование0006"/>
          <p:cNvPicPr/>
          <p:nvPr/>
        </p:nvPicPr>
        <p:blipFill>
          <a:blip r:embed="rId1"/>
          <a:stretch/>
        </p:blipFill>
        <p:spPr>
          <a:xfrm>
            <a:off x="539640" y="3789360"/>
            <a:ext cx="3168720" cy="2736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Картинка 2 из 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3933720"/>
            <a:ext cx="2514600" cy="2332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e1"/>
          <p:cNvPicPr/>
          <p:nvPr/>
        </p:nvPicPr>
        <p:blipFill>
          <a:blip r:embed="rId4"/>
          <a:stretch/>
        </p:blipFill>
        <p:spPr>
          <a:xfrm>
            <a:off x="5867280" y="1700280"/>
            <a:ext cx="2743200" cy="172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kar1"/>
          <p:cNvPicPr/>
          <p:nvPr/>
        </p:nvPicPr>
        <p:blipFill>
          <a:blip r:embed="rId5"/>
          <a:stretch/>
        </p:blipFill>
        <p:spPr>
          <a:xfrm>
            <a:off x="324000" y="1557360"/>
            <a:ext cx="2714400" cy="17906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8"/>
          <p:cNvSpPr/>
          <p:nvPr/>
        </p:nvSpPr>
        <p:spPr>
          <a:xfrm>
            <a:off x="3780000" y="2382840"/>
            <a:ext cx="2089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Ты на карте городок наш не отыщешь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А тех, кто знает о нем врятли сыщешь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Но стоит 70 лет городок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И живет в нем обычный народ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2000"/>
            </a:br>
            <a:br>
              <a:rPr sz="20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коло 1770 г. переселенцами из Центральной России основана деревня Черкасово, один из концов которой назывался Киселёвка. 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4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Picture 9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6624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В 1836 г. инженер-капитан Н. Соколовский исследовал химические и металлургические свойства афонинского угля. Позже, уже в 1842 г., он написал статью в «Горном журнале» о возможности его использования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на железоделательных заводах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395280" y="3284640"/>
            <a:ext cx="3457440" cy="3024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074ZK082"/>
          <p:cNvPicPr/>
          <p:nvPr/>
        </p:nvPicPr>
        <p:blipFill>
          <a:blip r:embed="rId2"/>
          <a:stretch/>
        </p:blipFill>
        <p:spPr>
          <a:xfrm>
            <a:off x="5003640" y="3645000"/>
            <a:ext cx="3384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 1850 г. в Афонино началась незначительная добыча угля из мелких штолен для нужд Томского железоделательного завод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5" name="Picture 10" descr=""/>
          <p:cNvPicPr/>
          <p:nvPr/>
        </p:nvPicPr>
        <p:blipFill>
          <a:blip r:embed="rId1"/>
          <a:stretch/>
        </p:blipFill>
        <p:spPr>
          <a:xfrm>
            <a:off x="1692360" y="2327400"/>
            <a:ext cx="604044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15 октября 1917 года из открытого угольного разреза № 1 выданы первые 752 пуда угля. Этот день считается днем рождения Киселевского рудника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9901080" y="1915920"/>
            <a:ext cx="94532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3816360" cy="3745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4859280" y="2708280"/>
            <a:ext cx="3708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20 января 1920 года Киселевские копи включены в состав созданного объединения угольной промышленности Сибири-Сибуголь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4932360" y="2276640"/>
            <a:ext cx="3765600" cy="3147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250920" y="2349360"/>
            <a:ext cx="4174920" cy="35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08:17:15Z</dcterms:created>
  <dc:creator>Админ</dc:creator>
  <dc:description/>
  <dc:language>en-US</dc:language>
  <cp:lastModifiedBy>География</cp:lastModifiedBy>
  <dcterms:modified xsi:type="dcterms:W3CDTF">2012-04-18T03:19:25Z</dcterms:modified>
  <cp:revision>10</cp:revision>
  <dc:subject/>
  <dc:title>Визитная карточка города Киселевс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0220000000000010250300207f7000400038000</vt:lpwstr>
  </property>
</Properties>
</file>