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22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9F1-1198-447F-9A5D-B68B4E38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B7E0-05BD-4F8A-B91B-1C911290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50A-E20B-49D8-9B3B-D3AB7FB0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BD15-0B94-4535-A634-C0A6BE82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1EC9-7B11-4526-A15E-AE3D3C89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301A-B229-4116-B8A5-3DFF10CF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F600-89DE-4890-B8F6-E3E2755A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9314-A57C-42DC-8819-A2A22CEE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1F9A-CF9F-4FD3-9F46-FA92661F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389D-10C6-4444-B04D-7D7842FA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45CC-5DD0-4017-A02E-7AEFD54F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772-5B08-453A-9B83-8D7C356E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0EB9-49A7-4F3D-A310-231F7CD6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7EF9-8F22-43A9-9BA4-089ADDE4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D330-3139-4016-8192-BFAE43E6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0EB0-F80C-46F6-AF1D-C22AB3C6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4463-B2C6-46E8-96EF-14FC03FF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AB5-D4B8-4B10-8F0B-50763CE0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26EE-C9C6-4BC9-A089-CAFDAE76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869-45CF-4092-BACC-03F0757D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D12-B18A-4EEE-8FA6-C3618D2E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D42-60C4-4D12-A18C-31C5AC0B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B9F-4576-43C8-820C-BA805D54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A3ED-EEB5-4A6D-B705-BAF03619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01B4-C390-42A4-8B9B-F7E16CE377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8C14-A80D-4CCA-9395-740F9D682A94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sh-kray.narod.ru/arhive/2004/28/9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Киселевск – мой город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357800" y="299988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eaeaea"/>
                </a:solidFill>
                <a:latin typeface="Verdana"/>
              </a:rPr>
              <a:t>Автор : </a:t>
            </a: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Ширинская 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Любовь Анатольевна, 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учитель географии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город Киселевск 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Кемеровская область 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3809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25 октября 1921 года закончено строительство кольчугинской ветки железной дороги Кольчугино-Усяты. Пошел первый эшелон угля киселево-прокопьевских копей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457200" y="2349360"/>
            <a:ext cx="82296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 1932 году Заложены первые шахты «Наклонная № 1» и «Капитальная № 1»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3322800" cy="34941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427640" y="3221280"/>
            <a:ext cx="388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Здесь отец мой и дед под землёй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аждый день уходят в забой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Чтоб давать всей стране уголька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Чтоб хватило зимой огонька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1 ноября 1932 года на месте деревень Афонино и Черкасове образован Киселевский рабочий поселок и избран поселковый Совет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500720" y="3213000"/>
            <a:ext cx="4390920" cy="3171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3816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20 января 1936 года рабочий поселок Киселевский постановлением ВЦИК переименован в город Киселевск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5003640" y="4365720"/>
            <a:ext cx="2886120" cy="23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468360" y="4149720"/>
            <a:ext cx="3809880" cy="2505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3"/>
          <a:stretch/>
        </p:blipFill>
        <p:spPr>
          <a:xfrm>
            <a:off x="3132000" y="1916280"/>
            <a:ext cx="3733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ногими славными делами вписали киселевчане свои имена в историю Кузбасса. Иван Петрович Гореликов, Леонид Наумович Туйгунов, Петр Иванович Колпаков, Иван Сергеевич Черных, Афанасий Гаврилович Чумов, Федор Васильевич Буслов, Петр Мартынович Перепечин, Ириней Федорович Беляев - Герои Советского Союза, Дмитрий Васильевич Иванов, Василий Васильевич Гутник, Алексей Ефимович Солдатов, Николай Иванович Щелканов - кавалеры орденов Славы 3-х степеней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4" descr="сканирование0019"/>
          <p:cNvPicPr/>
          <p:nvPr/>
        </p:nvPicPr>
        <p:blipFill>
          <a:blip r:embed="rId1"/>
          <a:stretch/>
        </p:blipFill>
        <p:spPr>
          <a:xfrm>
            <a:off x="1042920" y="3068640"/>
            <a:ext cx="720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род  состоит из 6 обособленных территориальных районов: Красный Камень, Афонино, Центральный, Зеленая Казанка, Черкасов Камень, Карагайла.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2736720" cy="3355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2"/>
          <a:stretch/>
        </p:blipFill>
        <p:spPr>
          <a:xfrm>
            <a:off x="3851280" y="2349360"/>
            <a:ext cx="48974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-он "Красный Камень" является одним из самых густонаселённых районов города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457200" y="2565360"/>
            <a:ext cx="3178080" cy="4103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3851280" y="2708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фонино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амый старый район город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5219640" y="4626000"/>
            <a:ext cx="3024360" cy="2232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3960720" cy="2808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4788000" y="1341360"/>
            <a:ext cx="40320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нтр горо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467160" cy="2773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4825800" cy="2952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3"/>
          <a:stretch/>
        </p:blipFill>
        <p:spPr>
          <a:xfrm>
            <a:off x="2484360" y="4265640"/>
            <a:ext cx="3571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р-он 12 Шахт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762800" cy="2664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3600360" cy="2735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5290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720" y="-171360"/>
            <a:ext cx="4402080" cy="640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иселевск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расположен в юго-западной части Кемеровской области, предгорьях Салаирского кряжа, в верховьях реки Аба, в 240 км к югу от Кемерово.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16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рагай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736720" cy="3817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5651640" y="1413000"/>
            <a:ext cx="3492360" cy="3960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3"/>
          <a:stretch/>
        </p:blipFill>
        <p:spPr>
          <a:xfrm>
            <a:off x="2484360" y="4437000"/>
            <a:ext cx="28576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айон обувной фабри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4114800" cy="3629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4381560" y="2637000"/>
            <a:ext cx="476244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еленая казан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240000" cy="4530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924360" y="2133720"/>
            <a:ext cx="47624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Черкасов камен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827160" cy="4087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140360" y="549000"/>
            <a:ext cx="4340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иселевск город  тружени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Повезло мне, что здесь я родился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Здесь я вырос и здесь пригодился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И пускай город мой не велик,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Но его я люблю и к нему я привык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иселёвск входит в число городов Кузбасса, имеющих четко выраженную специализацию на добычу и обогащение угля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598920" cy="3097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5580000" y="4724280"/>
            <a:ext cx="2328840" cy="1944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4032000" cy="2880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4"/>
          <a:stretch/>
        </p:blipFill>
        <p:spPr>
          <a:xfrm>
            <a:off x="1403280" y="4653000"/>
            <a:ext cx="216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иселевск сегодня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330800" cy="4530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3744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егодня в Киселёвске осталось только две работающие шахты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(ОАО шахта "Киселевская"(СДС)и шахта №12), 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4608360" y="2133720"/>
            <a:ext cx="4535640" cy="45082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7360" y="1413000"/>
            <a:ext cx="69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3889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три угольных разреза («Киселёвский» компании "СДС-уголь", Вахрушевский угольный разрез угольной компании "Кузбассразрезуголь», 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4067280" y="1600200"/>
            <a:ext cx="4608360" cy="4530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ООО "Участок "Коксовый" "Промышленно-металлургического холдинга"),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две обогатительные фабрики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3995640" y="2060640"/>
            <a:ext cx="5148360" cy="4464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3456000" cy="44323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-5317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ень рождение города: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0 января1936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ода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0" y="1700280"/>
            <a:ext cx="4176720" cy="41497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4572000" y="1700280"/>
            <a:ext cx="4176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Затерялся в глубине России,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За Уралом в далекой Сибири,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Средь тайги и глубоких болот,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Киселёвск-небольшой городок.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В городе продолжают работать два машиностроительных завода, специализирующихся на выпуске горно-шахтного оборудования завод им.Черных и Гормаш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,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419640" cy="4681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4140360" y="1405080"/>
            <a:ext cx="467964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завод "Знамя" по изготовлению взрывчатки для горных предприят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209080" cy="43196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15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Афонинский кирпичный завод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36000" cy="51116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абрика «Кондитер», колбасная фабрика «Рено», мебельная фабрика «Киселёвскмебель», молочный завод.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3467160" cy="2476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5724360" y="1125360"/>
            <a:ext cx="3024360" cy="2664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1476360" y="3789360"/>
            <a:ext cx="3673440" cy="2809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4"/>
          <a:stretch/>
        </p:blipFill>
        <p:spPr>
          <a:xfrm>
            <a:off x="5940360" y="3860640"/>
            <a:ext cx="2735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cc"/>
                </a:solidFill>
                <a:uFillTx/>
                <a:latin typeface="Arial"/>
              </a:rPr>
              <a:t>Визитной  карточкой  город стал </a:t>
            </a:r>
            <a:r>
              <a:rPr b="0" lang="ru-RU" sz="4000" spc="-1" strike="noStrike" u="sng">
                <a:solidFill>
                  <a:srgbClr val="eaeaea"/>
                </a:solidFill>
                <a:uFillTx/>
                <a:latin typeface="Arial"/>
              </a:rPr>
              <a:t>храм в честь иконы Божией Матери Скоропослушниц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284720" y="2276640"/>
            <a:ext cx="4224240" cy="4392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2908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 рабочего города множество дел.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мотрит он всеми окнами в дали.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Чтобы наш Киселевск никогда не старел,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Мы сердца ему наши отдали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460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Киселевск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- город угля и машиностроения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4" descr="сканирование0006"/>
          <p:cNvPicPr/>
          <p:nvPr/>
        </p:nvPicPr>
        <p:blipFill>
          <a:blip r:embed="rId1"/>
          <a:stretch/>
        </p:blipFill>
        <p:spPr>
          <a:xfrm>
            <a:off x="539640" y="3789360"/>
            <a:ext cx="3168720" cy="273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Картинка 2 из 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3933720"/>
            <a:ext cx="2514600" cy="2332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e1"/>
          <p:cNvPicPr/>
          <p:nvPr/>
        </p:nvPicPr>
        <p:blipFill>
          <a:blip r:embed="rId4"/>
          <a:stretch/>
        </p:blipFill>
        <p:spPr>
          <a:xfrm>
            <a:off x="5867280" y="1700280"/>
            <a:ext cx="2743200" cy="172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kar1"/>
          <p:cNvPicPr/>
          <p:nvPr/>
        </p:nvPicPr>
        <p:blipFill>
          <a:blip r:embed="rId5"/>
          <a:stretch/>
        </p:blipFill>
        <p:spPr>
          <a:xfrm>
            <a:off x="324000" y="1557360"/>
            <a:ext cx="2714400" cy="17906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8"/>
          <p:cNvSpPr/>
          <p:nvPr/>
        </p:nvSpPr>
        <p:spPr>
          <a:xfrm>
            <a:off x="3780000" y="2382840"/>
            <a:ext cx="208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Ты на карте городок наш не отыщешь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А тех, кто знает о нем врятли сыщешь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Но стоит 70 лет городок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И живет в нем обычный народ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коло 1770 г. переселенцами из Центральной России основана деревня Черкасово, один из концов которой назывался Киселёвка.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624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В 1836 г. инженер-капитан Н. Соколовский исследовал химические и металлургические свойства афонинского угля. Позже, уже в 1842 г., он написал статью в «Горном журнале» о возможности его использования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на железоделательных заводах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3457440" cy="30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074ZK082"/>
          <p:cNvPicPr/>
          <p:nvPr/>
        </p:nvPicPr>
        <p:blipFill>
          <a:blip r:embed="rId2"/>
          <a:stretch/>
        </p:blipFill>
        <p:spPr>
          <a:xfrm>
            <a:off x="5003640" y="3645000"/>
            <a:ext cx="3384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 1850 г. в Афонино началась незначительная добыча угля из мелких штолен для нужд Томского железоделательного завод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10" descr=""/>
          <p:cNvPicPr/>
          <p:nvPr/>
        </p:nvPicPr>
        <p:blipFill>
          <a:blip r:embed="rId1"/>
          <a:stretch/>
        </p:blipFill>
        <p:spPr>
          <a:xfrm>
            <a:off x="1692360" y="2327400"/>
            <a:ext cx="604044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15 октября 1917 года из открытого угольного разреза № 1 выданы первые 752 пуда угля. Этот день считается днем рождения Киселевского рудника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9901080" y="1915920"/>
            <a:ext cx="94532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816360" cy="3745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370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20 января 1920 года Киселевские копи включены в состав созданного объединения угольной промышленности Сибири-Сибуголь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3765600" cy="3147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417492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08:17:15Z</dcterms:created>
  <dc:creator>Админ</dc:creator>
  <dc:description/>
  <dc:language>en-US</dc:language>
  <cp:lastModifiedBy>География</cp:lastModifiedBy>
  <dcterms:modified xsi:type="dcterms:W3CDTF">2012-04-18T03:19:25Z</dcterms:modified>
  <cp:revision>10</cp:revision>
  <dc:subject/>
  <dc:title>Визитная карточка города Киселевс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220000000000010250300207f7000400038000</vt:lpwstr>
  </property>
</Properties>
</file>