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6E27-1DE7-447D-A433-071F2D904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3980-55ED-4429-AFD6-4E18716D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E64F-AAFC-4C15-866D-26855FBCC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D904-176D-471D-A30A-5C4181BDC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2D23-33EE-4F71-B3CE-377CDE74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D982-1B1F-4A47-AD11-43081D6A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C2AD-D3AB-42D9-8218-EF2790D4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003B-77DA-422C-8BAD-0B1C14C3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A8A0-CEB6-46BD-B908-5A3E8CFF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2908-3C0D-480C-B0D8-C4811B80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C681-48E8-4CDD-9D14-78BB35CF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EF24-FCFC-41A3-9069-36D17BA0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AB76-1E8D-49D5-B745-EEA85AB26C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920000" cy="2521080"/>
          </a:xfrm>
          <a:prstGeom prst="rect">
            <a:avLst/>
          </a:prstGeom>
          <a:noFill/>
          <a:ln w="9360">
            <a:solidFill>
              <a:srgbClr val="ff6699"/>
            </a:solidFill>
            <a:prstDash val="sysDash"/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  <a:ea typeface="Arabic Typesetting"/>
              </a:rPr>
              <a:t>Как поделить земное пространство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  <a:ea typeface="Arabic Typesetting"/>
              </a:rPr>
              <a:t>. Центры экономической мощи и полюсы бед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356000" y="5084280"/>
            <a:ext cx="44640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рок географии, 11 клас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013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итова Ф.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Параграф 31, 3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Нанесите на контурную карту страны: Средиземноморского региона; Балканского региона; Карибского региона; Латинской Амер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Регион и региональная географ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395280" y="1484280"/>
            <a:ext cx="6264360" cy="1008720"/>
          </a:xfrm>
          <a:prstGeom prst="rect">
            <a:avLst/>
          </a:prstGeom>
          <a:noFill/>
          <a:ln w="9360">
            <a:solidFill>
              <a:srgbClr val="e46c0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  <a:ea typeface="Times New Roman"/>
              </a:rPr>
              <a:t>Термином «регион» в отличие от «района» (при административном делении), обозначают обширные территории географического простран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D:\Гот.к уроку 2013\ОБЖ 9\11i.jpg"/>
          <p:cNvPicPr/>
          <p:nvPr/>
        </p:nvPicPr>
        <p:blipFill>
          <a:blip r:embed="rId1"/>
          <a:stretch/>
        </p:blipFill>
        <p:spPr>
          <a:xfrm>
            <a:off x="1182600" y="2700360"/>
            <a:ext cx="4334040" cy="266364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468360" y="5445000"/>
            <a:ext cx="6191280" cy="1313640"/>
          </a:xfrm>
          <a:prstGeom prst="rect">
            <a:avLst/>
          </a:prstGeom>
          <a:noFill/>
          <a:ln w="9360">
            <a:solidFill>
              <a:srgbClr val="ff66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Региональная география –рассматривает многообразие современного мира с учетом индивидуальности каждого реги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D:\Гот.к уроку 2013\ОБЖ 9\forum-15-12-11.jpg"/>
          <p:cNvPicPr/>
          <p:nvPr/>
        </p:nvPicPr>
        <p:blipFill>
          <a:blip r:embed="rId2"/>
          <a:stretch/>
        </p:blipFill>
        <p:spPr>
          <a:xfrm>
            <a:off x="6656400" y="2560680"/>
            <a:ext cx="192708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Критерии регионал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Содержимое 2"/>
          <p:cNvGrpSpPr/>
          <p:nvPr/>
        </p:nvGrpSpPr>
        <p:grpSpPr>
          <a:xfrm>
            <a:off x="536400" y="1981080"/>
            <a:ext cx="8242560" cy="4542120"/>
            <a:chOff x="536400" y="1981080"/>
            <a:chExt cx="8242560" cy="4542120"/>
          </a:xfrm>
        </p:grpSpPr>
        <p:pic>
          <p:nvPicPr>
            <p:cNvPr id="50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536400" y="1981080"/>
              <a:ext cx="8242560" cy="454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539640" y="1989000"/>
              <a:ext cx="8229600" cy="45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7030a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7030a0"/>
                  </a:solidFill>
                  <a:latin typeface="Calibri"/>
                </a:rPr>
                <a:t>Исторические этапы открыт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7030a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7030a0"/>
                  </a:solidFill>
                  <a:latin typeface="Calibri"/>
                </a:rPr>
                <a:t> </a:t>
              </a:r>
              <a:r>
                <a:rPr b="0" lang="ru-RU" sz="2800" spc="-1" strike="noStrike">
                  <a:solidFill>
                    <a:srgbClr val="7030a0"/>
                  </a:solidFill>
                  <a:latin typeface="Calibri"/>
                </a:rPr>
                <a:t>освоенность территорий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7030a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7030a0"/>
                  </a:solidFill>
                  <a:latin typeface="Calibri"/>
                </a:rPr>
                <a:t>физико-географические особенности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7030a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7030a0"/>
                  </a:solidFill>
                  <a:latin typeface="Calibri"/>
                </a:rPr>
                <a:t> </a:t>
              </a:r>
              <a:r>
                <a:rPr b="0" lang="ru-RU" sz="2800" spc="-1" strike="noStrike">
                  <a:solidFill>
                    <a:srgbClr val="7030a0"/>
                  </a:solidFill>
                  <a:latin typeface="Calibri"/>
                </a:rPr>
                <a:t>экономическ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7030a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7030a0"/>
                  </a:solidFill>
                  <a:latin typeface="Calibri"/>
                </a:rPr>
                <a:t> </a:t>
              </a:r>
              <a:r>
                <a:rPr b="0" lang="ru-RU" sz="2800" spc="-1" strike="noStrike">
                  <a:solidFill>
                    <a:srgbClr val="7030a0"/>
                  </a:solidFill>
                  <a:latin typeface="Calibri"/>
                </a:rPr>
                <a:t>территории проживания этнических народо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7030a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7030a0"/>
                  </a:solidFill>
                  <a:latin typeface="Calibri"/>
                </a:rPr>
                <a:t> </a:t>
              </a:r>
              <a:r>
                <a:rPr b="0" lang="ru-RU" sz="2800" spc="-1" strike="noStrike">
                  <a:solidFill>
                    <a:srgbClr val="7030a0"/>
                  </a:solidFill>
                  <a:latin typeface="Calibri"/>
                </a:rPr>
                <a:t>культурно-исторические характеристик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Picture 4" descr="D:\Гот.к уроку 2013\ОБЖ 9\12i.jpg"/>
          <p:cNvPicPr/>
          <p:nvPr/>
        </p:nvPicPr>
        <p:blipFill>
          <a:blip r:embed="rId2"/>
          <a:stretch/>
        </p:blipFill>
        <p:spPr>
          <a:xfrm>
            <a:off x="7083360" y="4645080"/>
            <a:ext cx="1889280" cy="1895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D:\Гот.к уроку 2013\ОБЖ 9\forum-15-12-11.jpg"/>
          <p:cNvPicPr/>
          <p:nvPr/>
        </p:nvPicPr>
        <p:blipFill>
          <a:blip r:embed="rId3"/>
          <a:stretch/>
        </p:blipFill>
        <p:spPr>
          <a:xfrm>
            <a:off x="244440" y="-6480"/>
            <a:ext cx="1596960" cy="18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Многообразие регион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414972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Старый и Новый  Св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Ойкумена  и неосвоенные регион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Сахара и  Гимала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Памир и  Западно-Сибирская низменность Западная Европа и  Тропическая Африка, Латинская Америка и Ближний Вост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Индокитай  и Вест-Инд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" descr="D:\Гот.к уроку 2013\ОБЖ 9\800pxlocationantarctica.png"/>
          <p:cNvPicPr/>
          <p:nvPr/>
        </p:nvPicPr>
        <p:blipFill>
          <a:blip r:embed="rId1"/>
          <a:stretch/>
        </p:blipFill>
        <p:spPr>
          <a:xfrm>
            <a:off x="684360" y="1052640"/>
            <a:ext cx="738180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Принцип строения культурно-исторических регион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Сложная многоступенчатая структур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alibri"/>
              </a:rPr>
              <a:t>Западная Европа : Южная, Центральная, Северная и Британские остров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alibri"/>
              </a:rPr>
              <a:t>( в Великобритании есть Англия, Шотландия и Уэльс, во Франции-Лотарингия, Эльзас, Бретань, Прованс, Бургундия, Лангедок; в Германии- Бавария, Тюрингия, Саксония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alibri"/>
              </a:rPr>
              <a:t>Зарубежная Азия: Юго-Западная, Южная, Восточная, Юго-Восточная и Центральная ( после распада СССР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alibri"/>
              </a:rPr>
              <a:t>Англоязычная Америка :США и Канад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alibri"/>
              </a:rPr>
              <a:t>Латинская Америка: Мексика, Центральная Америка, Вест-Индия, Андские страны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Экономические и социальные контрасты в ми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D:\Гот.к уроку 2013\ГЕО 11\m2.jpg"/>
          <p:cNvPicPr/>
          <p:nvPr/>
        </p:nvPicPr>
        <p:blipFill>
          <a:blip r:embed="rId1"/>
          <a:stretch/>
        </p:blipFill>
        <p:spPr>
          <a:xfrm>
            <a:off x="179280" y="1341360"/>
            <a:ext cx="4232520" cy="4824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D:\Гот.к уроку 2013\ГЕО 11\worldvvp.gif"/>
          <p:cNvPicPr/>
          <p:nvPr/>
        </p:nvPicPr>
        <p:blipFill>
          <a:blip r:embed="rId2"/>
          <a:stretch/>
        </p:blipFill>
        <p:spPr>
          <a:xfrm>
            <a:off x="5076720" y="1052640"/>
            <a:ext cx="366264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Наиболее богатые и наиболее бедные страны – это всего лишь своеобразные «полюсы». окруженные переходным фоном множества других стран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D:\Гот.к уроку 2013\ОБЖ 9\i.24jpg.jpg"/>
          <p:cNvPicPr/>
          <p:nvPr/>
        </p:nvPicPr>
        <p:blipFill>
          <a:blip r:embed="rId1"/>
          <a:stretch/>
        </p:blipFill>
        <p:spPr>
          <a:xfrm>
            <a:off x="5651640" y="4581360"/>
            <a:ext cx="3093840" cy="1932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D:\Гот.к уроку 2013\ОБЖ 9\i.jpg2.jpg"/>
          <p:cNvPicPr/>
          <p:nvPr/>
        </p:nvPicPr>
        <p:blipFill>
          <a:blip r:embed="rId2"/>
          <a:stretch/>
        </p:blipFill>
        <p:spPr>
          <a:xfrm>
            <a:off x="324000" y="1844640"/>
            <a:ext cx="2663640" cy="2379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D:\Гот.к уроку 2013\ОБЖ 9\i37jpg.jpg"/>
          <p:cNvPicPr/>
          <p:nvPr/>
        </p:nvPicPr>
        <p:blipFill>
          <a:blip r:embed="rId3"/>
          <a:stretch/>
        </p:blipFill>
        <p:spPr>
          <a:xfrm>
            <a:off x="2340000" y="3927600"/>
            <a:ext cx="2879640" cy="2585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D:\Гот.к уроку 2013\ОБЖ 9\15i.jpg"/>
          <p:cNvPicPr/>
          <p:nvPr/>
        </p:nvPicPr>
        <p:blipFill>
          <a:blip r:embed="rId4"/>
          <a:stretch/>
        </p:blipFill>
        <p:spPr>
          <a:xfrm>
            <a:off x="5724360" y="2349360"/>
            <a:ext cx="2951280" cy="194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D:\Гот.к уроку 2013\ОБЖ 9\i35jpg.jpg"/>
          <p:cNvPicPr/>
          <p:nvPr/>
        </p:nvPicPr>
        <p:blipFill>
          <a:blip r:embed="rId5"/>
          <a:stretch/>
        </p:blipFill>
        <p:spPr>
          <a:xfrm>
            <a:off x="3203640" y="2133720"/>
            <a:ext cx="2251080" cy="1500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D:\Гот.к уроку 2013\ОБЖ 9\i.23jpg.jpg"/>
          <p:cNvPicPr/>
          <p:nvPr/>
        </p:nvPicPr>
        <p:blipFill>
          <a:blip r:embed="rId6"/>
          <a:stretch/>
        </p:blipFill>
        <p:spPr>
          <a:xfrm>
            <a:off x="250920" y="479736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Методы подсчета национального  богатства стра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учет человеческ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природн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и воспроизводимого капита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D:\Гот.к уроку 2013\ОБЖ 9\13.jpg"/>
          <p:cNvPicPr/>
          <p:nvPr/>
        </p:nvPicPr>
        <p:blipFill>
          <a:blip r:embed="rId1"/>
          <a:stretch/>
        </p:blipFill>
        <p:spPr>
          <a:xfrm>
            <a:off x="468360" y="3357720"/>
            <a:ext cx="2879640" cy="1911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D:\Гот.к уроку 2013\ОБЖ 9\i.22jpg.jpg"/>
          <p:cNvPicPr/>
          <p:nvPr/>
        </p:nvPicPr>
        <p:blipFill>
          <a:blip r:embed="rId2"/>
          <a:stretch/>
        </p:blipFill>
        <p:spPr>
          <a:xfrm>
            <a:off x="5724360" y="1773360"/>
            <a:ext cx="3009960" cy="2016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D:\Гот.к уроку 2013\ОБЖ 9\i32jpg.jpg"/>
          <p:cNvPicPr/>
          <p:nvPr/>
        </p:nvPicPr>
        <p:blipFill>
          <a:blip r:embed="rId3"/>
          <a:stretch/>
        </p:blipFill>
        <p:spPr>
          <a:xfrm>
            <a:off x="4572000" y="4365720"/>
            <a:ext cx="266400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Центры экономической мощи вчера и сегод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11280" y="2060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Во второй половине  ХХ века ведущую роль в мировой экономике и политике играли 4 центра: США, Западная Европа, Япония, ССС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В результате высоких темпов роста экономики Китая на рубеже ХХ-ХХ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I</a:t>
            </a: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 вв. в мире появился новый перспективный центр экономической мощ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Главными центрами мировой экономики сегодня являются США, Западная Европа, Япония, Кита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6T17:40:21Z</dcterms:created>
  <dc:creator>OLDI</dc:creator>
  <dc:description/>
  <dc:language>en-US</dc:language>
  <cp:lastModifiedBy>OLDI</cp:lastModifiedBy>
  <dcterms:modified xsi:type="dcterms:W3CDTF">2013-10-27T19:50:52Z</dcterms:modified>
  <cp:revision>1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1e0000000000010250300207f7000400038000</vt:lpwstr>
  </property>
</Properties>
</file>