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9B4-E696-4B32-BE6B-E1B4B7D7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DA7-70ED-4FE7-AB90-9B659A49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74F-0B6E-4BE0-A8CF-F0A42BF4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390-FDD8-4ACF-A866-228A07AC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3A8-04DF-48C6-B607-22258916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CB8-53A5-4C0D-A71B-721656DE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4B8-9DFB-4F55-97B7-793F67DA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2EE-D6E8-44FF-83C8-6A140E01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906-2FBE-4D05-8A06-C81271FD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609-6EB7-49B7-9252-7459521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DC4-E31C-42B3-8CC6-F85D358A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985-D7F1-4E65-8A9E-F8250077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2256-FBFD-4CC8-A6D1-2CA562ACD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920000" cy="2521080"/>
          </a:xfrm>
          <a:prstGeom prst="rect">
            <a:avLst/>
          </a:prstGeom>
          <a:noFill/>
          <a:ln w="9360">
            <a:solidFill>
              <a:srgbClr val="ff6699"/>
            </a:solidFill>
            <a:prstDash val="sysDash"/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Arabic Typesetting"/>
              </a:rPr>
              <a:t>Как поделить земное пространство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  <a:ea typeface="Arabic Typesetting"/>
              </a:rPr>
              <a:t>. Центры экономической мощи и полюсы б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6000" y="5084280"/>
            <a:ext cx="446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к географии, 11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3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итова Ф.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араграф 31,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анесите на контурную карту страны: Средиземноморского региона; Балканского региона; Карибского региона; Латинской Амер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Регион и региональная географ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95280" y="1484280"/>
            <a:ext cx="6264360" cy="1008720"/>
          </a:xfrm>
          <a:prstGeom prst="rect">
            <a:avLst/>
          </a:prstGeom>
          <a:noFill/>
          <a:ln w="9360">
            <a:solidFill>
              <a:srgbClr val="e46c0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  <a:ea typeface="Times New Roman"/>
              </a:rPr>
              <a:t>Термином «регион» в отличие от «района» (при административном делении), обозначают обширные территории географического простр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D:\Гот.к уроку 2013\ОБЖ 9\11i.jpg"/>
          <p:cNvPicPr/>
          <p:nvPr/>
        </p:nvPicPr>
        <p:blipFill>
          <a:blip r:embed="rId1"/>
          <a:stretch/>
        </p:blipFill>
        <p:spPr>
          <a:xfrm>
            <a:off x="1182600" y="2700360"/>
            <a:ext cx="4334040" cy="2663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68360" y="5445000"/>
            <a:ext cx="6191280" cy="1313640"/>
          </a:xfrm>
          <a:prstGeom prst="rect">
            <a:avLst/>
          </a:prstGeom>
          <a:noFill/>
          <a:ln w="9360">
            <a:solidFill>
              <a:srgbClr val="ff66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Региональная география –рассматривает многообразие современного мира с учетом индивидуальности каждого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:\Гот.к уроку 2013\ОБЖ 9\forum-15-12-11.jpg"/>
          <p:cNvPicPr/>
          <p:nvPr/>
        </p:nvPicPr>
        <p:blipFill>
          <a:blip r:embed="rId2"/>
          <a:stretch/>
        </p:blipFill>
        <p:spPr>
          <a:xfrm>
            <a:off x="6656400" y="2560680"/>
            <a:ext cx="19270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Критерии регион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Содержимое 2"/>
          <p:cNvGrpSpPr/>
          <p:nvPr/>
        </p:nvGrpSpPr>
        <p:grpSpPr>
          <a:xfrm>
            <a:off x="536400" y="1981080"/>
            <a:ext cx="8242560" cy="4542120"/>
            <a:chOff x="536400" y="1981080"/>
            <a:chExt cx="8242560" cy="4542120"/>
          </a:xfrm>
        </p:grpSpPr>
        <p:pic>
          <p:nvPicPr>
            <p:cNvPr id="5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536400" y="1981080"/>
              <a:ext cx="8242560" cy="454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39640" y="1989000"/>
              <a:ext cx="8229600" cy="45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Исторические этапы откры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освоенность территорий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физико-географические особенност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эконом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территории проживания этнических народ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030a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7030a0"/>
                  </a:solidFill>
                  <a:latin typeface="Calibri"/>
                </a:rPr>
                <a:t>культурно-исторические характерист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4" descr="D:\Гот.к уроку 2013\ОБЖ 9\12i.jpg"/>
          <p:cNvPicPr/>
          <p:nvPr/>
        </p:nvPicPr>
        <p:blipFill>
          <a:blip r:embed="rId2"/>
          <a:stretch/>
        </p:blipFill>
        <p:spPr>
          <a:xfrm>
            <a:off x="7083360" y="4645080"/>
            <a:ext cx="1889280" cy="189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:\Гот.к уроку 2013\ОБЖ 9\forum-15-12-11.jpg"/>
          <p:cNvPicPr/>
          <p:nvPr/>
        </p:nvPicPr>
        <p:blipFill>
          <a:blip r:embed="rId3"/>
          <a:stretch/>
        </p:blipFill>
        <p:spPr>
          <a:xfrm>
            <a:off x="244440" y="-6480"/>
            <a:ext cx="15969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ногообразие реги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4149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Старый и Новый  Св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Ойкумена  и неосвоенные регио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Сахара и  Гимала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Памир и  Западно-Сибирская низменность Западная Европа и  Тропическая Африка, Латинская Америка и Ближний Вос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ндокитай  и Вест-Инд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D:\Гот.к уроку 2013\ОБЖ 9\800pxlocationantarctica.png"/>
          <p:cNvPicPr/>
          <p:nvPr/>
        </p:nvPicPr>
        <p:blipFill>
          <a:blip r:embed="rId1"/>
          <a:stretch/>
        </p:blipFill>
        <p:spPr>
          <a:xfrm>
            <a:off x="684360" y="1052640"/>
            <a:ext cx="73818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инцип строения культурно-исторических регио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ложная многоступенчатая струк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Западная Европа : Южная, Центральная, Северная и Британские остро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( в Великобритании есть Англия, Шотландия и Уэльс, во Франции-Лотарингия, Эльзас, Бретань, Прованс, Бургундия, Лангедок; в Германии- Бавария, Тюрингия, Саксон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Зарубежная Азия: Юго-Западная, Южная, Восточная, Юго-Восточная и Центральная ( после распада СССР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Англоязычная Америка :США и Кан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</a:rPr>
              <a:t>Латинская Америка: Мексика, Центральная Америка, Вест-Индия, Андские страны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кономические и социальные контрасты в м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Гот.к уроку 2013\ГЕО 11\m2.jpg"/>
          <p:cNvPicPr/>
          <p:nvPr/>
        </p:nvPicPr>
        <p:blipFill>
          <a:blip r:embed="rId1"/>
          <a:stretch/>
        </p:blipFill>
        <p:spPr>
          <a:xfrm>
            <a:off x="179280" y="1341360"/>
            <a:ext cx="4232520" cy="482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Гот.к уроку 2013\ГЕО 11\worldvvp.gif"/>
          <p:cNvPicPr/>
          <p:nvPr/>
        </p:nvPicPr>
        <p:blipFill>
          <a:blip r:embed="rId2"/>
          <a:stretch/>
        </p:blipFill>
        <p:spPr>
          <a:xfrm>
            <a:off x="5076720" y="1052640"/>
            <a:ext cx="36626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Наиболее богатые и наиболее бедные страны – это всего лишь своеобразные «полюсы». окруженные переходным фоном множества других стран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Гот.к уроку 2013\ОБЖ 9\i.24jpg.jpg"/>
          <p:cNvPicPr/>
          <p:nvPr/>
        </p:nvPicPr>
        <p:blipFill>
          <a:blip r:embed="rId1"/>
          <a:stretch/>
        </p:blipFill>
        <p:spPr>
          <a:xfrm>
            <a:off x="5651640" y="4581360"/>
            <a:ext cx="3093840" cy="193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Гот.к уроку 2013\ОБЖ 9\i.jpg2.jpg"/>
          <p:cNvPicPr/>
          <p:nvPr/>
        </p:nvPicPr>
        <p:blipFill>
          <a:blip r:embed="rId2"/>
          <a:stretch/>
        </p:blipFill>
        <p:spPr>
          <a:xfrm>
            <a:off x="324000" y="1844640"/>
            <a:ext cx="2663640" cy="23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Гот.к уроку 2013\ОБЖ 9\i37jpg.jpg"/>
          <p:cNvPicPr/>
          <p:nvPr/>
        </p:nvPicPr>
        <p:blipFill>
          <a:blip r:embed="rId3"/>
          <a:stretch/>
        </p:blipFill>
        <p:spPr>
          <a:xfrm>
            <a:off x="2340000" y="3927600"/>
            <a:ext cx="2879640" cy="25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:\Гот.к уроку 2013\ОБЖ 9\15i.jpg"/>
          <p:cNvPicPr/>
          <p:nvPr/>
        </p:nvPicPr>
        <p:blipFill>
          <a:blip r:embed="rId4"/>
          <a:stretch/>
        </p:blipFill>
        <p:spPr>
          <a:xfrm>
            <a:off x="5724360" y="2349360"/>
            <a:ext cx="2951280" cy="19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D:\Гот.к уроку 2013\ОБЖ 9\i35jpg.jpg"/>
          <p:cNvPicPr/>
          <p:nvPr/>
        </p:nvPicPr>
        <p:blipFill>
          <a:blip r:embed="rId5"/>
          <a:stretch/>
        </p:blipFill>
        <p:spPr>
          <a:xfrm>
            <a:off x="3203640" y="2133720"/>
            <a:ext cx="2251080" cy="15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:\Гот.к уроку 2013\ОБЖ 9\i.23jpg.jpg"/>
          <p:cNvPicPr/>
          <p:nvPr/>
        </p:nvPicPr>
        <p:blipFill>
          <a:blip r:embed="rId6"/>
          <a:stretch/>
        </p:blipFill>
        <p:spPr>
          <a:xfrm>
            <a:off x="250920" y="47973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тоды подсчета национального  богатства стр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учет человече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рирод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и воспроизводимого капит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D:\Гот.к уроку 2013\ОБЖ 9\13.jpg"/>
          <p:cNvPicPr/>
          <p:nvPr/>
        </p:nvPicPr>
        <p:blipFill>
          <a:blip r:embed="rId1"/>
          <a:stretch/>
        </p:blipFill>
        <p:spPr>
          <a:xfrm>
            <a:off x="468360" y="3357720"/>
            <a:ext cx="2879640" cy="191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D:\Гот.к уроку 2013\ОБЖ 9\i.22jpg.jpg"/>
          <p:cNvPicPr/>
          <p:nvPr/>
        </p:nvPicPr>
        <p:blipFill>
          <a:blip r:embed="rId2"/>
          <a:stretch/>
        </p:blipFill>
        <p:spPr>
          <a:xfrm>
            <a:off x="5724360" y="1773360"/>
            <a:ext cx="300996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D:\Гот.к уроку 2013\ОБЖ 9\i32jpg.jpg"/>
          <p:cNvPicPr/>
          <p:nvPr/>
        </p:nvPicPr>
        <p:blipFill>
          <a:blip r:embed="rId3"/>
          <a:stretch/>
        </p:blipFill>
        <p:spPr>
          <a:xfrm>
            <a:off x="4572000" y="4365720"/>
            <a:ext cx="26640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Центры экономической мощи вчера и сегод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128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о второй половине  ХХ века ведущую роль в мировой экономике и политике играли 4 центра: США, Западная Европа, Япония, ССС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В результате высоких темпов роста экономики Китая на рубеже ХХ-ХХ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вв. в мире появился новый перспективный центр экономической мощ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Главными центрами мировой экономики сегодня являются США, Западная Европа, Япония, Ки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17:40:21Z</dcterms:created>
  <dc:creator>OLDI</dc:creator>
  <dc:description/>
  <dc:language>en-US</dc:language>
  <cp:lastModifiedBy>OLDI</cp:lastModifiedBy>
  <dcterms:modified xsi:type="dcterms:W3CDTF">2013-10-27T19:50:52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1e0000000000010250300207f7000400038000</vt:lpwstr>
  </property>
</Properties>
</file>