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418-4FC5-45DA-9CCB-BFC9817B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9E3-2EF6-43D6-A135-61F7261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706-EA59-4768-9B4D-872FE46A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187-38DF-4566-AFDF-AEFFDD4F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940-558A-4288-AC9C-1C1CB89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A44-9FBF-4082-AB9F-6A2E473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4AE-58B5-4A1A-B2E3-07F1249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343-2F14-4E43-8A11-20F6E53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340-FCA5-403E-AAC1-448DE6F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6E7-B05C-4470-A279-EA8661F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B66-2EDD-4D31-81E4-9D8D2C0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7AE-5791-4B6B-9D38-976F4F2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431-4DAE-4C1D-AE27-02A6A15F5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ru.wikipedia.org/wiki/&#1043;&#1077;&#1085;&#1077;&#1088;&#1072;&#1083;&#1100;&#1085;&#1072;&#1103;_&#1040;&#1089;&#1089;&#1072;&#1084;&#1073;&#1083;&#1077;&#1103;_&#1054;&#1054;&#1053;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017720" y="1371600"/>
            <a:ext cx="6864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6486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а часть света: 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09-10 учебный год\география\а (42).jpg"/>
          <p:cNvPicPr/>
          <p:nvPr/>
        </p:nvPicPr>
        <p:blipFill>
          <a:blip r:embed="rId1"/>
          <a:stretch/>
        </p:blipFill>
        <p:spPr>
          <a:xfrm>
            <a:off x="1214280" y="1243080"/>
            <a:ext cx="3571920" cy="512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:\09-10 учебный год\география\а (50)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29000" cy="519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09-10 учебный год\география\животные\жив (40).jpg"/>
          <p:cNvPicPr/>
          <p:nvPr/>
        </p:nvPicPr>
        <p:blipFill>
          <a:blip r:embed="rId3"/>
          <a:stretch/>
        </p:blipFill>
        <p:spPr>
          <a:xfrm>
            <a:off x="6667560" y="500076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:\09-10 учебный год\география\сова.jpg"/>
          <p:cNvPicPr/>
          <p:nvPr/>
        </p:nvPicPr>
        <p:blipFill>
          <a:blip r:embed="rId4"/>
          <a:stretch/>
        </p:blipFill>
        <p:spPr>
          <a:xfrm>
            <a:off x="0" y="4187880"/>
            <a:ext cx="1928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D:\09-10 учебный год\география\а (16)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09-10 учебный год\география\животные\жив (49).jpg"/>
          <p:cNvPicPr/>
          <p:nvPr/>
        </p:nvPicPr>
        <p:blipFill>
          <a:blip r:embed="rId2"/>
          <a:stretch/>
        </p:blipFill>
        <p:spPr>
          <a:xfrm>
            <a:off x="142920" y="3143160"/>
            <a:ext cx="4954680" cy="371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09-10 учебный год\география\вебла.jpg"/>
          <p:cNvPicPr/>
          <p:nvPr/>
        </p:nvPicPr>
        <p:blipFill>
          <a:blip r:embed="rId3"/>
          <a:stretch/>
        </p:blipFill>
        <p:spPr>
          <a:xfrm>
            <a:off x="1285920" y="1285920"/>
            <a:ext cx="1990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09-10 учебный год\география\а (25).jpg"/>
          <p:cNvPicPr/>
          <p:nvPr/>
        </p:nvPicPr>
        <p:blipFill>
          <a:blip r:embed="rId1"/>
          <a:stretch/>
        </p:blipFill>
        <p:spPr>
          <a:xfrm>
            <a:off x="1434960" y="1455840"/>
            <a:ext cx="7499520" cy="478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09-10 учебный год\география\животные\жив (43).jpg"/>
          <p:cNvPicPr/>
          <p:nvPr/>
        </p:nvPicPr>
        <p:blipFill>
          <a:blip r:embed="rId2"/>
          <a:stretch/>
        </p:blipFill>
        <p:spPr>
          <a:xfrm>
            <a:off x="6257880" y="4314960"/>
            <a:ext cx="2886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09-10 учебный год\география\а (69).jpg"/>
          <p:cNvPicPr/>
          <p:nvPr/>
        </p:nvPicPr>
        <p:blipFill>
          <a:blip r:embed="rId1"/>
          <a:stretch/>
        </p:blipFill>
        <p:spPr>
          <a:xfrm>
            <a:off x="500040" y="1285920"/>
            <a:ext cx="84265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: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А РАСПОЛО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4240" y="1571400"/>
            <a:ext cx="4143600" cy="4857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РА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ДИЛЬ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ЭЙ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АЛ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ЫЙ ПОЛЯР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29120" y="1571760"/>
            <a:ext cx="3857760" cy="480672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 ЯНЦ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. ТИТИК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-ЙО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гран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2880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 изучаем текст § 24 на с. 91 учебника и схематично изображаем границы территорий на контурной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642960" y="3076560"/>
            <a:ext cx="7620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мир объединя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Какова роль Совета Безопасности в структуре ОО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Кто является постоянными членами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Как избираются другие члены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4. Какие последние решения Совбеза были приня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un.org/russian/sc/images/meeting06.jpg"/>
          <p:cNvPicPr/>
          <p:nvPr/>
        </p:nvPicPr>
        <p:blipFill>
          <a:blip r:embed="rId1"/>
          <a:stretch/>
        </p:blipFill>
        <p:spPr>
          <a:xfrm>
            <a:off x="857160" y="1357200"/>
            <a:ext cx="7353360" cy="2352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 безопасности О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920" y="378612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став Совета входят 15 государств-членов — 5 постоянных и 10 непостоянных, избираемых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енеральной Ассамблеей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а двухлетний срок по 5 каждый год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оянные члены совбеза ООН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71720"/>
            <a:ext cx="3828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Великобритания"/>
          <p:cNvPicPr/>
          <p:nvPr/>
        </p:nvPicPr>
        <p:blipFill>
          <a:blip r:embed="rId2"/>
          <a:stretch/>
        </p:blipFill>
        <p:spPr>
          <a:xfrm>
            <a:off x="4281480" y="1320840"/>
            <a:ext cx="642960" cy="32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итайская Народная Республика"/>
          <p:cNvPicPr/>
          <p:nvPr/>
        </p:nvPicPr>
        <p:blipFill>
          <a:blip r:embed="rId3"/>
          <a:stretch/>
        </p:blipFill>
        <p:spPr>
          <a:xfrm>
            <a:off x="4286160" y="1832040"/>
            <a:ext cx="64296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Россия"/>
          <p:cNvPicPr/>
          <p:nvPr/>
        </p:nvPicPr>
        <p:blipFill>
          <a:blip r:embed="rId4"/>
          <a:stretch/>
        </p:blipFill>
        <p:spPr>
          <a:xfrm>
            <a:off x="4286160" y="2357280"/>
            <a:ext cx="642960" cy="4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Соединённые Штаты Америки"/>
          <p:cNvPicPr/>
          <p:nvPr/>
        </p:nvPicPr>
        <p:blipFill>
          <a:blip r:embed="rId5"/>
          <a:stretch/>
        </p:blipFill>
        <p:spPr>
          <a:xfrm>
            <a:off x="4286160" y="2906640"/>
            <a:ext cx="642960" cy="35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Франция"/>
          <p:cNvPicPr/>
          <p:nvPr/>
        </p:nvPicPr>
        <p:blipFill>
          <a:blip r:embed="rId6"/>
          <a:stretch/>
        </p:blipFill>
        <p:spPr>
          <a:xfrm>
            <a:off x="4286160" y="3429000"/>
            <a:ext cx="642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ты намерены потребовать от коллег по Совету безопасности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нять действовавший в отношении Ирака запрет на развитие ядерной энергетики и другие санкции, так как тот благодаря войне достиг «серьезных успех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99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редставление о географических регионах плане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Познакомить учащихся с деятельностью различных международных организа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е работать с различными тематическими кар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3213000" y="231840"/>
            <a:ext cx="28767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Картинка 10 из 2226"/>
          <p:cNvPicPr/>
          <p:nvPr/>
        </p:nvPicPr>
        <p:blipFill>
          <a:blip r:embed="rId2"/>
          <a:stretch/>
        </p:blipFill>
        <p:spPr>
          <a:xfrm>
            <a:off x="7000920" y="285840"/>
            <a:ext cx="1928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ести на контурную карту главные интеграционные группировки стран мира: Европейский союз, НАФТА, АСЕАН, С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785880" y="2571840"/>
            <a:ext cx="7619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лючение урока учащиеся знакомятся с историей возникновения названий частей света (с. 93 учеб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артинка 60 из 125"/>
          <p:cNvPicPr/>
          <p:nvPr/>
        </p:nvPicPr>
        <p:blipFill>
          <a:blip r:embed="rId1"/>
          <a:stretch/>
        </p:blipFill>
        <p:spPr>
          <a:xfrm>
            <a:off x="3643200" y="3714840"/>
            <a:ext cx="207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зучить § 2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и выполнить задания посл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используя информацию сайтов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ntrust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unesco.ru/rus/index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готовьте презентацию об объектах Всемирного культурного наследия одной из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99980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 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кажите на карте материки и части све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 чем сходство и различие материко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материка по пла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страны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90172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делят Землю и ми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09-10 учебный год\география\а (1).jpg"/>
          <p:cNvPicPr/>
          <p:nvPr/>
        </p:nvPicPr>
        <p:blipFill>
          <a:blip r:embed="rId1"/>
          <a:stretch/>
        </p:blipFill>
        <p:spPr>
          <a:xfrm>
            <a:off x="0" y="1714680"/>
            <a:ext cx="9077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Земле выделяют 6 матер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09-10 учебный год\география\а (68).jpg"/>
          <p:cNvPicPr/>
          <p:nvPr/>
        </p:nvPicPr>
        <p:blipFill>
          <a:blip r:embed="rId1"/>
          <a:stretch/>
        </p:blipFill>
        <p:spPr>
          <a:xfrm>
            <a:off x="318960" y="1500120"/>
            <a:ext cx="852984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429160" y="2143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85840" y="24289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57120" y="4643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929040" y="40006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786280" y="50007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есяц 9"/>
          <p:cNvSpPr/>
          <p:nvPr/>
        </p:nvSpPr>
        <p:spPr>
          <a:xfrm rot="5400000">
            <a:off x="4772520" y="4085280"/>
            <a:ext cx="357480" cy="37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429000" y="5786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рики осваивались и изучались постепенно, поэтому их делят еще                             и на части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09-10 учебный год\география\а (41).gif"/>
          <p:cNvPicPr/>
          <p:nvPr/>
        </p:nvPicPr>
        <p:blipFill>
          <a:blip r:embed="rId1"/>
          <a:stretch/>
        </p:blipFill>
        <p:spPr>
          <a:xfrm>
            <a:off x="957240" y="1928880"/>
            <a:ext cx="818676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Правая фигурная скобка 4"/>
          <p:cNvSpPr/>
          <p:nvPr/>
        </p:nvSpPr>
        <p:spPr>
          <a:xfrm rot="10800000">
            <a:off x="713880" y="2785680"/>
            <a:ext cx="1000440" cy="271476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714760"/>
              <a:gd name="textAreaBottom" fmla="*/ 268884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3"/>
                </a:cubicBezTo>
                <a:lnTo>
                  <a:pt x="10800" y="10137"/>
                </a:lnTo>
                <a:cubicBezTo>
                  <a:pt x="10800" y="10469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3"/>
                </a:cubicBezTo>
                <a:lnTo>
                  <a:pt x="10800" y="20937"/>
                </a:lnTo>
                <a:cubicBezTo>
                  <a:pt x="10800" y="2126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285920" y="3929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286160" y="43578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143760" y="478620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Соединительная линия уступом 9"/>
          <p:cNvCxnSpPr/>
          <p:nvPr/>
        </p:nvCxnSpPr>
        <p:spPr>
          <a:xfrm rot="5400000">
            <a:off x="4464360" y="2607480"/>
            <a:ext cx="1429200" cy="357840"/>
          </a:xfrm>
          <a:prstGeom prst="bentConnector3">
            <a:avLst>
              <a:gd name="adj1" fmla="val 71327"/>
            </a:avLst>
          </a:prstGeom>
          <a:ln w="57240">
            <a:solidFill>
              <a:srgbClr val="ff0000"/>
            </a:solidFill>
            <a:miter/>
          </a:ln>
        </p:spPr>
      </p:cxnSp>
      <p:sp>
        <p:nvSpPr>
          <p:cNvPr id="67" name="TextBox 13"/>
          <p:cNvSpPr/>
          <p:nvPr/>
        </p:nvSpPr>
        <p:spPr>
          <a:xfrm>
            <a:off x="557208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857760" y="23572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В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есяц 15"/>
          <p:cNvSpPr/>
          <p:nvPr/>
        </p:nvSpPr>
        <p:spPr>
          <a:xfrm rot="5400000">
            <a:off x="4821840" y="5036400"/>
            <a:ext cx="214200" cy="21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643200" y="60008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7914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ерики-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асти свет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9976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ази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2 части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вроп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в. и Юж. Америку объединяют                   в прост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мер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фрик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стралия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арктид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09-10 учебный год\география\а (54).gif"/>
          <p:cNvPicPr/>
          <p:nvPr/>
        </p:nvPicPr>
        <p:blipFill>
          <a:blip r:embed="rId1"/>
          <a:stretch/>
        </p:blipFill>
        <p:spPr>
          <a:xfrm>
            <a:off x="6286680" y="4611600"/>
            <a:ext cx="2857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D:\09-10 учебный год\география\а (28).jpg"/>
          <p:cNvPicPr/>
          <p:nvPr/>
        </p:nvPicPr>
        <p:blipFill>
          <a:blip r:embed="rId1"/>
          <a:stretch/>
        </p:blipFill>
        <p:spPr>
          <a:xfrm>
            <a:off x="1643040" y="1285920"/>
            <a:ext cx="6796080" cy="5214960"/>
          </a:xfrm>
          <a:prstGeom prst="rect">
            <a:avLst/>
          </a:prstGeom>
          <a:ln w="0">
            <a:noFill/>
          </a:ln>
        </p:spPr>
      </p:pic>
      <p:cxnSp>
        <p:nvCxnSpPr>
          <p:cNvPr id="76" name="Соединительная линия уступом 5"/>
          <p:cNvCxnSpPr/>
          <p:nvPr/>
        </p:nvCxnSpPr>
        <p:spPr>
          <a:xfrm rot="5400000">
            <a:off x="5357160" y="3071520"/>
            <a:ext cx="3143880" cy="857880"/>
          </a:xfrm>
          <a:prstGeom prst="bentConnector3">
            <a:avLst>
              <a:gd name="adj1" fmla="val 83405"/>
            </a:avLst>
          </a:prstGeom>
          <a:ln w="57240">
            <a:solidFill>
              <a:srgbClr val="ff0000"/>
            </a:solidFill>
            <a:miter/>
          </a:ln>
        </p:spPr>
      </p:cxnSp>
      <p:pic>
        <p:nvPicPr>
          <p:cNvPr id="77" name="Picture 5" descr="D:\09-10 учебный год\география\животные\жив (4).jpg"/>
          <p:cNvPicPr/>
          <p:nvPr/>
        </p:nvPicPr>
        <p:blipFill>
          <a:blip r:embed="rId2"/>
          <a:stretch/>
        </p:blipFill>
        <p:spPr>
          <a:xfrm>
            <a:off x="6603840" y="4952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:\09-10 учебный год\география\мандарин.jpg"/>
          <p:cNvPicPr/>
          <p:nvPr/>
        </p:nvPicPr>
        <p:blipFill>
          <a:blip r:embed="rId3"/>
          <a:stretch/>
        </p:blipFill>
        <p:spPr>
          <a:xfrm>
            <a:off x="0" y="0"/>
            <a:ext cx="274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09-10 учебный год\география\а (22).jpg"/>
          <p:cNvPicPr/>
          <p:nvPr/>
        </p:nvPicPr>
        <p:blipFill>
          <a:blip r:embed="rId1"/>
          <a:stretch/>
        </p:blipFill>
        <p:spPr>
          <a:xfrm>
            <a:off x="1357200" y="1285920"/>
            <a:ext cx="7188480" cy="5371920"/>
          </a:xfrm>
          <a:prstGeom prst="rect">
            <a:avLst/>
          </a:prstGeom>
          <a:ln w="0">
            <a:noFill/>
          </a:ln>
        </p:spPr>
      </p:pic>
      <p:sp>
        <p:nvSpPr>
          <p:cNvPr id="81" name="Овал 6"/>
          <p:cNvSpPr/>
          <p:nvPr/>
        </p:nvSpPr>
        <p:spPr>
          <a:xfrm>
            <a:off x="1357200" y="1357200"/>
            <a:ext cx="3000600" cy="2000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D:\09-10 учебный год\география\животные\жив (45).jpg"/>
          <p:cNvPicPr/>
          <p:nvPr/>
        </p:nvPicPr>
        <p:blipFill>
          <a:blip r:embed="rId2"/>
          <a:stretch/>
        </p:blipFill>
        <p:spPr>
          <a:xfrm>
            <a:off x="857160" y="1143000"/>
            <a:ext cx="35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07:39Z</dcterms:created>
  <dc:creator>User</dc:creator>
  <dc:description/>
  <dc:language>en-US</dc:language>
  <cp:lastModifiedBy>User</cp:lastModifiedBy>
  <dcterms:modified xsi:type="dcterms:W3CDTF">2011-09-04T07:39:47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40000000000010243100207f6000400038000</vt:lpwstr>
  </property>
</Properties>
</file>