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737-E481-49BF-9B79-372554DF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D8D-934F-4D2C-9B85-2BF0D821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7A1-7789-47F5-B30D-4BFA32E5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982-3729-4146-AED8-7D46441B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08B8-D779-4289-95F0-187612C2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8837-94C3-4EAA-9D23-C9CA702A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5DA9-E4DA-477F-BD4C-5EAA3947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E050-73EE-4B3F-B766-AACBC1BF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FAB5-CA97-4AC2-8B2F-35B0253F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B620-BF9F-4DE4-B93F-CA94200D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79C0-6FF1-4BB0-BD05-24FF96C7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E39-7A3E-4DFA-B29C-DB95E063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2812-2B8C-4AE8-A45E-8BB2940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E0DF-C305-4BE8-948D-F73AC7A6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BA4D-CCB8-44F6-B584-BA8E4149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FC36-7032-4F3A-B5F1-5C664501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403D-C2D7-42DC-BDF3-E81ECF5E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9398-99AE-4EDB-9437-16BE1459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C66A-7583-41F7-8BFD-1884BDAA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1950-BEA1-46FE-A5CE-36C63203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0968-49FD-43C0-9D38-FB6A6C61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5C8B-37CB-4C0A-8A85-E5A3F411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989-9837-4BF1-953B-BE1A8C05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C7B5-C840-4A5B-A9BD-EDF2DF36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30C7-2809-4FC1-A5EE-E3EEECA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6CB5-C0C5-491A-9A54-CE7E03C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10D34-D487-4651-8617-D8B847AE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F002-EF74-4277-9E80-28A30155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2332-93F3-4B1F-AB08-96589AB7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3B83-8926-47A6-A1E0-302709F1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19CA-542C-4253-BC7A-29EA8782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C712-3C18-4E12-BB55-A9B8028C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60180-1978-42F6-8FE3-6E29931B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B51-6E21-49AD-A472-A4290A8F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CB727-BEF0-40D9-A0E5-6468329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8A5BF-3385-41D8-A41C-CBE75C5B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FA98-8F8F-4470-85FE-634E0DED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180D-E3DA-49AD-98BC-C17024E6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447A-E7F5-436C-99E9-383AC7C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D6FC-00FC-4E38-AB1E-A7FBE45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88B8E-CA89-4599-A565-F00BCE0E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A852-C017-469C-B4F9-CF98DE90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B349-349C-4A13-8D9A-6B26D1BA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1585-71A8-419F-81F8-70CB2601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5B0-C8E2-4EF5-874D-87E0B279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EC70-64D1-4929-A41F-680E0EAC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648DC-124B-45B2-8518-DAEB46F9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47E0-DF9F-4722-AB82-1BEB057C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1546F-5A7B-4438-AA44-D08FA654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2512C-8A8D-4894-948C-245909A2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1576D-9A95-458F-B5D9-EAE8EC9D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C3D9C-3622-4DE4-BB93-3C646AA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0B77B-C1F5-4146-A269-F0289462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88DF3-2AEF-448A-9FFD-15E3F3D8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A8B2F-C90A-499B-B0E0-BC7F671F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553-91F2-4BD0-A9AD-AD66DD74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C53FB-FD72-4973-AD0C-5E3FD76C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EC5E2-62AC-4ADA-8B67-F61F2192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B58D3-7888-4C57-AC79-08E31BAE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E312E-C64F-4D21-981D-C6AB88F3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47C9-0326-4571-B09A-1B7917BA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3A00-C90E-4DF5-9445-A177FE0F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8B961-0519-425A-8D1F-4752EA65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6ED09-33B5-4F63-9977-A87A739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132F3-9A74-4B0B-8D3F-676BEA67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ABF5-6F6A-428C-A87B-47B95A94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54E-6425-45DB-BBF9-6A1C750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EA694-F922-49FF-9688-27D252F3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FDA3A-9EE0-4A05-9363-FD715542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24EF6-27C6-4613-95F1-7C281E0E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4B81-B436-46E4-8440-77F3F51B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FDF50-6624-44DF-80BF-2179B3D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C7ECC-FDBF-4A92-93D6-9F3D05A7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A2CB1-7338-4F0F-8B86-DC7368E4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C015-C026-48CC-AC23-FF584263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CAEBB-C765-4F75-A200-A431D807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4DB7A-E850-4E5D-8A6B-BD7B86D5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671-5064-43A1-A0F4-99634D3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A924C-0ACF-4874-8DC9-D0ADE792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1A934-6F4F-4C4A-BCEA-FD9BAEB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60B0F-6C58-4131-993F-8B21FAA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4EF2A-4D34-4074-BB35-1FC98C19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FC1B6-9E62-41BB-BD87-398457C7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D75-CC0D-413F-AC65-A09F33A3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67C7-B090-4AE9-AFBE-A8FB9C18FC4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2385-A8D1-47DE-B5EA-39604A306C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4DC4-599A-4B7E-B7F4-14A183C1AC9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A34B-C4F4-430F-9C03-6B05350DB3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04A7-E682-4F24-B66C-07C7CD97057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56F4-DA56-4DD7-9231-266A54985D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F26A-7D39-402E-A158-161E2991D3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006560"/>
            <a:ext cx="6945120" cy="17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200" spc="-1" strike="noStrike">
                <a:solidFill>
                  <a:srgbClr val="ffffff"/>
                </a:solidFill>
                <a:latin typeface="Arial Black"/>
              </a:rPr>
              <a:t>ИТАЛИЯ</a:t>
            </a:r>
            <a:endParaRPr b="0" lang="en-US" sz="9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АСЕЛЕНИЕ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1557000"/>
            <a:ext cx="4240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Численность населения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931 г. — 41,2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960 г. — 51,0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977 г. — 56,3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000 г. — 57,7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007 г. — 60,1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труктура населения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3e87"/>
                </a:solidFill>
                <a:latin typeface="Candara"/>
              </a:rPr>
              <a:t>по полу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всего: 42,5 года; мужчины: 41,1 год; женщины: 44,1 года (на 2007 г.)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3e87"/>
                </a:solidFill>
                <a:latin typeface="Candara"/>
              </a:rPr>
              <a:t>по возрасту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т 0 до 14 лет: 13,8 % (муж 4 121 246/жен 3 874 971); от 15 до 64 лет: 66,4 % (муж 19 527 203/жен 19 059 897); 65 лет и старше: 19,9 % (муж 4 823 244/жен 6 741 172) (на 2007 г.)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5603760" y="3687840"/>
            <a:ext cx="1905120" cy="143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АДИЦИИ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250920" y="1752480"/>
            <a:ext cx="4240080" cy="4267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284720" y="1484280"/>
            <a:ext cx="4859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1800" spc="-1" strike="noStrike">
                <a:solidFill>
                  <a:srgbClr val="073e87"/>
                </a:solidFill>
                <a:latin typeface="Arial Unicode MS"/>
              </a:rPr>
              <a:t>Традиции - чересчур старые привычки целого народа. На самом деле про еду. Еду традиционную, национальную. Специфика итальянской кухни давно и всем известна - она базируется на "макаронной основе", поэтому не приемлет всякого рода "шведские столы". Везде Вам будут предложены блюда под общим названием "паста" - так называются многочисленные изделия из теста. Все будет очень вкусно, но, с точки зрения российского туриста, не пикантно. Другое исконно итальянское блюдо - пицца. Пиццерии и траттории (закусочные) в основном представляют собой типично семейные заведения и распространены повсеместно. Очень популярны изделия из морепродуктов, мясные блюда, сыр "моцарелла", а в приготовлении кофе и мороженного итальянцам нет равных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0" y="1699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Транспорт -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очень хорошо развита сеть междугородных перевозок. Для передвижения внутри страны удобны поезда и автобусы. Железнодорожные билеты при входе на перрон надо прокомпостировать. Проезд с билетом 2-го класса в вагоне 1-го ведет к штрафу. Сидячие места оплачиваются дополнительно, в отдельной кассе. Особенно хороши в Италии сверхскоростные поезда «Pendolino». При входе в автобус билеты также необходимо прокомпостировать. Все автобусные остановки - по требованию. Метро действует в Риме и Милане. Для аренды автомобиля в Италии необходимо иметь права международного образца. Очень часто итальянские компании по прокату автомобилей просят внести депозит в размере 200-300 долларов США. Рекомендуется пользоваться услугами известных систем проката автомобилей вроде EUROCAR, AVIS, HERTZ. Разницы в ценах между ними и частными конторами часто нет почти никакой, а услуг и возможностей предоставляется больше. Недорогой автомобиль в Италии можно взять на прокат примерно за 65 долларов США в день.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АНСПОР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84d3"/>
                </a:solidFill>
                <a:latin typeface="Verdana"/>
              </a:rPr>
              <a:t>ТРАНСПОРТ ИТАЛ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100" spc="-1" strike="noStrike">
                <a:solidFill>
                  <a:srgbClr val="073e87"/>
                </a:solidFill>
                <a:latin typeface="Candara"/>
              </a:rPr>
              <a:t>Италия — преимущественно горная страна. На севере — южные склоны Альп с высшей точкой Западной Европы горой Монблан (4808 м), южнее — Паданская равнина; на полуострове — горы Апеннины (высшая точка — гора Корно-Гранде, 2914 м). Действующие вулканы (Везувий, Этна); часты землетрясения. Омывающие моря — с востока Апеннинский полуостров омывается Адриатическим морем с Венецианским заливом в его северной части. Пролив Отранто между Апулией и Албанией соединяет Адриатическое море с Ионическим. Между Апулией и Калабрией глубоко внедряется в сушу залив Таранто. Очень узкий Мессинский пролив отделяет Калабрию от Сицилии, а Сицилийский (или Тунисский) пролив шириной 135 км — Сицилию от Северной Африки. Тирренское море представляет собой бассейн треугольной формы, обрамленный Сардинией, Корсикой, Тосканским архипелагом, Апеннинским полуостровом и Сицилией. К северу от Корсики находится Лигурийское море с Генуэзским заливом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ЕОГРАФИЯ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Флаг Италии"/>
          <p:cNvPicPr/>
          <p:nvPr/>
        </p:nvPicPr>
        <p:blipFill>
          <a:blip r:embed="rId1"/>
          <a:stretch/>
        </p:blipFill>
        <p:spPr>
          <a:xfrm>
            <a:off x="468360" y="2421000"/>
            <a:ext cx="4174920" cy="2782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ЕРБ И ФЛАГ ИТАЛ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5" descr="Герб Италии"/>
          <p:cNvPicPr/>
          <p:nvPr/>
        </p:nvPicPr>
        <p:blipFill>
          <a:blip r:embed="rId2"/>
          <a:stretch/>
        </p:blipFill>
        <p:spPr>
          <a:xfrm>
            <a:off x="5651640" y="2421000"/>
            <a:ext cx="2781000" cy="30956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6"/>
          <p:cNvSpPr/>
          <p:nvPr/>
        </p:nvSpPr>
        <p:spPr>
          <a:xfrm>
            <a:off x="468360" y="2421000"/>
            <a:ext cx="417492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Карта Италии"/>
          <p:cNvPicPr/>
          <p:nvPr/>
        </p:nvPicPr>
        <p:blipFill>
          <a:blip r:embed="rId1"/>
          <a:stretch/>
        </p:blipFill>
        <p:spPr>
          <a:xfrm>
            <a:off x="1908000" y="1484280"/>
            <a:ext cx="5040360" cy="51847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арта Итал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лимат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лимат средиземноморский. Средние температуры января от 0 до 12 °C, июля 20—28°C; осадки преимущественно зимой (600—1000 мм в год, в горах местами свыше 3000 мм). 25 % территории Италии — леса и кустарни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еки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, Адидже, Брента, Арно и Тибр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зёр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арда, Лаго-Маджоре, Комо, Больсена, Изео и д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лезные ископаемые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Италии большое разнообразие полезных ископаемых. Но месторождения многих из них невелики по запасам, распылены по территории страны, нередко залегают неудобно для разработки. Так, в 1982 г. в стране была полностью прекращена добыча железной руды, в том числе и на острове Эльба, на котором железо добывали еще этрус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2241720" y="2847960"/>
            <a:ext cx="4668840" cy="31050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ЛАГО-МАДЖОРЕ (озеро Италии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-181080" y="1483920"/>
            <a:ext cx="9136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000" spc="-1" strike="noStrike">
                <a:solidFill>
                  <a:srgbClr val="5eaeff"/>
                </a:solidFill>
                <a:latin typeface="Candara"/>
              </a:rPr>
              <a:t>Столица государства — Рим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Италия — высокоразвитая индустриально-аграрная страна. Преимущественно индустриальный и высокоразвитый север и бедный, аграрный юг. Валовой национальный продукт на душу населения 30000 долларов в год. Ведущие отрасли промышленности: машиностроение, металлургия, химическая и нефтехимическая, лёгкая и пищевая. Италия входит в число крупнейших производителей и поставщиков на мировой рынок автомобилей, велосипедов и мопедов, тракторов, стиральных машин и холодильников, пишущих и счётных машин, радиоэлектронной продукции, промышленного оборудования, стальных труб, пластмасс и химических волокон, автомобильных шин, а также готовой одежды и кожаной обуви, макарон, сыра, оливкового масла, вина, фруктовых и томатных консервов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кономи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9165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ИМ (Колизей)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0" y="141264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500" spc="-1" strike="noStrike">
                <a:solidFill>
                  <a:srgbClr val="073e87"/>
                </a:solidFill>
                <a:latin typeface="Candara"/>
              </a:rPr>
              <a:t>Крупное производство цемента, натуральных эссенций и эфирных масел из цветов и фруктов, художественных изделий из стекла и фаянса, ювелирных изделий. Добыча пиритов, руд ртути, природного газа, калийной соли, доломитов, асбеста. В сельском хозяйстве преобладает растениеводство. Основные культуры — пшеница, кукуруза, рис (1-е место по сбору в Европе; свыше 1 млн т. в год), сахарная свёкла. Италия — один из крупнейших в мире и ведущий в Европе производитель цитрусовых (свыше 3,3 млн т. в год), томатов (свыше 5,5 млн т.), винограда (около 10 млн т. в год; свыше 90 % перерабатывается в вино), оливок. Цветоводство. Развито птицеводство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cashik</dc:creator>
  <dc:description/>
  <dc:language>en-US</dc:language>
  <cp:lastModifiedBy>Денис</cp:lastModifiedBy>
  <dcterms:modified xsi:type="dcterms:W3CDTF">2012-05-15T15:22:11Z</dcterms:modified>
  <cp:revision>4</cp:revision>
  <dc:subject/>
  <dc:title>ИТАЛИЯ</dc:title>
</cp:coreProperties>
</file>