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82E-0892-4C0B-AEEE-E03C71DC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63A-49FC-43BC-86BB-32B0221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30B-6A65-43DC-BD27-FBAB8545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BB0-DA8D-486C-96D6-82AC8516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6FE6-3963-49F1-A07D-ECC73D61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72A0-81CC-4194-8504-4ECC529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939-7F44-434A-B455-F603619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201-2028-4873-85CA-80C047B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4D8-0305-48D0-9172-8CFE9A9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64F-FB0F-4D38-BCC1-48082ACD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35D6-74D3-4EA6-A80D-80BD9521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074-9ABD-4BA4-9549-0771F19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E92-8554-4ECE-AC0E-36FF4527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CD4-A118-498F-ABB2-F0F9615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5DC5-0783-49C3-998A-D18A801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D89-A530-493E-B464-A7435AF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04A5-15E3-4A02-80DC-3C2AEDF1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4EE8-8E10-4A00-A920-5CE034B2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2303-7D2D-4694-9CB1-2556CF7D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1FE2-AB56-4837-B204-529E83B4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3C68-2E39-4670-A1A2-8BAFCDC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CA23-BCE4-444F-AD85-278639D7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14C-9DE1-468F-87CA-7BBB24F6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2BA8-F003-4138-AC7F-2C6B592D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76FE-946C-4879-B5DB-7ED2218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AB5A-CEA3-4311-8001-52A18BF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FA52-4A83-4ACF-B6F5-6AFBD5B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5288-7DEF-4351-95A9-A2BC3720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E17C-DA5C-414B-8CAB-3360758C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EED2-0E30-45B4-A8BC-655161E2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6B44-2E8C-4EFB-9A91-8B16D9AE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EC7D-671E-4621-BB9D-2F6EB6E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1DC4-E771-47E4-A8FE-9D6FE1F6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E04-3E1F-4F4B-A1AC-CF09C52A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EB23-CDC4-4F5B-A533-CA97D37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A408-51BA-40D1-80F2-8716A19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8B77-7446-4606-A021-059D81A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7955-2691-45C3-85E6-EEA7A7F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A044-FF3E-4928-8A36-2B0F5F9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BF35-B08A-4606-B7B0-63B9FC4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91E5-18F9-4EA2-85FE-2ADF231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EB6F-54FA-486E-8826-52CFF932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F271-A58F-409B-B818-DE73562B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F5EC-EC5B-4C8D-8FC3-E1CB910A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24B-8743-4C90-8E16-05C58C10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72FC-BEF9-4971-B0C4-F4D5835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F0C6-F64F-4C5E-994B-D5E3F04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FDA84-E798-41E1-BB69-D2861129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3409-03B9-4556-8A29-54BD959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3EE3-E35B-478D-818D-7F25018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435A-35F4-4C26-9841-294F6B5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74C7-6628-4493-82FC-2E2B0FE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005B-F05F-42B4-A4FF-ED03720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7EDD-6D9A-47EF-BCC8-07FD7846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7221-8E2C-4AF1-829D-7A8946F5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03B-B1DF-4601-B4DE-BF89B3D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AEC0-7529-4923-A782-A6DF38C1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D4E6-DC30-4C2A-B5C8-146C2F82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F6CB-4834-446E-9F1F-D3625C3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50A2-BE84-4EB2-8895-CB79B4D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AA39-6DE8-4167-8C25-1A916109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1B79-71DB-45FD-88E5-4F664877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B25B-1FD4-4ED7-8A0E-11471B7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992E-E73E-4A6C-B1C7-6A0B0AE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F55A-09EE-4763-8BD6-CBFC2EFA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1C96A-9363-4113-9268-8970E5A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3F3-36FE-4A8C-8892-C2340C0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1968F-26CD-4A54-AF92-7C04640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A9B2-7E28-47C2-901D-38C97C64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4D17-E274-46C3-9CD2-C5AD4B04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73B9-FBB1-4DA4-A830-D3BFBE7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41BE-8F17-456B-8F55-A793917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505E-CAFB-4C52-8FF1-0B3C92A1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E092-1E29-4030-A9E7-204788B6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6756-DE97-497C-8921-626091A2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40DD4-6DEE-4A14-B4BF-547BFFC3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0F1C-FCBB-4B6A-8E56-611D5CB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389-C2ED-416C-B96C-C8C2EB9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F816-F6B3-41DC-AA27-136B3C5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65A6-8BD5-49B0-B93E-85C260A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48CD-1840-49F2-A225-D006286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18E4-7EA1-4453-8FFB-4011D126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CE6C-2264-4D49-9D4A-B3208667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BAA-1599-4B3F-8D51-486B9BF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5B4-5D83-4655-B1FF-7886A674AD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4AF-BD1A-4A7F-9001-1BA4F1B0D0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925A-8717-4157-B4E8-9CAD66A830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3A3B-9F66-4BE6-9C9A-6A15E587FF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815C-435B-46D7-B0C5-917E636DED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A6E-DB6C-47C3-A4E2-EA79AC856E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757B-5EDD-4CBB-89A3-6404FD7B27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006560"/>
            <a:ext cx="6945120" cy="17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ffffff"/>
                </a:solidFill>
                <a:latin typeface="Arial Black"/>
              </a:rPr>
              <a:t>ИТАЛИЯ</a:t>
            </a:r>
            <a:endParaRPr b="0" lang="en-US" sz="9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СЕЛЕНИЕ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0920" y="1557000"/>
            <a:ext cx="4240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Численность населения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31 г. — 41,2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60 г. — 51,0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1977 г. — 56,3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0 г. — 57,7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07 г. — 60,1 млн чел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Структура населен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пол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всего: 42,5 года; мужчины: 41,1 год; женщины: 44,1 года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73e87"/>
                </a:solidFill>
                <a:latin typeface="Candara"/>
              </a:rPr>
              <a:t>по возрасту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т 0 до 14 лет: 13,8 % (муж 4 121 246/жен 3 874 971); от 15 до 64 лет: 66,4 % (муж 19 527 203/жен 19 059 897); 65 лет и старше: 19,9 % (муж 4 823 244/жен 6 741 172) (на 2007 г.)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5603760" y="3687840"/>
            <a:ext cx="1905120" cy="143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ДИЦИ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250920" y="1752480"/>
            <a:ext cx="4240080" cy="42674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284720" y="1484280"/>
            <a:ext cx="485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800" spc="-1" strike="noStrike">
                <a:solidFill>
                  <a:srgbClr val="073e87"/>
                </a:solidFill>
                <a:latin typeface="Arial Unicode MS"/>
              </a:rPr>
              <a:t>Традиции - чересчур старые привычки целого народа. На самом деле про еду. Еду традиционную, национальную. Специфика итальянской кухни давно и всем известна - она базируется на "макаронной основе", поэтому не приемлет всякого рода "шведские столы". Везде Вам будут предложены блюда под общим названием "паста" - так называются многочисленные изделия из теста. Все будет очень вкусно, но, с точки зрения российского туриста, не пикантно. Другое исконно итальянское блюдо - пицца. Пиццерии и траттории (закусочные) в основном представляют собой типично семейные заведения и распространены повсеместно. Очень популярны изделия из морепродуктов, мясные блюда, сыр "моцарелла", а в приготовлении кофе и мороженного итальянцам нет равных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0" y="1699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Транспорт -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очень хорошо развита сеть междугородных перевозок. Для передвижения внутри страны удобны поезда и автобусы. Железнодорожные билеты при входе на перрон надо прокомпостировать. Проезд с билетом 2-го класса в вагоне 1-го ведет к штрафу. Сидячие места оплачиваются дополнительно, в отдельной кассе. Особенно хороши в Италии сверхскоростные поезда «Pendolino». При входе в автобус билеты также необходимо прокомпостировать. Все автобусные остановки - по требованию. Метро действует в Риме и Милане. Для аренды автомобиля в Италии необходимо иметь права международного образца. Очень часто итальянские компании по прокату автомобилей просят внести депозит в размере 200-300 долларов США. Рекомендуется пользоваться услугами известных систем проката автомобилей вроде EUROCAR, AVIS, HERTZ. Разницы в ценах между ними и частными конторами часто нет почти никакой, а услуг и возможностей предоставляется больше. Недорогой автомобиль в Италии можно взять на прокат примерно за 65 долларов США в день.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584d3"/>
                </a:solidFill>
                <a:latin typeface="Verdana"/>
              </a:rPr>
              <a:t>ТРАНСПОРТ ИТАЛ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100" spc="-1" strike="noStrike">
                <a:solidFill>
                  <a:srgbClr val="073e87"/>
                </a:solidFill>
                <a:latin typeface="Candara"/>
              </a:rPr>
              <a:t>Италия — преимущественно горная страна. На севере — южные склоны Альп с высшей точкой Западной Европы горой Монблан (4808 м), южнее — Паданская равнина; на полуострове — горы Апеннины (высшая точка — гора Корно-Гранде, 2914 м). Действующие вулканы (Везувий, Этна); часты землетрясения. Омывающие моря — с востока Апеннинский полуостров омывается Адриатическим морем с Венецианским заливом в его северной части. Пролив Отранто между Апулией и Албанией соединяет Адриатическое море с Ионическим. Между Апулией и Калабрией глубоко внедряется в сушу залив Таранто. Очень узкий Мессинский пролив отделяет Калабрию от Сицилии, а Сицилийский (или Тунисский) пролив шириной 135 км — Сицилию от Северной Африки. Тирренское море представляет собой бассейн треугольной формы, обрамленный Сардинией, Корсикой, Тосканским архипелагом, Апеннинским полуостровом и Сицилией. К северу от Корсики находится Лигурийское море с Генуэзским заливом.</a:t>
            </a:r>
            <a:endParaRPr b="0" lang="en-US" sz="2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ОГРАФИЯ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Флаг Италии"/>
          <p:cNvPicPr/>
          <p:nvPr/>
        </p:nvPicPr>
        <p:blipFill>
          <a:blip r:embed="rId1"/>
          <a:stretch/>
        </p:blipFill>
        <p:spPr>
          <a:xfrm>
            <a:off x="468360" y="2421000"/>
            <a:ext cx="4174920" cy="2782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ЕРБ И ФЛАГ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5" descr="Герб Италии"/>
          <p:cNvPicPr/>
          <p:nvPr/>
        </p:nvPicPr>
        <p:blipFill>
          <a:blip r:embed="rId2"/>
          <a:stretch/>
        </p:blipFill>
        <p:spPr>
          <a:xfrm>
            <a:off x="5651640" y="2421000"/>
            <a:ext cx="2781000" cy="3095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6"/>
          <p:cNvSpPr/>
          <p:nvPr/>
        </p:nvSpPr>
        <p:spPr>
          <a:xfrm>
            <a:off x="468360" y="2421000"/>
            <a:ext cx="41749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Карта Италии"/>
          <p:cNvPicPr/>
          <p:nvPr/>
        </p:nvPicPr>
        <p:blipFill>
          <a:blip r:embed="rId1"/>
          <a:stretch/>
        </p:blipFill>
        <p:spPr>
          <a:xfrm>
            <a:off x="1908000" y="1484280"/>
            <a:ext cx="5040360" cy="5184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арта Итал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лимат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лимат средиземноморский. Средние температуры января от 0 до 12 °C, июля 20—28°C; осадки преимущественно зимой (600—1000 мм в год, в горах местами свыше 3000 мм). 25 % территории Италии — леса и кустарни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еки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, Адидже, Брента, Арно и Тибр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зёр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арда, Лаго-Маджоре, Комо, Больсена, Изео и д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езные ископаемы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Италии большое разнообразие полезных ископаемых. Но месторождения многих из них невелики по запасам, распылены по территории страны, нередко залегают неудобно для разработки. Так, в 1982 г. в стране была полностью прекращена добыча железной руды, в том числе и на острове Эльба, на котором железо добывали еще этрус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2241720" y="2847960"/>
            <a:ext cx="4668840" cy="3105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ЛАГО-МАДЖОРЕ (озеро Итали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-181080" y="1483920"/>
            <a:ext cx="9136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5eaeff"/>
                </a:solidFill>
                <a:latin typeface="Candara"/>
              </a:rPr>
              <a:t>Столица государства — Рим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талия — высокоразвитая индустриально-аграрная страна. Преимущественно индустриальный и высокоразвитый север и бедный, аграрный юг. Валовой национальный продукт на душу населения 30000 долларов в год. Ведущие отрасли промышленности: машиностроение, металлургия, химическая и нефтехимическая, лёгкая и пищевая. Италия входит в число крупнейших производителей и поставщиков на мировой рынок автомобилей, велосипедов и мопедов, тракторов, стиральных машин и холодильников, пишущих и счётных машин, радиоэлектронной продукции, промышленного оборудования, стальных труб, пластмасс и химических волокон, автомобильных шин, а также готовой одежды и кожаной обуви, макарон, сыра, оливкового масла, вина, фруктовых и томатных консерв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кономи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916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ИМ (Колизей)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0" y="141264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500" spc="-1" strike="noStrike">
                <a:solidFill>
                  <a:srgbClr val="073e87"/>
                </a:solidFill>
                <a:latin typeface="Candara"/>
              </a:rPr>
              <a:t>Крупное производство цемента, натуральных эссенций и эфирных масел из цветов и фруктов, художественных изделий из стекла и фаянса, ювелирных изделий. Добыча пиритов, руд ртути, природного газа, калийной соли, доломитов, асбеста. В сельском хозяйстве преобладает растениеводство. Основные культуры — пшеница, кукуруза, рис (1-е место по сбору в Европе; свыше 1 млн т. в год), сахарная свёкла. Италия — один из крупнейших в мире и ведущий в Европе производитель цитрусовых (свыше 3,3 млн т. в год), томатов (свыше 5,5 млн т.), винограда (около 10 млн т. в год; свыше 90 % перерабатывается в вино), оливок. Цветоводство. Развито птицеводство.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cashik</dc:creator>
  <dc:description/>
  <dc:language>en-US</dc:language>
  <cp:lastModifiedBy>Денис</cp:lastModifiedBy>
  <dcterms:modified xsi:type="dcterms:W3CDTF">2012-05-15T15:22:11Z</dcterms:modified>
  <cp:revision>4</cp:revision>
  <dc:subject/>
  <dc:title>ИТАЛИЯ</dc:title>
</cp:coreProperties>
</file>