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B7A-C65E-4AF2-9FB5-B4CC7CB5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A79-51E5-4955-8DC9-907C9452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EA1-0A55-40D1-96F4-6E5131B3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44D-31B8-4E1E-BA1C-C34EFF85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0740-342D-4EF3-8BB4-083F7AD5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71DB-0544-408E-9F61-E46DA82F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0E0E-5121-4508-822C-671B49E0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272A-89A1-4AA6-A4E7-7B21BEC5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D337-D468-4264-BA2B-8034E2B6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9494-E5F2-4A55-98F9-F787319D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3A05-AEB4-423B-A6F9-8DCD3C1E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AFB-F500-49DA-B225-50B6988B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D91E-A1FE-4086-9C61-1F786BA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1A2E-E1D2-4BD2-94BE-97C65120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BDC9-BB6A-416F-B879-B96C76DC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3D68-B81D-4B59-86FF-FC0E719A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3344-AE3D-4FEE-92D7-888720F5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AF91-F123-45E5-9FE4-00807636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163A-E3B7-4A46-A83C-107BD987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86BD-874D-402D-94FE-A3A4A14A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852A-96B2-43AA-BDAB-9D1EC080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6EDF-F529-42C2-9CC6-5A818D1A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175-D6D0-4DAC-8EA5-A8111CC1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4220-AC5C-4DD2-9AED-1D01BC43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4BA7-1EAE-4066-9867-09D9080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5048-FE35-427E-9B24-0ECCE9D6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677F-0FF5-417E-8D77-D3B8629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6EC3-FECA-4729-896E-4930F89F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1A78-C50A-4109-B6F8-42381A16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BDF5-AA53-4DE3-94E1-4590F754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11F5-23AF-43F6-A4DD-B25F797E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9FA2-75F9-47F7-BC94-BDBB71A7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098F-F2EF-49BC-8F85-A7D4B5EB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CC1-060C-45F3-9F50-65B9D1D0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F876-F7CC-41C9-B314-A500979C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DF66B-51EB-443D-91FC-7A7F59E8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FA6A1-3F57-4EDB-95D0-00DBF47F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6404A-61DD-44A2-AE6A-FE0714E7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F1B5D-1C67-4694-B786-824E1BC6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63D2-5E27-457A-93A0-AA4D6888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6835-6992-4C1C-BEE9-B918DFB9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D5F0-EBEC-45C6-A4D4-DA3A0342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6F2E4-164D-4361-BCAD-9CCA7F37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E55D6-6415-4A12-81F8-67CFE2D0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CEB-0DDD-4649-B83E-D028E30B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45C8C-7B45-4EC6-AFFD-D0F20D0A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14B55-FF2A-4375-99F0-2C6E8D47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42E1E-42EA-4BFA-9BF8-1878C091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40940-DA84-4952-BB4A-E3FA4D1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64B68-8035-4DAF-B76F-9BFBE971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4C4C3-702A-4A64-80FF-178C069A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0544-8F50-48FB-89F6-4F2B0EC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BF29-6003-449F-8776-B8341B0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8D422-A0CC-4BD0-80BA-35C7FAFC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2484-47F7-4A4C-82BB-364EDC50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C64-3BFD-4F23-A189-5DB781A1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4C1A2-2B3C-4D9C-A91C-F7E50FB6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E6236-9812-430C-AFA8-517D8017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D121E-B678-47EE-A4ED-96510189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1AD29-7CCB-4997-829E-C2093C7B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D72F9-12F4-4A88-B8D4-2332C1E2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C9F62-78C6-4897-B29C-EB051E17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21C97-38E1-4202-9126-FD8A669B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2FBC-CA20-42F5-B2A8-C12C227C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F2406-900F-44D2-B1CD-9180B72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2793C-4456-4021-85EF-764ACF8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B2E-75DE-49F7-9397-6EB49E6F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BC7FA-2208-4CFA-B5BE-58E38E3B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6F45E-7C1F-43B7-A288-F83F0AD0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9980F-F470-45A6-9F23-C44EC571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9B496-5207-457A-A1B0-506E34DF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3511B-FD73-4EE7-891D-39BCE74F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86C18-0673-4E6B-B21F-F211FEDB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BC7C5-92CE-416F-80D4-9FBFF39D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EB93-4988-4673-8921-7526431E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1A51-875B-43A1-B01B-78A82AFD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D0420-592D-4C14-86E3-A42E0D9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1CE-F3B2-4CB5-8372-600C9D80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33A21-1BD5-47B5-B70D-987253C4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46D3-B812-44C1-8B01-462B395D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77235-2C0B-4C48-805D-382BFAC8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46A07-87EC-4557-86DB-5E418B78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A1257-7143-4298-8EC7-3CC022F5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6B9-5732-470F-B50A-7403163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7BE7-89BD-4D05-8D9B-E09C30BE7EF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EF46-3EA7-4E60-B2F1-14B268149A2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ABEA-9BA9-4603-9B9A-DFFBB468395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D979-74B5-4881-83BB-663DACE2058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239-DEDE-4A58-9C7B-85FA4ED3CB4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523-8799-40E0-868C-DD21C2B56F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A554-ACE1-40BD-BC20-715B4CCC92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006560"/>
            <a:ext cx="6945120" cy="17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200" spc="-1" strike="noStrike">
                <a:solidFill>
                  <a:srgbClr val="ffffff"/>
                </a:solidFill>
                <a:latin typeface="Arial Black"/>
              </a:rPr>
              <a:t>ИТАЛИЯ</a:t>
            </a:r>
            <a:endParaRPr b="0" lang="en-US" sz="9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АСЕЛЕНИЕ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1557000"/>
            <a:ext cx="4240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Численность населения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931 г. — 41,2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960 г. — 51,0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977 г. — 56,3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000 г. — 57,7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007 г. — 60,1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труктура населения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3e87"/>
                </a:solidFill>
                <a:latin typeface="Candara"/>
              </a:rPr>
              <a:t>по полу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всего: 42,5 года; мужчины: 41,1 год; женщины: 44,1 года (на 2007 г.)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3e87"/>
                </a:solidFill>
                <a:latin typeface="Candara"/>
              </a:rPr>
              <a:t>по возрасту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т 0 до 14 лет: 13,8 % (муж 4 121 246/жен 3 874 971); от 15 до 64 лет: 66,4 % (муж 19 527 203/жен 19 059 897); 65 лет и старше: 19,9 % (муж 4 823 244/жен 6 741 172) (на 2007 г.)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5603760" y="3687840"/>
            <a:ext cx="1905120" cy="143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АДИЦИИ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250920" y="1752480"/>
            <a:ext cx="4240080" cy="4267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284720" y="1484280"/>
            <a:ext cx="4859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1800" spc="-1" strike="noStrike">
                <a:solidFill>
                  <a:srgbClr val="073e87"/>
                </a:solidFill>
                <a:latin typeface="Arial Unicode MS"/>
              </a:rPr>
              <a:t>Традиции - чересчур старые привычки целого народа. На самом деле про еду. Еду традиционную, национальную. Специфика итальянской кухни давно и всем известна - она базируется на "макаронной основе", поэтому не приемлет всякого рода "шведские столы". Везде Вам будут предложены блюда под общим названием "паста" - так называются многочисленные изделия из теста. Все будет очень вкусно, но, с точки зрения российского туриста, не пикантно. Другое исконно итальянское блюдо - пицца. Пиццерии и траттории (закусочные) в основном представляют собой типично семейные заведения и распространены повсеместно. Очень популярны изделия из морепродуктов, мясные блюда, сыр "моцарелла", а в приготовлении кофе и мороженного итальянцам нет равных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0" y="1699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Транспорт -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очень хорошо развита сеть междугородных перевозок. Для передвижения внутри страны удобны поезда и автобусы. Железнодорожные билеты при входе на перрон надо прокомпостировать. Проезд с билетом 2-го класса в вагоне 1-го ведет к штрафу. Сидячие места оплачиваются дополнительно, в отдельной кассе. Особенно хороши в Италии сверхскоростные поезда «Pendolino». При входе в автобус билеты также необходимо прокомпостировать. Все автобусные остановки - по требованию. Метро действует в Риме и Милане. Для аренды автомобиля в Италии необходимо иметь права международного образца. Очень часто итальянские компании по прокату автомобилей просят внести депозит в размере 200-300 долларов США. Рекомендуется пользоваться услугами известных систем проката автомобилей вроде EUROCAR, AVIS, HERTZ. Разницы в ценах между ними и частными конторами часто нет почти никакой, а услуг и возможностей предоставляется больше. Недорогой автомобиль в Италии можно взять на прокат примерно за 65 долларов США в день.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АНСПОР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84d3"/>
                </a:solidFill>
                <a:latin typeface="Verdana"/>
              </a:rPr>
              <a:t>ТРАНСПОРТ ИТАЛ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100" spc="-1" strike="noStrike">
                <a:solidFill>
                  <a:srgbClr val="073e87"/>
                </a:solidFill>
                <a:latin typeface="Candara"/>
              </a:rPr>
              <a:t>Италия — преимущественно горная страна. На севере — южные склоны Альп с высшей точкой Западной Европы горой Монблан (4808 м), южнее — Паданская равнина; на полуострове — горы Апеннины (высшая точка — гора Корно-Гранде, 2914 м). Действующие вулканы (Везувий, Этна); часты землетрясения. Омывающие моря — с востока Апеннинский полуостров омывается Адриатическим морем с Венецианским заливом в его северной части. Пролив Отранто между Апулией и Албанией соединяет Адриатическое море с Ионическим. Между Апулией и Калабрией глубоко внедряется в сушу залив Таранто. Очень узкий Мессинский пролив отделяет Калабрию от Сицилии, а Сицилийский (или Тунисский) пролив шириной 135 км — Сицилию от Северной Африки. Тирренское море представляет собой бассейн треугольной формы, обрамленный Сардинией, Корсикой, Тосканским архипелагом, Апеннинским полуостровом и Сицилией. К северу от Корсики находится Лигурийское море с Генуэзским заливом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ЕОГРАФИЯ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Флаг Италии"/>
          <p:cNvPicPr/>
          <p:nvPr/>
        </p:nvPicPr>
        <p:blipFill>
          <a:blip r:embed="rId1"/>
          <a:stretch/>
        </p:blipFill>
        <p:spPr>
          <a:xfrm>
            <a:off x="468360" y="2421000"/>
            <a:ext cx="4174920" cy="2782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ЕРБ И ФЛАГ ИТАЛ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5" descr="Герб Италии"/>
          <p:cNvPicPr/>
          <p:nvPr/>
        </p:nvPicPr>
        <p:blipFill>
          <a:blip r:embed="rId2"/>
          <a:stretch/>
        </p:blipFill>
        <p:spPr>
          <a:xfrm>
            <a:off x="5651640" y="2421000"/>
            <a:ext cx="2781000" cy="30956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6"/>
          <p:cNvSpPr/>
          <p:nvPr/>
        </p:nvSpPr>
        <p:spPr>
          <a:xfrm>
            <a:off x="468360" y="2421000"/>
            <a:ext cx="417492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Карта Италии"/>
          <p:cNvPicPr/>
          <p:nvPr/>
        </p:nvPicPr>
        <p:blipFill>
          <a:blip r:embed="rId1"/>
          <a:stretch/>
        </p:blipFill>
        <p:spPr>
          <a:xfrm>
            <a:off x="1908000" y="1484280"/>
            <a:ext cx="5040360" cy="51847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арта Итал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лимат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лимат средиземноморский. Средние температуры января от 0 до 12 °C, июля 20—28°C; осадки преимущественно зимой (600—1000 мм в год, в горах местами свыше 3000 мм). 25 % территории Италии — леса и кустарни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еки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, Адидже, Брента, Арно и Тибр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зёр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арда, Лаго-Маджоре, Комо, Больсена, Изео и д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лезные ископаемые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Италии большое разнообразие полезных ископаемых. Но месторождения многих из них невелики по запасам, распылены по территории страны, нередко залегают неудобно для разработки. Так, в 1982 г. в стране была полностью прекращена добыча железной руды, в том числе и на острове Эльба, на котором железо добывали еще этрус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2241720" y="2847960"/>
            <a:ext cx="4668840" cy="31050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ЛАГО-МАДЖОРЕ (озеро Италии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-181080" y="1483920"/>
            <a:ext cx="9136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000" spc="-1" strike="noStrike">
                <a:solidFill>
                  <a:srgbClr val="5eaeff"/>
                </a:solidFill>
                <a:latin typeface="Candara"/>
              </a:rPr>
              <a:t>Столица государства — Рим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Италия — высокоразвитая индустриально-аграрная страна. Преимущественно индустриальный и высокоразвитый север и бедный, аграрный юг. Валовой национальный продукт на душу населения 30000 долларов в год. Ведущие отрасли промышленности: машиностроение, металлургия, химическая и нефтехимическая, лёгкая и пищевая. Италия входит в число крупнейших производителей и поставщиков на мировой рынок автомобилей, велосипедов и мопедов, тракторов, стиральных машин и холодильников, пишущих и счётных машин, радиоэлектронной продукции, промышленного оборудования, стальных труб, пластмасс и химических волокон, автомобильных шин, а также готовой одежды и кожаной обуви, макарон, сыра, оливкового масла, вина, фруктовых и томатных консервов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кономи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9165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ИМ (Колизей)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0" y="141264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500" spc="-1" strike="noStrike">
                <a:solidFill>
                  <a:srgbClr val="073e87"/>
                </a:solidFill>
                <a:latin typeface="Candara"/>
              </a:rPr>
              <a:t>Крупное производство цемента, натуральных эссенций и эфирных масел из цветов и фруктов, художественных изделий из стекла и фаянса, ювелирных изделий. Добыча пиритов, руд ртути, природного газа, калийной соли, доломитов, асбеста. В сельском хозяйстве преобладает растениеводство. Основные культуры — пшеница, кукуруза, рис (1-е место по сбору в Европе; свыше 1 млн т. в год), сахарная свёкла. Италия — один из крупнейших в мире и ведущий в Европе производитель цитрусовых (свыше 3,3 млн т. в год), томатов (свыше 5,5 млн т.), винограда (около 10 млн т. в год; свыше 90 % перерабатывается в вино), оливок. Цветоводство. Развито птицеводство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cashik</dc:creator>
  <dc:description/>
  <dc:language>en-US</dc:language>
  <cp:lastModifiedBy>Денис</cp:lastModifiedBy>
  <dcterms:modified xsi:type="dcterms:W3CDTF">2012-05-15T15:22:11Z</dcterms:modified>
  <cp:revision>4</cp:revision>
  <dc:subject/>
  <dc:title>ИТАЛИЯ</dc:title>
</cp:coreProperties>
</file>