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F44-33FD-4B82-B2CA-B5324675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8DA0-F611-473F-B47D-4AB2DCB3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97CA-D1C4-4906-8797-0C8DD9B4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405-DFE3-4B7A-968C-0BEA1FEB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70FF-BE84-442C-B5DE-9FED09EB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3923-0B42-4618-AE53-AD65C4A2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CA90-8AFF-4646-93CE-65B35F3D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1926-DF1B-4E84-B8D7-C41F0E79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F1B3-2A63-4BA1-B4CB-47260CC8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E76E-CBA6-497B-9192-5FDC6342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2307-2D95-42D2-B016-16C2E5C0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34A-ED96-495D-850A-D1317724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C7F1-B6F1-4F40-8739-281487C7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54E0-BB67-4E72-879C-678861B7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DFF5-3A05-434D-BE44-AC4947D7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F06C-5AF5-4626-B4EB-2C58C826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BC8C-B866-49C3-8B15-45AFC976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84F-C1EB-49A2-9D5B-BC41DB35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F31B-7AB9-4FB9-8802-764E10E4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738C-37C7-45FC-8B2C-69599A79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519C-724E-476C-9DE2-0BFC6ECF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D0FC-9278-4BAB-88C4-FF2B7905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5D16-14EC-424D-954A-6B7BBC5F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DDB-4CF4-4133-9C68-5B1A221F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88A0-972E-405D-844C-426D629C0C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DFF4-60DC-4E80-82B2-CA8B45F76A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irgeo.net/index.php?option=com_datsogallery&amp;Itemid=69&amp;func=wmark&amp;oid=1335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mirgeo.net/index.php?option=com_datsogallery&amp;Itemid=69&amp;func=wmark&amp;oid=1313" TargetMode="External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rttrans.com.ua/imageproduct/1230/Illustration_Cretaceous_Dragonfly_Fossil_Dragonflies_Odonata_Insects_Uniramia_Arthropods_Invertebrates_b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harunyahya.ru/Books/images_books/atlas-images/495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g.lenta.ru/news/2008/07/25/insects/picture.jpg" TargetMode="External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news.rin.ru/pictures/29/89237.jpg" TargetMode="External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hyperlink" Target="http://s59.radikal.ru/i166/0810/19/9a8b2bbd09c8.jpg" TargetMode="External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.encyc.yandex.net/illustrations/bse/fullsize/02799/309510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gcs.ru/content/images/user/Paleontol/ammonit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ewellery.org.ua/all/ammonit/443ammonit-sm32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71280" y="214200"/>
            <a:ext cx="889344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 развития Земли в меловом периоде</a:t>
            </a:r>
            <a:endParaRPr b="1" lang="en-US" sz="2000" spc="1" strike="noStrike">
              <a:ln w="0">
                <a:noFill/>
              </a:ln>
              <a:solidFill>
                <a:srgbClr val="66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" name="Picture 3" descr="International scheme-1"/>
          <p:cNvPicPr/>
          <p:nvPr/>
        </p:nvPicPr>
        <p:blipFill>
          <a:blip r:embed="rId1"/>
          <a:stretch/>
        </p:blipFill>
        <p:spPr>
          <a:xfrm>
            <a:off x="108000" y="1484280"/>
            <a:ext cx="4824360" cy="4562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9" name="Picture 9" descr="J2 copy"/>
          <p:cNvPicPr/>
          <p:nvPr/>
        </p:nvPicPr>
        <p:blipFill>
          <a:blip r:embed="rId2"/>
          <a:stretch/>
        </p:blipFill>
        <p:spPr>
          <a:xfrm>
            <a:off x="179280" y="3573360"/>
            <a:ext cx="4969080" cy="31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0" name="Picture 10" descr="K2 copy"/>
          <p:cNvPicPr/>
          <p:nvPr/>
        </p:nvPicPr>
        <p:blipFill>
          <a:blip r:embed="rId3"/>
          <a:stretch/>
        </p:blipFill>
        <p:spPr>
          <a:xfrm>
            <a:off x="5003640" y="3379680"/>
            <a:ext cx="3922920" cy="2065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1" name="Rectangle 12"/>
          <p:cNvSpPr/>
          <p:nvPr/>
        </p:nvSpPr>
        <p:spPr>
          <a:xfrm>
            <a:off x="7910280" y="510840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omic Sans MS"/>
              </a:rPr>
              <a:t>70 млн 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3880440" y="630864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omic Sans MS"/>
              </a:rPr>
              <a:t>146 млн 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916280"/>
            <a:ext cx="4176720" cy="1584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1484280"/>
            <a:ext cx="4176720" cy="43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6160" y="148356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5 - 65 миллионов лет наз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-T"/>
          <p:cNvPicPr/>
          <p:nvPr/>
        </p:nvPicPr>
        <p:blipFill>
          <a:blip r:embed="rId4"/>
          <a:stretch/>
        </p:blipFill>
        <p:spPr>
          <a:xfrm>
            <a:off x="5076720" y="765000"/>
            <a:ext cx="3851280" cy="2438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2"/>
          <p:cNvSpPr/>
          <p:nvPr/>
        </p:nvSpPr>
        <p:spPr>
          <a:xfrm>
            <a:off x="5026680" y="765000"/>
            <a:ext cx="1090440" cy="3373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Comic Sans MS"/>
              </a:rPr>
              <a:t>66 млн.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03280" y="93600"/>
            <a:ext cx="4959360" cy="6648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518880" y="2997360"/>
            <a:ext cx="2530800" cy="307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йзаж мелового пери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Мезозойский ландшаф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15920"/>
            <a:ext cx="4753080" cy="309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3" name="" descr="Мезозойское озеро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3213000"/>
            <a:ext cx="4770360" cy="3578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79280" y="3359160"/>
            <a:ext cx="3456000" cy="3290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Картинка 4 из 1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404640"/>
            <a:ext cx="4535280" cy="3054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6" name="" descr="Картинка 16 из 6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3341520"/>
            <a:ext cx="4473360" cy="3300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7" name="" descr="Картинка 46 из 6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573360"/>
            <a:ext cx="4176720" cy="313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2125800" y="0"/>
            <a:ext cx="13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4427640" y="189000"/>
            <a:ext cx="4535280" cy="2776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179640" y="3141720"/>
            <a:ext cx="9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реко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7143840" cy="4219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6958080" y="6308640"/>
            <a:ext cx="1890720" cy="3373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печатки жу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012000" y="189000"/>
            <a:ext cx="2957400" cy="2035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2581560" cy="147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5" name="" descr="Найдена паутина времен мелового периода"/>
          <p:cNvPicPr/>
          <p:nvPr/>
        </p:nvPicPr>
        <p:blipFill>
          <a:blip r:embed="rId4"/>
          <a:stretch/>
        </p:blipFill>
        <p:spPr>
          <a:xfrm>
            <a:off x="2843280" y="404640"/>
            <a:ext cx="3073320" cy="1649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709080" y="13032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ук в янта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Картинка 67 из 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89000"/>
            <a:ext cx="3146400" cy="2441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3459240" cy="482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3276720" y="2781360"/>
            <a:ext cx="5715000" cy="3895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640320" y="907920"/>
            <a:ext cx="22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печатки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762440" cy="4514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179280" y="189000"/>
            <a:ext cx="453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срезе ствола окаменелого дере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идны годичные кольц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видетельствующие о сезонной сме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еплых и холодных пери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92560" cy="3612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2360" y="692280"/>
            <a:ext cx="8712360" cy="5808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758520" y="189000"/>
            <a:ext cx="9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йз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5688000" cy="30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3240" y="3141720"/>
            <a:ext cx="52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секвойя глиптостробусовая (Metasequoi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771640" y="3500280"/>
            <a:ext cx="6147000" cy="3073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3567960" y="649044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современные хвощи — многолетние тра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7240" y="189000"/>
            <a:ext cx="2500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ликтовые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4176720" cy="313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476360" y="3213000"/>
            <a:ext cx="5329080" cy="3552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427640" y="189000"/>
            <a:ext cx="4562280" cy="304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7096680" y="4292640"/>
            <a:ext cx="149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 суше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 мор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36000" y="6453360"/>
            <a:ext cx="141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теродакт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41440" y="3213000"/>
            <a:ext cx="13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рхеоптерик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132000" y="3357720"/>
            <a:ext cx="5810400" cy="3295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6951240" y="63079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eratops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4249800" cy="2833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0" name="" descr="Картинка 16 из 6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260280"/>
            <a:ext cx="4267440" cy="293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807840" y="1159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воядные гига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K2"/>
          <p:cNvPicPr/>
          <p:nvPr/>
        </p:nvPicPr>
        <p:blipFill>
          <a:blip r:embed="rId1"/>
          <a:stretch/>
        </p:blipFill>
        <p:spPr>
          <a:xfrm>
            <a:off x="179280" y="0"/>
            <a:ext cx="8675640" cy="5481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0" y="5543640"/>
            <a:ext cx="9144000" cy="10674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На границе раннего и позднего мела в Австрийскую фазу складчатости деформации более активно проходили в Восточной Азии и Кордильерах и менее интенсивно – в Восточные Альпах, Карпатах, на Кавказе и Памире.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Тетис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расширился и установилась широкая связь с Атланти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257800" cy="3519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211640" y="3429000"/>
            <a:ext cx="4762440" cy="316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5946840" y="3068280"/>
            <a:ext cx="246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ладки яиц динозав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940360" y="189000"/>
            <a:ext cx="2857680" cy="2838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1550880" y="378936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иранозав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2649600" cy="3095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359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776680" y="260280"/>
            <a:ext cx="3450960" cy="4579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445680" y="932040"/>
            <a:ext cx="180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дна из гипоте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777080" cy="5828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168480" y="6381720"/>
            <a:ext cx="87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ликое вымирание динозавров позволило млекопитающим стремительно эволюциониро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608360" cy="3452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284720" y="2058840"/>
            <a:ext cx="4618080" cy="4543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4773600" y="257760"/>
            <a:ext cx="4370400" cy="17989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оссумы (Didelphidae), представители семейства млекопитающих, относящиеся к инфраклассу сумчатых. Это наименее специализированные и самые древние млекопитающие, появившиеся в меловом периоде и на протяжении длительного времени не претерпевавшие значительных измен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3744720" cy="2886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7705440" cy="557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8" name="" descr="Картинка 1 из 15"/>
          <p:cNvPicPr/>
          <p:nvPr/>
        </p:nvPicPr>
        <p:blipFill>
          <a:blip r:embed="rId2"/>
          <a:stretch/>
        </p:blipFill>
        <p:spPr>
          <a:xfrm>
            <a:off x="5940360" y="115920"/>
            <a:ext cx="3097440" cy="232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1161720" y="357120"/>
            <a:ext cx="23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быча писчего м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090NAt_середина мела_палеогеография.jpg"/>
          <p:cNvPicPr/>
          <p:nvPr/>
        </p:nvPicPr>
        <p:blipFill>
          <a:blip r:embed="rId1"/>
          <a:stretch/>
        </p:blipFill>
        <p:spPr>
          <a:xfrm>
            <a:off x="395280" y="115920"/>
            <a:ext cx="4606920" cy="6597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508720" y="404640"/>
            <a:ext cx="2709720" cy="1554120"/>
          </a:xfrm>
          <a:prstGeom prst="rect">
            <a:avLst/>
          </a:prstGeom>
          <a:solidFill>
            <a:srgbClr val="ffffe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В раннем мелу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позднекиммерийский тектогенез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активно проявился в северной окраине Тетиса от Балкан до ю\з Аз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2997360"/>
            <a:ext cx="3168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В конце мела произошло крупномасштабное надвигание (абдукция) коры Неотетиса на аравийскую окраину океана от Сирии до Омана. В тылу вулканической дуги (от Южных Карпат до Ю.Афганистана) раскрывается впадина Черного моря, а восточнее – Южно-каспийская . Флиш еще заполняет краевой прогиб Большого Кавказа и Копетда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95600" y="90360"/>
            <a:ext cx="5252760" cy="398880"/>
          </a:xfrm>
          <a:prstGeom prst="rect">
            <a:avLst/>
          </a:prstGeom>
          <a:solidFill>
            <a:srgbClr val="ffffe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Животный мир моря мелового пери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Картинка 4 из 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476280"/>
            <a:ext cx="4968720" cy="351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211640" y="4005360"/>
            <a:ext cx="4587840" cy="27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79280" y="1268280"/>
            <a:ext cx="3675240" cy="482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058240" cy="6043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756720" y="6308640"/>
            <a:ext cx="75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сифактин - гигантская хищная лучепёрая рыб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ов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Картинка 9 из 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1440" y="3357720"/>
            <a:ext cx="3133800" cy="3394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3903840" cy="446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211640" y="115920"/>
            <a:ext cx="4673520" cy="3022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75320" y="4869000"/>
            <a:ext cx="56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моноидеи (вымерли к концу мелового перио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Картинка 20 из 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3279600" cy="2119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771640" y="206064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79280" y="2492280"/>
            <a:ext cx="3241800" cy="25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796000" y="115920"/>
            <a:ext cx="3166920" cy="2932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296640" y="5181480"/>
            <a:ext cx="22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остры белемни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60000" y="1989000"/>
            <a:ext cx="3102120" cy="307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ковины аммоноидей в поро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51280" y="60480"/>
            <a:ext cx="4464000" cy="3297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3503520"/>
            <a:ext cx="4321440" cy="319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356000" y="3933720"/>
            <a:ext cx="3427560" cy="2713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50920" y="115920"/>
            <a:ext cx="3457440" cy="3154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5222880" y="189000"/>
            <a:ext cx="2536920" cy="307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вустворчатые 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659640" y="2538360"/>
            <a:ext cx="2341440" cy="2181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81200" y="3357720"/>
            <a:ext cx="2832120" cy="345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24360" y="3138480"/>
            <a:ext cx="5033880" cy="3719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140360" y="189000"/>
            <a:ext cx="4803480" cy="2671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3279960" y="115920"/>
            <a:ext cx="1413720" cy="3373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астроп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826920" y="692280"/>
            <a:ext cx="2735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4:18:14Z</dcterms:created>
  <dc:creator>aiantoshkina</dc:creator>
  <dc:description/>
  <dc:language>en-US</dc:language>
  <cp:lastModifiedBy>Леонова</cp:lastModifiedBy>
  <dcterms:modified xsi:type="dcterms:W3CDTF">2009-11-23T23:14:44Z</dcterms:modified>
  <cp:revision>1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21000000000001024140</vt:lpwstr>
  </property>
</Properties>
</file>