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FC4-39A9-4378-9C99-DBAA4CDC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CB2-88EF-45CD-A229-66C0626A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F61-C9E5-450A-B29C-8B8F7B45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095-759F-41BD-8BE3-496564D8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8074-16B2-403D-AD95-7F92DCC6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2746-C6A3-4F92-95B4-4C46524C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3397-D218-437D-A189-FF5FE2EE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4EF3-CBE4-4077-B771-9629B86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27B2-7718-4BD5-B163-79EE6F22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C8D-1430-43F7-93E2-39EAFBCC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BE2A-D208-4BD5-9356-BF4B5F1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530-B854-4D32-B991-94E462E7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293D-209C-44C3-AD43-568A148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3D22-026E-4F93-BC2A-ED35AC9A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68D5-8E90-492C-88A4-95CC7D66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780-9DF1-4524-A637-421C8DC9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9153-AA0D-408C-8F71-54CA6A63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49D-8DE4-46F4-B3AD-7AF52B8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9FD-2CF8-4F4C-8B35-8BB3CDF4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B28-299B-4378-9E4D-B708E142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CE4-D762-41E5-8AEF-9C4C169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F04-A2A2-420C-B10F-378AEB8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805-AB30-4A26-B232-21BABF5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94E-8A9E-4698-AF2C-A08E559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D8A-759F-4432-A770-6449DBE958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E052-F587-4BEE-BAF0-C1DCDC812F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geo.net/index.php?option=com_datsogallery&amp;Itemid=69&amp;func=wmark&amp;oid=1335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mirgeo.net/index.php?option=com_datsogallery&amp;Itemid=69&amp;func=wmark&amp;oid=1313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rttrans.com.ua/imageproduct/1230/Illustration_Cretaceous_Dragonfly_Fossil_Dragonflies_Odonata_Insects_Uniramia_Arthropods_Invertebrates_b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harunyahya.ru/Books/images_books/atlas-images/495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g.lenta.ru/news/2008/07/25/insects/picture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ews.rin.ru/pictures/29/89237.jp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hyperlink" Target="http://s59.radikal.ru/i166/0810/19/9a8b2bbd09c8.jpg" TargetMode="External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encyc.yandex.net/illustrations/bse/fullsize/02799/30951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gcs.ru/content/images/user/Paleontol/ammonit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ewellery.org.ua/all/ammonit/443ammonit-sm3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1280" y="214200"/>
            <a:ext cx="889344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развития Земли в меловом периоде</a:t>
            </a:r>
            <a:endParaRPr b="1" lang="en-US" sz="2000" spc="1" strike="noStrike">
              <a:ln w="0">
                <a:noFill/>
              </a:ln>
              <a:solidFill>
                <a:srgbClr val="66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3" descr="International scheme-1"/>
          <p:cNvPicPr/>
          <p:nvPr/>
        </p:nvPicPr>
        <p:blipFill>
          <a:blip r:embed="rId1"/>
          <a:stretch/>
        </p:blipFill>
        <p:spPr>
          <a:xfrm>
            <a:off x="108000" y="1484280"/>
            <a:ext cx="4824360" cy="456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Picture 9" descr="J2 copy"/>
          <p:cNvPicPr/>
          <p:nvPr/>
        </p:nvPicPr>
        <p:blipFill>
          <a:blip r:embed="rId2"/>
          <a:stretch/>
        </p:blipFill>
        <p:spPr>
          <a:xfrm>
            <a:off x="179280" y="3573360"/>
            <a:ext cx="4969080" cy="31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Picture 10" descr="K2 copy"/>
          <p:cNvPicPr/>
          <p:nvPr/>
        </p:nvPicPr>
        <p:blipFill>
          <a:blip r:embed="rId3"/>
          <a:stretch/>
        </p:blipFill>
        <p:spPr>
          <a:xfrm>
            <a:off x="5003640" y="3379680"/>
            <a:ext cx="3922920" cy="206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Rectangle 12"/>
          <p:cNvSpPr/>
          <p:nvPr/>
        </p:nvSpPr>
        <p:spPr>
          <a:xfrm>
            <a:off x="7910280" y="5108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omic Sans MS"/>
              </a:rPr>
              <a:t>70 млн 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880440" y="63086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omic Sans MS"/>
              </a:rPr>
              <a:t>146 млн 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916280"/>
            <a:ext cx="4176720" cy="158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484280"/>
            <a:ext cx="41767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6160" y="148356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5 - 65 миллионов лет наз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-T"/>
          <p:cNvPicPr/>
          <p:nvPr/>
        </p:nvPicPr>
        <p:blipFill>
          <a:blip r:embed="rId4"/>
          <a:stretch/>
        </p:blipFill>
        <p:spPr>
          <a:xfrm>
            <a:off x="5076720" y="765000"/>
            <a:ext cx="385128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5026680" y="765000"/>
            <a:ext cx="109044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Comic Sans MS"/>
              </a:rPr>
              <a:t>66 млн.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93600"/>
            <a:ext cx="4959360" cy="664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518880" y="2997360"/>
            <a:ext cx="253080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йзаж мелового пери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Мезозойский ландшаф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5920"/>
            <a:ext cx="4753080" cy="30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3" name="" descr="Мезозойское озер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3213000"/>
            <a:ext cx="4770360" cy="357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79280" y="3359160"/>
            <a:ext cx="3456000" cy="329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Картинка 4 из 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404640"/>
            <a:ext cx="4535280" cy="305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6" name="" descr="Картинка 16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341520"/>
            <a:ext cx="4473360" cy="3300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7" name="" descr="Картинка 46 из 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573360"/>
            <a:ext cx="4176720" cy="31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125800" y="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4427640" y="189000"/>
            <a:ext cx="4535280" cy="27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79640" y="314172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7143840" cy="4219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958080" y="6308640"/>
            <a:ext cx="189072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печатки жу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957400" cy="203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581560" cy="14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" descr="Найдена паутина времен мелового периода"/>
          <p:cNvPicPr/>
          <p:nvPr/>
        </p:nvPicPr>
        <p:blipFill>
          <a:blip r:embed="rId4"/>
          <a:stretch/>
        </p:blipFill>
        <p:spPr>
          <a:xfrm>
            <a:off x="2843280" y="404640"/>
            <a:ext cx="3073320" cy="164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709080" y="13032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ук в янт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Картинка 67 из 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9000"/>
            <a:ext cx="3146400" cy="2441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45924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5715000" cy="389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640320" y="907920"/>
            <a:ext cx="22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печатки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762440" cy="451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179280" y="189000"/>
            <a:ext cx="45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срезе ствола окаменелого дере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дны годичные коль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идетельствующие о сезонной сме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плых и холодных пери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92560" cy="361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8712360" cy="580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758520" y="1890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68800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240" y="31417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секвойя глиптостробусовая (Metasequo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6147000" cy="307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3567960" y="649044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современные хвощи — многолетние тр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7240" y="189000"/>
            <a:ext cx="250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176720" cy="31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5329080" cy="355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27640" y="189000"/>
            <a:ext cx="4562280" cy="304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7096680" y="4292640"/>
            <a:ext cx="149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суше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мор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6000" y="645336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теродакт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1440" y="32130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581040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6951240" y="6307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eratops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249800" cy="28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0" name="" descr="Картинка 16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60280"/>
            <a:ext cx="4267440" cy="293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807840" y="115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воядные гиг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K2"/>
          <p:cNvPicPr/>
          <p:nvPr/>
        </p:nvPicPr>
        <p:blipFill>
          <a:blip r:embed="rId1"/>
          <a:stretch/>
        </p:blipFill>
        <p:spPr>
          <a:xfrm>
            <a:off x="179280" y="0"/>
            <a:ext cx="8675640" cy="5481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5543640"/>
            <a:ext cx="9144000" cy="10674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На границе раннего и позднего мела в Австрийскую фазу складчатости деформации более активно проходили в Восточной Азии и Кордильерах и менее интенсивно – в Восточные Альпах, Карпатах, на Кавказе и Памире.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Тетис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расширился и установилась широкая связь с Атлан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257800" cy="351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762440" cy="31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946840" y="306828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адки яиц динозав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857680" cy="283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1550880" y="378936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ранозав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649600" cy="30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5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776680" y="260280"/>
            <a:ext cx="3450960" cy="457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45680" y="932040"/>
            <a:ext cx="18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а из гипо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5828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68480" y="6381720"/>
            <a:ext cx="87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ликое вымирание динозавров позволило млекопитающим стремительно эволюционир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08360" cy="345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84720" y="2058840"/>
            <a:ext cx="4618080" cy="4543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4773600" y="257760"/>
            <a:ext cx="4370400" cy="17989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оссумы (Didelphidae), представители семейства млекопитающих, относящиеся к инфраклассу сумчатых. Это наименее специализированные и самые древние млекопитающие, появившиеся в меловом периоде и на протяжении длительного времени не претерпевавшие значительных изме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744720" cy="28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7705440" cy="557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8" name="" descr="Картинка 1 из 15"/>
          <p:cNvPicPr/>
          <p:nvPr/>
        </p:nvPicPr>
        <p:blipFill>
          <a:blip r:embed="rId2"/>
          <a:stretch/>
        </p:blipFill>
        <p:spPr>
          <a:xfrm>
            <a:off x="5940360" y="115920"/>
            <a:ext cx="30974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61720" y="357120"/>
            <a:ext cx="23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быча писчего м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090NAt_середина мела_палеогеография.jpg"/>
          <p:cNvPicPr/>
          <p:nvPr/>
        </p:nvPicPr>
        <p:blipFill>
          <a:blip r:embed="rId1"/>
          <a:stretch/>
        </p:blipFill>
        <p:spPr>
          <a:xfrm>
            <a:off x="395280" y="115920"/>
            <a:ext cx="460692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08720" y="404640"/>
            <a:ext cx="2709720" cy="1554120"/>
          </a:xfrm>
          <a:prstGeom prst="rect">
            <a:avLst/>
          </a:prstGeom>
          <a:solidFill>
            <a:srgbClr val="ffffe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 раннем мелу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позднекиммерийский тектогенез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активно проявился в северной окраине Тетиса от Балкан до ю\з 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2997360"/>
            <a:ext cx="316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 конце мела произошло крупномасштабное надвигание (абдукция) коры Неотетиса на аравийскую окраину океана от Сирии до Омана. В тылу вулканической дуги (от Южных Карпат до Ю.Афганистана) раскрывается впадина Черного моря, а восточнее – Южно-каспийская . Флиш еще заполняет краевой прогиб Большого Кавказа и Копетда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95600" y="90360"/>
            <a:ext cx="5252760" cy="398880"/>
          </a:xfrm>
          <a:prstGeom prst="rect">
            <a:avLst/>
          </a:prstGeom>
          <a:solidFill>
            <a:srgbClr val="ffffe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Животный мир моря мелового пери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Картинка 4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76280"/>
            <a:ext cx="4968720" cy="35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211640" y="4005360"/>
            <a:ext cx="458784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367524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58240" cy="60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56720" y="6308640"/>
            <a:ext cx="75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ифактин - гигантская хищная лучепёрая рыб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ов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9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1440" y="3357720"/>
            <a:ext cx="3133800" cy="339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90384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211640" y="115920"/>
            <a:ext cx="4673520" cy="3022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75320" y="4869000"/>
            <a:ext cx="56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моноидеи (вымерли к концу мелового пери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Картинка 20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279600" cy="211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79280" y="2492280"/>
            <a:ext cx="3241800" cy="25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796000" y="115920"/>
            <a:ext cx="3166920" cy="293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296640" y="51814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стры белемни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989000"/>
            <a:ext cx="310212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ковины аммоноидей в п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1280" y="60480"/>
            <a:ext cx="4464000" cy="329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3503520"/>
            <a:ext cx="4321440" cy="319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3427560" cy="271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3457440" cy="315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222880" y="189000"/>
            <a:ext cx="253692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659640" y="2538360"/>
            <a:ext cx="2341440" cy="218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1200" y="3357720"/>
            <a:ext cx="28321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24360" y="3138480"/>
            <a:ext cx="5033880" cy="37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4803480" cy="267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279960" y="115920"/>
            <a:ext cx="1413720" cy="3373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2735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18:14Z</dcterms:created>
  <dc:creator>aiantoshkina</dc:creator>
  <dc:description/>
  <dc:language>en-US</dc:language>
  <cp:lastModifiedBy>Леонова</cp:lastModifiedBy>
  <dcterms:modified xsi:type="dcterms:W3CDTF">2009-11-23T23:14:44Z</dcterms:modified>
  <cp:revision>1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1000000000001024140</vt:lpwstr>
  </property>
</Properties>
</file>