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066-E7C6-4C49-9A50-C9AD8F15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043-691A-4F98-93DB-2E8FB95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EF9-20A2-48BC-80EB-3638EBD1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C73-CA41-457D-BB62-772AAE1A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3F35-7B34-48BE-8C30-B3D3C4A4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BDD0-87C3-4541-9E39-71E71EC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1BF-7EBB-4DCC-B2C0-407A957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7CA0-D98A-458B-B36E-8B20F92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7CC2-67C8-41C9-90ED-A463F4EF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B95D-1BC1-4E90-A254-F0D67180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BEC-1860-478E-B0D1-0427682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CD1-9C1B-47CA-9B5C-A521F4C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148-E4C8-4E6E-8C80-408C41CA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8D67-C2BC-4979-B3D2-A97A45C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09EB-0D82-4F68-8F8D-8A8CD42C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AF3A-0C43-4FB7-84D9-6369ED2A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3E92-190D-47F9-AE71-624B08FA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3B5-6964-483F-8D80-6F052584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DEA-8627-4093-BC9E-79D172A9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C13-A211-4ADC-AA5A-9E23EEE1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71D-E82C-4E82-A86B-227015F9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6BC-EF1D-459D-893F-C67824A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A87-6A76-4982-B223-35915FF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B2F-2039-430A-8AF7-BCBCF51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3D9-5D26-422F-A008-4810343477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FCA7-997F-4483-8DAE-945D8E4852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666880" cy="20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19320" y="-30528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ahoma"/>
              </a:rPr>
              <a:t>Плотность населения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няя плотность населения Испании - 76.8 жителя за квадратный км., немногим выше чем в Греции, и значительно ниже остальной части Европ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ая низкая концентрация в Кастилия ла Манча, Арагоне, Эстремадуре и Кастилии-Леоне, с менее чем 30 жителями на квадратный к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настоящее время, самая большая плотность населения зарегистрирована в автономной области Мадрид (605 жителей на квадратный километр), следующая - Страна Басков (295), Канарские Острова, Каталония, Балеарские Острова и Валенсиансике Сообщество (между 200 и 100 жителями на кв. км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ая часть территории — горы и высокогорья, после Швейцарии это самая высокая страна Европы. В центральной части страны — плоскогорья (основное — Месета) и средневысотные горы (Центральная Кордильера, Сьерра-Морена и др.). На севере и северо-востоке массивная цепь Пиренеев (высота до 3404 м, пик Ането), Кантабрийские, Иберийские и Каталонские горы, на юге — Андалусские горы с массивом Сьерра-Невада (высота 3478 м, г. Муласен). Испания занимает одно из первых мест в мире по запасам ртутных, урановых, оловянных, свинцовых, цинковых, медных, железных руд; высококачественных углей, имеются месторождения нефти и газа, бокситов, золота, серебра, пирита и д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362320" y="15228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ирод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0" y="19807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имат преимущественно субтропический средиземноморский, во внутренних районах — сухой, близ Атлантического побережья — умеренный океанический. Реки зимой многоводны, летом сильно мелеют, наиболее крупные из них — Тахо, Дуэро, Эбро, Гвадалквивир, Гвади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438280" y="228600"/>
            <a:ext cx="4267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e351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e351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79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шняя Испания — высокоразвитая страна. По общему объему промышленного производства в 1995 страна занимала 10-е место в мире и 5-е место в Западной Европе. ВНП на душу населения14000 долл. (1999). Успехи достигнуты в последние десятилетия. Из отраслей легкой промышленности наибольшее значение имеют текстильная и кожевенно-обувная промышленность (Испания дает ок. 4% мирового экспорта обуви). В пищевой промышленности выделяются виноделие (по производству виноградных вин Испания в Европе уступает лишь Франции и Италии), производство растительного масла (1,7 млн. т в 1996; Испания — мировой лидер по производству оливкового масла, ок. 0,5 млн. т в год), плодоовощных и рыбных консервов. Испания входит в первую десятку стран мира по улову рыбы и морепродуктов (1,1 млн. т в 1996) и их переработке, является крупным экспортером свежей рыбы и рыбных консервов. Самобытная отрасль — заготовка и экспорт пробковой ко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Языки Испа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амобытная культура многих испанских регионов долгое время испытывала давление со стороны централистского режима Франко. Единственным официально разрешенным языком бы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стильский - кастельян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годня все четыре языка признаны как испанские служебно-административные, на них говорят по радио, на них издают книги и газе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3048120" cy="227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Денежная единица  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Раньше денежной Испании была -неч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В данное время, денежная единица — евр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54280" cy="34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лько в Испании можно в полной мере ознакомиться с арабско-мавританским искусством и проследить историю его развития от самого начала до эпохи высшего расцвета в XIII-XIV веках. В Мадриде насчитывается более 100 музеев и художественных галерей. Особенно выделяется Прадо, пожалуй, главная достопримечательность города. В археологическом музее представлены практически все культуры Испании с древнейших времен. Интересен Музей современного искусства Испании, крупнейшая частная коллекция в Европе - картинная галерея Тиссен Борнемисса и многие друг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0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3657600" cy="2857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848720" y="64008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82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83" dur="2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391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392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animClr clrSpc="rgb">
                                      <p:cBhvr>
                                        <p:cTn id="400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9fff8"/>
                                      </p:to>
                                    </p:animClr>
                                    <p:set>
                                      <p:cBhvr>
                                        <p:cTn id="401" dur="2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1" action="ppaction://hlinksldjump"/>
              </a:rPr>
              <a:t>Введ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2" action="ppaction://hlinksldjump"/>
              </a:rPr>
              <a:t>Карт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толиц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3" action="ppaction://hlinksldjump"/>
              </a:rPr>
              <a:t>Государственное устройство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4" action="ppaction://hlinksldjump"/>
              </a:rPr>
              <a:t>Административно-территориальное д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5" action="ppaction://hlinksldjump"/>
              </a:rPr>
              <a:t>Населен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966ff"/>
                </a:solidFill>
                <a:uFillTx/>
                <a:latin typeface="Tahoma"/>
                <a:hlinkClick r:id="rId6" action="ppaction://hlinksldjump"/>
              </a:rPr>
              <a:t>Плотность населения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  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ирод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Экономик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Языки Испании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Денежная единица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55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узе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457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685800" y="228600"/>
            <a:ext cx="1447920" cy="10875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7162920" y="228600"/>
            <a:ext cx="1447560" cy="108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арта Испани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05720" cy="59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-228960" y="1599840"/>
            <a:ext cx="937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адри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столица и географический центр Испании. Город расположен к югу от горного хребта Сьерра-де-Гвадаррама, посередине кастильского плоскогорья. Основан маврами в IX веке. Сегодня Мадрид относится к числу наиболее посещаемых крупных городов мира. Наряду с многочисленными памятниками старины туристов ожидает бьющая ключом жизнь большого южного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14600" y="152280"/>
            <a:ext cx="3886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дри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3124080" cy="244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43200" y="-2289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228960" y="1142640"/>
            <a:ext cx="937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олевство Испания, государство на юго-западе Европы, занимает большую часть Пиренейского полуострова, Балеарские и Питиусские острова в Средиземном море, Канарские острова  в Атлантическом океане. Испания владеет районами городов Сеута и Мелилья на северо-африканском побережье. Площадь 505,99 тыс км2. Население 40,22 млн. человек (2003). Столица — Мадрид. Другие крупные города (с населением св. 500 тыс чел.) — Барселона, Валенсия, Севилья, Сарагоса, Мала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ституционная монархия. Глава государства 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оро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Законодательный орган двухпалатный парламент — Генеральные кортесы (конгресс депутатов и сенат). Состоит из Сената (256 мест — 208 депутатов избираются прямым всеобщим голосованием и 48 назначаются законодательными органами провинций; все сенаторы избираются на 4-летний срок) и Конгресса Депутатов (350 мест — избираются по партийным спискам на 4-летний ср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нительную власть возглавля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емьер-минист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лидер партии, набравшей большинство голосов на выборах в парламен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600200" y="60948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Государственное устрой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2190600" cy="24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 провинций, входящих в 17 автономных областей: Каталония, Страна Басков, Галисия, Андалусия, Валенсия, Эстремадура, Кастилья-Леон, Кастилья-Ла-Манча, Астурия, Наварра, Мурсия, Арагон, Риоха, Кантабрия, Мадрид (на правах автономной области), Балеарские острова, Канарские остро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33520" y="1522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дминистративно-территориально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4114800" cy="34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66ff"/>
                </a:solidFill>
                <a:uFillTx/>
                <a:latin typeface="Tahoma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оло 3/4 населения – испанцы, остальные — каталонцы (16,9%), галисийцы (6,4%), баски (1,6%) и др. Официальный язык — испанский; в автономных областях признаются официальными наряду с испанским другие языки (каталонский, баскский). 95% верующих — католики. За пределами страны проживают свыше 2,7 млн. испанцев, в т. ч. в странах Северной и Южной Америки 1,7 млн., в Западной Европе свыше 1 млн. (гл. обр. во Франции и Германии). Городское население 76%. Плотность населения 79,7 чел./км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3516"/>
                </a:solidFill>
                <a:latin typeface="Tahoma"/>
              </a:rPr>
              <a:t>Население Испани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57200" y="2057400"/>
          <a:ext cx="8381520" cy="4114440"/>
        </p:xfrm>
        <a:graphic>
          <a:graphicData uri="http://schemas.openxmlformats.org/drawingml/2006/table">
            <a:tbl>
              <a:tblPr/>
              <a:tblGrid>
                <a:gridCol w="2793600"/>
                <a:gridCol w="2793960"/>
                <a:gridCol w="279396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селение      в тыс. че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рост в 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,7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74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58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4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6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</cp:lastModifiedBy>
  <dcterms:modified xsi:type="dcterms:W3CDTF">2008-02-12T16:04:1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8000000000001024140</vt:lpwstr>
  </property>
  <property fmtid="{D5CDD505-2E9C-101B-9397-08002B2CF9AE}" pid="3" name="Version">
    <vt:r8>1</vt:r8>
  </property>
</Properties>
</file>