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A99-23C0-43CE-B2C2-D5C89356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373-0A59-4F3C-879B-64D77C1B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148-A6A8-47CA-8916-923307C1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B717-1997-45FF-AE0A-BF3714B2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23A3-3A16-49B5-9CDC-ED8D0D26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15C9-5739-4C18-AF4D-0737FFC2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D4D9-F0B2-4A42-88B6-D5AF08F8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01A9-C3A7-4E9C-AA5E-9DBBC5DB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E8F8-3A87-47B6-B198-DD601621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3DA1-29E1-4926-8612-25487D57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9A6E-D069-4D57-8A50-7089A62B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D03-4F13-4EC7-BA18-59FBE5E3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53A5-DF22-44FD-84CC-D1AEB25A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D3F9-7135-42AF-8592-6D6FE8FA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5298-1972-4B36-8526-359AE51F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791B-AE61-4056-9A8D-C8D5994B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16B0-DE8F-4B0F-AE51-BD1CEE65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BAC-7EBC-4527-94E3-2302D1CA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D6E-EE07-41B5-8ECA-9B0EFC10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1E2-78A3-4586-933D-8CBCEA74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E3B-FB55-4F90-AE9C-A763B746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D45-801D-4B59-84FD-8B2B0806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C67-4B65-453F-A27D-AFD95B32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98C-1C94-4CD8-A880-EB4E0649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BDB7-7894-4648-AB09-E46757992A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9F7C-B1FB-4C9C-93F4-C0AAB09C07A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429000" y="457200"/>
            <a:ext cx="2666880" cy="200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19320" y="-30528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ahoma"/>
              </a:rPr>
              <a:t>Плотность населения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редняя плотность населения Испании - 76.8 жителя за квадратный км., немногим выше чем в Греции, и значительно ниже остальной части Европ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амая низкая концентрация в Кастилия ла Манча, Арагоне, Эстремадуре и Кастилии-Леоне, с менее чем 30 жителями на квадратный к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настоящее время, самая большая плотность населения зарегистрирована в автономной области Мадрид (605 жителей на квадратный километр), следующая - Страна Басков (295), Канарские Острова, Каталония, Балеарские Острова и Валенсиансике Сообщество (между 200 и 100 жителями на кв. км.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2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чительная часть территории — горы и высокогорья, после Швейцарии это самая высокая страна Европы. В центральной части страны — плоскогорья (основное — Месета) и средневысотные горы (Центральная Кордильера, Сьерра-Морена и др.). На севере и северо-востоке массивная цепь Пиренеев (высота до 3404 м, пик Ането), Кантабрийские, Иберийские и Каталонские горы, на юге — Андалусские горы с массивом Сьерра-Невада (высота 3478 м, г. Муласен). Испания занимает одно из первых мест в мире по запасам ртутных, урановых, оловянных, свинцовых, цинковых, медных, железных руд; высококачественных углей, имеются месторождения нефти и газа, бокситов, золота, серебра, пирита и д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362320" y="152280"/>
            <a:ext cx="4572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ирода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72000" y="19807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имат преимущественно субтропический средиземноморский, во внутренних районах — сухой, близ Атлантического побережья — умеренный океанический. Реки зимой многоводны, летом сильно мелеют, наиболее крупные из них — Тахо, Дуэро, Эбро, Гвадалквивир, Гвадиа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438280" y="228600"/>
            <a:ext cx="4267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ee351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ee351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810240" cy="379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Экономи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годняшняя Испания — высокоразвитая страна. По общему объему промышленного производства в 1995 страна занимала 10-е место в мире и 5-е место в Западной Европе. ВНП на душу населения14000 долл. (1999). Успехи достигнуты в последние десятилетия. Из отраслей легкой промышленности наибольшее значение имеют текстильная и кожевенно-обувная промышленность (Испания дает ок. 4% мирового экспорта обуви). В пищевой промышленности выделяются виноделие (по производству виноградных вин Испания в Европе уступает лишь Франции и Италии), производство растительного масла (1,7 млн. т в 1996; Испания — мировой лидер по производству оливкового масла, ок. 0,5 млн. т в год), плодоовощных и рыбных консервов. Испания входит в первую десятку стран мира по улову рыбы и морепродуктов (1,1 млн. т в 1996) и их переработке, является крупным экспортером свежей рыбы и рыбных консервов. Самобытная отрасль — заготовка и экспорт пробковой ко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Языки Испан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амобытная культура многих испанских регионов долгое время испытывала давление со стороны централистского режима Франко. Единственным официально разрешенным языком был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стильский - кастельян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годня все четыре языка признаны как испанские служебно-административные, на них говорят по радио, на них издают книги и газет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124080" y="4419720"/>
            <a:ext cx="3048120" cy="227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1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Денежная единица  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Раньше денежной Испании была -неч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В данное время, денежная единица — евр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554280" cy="348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Музе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лько в Испании можно в полной мере ознакомиться с арабско-мавританским искусством и проследить историю его развития от самого начала до эпохи высшего расцвета в XIII-XIV веках. В Мадриде насчитывается более 100 музеев и художественных галерей. Особенно выделяется Прадо, пожалуй, главная достопримечательность города. В археологическом музее представлены практически все культуры Испании с древнейших времен. Интересен Музей современного искусства Испании, крупнейшая частная коллекция в Европе - картинная галерея Тиссен Борнемисса и многие друг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324480" y="1523880"/>
            <a:ext cx="2590920" cy="19335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6400800" y="3809880"/>
            <a:ext cx="2514600" cy="187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4098960" cy="27482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4724280" y="3429000"/>
            <a:ext cx="4191120" cy="27972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3657600" cy="28576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7848720" y="6400800"/>
            <a:ext cx="914400" cy="304920"/>
          </a:xfrm>
          <a:custGeom>
            <a:avLst/>
            <a:gdLst>
              <a:gd name="textAreaLeft" fmla="*/ 159840 w 914400"/>
              <a:gd name="textAreaRight" fmla="*/ 663120 w 9144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animClr clrSpc="rgb">
                                      <p:cBhvr>
                                        <p:cTn id="373" dur="2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set>
                                      <p:cBhvr>
                                        <p:cTn id="374" dur="2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animClr clrSpc="rgb">
                                      <p:cBhvr>
                                        <p:cTn id="382" dur="2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set>
                                      <p:cBhvr>
                                        <p:cTn id="383" dur="2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2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animClr clrSpc="rgb">
                                      <p:cBhvr>
                                        <p:cTn id="391" dur="2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set>
                                      <p:cBhvr>
                                        <p:cTn id="392" dur="2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2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animClr clrSpc="rgb">
                                      <p:cBhvr>
                                        <p:cTn id="400" dur="2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set>
                                      <p:cBhvr>
                                        <p:cTn id="401" dur="2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54064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1" action="ppaction://hlinksldjump"/>
              </a:rPr>
              <a:t>Введени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2" action="ppaction://hlinksldjump"/>
              </a:rPr>
              <a:t>Карт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толиц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3" action="ppaction://hlinksldjump"/>
              </a:rPr>
              <a:t>Государственное устройство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4" action="ppaction://hlinksldjump"/>
              </a:rPr>
              <a:t>Административно-территориальное делени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5" action="ppaction://hlinksldjump"/>
              </a:rPr>
              <a:t>Населени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6" action="ppaction://hlinksldjump"/>
              </a:rPr>
              <a:t>Плотность населения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   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ирод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Экономик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Языки Испании 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Денежная единица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Музеи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4572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Исп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7"/>
          <a:stretch/>
        </p:blipFill>
        <p:spPr>
          <a:xfrm>
            <a:off x="685800" y="228600"/>
            <a:ext cx="1447920" cy="10875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8"/>
          <a:stretch/>
        </p:blipFill>
        <p:spPr>
          <a:xfrm>
            <a:off x="7162920" y="228600"/>
            <a:ext cx="1447560" cy="108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4760" y="-2289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Карта Испани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05720" cy="595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5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-228960" y="1599840"/>
            <a:ext cx="9372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адри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столица и географический центр Испании. Город расположен к югу от горного хребта Сьерра-де-Гвадаррама, посередине кастильского плоскогорья. Основан маврами в IX веке. Сегодня Мадрид относится к числу наиболее посещаемых крупных городов мира. Наряду с многочисленными памятниками старины туристов ожидает бьющая ключом жизнь большого южного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514600" y="152280"/>
            <a:ext cx="3886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дрид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819520" y="4267080"/>
            <a:ext cx="3124080" cy="244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43200" y="-2289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Введени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-228960" y="1142640"/>
            <a:ext cx="937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олевство Испания, государство на юго-западе Европы, занимает большую часть Пиренейского полуострова, Балеарские и Питиусские острова в Средиземном море, Канарские острова  в Атлантическом океане. Испания владеет районами городов Сеута и Мелилья на северо-африканском побережье. Площадь 505,99 тыс км2. Население 40,22 млн. человек (2003). Столица — Мадрид. Другие крупные города (с населением св. 500 тыс чел.) — Барселона, Валенсия, Севилья, Сарагоса, Мала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ституционная монархия. Глава государства —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корол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Законодательный орган двухпалатный парламент — Генеральные кортесы (конгресс депутатов и сенат). Состоит из Сената (256 мест — 208 депутатов избираются прямым всеобщим голосованием и 48 назначаются законодательными органами провинций; все сенаторы избираются на 4-летний срок) и Конгресса Депутатов (350 мест — избираются по партийным спискам на 4-летний срок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нительную власть возглавля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премьер-минист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лидер партии, набравшей большинство голосов на выборах в парламен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600200" y="609480"/>
            <a:ext cx="590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Государственное устрой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629400" y="2438280"/>
            <a:ext cx="2190600" cy="243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-360" y="19051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0 провинций, входящих в 17 автономных областей: Каталония, Страна Басков, Галисия, Андалусия, Валенсия, Эстремадура, Кастилья-Леон, Кастилья-Ла-Манча, Астурия, Наварра, Мурсия, Арагон, Риоха, Кантабрия, Мадрид (на правах автономной области), Балеарские острова, Канарские остро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33520" y="152280"/>
            <a:ext cx="8305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дминистративно-территориально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лени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4114800" cy="346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66ff"/>
                </a:solidFill>
                <a:uFillTx/>
                <a:latin typeface="Tahoma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коло 3/4 населения – испанцы, остальные — каталонцы (16,9%), галисийцы (6,4%), баски (1,6%) и др. Официальный язык — испанский; в автономных областях признаются официальными наряду с испанским другие языки (каталонский, баскский). 95% верующих — католики. За пределами страны проживают свыше 2,7 млн. испанцев, в т. ч. в странах Северной и Южной Америки 1,7 млн., в Западной Европе свыше 1 млн. (гл. обр. во Франции и Германии). Городское население 76%. Плотность населения 79,7 чел./км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3516"/>
                </a:solidFill>
                <a:latin typeface="Tahoma"/>
              </a:rPr>
              <a:t>Население Испании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57200" y="2057400"/>
          <a:ext cx="8381520" cy="4114440"/>
        </p:xfrm>
        <a:graphic>
          <a:graphicData uri="http://schemas.openxmlformats.org/drawingml/2006/table">
            <a:tbl>
              <a:tblPr/>
              <a:tblGrid>
                <a:gridCol w="2793600"/>
                <a:gridCol w="2793960"/>
                <a:gridCol w="2793960"/>
              </a:tblGrid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селение      в тыс. че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рост в 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,71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,74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,58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,43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,6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sha</cp:lastModifiedBy>
  <dcterms:modified xsi:type="dcterms:W3CDTF">2008-02-12T16:04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8000000000001024140</vt:lpwstr>
  </property>
  <property fmtid="{D5CDD505-2E9C-101B-9397-08002B2CF9AE}" pid="3" name="Version">
    <vt:r8>1</vt:r8>
  </property>
</Properties>
</file>