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6.png" ContentType="image/png"/>
  <Override PartName="/ppt/media/image11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30.jpeg" ContentType="image/jpeg"/>
  <Override PartName="/ppt/media/image4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6A0-C162-451E-A54D-8B0F8FAA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05C-43AC-404B-AD78-B623EE58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E89-9E1A-435D-9FE3-C06A9823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96F-5205-4F01-883C-21CC815F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1A3-F157-4D1A-99E0-AE904EBA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D76-C0D9-4D3B-A0F5-EB9178D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82A-1FC2-4144-847C-3FC5350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B14-D7CF-4D90-A7D6-F403192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B8C-1A72-40EC-9BD0-4B852568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BDE-7391-489C-8B41-EC49D1C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6A-1D44-4518-AC12-C8760B6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0FD-91EE-4E81-8B58-CEA4C80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545F-981A-44C2-8212-AB74EAE5C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" Target="slide8.xml"/><Relationship Id="rId8" Type="http://schemas.openxmlformats.org/officeDocument/2006/relationships/image" Target="../media/image8.png"/><Relationship Id="rId9" Type="http://schemas.openxmlformats.org/officeDocument/2006/relationships/slide" Target="slide18.xml"/><Relationship Id="rId10" Type="http://schemas.openxmlformats.org/officeDocument/2006/relationships/image" Target="../media/image9.png"/><Relationship Id="rId11" Type="http://schemas.openxmlformats.org/officeDocument/2006/relationships/slide" Target="slide13.xml"/><Relationship Id="rId12" Type="http://schemas.openxmlformats.org/officeDocument/2006/relationships/image" Target="../media/image10.png"/><Relationship Id="rId13" Type="http://schemas.openxmlformats.org/officeDocument/2006/relationships/slide" Target="slide9.xml"/><Relationship Id="rId14" Type="http://schemas.openxmlformats.org/officeDocument/2006/relationships/image" Target="../media/image11.png"/><Relationship Id="rId15" Type="http://schemas.openxmlformats.org/officeDocument/2006/relationships/slide" Target="slide10.xml"/><Relationship Id="rId16" Type="http://schemas.openxmlformats.org/officeDocument/2006/relationships/image" Target="../media/image12.png"/><Relationship Id="rId17" Type="http://schemas.openxmlformats.org/officeDocument/2006/relationships/slide" Target="slide19.xml"/><Relationship Id="rId18" Type="http://schemas.openxmlformats.org/officeDocument/2006/relationships/image" Target="../media/image13.png"/><Relationship Id="rId19" Type="http://schemas.openxmlformats.org/officeDocument/2006/relationships/slide" Target="slide14.xml"/><Relationship Id="rId20" Type="http://schemas.openxmlformats.org/officeDocument/2006/relationships/image" Target="../media/image14.png"/><Relationship Id="rId21" Type="http://schemas.openxmlformats.org/officeDocument/2006/relationships/slide" Target="slide20.xml"/><Relationship Id="rId22" Type="http://schemas.openxmlformats.org/officeDocument/2006/relationships/image" Target="../media/image15.png"/><Relationship Id="rId23" Type="http://schemas.openxmlformats.org/officeDocument/2006/relationships/slide" Target="slide15.xml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slide" Target="slide6.xml"/><Relationship Id="rId30" Type="http://schemas.openxmlformats.org/officeDocument/2006/relationships/image" Target="../media/image21.png"/><Relationship Id="rId31" Type="http://schemas.openxmlformats.org/officeDocument/2006/relationships/slide" Target="slide7.xml"/><Relationship Id="rId32" Type="http://schemas.openxmlformats.org/officeDocument/2006/relationships/image" Target="../media/image22.png"/><Relationship Id="rId33" Type="http://schemas.openxmlformats.org/officeDocument/2006/relationships/slide" Target="slide11.xml"/><Relationship Id="rId34" Type="http://schemas.openxmlformats.org/officeDocument/2006/relationships/image" Target="../media/image23.png"/><Relationship Id="rId35" Type="http://schemas.openxmlformats.org/officeDocument/2006/relationships/slide" Target="slide12.xml"/><Relationship Id="rId36" Type="http://schemas.openxmlformats.org/officeDocument/2006/relationships/image" Target="../media/image24.png"/><Relationship Id="rId37" Type="http://schemas.openxmlformats.org/officeDocument/2006/relationships/slide" Target="slide16.xml"/><Relationship Id="rId38" Type="http://schemas.openxmlformats.org/officeDocument/2006/relationships/image" Target="../media/image25.png"/><Relationship Id="rId39" Type="http://schemas.openxmlformats.org/officeDocument/2006/relationships/slide" Target="slide17.xml"/><Relationship Id="rId40" Type="http://schemas.openxmlformats.org/officeDocument/2006/relationships/image" Target="../media/image26.png"/><Relationship Id="rId41" Type="http://schemas.openxmlformats.org/officeDocument/2006/relationships/slide" Target="slide21.xml"/><Relationship Id="rId42" Type="http://schemas.openxmlformats.org/officeDocument/2006/relationships/image" Target="../media/image27.png"/><Relationship Id="rId43" Type="http://schemas.openxmlformats.org/officeDocument/2006/relationships/slide" Target="slide22.xml"/><Relationship Id="rId44" Type="http://schemas.openxmlformats.org/officeDocument/2006/relationships/image" Target="../media/image28.png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chimes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chimes.wav"/><Relationship Id="rId62" Type="http://schemas.openxmlformats.org/officeDocument/2006/relationships/audio" Target="../media/chimes.wav"/><Relationship Id="rId63" Type="http://schemas.openxmlformats.org/officeDocument/2006/relationships/audio" Target="../media/chimes.wav"/><Relationship Id="rId64" Type="http://schemas.openxmlformats.org/officeDocument/2006/relationships/audio" Target="../media/chimes.wav"/><Relationship Id="rId65" Type="http://schemas.openxmlformats.org/officeDocument/2006/relationships/audio" Target="../media/chimes.wav"/><Relationship Id="rId66" Type="http://schemas.openxmlformats.org/officeDocument/2006/relationships/audio" Target="../media/chimes.wav"/><Relationship Id="rId67" Type="http://schemas.openxmlformats.org/officeDocument/2006/relationships/audio" Target="../media/chimes.wav"/><Relationship Id="rId68" Type="http://schemas.openxmlformats.org/officeDocument/2006/relationships/audio" Target="../media/chimes.wav"/><Relationship Id="rId6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6720" y="1122480"/>
            <a:ext cx="6394680" cy="252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57096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ine4.gif (11519 bytes)"/>
          <p:cNvPicPr/>
          <p:nvPr/>
        </p:nvPicPr>
        <p:blipFill>
          <a:blip r:embed="rId4"/>
          <a:stretch/>
        </p:blipFill>
        <p:spPr>
          <a:xfrm rot="16200000">
            <a:off x="5041080" y="3317040"/>
            <a:ext cx="6858000" cy="22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ine4.gif (11519 bytes)"/>
          <p:cNvPicPr/>
          <p:nvPr/>
        </p:nvPicPr>
        <p:blipFill>
          <a:blip r:embed="rId5"/>
          <a:stretch/>
        </p:blipFill>
        <p:spPr>
          <a:xfrm rot="16200000">
            <a:off x="-2821680" y="3321720"/>
            <a:ext cx="685800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ine4.gif (11519 bytes)"/>
          <p:cNvPicPr/>
          <p:nvPr/>
        </p:nvPicPr>
        <p:blipFill>
          <a:blip r:embed="rId6"/>
          <a:stretch/>
        </p:blipFill>
        <p:spPr>
          <a:xfrm rot="10800000">
            <a:off x="0" y="61434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0" descr=""/>
          <p:cNvPicPr/>
          <p:nvPr/>
        </p:nvPicPr>
        <p:blipFill>
          <a:blip r:embed="rId7"/>
          <a:stretch/>
        </p:blipFill>
        <p:spPr>
          <a:xfrm>
            <a:off x="1036800" y="2743200"/>
            <a:ext cx="6808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6000840"/>
            <a:ext cx="757440" cy="685800"/>
          </a:xfrm>
          <a:custGeom>
            <a:avLst/>
            <a:gdLst>
              <a:gd name="textAreaLeft" fmla="*/ 44280 w 757440"/>
              <a:gd name="textAreaRight" fmla="*/ 713160 w 75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11928" y="3837"/>
                </a:moveTo>
                <a:lnTo>
                  <a:pt x="14504" y="6448"/>
                </a:ln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lnTo>
                  <a:pt x="18891" y="10800"/>
                </a:lnTo>
                <a:lnTo>
                  <a:pt x="17237" y="10800"/>
                </a:lnTo>
                <a:lnTo>
                  <a:pt x="17237" y="17989"/>
                </a:lnTo>
                <a:lnTo>
                  <a:pt x="6618" y="17989"/>
                </a:lnTo>
                <a:lnTo>
                  <a:pt x="6618" y="10800"/>
                </a:lnTo>
                <a:lnTo>
                  <a:pt x="4965" y="10800"/>
                </a:lnTo>
                <a:close/>
              </a:path>
              <a:path fill="darkenLess" w="23855" h="21600">
                <a:moveTo>
                  <a:pt x="14504" y="6448"/>
                </a:moveTo>
                <a:lnTo>
                  <a:pt x="14504" y="4707"/>
                </a:lnTo>
                <a:lnTo>
                  <a:pt x="16279" y="4707"/>
                </a:lnTo>
                <a:lnTo>
                  <a:pt x="16279" y="8224"/>
                </a:lnTo>
                <a:close/>
              </a:path>
              <a:path fill="darkenLess" w="23855" h="21600">
                <a:moveTo>
                  <a:pt x="11005" y="14299"/>
                </a:moveTo>
                <a:lnTo>
                  <a:pt x="12850" y="14299"/>
                </a:lnTo>
                <a:lnTo>
                  <a:pt x="12850" y="17989"/>
                </a:lnTo>
                <a:lnTo>
                  <a:pt x="17237" y="17989"/>
                </a:lnTo>
                <a:lnTo>
                  <a:pt x="17237" y="10800"/>
                </a:lnTo>
                <a:lnTo>
                  <a:pt x="6618" y="10800"/>
                </a:lnTo>
                <a:lnTo>
                  <a:pt x="6618" y="17989"/>
                </a:lnTo>
                <a:lnTo>
                  <a:pt x="11005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57120" y="50004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.. Есть в океане р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амые суровые засух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а никогда не иссякает, в сам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окие половодья никогда н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полняется.  Её берега и 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ы холодной во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гда как её поток состав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ёплая вод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571680" y="642960"/>
            <a:ext cx="7929360" cy="5072040"/>
          </a:xfrm>
          <a:prstGeom prst="rect">
            <a:avLst/>
          </a:prstGeom>
          <a:solidFill>
            <a:srgbClr val="33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928800" y="857160"/>
            <a:ext cx="778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рабль плывет из Инд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нкт-Петербург. Капитан корабля заметил, что уровень  усадки корабля меняется в разных морях, таких как Аравийское, Красное, Средиземное, Балтийск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это роисход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 усадка будет больше, а где мен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5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234080" y="571680"/>
            <a:ext cx="639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конь, а бежи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 лес, а шум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жду гор, между д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жит белый ко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096640" y="4643280"/>
            <a:ext cx="507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 чем эти стих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51480" y="185724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такое атмосфе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аково её строени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домой 2">
            <a:hlinkClick r:id="rId2" action="ppaction://hlinksldjump"/>
          </p:cNvPr>
          <p:cNvSpPr/>
          <p:nvPr/>
        </p:nvSpPr>
        <p:spPr>
          <a:xfrm>
            <a:off x="807228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99160" y="500040"/>
            <a:ext cx="859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телям алжирско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идибель – Абб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Нет необходимости покуп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в магазинах чернил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ядом с ним находится цел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зеро черн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куда же оно взяло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63" name="Управляющая кнопка: домой 2">
            <a:hlinkClick r:id="rId2" action="ppaction://hlinksldjump"/>
          </p:cNvPr>
          <p:cNvSpPr/>
          <p:nvPr/>
        </p:nvSpPr>
        <p:spPr>
          <a:xfrm>
            <a:off x="8001000" y="5857920"/>
            <a:ext cx="900000" cy="828720"/>
          </a:xfrm>
          <a:custGeom>
            <a:avLst/>
            <a:gdLst>
              <a:gd name="textAreaLeft" fmla="*/ 53640 w 900000"/>
              <a:gd name="textAreaRight" fmla="*/ 846360 w 90000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57" h="21600">
                <a:moveTo>
                  <a:pt x="0" y="0"/>
                </a:moveTo>
                <a:lnTo>
                  <a:pt x="23457" y="0"/>
                </a:lnTo>
                <a:lnTo>
                  <a:pt x="23457" y="21600"/>
                </a:lnTo>
                <a:lnTo>
                  <a:pt x="0" y="21600"/>
                </a:lnTo>
                <a:close/>
              </a:path>
              <a:path fill="lightenLess" w="23457" h="21600">
                <a:moveTo>
                  <a:pt x="0" y="0"/>
                </a:moveTo>
                <a:lnTo>
                  <a:pt x="23457" y="0"/>
                </a:lnTo>
                <a:lnTo>
                  <a:pt x="22057" y="1400"/>
                </a:lnTo>
                <a:lnTo>
                  <a:pt x="1400" y="1400"/>
                </a:lnTo>
                <a:close/>
              </a:path>
              <a:path fill="darken" w="23457" h="21600">
                <a:moveTo>
                  <a:pt x="23457" y="0"/>
                </a:moveTo>
                <a:lnTo>
                  <a:pt x="23457" y="21600"/>
                </a:lnTo>
                <a:lnTo>
                  <a:pt x="22057" y="20200"/>
                </a:lnTo>
                <a:lnTo>
                  <a:pt x="22057" y="1400"/>
                </a:lnTo>
                <a:close/>
              </a:path>
              <a:path fill="darkenLess" w="23457" h="21600">
                <a:moveTo>
                  <a:pt x="23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7" y="20200"/>
                </a:lnTo>
                <a:close/>
              </a:path>
              <a:path fill="lighten" w="23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7" h="21600">
                <a:moveTo>
                  <a:pt x="11729" y="3837"/>
                </a:moveTo>
                <a:lnTo>
                  <a:pt x="14305" y="6448"/>
                </a:ln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lnTo>
                  <a:pt x="18691" y="10800"/>
                </a:lnTo>
                <a:lnTo>
                  <a:pt x="17038" y="10800"/>
                </a:lnTo>
                <a:lnTo>
                  <a:pt x="17038" y="17989"/>
                </a:lnTo>
                <a:lnTo>
                  <a:pt x="6419" y="17989"/>
                </a:lnTo>
                <a:lnTo>
                  <a:pt x="6419" y="10800"/>
                </a:lnTo>
                <a:lnTo>
                  <a:pt x="4766" y="10800"/>
                </a:lnTo>
                <a:close/>
              </a:path>
              <a:path fill="darkenLess" w="23457" h="21600">
                <a:moveTo>
                  <a:pt x="14305" y="6448"/>
                </a:moveTo>
                <a:lnTo>
                  <a:pt x="14305" y="4707"/>
                </a:lnTo>
                <a:lnTo>
                  <a:pt x="16080" y="4707"/>
                </a:lnTo>
                <a:lnTo>
                  <a:pt x="16080" y="8224"/>
                </a:lnTo>
                <a:close/>
              </a:path>
              <a:path fill="darkenLess" w="23457" h="21600">
                <a:moveTo>
                  <a:pt x="10806" y="14299"/>
                </a:moveTo>
                <a:lnTo>
                  <a:pt x="12651" y="14299"/>
                </a:lnTo>
                <a:lnTo>
                  <a:pt x="12651" y="17989"/>
                </a:lnTo>
                <a:lnTo>
                  <a:pt x="17038" y="17989"/>
                </a:lnTo>
                <a:lnTo>
                  <a:pt x="17038" y="10800"/>
                </a:lnTo>
                <a:lnTo>
                  <a:pt x="6419" y="10800"/>
                </a:lnTo>
                <a:lnTo>
                  <a:pt x="6419" y="17989"/>
                </a:lnTo>
                <a:lnTo>
                  <a:pt x="10806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91400" y="857160"/>
            <a:ext cx="8170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зеро Киву, которое расположе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Восточной Африке, ин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вращается в своего р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гантскую «кастрюлю», г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рится «ух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ите такое чудо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237320" y="1785960"/>
            <a:ext cx="725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не из все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ков выпадают осад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1143000" y="121428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изменилось бы, если бы земная ось была перпендикулярна плоскости орби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Управляющая кнопка: домой 3"/>
          <p:cNvSpPr/>
          <p:nvPr/>
        </p:nvSpPr>
        <p:spPr>
          <a:xfrm>
            <a:off x="8143920" y="5857920"/>
            <a:ext cx="828720" cy="75708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3643" h="21600">
                <a:moveTo>
                  <a:pt x="0" y="0"/>
                </a:moveTo>
                <a:lnTo>
                  <a:pt x="23643" y="0"/>
                </a:lnTo>
                <a:lnTo>
                  <a:pt x="23643" y="21600"/>
                </a:lnTo>
                <a:lnTo>
                  <a:pt x="0" y="21600"/>
                </a:lnTo>
                <a:close/>
              </a:path>
              <a:path fill="lightenLess" w="23643" h="21600">
                <a:moveTo>
                  <a:pt x="0" y="0"/>
                </a:moveTo>
                <a:lnTo>
                  <a:pt x="23643" y="0"/>
                </a:lnTo>
                <a:lnTo>
                  <a:pt x="22243" y="1400"/>
                </a:lnTo>
                <a:lnTo>
                  <a:pt x="1400" y="1400"/>
                </a:lnTo>
                <a:close/>
              </a:path>
              <a:path fill="darken" w="23643" h="21600">
                <a:moveTo>
                  <a:pt x="23643" y="0"/>
                </a:moveTo>
                <a:lnTo>
                  <a:pt x="23643" y="21600"/>
                </a:lnTo>
                <a:lnTo>
                  <a:pt x="22243" y="20200"/>
                </a:lnTo>
                <a:lnTo>
                  <a:pt x="22243" y="1400"/>
                </a:lnTo>
                <a:close/>
              </a:path>
              <a:path fill="darkenLess" w="23643" h="21600">
                <a:moveTo>
                  <a:pt x="23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3" y="20200"/>
                </a:lnTo>
                <a:close/>
              </a:path>
              <a:path fill="lighten" w="23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3" h="21600">
                <a:moveTo>
                  <a:pt x="11821" y="3837"/>
                </a:moveTo>
                <a:lnTo>
                  <a:pt x="14398" y="6448"/>
                </a:ln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lnTo>
                  <a:pt x="18784" y="10800"/>
                </a:lnTo>
                <a:lnTo>
                  <a:pt x="17131" y="10800"/>
                </a:lnTo>
                <a:lnTo>
                  <a:pt x="17131" y="17989"/>
                </a:lnTo>
                <a:lnTo>
                  <a:pt x="6512" y="17989"/>
                </a:lnTo>
                <a:lnTo>
                  <a:pt x="6512" y="10800"/>
                </a:lnTo>
                <a:lnTo>
                  <a:pt x="4859" y="10800"/>
                </a:lnTo>
                <a:close/>
              </a:path>
              <a:path fill="darkenLess" w="23643" h="21600">
                <a:moveTo>
                  <a:pt x="14398" y="6448"/>
                </a:moveTo>
                <a:lnTo>
                  <a:pt x="14398" y="4707"/>
                </a:lnTo>
                <a:lnTo>
                  <a:pt x="16173" y="4707"/>
                </a:lnTo>
                <a:lnTo>
                  <a:pt x="16173" y="8224"/>
                </a:lnTo>
                <a:close/>
              </a:path>
              <a:path fill="darkenLess" w="23643" h="21600">
                <a:moveTo>
                  <a:pt x="10899" y="14299"/>
                </a:moveTo>
                <a:lnTo>
                  <a:pt x="12744" y="14299"/>
                </a:lnTo>
                <a:lnTo>
                  <a:pt x="12744" y="17989"/>
                </a:lnTo>
                <a:lnTo>
                  <a:pt x="17131" y="17989"/>
                </a:lnTo>
                <a:lnTo>
                  <a:pt x="17131" y="10800"/>
                </a:lnTo>
                <a:lnTo>
                  <a:pt x="6512" y="10800"/>
                </a:lnTo>
                <a:lnTo>
                  <a:pt x="6512" y="17989"/>
                </a:lnTo>
                <a:lnTo>
                  <a:pt x="10899" y="17989"/>
                </a:lnTo>
                <a:close/>
              </a:path>
            </a:pathLst>
          </a:cu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rcRect l="0" t="0" r="0" b="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4"/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441440" y="642960"/>
            <a:ext cx="615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биосфе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её соста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0" t="0" r="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248840" y="1428840"/>
            <a:ext cx="632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грибы растут выш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ье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1428840"/>
                <a:gridCol w="1428840"/>
                <a:gridCol w="1285560"/>
                <a:gridCol w="1428840"/>
                <a:gridCol w="12859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49" name="Овал 2"/>
          <p:cNvGrpSpPr/>
          <p:nvPr/>
        </p:nvGrpSpPr>
        <p:grpSpPr>
          <a:xfrm>
            <a:off x="2170080" y="-19080"/>
            <a:ext cx="1974960" cy="1787400"/>
            <a:chOff x="2170080" y="-19080"/>
            <a:chExt cx="1974960" cy="1787400"/>
          </a:xfrm>
        </p:grpSpPr>
        <p:pic>
          <p:nvPicPr>
            <p:cNvPr id="50" name="Овал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17008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64636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Овал 3"/>
          <p:cNvGrpSpPr/>
          <p:nvPr/>
        </p:nvGrpSpPr>
        <p:grpSpPr>
          <a:xfrm>
            <a:off x="3565440" y="-19080"/>
            <a:ext cx="1970280" cy="1787400"/>
            <a:chOff x="3565440" y="-19080"/>
            <a:chExt cx="1970280" cy="1787400"/>
          </a:xfrm>
        </p:grpSpPr>
        <p:pic>
          <p:nvPicPr>
            <p:cNvPr id="53" name="Овал 3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565440" y="-19080"/>
              <a:ext cx="19702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014720" y="503280"/>
              <a:ext cx="7574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4"/>
          <p:cNvGrpSpPr/>
          <p:nvPr/>
        </p:nvGrpSpPr>
        <p:grpSpPr>
          <a:xfrm>
            <a:off x="5029200" y="-19080"/>
            <a:ext cx="1974960" cy="1787400"/>
            <a:chOff x="5029200" y="-19080"/>
            <a:chExt cx="1974960" cy="1787400"/>
          </a:xfrm>
        </p:grpSpPr>
        <p:pic>
          <p:nvPicPr>
            <p:cNvPr id="56" name="Овал 4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029200" y="-19080"/>
              <a:ext cx="197496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4040" y="503280"/>
              <a:ext cx="7077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5"/>
          <p:cNvGrpSpPr/>
          <p:nvPr/>
        </p:nvGrpSpPr>
        <p:grpSpPr>
          <a:xfrm>
            <a:off x="2243160" y="1695600"/>
            <a:ext cx="1974960" cy="1790640"/>
            <a:chOff x="2243160" y="1695600"/>
            <a:chExt cx="1974960" cy="1790640"/>
          </a:xfrm>
        </p:grpSpPr>
        <p:pic>
          <p:nvPicPr>
            <p:cNvPr id="59" name="Овал 5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243160" y="1695600"/>
              <a:ext cx="19749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1764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6"/>
          <p:cNvGrpSpPr/>
          <p:nvPr/>
        </p:nvGrpSpPr>
        <p:grpSpPr>
          <a:xfrm>
            <a:off x="2170080" y="5016600"/>
            <a:ext cx="1974960" cy="1792080"/>
            <a:chOff x="2170080" y="5016600"/>
            <a:chExt cx="1974960" cy="1792080"/>
          </a:xfrm>
        </p:grpSpPr>
        <p:pic>
          <p:nvPicPr>
            <p:cNvPr id="62" name="Овал 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170080" y="5016600"/>
              <a:ext cx="1974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595600" y="5514840"/>
              <a:ext cx="809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7"/>
          <p:cNvGrpSpPr/>
          <p:nvPr/>
        </p:nvGrpSpPr>
        <p:grpSpPr>
          <a:xfrm>
            <a:off x="2206800" y="3444840"/>
            <a:ext cx="1974600" cy="1792440"/>
            <a:chOff x="2206800" y="3444840"/>
            <a:chExt cx="1974600" cy="1792440"/>
          </a:xfrm>
        </p:grpSpPr>
        <p:pic>
          <p:nvPicPr>
            <p:cNvPr id="65" name="Овал 7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20680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65752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8"/>
          <p:cNvGrpSpPr/>
          <p:nvPr/>
        </p:nvGrpSpPr>
        <p:grpSpPr>
          <a:xfrm>
            <a:off x="3529080" y="1695600"/>
            <a:ext cx="1976400" cy="1790640"/>
            <a:chOff x="3529080" y="1695600"/>
            <a:chExt cx="1976400" cy="1790640"/>
          </a:xfrm>
        </p:grpSpPr>
        <p:pic>
          <p:nvPicPr>
            <p:cNvPr id="68" name="Овал 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529080" y="1695600"/>
              <a:ext cx="197640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0356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Овал 9"/>
          <p:cNvGrpSpPr/>
          <p:nvPr/>
        </p:nvGrpSpPr>
        <p:grpSpPr>
          <a:xfrm>
            <a:off x="4962600" y="1695600"/>
            <a:ext cx="1968480" cy="1790640"/>
            <a:chOff x="4962600" y="1695600"/>
            <a:chExt cx="1968480" cy="1790640"/>
          </a:xfrm>
        </p:grpSpPr>
        <p:pic>
          <p:nvPicPr>
            <p:cNvPr id="71" name="Овал 9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4962600" y="1695600"/>
              <a:ext cx="196848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432400" y="221760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Овал 10"/>
          <p:cNvGrpSpPr/>
          <p:nvPr/>
        </p:nvGrpSpPr>
        <p:grpSpPr>
          <a:xfrm>
            <a:off x="3602160" y="5052960"/>
            <a:ext cx="1969920" cy="1811520"/>
            <a:chOff x="3602160" y="5052960"/>
            <a:chExt cx="1969920" cy="1811520"/>
          </a:xfrm>
        </p:grpSpPr>
        <p:pic>
          <p:nvPicPr>
            <p:cNvPr id="74" name="Овал 1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360216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0244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Овал 11"/>
          <p:cNvGrpSpPr/>
          <p:nvPr/>
        </p:nvGrpSpPr>
        <p:grpSpPr>
          <a:xfrm>
            <a:off x="3565440" y="3444840"/>
            <a:ext cx="1970280" cy="1792440"/>
            <a:chOff x="3565440" y="3444840"/>
            <a:chExt cx="1970280" cy="1792440"/>
          </a:xfrm>
        </p:grpSpPr>
        <p:pic>
          <p:nvPicPr>
            <p:cNvPr id="77" name="Овал 11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356544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01472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Овал 12"/>
          <p:cNvGrpSpPr/>
          <p:nvPr/>
        </p:nvGrpSpPr>
        <p:grpSpPr>
          <a:xfrm>
            <a:off x="4956120" y="5052960"/>
            <a:ext cx="1974960" cy="1811520"/>
            <a:chOff x="4956120" y="5052960"/>
            <a:chExt cx="1974960" cy="1811520"/>
          </a:xfrm>
        </p:grpSpPr>
        <p:pic>
          <p:nvPicPr>
            <p:cNvPr id="80" name="Овал 12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95612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3816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Овал 13"/>
          <p:cNvGrpSpPr/>
          <p:nvPr/>
        </p:nvGrpSpPr>
        <p:grpSpPr>
          <a:xfrm>
            <a:off x="4919760" y="3444840"/>
            <a:ext cx="1974600" cy="1792440"/>
            <a:chOff x="4919760" y="3444840"/>
            <a:chExt cx="1974600" cy="1792440"/>
          </a:xfrm>
        </p:grpSpPr>
        <p:pic>
          <p:nvPicPr>
            <p:cNvPr id="83" name="Овал 13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919760" y="3444840"/>
              <a:ext cx="197460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372280" y="3943440"/>
              <a:ext cx="757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кругленный прямоугольник 14"/>
          <p:cNvGrpSpPr/>
          <p:nvPr/>
        </p:nvGrpSpPr>
        <p:grpSpPr>
          <a:xfrm>
            <a:off x="-49320" y="-49320"/>
            <a:ext cx="2700360" cy="2060640"/>
            <a:chOff x="-49320" y="-49320"/>
            <a:chExt cx="2700360" cy="2060640"/>
          </a:xfrm>
        </p:grpSpPr>
        <p:pic>
          <p:nvPicPr>
            <p:cNvPr id="86" name="Скругленный прямоугольник 14" descr=""/>
            <p:cNvPicPr/>
            <p:nvPr/>
          </p:nvPicPr>
          <p:blipFill>
            <a:blip r:embed="rId25"/>
            <a:stretch/>
          </p:blipFill>
          <p:spPr>
            <a:xfrm>
              <a:off x="-49320" y="-4932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2840" y="4284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лит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Скругленный прямоугольник 15"/>
          <p:cNvGrpSpPr/>
          <p:nvPr/>
        </p:nvGrpSpPr>
        <p:grpSpPr>
          <a:xfrm>
            <a:off x="-49320" y="1736640"/>
            <a:ext cx="2700360" cy="2054160"/>
            <a:chOff x="-49320" y="1736640"/>
            <a:chExt cx="2700360" cy="2054160"/>
          </a:xfrm>
        </p:grpSpPr>
        <p:pic>
          <p:nvPicPr>
            <p:cNvPr id="89" name="Скругленный прямоугольник 15" descr=""/>
            <p:cNvPicPr/>
            <p:nvPr/>
          </p:nvPicPr>
          <p:blipFill>
            <a:blip r:embed="rId26"/>
            <a:stretch/>
          </p:blipFill>
          <p:spPr>
            <a:xfrm>
              <a:off x="-49320" y="1736640"/>
              <a:ext cx="27003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2840" y="1828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гидр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Скругленный прямоугольник 16"/>
          <p:cNvGrpSpPr/>
          <p:nvPr/>
        </p:nvGrpSpPr>
        <p:grpSpPr>
          <a:xfrm>
            <a:off x="-49320" y="5162400"/>
            <a:ext cx="2700360" cy="2060640"/>
            <a:chOff x="-49320" y="5162400"/>
            <a:chExt cx="2700360" cy="2060640"/>
          </a:xfrm>
        </p:grpSpPr>
        <p:pic>
          <p:nvPicPr>
            <p:cNvPr id="92" name="Скругленный прямоугольник 16" descr=""/>
            <p:cNvPicPr/>
            <p:nvPr/>
          </p:nvPicPr>
          <p:blipFill>
            <a:blip r:embed="rId27"/>
            <a:stretch/>
          </p:blipFill>
          <p:spPr>
            <a:xfrm>
              <a:off x="-49320" y="5162400"/>
              <a:ext cx="270036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2840" y="5257800"/>
              <a:ext cx="2200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би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Скругленный прямоугольник 17"/>
          <p:cNvGrpSpPr/>
          <p:nvPr/>
        </p:nvGrpSpPr>
        <p:grpSpPr>
          <a:xfrm>
            <a:off x="-60480" y="3438360"/>
            <a:ext cx="2724480" cy="2084400"/>
            <a:chOff x="-60480" y="3438360"/>
            <a:chExt cx="2724480" cy="2084400"/>
          </a:xfrm>
        </p:grpSpPr>
        <p:pic>
          <p:nvPicPr>
            <p:cNvPr id="95" name="Скругленный прямоугольник 17" descr=""/>
            <p:cNvPicPr/>
            <p:nvPr/>
          </p:nvPicPr>
          <p:blipFill>
            <a:blip r:embed="rId28"/>
            <a:stretch/>
          </p:blipFill>
          <p:spPr>
            <a:xfrm>
              <a:off x="-60480" y="3438360"/>
              <a:ext cx="272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840" y="3543480"/>
              <a:ext cx="220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атмосф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Овал 20"/>
          <p:cNvGrpSpPr/>
          <p:nvPr/>
        </p:nvGrpSpPr>
        <p:grpSpPr>
          <a:xfrm>
            <a:off x="6450120" y="55440"/>
            <a:ext cx="1846080" cy="1670040"/>
            <a:chOff x="6450120" y="55440"/>
            <a:chExt cx="1846080" cy="1670040"/>
          </a:xfrm>
        </p:grpSpPr>
        <p:pic>
          <p:nvPicPr>
            <p:cNvPr id="98" name="Овал 20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450120" y="55440"/>
              <a:ext cx="184608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61240" y="503280"/>
              <a:ext cx="7081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вал 21"/>
          <p:cNvGrpSpPr/>
          <p:nvPr/>
        </p:nvGrpSpPr>
        <p:grpSpPr>
          <a:xfrm>
            <a:off x="7669080" y="-19080"/>
            <a:ext cx="1968480" cy="1787400"/>
            <a:chOff x="7669080" y="-19080"/>
            <a:chExt cx="1968480" cy="1787400"/>
          </a:xfrm>
        </p:grpSpPr>
        <p:pic>
          <p:nvPicPr>
            <p:cNvPr id="101" name="Овал 21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7669080" y="-19080"/>
              <a:ext cx="196848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145360" y="503280"/>
              <a:ext cx="696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Овал 22"/>
          <p:cNvGrpSpPr/>
          <p:nvPr/>
        </p:nvGrpSpPr>
        <p:grpSpPr>
          <a:xfrm>
            <a:off x="6272280" y="1652760"/>
            <a:ext cx="1969920" cy="1792080"/>
            <a:chOff x="6272280" y="1652760"/>
            <a:chExt cx="1969920" cy="1792080"/>
          </a:xfrm>
        </p:grpSpPr>
        <p:pic>
          <p:nvPicPr>
            <p:cNvPr id="104" name="Овал 22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6272280" y="1652760"/>
              <a:ext cx="196992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2155680"/>
              <a:ext cx="7462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Овал 23"/>
          <p:cNvGrpSpPr/>
          <p:nvPr/>
        </p:nvGrpSpPr>
        <p:grpSpPr>
          <a:xfrm>
            <a:off x="7632720" y="1657440"/>
            <a:ext cx="1968480" cy="1792080"/>
            <a:chOff x="7632720" y="1657440"/>
            <a:chExt cx="1968480" cy="1792080"/>
          </a:xfrm>
        </p:grpSpPr>
        <p:pic>
          <p:nvPicPr>
            <p:cNvPr id="107" name="Овал 23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7632720" y="1657440"/>
              <a:ext cx="196848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085240" y="2157480"/>
              <a:ext cx="745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28"/>
          <p:cNvGrpSpPr/>
          <p:nvPr/>
        </p:nvGrpSpPr>
        <p:grpSpPr>
          <a:xfrm>
            <a:off x="6351480" y="3444840"/>
            <a:ext cx="1970280" cy="1792440"/>
            <a:chOff x="6351480" y="3444840"/>
            <a:chExt cx="1970280" cy="1792440"/>
          </a:xfrm>
        </p:grpSpPr>
        <p:pic>
          <p:nvPicPr>
            <p:cNvPr id="110" name="Овал 28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6351480" y="3444840"/>
              <a:ext cx="19702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0076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29"/>
          <p:cNvGrpSpPr/>
          <p:nvPr/>
        </p:nvGrpSpPr>
        <p:grpSpPr>
          <a:xfrm>
            <a:off x="7639200" y="3444840"/>
            <a:ext cx="1968480" cy="1792440"/>
            <a:chOff x="7639200" y="3444840"/>
            <a:chExt cx="1968480" cy="1792440"/>
          </a:xfrm>
        </p:grpSpPr>
        <p:pic>
          <p:nvPicPr>
            <p:cNvPr id="113" name="Овал 29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7639200" y="3444840"/>
              <a:ext cx="19684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86680" y="394344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30"/>
          <p:cNvGrpSpPr/>
          <p:nvPr/>
        </p:nvGrpSpPr>
        <p:grpSpPr>
          <a:xfrm>
            <a:off x="6315120" y="5052960"/>
            <a:ext cx="1969920" cy="1811520"/>
            <a:chOff x="6315120" y="5052960"/>
            <a:chExt cx="1969920" cy="1811520"/>
          </a:xfrm>
        </p:grpSpPr>
        <p:pic>
          <p:nvPicPr>
            <p:cNvPr id="116" name="Овал 30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6315120" y="5052960"/>
              <a:ext cx="196992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3884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31"/>
          <p:cNvGrpSpPr/>
          <p:nvPr/>
        </p:nvGrpSpPr>
        <p:grpSpPr>
          <a:xfrm>
            <a:off x="7742160" y="5052960"/>
            <a:ext cx="1974960" cy="1811520"/>
            <a:chOff x="7742160" y="5052960"/>
            <a:chExt cx="1974960" cy="1811520"/>
          </a:xfrm>
        </p:grpSpPr>
        <p:pic>
          <p:nvPicPr>
            <p:cNvPr id="119" name="Овал 31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7742160" y="5052960"/>
              <a:ext cx="197496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167680" y="552456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9" descr="line4.gif (11519 bytes)"/>
          <p:cNvPicPr/>
          <p:nvPr/>
        </p:nvPicPr>
        <p:blipFill>
          <a:blip r:embed="rId45"/>
          <a:stretch/>
        </p:blipFill>
        <p:spPr>
          <a:xfrm rot="10800000">
            <a:off x="0" y="157104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line4.gif (11519 bytes)"/>
          <p:cNvPicPr/>
          <p:nvPr/>
        </p:nvPicPr>
        <p:blipFill>
          <a:blip r:embed="rId46"/>
          <a:stretch/>
        </p:blipFill>
        <p:spPr>
          <a:xfrm rot="10800000">
            <a:off x="0" y="3357000"/>
            <a:ext cx="9144000" cy="223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line4.gif (11519 bytes)"/>
          <p:cNvPicPr/>
          <p:nvPr/>
        </p:nvPicPr>
        <p:blipFill>
          <a:blip r:embed="rId47"/>
          <a:stretch/>
        </p:blipFill>
        <p:spPr>
          <a:xfrm rot="10800000">
            <a:off x="0" y="5071680"/>
            <a:ext cx="9144000" cy="2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омой 2"/>
          <p:cNvSpPr/>
          <p:nvPr/>
        </p:nvSpPr>
        <p:spPr>
          <a:xfrm>
            <a:off x="807228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214200" y="714240"/>
            <a:ext cx="87868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епло»,  «влажность», «растения»,  «кислород»,  «углекислый газ», «живот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те взаимосвязанную цеп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rcRect l="0" t="0" r="56" b="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734400" y="571680"/>
            <a:ext cx="788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ъясните, почему хищн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ят от такого компонен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ы, как поч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домой 2"/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928800" y="1000080"/>
            <a:ext cx="7286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чему после гибели растений и живот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анки организмов не накапливаются на земной поверх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user\Рабочий стол\мои документы\Шаблоны ppt\Оформление презентаций\Рисунки к презентациям\Рисунок6.jpg"/>
          <p:cNvPicPr/>
          <p:nvPr/>
        </p:nvPicPr>
        <p:blipFill>
          <a:blip r:embed="rId1"/>
          <a:stretch/>
        </p:blipFill>
        <p:spPr>
          <a:xfrm>
            <a:off x="1571760" y="1684440"/>
            <a:ext cx="5929200" cy="517356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2"/>
          <a:stretch/>
        </p:blipFill>
        <p:spPr>
          <a:xfrm>
            <a:off x="1427040" y="274680"/>
            <a:ext cx="7083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001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Управляющая кнопка: домой 2"/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005840" y="714240"/>
            <a:ext cx="7130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.. Есть в океане р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амые суровые зас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а никогда не иссякает, в са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кие половодья никогда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полняется.  Её берега и 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ы холодной вод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гда как её поток с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ёплая вод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чем идёт речь в этом отрыв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Управляющая кнопка: домой 1">
            <a:hlinkClick r:id="rId2" action="ppaction://hlinksldjump"/>
          </p:cNvPr>
          <p:cNvSpPr/>
          <p:nvPr/>
        </p:nvSpPr>
        <p:spPr>
          <a:xfrm>
            <a:off x="8215200" y="5929200"/>
            <a:ext cx="757440" cy="75744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23680" y="2214720"/>
            <a:ext cx="801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ие части литосфер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домой 1">
            <a:hlinkClick r:id="rId2" action="ppaction://hlinksldjump"/>
          </p:cNvPr>
          <p:cNvSpPr/>
          <p:nvPr/>
        </p:nvSpPr>
        <p:spPr>
          <a:xfrm>
            <a:off x="8143920" y="5929200"/>
            <a:ext cx="828720" cy="757440"/>
          </a:xfrm>
          <a:custGeom>
            <a:avLst/>
            <a:gdLst>
              <a:gd name="textAreaLeft" fmla="*/ 48960 w 828720"/>
              <a:gd name="textAreaRight" fmla="*/ 779760 w 828720"/>
              <a:gd name="textAreaTop" fmla="*/ 48960 h 757440"/>
              <a:gd name="textAreaBottom" fmla="*/ 708480 h 757440"/>
            </a:gdLst>
            <a:ahLst/>
            <a:rect l="textAreaLeft" t="textAreaTop" r="textAreaRight" b="textAreaBottom"/>
            <a:pathLst>
              <a:path w="23632" h="21600">
                <a:moveTo>
                  <a:pt x="0" y="0"/>
                </a:moveTo>
                <a:lnTo>
                  <a:pt x="23632" y="0"/>
                </a:lnTo>
                <a:lnTo>
                  <a:pt x="23632" y="21600"/>
                </a:lnTo>
                <a:lnTo>
                  <a:pt x="0" y="21600"/>
                </a:lnTo>
                <a:close/>
              </a:path>
              <a:path fill="lightenLess" w="23632" h="21600">
                <a:moveTo>
                  <a:pt x="0" y="0"/>
                </a:moveTo>
                <a:lnTo>
                  <a:pt x="23632" y="0"/>
                </a:lnTo>
                <a:lnTo>
                  <a:pt x="22232" y="1400"/>
                </a:lnTo>
                <a:lnTo>
                  <a:pt x="1400" y="1400"/>
                </a:lnTo>
                <a:close/>
              </a:path>
              <a:path fill="darken" w="23632" h="21600">
                <a:moveTo>
                  <a:pt x="23632" y="0"/>
                </a:moveTo>
                <a:lnTo>
                  <a:pt x="23632" y="21600"/>
                </a:lnTo>
                <a:lnTo>
                  <a:pt x="22232" y="20200"/>
                </a:lnTo>
                <a:lnTo>
                  <a:pt x="22232" y="1400"/>
                </a:lnTo>
                <a:close/>
              </a:path>
              <a:path fill="darkenLess" w="23632" h="21600">
                <a:moveTo>
                  <a:pt x="23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2" y="20200"/>
                </a:lnTo>
                <a:close/>
              </a:path>
              <a:path fill="lighten" w="23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2" h="21600">
                <a:moveTo>
                  <a:pt x="11816" y="3837"/>
                </a:moveTo>
                <a:lnTo>
                  <a:pt x="14392" y="6448"/>
                </a:ln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lnTo>
                  <a:pt x="18779" y="10800"/>
                </a:lnTo>
                <a:lnTo>
                  <a:pt x="17125" y="10800"/>
                </a:lnTo>
                <a:lnTo>
                  <a:pt x="17125" y="17989"/>
                </a:lnTo>
                <a:lnTo>
                  <a:pt x="6507" y="17989"/>
                </a:lnTo>
                <a:lnTo>
                  <a:pt x="6507" y="10800"/>
                </a:lnTo>
                <a:lnTo>
                  <a:pt x="4853" y="10800"/>
                </a:lnTo>
                <a:close/>
              </a:path>
              <a:path fill="darkenLess" w="23632" h="21600">
                <a:moveTo>
                  <a:pt x="14392" y="6448"/>
                </a:moveTo>
                <a:lnTo>
                  <a:pt x="14392" y="4707"/>
                </a:lnTo>
                <a:lnTo>
                  <a:pt x="16168" y="4707"/>
                </a:lnTo>
                <a:lnTo>
                  <a:pt x="16168" y="8224"/>
                </a:lnTo>
                <a:close/>
              </a:path>
              <a:path fill="darkenLess" w="23632" h="21600">
                <a:moveTo>
                  <a:pt x="10893" y="14299"/>
                </a:moveTo>
                <a:lnTo>
                  <a:pt x="12738" y="14299"/>
                </a:lnTo>
                <a:lnTo>
                  <a:pt x="12738" y="17989"/>
                </a:lnTo>
                <a:lnTo>
                  <a:pt x="17125" y="17989"/>
                </a:lnTo>
                <a:lnTo>
                  <a:pt x="17125" y="10800"/>
                </a:lnTo>
                <a:lnTo>
                  <a:pt x="6507" y="10800"/>
                </a:lnTo>
                <a:lnTo>
                  <a:pt x="6507" y="17989"/>
                </a:lnTo>
                <a:lnTo>
                  <a:pt x="10893" y="17989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40040" y="2928960"/>
            <a:ext cx="89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пишите строение вулк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омой 1">
            <a:hlinkClick r:id="rId2" action="ppaction://hlinksldjump"/>
          </p:cNvPr>
          <p:cNvSpPr/>
          <p:nvPr/>
        </p:nvSpPr>
        <p:spPr>
          <a:xfrm>
            <a:off x="8072280" y="5857920"/>
            <a:ext cx="900360" cy="828720"/>
          </a:xfrm>
          <a:custGeom>
            <a:avLst/>
            <a:gdLst>
              <a:gd name="textAreaLeft" fmla="*/ 53640 w 900360"/>
              <a:gd name="textAreaRight" fmla="*/ 846720 w 90036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3466" h="21600">
                <a:moveTo>
                  <a:pt x="0" y="0"/>
                </a:moveTo>
                <a:lnTo>
                  <a:pt x="23466" y="0"/>
                </a:lnTo>
                <a:lnTo>
                  <a:pt x="23466" y="21600"/>
                </a:lnTo>
                <a:lnTo>
                  <a:pt x="0" y="21600"/>
                </a:lnTo>
                <a:close/>
              </a:path>
              <a:path fill="lightenLess" w="23466" h="21600">
                <a:moveTo>
                  <a:pt x="0" y="0"/>
                </a:moveTo>
                <a:lnTo>
                  <a:pt x="23466" y="0"/>
                </a:lnTo>
                <a:lnTo>
                  <a:pt x="22066" y="1400"/>
                </a:lnTo>
                <a:lnTo>
                  <a:pt x="1400" y="1400"/>
                </a:lnTo>
                <a:close/>
              </a:path>
              <a:path fill="darken" w="23466" h="21600">
                <a:moveTo>
                  <a:pt x="23466" y="0"/>
                </a:moveTo>
                <a:lnTo>
                  <a:pt x="23466" y="21600"/>
                </a:lnTo>
                <a:lnTo>
                  <a:pt x="22066" y="20200"/>
                </a:lnTo>
                <a:lnTo>
                  <a:pt x="22066" y="1400"/>
                </a:lnTo>
                <a:close/>
              </a:path>
              <a:path fill="darkenLess" w="23466" h="21600">
                <a:moveTo>
                  <a:pt x="23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6" y="20200"/>
                </a:lnTo>
                <a:close/>
              </a:path>
              <a:path fill="lighten" w="23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6" h="21600">
                <a:moveTo>
                  <a:pt x="11733" y="3837"/>
                </a:moveTo>
                <a:lnTo>
                  <a:pt x="14310" y="6448"/>
                </a:ln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lnTo>
                  <a:pt x="18696" y="10800"/>
                </a:lnTo>
                <a:lnTo>
                  <a:pt x="17042" y="10800"/>
                </a:lnTo>
                <a:lnTo>
                  <a:pt x="17042" y="17989"/>
                </a:lnTo>
                <a:lnTo>
                  <a:pt x="6424" y="17989"/>
                </a:lnTo>
                <a:lnTo>
                  <a:pt x="6424" y="10800"/>
                </a:lnTo>
                <a:lnTo>
                  <a:pt x="4770" y="10800"/>
                </a:lnTo>
                <a:close/>
              </a:path>
              <a:path fill="darkenLess" w="23466" h="21600">
                <a:moveTo>
                  <a:pt x="14310" y="6448"/>
                </a:moveTo>
                <a:lnTo>
                  <a:pt x="14310" y="4707"/>
                </a:lnTo>
                <a:lnTo>
                  <a:pt x="16085" y="4707"/>
                </a:lnTo>
                <a:lnTo>
                  <a:pt x="16085" y="8224"/>
                </a:lnTo>
                <a:close/>
              </a:path>
              <a:path fill="darkenLess" w="23466" h="21600">
                <a:moveTo>
                  <a:pt x="10811" y="14299"/>
                </a:moveTo>
                <a:lnTo>
                  <a:pt x="12656" y="14299"/>
                </a:lnTo>
                <a:lnTo>
                  <a:pt x="12656" y="17989"/>
                </a:lnTo>
                <a:lnTo>
                  <a:pt x="17042" y="17989"/>
                </a:lnTo>
                <a:lnTo>
                  <a:pt x="17042" y="10800"/>
                </a:lnTo>
                <a:lnTo>
                  <a:pt x="6424" y="10800"/>
                </a:lnTo>
                <a:lnTo>
                  <a:pt x="6424" y="17989"/>
                </a:lnTo>
                <a:lnTo>
                  <a:pt x="10811" y="17989"/>
                </a:lnTo>
                <a:close/>
              </a:path>
            </a:pathLst>
          </a:cu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11040" y="2214720"/>
            <a:ext cx="8472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называется прибор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ксирующий колеб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мной кор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омой 1">
            <a:hlinkClick r:id="rId2" action="ppaction://hlinksldjump"/>
          </p:cNvPr>
          <p:cNvSpPr/>
          <p:nvPr/>
        </p:nvSpPr>
        <p:spPr>
          <a:xfrm>
            <a:off x="800100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244520" y="1000080"/>
            <a:ext cx="664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..Дым хлынул клубом -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роко развилось, как боевое зна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 волнуется – с шатнувшихся коло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миры пад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, гонимый страх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каменным ог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воспалённым пра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пами, стар и мл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жит из града в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А.С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явление природы описывает по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тих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37" name="Управляющая кнопка: домой 1">
            <a:hlinkClick r:id="rId2" action="ppaction://hlinksldjump"/>
          </p:cNvPr>
          <p:cNvSpPr/>
          <p:nvPr/>
        </p:nvSpPr>
        <p:spPr>
          <a:xfrm>
            <a:off x="8286840" y="600084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68640" y="1428840"/>
            <a:ext cx="895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жет ли быть землетряс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нашей местно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rcRect l="0" t="0" r="59" b="0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6000840"/>
            <a:ext cx="757080" cy="685800"/>
          </a:xfrm>
          <a:custGeom>
            <a:avLst/>
            <a:gdLst>
              <a:gd name="textAreaLeft" fmla="*/ 44280 w 757080"/>
              <a:gd name="textAreaRight" fmla="*/ 712800 w 757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844" h="21600">
                <a:moveTo>
                  <a:pt x="0" y="0"/>
                </a:moveTo>
                <a:lnTo>
                  <a:pt x="23844" y="0"/>
                </a:lnTo>
                <a:lnTo>
                  <a:pt x="23844" y="21600"/>
                </a:lnTo>
                <a:lnTo>
                  <a:pt x="0" y="21600"/>
                </a:lnTo>
                <a:close/>
              </a:path>
              <a:path fill="lightenLess" w="23844" h="21600">
                <a:moveTo>
                  <a:pt x="0" y="0"/>
                </a:moveTo>
                <a:lnTo>
                  <a:pt x="23844" y="0"/>
                </a:lnTo>
                <a:lnTo>
                  <a:pt x="22444" y="1400"/>
                </a:lnTo>
                <a:lnTo>
                  <a:pt x="1400" y="1400"/>
                </a:lnTo>
                <a:close/>
              </a:path>
              <a:path fill="darken" w="23844" h="21600">
                <a:moveTo>
                  <a:pt x="23844" y="0"/>
                </a:moveTo>
                <a:lnTo>
                  <a:pt x="23844" y="21600"/>
                </a:lnTo>
                <a:lnTo>
                  <a:pt x="22444" y="20200"/>
                </a:lnTo>
                <a:lnTo>
                  <a:pt x="22444" y="1400"/>
                </a:lnTo>
                <a:close/>
              </a:path>
              <a:path fill="darkenLess" w="23844" h="21600">
                <a:moveTo>
                  <a:pt x="2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44" y="20200"/>
                </a:lnTo>
                <a:close/>
              </a:path>
              <a:path fill="lighten" w="2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44" h="21600">
                <a:moveTo>
                  <a:pt x="11922" y="3837"/>
                </a:moveTo>
                <a:lnTo>
                  <a:pt x="14498" y="6448"/>
                </a:ln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lnTo>
                  <a:pt x="18885" y="10800"/>
                </a:lnTo>
                <a:lnTo>
                  <a:pt x="17231" y="10800"/>
                </a:lnTo>
                <a:lnTo>
                  <a:pt x="17231" y="17989"/>
                </a:lnTo>
                <a:lnTo>
                  <a:pt x="6613" y="17989"/>
                </a:lnTo>
                <a:lnTo>
                  <a:pt x="6613" y="10800"/>
                </a:lnTo>
                <a:lnTo>
                  <a:pt x="4959" y="10800"/>
                </a:lnTo>
                <a:close/>
              </a:path>
              <a:path fill="darkenLess" w="23844" h="21600">
                <a:moveTo>
                  <a:pt x="14498" y="6448"/>
                </a:moveTo>
                <a:lnTo>
                  <a:pt x="14498" y="4707"/>
                </a:lnTo>
                <a:lnTo>
                  <a:pt x="16274" y="4707"/>
                </a:lnTo>
                <a:lnTo>
                  <a:pt x="16274" y="8224"/>
                </a:lnTo>
                <a:close/>
              </a:path>
              <a:path fill="darkenLess" w="23844" h="21600">
                <a:moveTo>
                  <a:pt x="10999" y="14299"/>
                </a:moveTo>
                <a:lnTo>
                  <a:pt x="12845" y="14299"/>
                </a:lnTo>
                <a:lnTo>
                  <a:pt x="12845" y="17989"/>
                </a:lnTo>
                <a:lnTo>
                  <a:pt x="17231" y="17989"/>
                </a:lnTo>
                <a:lnTo>
                  <a:pt x="17231" y="10800"/>
                </a:lnTo>
                <a:lnTo>
                  <a:pt x="6613" y="10800"/>
                </a:lnTo>
                <a:lnTo>
                  <a:pt x="6613" y="17989"/>
                </a:lnTo>
                <a:lnTo>
                  <a:pt x="10999" y="17989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81240" y="1571760"/>
            <a:ext cx="85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гидросфер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состав гидр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0" t="0" r="59" b="7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Управляющая кнопка: домой 2">
            <a:hlinkClick r:id="rId2" action="ppaction://hlinksldjump"/>
          </p:cNvPr>
          <p:cNvSpPr/>
          <p:nvPr/>
        </p:nvSpPr>
        <p:spPr>
          <a:xfrm>
            <a:off x="8143920" y="5857920"/>
            <a:ext cx="828720" cy="828720"/>
          </a:xfrm>
          <a:custGeom>
            <a:avLst/>
            <a:gdLst>
              <a:gd name="textAreaLeft" fmla="*/ 53640 w 828720"/>
              <a:gd name="textAreaRight" fmla="*/ 775080 w 8287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945360" y="1357200"/>
            <a:ext cx="733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Почему у берегов океа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солёность вод ни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Arial"/>
              </a:rPr>
              <a:t>чем в открытом океа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6:17:49Z</dcterms:created>
  <dc:creator>user</dc:creator>
  <dc:description/>
  <dc:language>en-US</dc:language>
  <cp:lastModifiedBy>user</cp:lastModifiedBy>
  <dcterms:modified xsi:type="dcterms:W3CDTF">2010-05-28T07:26:44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60000000000010250300207f7000400038000</vt:lpwstr>
  </property>
</Properties>
</file>