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chimes.wav" ContentType="audio/x-wav"/>
  <Override PartName="/ppt/media/image16.png" ContentType="image/png"/>
  <Override PartName="/ppt/media/image15.png" ContentType="image/png"/>
  <Override PartName="/ppt/media/image6.png" ContentType="image/png"/>
  <Override PartName="/ppt/media/image11.png" ContentType="image/png"/>
  <Override PartName="/ppt/media/image41.jpeg" ContentType="image/jpeg"/>
  <Override PartName="/ppt/media/image9.png" ContentType="image/png"/>
  <Override PartName="/ppt/media/image40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29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31.jpeg" ContentType="image/jpeg"/>
  <Override PartName="/ppt/media/image2.png" ContentType="image/png"/>
  <Override PartName="/ppt/media/image30.jpeg" ContentType="image/jpeg"/>
  <Override PartName="/ppt/media/image4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2.png" ContentType="image/png"/>
  <Override PartName="/ppt/media/image7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5.png" ContentType="image/png"/>
  <Override PartName="/ppt/media/image42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086-AB4F-467E-9C32-50A62591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C0D-535A-4924-8288-C8A7EA05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586-0B86-41EE-A5C5-8C567DAA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A4C-18D4-42E3-8084-ABF31DA5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4BC-C242-487A-AEF1-36A67B82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06E-C0A4-4CA4-A833-57EBA60F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1F28-BCCB-4536-B41C-EA4CE0FF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114B-DCB1-4C68-B40B-A603CF1C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D318-7536-43C8-9B55-6A9BB457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D7F-B4C3-43C5-82FD-3FD3B729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F8C-55FC-4F17-AA2E-6A206974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FB1-AF38-4712-A3E9-D682DA7A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1D73-5313-4AEF-8F8F-49DC1C7A5C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4.xml"/><Relationship Id="rId4" Type="http://schemas.openxmlformats.org/officeDocument/2006/relationships/image" Target="../media/image6.png"/><Relationship Id="rId5" Type="http://schemas.openxmlformats.org/officeDocument/2006/relationships/slide" Target="slide5.xml"/><Relationship Id="rId6" Type="http://schemas.openxmlformats.org/officeDocument/2006/relationships/image" Target="../media/image7.png"/><Relationship Id="rId7" Type="http://schemas.openxmlformats.org/officeDocument/2006/relationships/slide" Target="slide8.xml"/><Relationship Id="rId8" Type="http://schemas.openxmlformats.org/officeDocument/2006/relationships/image" Target="../media/image8.png"/><Relationship Id="rId9" Type="http://schemas.openxmlformats.org/officeDocument/2006/relationships/slide" Target="slide18.xml"/><Relationship Id="rId10" Type="http://schemas.openxmlformats.org/officeDocument/2006/relationships/image" Target="../media/image9.png"/><Relationship Id="rId11" Type="http://schemas.openxmlformats.org/officeDocument/2006/relationships/slide" Target="slide13.xml"/><Relationship Id="rId12" Type="http://schemas.openxmlformats.org/officeDocument/2006/relationships/image" Target="../media/image10.png"/><Relationship Id="rId13" Type="http://schemas.openxmlformats.org/officeDocument/2006/relationships/slide" Target="slide9.xml"/><Relationship Id="rId14" Type="http://schemas.openxmlformats.org/officeDocument/2006/relationships/image" Target="../media/image11.png"/><Relationship Id="rId15" Type="http://schemas.openxmlformats.org/officeDocument/2006/relationships/slide" Target="slide10.xml"/><Relationship Id="rId16" Type="http://schemas.openxmlformats.org/officeDocument/2006/relationships/image" Target="../media/image12.png"/><Relationship Id="rId17" Type="http://schemas.openxmlformats.org/officeDocument/2006/relationships/slide" Target="slide19.xml"/><Relationship Id="rId18" Type="http://schemas.openxmlformats.org/officeDocument/2006/relationships/image" Target="../media/image13.png"/><Relationship Id="rId19" Type="http://schemas.openxmlformats.org/officeDocument/2006/relationships/slide" Target="slide14.xml"/><Relationship Id="rId20" Type="http://schemas.openxmlformats.org/officeDocument/2006/relationships/image" Target="../media/image14.png"/><Relationship Id="rId21" Type="http://schemas.openxmlformats.org/officeDocument/2006/relationships/slide" Target="slide20.xml"/><Relationship Id="rId22" Type="http://schemas.openxmlformats.org/officeDocument/2006/relationships/image" Target="../media/image15.png"/><Relationship Id="rId23" Type="http://schemas.openxmlformats.org/officeDocument/2006/relationships/slide" Target="slide15.xml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slide" Target="slide6.xml"/><Relationship Id="rId30" Type="http://schemas.openxmlformats.org/officeDocument/2006/relationships/image" Target="../media/image21.png"/><Relationship Id="rId31" Type="http://schemas.openxmlformats.org/officeDocument/2006/relationships/slide" Target="slide7.xml"/><Relationship Id="rId32" Type="http://schemas.openxmlformats.org/officeDocument/2006/relationships/image" Target="../media/image22.png"/><Relationship Id="rId33" Type="http://schemas.openxmlformats.org/officeDocument/2006/relationships/slide" Target="slide11.xml"/><Relationship Id="rId34" Type="http://schemas.openxmlformats.org/officeDocument/2006/relationships/image" Target="../media/image23.png"/><Relationship Id="rId35" Type="http://schemas.openxmlformats.org/officeDocument/2006/relationships/slide" Target="slide12.xml"/><Relationship Id="rId36" Type="http://schemas.openxmlformats.org/officeDocument/2006/relationships/image" Target="../media/image24.png"/><Relationship Id="rId37" Type="http://schemas.openxmlformats.org/officeDocument/2006/relationships/slide" Target="slide16.xml"/><Relationship Id="rId38" Type="http://schemas.openxmlformats.org/officeDocument/2006/relationships/image" Target="../media/image25.png"/><Relationship Id="rId39" Type="http://schemas.openxmlformats.org/officeDocument/2006/relationships/slide" Target="slide17.xml"/><Relationship Id="rId40" Type="http://schemas.openxmlformats.org/officeDocument/2006/relationships/image" Target="../media/image26.png"/><Relationship Id="rId41" Type="http://schemas.openxmlformats.org/officeDocument/2006/relationships/slide" Target="slide21.xml"/><Relationship Id="rId42" Type="http://schemas.openxmlformats.org/officeDocument/2006/relationships/image" Target="../media/image27.png"/><Relationship Id="rId43" Type="http://schemas.openxmlformats.org/officeDocument/2006/relationships/slide" Target="slide22.xml"/><Relationship Id="rId44" Type="http://schemas.openxmlformats.org/officeDocument/2006/relationships/image" Target="../media/image28.png"/><Relationship Id="rId45" Type="http://schemas.openxmlformats.org/officeDocument/2006/relationships/image" Target="../media/image3.gif"/><Relationship Id="rId46" Type="http://schemas.openxmlformats.org/officeDocument/2006/relationships/image" Target="../media/image3.gif"/><Relationship Id="rId47" Type="http://schemas.openxmlformats.org/officeDocument/2006/relationships/image" Target="../media/image3.gif"/><Relationship Id="rId48" Type="http://schemas.openxmlformats.org/officeDocument/2006/relationships/audio" Target="../media/chimes.wav"/><Relationship Id="rId49" Type="http://schemas.openxmlformats.org/officeDocument/2006/relationships/audio" Target="../media/chimes.wav"/><Relationship Id="rId50" Type="http://schemas.openxmlformats.org/officeDocument/2006/relationships/audio" Target="../media/chimes.wav"/><Relationship Id="rId51" Type="http://schemas.openxmlformats.org/officeDocument/2006/relationships/audio" Target="../media/chimes.wav"/><Relationship Id="rId52" Type="http://schemas.openxmlformats.org/officeDocument/2006/relationships/audio" Target="../media/chimes.wav"/><Relationship Id="rId53" Type="http://schemas.openxmlformats.org/officeDocument/2006/relationships/audio" Target="../media/chimes.wav"/><Relationship Id="rId54" Type="http://schemas.openxmlformats.org/officeDocument/2006/relationships/audio" Target="../media/chimes.wav"/><Relationship Id="rId55" Type="http://schemas.openxmlformats.org/officeDocument/2006/relationships/audio" Target="../media/chimes.wav"/><Relationship Id="rId56" Type="http://schemas.openxmlformats.org/officeDocument/2006/relationships/audio" Target="../media/chimes.wav"/><Relationship Id="rId57" Type="http://schemas.openxmlformats.org/officeDocument/2006/relationships/audio" Target="../media/chimes.wav"/><Relationship Id="rId58" Type="http://schemas.openxmlformats.org/officeDocument/2006/relationships/audio" Target="../media/chimes.wav"/><Relationship Id="rId59" Type="http://schemas.openxmlformats.org/officeDocument/2006/relationships/audio" Target="../media/chimes.wav"/><Relationship Id="rId60" Type="http://schemas.openxmlformats.org/officeDocument/2006/relationships/audio" Target="../media/chimes.wav"/><Relationship Id="rId61" Type="http://schemas.openxmlformats.org/officeDocument/2006/relationships/audio" Target="../media/chimes.wav"/><Relationship Id="rId62" Type="http://schemas.openxmlformats.org/officeDocument/2006/relationships/audio" Target="../media/chimes.wav"/><Relationship Id="rId63" Type="http://schemas.openxmlformats.org/officeDocument/2006/relationships/audio" Target="../media/chimes.wav"/><Relationship Id="rId64" Type="http://schemas.openxmlformats.org/officeDocument/2006/relationships/audio" Target="../media/chimes.wav"/><Relationship Id="rId65" Type="http://schemas.openxmlformats.org/officeDocument/2006/relationships/audio" Target="../media/chimes.wav"/><Relationship Id="rId66" Type="http://schemas.openxmlformats.org/officeDocument/2006/relationships/audio" Target="../media/chimes.wav"/><Relationship Id="rId67" Type="http://schemas.openxmlformats.org/officeDocument/2006/relationships/audio" Target="../media/chimes.wav"/><Relationship Id="rId68" Type="http://schemas.openxmlformats.org/officeDocument/2006/relationships/audio" Target="../media/chimes.wav"/><Relationship Id="rId6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566720" y="1122480"/>
            <a:ext cx="6394680" cy="252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line4.gif (11519 bytes)"/>
          <p:cNvPicPr/>
          <p:nvPr/>
        </p:nvPicPr>
        <p:blipFill>
          <a:blip r:embed="rId3"/>
          <a:stretch/>
        </p:blipFill>
        <p:spPr>
          <a:xfrm rot="10800000">
            <a:off x="0" y="570960"/>
            <a:ext cx="9144000" cy="223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line4.gif (11519 bytes)"/>
          <p:cNvPicPr/>
          <p:nvPr/>
        </p:nvPicPr>
        <p:blipFill>
          <a:blip r:embed="rId4"/>
          <a:stretch/>
        </p:blipFill>
        <p:spPr>
          <a:xfrm rot="16200000">
            <a:off x="5041080" y="3317040"/>
            <a:ext cx="6858000" cy="22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ine4.gif (11519 bytes)"/>
          <p:cNvPicPr/>
          <p:nvPr/>
        </p:nvPicPr>
        <p:blipFill>
          <a:blip r:embed="rId5"/>
          <a:stretch/>
        </p:blipFill>
        <p:spPr>
          <a:xfrm rot="16200000">
            <a:off x="-2821680" y="3321720"/>
            <a:ext cx="6858000" cy="21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line4.gif (11519 bytes)"/>
          <p:cNvPicPr/>
          <p:nvPr/>
        </p:nvPicPr>
        <p:blipFill>
          <a:blip r:embed="rId6"/>
          <a:stretch/>
        </p:blipFill>
        <p:spPr>
          <a:xfrm rot="10800000">
            <a:off x="0" y="6143400"/>
            <a:ext cx="9144000" cy="2235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10" descr=""/>
          <p:cNvPicPr/>
          <p:nvPr/>
        </p:nvPicPr>
        <p:blipFill>
          <a:blip r:embed="rId7"/>
          <a:stretch/>
        </p:blipFill>
        <p:spPr>
          <a:xfrm>
            <a:off x="1036800" y="2743200"/>
            <a:ext cx="68086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rcRect l="0" t="0" r="56" b="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Управляющая кнопка: домой 1">
            <a:hlinkClick r:id="rId2" action="ppaction://hlinksldjump"/>
          </p:cNvPr>
          <p:cNvSpPr/>
          <p:nvPr/>
        </p:nvSpPr>
        <p:spPr>
          <a:xfrm>
            <a:off x="8215200" y="6000840"/>
            <a:ext cx="757440" cy="685800"/>
          </a:xfrm>
          <a:custGeom>
            <a:avLst/>
            <a:gdLst>
              <a:gd name="textAreaLeft" fmla="*/ 44280 w 757440"/>
              <a:gd name="textAreaRight" fmla="*/ 713160 w 757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855" h="21600">
                <a:moveTo>
                  <a:pt x="0" y="0"/>
                </a:moveTo>
                <a:lnTo>
                  <a:pt x="23855" y="0"/>
                </a:lnTo>
                <a:lnTo>
                  <a:pt x="23855" y="21600"/>
                </a:lnTo>
                <a:lnTo>
                  <a:pt x="0" y="21600"/>
                </a:lnTo>
                <a:close/>
              </a:path>
              <a:path fill="lightenLess" w="23855" h="21600">
                <a:moveTo>
                  <a:pt x="0" y="0"/>
                </a:moveTo>
                <a:lnTo>
                  <a:pt x="23855" y="0"/>
                </a:lnTo>
                <a:lnTo>
                  <a:pt x="22455" y="1400"/>
                </a:lnTo>
                <a:lnTo>
                  <a:pt x="1400" y="1400"/>
                </a:lnTo>
                <a:close/>
              </a:path>
              <a:path fill="darken" w="23855" h="21600">
                <a:moveTo>
                  <a:pt x="23855" y="0"/>
                </a:moveTo>
                <a:lnTo>
                  <a:pt x="23855" y="21600"/>
                </a:lnTo>
                <a:lnTo>
                  <a:pt x="22455" y="20200"/>
                </a:lnTo>
                <a:lnTo>
                  <a:pt x="22455" y="1400"/>
                </a:lnTo>
                <a:close/>
              </a:path>
              <a:path fill="darkenLess" w="23855" h="21600">
                <a:moveTo>
                  <a:pt x="23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55" y="20200"/>
                </a:lnTo>
                <a:close/>
              </a:path>
              <a:path fill="lighten" w="23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55" h="21600">
                <a:moveTo>
                  <a:pt x="11928" y="3837"/>
                </a:moveTo>
                <a:lnTo>
                  <a:pt x="14504" y="6448"/>
                </a:lnTo>
                <a:lnTo>
                  <a:pt x="14504" y="4707"/>
                </a:lnTo>
                <a:lnTo>
                  <a:pt x="16279" y="4707"/>
                </a:lnTo>
                <a:lnTo>
                  <a:pt x="16279" y="8224"/>
                </a:lnTo>
                <a:lnTo>
                  <a:pt x="18891" y="10800"/>
                </a:lnTo>
                <a:lnTo>
                  <a:pt x="17237" y="10800"/>
                </a:lnTo>
                <a:lnTo>
                  <a:pt x="17237" y="17989"/>
                </a:lnTo>
                <a:lnTo>
                  <a:pt x="6618" y="17989"/>
                </a:lnTo>
                <a:lnTo>
                  <a:pt x="6618" y="10800"/>
                </a:lnTo>
                <a:lnTo>
                  <a:pt x="4965" y="10800"/>
                </a:lnTo>
                <a:close/>
              </a:path>
              <a:path fill="darkenLess" w="23855" h="21600">
                <a:moveTo>
                  <a:pt x="14504" y="6448"/>
                </a:moveTo>
                <a:lnTo>
                  <a:pt x="14504" y="4707"/>
                </a:lnTo>
                <a:lnTo>
                  <a:pt x="16279" y="4707"/>
                </a:lnTo>
                <a:lnTo>
                  <a:pt x="16279" y="8224"/>
                </a:lnTo>
                <a:close/>
              </a:path>
              <a:path fill="darkenLess" w="23855" h="21600">
                <a:moveTo>
                  <a:pt x="11005" y="14299"/>
                </a:moveTo>
                <a:lnTo>
                  <a:pt x="12850" y="14299"/>
                </a:lnTo>
                <a:lnTo>
                  <a:pt x="12850" y="17989"/>
                </a:lnTo>
                <a:lnTo>
                  <a:pt x="17237" y="17989"/>
                </a:lnTo>
                <a:lnTo>
                  <a:pt x="17237" y="10800"/>
                </a:lnTo>
                <a:lnTo>
                  <a:pt x="6618" y="10800"/>
                </a:lnTo>
                <a:lnTo>
                  <a:pt x="6618" y="17989"/>
                </a:lnTo>
                <a:lnTo>
                  <a:pt x="11005" y="17989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357120" y="50004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.. Есть в океане ре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самые суровые засух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а никогда не иссякает, в сам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сокие половодья никогда н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еполняется.  Её берега и 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зованы холодной вод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огда как её поток составля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ёплая вода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 чем идёт речь в этом отрыв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rcRect l="0" t="0" r="59" b="79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Управляющая кнопка: домой 2">
            <a:hlinkClick r:id="rId2" action="ppaction://hlinksldjump"/>
          </p:cNvPr>
          <p:cNvSpPr/>
          <p:nvPr/>
        </p:nvSpPr>
        <p:spPr>
          <a:xfrm>
            <a:off x="8143920" y="6000840"/>
            <a:ext cx="757080" cy="685800"/>
          </a:xfrm>
          <a:custGeom>
            <a:avLst/>
            <a:gdLst>
              <a:gd name="textAreaLeft" fmla="*/ 44280 w 757080"/>
              <a:gd name="textAreaRight" fmla="*/ 712800 w 757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844" h="21600">
                <a:moveTo>
                  <a:pt x="0" y="0"/>
                </a:moveTo>
                <a:lnTo>
                  <a:pt x="23844" y="0"/>
                </a:lnTo>
                <a:lnTo>
                  <a:pt x="23844" y="21600"/>
                </a:lnTo>
                <a:lnTo>
                  <a:pt x="0" y="21600"/>
                </a:lnTo>
                <a:close/>
              </a:path>
              <a:path fill="lightenLess" w="23844" h="21600">
                <a:moveTo>
                  <a:pt x="0" y="0"/>
                </a:moveTo>
                <a:lnTo>
                  <a:pt x="23844" y="0"/>
                </a:lnTo>
                <a:lnTo>
                  <a:pt x="22444" y="1400"/>
                </a:lnTo>
                <a:lnTo>
                  <a:pt x="1400" y="1400"/>
                </a:lnTo>
                <a:close/>
              </a:path>
              <a:path fill="darken" w="23844" h="21600">
                <a:moveTo>
                  <a:pt x="23844" y="0"/>
                </a:moveTo>
                <a:lnTo>
                  <a:pt x="23844" y="21600"/>
                </a:lnTo>
                <a:lnTo>
                  <a:pt x="22444" y="20200"/>
                </a:lnTo>
                <a:lnTo>
                  <a:pt x="22444" y="1400"/>
                </a:lnTo>
                <a:close/>
              </a:path>
              <a:path fill="darkenLess" w="23844" h="21600">
                <a:moveTo>
                  <a:pt x="2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44" y="20200"/>
                </a:lnTo>
                <a:close/>
              </a:path>
              <a:path fill="lighten" w="2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44" h="21600">
                <a:moveTo>
                  <a:pt x="11922" y="3837"/>
                </a:moveTo>
                <a:lnTo>
                  <a:pt x="14498" y="6448"/>
                </a:lnTo>
                <a:lnTo>
                  <a:pt x="14498" y="4707"/>
                </a:lnTo>
                <a:lnTo>
                  <a:pt x="16274" y="4707"/>
                </a:lnTo>
                <a:lnTo>
                  <a:pt x="16274" y="8224"/>
                </a:lnTo>
                <a:lnTo>
                  <a:pt x="18885" y="10800"/>
                </a:lnTo>
                <a:lnTo>
                  <a:pt x="17231" y="10800"/>
                </a:lnTo>
                <a:lnTo>
                  <a:pt x="17231" y="17989"/>
                </a:lnTo>
                <a:lnTo>
                  <a:pt x="6613" y="17989"/>
                </a:lnTo>
                <a:lnTo>
                  <a:pt x="6613" y="10800"/>
                </a:lnTo>
                <a:lnTo>
                  <a:pt x="4959" y="10800"/>
                </a:lnTo>
                <a:close/>
              </a:path>
              <a:path fill="darkenLess" w="23844" h="21600">
                <a:moveTo>
                  <a:pt x="14498" y="6448"/>
                </a:moveTo>
                <a:lnTo>
                  <a:pt x="14498" y="4707"/>
                </a:lnTo>
                <a:lnTo>
                  <a:pt x="16274" y="4707"/>
                </a:lnTo>
                <a:lnTo>
                  <a:pt x="16274" y="8224"/>
                </a:lnTo>
                <a:close/>
              </a:path>
              <a:path fill="darkenLess" w="23844" h="21600">
                <a:moveTo>
                  <a:pt x="10999" y="14299"/>
                </a:moveTo>
                <a:lnTo>
                  <a:pt x="12845" y="14299"/>
                </a:lnTo>
                <a:lnTo>
                  <a:pt x="12845" y="17989"/>
                </a:lnTo>
                <a:lnTo>
                  <a:pt x="17231" y="17989"/>
                </a:lnTo>
                <a:lnTo>
                  <a:pt x="17231" y="10800"/>
                </a:lnTo>
                <a:lnTo>
                  <a:pt x="6613" y="10800"/>
                </a:lnTo>
                <a:lnTo>
                  <a:pt x="6613" y="17989"/>
                </a:lnTo>
                <a:lnTo>
                  <a:pt x="10999" y="17989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4"/>
          <p:cNvSpPr/>
          <p:nvPr/>
        </p:nvSpPr>
        <p:spPr>
          <a:xfrm>
            <a:off x="571680" y="642960"/>
            <a:ext cx="7929360" cy="5072040"/>
          </a:xfrm>
          <a:prstGeom prst="rect">
            <a:avLst/>
          </a:prstGeom>
          <a:solidFill>
            <a:srgbClr val="33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928800" y="857160"/>
            <a:ext cx="7786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абль плывет из Ин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анкт-Петербург. Капитан корабля заметил, что уровень  усадки корабля меняется в разных морях, таких как Аравийское, Красное, Средиземное, Балтийск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чему это роисход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де усадка будет больше, а где меньш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rcRect l="0" t="0" r="59" b="0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153" name="Управляющая кнопка: домой 2">
            <a:hlinkClick r:id="rId2" action="ppaction://hlinksldjump"/>
          </p:cNvPr>
          <p:cNvSpPr/>
          <p:nvPr/>
        </p:nvSpPr>
        <p:spPr>
          <a:xfrm>
            <a:off x="814392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1234080" y="571680"/>
            <a:ext cx="6395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 конь, а бежи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 лес, а шум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жду гор, между д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жит белый ко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096640" y="4643280"/>
            <a:ext cx="507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 чем эти стих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rcRect l="0" t="0" r="59" b="79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Управляющая кнопка: домой 2">
            <a:hlinkClick r:id="rId2" action="ppaction://hlinksldjump"/>
          </p:cNvPr>
          <p:cNvSpPr/>
          <p:nvPr/>
        </p:nvSpPr>
        <p:spPr>
          <a:xfrm>
            <a:off x="807228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951480" y="1857240"/>
            <a:ext cx="70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такое атмосфер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ово её строени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0" t="0" r="59" b="79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домой 2">
            <a:hlinkClick r:id="rId2" action="ppaction://hlinksldjump"/>
          </p:cNvPr>
          <p:cNvSpPr/>
          <p:nvPr/>
        </p:nvSpPr>
        <p:spPr>
          <a:xfrm>
            <a:off x="8072280" y="5857920"/>
            <a:ext cx="828720" cy="75708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080"/>
              <a:gd name="textAreaBottom" fmla="*/ 708120 h 757080"/>
            </a:gdLst>
            <a:ahLst/>
            <a:rect l="textAreaLeft" t="textAreaTop" r="textAreaRight" b="textAreaBottom"/>
            <a:pathLst>
              <a:path w="23643" h="21600">
                <a:moveTo>
                  <a:pt x="0" y="0"/>
                </a:moveTo>
                <a:lnTo>
                  <a:pt x="23643" y="0"/>
                </a:lnTo>
                <a:lnTo>
                  <a:pt x="23643" y="21600"/>
                </a:lnTo>
                <a:lnTo>
                  <a:pt x="0" y="21600"/>
                </a:lnTo>
                <a:close/>
              </a:path>
              <a:path fill="lightenLess" w="23643" h="21600">
                <a:moveTo>
                  <a:pt x="0" y="0"/>
                </a:moveTo>
                <a:lnTo>
                  <a:pt x="23643" y="0"/>
                </a:lnTo>
                <a:lnTo>
                  <a:pt x="22243" y="1400"/>
                </a:lnTo>
                <a:lnTo>
                  <a:pt x="1400" y="1400"/>
                </a:lnTo>
                <a:close/>
              </a:path>
              <a:path fill="darken" w="23643" h="21600">
                <a:moveTo>
                  <a:pt x="23643" y="0"/>
                </a:moveTo>
                <a:lnTo>
                  <a:pt x="23643" y="21600"/>
                </a:lnTo>
                <a:lnTo>
                  <a:pt x="22243" y="20200"/>
                </a:lnTo>
                <a:lnTo>
                  <a:pt x="22243" y="1400"/>
                </a:lnTo>
                <a:close/>
              </a:path>
              <a:path fill="darkenLess" w="23643" h="21600">
                <a:moveTo>
                  <a:pt x="23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43" y="20200"/>
                </a:lnTo>
                <a:close/>
              </a:path>
              <a:path fill="lighten" w="23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43" h="21600">
                <a:moveTo>
                  <a:pt x="11821" y="3837"/>
                </a:moveTo>
                <a:lnTo>
                  <a:pt x="14398" y="6448"/>
                </a:lnTo>
                <a:lnTo>
                  <a:pt x="14398" y="4707"/>
                </a:lnTo>
                <a:lnTo>
                  <a:pt x="16173" y="4707"/>
                </a:lnTo>
                <a:lnTo>
                  <a:pt x="16173" y="8224"/>
                </a:lnTo>
                <a:lnTo>
                  <a:pt x="18784" y="10800"/>
                </a:lnTo>
                <a:lnTo>
                  <a:pt x="17131" y="10800"/>
                </a:lnTo>
                <a:lnTo>
                  <a:pt x="17131" y="17989"/>
                </a:lnTo>
                <a:lnTo>
                  <a:pt x="6512" y="17989"/>
                </a:lnTo>
                <a:lnTo>
                  <a:pt x="6512" y="10800"/>
                </a:lnTo>
                <a:lnTo>
                  <a:pt x="4859" y="10800"/>
                </a:lnTo>
                <a:close/>
              </a:path>
              <a:path fill="darkenLess" w="23643" h="21600">
                <a:moveTo>
                  <a:pt x="14398" y="6448"/>
                </a:moveTo>
                <a:lnTo>
                  <a:pt x="14398" y="4707"/>
                </a:lnTo>
                <a:lnTo>
                  <a:pt x="16173" y="4707"/>
                </a:lnTo>
                <a:lnTo>
                  <a:pt x="16173" y="8224"/>
                </a:lnTo>
                <a:close/>
              </a:path>
              <a:path fill="darkenLess" w="23643" h="21600">
                <a:moveTo>
                  <a:pt x="10899" y="14299"/>
                </a:moveTo>
                <a:lnTo>
                  <a:pt x="12744" y="14299"/>
                </a:lnTo>
                <a:lnTo>
                  <a:pt x="12744" y="17989"/>
                </a:lnTo>
                <a:lnTo>
                  <a:pt x="17131" y="17989"/>
                </a:lnTo>
                <a:lnTo>
                  <a:pt x="17131" y="10800"/>
                </a:lnTo>
                <a:lnTo>
                  <a:pt x="6512" y="10800"/>
                </a:lnTo>
                <a:lnTo>
                  <a:pt x="6512" y="17989"/>
                </a:lnTo>
                <a:lnTo>
                  <a:pt x="10899" y="17989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99160" y="500040"/>
            <a:ext cx="859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Жителям алжирского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Сидибель – Абб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Нет необходимости покупа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в магазинах чернил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ядом с ним находится цел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зеро черн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ткуда же оно взяло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rcRect l="0" t="0" r="59" b="0"/>
          <a:stretch/>
        </p:blipFill>
        <p:spPr>
          <a:xfrm>
            <a:off x="0" y="0"/>
            <a:ext cx="9144000" cy="7062840"/>
          </a:xfrm>
          <a:prstGeom prst="rect">
            <a:avLst/>
          </a:prstGeom>
          <a:ln w="0">
            <a:noFill/>
          </a:ln>
        </p:spPr>
      </p:pic>
      <p:sp>
        <p:nvSpPr>
          <p:cNvPr id="163" name="Управляющая кнопка: домой 2">
            <a:hlinkClick r:id="rId2" action="ppaction://hlinksldjump"/>
          </p:cNvPr>
          <p:cNvSpPr/>
          <p:nvPr/>
        </p:nvSpPr>
        <p:spPr>
          <a:xfrm>
            <a:off x="8001000" y="5857920"/>
            <a:ext cx="900000" cy="828720"/>
          </a:xfrm>
          <a:custGeom>
            <a:avLst/>
            <a:gdLst>
              <a:gd name="textAreaLeft" fmla="*/ 53640 w 900000"/>
              <a:gd name="textAreaRight" fmla="*/ 846360 w 90000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3457" h="21600">
                <a:moveTo>
                  <a:pt x="0" y="0"/>
                </a:moveTo>
                <a:lnTo>
                  <a:pt x="23457" y="0"/>
                </a:lnTo>
                <a:lnTo>
                  <a:pt x="23457" y="21600"/>
                </a:lnTo>
                <a:lnTo>
                  <a:pt x="0" y="21600"/>
                </a:lnTo>
                <a:close/>
              </a:path>
              <a:path fill="lightenLess" w="23457" h="21600">
                <a:moveTo>
                  <a:pt x="0" y="0"/>
                </a:moveTo>
                <a:lnTo>
                  <a:pt x="23457" y="0"/>
                </a:lnTo>
                <a:lnTo>
                  <a:pt x="22057" y="1400"/>
                </a:lnTo>
                <a:lnTo>
                  <a:pt x="1400" y="1400"/>
                </a:lnTo>
                <a:close/>
              </a:path>
              <a:path fill="darken" w="23457" h="21600">
                <a:moveTo>
                  <a:pt x="23457" y="0"/>
                </a:moveTo>
                <a:lnTo>
                  <a:pt x="23457" y="21600"/>
                </a:lnTo>
                <a:lnTo>
                  <a:pt x="22057" y="20200"/>
                </a:lnTo>
                <a:lnTo>
                  <a:pt x="22057" y="1400"/>
                </a:lnTo>
                <a:close/>
              </a:path>
              <a:path fill="darkenLess" w="23457" h="21600">
                <a:moveTo>
                  <a:pt x="23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57" y="20200"/>
                </a:lnTo>
                <a:close/>
              </a:path>
              <a:path fill="lighten" w="23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57" h="21600">
                <a:moveTo>
                  <a:pt x="11729" y="3837"/>
                </a:moveTo>
                <a:lnTo>
                  <a:pt x="14305" y="6448"/>
                </a:lnTo>
                <a:lnTo>
                  <a:pt x="14305" y="4707"/>
                </a:lnTo>
                <a:lnTo>
                  <a:pt x="16080" y="4707"/>
                </a:lnTo>
                <a:lnTo>
                  <a:pt x="16080" y="8224"/>
                </a:lnTo>
                <a:lnTo>
                  <a:pt x="18691" y="10800"/>
                </a:lnTo>
                <a:lnTo>
                  <a:pt x="17038" y="10800"/>
                </a:lnTo>
                <a:lnTo>
                  <a:pt x="17038" y="17989"/>
                </a:lnTo>
                <a:lnTo>
                  <a:pt x="6419" y="17989"/>
                </a:lnTo>
                <a:lnTo>
                  <a:pt x="6419" y="10800"/>
                </a:lnTo>
                <a:lnTo>
                  <a:pt x="4766" y="10800"/>
                </a:lnTo>
                <a:close/>
              </a:path>
              <a:path fill="darkenLess" w="23457" h="21600">
                <a:moveTo>
                  <a:pt x="14305" y="6448"/>
                </a:moveTo>
                <a:lnTo>
                  <a:pt x="14305" y="4707"/>
                </a:lnTo>
                <a:lnTo>
                  <a:pt x="16080" y="4707"/>
                </a:lnTo>
                <a:lnTo>
                  <a:pt x="16080" y="8224"/>
                </a:lnTo>
                <a:close/>
              </a:path>
              <a:path fill="darkenLess" w="23457" h="21600">
                <a:moveTo>
                  <a:pt x="10806" y="14299"/>
                </a:moveTo>
                <a:lnTo>
                  <a:pt x="12651" y="14299"/>
                </a:lnTo>
                <a:lnTo>
                  <a:pt x="12651" y="17989"/>
                </a:lnTo>
                <a:lnTo>
                  <a:pt x="17038" y="17989"/>
                </a:lnTo>
                <a:lnTo>
                  <a:pt x="17038" y="10800"/>
                </a:lnTo>
                <a:lnTo>
                  <a:pt x="6419" y="10800"/>
                </a:lnTo>
                <a:lnTo>
                  <a:pt x="6419" y="17989"/>
                </a:lnTo>
                <a:lnTo>
                  <a:pt x="10806" y="17989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491400" y="857160"/>
            <a:ext cx="81709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зеро Киву, которое расположе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Восточной Африке, иног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вращается в своего р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игантскую «кастрюлю», г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арится «ух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ясните такое чудо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rcRect l="0" t="0" r="59" b="79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Управляющая кнопка: домой 2"/>
          <p:cNvSpPr/>
          <p:nvPr/>
        </p:nvSpPr>
        <p:spPr>
          <a:xfrm>
            <a:off x="807228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1237320" y="1785960"/>
            <a:ext cx="725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чему не из все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лаков выпадают осад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1143000" y="1214280"/>
            <a:ext cx="7143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то изменилось бы, если бы земная ось была перпендикулярна плоскости орби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Управляющая кнопка: домой 3"/>
          <p:cNvSpPr/>
          <p:nvPr/>
        </p:nvSpPr>
        <p:spPr>
          <a:xfrm>
            <a:off x="8143920" y="5857920"/>
            <a:ext cx="828720" cy="75708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080"/>
              <a:gd name="textAreaBottom" fmla="*/ 708120 h 757080"/>
            </a:gdLst>
            <a:ahLst/>
            <a:rect l="textAreaLeft" t="textAreaTop" r="textAreaRight" b="textAreaBottom"/>
            <a:pathLst>
              <a:path w="23643" h="21600">
                <a:moveTo>
                  <a:pt x="0" y="0"/>
                </a:moveTo>
                <a:lnTo>
                  <a:pt x="23643" y="0"/>
                </a:lnTo>
                <a:lnTo>
                  <a:pt x="23643" y="21600"/>
                </a:lnTo>
                <a:lnTo>
                  <a:pt x="0" y="21600"/>
                </a:lnTo>
                <a:close/>
              </a:path>
              <a:path fill="lightenLess" w="23643" h="21600">
                <a:moveTo>
                  <a:pt x="0" y="0"/>
                </a:moveTo>
                <a:lnTo>
                  <a:pt x="23643" y="0"/>
                </a:lnTo>
                <a:lnTo>
                  <a:pt x="22243" y="1400"/>
                </a:lnTo>
                <a:lnTo>
                  <a:pt x="1400" y="1400"/>
                </a:lnTo>
                <a:close/>
              </a:path>
              <a:path fill="darken" w="23643" h="21600">
                <a:moveTo>
                  <a:pt x="23643" y="0"/>
                </a:moveTo>
                <a:lnTo>
                  <a:pt x="23643" y="21600"/>
                </a:lnTo>
                <a:lnTo>
                  <a:pt x="22243" y="20200"/>
                </a:lnTo>
                <a:lnTo>
                  <a:pt x="22243" y="1400"/>
                </a:lnTo>
                <a:close/>
              </a:path>
              <a:path fill="darkenLess" w="23643" h="21600">
                <a:moveTo>
                  <a:pt x="23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43" y="20200"/>
                </a:lnTo>
                <a:close/>
              </a:path>
              <a:path fill="lighten" w="23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43" h="21600">
                <a:moveTo>
                  <a:pt x="11821" y="3837"/>
                </a:moveTo>
                <a:lnTo>
                  <a:pt x="14398" y="6448"/>
                </a:lnTo>
                <a:lnTo>
                  <a:pt x="14398" y="4707"/>
                </a:lnTo>
                <a:lnTo>
                  <a:pt x="16173" y="4707"/>
                </a:lnTo>
                <a:lnTo>
                  <a:pt x="16173" y="8224"/>
                </a:lnTo>
                <a:lnTo>
                  <a:pt x="18784" y="10800"/>
                </a:lnTo>
                <a:lnTo>
                  <a:pt x="17131" y="10800"/>
                </a:lnTo>
                <a:lnTo>
                  <a:pt x="17131" y="17989"/>
                </a:lnTo>
                <a:lnTo>
                  <a:pt x="6512" y="17989"/>
                </a:lnTo>
                <a:lnTo>
                  <a:pt x="6512" y="10800"/>
                </a:lnTo>
                <a:lnTo>
                  <a:pt x="4859" y="10800"/>
                </a:lnTo>
                <a:close/>
              </a:path>
              <a:path fill="darkenLess" w="23643" h="21600">
                <a:moveTo>
                  <a:pt x="14398" y="6448"/>
                </a:moveTo>
                <a:lnTo>
                  <a:pt x="14398" y="4707"/>
                </a:lnTo>
                <a:lnTo>
                  <a:pt x="16173" y="4707"/>
                </a:lnTo>
                <a:lnTo>
                  <a:pt x="16173" y="8224"/>
                </a:lnTo>
                <a:close/>
              </a:path>
              <a:path fill="darkenLess" w="23643" h="21600">
                <a:moveTo>
                  <a:pt x="10899" y="14299"/>
                </a:moveTo>
                <a:lnTo>
                  <a:pt x="12744" y="14299"/>
                </a:lnTo>
                <a:lnTo>
                  <a:pt x="12744" y="17989"/>
                </a:lnTo>
                <a:lnTo>
                  <a:pt x="17131" y="17989"/>
                </a:lnTo>
                <a:lnTo>
                  <a:pt x="17131" y="10800"/>
                </a:lnTo>
                <a:lnTo>
                  <a:pt x="6512" y="10800"/>
                </a:lnTo>
                <a:lnTo>
                  <a:pt x="6512" y="17989"/>
                </a:lnTo>
                <a:lnTo>
                  <a:pt x="10899" y="17989"/>
                </a:lnTo>
                <a:close/>
              </a:path>
            </a:pathLst>
          </a:cu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rcRect l="0" t="0" r="0" b="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Управляющая кнопка: домой 4"/>
          <p:cNvSpPr/>
          <p:nvPr/>
        </p:nvSpPr>
        <p:spPr>
          <a:xfrm>
            <a:off x="8215200" y="5929200"/>
            <a:ext cx="757440" cy="757440"/>
          </a:xfrm>
          <a:custGeom>
            <a:avLst/>
            <a:gdLst>
              <a:gd name="textAreaLeft" fmla="*/ 48960 w 757440"/>
              <a:gd name="textAreaRight" fmla="*/ 708480 w 75744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1441440" y="642960"/>
            <a:ext cx="615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биосфе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её соста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rcRect l="0" t="0" r="6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Управляющая кнопка: домой 2"/>
          <p:cNvSpPr/>
          <p:nvPr/>
        </p:nvSpPr>
        <p:spPr>
          <a:xfrm>
            <a:off x="814392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1248840" y="1428840"/>
            <a:ext cx="632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де грибы растут выш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ревье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1428840"/>
                <a:gridCol w="1428840"/>
                <a:gridCol w="1285560"/>
                <a:gridCol w="1428840"/>
                <a:gridCol w="12859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49" name="Овал 2"/>
          <p:cNvGrpSpPr/>
          <p:nvPr/>
        </p:nvGrpSpPr>
        <p:grpSpPr>
          <a:xfrm>
            <a:off x="2170080" y="-19080"/>
            <a:ext cx="1974960" cy="1787400"/>
            <a:chOff x="2170080" y="-19080"/>
            <a:chExt cx="1974960" cy="1787400"/>
          </a:xfrm>
        </p:grpSpPr>
        <p:pic>
          <p:nvPicPr>
            <p:cNvPr id="50" name="Овал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170080" y="-19080"/>
              <a:ext cx="197496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646360" y="50328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Овал 3"/>
          <p:cNvGrpSpPr/>
          <p:nvPr/>
        </p:nvGrpSpPr>
        <p:grpSpPr>
          <a:xfrm>
            <a:off x="3565440" y="-19080"/>
            <a:ext cx="1970280" cy="1787400"/>
            <a:chOff x="3565440" y="-19080"/>
            <a:chExt cx="1970280" cy="1787400"/>
          </a:xfrm>
        </p:grpSpPr>
        <p:pic>
          <p:nvPicPr>
            <p:cNvPr id="53" name="Овал 3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565440" y="-19080"/>
              <a:ext cx="197028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014720" y="503280"/>
              <a:ext cx="75744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вал 4"/>
          <p:cNvGrpSpPr/>
          <p:nvPr/>
        </p:nvGrpSpPr>
        <p:grpSpPr>
          <a:xfrm>
            <a:off x="5029200" y="-19080"/>
            <a:ext cx="1974960" cy="1787400"/>
            <a:chOff x="5029200" y="-19080"/>
            <a:chExt cx="1974960" cy="1787400"/>
          </a:xfrm>
        </p:grpSpPr>
        <p:pic>
          <p:nvPicPr>
            <p:cNvPr id="56" name="Овал 4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5029200" y="-19080"/>
              <a:ext cx="197496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504040" y="503280"/>
              <a:ext cx="7077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вал 5"/>
          <p:cNvGrpSpPr/>
          <p:nvPr/>
        </p:nvGrpSpPr>
        <p:grpSpPr>
          <a:xfrm>
            <a:off x="2243160" y="1695600"/>
            <a:ext cx="1974960" cy="1790640"/>
            <a:chOff x="2243160" y="1695600"/>
            <a:chExt cx="1974960" cy="1790640"/>
          </a:xfrm>
        </p:grpSpPr>
        <p:pic>
          <p:nvPicPr>
            <p:cNvPr id="59" name="Овал 5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243160" y="1695600"/>
              <a:ext cx="19749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717640" y="221760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Овал 6"/>
          <p:cNvGrpSpPr/>
          <p:nvPr/>
        </p:nvGrpSpPr>
        <p:grpSpPr>
          <a:xfrm>
            <a:off x="2170080" y="5016600"/>
            <a:ext cx="1974960" cy="1792080"/>
            <a:chOff x="2170080" y="5016600"/>
            <a:chExt cx="1974960" cy="1792080"/>
          </a:xfrm>
        </p:grpSpPr>
        <p:pic>
          <p:nvPicPr>
            <p:cNvPr id="62" name="Овал 6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170080" y="5016600"/>
              <a:ext cx="1974960" cy="17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595600" y="5514840"/>
              <a:ext cx="80964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Овал 7"/>
          <p:cNvGrpSpPr/>
          <p:nvPr/>
        </p:nvGrpSpPr>
        <p:grpSpPr>
          <a:xfrm>
            <a:off x="2206800" y="3444840"/>
            <a:ext cx="1974600" cy="1792440"/>
            <a:chOff x="2206800" y="3444840"/>
            <a:chExt cx="1974600" cy="1792440"/>
          </a:xfrm>
        </p:grpSpPr>
        <p:pic>
          <p:nvPicPr>
            <p:cNvPr id="65" name="Овал 7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2206800" y="3444840"/>
              <a:ext cx="197460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657520" y="3943440"/>
              <a:ext cx="7570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Овал 8"/>
          <p:cNvGrpSpPr/>
          <p:nvPr/>
        </p:nvGrpSpPr>
        <p:grpSpPr>
          <a:xfrm>
            <a:off x="3529080" y="1695600"/>
            <a:ext cx="1976400" cy="1790640"/>
            <a:chOff x="3529080" y="1695600"/>
            <a:chExt cx="1976400" cy="1790640"/>
          </a:xfrm>
        </p:grpSpPr>
        <p:pic>
          <p:nvPicPr>
            <p:cNvPr id="68" name="Овал 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3529080" y="1695600"/>
              <a:ext cx="197640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003560" y="221760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Овал 9"/>
          <p:cNvGrpSpPr/>
          <p:nvPr/>
        </p:nvGrpSpPr>
        <p:grpSpPr>
          <a:xfrm>
            <a:off x="4962600" y="1695600"/>
            <a:ext cx="1968480" cy="1790640"/>
            <a:chOff x="4962600" y="1695600"/>
            <a:chExt cx="1968480" cy="1790640"/>
          </a:xfrm>
        </p:grpSpPr>
        <p:pic>
          <p:nvPicPr>
            <p:cNvPr id="71" name="Овал 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4962600" y="1695600"/>
              <a:ext cx="196848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432400" y="221760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Овал 10"/>
          <p:cNvGrpSpPr/>
          <p:nvPr/>
        </p:nvGrpSpPr>
        <p:grpSpPr>
          <a:xfrm>
            <a:off x="3602160" y="5052960"/>
            <a:ext cx="1969920" cy="1811520"/>
            <a:chOff x="3602160" y="5052960"/>
            <a:chExt cx="1969920" cy="1811520"/>
          </a:xfrm>
        </p:grpSpPr>
        <p:pic>
          <p:nvPicPr>
            <p:cNvPr id="74" name="Овал 10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3602160" y="5052960"/>
              <a:ext cx="196992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4024440" y="5524560"/>
              <a:ext cx="8096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Овал 11"/>
          <p:cNvGrpSpPr/>
          <p:nvPr/>
        </p:nvGrpSpPr>
        <p:grpSpPr>
          <a:xfrm>
            <a:off x="3565440" y="3444840"/>
            <a:ext cx="1970280" cy="1792440"/>
            <a:chOff x="3565440" y="3444840"/>
            <a:chExt cx="1970280" cy="1792440"/>
          </a:xfrm>
        </p:grpSpPr>
        <p:pic>
          <p:nvPicPr>
            <p:cNvPr id="77" name="Овал 11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3565440" y="3444840"/>
              <a:ext cx="197028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014720" y="3943440"/>
              <a:ext cx="7574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Овал 12"/>
          <p:cNvGrpSpPr/>
          <p:nvPr/>
        </p:nvGrpSpPr>
        <p:grpSpPr>
          <a:xfrm>
            <a:off x="4956120" y="5052960"/>
            <a:ext cx="1974960" cy="1811520"/>
            <a:chOff x="4956120" y="5052960"/>
            <a:chExt cx="1974960" cy="1811520"/>
          </a:xfrm>
        </p:grpSpPr>
        <p:pic>
          <p:nvPicPr>
            <p:cNvPr id="80" name="Овал 12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4956120" y="5052960"/>
              <a:ext cx="197496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381640" y="5524560"/>
              <a:ext cx="8096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Овал 13"/>
          <p:cNvGrpSpPr/>
          <p:nvPr/>
        </p:nvGrpSpPr>
        <p:grpSpPr>
          <a:xfrm>
            <a:off x="4919760" y="3444840"/>
            <a:ext cx="1974600" cy="1792440"/>
            <a:chOff x="4919760" y="3444840"/>
            <a:chExt cx="1974600" cy="1792440"/>
          </a:xfrm>
        </p:grpSpPr>
        <p:pic>
          <p:nvPicPr>
            <p:cNvPr id="83" name="Овал 13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4919760" y="3444840"/>
              <a:ext cx="197460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372280" y="3943440"/>
              <a:ext cx="7570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Скругленный прямоугольник 14"/>
          <p:cNvGrpSpPr/>
          <p:nvPr/>
        </p:nvGrpSpPr>
        <p:grpSpPr>
          <a:xfrm>
            <a:off x="-49320" y="-49320"/>
            <a:ext cx="2700360" cy="2060640"/>
            <a:chOff x="-49320" y="-49320"/>
            <a:chExt cx="2700360" cy="2060640"/>
          </a:xfrm>
        </p:grpSpPr>
        <p:pic>
          <p:nvPicPr>
            <p:cNvPr id="86" name="Скругленный прямоугольник 14" descr=""/>
            <p:cNvPicPr/>
            <p:nvPr/>
          </p:nvPicPr>
          <p:blipFill>
            <a:blip r:embed="rId25"/>
            <a:stretch/>
          </p:blipFill>
          <p:spPr>
            <a:xfrm>
              <a:off x="-49320" y="-49320"/>
              <a:ext cx="270036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2840" y="42840"/>
              <a:ext cx="22003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литосфе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Скругленный прямоугольник 15"/>
          <p:cNvGrpSpPr/>
          <p:nvPr/>
        </p:nvGrpSpPr>
        <p:grpSpPr>
          <a:xfrm>
            <a:off x="-49320" y="1736640"/>
            <a:ext cx="2700360" cy="2054160"/>
            <a:chOff x="-49320" y="1736640"/>
            <a:chExt cx="2700360" cy="2054160"/>
          </a:xfrm>
        </p:grpSpPr>
        <p:pic>
          <p:nvPicPr>
            <p:cNvPr id="89" name="Скругленный прямоугольник 15" descr=""/>
            <p:cNvPicPr/>
            <p:nvPr/>
          </p:nvPicPr>
          <p:blipFill>
            <a:blip r:embed="rId26"/>
            <a:stretch/>
          </p:blipFill>
          <p:spPr>
            <a:xfrm>
              <a:off x="-49320" y="1736640"/>
              <a:ext cx="270036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2840" y="1828800"/>
              <a:ext cx="22003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гидросфе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Скругленный прямоугольник 16"/>
          <p:cNvGrpSpPr/>
          <p:nvPr/>
        </p:nvGrpSpPr>
        <p:grpSpPr>
          <a:xfrm>
            <a:off x="-49320" y="5162400"/>
            <a:ext cx="2700360" cy="2060640"/>
            <a:chOff x="-49320" y="5162400"/>
            <a:chExt cx="2700360" cy="2060640"/>
          </a:xfrm>
        </p:grpSpPr>
        <p:pic>
          <p:nvPicPr>
            <p:cNvPr id="92" name="Скругленный прямоугольник 16" descr=""/>
            <p:cNvPicPr/>
            <p:nvPr/>
          </p:nvPicPr>
          <p:blipFill>
            <a:blip r:embed="rId27"/>
            <a:stretch/>
          </p:blipFill>
          <p:spPr>
            <a:xfrm>
              <a:off x="-49320" y="5162400"/>
              <a:ext cx="270036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2840" y="5257800"/>
              <a:ext cx="22003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биосфе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Скругленный прямоугольник 17"/>
          <p:cNvGrpSpPr/>
          <p:nvPr/>
        </p:nvGrpSpPr>
        <p:grpSpPr>
          <a:xfrm>
            <a:off x="-60480" y="3438360"/>
            <a:ext cx="2724480" cy="2084400"/>
            <a:chOff x="-60480" y="3438360"/>
            <a:chExt cx="2724480" cy="2084400"/>
          </a:xfrm>
        </p:grpSpPr>
        <p:pic>
          <p:nvPicPr>
            <p:cNvPr id="95" name="Скругленный прямоугольник 17" descr=""/>
            <p:cNvPicPr/>
            <p:nvPr/>
          </p:nvPicPr>
          <p:blipFill>
            <a:blip r:embed="rId28"/>
            <a:stretch/>
          </p:blipFill>
          <p:spPr>
            <a:xfrm>
              <a:off x="-60480" y="3438360"/>
              <a:ext cx="272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2840" y="3543480"/>
              <a:ext cx="2200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атмосфе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Овал 20"/>
          <p:cNvGrpSpPr/>
          <p:nvPr/>
        </p:nvGrpSpPr>
        <p:grpSpPr>
          <a:xfrm>
            <a:off x="6450120" y="55440"/>
            <a:ext cx="1846080" cy="1670040"/>
            <a:chOff x="6450120" y="55440"/>
            <a:chExt cx="1846080" cy="1670040"/>
          </a:xfrm>
        </p:grpSpPr>
        <p:pic>
          <p:nvPicPr>
            <p:cNvPr id="98" name="Овал 20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6450120" y="55440"/>
              <a:ext cx="184608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61240" y="50328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Овал 21"/>
          <p:cNvGrpSpPr/>
          <p:nvPr/>
        </p:nvGrpSpPr>
        <p:grpSpPr>
          <a:xfrm>
            <a:off x="7669080" y="-19080"/>
            <a:ext cx="1968480" cy="1787400"/>
            <a:chOff x="7669080" y="-19080"/>
            <a:chExt cx="1968480" cy="1787400"/>
          </a:xfrm>
        </p:grpSpPr>
        <p:pic>
          <p:nvPicPr>
            <p:cNvPr id="101" name="Овал 21" descr="">
              <a:hlinkClick r:id="rId31" action="ppaction://hlinksldjump"/>
            </p:cNvPr>
            <p:cNvPicPr/>
            <p:nvPr/>
          </p:nvPicPr>
          <p:blipFill>
            <a:blip r:embed="rId32"/>
            <a:stretch/>
          </p:blipFill>
          <p:spPr>
            <a:xfrm>
              <a:off x="7669080" y="-19080"/>
              <a:ext cx="196848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145360" y="503280"/>
              <a:ext cx="6969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Овал 22"/>
          <p:cNvGrpSpPr/>
          <p:nvPr/>
        </p:nvGrpSpPr>
        <p:grpSpPr>
          <a:xfrm>
            <a:off x="6272280" y="1652760"/>
            <a:ext cx="1969920" cy="1792080"/>
            <a:chOff x="6272280" y="1652760"/>
            <a:chExt cx="1969920" cy="1792080"/>
          </a:xfrm>
        </p:grpSpPr>
        <p:pic>
          <p:nvPicPr>
            <p:cNvPr id="104" name="Овал 22" descr="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>
              <a:off x="6272280" y="1652760"/>
              <a:ext cx="1969920" cy="17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727680" y="2155680"/>
              <a:ext cx="74628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Овал 23"/>
          <p:cNvGrpSpPr/>
          <p:nvPr/>
        </p:nvGrpSpPr>
        <p:grpSpPr>
          <a:xfrm>
            <a:off x="7632720" y="1657440"/>
            <a:ext cx="1968480" cy="1792080"/>
            <a:chOff x="7632720" y="1657440"/>
            <a:chExt cx="1968480" cy="1792080"/>
          </a:xfrm>
        </p:grpSpPr>
        <p:pic>
          <p:nvPicPr>
            <p:cNvPr id="107" name="Овал 23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7632720" y="1657440"/>
              <a:ext cx="1968480" cy="17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085240" y="2157480"/>
              <a:ext cx="7459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Овал 28"/>
          <p:cNvGrpSpPr/>
          <p:nvPr/>
        </p:nvGrpSpPr>
        <p:grpSpPr>
          <a:xfrm>
            <a:off x="6351480" y="3444840"/>
            <a:ext cx="1970280" cy="1792440"/>
            <a:chOff x="6351480" y="3444840"/>
            <a:chExt cx="1970280" cy="1792440"/>
          </a:xfrm>
        </p:grpSpPr>
        <p:pic>
          <p:nvPicPr>
            <p:cNvPr id="110" name="Овал 28" descr="">
              <a:hlinkClick r:id="rId37" action="ppaction://hlinksldjump"/>
            </p:cNvPr>
            <p:cNvPicPr/>
            <p:nvPr/>
          </p:nvPicPr>
          <p:blipFill>
            <a:blip r:embed="rId38"/>
            <a:stretch/>
          </p:blipFill>
          <p:spPr>
            <a:xfrm>
              <a:off x="6351480" y="3444840"/>
              <a:ext cx="197028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00760" y="3943440"/>
              <a:ext cx="7574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Овал 29"/>
          <p:cNvGrpSpPr/>
          <p:nvPr/>
        </p:nvGrpSpPr>
        <p:grpSpPr>
          <a:xfrm>
            <a:off x="7639200" y="3444840"/>
            <a:ext cx="1968480" cy="1792440"/>
            <a:chOff x="7639200" y="3444840"/>
            <a:chExt cx="1968480" cy="1792440"/>
          </a:xfrm>
        </p:grpSpPr>
        <p:pic>
          <p:nvPicPr>
            <p:cNvPr id="113" name="Овал 29" descr="">
              <a:hlinkClick r:id="rId39" action="ppaction://hlinksldjump"/>
            </p:cNvPr>
            <p:cNvPicPr/>
            <p:nvPr/>
          </p:nvPicPr>
          <p:blipFill>
            <a:blip r:embed="rId40"/>
            <a:stretch/>
          </p:blipFill>
          <p:spPr>
            <a:xfrm>
              <a:off x="7639200" y="3444840"/>
              <a:ext cx="196848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086680" y="3943440"/>
              <a:ext cx="7574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Овал 30"/>
          <p:cNvGrpSpPr/>
          <p:nvPr/>
        </p:nvGrpSpPr>
        <p:grpSpPr>
          <a:xfrm>
            <a:off x="6315120" y="5052960"/>
            <a:ext cx="1969920" cy="1811520"/>
            <a:chOff x="6315120" y="5052960"/>
            <a:chExt cx="1969920" cy="1811520"/>
          </a:xfrm>
        </p:grpSpPr>
        <p:pic>
          <p:nvPicPr>
            <p:cNvPr id="116" name="Овал 30" descr="">
              <a:hlinkClick r:id="rId41" action="ppaction://hlinksldjump"/>
            </p:cNvPr>
            <p:cNvPicPr/>
            <p:nvPr/>
          </p:nvPicPr>
          <p:blipFill>
            <a:blip r:embed="rId42"/>
            <a:stretch/>
          </p:blipFill>
          <p:spPr>
            <a:xfrm>
              <a:off x="6315120" y="5052960"/>
              <a:ext cx="196992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738840" y="5524560"/>
              <a:ext cx="8096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Овал 31"/>
          <p:cNvGrpSpPr/>
          <p:nvPr/>
        </p:nvGrpSpPr>
        <p:grpSpPr>
          <a:xfrm>
            <a:off x="7742160" y="5052960"/>
            <a:ext cx="1974960" cy="1811520"/>
            <a:chOff x="7742160" y="5052960"/>
            <a:chExt cx="1974960" cy="1811520"/>
          </a:xfrm>
        </p:grpSpPr>
        <p:pic>
          <p:nvPicPr>
            <p:cNvPr id="119" name="Овал 31" descr="">
              <a:hlinkClick r:id="rId43" action="ppaction://hlinksldjump"/>
            </p:cNvPr>
            <p:cNvPicPr/>
            <p:nvPr/>
          </p:nvPicPr>
          <p:blipFill>
            <a:blip r:embed="rId44"/>
            <a:stretch/>
          </p:blipFill>
          <p:spPr>
            <a:xfrm>
              <a:off x="7742160" y="5052960"/>
              <a:ext cx="197496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167680" y="5524560"/>
              <a:ext cx="8096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9" descr="line4.gif (11519 bytes)"/>
          <p:cNvPicPr/>
          <p:nvPr/>
        </p:nvPicPr>
        <p:blipFill>
          <a:blip r:embed="rId45"/>
          <a:stretch/>
        </p:blipFill>
        <p:spPr>
          <a:xfrm rot="10800000">
            <a:off x="0" y="1571040"/>
            <a:ext cx="9144000" cy="223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line4.gif (11519 bytes)"/>
          <p:cNvPicPr/>
          <p:nvPr/>
        </p:nvPicPr>
        <p:blipFill>
          <a:blip r:embed="rId46"/>
          <a:stretch/>
        </p:blipFill>
        <p:spPr>
          <a:xfrm rot="10800000">
            <a:off x="0" y="3357000"/>
            <a:ext cx="9144000" cy="223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line4.gif (11519 bytes)"/>
          <p:cNvPicPr/>
          <p:nvPr/>
        </p:nvPicPr>
        <p:blipFill>
          <a:blip r:embed="rId47"/>
          <a:stretch/>
        </p:blipFill>
        <p:spPr>
          <a:xfrm rot="10800000">
            <a:off x="0" y="5071680"/>
            <a:ext cx="9144000" cy="2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  <p:sp>
        <p:nvSpPr>
          <p:cNvPr id="180" name="Управляющая кнопка: домой 2"/>
          <p:cNvSpPr/>
          <p:nvPr/>
        </p:nvSpPr>
        <p:spPr>
          <a:xfrm>
            <a:off x="807228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214200" y="714240"/>
            <a:ext cx="87868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тепло»,  «влажность», «растения»,  «кислород»,  «углекислый газ», «животны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ьте взаимосвязанную цепо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rcRect l="0" t="0" r="56" b="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Управляющая кнопка: домой 2"/>
          <p:cNvSpPr/>
          <p:nvPr/>
        </p:nvSpPr>
        <p:spPr>
          <a:xfrm>
            <a:off x="814392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734400" y="571680"/>
            <a:ext cx="788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ъясните, почему хищн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висят от такого компонен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роды, как поч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Управляющая кнопка: домой 2"/>
          <p:cNvSpPr/>
          <p:nvPr/>
        </p:nvSpPr>
        <p:spPr>
          <a:xfrm>
            <a:off x="814392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3"/>
          <p:cNvSpPr/>
          <p:nvPr/>
        </p:nvSpPr>
        <p:spPr>
          <a:xfrm>
            <a:off x="928800" y="1000080"/>
            <a:ext cx="7286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чему после гибели растений и живот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танки организмов не накапливаются на земной поверхно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Documents and Settings\user\Рабочий стол\мои документы\Шаблоны ppt\Оформление презентаций\Рисунки к презентациям\Рисунок6.jpg"/>
          <p:cNvPicPr/>
          <p:nvPr/>
        </p:nvPicPr>
        <p:blipFill>
          <a:blip r:embed="rId1"/>
          <a:stretch/>
        </p:blipFill>
        <p:spPr>
          <a:xfrm>
            <a:off x="1571760" y="1684440"/>
            <a:ext cx="5929200" cy="517356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3" descr=""/>
          <p:cNvPicPr/>
          <p:nvPr/>
        </p:nvPicPr>
        <p:blipFill>
          <a:blip r:embed="rId2"/>
          <a:stretch/>
        </p:blipFill>
        <p:spPr>
          <a:xfrm>
            <a:off x="1427040" y="274680"/>
            <a:ext cx="70837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rcRect l="0" t="0" r="59" b="0"/>
          <a:stretch/>
        </p:blipFill>
        <p:spPr>
          <a:xfrm>
            <a:off x="0" y="0"/>
            <a:ext cx="90010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Управляющая кнопка: домой 2"/>
          <p:cNvSpPr/>
          <p:nvPr/>
        </p:nvSpPr>
        <p:spPr>
          <a:xfrm>
            <a:off x="8286840" y="60008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1005840" y="714240"/>
            <a:ext cx="7130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.. Есть в океане р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амые суровые засух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а никогда не иссякает, в сам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сокие половодья никогда 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полняется.  Её берега и 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зованы холодной вод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огда как её поток составл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ёплая вод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 чем идёт речь в этом отрыв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Управляющая кнопка: домой 1">
            <a:hlinkClick r:id="rId2" action="ppaction://hlinksldjump"/>
          </p:cNvPr>
          <p:cNvSpPr/>
          <p:nvPr/>
        </p:nvSpPr>
        <p:spPr>
          <a:xfrm>
            <a:off x="8215200" y="5929200"/>
            <a:ext cx="757440" cy="757440"/>
          </a:xfrm>
          <a:custGeom>
            <a:avLst/>
            <a:gdLst>
              <a:gd name="textAreaLeft" fmla="*/ 48960 w 757440"/>
              <a:gd name="textAreaRight" fmla="*/ 708480 w 75744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823680" y="2214720"/>
            <a:ext cx="801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ие части литосфер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ы знает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Управляющая кнопка: домой 1">
            <a:hlinkClick r:id="rId2" action="ppaction://hlinksldjump"/>
          </p:cNvPr>
          <p:cNvSpPr/>
          <p:nvPr/>
        </p:nvSpPr>
        <p:spPr>
          <a:xfrm>
            <a:off x="814392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40040" y="2928960"/>
            <a:ext cx="896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пишите строение вулк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Управляющая кнопка: домой 1">
            <a:hlinkClick r:id="rId2" action="ppaction://hlinksldjump"/>
          </p:cNvPr>
          <p:cNvSpPr/>
          <p:nvPr/>
        </p:nvSpPr>
        <p:spPr>
          <a:xfrm>
            <a:off x="8072280" y="5857920"/>
            <a:ext cx="900360" cy="828720"/>
          </a:xfrm>
          <a:custGeom>
            <a:avLst/>
            <a:gdLst>
              <a:gd name="textAreaLeft" fmla="*/ 53640 w 900360"/>
              <a:gd name="textAreaRight" fmla="*/ 846720 w 90036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3466" h="21600">
                <a:moveTo>
                  <a:pt x="0" y="0"/>
                </a:moveTo>
                <a:lnTo>
                  <a:pt x="23466" y="0"/>
                </a:lnTo>
                <a:lnTo>
                  <a:pt x="23466" y="21600"/>
                </a:lnTo>
                <a:lnTo>
                  <a:pt x="0" y="21600"/>
                </a:lnTo>
                <a:close/>
              </a:path>
              <a:path fill="lightenLess" w="23466" h="21600">
                <a:moveTo>
                  <a:pt x="0" y="0"/>
                </a:moveTo>
                <a:lnTo>
                  <a:pt x="23466" y="0"/>
                </a:lnTo>
                <a:lnTo>
                  <a:pt x="22066" y="1400"/>
                </a:lnTo>
                <a:lnTo>
                  <a:pt x="1400" y="1400"/>
                </a:lnTo>
                <a:close/>
              </a:path>
              <a:path fill="darken" w="23466" h="21600">
                <a:moveTo>
                  <a:pt x="23466" y="0"/>
                </a:moveTo>
                <a:lnTo>
                  <a:pt x="23466" y="21600"/>
                </a:lnTo>
                <a:lnTo>
                  <a:pt x="22066" y="20200"/>
                </a:lnTo>
                <a:lnTo>
                  <a:pt x="22066" y="1400"/>
                </a:lnTo>
                <a:close/>
              </a:path>
              <a:path fill="darkenLess" w="23466" h="21600">
                <a:moveTo>
                  <a:pt x="23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66" y="20200"/>
                </a:lnTo>
                <a:close/>
              </a:path>
              <a:path fill="lighten" w="23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66" h="21600">
                <a:moveTo>
                  <a:pt x="11733" y="3837"/>
                </a:moveTo>
                <a:lnTo>
                  <a:pt x="14310" y="6448"/>
                </a:lnTo>
                <a:lnTo>
                  <a:pt x="14310" y="4707"/>
                </a:lnTo>
                <a:lnTo>
                  <a:pt x="16085" y="4707"/>
                </a:lnTo>
                <a:lnTo>
                  <a:pt x="16085" y="8224"/>
                </a:lnTo>
                <a:lnTo>
                  <a:pt x="18696" y="10800"/>
                </a:lnTo>
                <a:lnTo>
                  <a:pt x="17042" y="10800"/>
                </a:lnTo>
                <a:lnTo>
                  <a:pt x="17042" y="17989"/>
                </a:lnTo>
                <a:lnTo>
                  <a:pt x="6424" y="17989"/>
                </a:lnTo>
                <a:lnTo>
                  <a:pt x="6424" y="10800"/>
                </a:lnTo>
                <a:lnTo>
                  <a:pt x="4770" y="10800"/>
                </a:lnTo>
                <a:close/>
              </a:path>
              <a:path fill="darkenLess" w="23466" h="21600">
                <a:moveTo>
                  <a:pt x="14310" y="6448"/>
                </a:moveTo>
                <a:lnTo>
                  <a:pt x="14310" y="4707"/>
                </a:lnTo>
                <a:lnTo>
                  <a:pt x="16085" y="4707"/>
                </a:lnTo>
                <a:lnTo>
                  <a:pt x="16085" y="8224"/>
                </a:lnTo>
                <a:close/>
              </a:path>
              <a:path fill="darkenLess" w="23466" h="21600">
                <a:moveTo>
                  <a:pt x="10811" y="14299"/>
                </a:moveTo>
                <a:lnTo>
                  <a:pt x="12656" y="14299"/>
                </a:lnTo>
                <a:lnTo>
                  <a:pt x="12656" y="17989"/>
                </a:lnTo>
                <a:lnTo>
                  <a:pt x="17042" y="17989"/>
                </a:lnTo>
                <a:lnTo>
                  <a:pt x="17042" y="10800"/>
                </a:lnTo>
                <a:lnTo>
                  <a:pt x="6424" y="10800"/>
                </a:lnTo>
                <a:lnTo>
                  <a:pt x="6424" y="17989"/>
                </a:lnTo>
                <a:lnTo>
                  <a:pt x="10811" y="17989"/>
                </a:lnTo>
                <a:close/>
              </a:path>
            </a:pathLst>
          </a:cu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311040" y="2214720"/>
            <a:ext cx="8472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 называется прибор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ксирующий колеба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емной кор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домой 1">
            <a:hlinkClick r:id="rId2" action="ppaction://hlinksldjump"/>
          </p:cNvPr>
          <p:cNvSpPr/>
          <p:nvPr/>
        </p:nvSpPr>
        <p:spPr>
          <a:xfrm>
            <a:off x="8001000" y="5857920"/>
            <a:ext cx="828720" cy="828720"/>
          </a:xfrm>
          <a:custGeom>
            <a:avLst/>
            <a:gdLst>
              <a:gd name="textAreaLeft" fmla="*/ 53640 w 828720"/>
              <a:gd name="textAreaRight" fmla="*/ 775080 w 82872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244520" y="1000080"/>
            <a:ext cx="664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..Дым хлынул клубом - пла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ироко развилось, как боевое зна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я волнуется – с шатнувшихся коло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миры пада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од, гонимый страх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каменным огн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воспалённым пра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пами, стар и мла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жит из града вон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А.С. Пуш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е явление природы описывает поэ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тих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rcRect l="0" t="0" r="59" b="0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37" name="Управляющая кнопка: домой 1">
            <a:hlinkClick r:id="rId2" action="ppaction://hlinksldjump"/>
          </p:cNvPr>
          <p:cNvSpPr/>
          <p:nvPr/>
        </p:nvSpPr>
        <p:spPr>
          <a:xfrm>
            <a:off x="8286840" y="60008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368640" y="1428840"/>
            <a:ext cx="8957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жет ли быть землетряс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нашей местно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rcRect l="0" t="0" r="59" b="0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140" name="Управляющая кнопка: домой 2">
            <a:hlinkClick r:id="rId2" action="ppaction://hlinksldjump"/>
          </p:cNvPr>
          <p:cNvSpPr/>
          <p:nvPr/>
        </p:nvSpPr>
        <p:spPr>
          <a:xfrm>
            <a:off x="8143920" y="6000840"/>
            <a:ext cx="757080" cy="685800"/>
          </a:xfrm>
          <a:custGeom>
            <a:avLst/>
            <a:gdLst>
              <a:gd name="textAreaLeft" fmla="*/ 44280 w 757080"/>
              <a:gd name="textAreaRight" fmla="*/ 712800 w 757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844" h="21600">
                <a:moveTo>
                  <a:pt x="0" y="0"/>
                </a:moveTo>
                <a:lnTo>
                  <a:pt x="23844" y="0"/>
                </a:lnTo>
                <a:lnTo>
                  <a:pt x="23844" y="21600"/>
                </a:lnTo>
                <a:lnTo>
                  <a:pt x="0" y="21600"/>
                </a:lnTo>
                <a:close/>
              </a:path>
              <a:path fill="lightenLess" w="23844" h="21600">
                <a:moveTo>
                  <a:pt x="0" y="0"/>
                </a:moveTo>
                <a:lnTo>
                  <a:pt x="23844" y="0"/>
                </a:lnTo>
                <a:lnTo>
                  <a:pt x="22444" y="1400"/>
                </a:lnTo>
                <a:lnTo>
                  <a:pt x="1400" y="1400"/>
                </a:lnTo>
                <a:close/>
              </a:path>
              <a:path fill="darken" w="23844" h="21600">
                <a:moveTo>
                  <a:pt x="23844" y="0"/>
                </a:moveTo>
                <a:lnTo>
                  <a:pt x="23844" y="21600"/>
                </a:lnTo>
                <a:lnTo>
                  <a:pt x="22444" y="20200"/>
                </a:lnTo>
                <a:lnTo>
                  <a:pt x="22444" y="1400"/>
                </a:lnTo>
                <a:close/>
              </a:path>
              <a:path fill="darkenLess" w="23844" h="21600">
                <a:moveTo>
                  <a:pt x="2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44" y="20200"/>
                </a:lnTo>
                <a:close/>
              </a:path>
              <a:path fill="lighten" w="2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44" h="21600">
                <a:moveTo>
                  <a:pt x="11922" y="3837"/>
                </a:moveTo>
                <a:lnTo>
                  <a:pt x="14498" y="6448"/>
                </a:lnTo>
                <a:lnTo>
                  <a:pt x="14498" y="4707"/>
                </a:lnTo>
                <a:lnTo>
                  <a:pt x="16274" y="4707"/>
                </a:lnTo>
                <a:lnTo>
                  <a:pt x="16274" y="8224"/>
                </a:lnTo>
                <a:lnTo>
                  <a:pt x="18885" y="10800"/>
                </a:lnTo>
                <a:lnTo>
                  <a:pt x="17231" y="10800"/>
                </a:lnTo>
                <a:lnTo>
                  <a:pt x="17231" y="17989"/>
                </a:lnTo>
                <a:lnTo>
                  <a:pt x="6613" y="17989"/>
                </a:lnTo>
                <a:lnTo>
                  <a:pt x="6613" y="10800"/>
                </a:lnTo>
                <a:lnTo>
                  <a:pt x="4959" y="10800"/>
                </a:lnTo>
                <a:close/>
              </a:path>
              <a:path fill="darkenLess" w="23844" h="21600">
                <a:moveTo>
                  <a:pt x="14498" y="6448"/>
                </a:moveTo>
                <a:lnTo>
                  <a:pt x="14498" y="4707"/>
                </a:lnTo>
                <a:lnTo>
                  <a:pt x="16274" y="4707"/>
                </a:lnTo>
                <a:lnTo>
                  <a:pt x="16274" y="8224"/>
                </a:lnTo>
                <a:close/>
              </a:path>
              <a:path fill="darkenLess" w="23844" h="21600">
                <a:moveTo>
                  <a:pt x="10999" y="14299"/>
                </a:moveTo>
                <a:lnTo>
                  <a:pt x="12845" y="14299"/>
                </a:lnTo>
                <a:lnTo>
                  <a:pt x="12845" y="17989"/>
                </a:lnTo>
                <a:lnTo>
                  <a:pt x="17231" y="17989"/>
                </a:lnTo>
                <a:lnTo>
                  <a:pt x="17231" y="10800"/>
                </a:lnTo>
                <a:lnTo>
                  <a:pt x="6613" y="10800"/>
                </a:lnTo>
                <a:lnTo>
                  <a:pt x="6613" y="17989"/>
                </a:lnTo>
                <a:lnTo>
                  <a:pt x="10999" y="17989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381240" y="1571760"/>
            <a:ext cx="853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такое гидросфера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зовите состав гидросф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rcRect l="0" t="0" r="59" b="79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Управляющая кнопка: домой 2">
            <a:hlinkClick r:id="rId2" action="ppaction://hlinksldjump"/>
          </p:cNvPr>
          <p:cNvSpPr/>
          <p:nvPr/>
        </p:nvSpPr>
        <p:spPr>
          <a:xfrm>
            <a:off x="8143920" y="5857920"/>
            <a:ext cx="828720" cy="828720"/>
          </a:xfrm>
          <a:custGeom>
            <a:avLst/>
            <a:gdLst>
              <a:gd name="textAreaLeft" fmla="*/ 53640 w 828720"/>
              <a:gd name="textAreaRight" fmla="*/ 775080 w 82872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945360" y="1357200"/>
            <a:ext cx="7337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Почему у берегов океа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солёность вод ниж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чем в открытом океан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6:17:49Z</dcterms:created>
  <dc:creator>user</dc:creator>
  <dc:description/>
  <dc:language>en-US</dc:language>
  <cp:lastModifiedBy>user</cp:lastModifiedBy>
  <dcterms:modified xsi:type="dcterms:W3CDTF">2010-05-28T07:26:44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260000000000010250300207f7000400038000</vt:lpwstr>
  </property>
</Properties>
</file>