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7.jpeg" ContentType="image/jpeg"/>
  <Override PartName="/ppt/media/image16.gif" ContentType="image/gif"/>
  <Override PartName="/ppt/media/image5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0B6C-0A2C-4495-953D-1BDBD59F7F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FEE2-55F8-4E15-A1F3-FC691F3AB8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505E-0A1F-4A7F-92EB-AB8FC231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E101-6D6A-4101-B196-1B7B355F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1F26-515F-48E3-9B2D-58D51DAB6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20C4-2042-498B-96B2-542A6D049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8526-428B-4ACA-B9D0-6D7153EE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FF1D-AAD8-4553-8C6F-AE16B357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CB2E-FC98-4F99-A4E0-3F215A4D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B136-EB53-436C-9279-1228B169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1CD6-AB2F-4E40-865B-B4291A46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6792-A133-4AC3-B7A1-8A1F788F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6C36-207E-47D8-A091-35162C68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FD7E-680A-4567-B2C9-28FACEE9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D2F1-EC47-40AE-B5C5-9206305A429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3.xml"/><Relationship Id="rId3" Type="http://schemas.openxmlformats.org/officeDocument/2006/relationships/slide" Target="slide35.xml"/><Relationship Id="rId4" Type="http://schemas.openxmlformats.org/officeDocument/2006/relationships/slide" Target="slide37.xml"/><Relationship Id="rId5" Type="http://schemas.openxmlformats.org/officeDocument/2006/relationships/slide" Target="slide39.xml"/><Relationship Id="rId6" Type="http://schemas.openxmlformats.org/officeDocument/2006/relationships/slide" Target="slide31.xml"/><Relationship Id="rId7" Type="http://schemas.openxmlformats.org/officeDocument/2006/relationships/slide" Target="slide43.xml"/><Relationship Id="rId8" Type="http://schemas.openxmlformats.org/officeDocument/2006/relationships/slide" Target="slide45.xml"/><Relationship Id="rId9" Type="http://schemas.openxmlformats.org/officeDocument/2006/relationships/slide" Target="slide47.xml"/><Relationship Id="rId10" Type="http://schemas.openxmlformats.org/officeDocument/2006/relationships/slide" Target="slide49.xml"/><Relationship Id="rId11" Type="http://schemas.openxmlformats.org/officeDocument/2006/relationships/slide" Target="slide51.xml"/><Relationship Id="rId12" Type="http://schemas.openxmlformats.org/officeDocument/2006/relationships/slide" Target="slide71.xml"/><Relationship Id="rId13" Type="http://schemas.openxmlformats.org/officeDocument/2006/relationships/slide" Target="slide59.xml"/><Relationship Id="rId14" Type="http://schemas.openxmlformats.org/officeDocument/2006/relationships/slide" Target="slide61.xml"/><Relationship Id="rId15" Type="http://schemas.openxmlformats.org/officeDocument/2006/relationships/slide" Target="slide73.xml"/><Relationship Id="rId16" Type="http://schemas.openxmlformats.org/officeDocument/2006/relationships/slide" Target="slide75.xml"/><Relationship Id="rId17" Type="http://schemas.openxmlformats.org/officeDocument/2006/relationships/slide" Target="slide63.xml"/><Relationship Id="rId18" Type="http://schemas.openxmlformats.org/officeDocument/2006/relationships/slide" Target="slide41.xml"/><Relationship Id="rId19" Type="http://schemas.openxmlformats.org/officeDocument/2006/relationships/slide" Target="slide53.xml"/><Relationship Id="rId20" Type="http://schemas.openxmlformats.org/officeDocument/2006/relationships/slide" Target="slide65.xml"/><Relationship Id="rId21" Type="http://schemas.openxmlformats.org/officeDocument/2006/relationships/slide" Target="slide67.xml"/><Relationship Id="rId22" Type="http://schemas.openxmlformats.org/officeDocument/2006/relationships/slide" Target="slide55.xml"/><Relationship Id="rId23" Type="http://schemas.openxmlformats.org/officeDocument/2006/relationships/slide" Target="slide57.xml"/><Relationship Id="rId24" Type="http://schemas.openxmlformats.org/officeDocument/2006/relationships/slide" Target="slide69.xml"/><Relationship Id="rId25" Type="http://schemas.openxmlformats.org/officeDocument/2006/relationships/slide" Target="slide7.xml"/><Relationship Id="rId26" Type="http://schemas.openxmlformats.org/officeDocument/2006/relationships/slide" Target="slide9.xml"/><Relationship Id="rId27" Type="http://schemas.openxmlformats.org/officeDocument/2006/relationships/slide" Target="slide11.xml"/><Relationship Id="rId2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F:\My_new_fon_3\55a.jpg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7257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Интеллектуальная иг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Drawn_wallpapers_Green_Planet_013437_.jpg"/>
          <p:cNvPicPr/>
          <p:nvPr/>
        </p:nvPicPr>
        <p:blipFill>
          <a:blip r:embed="rId2"/>
          <a:stretch/>
        </p:blipFill>
        <p:spPr>
          <a:xfrm>
            <a:off x="5357880" y="3500280"/>
            <a:ext cx="3503520" cy="2627640"/>
          </a:xfrm>
          <a:prstGeom prst="rect">
            <a:avLst/>
          </a:prstGeom>
          <a:ln w="0">
            <a:noFill/>
          </a:ln>
        </p:spPr>
      </p:pic>
      <p:sp>
        <p:nvSpPr>
          <p:cNvPr id="51" name="Выноска-облако 5"/>
          <p:cNvSpPr/>
          <p:nvPr/>
        </p:nvSpPr>
        <p:spPr>
          <a:xfrm>
            <a:off x="214200" y="1214280"/>
            <a:ext cx="6143760" cy="3600720"/>
          </a:xfrm>
          <a:prstGeom prst="cloudCallout">
            <a:avLst>
              <a:gd name="adj1" fmla="val 58495"/>
              <a:gd name="adj2" fmla="val 24259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alibri"/>
              </a:rPr>
              <a:t>Путешествие по родному кра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198864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бочк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PD1"/>
          <p:cNvPicPr/>
          <p:nvPr/>
        </p:nvPicPr>
        <p:blipFill>
          <a:blip r:embed="rId2"/>
          <a:stretch/>
        </p:blipFill>
        <p:spPr>
          <a:xfrm>
            <a:off x="571680" y="4071960"/>
            <a:ext cx="242856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4200" y="1571400"/>
            <a:ext cx="8715600" cy="20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История наших деревень тесно связана с Северодвинском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Как раньше назывался этот город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547640" y="404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Топонимика - 4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PD1"/>
          <p:cNvPicPr/>
          <p:nvPr/>
        </p:nvPicPr>
        <p:blipFill>
          <a:blip r:embed="rId2"/>
          <a:stretch/>
        </p:blipFill>
        <p:spPr>
          <a:xfrm>
            <a:off x="571680" y="4357800"/>
            <a:ext cx="21780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Молотовс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PD1"/>
          <p:cNvPicPr/>
          <p:nvPr/>
        </p:nvPicPr>
        <p:blipFill>
          <a:blip r:embed="rId2"/>
          <a:stretch/>
        </p:blipFill>
        <p:spPr>
          <a:xfrm>
            <a:off x="571680" y="3714840"/>
            <a:ext cx="25635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6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213920"/>
            <a:ext cx="7772400" cy="30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 называлась церковь, находившаяся в Шихирих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так же называется знаменитая крепость в Санкт-Петербурге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547640" y="404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Топонимика - 5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PD1"/>
          <p:cNvPicPr/>
          <p:nvPr/>
        </p:nvPicPr>
        <p:blipFill>
          <a:blip r:embed="rId2"/>
          <a:stretch/>
        </p:blipFill>
        <p:spPr>
          <a:xfrm>
            <a:off x="642960" y="4500720"/>
            <a:ext cx="1971720" cy="21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643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Петропавловска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PD1"/>
          <p:cNvPicPr/>
          <p:nvPr/>
        </p:nvPicPr>
        <p:blipFill>
          <a:blip r:embed="rId2"/>
          <a:stretch/>
        </p:blipFill>
        <p:spPr>
          <a:xfrm>
            <a:off x="571680" y="3857760"/>
            <a:ext cx="24969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1285920"/>
            <a:ext cx="878688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 одной из версий название «Рикасиха» в переводе с финского означает: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каси» – ягоды (брусника, голубика, черника, морошка);   «ри» - ……?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то означает эта часть слова?</a:t>
            </a:r>
            <a:br>
              <a:rPr sz="2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692360" y="642960"/>
            <a:ext cx="6400800" cy="13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Топонимика - 6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PD1"/>
          <p:cNvPicPr/>
          <p:nvPr/>
        </p:nvPicPr>
        <p:blipFill>
          <a:blip r:embed="rId2"/>
          <a:stretch/>
        </p:blipFill>
        <p:spPr>
          <a:xfrm>
            <a:off x="785880" y="4429080"/>
            <a:ext cx="200016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Болот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PD1"/>
          <p:cNvPicPr/>
          <p:nvPr/>
        </p:nvPicPr>
        <p:blipFill>
          <a:blip r:embed="rId2"/>
          <a:stretch/>
        </p:blipFill>
        <p:spPr>
          <a:xfrm>
            <a:off x="571680" y="3929040"/>
            <a:ext cx="24969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7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Цифры и факты - 10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79743"/>
          <p:cNvPicPr/>
          <p:nvPr/>
        </p:nvPicPr>
        <p:blipFill>
          <a:blip r:embed="rId2"/>
          <a:stretch/>
        </p:blipFill>
        <p:spPr>
          <a:xfrm>
            <a:off x="642960" y="4071960"/>
            <a:ext cx="1962000" cy="23684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428400" y="1356840"/>
            <a:ext cx="871524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колько жителей проживает в деревне Рикасих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F:\My_new_fon_3\54a.jpg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292896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Примерно 2000 челове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79743"/>
          <p:cNvPicPr/>
          <p:nvPr/>
        </p:nvPicPr>
        <p:blipFill>
          <a:blip r:embed="rId2"/>
          <a:stretch/>
        </p:blipFill>
        <p:spPr>
          <a:xfrm>
            <a:off x="785880" y="928800"/>
            <a:ext cx="178596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F:\My_new_fon_3\54a.jpg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9292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ff3300"/>
                </a:solidFill>
                <a:latin typeface="Arial"/>
              </a:rPr>
              <a:t>Цифры и факты - 20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0" y="1571760"/>
            <a:ext cx="86868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какие годы в Рикасихе были построены 5-ти этажные дома, Дом Культуры, школа, магазин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50 – 60-е;    60 – 70-е;   70 – 80-е)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79743"/>
          <p:cNvPicPr/>
          <p:nvPr/>
        </p:nvPicPr>
        <p:blipFill>
          <a:blip r:embed="rId2"/>
          <a:stretch/>
        </p:blipFill>
        <p:spPr>
          <a:xfrm>
            <a:off x="928800" y="4572000"/>
            <a:ext cx="175104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F:\My_new_fon_3\55a.jpg"/>
          <p:cNvPicPr/>
          <p:nvPr/>
        </p:nvPicPr>
        <p:blipFill>
          <a:blip r:embed="rId1"/>
          <a:stretch/>
        </p:blipFill>
        <p:spPr>
          <a:xfrm>
            <a:off x="-304920" y="-200160"/>
            <a:ext cx="9753840" cy="72583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79280" y="549000"/>
            <a:ext cx="896472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Есть места, где ничто не меняе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Тот же воздух и те же пру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В глади их строгий лес отражае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И сиянье далёкой звез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                    </a:t>
            </a: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Места родные, здесь я и поны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                    </a:t>
            </a: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Врачую душу щедростью лесн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                    </a:t>
            </a: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Какое счастье, что места род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                    </a:t>
            </a: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Дарованы нам жизнью и судьбой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                                                        </a:t>
            </a: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(Т. В. Москвин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3276720" y="522936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6" descr="F:\My_new_fon_3\54a.jpg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70 – 80-е</a:t>
            </a:r>
            <a:r>
              <a:rPr b="1" lang="en-US" sz="60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79743"/>
          <p:cNvPicPr/>
          <p:nvPr/>
        </p:nvPicPr>
        <p:blipFill>
          <a:blip r:embed="rId2"/>
          <a:stretch/>
        </p:blipFill>
        <p:spPr>
          <a:xfrm>
            <a:off x="642960" y="1000080"/>
            <a:ext cx="185724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F:\My_new_fon_3\54a.jpg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00"/>
                </a:solidFill>
                <a:latin typeface="Arial"/>
              </a:rPr>
              <a:t>Цифры и факты - 3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57120" y="1714680"/>
            <a:ext cx="832968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каком веке в письменных источниках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первые встречается название «Рикасиха»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15 в;       16 в;       17 в)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79743"/>
          <p:cNvPicPr/>
          <p:nvPr/>
        </p:nvPicPr>
        <p:blipFill>
          <a:blip r:embed="rId2"/>
          <a:stretch/>
        </p:blipFill>
        <p:spPr>
          <a:xfrm>
            <a:off x="571680" y="4429080"/>
            <a:ext cx="162540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F:\My_new_fon_3\54a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756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В 16 веке</a:t>
            </a:r>
            <a:r>
              <a:rPr b="1" lang="en-US" sz="6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6" descr="79743"/>
          <p:cNvPicPr/>
          <p:nvPr/>
        </p:nvPicPr>
        <p:blipFill>
          <a:blip r:embed="rId2"/>
          <a:stretch/>
        </p:blipFill>
        <p:spPr>
          <a:xfrm>
            <a:off x="714240" y="785880"/>
            <a:ext cx="1617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F:\My_new_fon_3\54a.jpg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1" i="1" lang="en-US" sz="4300" spc="-1" strike="noStrike">
                <a:solidFill>
                  <a:srgbClr val="ff3300"/>
                </a:solidFill>
                <a:latin typeface="Arial"/>
              </a:rPr>
              <a:t>Цифры и факты - 40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856880"/>
            <a:ext cx="82296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Длина реки Ла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(58 км;     110 км;     131 км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79743"/>
          <p:cNvPicPr/>
          <p:nvPr/>
        </p:nvPicPr>
        <p:blipFill>
          <a:blip r:embed="rId2"/>
          <a:stretch/>
        </p:blipFill>
        <p:spPr>
          <a:xfrm>
            <a:off x="214200" y="4189320"/>
            <a:ext cx="170676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6" descr="F:\My_new_fon_3\54a.jpg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004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131 км</a:t>
            </a:r>
            <a:r>
              <a:rPr b="1" lang="en-US" sz="60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79743"/>
          <p:cNvPicPr/>
          <p:nvPr/>
        </p:nvPicPr>
        <p:blipFill>
          <a:blip r:embed="rId2"/>
          <a:stretch/>
        </p:blipFill>
        <p:spPr>
          <a:xfrm>
            <a:off x="785880" y="1071720"/>
            <a:ext cx="1643040" cy="19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6" descr="F:\My_new_fon_3\54a.jpg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1" i="1" lang="en-US" sz="4300" spc="-1" strike="noStrike">
                <a:solidFill>
                  <a:srgbClr val="ff3300"/>
                </a:solidFill>
                <a:latin typeface="Arial"/>
              </a:rPr>
              <a:t>Цифры и факты - 50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234936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колько имён размещено на Обелиске в д. Рикасих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125;      135;      14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79743"/>
          <p:cNvPicPr/>
          <p:nvPr/>
        </p:nvPicPr>
        <p:blipFill>
          <a:blip r:embed="rId2"/>
          <a:stretch/>
        </p:blipFill>
        <p:spPr>
          <a:xfrm>
            <a:off x="1214280" y="4714920"/>
            <a:ext cx="13813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6" descr="F:\My_new_fon_3\54a.jpg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125</a:t>
            </a:r>
            <a:r>
              <a:rPr b="1" lang="en-US" sz="60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79743"/>
          <p:cNvPicPr/>
          <p:nvPr/>
        </p:nvPicPr>
        <p:blipFill>
          <a:blip r:embed="rId2"/>
          <a:stretch/>
        </p:blipFill>
        <p:spPr>
          <a:xfrm>
            <a:off x="395280" y="549360"/>
            <a:ext cx="13809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" descr="F:\My_new_fon_3\54a.jpg"/>
          <p:cNvPicPr/>
          <p:nvPr/>
        </p:nvPicPr>
        <p:blipFill>
          <a:blip r:embed="rId1"/>
          <a:stretch/>
        </p:blipFill>
        <p:spPr>
          <a:xfrm>
            <a:off x="0" y="0"/>
            <a:ext cx="9458280" cy="70293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ff3300"/>
                </a:solidFill>
                <a:latin typeface="Arial"/>
              </a:rPr>
              <a:t>Цифры и факты - 60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1785600"/>
            <a:ext cx="892980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ая фамилия чаще всего упоминается на Обелиске в деревне Рикасих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Широких; Кулаковы; Бармины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79743"/>
          <p:cNvPicPr/>
          <p:nvPr/>
        </p:nvPicPr>
        <p:blipFill>
          <a:blip r:embed="rId2"/>
          <a:stretch/>
        </p:blipFill>
        <p:spPr>
          <a:xfrm>
            <a:off x="571680" y="4929120"/>
            <a:ext cx="13809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6" descr="F:\My_new_fon_3\54a.jpg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5280" y="1785960"/>
            <a:ext cx="822960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br>
              <a:rPr sz="4300"/>
            </a:b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Бармины – 13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Широких – 11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Кулаковы - 10</a:t>
            </a:r>
            <a:br>
              <a:rPr sz="4300"/>
            </a:br>
            <a:br>
              <a:rPr sz="4300"/>
            </a:b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79743"/>
          <p:cNvPicPr/>
          <p:nvPr/>
        </p:nvPicPr>
        <p:blipFill>
          <a:blip r:embed="rId2"/>
          <a:stretch/>
        </p:blipFill>
        <p:spPr>
          <a:xfrm>
            <a:off x="928800" y="785880"/>
            <a:ext cx="1380960" cy="166680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5"/>
          <p:cNvSpPr/>
          <p:nvPr/>
        </p:nvSpPr>
        <p:spPr>
          <a:xfrm>
            <a:off x="2286000" y="1357200"/>
            <a:ext cx="4572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6" descr="F:\My_new_fon_3\54a.jpg"/>
          <p:cNvPicPr/>
          <p:nvPr/>
        </p:nvPicPr>
        <p:blipFill>
          <a:blip r:embed="rId1"/>
          <a:stretch/>
        </p:blipFill>
        <p:spPr>
          <a:xfrm>
            <a:off x="-357120" y="-214200"/>
            <a:ext cx="9753480" cy="72482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en-US" sz="3600" spc="-1" strike="noStrike">
                <a:solidFill>
                  <a:srgbClr val="ff3300"/>
                </a:solidFill>
                <a:latin typeface="Calibri"/>
              </a:rPr>
              <a:t>Знаменательные события- 10</a:t>
            </a:r>
            <a:br>
              <a:rPr sz="43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14200" y="1571760"/>
            <a:ext cx="8483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мае 1899 года в Лайском Доке началось строительство важного объекта, который строился почти 8 лет. Что было построен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F:\My_new_fon_3\55a.jpg"/>
          <p:cNvPicPr/>
          <p:nvPr/>
        </p:nvPicPr>
        <p:blipFill>
          <a:blip r:embed="rId1"/>
          <a:stretch/>
        </p:blipFill>
        <p:spPr>
          <a:xfrm>
            <a:off x="-324000" y="-171360"/>
            <a:ext cx="9753840" cy="72579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500"/>
            </a:br>
            <a:r>
              <a:rPr b="1" i="1" lang="en-US" sz="6500" spc="-1" strike="noStrike">
                <a:solidFill>
                  <a:srgbClr val="254061"/>
                </a:solidFill>
                <a:latin typeface="Monotype Corsiva"/>
              </a:rPr>
              <a:t>Правила игры</a:t>
            </a:r>
            <a:br>
              <a:rPr sz="6500"/>
            </a:b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356840"/>
            <a:ext cx="83628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Calibri"/>
              </a:rPr>
              <a:t>Участники выбирают категорию и стоимость  вопро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Calibri"/>
              </a:rPr>
              <a:t>Команды по очереди отвечают на вопрос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Calibri"/>
              </a:rPr>
              <a:t>Победителем становится команда, набравшая наибольшее количество балл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Судоремонтный завод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6" descr="F:\My_new_fon_3\54a.jpg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57168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Знаменательные события - 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4067280" y="602136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6"/>
          <p:cNvSpPr/>
          <p:nvPr/>
        </p:nvSpPr>
        <p:spPr>
          <a:xfrm>
            <a:off x="500040" y="215100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7"/>
          <p:cNvSpPr/>
          <p:nvPr/>
        </p:nvSpPr>
        <p:spPr>
          <a:xfrm>
            <a:off x="857160" y="797040"/>
            <a:ext cx="600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8"/>
          <p:cNvSpPr/>
          <p:nvPr/>
        </p:nvSpPr>
        <p:spPr>
          <a:xfrm>
            <a:off x="285840" y="1536840"/>
            <a:ext cx="8643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 какому юбилею Побед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9 мая 2005 год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Рикасихе рядом с Обелиском  установлена мемориальная плит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Calibri"/>
              </a:rPr>
              <a:t> 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К 60 – летию Побед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5" descr="F:\My_new_fon_3\54a.jpg"/>
          <p:cNvPicPr/>
          <p:nvPr/>
        </p:nvPicPr>
        <p:blipFill>
          <a:blip r:embed="rId1"/>
          <a:stretch/>
        </p:blipFill>
        <p:spPr>
          <a:xfrm>
            <a:off x="-357120" y="-214200"/>
            <a:ext cx="9753480" cy="724824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Знаменательные события - 30</a:t>
            </a:r>
            <a:br>
              <a:rPr sz="43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4211640" y="6093000"/>
            <a:ext cx="453564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1599840"/>
            <a:ext cx="8929800" cy="28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каком году состоялось открытие нового 3-х этажного здания детского сада «Солнышко»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1975;    1982;   1987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августе 1987 года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6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Calibri"/>
              </a:rPr>
              <a:t>Знаменательные события - 4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157140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 какому юбилею Победы был установлен Обелиск в Рикасих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к 30; 40; 50 – летию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1773000"/>
            <a:ext cx="850104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К 40–летию Победы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(9 мая 1985 года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Calibri"/>
              </a:rPr>
              <a:t>Знаменательные события - 50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1341360"/>
            <a:ext cx="8929800" cy="38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1 февраля в Рикасихе состоялось открытие нового Дома Культуры. В каком году это произошл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 1971;          1975;          198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4356000" y="6093000"/>
            <a:ext cx="453564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В 1981 год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Знаменательные события - 6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1600200"/>
            <a:ext cx="871524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каком году центр Приморского района из Кегострова перевели в деревню Рикасих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 1930;      1931;          1932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16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179280" y="2205000"/>
          <a:ext cx="8820360" cy="4467240"/>
        </p:xfrm>
        <a:graphic>
          <a:graphicData uri="http://schemas.openxmlformats.org/drawingml/2006/table">
            <a:tbl>
              <a:tblPr/>
              <a:tblGrid>
                <a:gridCol w="2592360"/>
                <a:gridCol w="1079640"/>
                <a:gridCol w="1081080"/>
                <a:gridCol w="1008000"/>
                <a:gridCol w="1079640"/>
                <a:gridCol w="1008000"/>
                <a:gridCol w="971640"/>
              </a:tblGrid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Знаменательные </a:t>
                      </a:r>
                      <a:r>
                        <a:rPr b="1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Наша шко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Это интерес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Природа нашего кр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AutoShape 57"/>
          <p:cNvSpPr/>
          <p:nvPr/>
        </p:nvSpPr>
        <p:spPr>
          <a:xfrm>
            <a:off x="5000760" y="2286000"/>
            <a:ext cx="934920" cy="86364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382" h="21600">
                <a:moveTo>
                  <a:pt x="0" y="0"/>
                </a:moveTo>
                <a:lnTo>
                  <a:pt x="23382" y="0"/>
                </a:lnTo>
                <a:lnTo>
                  <a:pt x="23382" y="21600"/>
                </a:lnTo>
                <a:lnTo>
                  <a:pt x="0" y="21600"/>
                </a:lnTo>
                <a:close/>
              </a:path>
              <a:path fill="lightenLess" w="23382" h="21600">
                <a:moveTo>
                  <a:pt x="0" y="0"/>
                </a:moveTo>
                <a:lnTo>
                  <a:pt x="23382" y="0"/>
                </a:lnTo>
                <a:lnTo>
                  <a:pt x="21982" y="1400"/>
                </a:lnTo>
                <a:lnTo>
                  <a:pt x="1400" y="1400"/>
                </a:lnTo>
                <a:close/>
              </a:path>
              <a:path fill="darken" w="23382" h="21600">
                <a:moveTo>
                  <a:pt x="23382" y="0"/>
                </a:moveTo>
                <a:lnTo>
                  <a:pt x="23382" y="21600"/>
                </a:lnTo>
                <a:lnTo>
                  <a:pt x="21982" y="20200"/>
                </a:lnTo>
                <a:lnTo>
                  <a:pt x="21982" y="1400"/>
                </a:lnTo>
                <a:close/>
              </a:path>
              <a:path fill="darkenLess" w="23382" h="21600">
                <a:moveTo>
                  <a:pt x="23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82" y="20200"/>
                </a:lnTo>
                <a:close/>
              </a:path>
              <a:path fill="lighten" w="23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8"/>
          <p:cNvSpPr/>
          <p:nvPr/>
        </p:nvSpPr>
        <p:spPr>
          <a:xfrm>
            <a:off x="6000840" y="2286000"/>
            <a:ext cx="934920" cy="86364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382" h="21600">
                <a:moveTo>
                  <a:pt x="0" y="0"/>
                </a:moveTo>
                <a:lnTo>
                  <a:pt x="23382" y="0"/>
                </a:lnTo>
                <a:lnTo>
                  <a:pt x="23382" y="21600"/>
                </a:lnTo>
                <a:lnTo>
                  <a:pt x="0" y="21600"/>
                </a:lnTo>
                <a:close/>
              </a:path>
              <a:path fill="lightenLess" w="23382" h="21600">
                <a:moveTo>
                  <a:pt x="0" y="0"/>
                </a:moveTo>
                <a:lnTo>
                  <a:pt x="23382" y="0"/>
                </a:lnTo>
                <a:lnTo>
                  <a:pt x="21982" y="1400"/>
                </a:lnTo>
                <a:lnTo>
                  <a:pt x="1400" y="1400"/>
                </a:lnTo>
                <a:close/>
              </a:path>
              <a:path fill="darken" w="23382" h="21600">
                <a:moveTo>
                  <a:pt x="23382" y="0"/>
                </a:moveTo>
                <a:lnTo>
                  <a:pt x="23382" y="21600"/>
                </a:lnTo>
                <a:lnTo>
                  <a:pt x="21982" y="20200"/>
                </a:lnTo>
                <a:lnTo>
                  <a:pt x="21982" y="1400"/>
                </a:lnTo>
                <a:close/>
              </a:path>
              <a:path fill="darkenLess" w="23382" h="21600">
                <a:moveTo>
                  <a:pt x="23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82" y="20200"/>
                </a:lnTo>
                <a:close/>
              </a:path>
              <a:path fill="lighten" w="23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9"/>
          <p:cNvSpPr/>
          <p:nvPr/>
        </p:nvSpPr>
        <p:spPr>
          <a:xfrm>
            <a:off x="7093080" y="2276640"/>
            <a:ext cx="934920" cy="93492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0"/>
          <p:cNvSpPr/>
          <p:nvPr/>
        </p:nvSpPr>
        <p:spPr>
          <a:xfrm>
            <a:off x="8101080" y="2276640"/>
            <a:ext cx="861840" cy="934920"/>
          </a:xfrm>
          <a:custGeom>
            <a:avLst/>
            <a:gdLst>
              <a:gd name="textAreaLeft" fmla="*/ 55800 w 861840"/>
              <a:gd name="textAreaRight" fmla="*/ 806040 w 861840"/>
              <a:gd name="textAreaTop" fmla="*/ 55800 h 934920"/>
              <a:gd name="textAreaBottom" fmla="*/ 879120 h 934920"/>
            </a:gdLst>
            <a:ahLst/>
            <a:rect l="textAreaLeft" t="textAreaTop" r="textAreaRight" b="textAreaBottom"/>
            <a:pathLst>
              <a:path w="21600" h="23431">
                <a:moveTo>
                  <a:pt x="0" y="0"/>
                </a:moveTo>
                <a:lnTo>
                  <a:pt x="21600" y="0"/>
                </a:lnTo>
                <a:lnTo>
                  <a:pt x="21600" y="23431"/>
                </a:lnTo>
                <a:lnTo>
                  <a:pt x="0" y="23431"/>
                </a:lnTo>
                <a:close/>
              </a:path>
              <a:path fill="lightenLess" w="21600" h="234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31">
                <a:moveTo>
                  <a:pt x="21600" y="0"/>
                </a:moveTo>
                <a:lnTo>
                  <a:pt x="21600" y="23431"/>
                </a:lnTo>
                <a:lnTo>
                  <a:pt x="20200" y="22031"/>
                </a:lnTo>
                <a:lnTo>
                  <a:pt x="20200" y="1400"/>
                </a:lnTo>
                <a:close/>
              </a:path>
              <a:path fill="darkenLess" w="21600" h="23431">
                <a:moveTo>
                  <a:pt x="21600" y="23431"/>
                </a:moveTo>
                <a:lnTo>
                  <a:pt x="0" y="23431"/>
                </a:lnTo>
                <a:lnTo>
                  <a:pt x="1400" y="22031"/>
                </a:lnTo>
                <a:lnTo>
                  <a:pt x="20200" y="22031"/>
                </a:lnTo>
                <a:close/>
              </a:path>
              <a:path fill="lighten" w="21600" h="23431">
                <a:moveTo>
                  <a:pt x="0" y="234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31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4"/>
          <p:cNvSpPr/>
          <p:nvPr/>
        </p:nvSpPr>
        <p:spPr>
          <a:xfrm>
            <a:off x="3929040" y="2286000"/>
            <a:ext cx="934920" cy="86364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382" h="21600">
                <a:moveTo>
                  <a:pt x="0" y="0"/>
                </a:moveTo>
                <a:lnTo>
                  <a:pt x="23382" y="0"/>
                </a:lnTo>
                <a:lnTo>
                  <a:pt x="23382" y="21600"/>
                </a:lnTo>
                <a:lnTo>
                  <a:pt x="0" y="21600"/>
                </a:lnTo>
                <a:close/>
              </a:path>
              <a:path fill="lightenLess" w="23382" h="21600">
                <a:moveTo>
                  <a:pt x="0" y="0"/>
                </a:moveTo>
                <a:lnTo>
                  <a:pt x="23382" y="0"/>
                </a:lnTo>
                <a:lnTo>
                  <a:pt x="21982" y="1400"/>
                </a:lnTo>
                <a:lnTo>
                  <a:pt x="1400" y="1400"/>
                </a:lnTo>
                <a:close/>
              </a:path>
              <a:path fill="darken" w="23382" h="21600">
                <a:moveTo>
                  <a:pt x="23382" y="0"/>
                </a:moveTo>
                <a:lnTo>
                  <a:pt x="23382" y="21600"/>
                </a:lnTo>
                <a:lnTo>
                  <a:pt x="21982" y="20200"/>
                </a:lnTo>
                <a:lnTo>
                  <a:pt x="21982" y="1400"/>
                </a:lnTo>
                <a:close/>
              </a:path>
              <a:path fill="darkenLess" w="23382" h="21600">
                <a:moveTo>
                  <a:pt x="23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82" y="20200"/>
                </a:lnTo>
                <a:close/>
              </a:path>
              <a:path fill="lighten" w="23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71"/>
          <p:cNvSpPr/>
          <p:nvPr/>
        </p:nvSpPr>
        <p:spPr>
          <a:xfrm>
            <a:off x="3929040" y="3357720"/>
            <a:ext cx="934920" cy="100800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88">
                <a:moveTo>
                  <a:pt x="0" y="0"/>
                </a:moveTo>
                <a:lnTo>
                  <a:pt x="21600" y="0"/>
                </a:lnTo>
                <a:lnTo>
                  <a:pt x="21600" y="23288"/>
                </a:lnTo>
                <a:lnTo>
                  <a:pt x="0" y="23288"/>
                </a:lnTo>
                <a:close/>
              </a:path>
              <a:path fill="lightenLess" w="21600" h="232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88">
                <a:moveTo>
                  <a:pt x="21600" y="0"/>
                </a:moveTo>
                <a:lnTo>
                  <a:pt x="21600" y="23288"/>
                </a:lnTo>
                <a:lnTo>
                  <a:pt x="20200" y="21888"/>
                </a:lnTo>
                <a:lnTo>
                  <a:pt x="20200" y="1400"/>
                </a:lnTo>
                <a:close/>
              </a:path>
              <a:path fill="darkenLess" w="21600" h="23288">
                <a:moveTo>
                  <a:pt x="21600" y="23288"/>
                </a:moveTo>
                <a:lnTo>
                  <a:pt x="0" y="23288"/>
                </a:lnTo>
                <a:lnTo>
                  <a:pt x="1400" y="21888"/>
                </a:lnTo>
                <a:lnTo>
                  <a:pt x="20200" y="21888"/>
                </a:lnTo>
                <a:close/>
              </a:path>
              <a:path fill="lighten" w="21600" h="23288">
                <a:moveTo>
                  <a:pt x="0" y="232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2"/>
          <p:cNvSpPr/>
          <p:nvPr/>
        </p:nvSpPr>
        <p:spPr>
          <a:xfrm>
            <a:off x="5003640" y="3357720"/>
            <a:ext cx="935280" cy="1008000"/>
          </a:xfrm>
          <a:custGeom>
            <a:avLst/>
            <a:gdLst>
              <a:gd name="textAreaLeft" fmla="*/ 60480 w 935280"/>
              <a:gd name="textAreaRight" fmla="*/ 874800 w 93528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79">
                <a:moveTo>
                  <a:pt x="0" y="0"/>
                </a:moveTo>
                <a:lnTo>
                  <a:pt x="21600" y="0"/>
                </a:lnTo>
                <a:lnTo>
                  <a:pt x="21600" y="23279"/>
                </a:lnTo>
                <a:lnTo>
                  <a:pt x="0" y="23279"/>
                </a:lnTo>
                <a:close/>
              </a:path>
              <a:path fill="lightenLess" w="21600" h="2327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79">
                <a:moveTo>
                  <a:pt x="21600" y="0"/>
                </a:moveTo>
                <a:lnTo>
                  <a:pt x="21600" y="23279"/>
                </a:lnTo>
                <a:lnTo>
                  <a:pt x="20200" y="21879"/>
                </a:lnTo>
                <a:lnTo>
                  <a:pt x="20200" y="1400"/>
                </a:lnTo>
                <a:close/>
              </a:path>
              <a:path fill="darkenLess" w="21600" h="23279">
                <a:moveTo>
                  <a:pt x="21600" y="23279"/>
                </a:moveTo>
                <a:lnTo>
                  <a:pt x="0" y="23279"/>
                </a:lnTo>
                <a:lnTo>
                  <a:pt x="1400" y="21879"/>
                </a:lnTo>
                <a:lnTo>
                  <a:pt x="20200" y="21879"/>
                </a:lnTo>
                <a:close/>
              </a:path>
              <a:path fill="lighten" w="21600" h="23279">
                <a:moveTo>
                  <a:pt x="0" y="2327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7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73"/>
          <p:cNvSpPr/>
          <p:nvPr/>
        </p:nvSpPr>
        <p:spPr>
          <a:xfrm>
            <a:off x="6012000" y="3357720"/>
            <a:ext cx="934920" cy="100800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88">
                <a:moveTo>
                  <a:pt x="0" y="0"/>
                </a:moveTo>
                <a:lnTo>
                  <a:pt x="21600" y="0"/>
                </a:lnTo>
                <a:lnTo>
                  <a:pt x="21600" y="23288"/>
                </a:lnTo>
                <a:lnTo>
                  <a:pt x="0" y="23288"/>
                </a:lnTo>
                <a:close/>
              </a:path>
              <a:path fill="lightenLess" w="21600" h="232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88">
                <a:moveTo>
                  <a:pt x="21600" y="0"/>
                </a:moveTo>
                <a:lnTo>
                  <a:pt x="21600" y="23288"/>
                </a:lnTo>
                <a:lnTo>
                  <a:pt x="20200" y="21888"/>
                </a:lnTo>
                <a:lnTo>
                  <a:pt x="20200" y="1400"/>
                </a:lnTo>
                <a:close/>
              </a:path>
              <a:path fill="darkenLess" w="21600" h="23288">
                <a:moveTo>
                  <a:pt x="21600" y="23288"/>
                </a:moveTo>
                <a:lnTo>
                  <a:pt x="0" y="23288"/>
                </a:lnTo>
                <a:lnTo>
                  <a:pt x="1400" y="21888"/>
                </a:lnTo>
                <a:lnTo>
                  <a:pt x="20200" y="21888"/>
                </a:lnTo>
                <a:close/>
              </a:path>
              <a:path fill="lighten" w="21600" h="23288">
                <a:moveTo>
                  <a:pt x="0" y="232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74"/>
          <p:cNvSpPr/>
          <p:nvPr/>
        </p:nvSpPr>
        <p:spPr>
          <a:xfrm>
            <a:off x="7072200" y="3357720"/>
            <a:ext cx="862200" cy="1008000"/>
          </a:xfrm>
          <a:custGeom>
            <a:avLst/>
            <a:gdLst>
              <a:gd name="textAreaLeft" fmla="*/ 55800 w 862200"/>
              <a:gd name="textAreaRight" fmla="*/ 806400 w 862200"/>
              <a:gd name="textAreaTop" fmla="*/ 55800 h 1008000"/>
              <a:gd name="textAreaBottom" fmla="*/ 952200 h 1008000"/>
            </a:gdLst>
            <a:ahLst/>
            <a:rect l="textAreaLeft" t="textAreaTop" r="textAreaRight" b="textAreaBottom"/>
            <a:pathLst>
              <a:path w="21600" h="25251">
                <a:moveTo>
                  <a:pt x="0" y="0"/>
                </a:moveTo>
                <a:lnTo>
                  <a:pt x="21600" y="0"/>
                </a:lnTo>
                <a:lnTo>
                  <a:pt x="21600" y="25251"/>
                </a:lnTo>
                <a:lnTo>
                  <a:pt x="0" y="25251"/>
                </a:lnTo>
                <a:close/>
              </a:path>
              <a:path fill="lightenLess" w="21600" h="252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1">
                <a:moveTo>
                  <a:pt x="21600" y="0"/>
                </a:moveTo>
                <a:lnTo>
                  <a:pt x="21600" y="25251"/>
                </a:lnTo>
                <a:lnTo>
                  <a:pt x="20200" y="23851"/>
                </a:lnTo>
                <a:lnTo>
                  <a:pt x="20200" y="1400"/>
                </a:lnTo>
                <a:close/>
              </a:path>
              <a:path fill="darkenLess" w="21600" h="25251">
                <a:moveTo>
                  <a:pt x="21600" y="25251"/>
                </a:moveTo>
                <a:lnTo>
                  <a:pt x="0" y="25251"/>
                </a:lnTo>
                <a:lnTo>
                  <a:pt x="1400" y="23851"/>
                </a:lnTo>
                <a:lnTo>
                  <a:pt x="20200" y="23851"/>
                </a:lnTo>
                <a:close/>
              </a:path>
              <a:path fill="lighten" w="21600" h="25251">
                <a:moveTo>
                  <a:pt x="0" y="252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1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5"/>
          <p:cNvSpPr/>
          <p:nvPr/>
        </p:nvSpPr>
        <p:spPr>
          <a:xfrm>
            <a:off x="8101080" y="3357720"/>
            <a:ext cx="861840" cy="1008000"/>
          </a:xfrm>
          <a:custGeom>
            <a:avLst/>
            <a:gdLst>
              <a:gd name="textAreaLeft" fmla="*/ 55800 w 861840"/>
              <a:gd name="textAreaRight" fmla="*/ 806040 w 861840"/>
              <a:gd name="textAreaTop" fmla="*/ 55800 h 1008000"/>
              <a:gd name="textAreaBottom" fmla="*/ 952200 h 1008000"/>
            </a:gdLst>
            <a:ahLst/>
            <a:rect l="textAreaLeft" t="textAreaTop" r="textAreaRight" b="textAreaBottom"/>
            <a:pathLst>
              <a:path w="21600" h="25262">
                <a:moveTo>
                  <a:pt x="0" y="0"/>
                </a:moveTo>
                <a:lnTo>
                  <a:pt x="21600" y="0"/>
                </a:lnTo>
                <a:lnTo>
                  <a:pt x="21600" y="25262"/>
                </a:lnTo>
                <a:lnTo>
                  <a:pt x="0" y="25262"/>
                </a:lnTo>
                <a:close/>
              </a:path>
              <a:path fill="lightenLess" w="21600" h="252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62">
                <a:moveTo>
                  <a:pt x="21600" y="0"/>
                </a:moveTo>
                <a:lnTo>
                  <a:pt x="21600" y="25262"/>
                </a:lnTo>
                <a:lnTo>
                  <a:pt x="20200" y="23862"/>
                </a:lnTo>
                <a:lnTo>
                  <a:pt x="20200" y="1400"/>
                </a:lnTo>
                <a:close/>
              </a:path>
              <a:path fill="darkenLess" w="21600" h="25262">
                <a:moveTo>
                  <a:pt x="21600" y="25262"/>
                </a:moveTo>
                <a:lnTo>
                  <a:pt x="0" y="25262"/>
                </a:lnTo>
                <a:lnTo>
                  <a:pt x="1400" y="23862"/>
                </a:lnTo>
                <a:lnTo>
                  <a:pt x="20200" y="23862"/>
                </a:lnTo>
                <a:close/>
              </a:path>
              <a:path fill="lighten" w="21600" h="25262">
                <a:moveTo>
                  <a:pt x="0" y="252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6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6"/>
          <p:cNvSpPr/>
          <p:nvPr/>
        </p:nvSpPr>
        <p:spPr>
          <a:xfrm>
            <a:off x="6000840" y="5572080"/>
            <a:ext cx="934920" cy="100800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88">
                <a:moveTo>
                  <a:pt x="0" y="0"/>
                </a:moveTo>
                <a:lnTo>
                  <a:pt x="21600" y="0"/>
                </a:lnTo>
                <a:lnTo>
                  <a:pt x="21600" y="23288"/>
                </a:lnTo>
                <a:lnTo>
                  <a:pt x="0" y="23288"/>
                </a:lnTo>
                <a:close/>
              </a:path>
              <a:path fill="lightenLess" w="21600" h="232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88">
                <a:moveTo>
                  <a:pt x="21600" y="0"/>
                </a:moveTo>
                <a:lnTo>
                  <a:pt x="21600" y="23288"/>
                </a:lnTo>
                <a:lnTo>
                  <a:pt x="20200" y="21888"/>
                </a:lnTo>
                <a:lnTo>
                  <a:pt x="20200" y="1400"/>
                </a:lnTo>
                <a:close/>
              </a:path>
              <a:path fill="darkenLess" w="21600" h="23288">
                <a:moveTo>
                  <a:pt x="21600" y="23288"/>
                </a:moveTo>
                <a:lnTo>
                  <a:pt x="0" y="23288"/>
                </a:lnTo>
                <a:lnTo>
                  <a:pt x="1400" y="21888"/>
                </a:lnTo>
                <a:lnTo>
                  <a:pt x="20200" y="21888"/>
                </a:lnTo>
                <a:close/>
              </a:path>
              <a:path fill="lighten" w="21600" h="23288">
                <a:moveTo>
                  <a:pt x="0" y="232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77"/>
          <p:cNvSpPr/>
          <p:nvPr/>
        </p:nvSpPr>
        <p:spPr>
          <a:xfrm>
            <a:off x="6012000" y="4508640"/>
            <a:ext cx="934920" cy="100800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88">
                <a:moveTo>
                  <a:pt x="0" y="0"/>
                </a:moveTo>
                <a:lnTo>
                  <a:pt x="21600" y="0"/>
                </a:lnTo>
                <a:lnTo>
                  <a:pt x="21600" y="23288"/>
                </a:lnTo>
                <a:lnTo>
                  <a:pt x="0" y="23288"/>
                </a:lnTo>
                <a:close/>
              </a:path>
              <a:path fill="lightenLess" w="21600" h="232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88">
                <a:moveTo>
                  <a:pt x="21600" y="0"/>
                </a:moveTo>
                <a:lnTo>
                  <a:pt x="21600" y="23288"/>
                </a:lnTo>
                <a:lnTo>
                  <a:pt x="20200" y="21888"/>
                </a:lnTo>
                <a:lnTo>
                  <a:pt x="20200" y="1400"/>
                </a:lnTo>
                <a:close/>
              </a:path>
              <a:path fill="darkenLess" w="21600" h="23288">
                <a:moveTo>
                  <a:pt x="21600" y="23288"/>
                </a:moveTo>
                <a:lnTo>
                  <a:pt x="0" y="23288"/>
                </a:lnTo>
                <a:lnTo>
                  <a:pt x="1400" y="21888"/>
                </a:lnTo>
                <a:lnTo>
                  <a:pt x="20200" y="21888"/>
                </a:lnTo>
                <a:close/>
              </a:path>
              <a:path fill="lighten" w="21600" h="23288">
                <a:moveTo>
                  <a:pt x="0" y="232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8"/>
          <p:cNvSpPr/>
          <p:nvPr/>
        </p:nvSpPr>
        <p:spPr>
          <a:xfrm>
            <a:off x="7093080" y="4508640"/>
            <a:ext cx="861840" cy="1009440"/>
          </a:xfrm>
          <a:custGeom>
            <a:avLst/>
            <a:gdLst>
              <a:gd name="textAreaLeft" fmla="*/ 55800 w 861840"/>
              <a:gd name="textAreaRight" fmla="*/ 806040 w 861840"/>
              <a:gd name="textAreaTop" fmla="*/ 55800 h 1009440"/>
              <a:gd name="textAreaBottom" fmla="*/ 953640 h 1009440"/>
            </a:gdLst>
            <a:ahLst/>
            <a:rect l="textAreaLeft" t="textAreaTop" r="textAreaRight" b="textAreaBottom"/>
            <a:pathLst>
              <a:path w="21600" h="25298">
                <a:moveTo>
                  <a:pt x="0" y="0"/>
                </a:moveTo>
                <a:lnTo>
                  <a:pt x="21600" y="0"/>
                </a:lnTo>
                <a:lnTo>
                  <a:pt x="21600" y="25298"/>
                </a:lnTo>
                <a:lnTo>
                  <a:pt x="0" y="25298"/>
                </a:lnTo>
                <a:close/>
              </a:path>
              <a:path fill="lightenLess" w="21600" h="252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98">
                <a:moveTo>
                  <a:pt x="21600" y="0"/>
                </a:moveTo>
                <a:lnTo>
                  <a:pt x="21600" y="25298"/>
                </a:lnTo>
                <a:lnTo>
                  <a:pt x="20200" y="23898"/>
                </a:lnTo>
                <a:lnTo>
                  <a:pt x="20200" y="1400"/>
                </a:lnTo>
                <a:close/>
              </a:path>
              <a:path fill="darkenLess" w="21600" h="25298">
                <a:moveTo>
                  <a:pt x="21600" y="25298"/>
                </a:moveTo>
                <a:lnTo>
                  <a:pt x="0" y="25298"/>
                </a:lnTo>
                <a:lnTo>
                  <a:pt x="1400" y="23898"/>
                </a:lnTo>
                <a:lnTo>
                  <a:pt x="20200" y="23898"/>
                </a:lnTo>
                <a:close/>
              </a:path>
              <a:path fill="lighten" w="21600" h="25298">
                <a:moveTo>
                  <a:pt x="0" y="252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9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9"/>
          <p:cNvSpPr/>
          <p:nvPr/>
        </p:nvSpPr>
        <p:spPr>
          <a:xfrm>
            <a:off x="7020000" y="5589720"/>
            <a:ext cx="934920" cy="100800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88">
                <a:moveTo>
                  <a:pt x="0" y="0"/>
                </a:moveTo>
                <a:lnTo>
                  <a:pt x="21600" y="0"/>
                </a:lnTo>
                <a:lnTo>
                  <a:pt x="21600" y="23288"/>
                </a:lnTo>
                <a:lnTo>
                  <a:pt x="0" y="23288"/>
                </a:lnTo>
                <a:close/>
              </a:path>
              <a:path fill="lightenLess" w="21600" h="232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88">
                <a:moveTo>
                  <a:pt x="21600" y="0"/>
                </a:moveTo>
                <a:lnTo>
                  <a:pt x="21600" y="23288"/>
                </a:lnTo>
                <a:lnTo>
                  <a:pt x="20200" y="21888"/>
                </a:lnTo>
                <a:lnTo>
                  <a:pt x="20200" y="1400"/>
                </a:lnTo>
                <a:close/>
              </a:path>
              <a:path fill="darkenLess" w="21600" h="23288">
                <a:moveTo>
                  <a:pt x="21600" y="23288"/>
                </a:moveTo>
                <a:lnTo>
                  <a:pt x="0" y="23288"/>
                </a:lnTo>
                <a:lnTo>
                  <a:pt x="1400" y="21888"/>
                </a:lnTo>
                <a:lnTo>
                  <a:pt x="20200" y="21888"/>
                </a:lnTo>
                <a:close/>
              </a:path>
              <a:path fill="lighten" w="21600" h="23288">
                <a:moveTo>
                  <a:pt x="0" y="232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0"/>
          <p:cNvSpPr/>
          <p:nvPr/>
        </p:nvSpPr>
        <p:spPr>
          <a:xfrm>
            <a:off x="8028000" y="5661000"/>
            <a:ext cx="934920" cy="93492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81"/>
          <p:cNvSpPr/>
          <p:nvPr/>
        </p:nvSpPr>
        <p:spPr>
          <a:xfrm>
            <a:off x="8101080" y="4508640"/>
            <a:ext cx="861840" cy="1009440"/>
          </a:xfrm>
          <a:custGeom>
            <a:avLst/>
            <a:gdLst>
              <a:gd name="textAreaLeft" fmla="*/ 55800 w 861840"/>
              <a:gd name="textAreaRight" fmla="*/ 806040 w 861840"/>
              <a:gd name="textAreaTop" fmla="*/ 55800 h 1009440"/>
              <a:gd name="textAreaBottom" fmla="*/ 953640 h 1009440"/>
            </a:gdLst>
            <a:ahLst/>
            <a:rect l="textAreaLeft" t="textAreaTop" r="textAreaRight" b="textAreaBottom"/>
            <a:pathLst>
              <a:path w="21600" h="25298">
                <a:moveTo>
                  <a:pt x="0" y="0"/>
                </a:moveTo>
                <a:lnTo>
                  <a:pt x="21600" y="0"/>
                </a:lnTo>
                <a:lnTo>
                  <a:pt x="21600" y="25298"/>
                </a:lnTo>
                <a:lnTo>
                  <a:pt x="0" y="25298"/>
                </a:lnTo>
                <a:close/>
              </a:path>
              <a:path fill="lightenLess" w="21600" h="252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98">
                <a:moveTo>
                  <a:pt x="21600" y="0"/>
                </a:moveTo>
                <a:lnTo>
                  <a:pt x="21600" y="25298"/>
                </a:lnTo>
                <a:lnTo>
                  <a:pt x="20200" y="23898"/>
                </a:lnTo>
                <a:lnTo>
                  <a:pt x="20200" y="1400"/>
                </a:lnTo>
                <a:close/>
              </a:path>
              <a:path fill="darkenLess" w="21600" h="25298">
                <a:moveTo>
                  <a:pt x="21600" y="25298"/>
                </a:moveTo>
                <a:lnTo>
                  <a:pt x="0" y="25298"/>
                </a:lnTo>
                <a:lnTo>
                  <a:pt x="1400" y="23898"/>
                </a:lnTo>
                <a:lnTo>
                  <a:pt x="20200" y="23898"/>
                </a:lnTo>
                <a:close/>
              </a:path>
              <a:path fill="lighten" w="21600" h="25298">
                <a:moveTo>
                  <a:pt x="0" y="252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9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87"/>
          <p:cNvSpPr/>
          <p:nvPr/>
        </p:nvSpPr>
        <p:spPr>
          <a:xfrm>
            <a:off x="2857680" y="3286080"/>
            <a:ext cx="934920" cy="107964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79640"/>
              <a:gd name="textAreaBottom" fmla="*/ 1019160 h 1079640"/>
            </a:gdLst>
            <a:ahLst/>
            <a:rect l="textAreaLeft" t="textAreaTop" r="textAreaRight" b="textAreaBottom"/>
            <a:pathLst>
              <a:path w="21600" h="24942">
                <a:moveTo>
                  <a:pt x="0" y="0"/>
                </a:moveTo>
                <a:lnTo>
                  <a:pt x="21600" y="0"/>
                </a:lnTo>
                <a:lnTo>
                  <a:pt x="21600" y="24942"/>
                </a:lnTo>
                <a:lnTo>
                  <a:pt x="0" y="24942"/>
                </a:lnTo>
                <a:close/>
              </a:path>
              <a:path fill="lightenLess" w="21600" h="249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42">
                <a:moveTo>
                  <a:pt x="21600" y="0"/>
                </a:moveTo>
                <a:lnTo>
                  <a:pt x="21600" y="24942"/>
                </a:lnTo>
                <a:lnTo>
                  <a:pt x="20200" y="23542"/>
                </a:lnTo>
                <a:lnTo>
                  <a:pt x="20200" y="1400"/>
                </a:lnTo>
                <a:close/>
              </a:path>
              <a:path fill="darkenLess" w="21600" h="24942">
                <a:moveTo>
                  <a:pt x="21600" y="24942"/>
                </a:moveTo>
                <a:lnTo>
                  <a:pt x="0" y="24942"/>
                </a:lnTo>
                <a:lnTo>
                  <a:pt x="1400" y="23542"/>
                </a:lnTo>
                <a:lnTo>
                  <a:pt x="20200" y="23542"/>
                </a:lnTo>
                <a:close/>
              </a:path>
              <a:path fill="lighten" w="21600" h="24942">
                <a:moveTo>
                  <a:pt x="0" y="249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4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8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8"/>
          <p:cNvSpPr/>
          <p:nvPr/>
        </p:nvSpPr>
        <p:spPr>
          <a:xfrm>
            <a:off x="2843280" y="4508640"/>
            <a:ext cx="934920" cy="100800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88">
                <a:moveTo>
                  <a:pt x="0" y="0"/>
                </a:moveTo>
                <a:lnTo>
                  <a:pt x="21600" y="0"/>
                </a:lnTo>
                <a:lnTo>
                  <a:pt x="21600" y="23288"/>
                </a:lnTo>
                <a:lnTo>
                  <a:pt x="0" y="23288"/>
                </a:lnTo>
                <a:close/>
              </a:path>
              <a:path fill="lightenLess" w="21600" h="232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88">
                <a:moveTo>
                  <a:pt x="21600" y="0"/>
                </a:moveTo>
                <a:lnTo>
                  <a:pt x="21600" y="23288"/>
                </a:lnTo>
                <a:lnTo>
                  <a:pt x="20200" y="21888"/>
                </a:lnTo>
                <a:lnTo>
                  <a:pt x="20200" y="1400"/>
                </a:lnTo>
                <a:close/>
              </a:path>
              <a:path fill="darkenLess" w="21600" h="23288">
                <a:moveTo>
                  <a:pt x="21600" y="23288"/>
                </a:moveTo>
                <a:lnTo>
                  <a:pt x="0" y="23288"/>
                </a:lnTo>
                <a:lnTo>
                  <a:pt x="1400" y="21888"/>
                </a:lnTo>
                <a:lnTo>
                  <a:pt x="20200" y="21888"/>
                </a:lnTo>
                <a:close/>
              </a:path>
              <a:path fill="lighten" w="21600" h="23288">
                <a:moveTo>
                  <a:pt x="0" y="232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9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9"/>
          <p:cNvSpPr/>
          <p:nvPr/>
        </p:nvSpPr>
        <p:spPr>
          <a:xfrm>
            <a:off x="2843280" y="5589720"/>
            <a:ext cx="934920" cy="100800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88">
                <a:moveTo>
                  <a:pt x="0" y="0"/>
                </a:moveTo>
                <a:lnTo>
                  <a:pt x="21600" y="0"/>
                </a:lnTo>
                <a:lnTo>
                  <a:pt x="21600" y="23288"/>
                </a:lnTo>
                <a:lnTo>
                  <a:pt x="0" y="23288"/>
                </a:lnTo>
                <a:close/>
              </a:path>
              <a:path fill="lightenLess" w="21600" h="232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88">
                <a:moveTo>
                  <a:pt x="21600" y="0"/>
                </a:moveTo>
                <a:lnTo>
                  <a:pt x="21600" y="23288"/>
                </a:lnTo>
                <a:lnTo>
                  <a:pt x="20200" y="21888"/>
                </a:lnTo>
                <a:lnTo>
                  <a:pt x="20200" y="1400"/>
                </a:lnTo>
                <a:close/>
              </a:path>
              <a:path fill="darkenLess" w="21600" h="23288">
                <a:moveTo>
                  <a:pt x="21600" y="23288"/>
                </a:moveTo>
                <a:lnTo>
                  <a:pt x="0" y="23288"/>
                </a:lnTo>
                <a:lnTo>
                  <a:pt x="1400" y="21888"/>
                </a:lnTo>
                <a:lnTo>
                  <a:pt x="20200" y="21888"/>
                </a:lnTo>
                <a:close/>
              </a:path>
              <a:path fill="lighten" w="21600" h="23288">
                <a:moveTo>
                  <a:pt x="0" y="232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0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90"/>
          <p:cNvSpPr/>
          <p:nvPr/>
        </p:nvSpPr>
        <p:spPr>
          <a:xfrm>
            <a:off x="3924360" y="5589720"/>
            <a:ext cx="934920" cy="100800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88">
                <a:moveTo>
                  <a:pt x="0" y="0"/>
                </a:moveTo>
                <a:lnTo>
                  <a:pt x="21600" y="0"/>
                </a:lnTo>
                <a:lnTo>
                  <a:pt x="21600" y="23288"/>
                </a:lnTo>
                <a:lnTo>
                  <a:pt x="0" y="23288"/>
                </a:lnTo>
                <a:close/>
              </a:path>
              <a:path fill="lightenLess" w="21600" h="232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88">
                <a:moveTo>
                  <a:pt x="21600" y="0"/>
                </a:moveTo>
                <a:lnTo>
                  <a:pt x="21600" y="23288"/>
                </a:lnTo>
                <a:lnTo>
                  <a:pt x="20200" y="21888"/>
                </a:lnTo>
                <a:lnTo>
                  <a:pt x="20200" y="1400"/>
                </a:lnTo>
                <a:close/>
              </a:path>
              <a:path fill="darkenLess" w="21600" h="23288">
                <a:moveTo>
                  <a:pt x="21600" y="23288"/>
                </a:moveTo>
                <a:lnTo>
                  <a:pt x="0" y="23288"/>
                </a:lnTo>
                <a:lnTo>
                  <a:pt x="1400" y="21888"/>
                </a:lnTo>
                <a:lnTo>
                  <a:pt x="20200" y="21888"/>
                </a:lnTo>
                <a:close/>
              </a:path>
              <a:path fill="lighten" w="21600" h="23288">
                <a:moveTo>
                  <a:pt x="0" y="232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1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1"/>
          <p:cNvSpPr/>
          <p:nvPr/>
        </p:nvSpPr>
        <p:spPr>
          <a:xfrm>
            <a:off x="3924360" y="4508640"/>
            <a:ext cx="934920" cy="100800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88">
                <a:moveTo>
                  <a:pt x="0" y="0"/>
                </a:moveTo>
                <a:lnTo>
                  <a:pt x="21600" y="0"/>
                </a:lnTo>
                <a:lnTo>
                  <a:pt x="21600" y="23288"/>
                </a:lnTo>
                <a:lnTo>
                  <a:pt x="0" y="23288"/>
                </a:lnTo>
                <a:close/>
              </a:path>
              <a:path fill="lightenLess" w="21600" h="232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88">
                <a:moveTo>
                  <a:pt x="21600" y="0"/>
                </a:moveTo>
                <a:lnTo>
                  <a:pt x="21600" y="23288"/>
                </a:lnTo>
                <a:lnTo>
                  <a:pt x="20200" y="21888"/>
                </a:lnTo>
                <a:lnTo>
                  <a:pt x="20200" y="1400"/>
                </a:lnTo>
                <a:close/>
              </a:path>
              <a:path fill="darkenLess" w="21600" h="23288">
                <a:moveTo>
                  <a:pt x="21600" y="23288"/>
                </a:moveTo>
                <a:lnTo>
                  <a:pt x="0" y="23288"/>
                </a:lnTo>
                <a:lnTo>
                  <a:pt x="1400" y="21888"/>
                </a:lnTo>
                <a:lnTo>
                  <a:pt x="20200" y="21888"/>
                </a:lnTo>
                <a:close/>
              </a:path>
              <a:path fill="lighten" w="21600" h="23288">
                <a:moveTo>
                  <a:pt x="0" y="232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2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2"/>
          <p:cNvSpPr/>
          <p:nvPr/>
        </p:nvSpPr>
        <p:spPr>
          <a:xfrm>
            <a:off x="4932360" y="4508640"/>
            <a:ext cx="934920" cy="100800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88">
                <a:moveTo>
                  <a:pt x="0" y="0"/>
                </a:moveTo>
                <a:lnTo>
                  <a:pt x="21600" y="0"/>
                </a:lnTo>
                <a:lnTo>
                  <a:pt x="21600" y="23288"/>
                </a:lnTo>
                <a:lnTo>
                  <a:pt x="0" y="23288"/>
                </a:lnTo>
                <a:close/>
              </a:path>
              <a:path fill="lightenLess" w="21600" h="232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88">
                <a:moveTo>
                  <a:pt x="21600" y="0"/>
                </a:moveTo>
                <a:lnTo>
                  <a:pt x="21600" y="23288"/>
                </a:lnTo>
                <a:lnTo>
                  <a:pt x="20200" y="21888"/>
                </a:lnTo>
                <a:lnTo>
                  <a:pt x="20200" y="1400"/>
                </a:lnTo>
                <a:close/>
              </a:path>
              <a:path fill="darkenLess" w="21600" h="23288">
                <a:moveTo>
                  <a:pt x="21600" y="23288"/>
                </a:moveTo>
                <a:lnTo>
                  <a:pt x="0" y="23288"/>
                </a:lnTo>
                <a:lnTo>
                  <a:pt x="1400" y="21888"/>
                </a:lnTo>
                <a:lnTo>
                  <a:pt x="20200" y="21888"/>
                </a:lnTo>
                <a:close/>
              </a:path>
              <a:path fill="lighten" w="21600" h="23288">
                <a:moveTo>
                  <a:pt x="0" y="232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3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3"/>
          <p:cNvSpPr/>
          <p:nvPr/>
        </p:nvSpPr>
        <p:spPr>
          <a:xfrm>
            <a:off x="4932360" y="5589720"/>
            <a:ext cx="934920" cy="100800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88">
                <a:moveTo>
                  <a:pt x="0" y="0"/>
                </a:moveTo>
                <a:lnTo>
                  <a:pt x="21600" y="0"/>
                </a:lnTo>
                <a:lnTo>
                  <a:pt x="21600" y="23288"/>
                </a:lnTo>
                <a:lnTo>
                  <a:pt x="0" y="23288"/>
                </a:lnTo>
                <a:close/>
              </a:path>
              <a:path fill="lightenLess" w="21600" h="232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88">
                <a:moveTo>
                  <a:pt x="21600" y="0"/>
                </a:moveTo>
                <a:lnTo>
                  <a:pt x="21600" y="23288"/>
                </a:lnTo>
                <a:lnTo>
                  <a:pt x="20200" y="21888"/>
                </a:lnTo>
                <a:lnTo>
                  <a:pt x="20200" y="1400"/>
                </a:lnTo>
                <a:close/>
              </a:path>
              <a:path fill="darkenLess" w="21600" h="23288">
                <a:moveTo>
                  <a:pt x="21600" y="23288"/>
                </a:moveTo>
                <a:lnTo>
                  <a:pt x="0" y="23288"/>
                </a:lnTo>
                <a:lnTo>
                  <a:pt x="1400" y="21888"/>
                </a:lnTo>
                <a:lnTo>
                  <a:pt x="20200" y="21888"/>
                </a:lnTo>
                <a:close/>
              </a:path>
              <a:path fill="lighten" w="21600" h="23288">
                <a:moveTo>
                  <a:pt x="0" y="232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79280" y="189000"/>
          <a:ext cx="8785440" cy="936360"/>
        </p:xfrm>
        <a:graphic>
          <a:graphicData uri="http://schemas.openxmlformats.org/drawingml/2006/table">
            <a:tbl>
              <a:tblPr/>
              <a:tblGrid>
                <a:gridCol w="2592360"/>
                <a:gridCol w="1079640"/>
                <a:gridCol w="1081080"/>
                <a:gridCol w="1008000"/>
                <a:gridCol w="1079640"/>
                <a:gridCol w="1008000"/>
                <a:gridCol w="936720"/>
              </a:tblGrid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опоним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AutoShape 129"/>
          <p:cNvSpPr/>
          <p:nvPr/>
        </p:nvSpPr>
        <p:spPr>
          <a:xfrm>
            <a:off x="3924360" y="189000"/>
            <a:ext cx="934920" cy="93636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21600" h="21633">
                <a:moveTo>
                  <a:pt x="0" y="0"/>
                </a:moveTo>
                <a:lnTo>
                  <a:pt x="21600" y="0"/>
                </a:lnTo>
                <a:lnTo>
                  <a:pt x="21600" y="21633"/>
                </a:lnTo>
                <a:lnTo>
                  <a:pt x="0" y="21633"/>
                </a:lnTo>
                <a:close/>
              </a:path>
              <a:path fill="lightenLess" w="21600" h="216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3">
                <a:moveTo>
                  <a:pt x="21600" y="0"/>
                </a:moveTo>
                <a:lnTo>
                  <a:pt x="21600" y="21633"/>
                </a:lnTo>
                <a:lnTo>
                  <a:pt x="20200" y="20233"/>
                </a:lnTo>
                <a:lnTo>
                  <a:pt x="20200" y="1400"/>
                </a:lnTo>
                <a:close/>
              </a:path>
              <a:path fill="darkenLess" w="21600" h="21633">
                <a:moveTo>
                  <a:pt x="21600" y="21633"/>
                </a:moveTo>
                <a:lnTo>
                  <a:pt x="0" y="21633"/>
                </a:lnTo>
                <a:lnTo>
                  <a:pt x="1400" y="20233"/>
                </a:lnTo>
                <a:lnTo>
                  <a:pt x="20200" y="20233"/>
                </a:lnTo>
                <a:close/>
              </a:path>
              <a:path fill="lighten" w="21600" h="21633">
                <a:moveTo>
                  <a:pt x="0" y="216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3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5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30"/>
          <p:cNvSpPr/>
          <p:nvPr/>
        </p:nvSpPr>
        <p:spPr>
          <a:xfrm>
            <a:off x="4932360" y="189000"/>
            <a:ext cx="934920" cy="93636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21600" h="21633">
                <a:moveTo>
                  <a:pt x="0" y="0"/>
                </a:moveTo>
                <a:lnTo>
                  <a:pt x="21600" y="0"/>
                </a:lnTo>
                <a:lnTo>
                  <a:pt x="21600" y="21633"/>
                </a:lnTo>
                <a:lnTo>
                  <a:pt x="0" y="21633"/>
                </a:lnTo>
                <a:close/>
              </a:path>
              <a:path fill="lightenLess" w="21600" h="216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3">
                <a:moveTo>
                  <a:pt x="21600" y="0"/>
                </a:moveTo>
                <a:lnTo>
                  <a:pt x="21600" y="21633"/>
                </a:lnTo>
                <a:lnTo>
                  <a:pt x="20200" y="20233"/>
                </a:lnTo>
                <a:lnTo>
                  <a:pt x="20200" y="1400"/>
                </a:lnTo>
                <a:close/>
              </a:path>
              <a:path fill="darkenLess" w="21600" h="21633">
                <a:moveTo>
                  <a:pt x="21600" y="21633"/>
                </a:moveTo>
                <a:lnTo>
                  <a:pt x="0" y="21633"/>
                </a:lnTo>
                <a:lnTo>
                  <a:pt x="1400" y="20233"/>
                </a:lnTo>
                <a:lnTo>
                  <a:pt x="20200" y="20233"/>
                </a:lnTo>
                <a:close/>
              </a:path>
              <a:path fill="lighten" w="21600" h="21633">
                <a:moveTo>
                  <a:pt x="0" y="216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3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6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1"/>
          <p:cNvSpPr/>
          <p:nvPr/>
        </p:nvSpPr>
        <p:spPr>
          <a:xfrm>
            <a:off x="6012000" y="189000"/>
            <a:ext cx="934920" cy="93636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21600" h="21633">
                <a:moveTo>
                  <a:pt x="0" y="0"/>
                </a:moveTo>
                <a:lnTo>
                  <a:pt x="21600" y="0"/>
                </a:lnTo>
                <a:lnTo>
                  <a:pt x="21600" y="21633"/>
                </a:lnTo>
                <a:lnTo>
                  <a:pt x="0" y="21633"/>
                </a:lnTo>
                <a:close/>
              </a:path>
              <a:path fill="lightenLess" w="21600" h="216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3">
                <a:moveTo>
                  <a:pt x="21600" y="0"/>
                </a:moveTo>
                <a:lnTo>
                  <a:pt x="21600" y="21633"/>
                </a:lnTo>
                <a:lnTo>
                  <a:pt x="20200" y="20233"/>
                </a:lnTo>
                <a:lnTo>
                  <a:pt x="20200" y="1400"/>
                </a:lnTo>
                <a:close/>
              </a:path>
              <a:path fill="darkenLess" w="21600" h="21633">
                <a:moveTo>
                  <a:pt x="21600" y="21633"/>
                </a:moveTo>
                <a:lnTo>
                  <a:pt x="0" y="21633"/>
                </a:lnTo>
                <a:lnTo>
                  <a:pt x="1400" y="20233"/>
                </a:lnTo>
                <a:lnTo>
                  <a:pt x="20200" y="20233"/>
                </a:lnTo>
                <a:close/>
              </a:path>
              <a:path fill="lighten" w="21600" h="21633">
                <a:moveTo>
                  <a:pt x="0" y="216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3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7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32"/>
          <p:cNvSpPr/>
          <p:nvPr/>
        </p:nvSpPr>
        <p:spPr>
          <a:xfrm>
            <a:off x="7020000" y="189000"/>
            <a:ext cx="934920" cy="93636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21600" h="21633">
                <a:moveTo>
                  <a:pt x="0" y="0"/>
                </a:moveTo>
                <a:lnTo>
                  <a:pt x="21600" y="0"/>
                </a:lnTo>
                <a:lnTo>
                  <a:pt x="21600" y="21633"/>
                </a:lnTo>
                <a:lnTo>
                  <a:pt x="0" y="21633"/>
                </a:lnTo>
                <a:close/>
              </a:path>
              <a:path fill="lightenLess" w="21600" h="216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3">
                <a:moveTo>
                  <a:pt x="21600" y="0"/>
                </a:moveTo>
                <a:lnTo>
                  <a:pt x="21600" y="21633"/>
                </a:lnTo>
                <a:lnTo>
                  <a:pt x="20200" y="20233"/>
                </a:lnTo>
                <a:lnTo>
                  <a:pt x="20200" y="1400"/>
                </a:lnTo>
                <a:close/>
              </a:path>
              <a:path fill="darkenLess" w="21600" h="21633">
                <a:moveTo>
                  <a:pt x="21600" y="21633"/>
                </a:moveTo>
                <a:lnTo>
                  <a:pt x="0" y="21633"/>
                </a:lnTo>
                <a:lnTo>
                  <a:pt x="1400" y="20233"/>
                </a:lnTo>
                <a:lnTo>
                  <a:pt x="20200" y="20233"/>
                </a:lnTo>
                <a:close/>
              </a:path>
              <a:path fill="lighten" w="21600" h="21633">
                <a:moveTo>
                  <a:pt x="0" y="216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3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33"/>
          <p:cNvSpPr/>
          <p:nvPr/>
        </p:nvSpPr>
        <p:spPr>
          <a:xfrm>
            <a:off x="8028000" y="189000"/>
            <a:ext cx="934920" cy="93636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21600" h="21633">
                <a:moveTo>
                  <a:pt x="0" y="0"/>
                </a:moveTo>
                <a:lnTo>
                  <a:pt x="21600" y="0"/>
                </a:lnTo>
                <a:lnTo>
                  <a:pt x="21600" y="21633"/>
                </a:lnTo>
                <a:lnTo>
                  <a:pt x="0" y="21633"/>
                </a:lnTo>
                <a:close/>
              </a:path>
              <a:path fill="lightenLess" w="21600" h="216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3">
                <a:moveTo>
                  <a:pt x="21600" y="0"/>
                </a:moveTo>
                <a:lnTo>
                  <a:pt x="21600" y="21633"/>
                </a:lnTo>
                <a:lnTo>
                  <a:pt x="20200" y="20233"/>
                </a:lnTo>
                <a:lnTo>
                  <a:pt x="20200" y="1400"/>
                </a:lnTo>
                <a:close/>
              </a:path>
              <a:path fill="darkenLess" w="21600" h="21633">
                <a:moveTo>
                  <a:pt x="21600" y="21633"/>
                </a:moveTo>
                <a:lnTo>
                  <a:pt x="0" y="21633"/>
                </a:lnTo>
                <a:lnTo>
                  <a:pt x="1400" y="20233"/>
                </a:lnTo>
                <a:lnTo>
                  <a:pt x="20200" y="20233"/>
                </a:lnTo>
                <a:close/>
              </a:path>
              <a:path fill="lighten" w="21600" h="21633">
                <a:moveTo>
                  <a:pt x="0" y="216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3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35"/>
          <p:cNvSpPr/>
          <p:nvPr/>
        </p:nvSpPr>
        <p:spPr>
          <a:xfrm>
            <a:off x="2843280" y="2276640"/>
            <a:ext cx="934920" cy="93492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38"/>
          <p:cNvSpPr/>
          <p:nvPr/>
        </p:nvSpPr>
        <p:spPr>
          <a:xfrm>
            <a:off x="2843280" y="189000"/>
            <a:ext cx="861840" cy="936360"/>
          </a:xfrm>
          <a:custGeom>
            <a:avLst/>
            <a:gdLst>
              <a:gd name="textAreaLeft" fmla="*/ 55800 w 861840"/>
              <a:gd name="textAreaRight" fmla="*/ 806040 w 861840"/>
              <a:gd name="textAreaTop" fmla="*/ 55800 h 936360"/>
              <a:gd name="textAreaBottom" fmla="*/ 880560 h 936360"/>
            </a:gdLst>
            <a:ahLst/>
            <a:rect l="textAreaLeft" t="textAreaTop" r="textAreaRight" b="textAreaBottom"/>
            <a:pathLst>
              <a:path w="21600" h="23467">
                <a:moveTo>
                  <a:pt x="0" y="0"/>
                </a:moveTo>
                <a:lnTo>
                  <a:pt x="21600" y="0"/>
                </a:lnTo>
                <a:lnTo>
                  <a:pt x="21600" y="23467"/>
                </a:lnTo>
                <a:lnTo>
                  <a:pt x="0" y="23467"/>
                </a:lnTo>
                <a:close/>
              </a:path>
              <a:path fill="lightenLess" w="21600" h="234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67">
                <a:moveTo>
                  <a:pt x="21600" y="0"/>
                </a:moveTo>
                <a:lnTo>
                  <a:pt x="21600" y="23467"/>
                </a:lnTo>
                <a:lnTo>
                  <a:pt x="20200" y="22067"/>
                </a:lnTo>
                <a:lnTo>
                  <a:pt x="20200" y="1400"/>
                </a:lnTo>
                <a:close/>
              </a:path>
              <a:path fill="darkenLess" w="21600" h="23467">
                <a:moveTo>
                  <a:pt x="21600" y="23467"/>
                </a:moveTo>
                <a:lnTo>
                  <a:pt x="0" y="23467"/>
                </a:lnTo>
                <a:lnTo>
                  <a:pt x="1400" y="22067"/>
                </a:lnTo>
                <a:lnTo>
                  <a:pt x="20200" y="22067"/>
                </a:lnTo>
                <a:close/>
              </a:path>
              <a:path fill="lighten" w="21600" h="23467">
                <a:moveTo>
                  <a:pt x="0" y="234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67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79280" y="1197000"/>
          <a:ext cx="8785440" cy="944640"/>
        </p:xfrm>
        <a:graphic>
          <a:graphicData uri="http://schemas.openxmlformats.org/drawingml/2006/table">
            <a:tbl>
              <a:tblPr/>
              <a:tblGrid>
                <a:gridCol w="2592360"/>
                <a:gridCol w="1008360"/>
                <a:gridCol w="1152360"/>
                <a:gridCol w="1008000"/>
                <a:gridCol w="1008000"/>
                <a:gridCol w="1008360"/>
                <a:gridCol w="1008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Цифры и фак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AutoShape 176"/>
          <p:cNvSpPr/>
          <p:nvPr/>
        </p:nvSpPr>
        <p:spPr>
          <a:xfrm>
            <a:off x="2843280" y="1197000"/>
            <a:ext cx="934920" cy="86364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382" h="21600">
                <a:moveTo>
                  <a:pt x="0" y="0"/>
                </a:moveTo>
                <a:lnTo>
                  <a:pt x="23382" y="0"/>
                </a:lnTo>
                <a:lnTo>
                  <a:pt x="23382" y="21600"/>
                </a:lnTo>
                <a:lnTo>
                  <a:pt x="0" y="21600"/>
                </a:lnTo>
                <a:close/>
              </a:path>
              <a:path fill="lightenLess" w="23382" h="21600">
                <a:moveTo>
                  <a:pt x="0" y="0"/>
                </a:moveTo>
                <a:lnTo>
                  <a:pt x="23382" y="0"/>
                </a:lnTo>
                <a:lnTo>
                  <a:pt x="21982" y="1400"/>
                </a:lnTo>
                <a:lnTo>
                  <a:pt x="1400" y="1400"/>
                </a:lnTo>
                <a:close/>
              </a:path>
              <a:path fill="darken" w="23382" h="21600">
                <a:moveTo>
                  <a:pt x="23382" y="0"/>
                </a:moveTo>
                <a:lnTo>
                  <a:pt x="23382" y="21600"/>
                </a:lnTo>
                <a:lnTo>
                  <a:pt x="21982" y="20200"/>
                </a:lnTo>
                <a:lnTo>
                  <a:pt x="21982" y="1400"/>
                </a:lnTo>
                <a:close/>
              </a:path>
              <a:path fill="darkenLess" w="23382" h="21600">
                <a:moveTo>
                  <a:pt x="23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82" y="20200"/>
                </a:lnTo>
                <a:close/>
              </a:path>
              <a:path fill="lighten" w="23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77"/>
          <p:cNvSpPr/>
          <p:nvPr/>
        </p:nvSpPr>
        <p:spPr>
          <a:xfrm>
            <a:off x="3924360" y="1268280"/>
            <a:ext cx="934920" cy="792360"/>
          </a:xfrm>
          <a:custGeom>
            <a:avLst/>
            <a:gdLst>
              <a:gd name="textAreaLeft" fmla="*/ 51120 w 934920"/>
              <a:gd name="textAreaRight" fmla="*/ 883800 w 934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5484" h="21600">
                <a:moveTo>
                  <a:pt x="0" y="0"/>
                </a:moveTo>
                <a:lnTo>
                  <a:pt x="25484" y="0"/>
                </a:lnTo>
                <a:lnTo>
                  <a:pt x="25484" y="21600"/>
                </a:lnTo>
                <a:lnTo>
                  <a:pt x="0" y="21600"/>
                </a:lnTo>
                <a:close/>
              </a:path>
              <a:path fill="lightenLess" w="25484" h="21600">
                <a:moveTo>
                  <a:pt x="0" y="0"/>
                </a:moveTo>
                <a:lnTo>
                  <a:pt x="25484" y="0"/>
                </a:lnTo>
                <a:lnTo>
                  <a:pt x="24085" y="1400"/>
                </a:lnTo>
                <a:lnTo>
                  <a:pt x="1400" y="1400"/>
                </a:lnTo>
                <a:close/>
              </a:path>
              <a:path fill="darken" w="25484" h="21600">
                <a:moveTo>
                  <a:pt x="25484" y="0"/>
                </a:moveTo>
                <a:lnTo>
                  <a:pt x="25484" y="21600"/>
                </a:lnTo>
                <a:lnTo>
                  <a:pt x="24085" y="20200"/>
                </a:lnTo>
                <a:lnTo>
                  <a:pt x="24085" y="1400"/>
                </a:lnTo>
                <a:close/>
              </a:path>
              <a:path fill="darkenLess" w="25484" h="21600">
                <a:moveTo>
                  <a:pt x="254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85" y="20200"/>
                </a:lnTo>
                <a:close/>
              </a:path>
              <a:path fill="lighten" w="254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78"/>
          <p:cNvSpPr/>
          <p:nvPr/>
        </p:nvSpPr>
        <p:spPr>
          <a:xfrm>
            <a:off x="5003640" y="1268280"/>
            <a:ext cx="935280" cy="792360"/>
          </a:xfrm>
          <a:custGeom>
            <a:avLst/>
            <a:gdLst>
              <a:gd name="textAreaLeft" fmla="*/ 51120 w 935280"/>
              <a:gd name="textAreaRight" fmla="*/ 884160 w 93528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5494" h="21600">
                <a:moveTo>
                  <a:pt x="0" y="0"/>
                </a:moveTo>
                <a:lnTo>
                  <a:pt x="25494" y="0"/>
                </a:lnTo>
                <a:lnTo>
                  <a:pt x="25494" y="21600"/>
                </a:lnTo>
                <a:lnTo>
                  <a:pt x="0" y="21600"/>
                </a:lnTo>
                <a:close/>
              </a:path>
              <a:path fill="lightenLess" w="25494" h="21600">
                <a:moveTo>
                  <a:pt x="0" y="0"/>
                </a:moveTo>
                <a:lnTo>
                  <a:pt x="25494" y="0"/>
                </a:lnTo>
                <a:lnTo>
                  <a:pt x="24094" y="1400"/>
                </a:lnTo>
                <a:lnTo>
                  <a:pt x="1400" y="1400"/>
                </a:lnTo>
                <a:close/>
              </a:path>
              <a:path fill="darken" w="25494" h="21600">
                <a:moveTo>
                  <a:pt x="25494" y="0"/>
                </a:moveTo>
                <a:lnTo>
                  <a:pt x="25494" y="21600"/>
                </a:lnTo>
                <a:lnTo>
                  <a:pt x="24094" y="20200"/>
                </a:lnTo>
                <a:lnTo>
                  <a:pt x="24094" y="1400"/>
                </a:lnTo>
                <a:close/>
              </a:path>
              <a:path fill="darkenLess" w="25494" h="21600">
                <a:moveTo>
                  <a:pt x="254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94" y="20200"/>
                </a:lnTo>
                <a:close/>
              </a:path>
              <a:path fill="lighten" w="254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79"/>
          <p:cNvSpPr/>
          <p:nvPr/>
        </p:nvSpPr>
        <p:spPr>
          <a:xfrm>
            <a:off x="6000840" y="1285920"/>
            <a:ext cx="863640" cy="86364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80"/>
          <p:cNvSpPr/>
          <p:nvPr/>
        </p:nvSpPr>
        <p:spPr>
          <a:xfrm>
            <a:off x="7072200" y="1214280"/>
            <a:ext cx="935280" cy="863640"/>
          </a:xfrm>
          <a:custGeom>
            <a:avLst/>
            <a:gdLst>
              <a:gd name="textAreaLeft" fmla="*/ 55800 w 935280"/>
              <a:gd name="textAreaRight" fmla="*/ 879480 w 93528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391" h="21600">
                <a:moveTo>
                  <a:pt x="0" y="0"/>
                </a:moveTo>
                <a:lnTo>
                  <a:pt x="23391" y="0"/>
                </a:lnTo>
                <a:lnTo>
                  <a:pt x="23391" y="21600"/>
                </a:lnTo>
                <a:lnTo>
                  <a:pt x="0" y="21600"/>
                </a:lnTo>
                <a:close/>
              </a:path>
              <a:path fill="lightenLess" w="23391" h="21600">
                <a:moveTo>
                  <a:pt x="0" y="0"/>
                </a:moveTo>
                <a:lnTo>
                  <a:pt x="23391" y="0"/>
                </a:lnTo>
                <a:lnTo>
                  <a:pt x="21991" y="1400"/>
                </a:lnTo>
                <a:lnTo>
                  <a:pt x="1400" y="1400"/>
                </a:lnTo>
                <a:close/>
              </a:path>
              <a:path fill="darken" w="23391" h="21600">
                <a:moveTo>
                  <a:pt x="23391" y="0"/>
                </a:moveTo>
                <a:lnTo>
                  <a:pt x="23391" y="21600"/>
                </a:lnTo>
                <a:lnTo>
                  <a:pt x="21991" y="20200"/>
                </a:lnTo>
                <a:lnTo>
                  <a:pt x="21991" y="1400"/>
                </a:lnTo>
                <a:close/>
              </a:path>
              <a:path fill="darkenLess" w="23391" h="21600">
                <a:moveTo>
                  <a:pt x="23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1" y="20200"/>
                </a:lnTo>
                <a:close/>
              </a:path>
              <a:path fill="lighten" w="23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81"/>
          <p:cNvSpPr/>
          <p:nvPr/>
        </p:nvSpPr>
        <p:spPr>
          <a:xfrm>
            <a:off x="8028000" y="1197000"/>
            <a:ext cx="934920" cy="86364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382" h="21600">
                <a:moveTo>
                  <a:pt x="0" y="0"/>
                </a:moveTo>
                <a:lnTo>
                  <a:pt x="23382" y="0"/>
                </a:lnTo>
                <a:lnTo>
                  <a:pt x="23382" y="21600"/>
                </a:lnTo>
                <a:lnTo>
                  <a:pt x="0" y="21600"/>
                </a:lnTo>
                <a:close/>
              </a:path>
              <a:path fill="lightenLess" w="23382" h="21600">
                <a:moveTo>
                  <a:pt x="0" y="0"/>
                </a:moveTo>
                <a:lnTo>
                  <a:pt x="23382" y="0"/>
                </a:lnTo>
                <a:lnTo>
                  <a:pt x="21982" y="1400"/>
                </a:lnTo>
                <a:lnTo>
                  <a:pt x="1400" y="1400"/>
                </a:lnTo>
                <a:close/>
              </a:path>
              <a:path fill="darken" w="23382" h="21600">
                <a:moveTo>
                  <a:pt x="23382" y="0"/>
                </a:moveTo>
                <a:lnTo>
                  <a:pt x="23382" y="21600"/>
                </a:lnTo>
                <a:lnTo>
                  <a:pt x="21982" y="20200"/>
                </a:lnTo>
                <a:lnTo>
                  <a:pt x="21982" y="1400"/>
                </a:lnTo>
                <a:close/>
              </a:path>
              <a:path fill="darkenLess" w="23382" h="21600">
                <a:moveTo>
                  <a:pt x="23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82" y="20200"/>
                </a:lnTo>
                <a:close/>
              </a:path>
              <a:path fill="lighten" w="23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2 марта 1932года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6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i="1" lang="en-US" sz="4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i="1" lang="en-US" sz="4000" spc="-1" strike="noStrike">
                <a:solidFill>
                  <a:srgbClr val="ff3300"/>
                </a:solidFill>
                <a:latin typeface="Calibri"/>
              </a:rPr>
              <a:t>Наша школа</a:t>
            </a: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 - 10</a:t>
            </a:r>
            <a:br>
              <a:rPr sz="5400"/>
            </a:br>
            <a:br>
              <a:rPr sz="43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4071960" y="6000840"/>
            <a:ext cx="453564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emblema"/>
          <p:cNvPicPr/>
          <p:nvPr/>
        </p:nvPicPr>
        <p:blipFill>
          <a:blip r:embed="rId2"/>
          <a:stretch/>
        </p:blipFill>
        <p:spPr>
          <a:xfrm>
            <a:off x="7572240" y="500040"/>
            <a:ext cx="1571760" cy="164952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6" descr="\\Srv1\Foto\фото школы\DSC07500.JPG"/>
          <p:cNvPicPr/>
          <p:nvPr/>
        </p:nvPicPr>
        <p:blipFill>
          <a:blip r:embed="rId3"/>
          <a:stretch/>
        </p:blipFill>
        <p:spPr>
          <a:xfrm>
            <a:off x="357120" y="4408560"/>
            <a:ext cx="3357720" cy="24494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285480" y="1355760"/>
            <a:ext cx="7643880" cy="301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«Рикасихинская школа 1-й ступени – трёхлетка. Северный край, Приморский район, Рикасихинский с/с, д. Рикасиха.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 какого года существует школа (как данный тип), если 1 сентября 2012 года ей исполн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лос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80 ле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С 1932 год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AutoShape 4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emblema"/>
          <p:cNvPicPr/>
          <p:nvPr/>
        </p:nvPicPr>
        <p:blipFill>
          <a:blip r:embed="rId2"/>
          <a:stretch/>
        </p:blipFill>
        <p:spPr>
          <a:xfrm>
            <a:off x="6643800" y="714240"/>
            <a:ext cx="1974600" cy="207180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5" descr="\\Srv1\Foto\фото школы\DSC07500.JPG"/>
          <p:cNvPicPr/>
          <p:nvPr/>
        </p:nvPicPr>
        <p:blipFill>
          <a:blip r:embed="rId3"/>
          <a:stretch/>
        </p:blipFill>
        <p:spPr>
          <a:xfrm>
            <a:off x="714240" y="3500280"/>
            <a:ext cx="400068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6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ff3300"/>
                </a:solidFill>
                <a:latin typeface="Calibri"/>
              </a:rPr>
              <a:t>Наша школа - 20 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143000" y="1500120"/>
            <a:ext cx="82152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В каком году наша школа получила статус - Приморская средняя школа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4214880" y="5715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5" descr="emblema"/>
          <p:cNvPicPr/>
          <p:nvPr/>
        </p:nvPicPr>
        <p:blipFill>
          <a:blip r:embed="rId2"/>
          <a:stretch/>
        </p:blipFill>
        <p:spPr>
          <a:xfrm>
            <a:off x="214200" y="357120"/>
            <a:ext cx="1714680" cy="179856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6" descr="\\Srv1\Foto\фото школы\DSC07500.JPG"/>
          <p:cNvPicPr/>
          <p:nvPr/>
        </p:nvPicPr>
        <p:blipFill>
          <a:blip r:embed="rId3"/>
          <a:stretch/>
        </p:blipFill>
        <p:spPr>
          <a:xfrm>
            <a:off x="500040" y="3786120"/>
            <a:ext cx="34448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В 1975 год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6" descr="emblema"/>
          <p:cNvPicPr/>
          <p:nvPr/>
        </p:nvPicPr>
        <p:blipFill>
          <a:blip r:embed="rId2"/>
          <a:stretch/>
        </p:blipFill>
        <p:spPr>
          <a:xfrm>
            <a:off x="6715080" y="500040"/>
            <a:ext cx="2178000" cy="228600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5" descr="\\Srv1\Foto\фото школы\DSC07500.JPG"/>
          <p:cNvPicPr/>
          <p:nvPr/>
        </p:nvPicPr>
        <p:blipFill>
          <a:blip r:embed="rId3"/>
          <a:stretch/>
        </p:blipFill>
        <p:spPr>
          <a:xfrm>
            <a:off x="642960" y="3786120"/>
            <a:ext cx="3357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6" descr="F:\My_new_fon_3\54a.jpg"/>
          <p:cNvPicPr/>
          <p:nvPr/>
        </p:nvPicPr>
        <p:blipFill>
          <a:blip r:embed="rId1"/>
          <a:stretch/>
        </p:blipFill>
        <p:spPr>
          <a:xfrm>
            <a:off x="-285840" y="-142920"/>
            <a:ext cx="9753840" cy="724860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4000" spc="-1" strike="noStrike">
                <a:solidFill>
                  <a:srgbClr val="ff3300"/>
                </a:solidFill>
                <a:latin typeface="Calibri"/>
              </a:rPr>
              <a:t>Наша школа - 3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285640" y="1196640"/>
            <a:ext cx="6715080" cy="33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0 декабря 2004 года  в школе состоялось открытие Памятной мемориальной доски. В честь какого героя состоялось это открытие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3857760" y="59292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5" descr="emblema"/>
          <p:cNvPicPr/>
          <p:nvPr/>
        </p:nvPicPr>
        <p:blipFill>
          <a:blip r:embed="rId2"/>
          <a:stretch/>
        </p:blipFill>
        <p:spPr>
          <a:xfrm>
            <a:off x="428760" y="1285920"/>
            <a:ext cx="2179440" cy="228600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6" descr="\\Srv1\Foto\фото школы\DSC07500.JPG"/>
          <p:cNvPicPr/>
          <p:nvPr/>
        </p:nvPicPr>
        <p:blipFill>
          <a:blip r:embed="rId3"/>
          <a:stretch/>
        </p:blipFill>
        <p:spPr>
          <a:xfrm>
            <a:off x="428760" y="4214880"/>
            <a:ext cx="3143160" cy="24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178596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В честь Процуна Руслана Николаевич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emblema"/>
          <p:cNvPicPr/>
          <p:nvPr/>
        </p:nvPicPr>
        <p:blipFill>
          <a:blip r:embed="rId2"/>
          <a:stretch/>
        </p:blipFill>
        <p:spPr>
          <a:xfrm>
            <a:off x="7215120" y="571680"/>
            <a:ext cx="1332000" cy="139824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5" descr="\\Srv1\Foto\фото школы\DSC07500.JPG"/>
          <p:cNvPicPr/>
          <p:nvPr/>
        </p:nvPicPr>
        <p:blipFill>
          <a:blip r:embed="rId3"/>
          <a:stretch/>
        </p:blipFill>
        <p:spPr>
          <a:xfrm>
            <a:off x="500040" y="3857760"/>
            <a:ext cx="3500640" cy="26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6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Calibri"/>
              </a:rPr>
              <a:t>Наша школа - 4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85840" y="1214280"/>
            <a:ext cx="885816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В каком году наша школа стала победителем конкурса общеобразовательных учреждений и получила грант в размере 1 млн. рублей на развитие образовательного процесса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2005;        2007;        2010)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3929040" y="5643720"/>
            <a:ext cx="453564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emblema"/>
          <p:cNvPicPr/>
          <p:nvPr/>
        </p:nvPicPr>
        <p:blipFill>
          <a:blip r:embed="rId2"/>
          <a:stretch/>
        </p:blipFill>
        <p:spPr>
          <a:xfrm>
            <a:off x="7628040" y="500040"/>
            <a:ext cx="1447560" cy="1519200"/>
          </a:xfrm>
          <a:prstGeom prst="rect">
            <a:avLst/>
          </a:prstGeom>
          <a:ln w="0">
            <a:noFill/>
          </a:ln>
        </p:spPr>
      </p:pic>
      <p:pic>
        <p:nvPicPr>
          <p:cNvPr id="290" name="Рисунок 6" descr="\\Srv1\Foto\фото школы\DSC07500.JPG"/>
          <p:cNvPicPr/>
          <p:nvPr/>
        </p:nvPicPr>
        <p:blipFill>
          <a:blip r:embed="rId3"/>
          <a:stretch/>
        </p:blipFill>
        <p:spPr>
          <a:xfrm>
            <a:off x="285840" y="4214880"/>
            <a:ext cx="314316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142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В 2007 год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AutoShape 4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5" descr="emblema"/>
          <p:cNvPicPr/>
          <p:nvPr/>
        </p:nvPicPr>
        <p:blipFill>
          <a:blip r:embed="rId2"/>
          <a:stretch/>
        </p:blipFill>
        <p:spPr>
          <a:xfrm>
            <a:off x="6715080" y="500040"/>
            <a:ext cx="1784520" cy="1871640"/>
          </a:xfrm>
          <a:prstGeom prst="rect">
            <a:avLst/>
          </a:prstGeom>
          <a:ln w="0">
            <a:noFill/>
          </a:ln>
        </p:spPr>
      </p:pic>
      <p:pic>
        <p:nvPicPr>
          <p:cNvPr id="295" name="Рисунок 5" descr="\\Srv1\Foto\фото школы\DSC07500.JPG"/>
          <p:cNvPicPr/>
          <p:nvPr/>
        </p:nvPicPr>
        <p:blipFill>
          <a:blip r:embed="rId3"/>
          <a:stretch/>
        </p:blipFill>
        <p:spPr>
          <a:xfrm>
            <a:off x="857160" y="3357720"/>
            <a:ext cx="4154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6" descr="F:\My_new_fon_3\54a.jpg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964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Calibri"/>
              </a:rPr>
              <a:t>Наша школа - 5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3929040" y="5786280"/>
            <a:ext cx="453564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5" descr="emblema"/>
          <p:cNvPicPr/>
          <p:nvPr/>
        </p:nvPicPr>
        <p:blipFill>
          <a:blip r:embed="rId2"/>
          <a:stretch/>
        </p:blipFill>
        <p:spPr>
          <a:xfrm>
            <a:off x="714240" y="857160"/>
            <a:ext cx="1770120" cy="185760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5" descr="\\Srv1\Foto\фото школы\DSC07500.JPG"/>
          <p:cNvPicPr/>
          <p:nvPr/>
        </p:nvPicPr>
        <p:blipFill>
          <a:blip r:embed="rId3"/>
          <a:stretch/>
        </p:blipFill>
        <p:spPr>
          <a:xfrm>
            <a:off x="500040" y="3857760"/>
            <a:ext cx="3270240" cy="2428920"/>
          </a:xfrm>
          <a:prstGeom prst="rect">
            <a:avLst/>
          </a:prstGeom>
          <a:ln w="0">
            <a:noFill/>
          </a:ln>
        </p:spPr>
      </p:pic>
      <p:sp>
        <p:nvSpPr>
          <p:cNvPr id="301" name="Прямоугольник 6"/>
          <p:cNvSpPr/>
          <p:nvPr/>
        </p:nvSpPr>
        <p:spPr>
          <a:xfrm>
            <a:off x="2214720" y="1428840"/>
            <a:ext cx="6929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то из ныне работающих учителей является выпускниками нашей школ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840" y="1071720"/>
            <a:ext cx="892980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 называются деревни Приморского района, которые находятся ближе всех к Рикасих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 расположены на одном берегу Северной Двин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619280" y="3333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Топонимика - 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PD1"/>
          <p:cNvPicPr/>
          <p:nvPr/>
        </p:nvPicPr>
        <p:blipFill>
          <a:blip r:embed="rId2"/>
          <a:stretch/>
        </p:blipFill>
        <p:spPr>
          <a:xfrm>
            <a:off x="500040" y="4357800"/>
            <a:ext cx="19764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5" descr="F:\My_new_fon_3\54a.jpg"/>
          <p:cNvPicPr/>
          <p:nvPr/>
        </p:nvPicPr>
        <p:blipFill>
          <a:blip r:embed="rId1"/>
          <a:stretch/>
        </p:blipFill>
        <p:spPr>
          <a:xfrm>
            <a:off x="-396720" y="-171360"/>
            <a:ext cx="9753480" cy="724860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4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5" descr="emblema"/>
          <p:cNvPicPr/>
          <p:nvPr/>
        </p:nvPicPr>
        <p:blipFill>
          <a:blip r:embed="rId2"/>
          <a:stretch/>
        </p:blipFill>
        <p:spPr>
          <a:xfrm>
            <a:off x="6786720" y="3357720"/>
            <a:ext cx="1941480" cy="2038320"/>
          </a:xfrm>
          <a:prstGeom prst="rect">
            <a:avLst/>
          </a:prstGeom>
          <a:ln w="0">
            <a:noFill/>
          </a:ln>
        </p:spPr>
      </p:pic>
      <p:pic>
        <p:nvPicPr>
          <p:cNvPr id="305" name="Рисунок 5" descr="\\Srv1\Foto\фото школы\DSC07500.JPG"/>
          <p:cNvPicPr/>
          <p:nvPr/>
        </p:nvPicPr>
        <p:blipFill>
          <a:blip r:embed="rId3"/>
          <a:stretch/>
        </p:blipFill>
        <p:spPr>
          <a:xfrm>
            <a:off x="428760" y="3500280"/>
            <a:ext cx="4224240" cy="307188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79280" y="409680"/>
            <a:ext cx="8607600" cy="25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тухина (Широких) Ольга Владимировн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льникова (Батурина) Елена Клавдиевна,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деева (Неклюдова) Елена Михайловна,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Щербань (Кузнецова) Елена Васильевн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Орлов Сергей Леонид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6" descr="F:\My_new_fon_3\54a.jpg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Calibri"/>
              </a:rPr>
              <a:t>Наша школа - 6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4143240" y="5857920"/>
            <a:ext cx="453564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5" descr="emblema"/>
          <p:cNvPicPr/>
          <p:nvPr/>
        </p:nvPicPr>
        <p:blipFill>
          <a:blip r:embed="rId2"/>
          <a:stretch/>
        </p:blipFill>
        <p:spPr>
          <a:xfrm>
            <a:off x="851040" y="1071720"/>
            <a:ext cx="2220840" cy="233028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5" descr="\\Srv1\Foto\фото школы\DSC07500.JPG"/>
          <p:cNvPicPr/>
          <p:nvPr/>
        </p:nvPicPr>
        <p:blipFill>
          <a:blip r:embed="rId3"/>
          <a:stretch/>
        </p:blipFill>
        <p:spPr>
          <a:xfrm>
            <a:off x="571680" y="3929040"/>
            <a:ext cx="3357360" cy="2536920"/>
          </a:xfrm>
          <a:prstGeom prst="rect">
            <a:avLst/>
          </a:prstGeom>
          <a:ln w="0">
            <a:noFill/>
          </a:ln>
        </p:spPr>
      </p:pic>
      <p:sp>
        <p:nvSpPr>
          <p:cNvPr id="312" name="Прямоугольник 6"/>
          <p:cNvSpPr/>
          <p:nvPr/>
        </p:nvSpPr>
        <p:spPr>
          <a:xfrm>
            <a:off x="2786040" y="1285920"/>
            <a:ext cx="59292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колько выпускников закончили нашу школу с золотой медалью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4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5" descr="emblema"/>
          <p:cNvPicPr/>
          <p:nvPr/>
        </p:nvPicPr>
        <p:blipFill>
          <a:blip r:embed="rId2"/>
          <a:stretch/>
        </p:blipFill>
        <p:spPr>
          <a:xfrm>
            <a:off x="0" y="571680"/>
            <a:ext cx="2316240" cy="242856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5" descr="\\Srv1\Foto\фото школы\DSC07500.JPG"/>
          <p:cNvPicPr/>
          <p:nvPr/>
        </p:nvPicPr>
        <p:blipFill>
          <a:blip r:embed="rId3"/>
          <a:stretch/>
        </p:blipFill>
        <p:spPr>
          <a:xfrm>
            <a:off x="142920" y="4357800"/>
            <a:ext cx="3143160" cy="227016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214800" y="419400"/>
            <a:ext cx="5929200" cy="447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.Родионова Ирина (1994г.),        2.Рекина Татьяна (2000г.)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3.Климантова Марина (2000г.),   4.Волкова Анна (2004г.)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5.Подомарев Владимир (2005г.), 6.Первухин Геннадий (2006г.),   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7.Базыкина Евгения (2007г.).       8.Неманов Артем (2009г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6" descr="F:\My_new_fon_3\54a.jpg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Calibri"/>
              </a:rPr>
              <a:t>Это интересно - 10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5"/>
          <p:cNvSpPr/>
          <p:nvPr/>
        </p:nvSpPr>
        <p:spPr>
          <a:xfrm>
            <a:off x="1143000" y="1536840"/>
            <a:ext cx="735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акие населённые пункты расположены на реке Л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6" descr="0_19f0c_eb86b773_L"/>
          <p:cNvPicPr/>
          <p:nvPr/>
        </p:nvPicPr>
        <p:blipFill>
          <a:blip r:embed="rId2"/>
          <a:stretch/>
        </p:blipFill>
        <p:spPr>
          <a:xfrm>
            <a:off x="1071720" y="4143240"/>
            <a:ext cx="255420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8400" y="1856880"/>
            <a:ext cx="7072200" cy="17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9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Лая, Чужгоры, Лайский До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6" descr="0_19f0c_eb86b773_L"/>
          <p:cNvPicPr/>
          <p:nvPr/>
        </p:nvPicPr>
        <p:blipFill>
          <a:blip r:embed="rId2"/>
          <a:stretch/>
        </p:blipFill>
        <p:spPr>
          <a:xfrm>
            <a:off x="571680" y="4200480"/>
            <a:ext cx="257148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6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Calibri"/>
              </a:rPr>
              <a:t>Это интересно - 20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2560" y="1571760"/>
            <a:ext cx="900108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 каком берегу Северной Двины находится Рикасих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4067280" y="602136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5" descr="0_19f0c_eb86b773_L"/>
          <p:cNvPicPr/>
          <p:nvPr/>
        </p:nvPicPr>
        <p:blipFill>
          <a:blip r:embed="rId2"/>
          <a:stretch/>
        </p:blipFill>
        <p:spPr>
          <a:xfrm>
            <a:off x="785880" y="4071960"/>
            <a:ext cx="28209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24000" y="214308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На левом берег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6" descr="0_19f0c_eb86b773_L"/>
          <p:cNvPicPr/>
          <p:nvPr/>
        </p:nvPicPr>
        <p:blipFill>
          <a:blip r:embed="rId2"/>
          <a:stretch/>
        </p:blipFill>
        <p:spPr>
          <a:xfrm>
            <a:off x="857160" y="4229280"/>
            <a:ext cx="271476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Calibri"/>
              </a:rPr>
              <a:t>Это интересно - 30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714240" y="1143000"/>
            <a:ext cx="77868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ая старинная фамилия жителей деревни Рикасих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Кушевы,  Давыдовы,  Орловы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4067280" y="602136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6" descr="0_19f0c_eb86b773_L"/>
          <p:cNvPicPr/>
          <p:nvPr/>
        </p:nvPicPr>
        <p:blipFill>
          <a:blip r:embed="rId2"/>
          <a:stretch/>
        </p:blipFill>
        <p:spPr>
          <a:xfrm>
            <a:off x="785880" y="3929040"/>
            <a:ext cx="28573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5" descr="F:\My_new_fon_3\54a.jpg"/>
          <p:cNvPicPr/>
          <p:nvPr/>
        </p:nvPicPr>
        <p:blipFill>
          <a:blip r:embed="rId1"/>
          <a:stretch/>
        </p:blipFill>
        <p:spPr>
          <a:xfrm>
            <a:off x="0" y="-390600"/>
            <a:ext cx="9753480" cy="72486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178560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Кушев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6" descr="0_19f0c_eb86b773_L"/>
          <p:cNvPicPr/>
          <p:nvPr/>
        </p:nvPicPr>
        <p:blipFill>
          <a:blip r:embed="rId2"/>
          <a:stretch/>
        </p:blipFill>
        <p:spPr>
          <a:xfrm>
            <a:off x="1285920" y="3971880"/>
            <a:ext cx="250020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6" descr="F:\My_new_fon_3\54a.jpg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ff3300"/>
                </a:solidFill>
                <a:latin typeface="Calibri"/>
              </a:rPr>
              <a:t>Это интересно - 40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4211640" y="6021360"/>
            <a:ext cx="453564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6" descr="0_19f0c_eb86b773_L"/>
          <p:cNvPicPr/>
          <p:nvPr/>
        </p:nvPicPr>
        <p:blipFill>
          <a:blip r:embed="rId2"/>
          <a:stretch/>
        </p:blipFill>
        <p:spPr>
          <a:xfrm>
            <a:off x="1571760" y="4572000"/>
            <a:ext cx="2214360" cy="1765440"/>
          </a:xfrm>
          <a:prstGeom prst="rect">
            <a:avLst/>
          </a:prstGeom>
          <a:ln w="0">
            <a:noFill/>
          </a:ln>
        </p:spPr>
      </p:pic>
      <p:sp>
        <p:nvSpPr>
          <p:cNvPr id="349" name="Прямоугольник 6"/>
          <p:cNvSpPr/>
          <p:nvPr/>
        </p:nvSpPr>
        <p:spPr>
          <a:xfrm>
            <a:off x="571680" y="1357200"/>
            <a:ext cx="8215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ую дикую водоплавающую птицу называют «чирок»? Название деревень Птичья и Чиркановская могли произойти от названия этих птиц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PD1"/>
          <p:cNvPicPr/>
          <p:nvPr/>
        </p:nvPicPr>
        <p:blipFill>
          <a:blip r:embed="rId2"/>
          <a:stretch/>
        </p:blipFill>
        <p:spPr>
          <a:xfrm>
            <a:off x="571680" y="4143240"/>
            <a:ext cx="2319120" cy="2516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71360" y="1428840"/>
            <a:ext cx="7143480" cy="19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  <a:ea typeface="Times New Roman"/>
              </a:rPr>
              <a:t>Шихириха,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  <a:ea typeface="Times New Roman"/>
              </a:rPr>
              <a:t>Лич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Ут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6" descr="0_19f0c_eb86b773_L"/>
          <p:cNvPicPr/>
          <p:nvPr/>
        </p:nvPicPr>
        <p:blipFill>
          <a:blip r:embed="rId2"/>
          <a:stretch/>
        </p:blipFill>
        <p:spPr>
          <a:xfrm>
            <a:off x="1071720" y="3922560"/>
            <a:ext cx="2786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6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Calibri"/>
              </a:rPr>
              <a:t>Это интересно - 50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0" y="1285560"/>
            <a:ext cx="91440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которые названия в Рикасихе связаны с   числительными: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й км, 5-й км, 7-й км, 12-й к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 каком км расположена ж/д станция, а на каком сельское кладбищ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4284720" y="602136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6" descr="0_19f0c_eb86b773_L"/>
          <p:cNvPicPr/>
          <p:nvPr/>
        </p:nvPicPr>
        <p:blipFill>
          <a:blip r:embed="rId2"/>
          <a:stretch/>
        </p:blipFill>
        <p:spPr>
          <a:xfrm>
            <a:off x="1071720" y="4273560"/>
            <a:ext cx="27144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157176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-й км;     12-й к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6" descr="0_19f0c_eb86b773_L"/>
          <p:cNvPicPr/>
          <p:nvPr/>
        </p:nvPicPr>
        <p:blipFill>
          <a:blip r:embed="rId2"/>
          <a:stretch/>
        </p:blipFill>
        <p:spPr>
          <a:xfrm>
            <a:off x="1285920" y="3984480"/>
            <a:ext cx="28573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6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Calibri"/>
              </a:rPr>
              <a:t>Это интересно - 60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71320" y="1213920"/>
            <a:ext cx="778644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Какой овощ на севере в старину называли  «вторым хлебом»? Крестьяне на зиму укладывали его в кадку, но не валом валили, а  пересыпали слоем песка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4211640" y="6021360"/>
            <a:ext cx="453564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6" descr="0_19f0c_eb86b773_L"/>
          <p:cNvPicPr/>
          <p:nvPr/>
        </p:nvPicPr>
        <p:blipFill>
          <a:blip r:embed="rId2"/>
          <a:stretch/>
        </p:blipFill>
        <p:spPr>
          <a:xfrm>
            <a:off x="857160" y="4357800"/>
            <a:ext cx="278604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Реп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6" descr="0_19f0c_eb86b773_L"/>
          <p:cNvPicPr/>
          <p:nvPr/>
        </p:nvPicPr>
        <p:blipFill>
          <a:blip r:embed="rId2"/>
          <a:stretch/>
        </p:blipFill>
        <p:spPr>
          <a:xfrm>
            <a:off x="1071720" y="3813120"/>
            <a:ext cx="30715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5" descr="F:\My_new_fon_3\54a.jpg"/>
          <p:cNvPicPr/>
          <p:nvPr/>
        </p:nvPicPr>
        <p:blipFill>
          <a:blip r:embed="rId1"/>
          <a:stretch/>
        </p:blipFill>
        <p:spPr>
          <a:xfrm>
            <a:off x="-285840" y="-21420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Природа нашего края - 10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 Box 6"/>
          <p:cNvSpPr/>
          <p:nvPr/>
        </p:nvSpPr>
        <p:spPr>
          <a:xfrm>
            <a:off x="4284720" y="602136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Рисунок 4" descr="x_0e421403"/>
          <p:cNvPicPr/>
          <p:nvPr/>
        </p:nvPicPr>
        <p:blipFill>
          <a:blip r:embed="rId2"/>
          <a:stretch/>
        </p:blipFill>
        <p:spPr>
          <a:xfrm>
            <a:off x="357120" y="3929040"/>
            <a:ext cx="3714840" cy="271476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5"/>
          <p:cNvSpPr/>
          <p:nvPr/>
        </p:nvSpPr>
        <p:spPr>
          <a:xfrm>
            <a:off x="714240" y="1714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В какой природной зоне мы живём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1280" y="92880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В тайг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Рисунок 4" descr="x_0e421403"/>
          <p:cNvPicPr/>
          <p:nvPr/>
        </p:nvPicPr>
        <p:blipFill>
          <a:blip r:embed="rId2"/>
          <a:stretch/>
        </p:blipFill>
        <p:spPr>
          <a:xfrm>
            <a:off x="571680" y="3762360"/>
            <a:ext cx="37861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5" descr="F:\My_new_fon_3\54a.jpg"/>
          <p:cNvPicPr/>
          <p:nvPr/>
        </p:nvPicPr>
        <p:blipFill>
          <a:blip r:embed="rId1"/>
          <a:stretch/>
        </p:blipFill>
        <p:spPr>
          <a:xfrm>
            <a:off x="0" y="0"/>
            <a:ext cx="9753480" cy="724860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Природа нашего края - 20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4608360" y="6000840"/>
            <a:ext cx="453564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Рисунок 4" descr="x_0e421403"/>
          <p:cNvPicPr/>
          <p:nvPr/>
        </p:nvPicPr>
        <p:blipFill>
          <a:blip r:embed="rId2"/>
          <a:stretch/>
        </p:blipFill>
        <p:spPr>
          <a:xfrm>
            <a:off x="642960" y="3714840"/>
            <a:ext cx="3643200" cy="285732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5"/>
          <p:cNvSpPr/>
          <p:nvPr/>
        </p:nvSpPr>
        <p:spPr>
          <a:xfrm>
            <a:off x="1071720" y="1714680"/>
            <a:ext cx="8072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акой тип почв преобладает в нашей местност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9640" y="135720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Подзолисты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Рисунок 4" descr="x_0e421403"/>
          <p:cNvPicPr/>
          <p:nvPr/>
        </p:nvPicPr>
        <p:blipFill>
          <a:blip r:embed="rId2"/>
          <a:stretch/>
        </p:blipFill>
        <p:spPr>
          <a:xfrm>
            <a:off x="571680" y="4000680"/>
            <a:ext cx="3429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5" descr="F:\My_new_fon_3\54a.jpg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72486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Природа нашего края -30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4284720" y="602136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Рисунок 4" descr="x_0e421403"/>
          <p:cNvPicPr/>
          <p:nvPr/>
        </p:nvPicPr>
        <p:blipFill>
          <a:blip r:embed="rId2"/>
          <a:stretch/>
        </p:blipFill>
        <p:spPr>
          <a:xfrm>
            <a:off x="428760" y="4071960"/>
            <a:ext cx="3357360" cy="2643120"/>
          </a:xfrm>
          <a:prstGeom prst="rect">
            <a:avLst/>
          </a:prstGeom>
          <a:ln w="0">
            <a:noFill/>
          </a:ln>
        </p:spPr>
      </p:pic>
      <p:sp>
        <p:nvSpPr>
          <p:cNvPr id="394" name="Прямоугольник 5"/>
          <p:cNvSpPr/>
          <p:nvPr/>
        </p:nvSpPr>
        <p:spPr>
          <a:xfrm>
            <a:off x="108000" y="1571760"/>
            <a:ext cx="903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акой тип болот преобладает в нашей местност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верховые, низинные, переходны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4240" y="1357200"/>
            <a:ext cx="8072640" cy="41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ихирь – коротыш, малорослый человек. Шихан – (татар.) – холм, бугор, макушка, верхушка горы. 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звание какого населённого пункта произошло от этих слов?</a:t>
            </a:r>
            <a:br>
              <a:rPr sz="5400"/>
            </a:br>
            <a:r>
              <a:rPr b="1" lang="ru-RU" sz="54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7636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Топонимика - 2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PD1"/>
          <p:cNvPicPr/>
          <p:nvPr/>
        </p:nvPicPr>
        <p:blipFill>
          <a:blip r:embed="rId2"/>
          <a:stretch/>
        </p:blipFill>
        <p:spPr>
          <a:xfrm>
            <a:off x="500040" y="4379760"/>
            <a:ext cx="228456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5280" y="142884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Верховые болот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Рисунок 4" descr="x_0e421403"/>
          <p:cNvPicPr/>
          <p:nvPr/>
        </p:nvPicPr>
        <p:blipFill>
          <a:blip r:embed="rId2"/>
          <a:stretch/>
        </p:blipFill>
        <p:spPr>
          <a:xfrm>
            <a:off x="785880" y="3643200"/>
            <a:ext cx="36432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Природа нашего края - 40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4284720" y="602136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Рисунок 5" descr="x_0e421403"/>
          <p:cNvPicPr/>
          <p:nvPr/>
        </p:nvPicPr>
        <p:blipFill>
          <a:blip r:embed="rId2"/>
          <a:stretch/>
        </p:blipFill>
        <p:spPr>
          <a:xfrm>
            <a:off x="428760" y="3786120"/>
            <a:ext cx="3668400" cy="271476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оугольник 6"/>
          <p:cNvSpPr/>
          <p:nvPr/>
        </p:nvSpPr>
        <p:spPr>
          <a:xfrm>
            <a:off x="285840" y="1643040"/>
            <a:ext cx="885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 каком климатическом поясе расположен наш кра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185724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В умеренном пояс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Рисунок 4" descr="x_0e421403"/>
          <p:cNvPicPr/>
          <p:nvPr/>
        </p:nvPicPr>
        <p:blipFill>
          <a:blip r:embed="rId2"/>
          <a:stretch/>
        </p:blipFill>
        <p:spPr>
          <a:xfrm>
            <a:off x="428760" y="3857760"/>
            <a:ext cx="357192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Природа нашего края - 50</a:t>
            </a:r>
            <a:br>
              <a:rPr sz="4000"/>
            </a:br>
            <a:r>
              <a:rPr b="1" i="1" lang="en-US" sz="4000" spc="-1" strike="noStrike">
                <a:solidFill>
                  <a:srgbClr val="ff3300"/>
                </a:solidFill>
                <a:latin typeface="Calibri"/>
              </a:rPr>
              <a:t> 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4284720" y="602136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Рисунок 4" descr="x_0e421403"/>
          <p:cNvPicPr/>
          <p:nvPr/>
        </p:nvPicPr>
        <p:blipFill>
          <a:blip r:embed="rId2"/>
          <a:stretch/>
        </p:blipFill>
        <p:spPr>
          <a:xfrm>
            <a:off x="214200" y="3571920"/>
            <a:ext cx="3857760" cy="308592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5"/>
          <p:cNvSpPr/>
          <p:nvPr/>
        </p:nvSpPr>
        <p:spPr>
          <a:xfrm>
            <a:off x="928800" y="1428840"/>
            <a:ext cx="7143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называется рукав Северной Двины, на берегу которого расположена Рикасих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00040" y="178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Никольский рука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Рисунок 4" descr="x_0e421403"/>
          <p:cNvPicPr/>
          <p:nvPr/>
        </p:nvPicPr>
        <p:blipFill>
          <a:blip r:embed="rId2"/>
          <a:stretch/>
        </p:blipFill>
        <p:spPr>
          <a:xfrm>
            <a:off x="571680" y="3643200"/>
            <a:ext cx="36432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Природа нашего края - 6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 Box 5"/>
          <p:cNvSpPr/>
          <p:nvPr/>
        </p:nvSpPr>
        <p:spPr>
          <a:xfrm>
            <a:off x="4429080" y="5929200"/>
            <a:ext cx="453564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Рисунок 4" descr="x_0e421403"/>
          <p:cNvPicPr/>
          <p:nvPr/>
        </p:nvPicPr>
        <p:blipFill>
          <a:blip r:embed="rId2"/>
          <a:stretch/>
        </p:blipFill>
        <p:spPr>
          <a:xfrm>
            <a:off x="357120" y="3786120"/>
            <a:ext cx="3857760" cy="2714760"/>
          </a:xfrm>
          <a:prstGeom prst="rect">
            <a:avLst/>
          </a:prstGeom>
          <a:ln w="0">
            <a:noFill/>
          </a:ln>
        </p:spPr>
      </p:pic>
      <p:sp>
        <p:nvSpPr>
          <p:cNvPr id="421" name="Прямоугольник 5"/>
          <p:cNvSpPr/>
          <p:nvPr/>
        </p:nvSpPr>
        <p:spPr>
          <a:xfrm>
            <a:off x="642960" y="2151000"/>
            <a:ext cx="785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6"/>
          <p:cNvSpPr/>
          <p:nvPr/>
        </p:nvSpPr>
        <p:spPr>
          <a:xfrm>
            <a:off x="500040" y="1285920"/>
            <a:ext cx="7786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ак называется заказник, расположенный на территории нашего кр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28760" y="164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Лайский заказни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Рисунок 4" descr="x_0e421403"/>
          <p:cNvPicPr/>
          <p:nvPr/>
        </p:nvPicPr>
        <p:blipFill>
          <a:blip r:embed="rId2"/>
          <a:stretch/>
        </p:blipFill>
        <p:spPr>
          <a:xfrm>
            <a:off x="642960" y="3500280"/>
            <a:ext cx="37861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4" descr="F:\My_new_fon_3\55a.jpg"/>
          <p:cNvPicPr/>
          <p:nvPr/>
        </p:nvPicPr>
        <p:blipFill>
          <a:blip r:embed="rId1"/>
          <a:stretch/>
        </p:blipFill>
        <p:spPr>
          <a:xfrm>
            <a:off x="0" y="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Прямоугольник 4"/>
          <p:cNvSpPr/>
          <p:nvPr/>
        </p:nvSpPr>
        <p:spPr>
          <a:xfrm>
            <a:off x="179280" y="785880"/>
            <a:ext cx="8785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гру составила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Щербань Елена Васильевн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ель географи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БО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«Приморская СОШ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ны материалы работы по краеведению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Латухиной Ольги Владимировн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учителя истории, заведующей библиотеко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БО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«Приморская СОШ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ктябрь 2011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Шихирих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PD1"/>
          <p:cNvPicPr/>
          <p:nvPr/>
        </p:nvPicPr>
        <p:blipFill>
          <a:blip r:embed="rId2"/>
          <a:stretch/>
        </p:blipFill>
        <p:spPr>
          <a:xfrm>
            <a:off x="857160" y="4071960"/>
            <a:ext cx="231948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6760" y="1285920"/>
            <a:ext cx="857268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1930 году в д.Шихириха работала бондарная мастерская. Что изготавливали в этой мастерско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692360" y="404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Топонимика - 3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PD1"/>
          <p:cNvPicPr/>
          <p:nvPr/>
        </p:nvPicPr>
        <p:blipFill>
          <a:blip r:embed="rId2"/>
          <a:stretch/>
        </p:blipFill>
        <p:spPr>
          <a:xfrm>
            <a:off x="714240" y="4357800"/>
            <a:ext cx="207180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1T15:31:11Z</dcterms:created>
  <dc:creator>Русина</dc:creator>
  <dc:description/>
  <dc:language>en-US</dc:language>
  <cp:lastModifiedBy>elena</cp:lastModifiedBy>
  <dcterms:modified xsi:type="dcterms:W3CDTF">2013-05-13T08:06:22Z</dcterms:modified>
  <cp:revision>7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130000000000010250300207f7000400038000</vt:lpwstr>
  </property>
</Properties>
</file>