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5E73-40F6-4FF9-9D67-D6A325737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1414-A9BD-4D9A-96BD-3AAF8EBF8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F92-125E-43FB-A380-DDDF77DD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53C-BEEB-468F-8C4D-BB4684F8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AD6-6DAA-4DDC-8E18-781AB9AC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9A5-5A9D-4C9F-B463-DA54821B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60F-A4CD-47AF-81E2-C42C8CF0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453-E9AE-4F56-9098-ED4DD5DA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AFF-73A5-4976-994A-9C263DF5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3D2-FFD4-4537-9E96-1B3026B4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844-FA1B-4B6F-BF8C-306E4FD7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180-BBAE-40BE-9D76-A8418F3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305-6896-4FA8-ADAB-074B6949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EE7-7A66-472B-94A2-A77E9AA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A8C1-D1FC-4CBD-AD7E-3025E1F7E1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7.xml"/><Relationship Id="rId5" Type="http://schemas.openxmlformats.org/officeDocument/2006/relationships/slide" Target="slide39.xml"/><Relationship Id="rId6" Type="http://schemas.openxmlformats.org/officeDocument/2006/relationships/slide" Target="slide31.xml"/><Relationship Id="rId7" Type="http://schemas.openxmlformats.org/officeDocument/2006/relationships/slide" Target="slide43.xml"/><Relationship Id="rId8" Type="http://schemas.openxmlformats.org/officeDocument/2006/relationships/slide" Target="slide45.xml"/><Relationship Id="rId9" Type="http://schemas.openxmlformats.org/officeDocument/2006/relationships/slide" Target="slide47.xml"/><Relationship Id="rId10" Type="http://schemas.openxmlformats.org/officeDocument/2006/relationships/slide" Target="slide49.xml"/><Relationship Id="rId11" Type="http://schemas.openxmlformats.org/officeDocument/2006/relationships/slide" Target="slide51.xml"/><Relationship Id="rId12" Type="http://schemas.openxmlformats.org/officeDocument/2006/relationships/slide" Target="slide71.xml"/><Relationship Id="rId13" Type="http://schemas.openxmlformats.org/officeDocument/2006/relationships/slide" Target="slide59.xml"/><Relationship Id="rId14" Type="http://schemas.openxmlformats.org/officeDocument/2006/relationships/slide" Target="slide61.xml"/><Relationship Id="rId15" Type="http://schemas.openxmlformats.org/officeDocument/2006/relationships/slide" Target="slide73.xml"/><Relationship Id="rId16" Type="http://schemas.openxmlformats.org/officeDocument/2006/relationships/slide" Target="slide75.xml"/><Relationship Id="rId17" Type="http://schemas.openxmlformats.org/officeDocument/2006/relationships/slide" Target="slide63.xml"/><Relationship Id="rId18" Type="http://schemas.openxmlformats.org/officeDocument/2006/relationships/slide" Target="slide41.xml"/><Relationship Id="rId19" Type="http://schemas.openxmlformats.org/officeDocument/2006/relationships/slide" Target="slide53.xml"/><Relationship Id="rId20" Type="http://schemas.openxmlformats.org/officeDocument/2006/relationships/slide" Target="slide65.xml"/><Relationship Id="rId21" Type="http://schemas.openxmlformats.org/officeDocument/2006/relationships/slide" Target="slide67.xml"/><Relationship Id="rId22" Type="http://schemas.openxmlformats.org/officeDocument/2006/relationships/slide" Target="slide55.xml"/><Relationship Id="rId23" Type="http://schemas.openxmlformats.org/officeDocument/2006/relationships/slide" Target="slide57.xml"/><Relationship Id="rId24" Type="http://schemas.openxmlformats.org/officeDocument/2006/relationships/slide" Target="slide69.xml"/><Relationship Id="rId25" Type="http://schemas.openxmlformats.org/officeDocument/2006/relationships/slide" Target="slide7.xml"/><Relationship Id="rId26" Type="http://schemas.openxmlformats.org/officeDocument/2006/relationships/slide" Target="slide9.xml"/><Relationship Id="rId27" Type="http://schemas.openxmlformats.org/officeDocument/2006/relationships/slide" Target="slide11.xml"/><Relationship Id="rId2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:\My_new_fon_3\55a.jpg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257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Интеллектуаль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Drawn_wallpapers_Green_Planet_013437_.jpg"/>
          <p:cNvPicPr/>
          <p:nvPr/>
        </p:nvPicPr>
        <p:blipFill>
          <a:blip r:embed="rId2"/>
          <a:stretch/>
        </p:blipFill>
        <p:spPr>
          <a:xfrm>
            <a:off x="5357880" y="3500280"/>
            <a:ext cx="3503520" cy="2627640"/>
          </a:xfrm>
          <a:prstGeom prst="rect">
            <a:avLst/>
          </a:prstGeom>
          <a:ln w="0">
            <a:noFill/>
          </a:ln>
        </p:spPr>
      </p:pic>
      <p:sp>
        <p:nvSpPr>
          <p:cNvPr id="51" name="Выноска-облако 5"/>
          <p:cNvSpPr/>
          <p:nvPr/>
        </p:nvSpPr>
        <p:spPr>
          <a:xfrm>
            <a:off x="214200" y="1214280"/>
            <a:ext cx="6143760" cy="3600720"/>
          </a:xfrm>
          <a:prstGeom prst="cloudCallout">
            <a:avLst>
              <a:gd name="adj1" fmla="val 58495"/>
              <a:gd name="adj2" fmla="val 24259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Путешествие по родному кр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боч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PD1"/>
          <p:cNvPicPr/>
          <p:nvPr/>
        </p:nvPicPr>
        <p:blipFill>
          <a:blip r:embed="rId2"/>
          <a:stretch/>
        </p:blipFill>
        <p:spPr>
          <a:xfrm>
            <a:off x="571680" y="4071960"/>
            <a:ext cx="24285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1571400"/>
            <a:ext cx="8715600" cy="20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рия наших деревень тесно связана с Северодвинском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Как раньше назывался этот город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47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PD1"/>
          <p:cNvPicPr/>
          <p:nvPr/>
        </p:nvPicPr>
        <p:blipFill>
          <a:blip r:embed="rId2"/>
          <a:stretch/>
        </p:blipFill>
        <p:spPr>
          <a:xfrm>
            <a:off x="571680" y="4357800"/>
            <a:ext cx="21780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Молотовс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PD1"/>
          <p:cNvPicPr/>
          <p:nvPr/>
        </p:nvPicPr>
        <p:blipFill>
          <a:blip r:embed="rId2"/>
          <a:stretch/>
        </p:blipFill>
        <p:spPr>
          <a:xfrm>
            <a:off x="571680" y="3714840"/>
            <a:ext cx="2563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21392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лась церковь, находившаяся в Шихирих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так же называется знаменитая крепость в Санкт-Петербург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7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5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PD1"/>
          <p:cNvPicPr/>
          <p:nvPr/>
        </p:nvPicPr>
        <p:blipFill>
          <a:blip r:embed="rId2"/>
          <a:stretch/>
        </p:blipFill>
        <p:spPr>
          <a:xfrm>
            <a:off x="642960" y="4500720"/>
            <a:ext cx="1971720" cy="2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643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етропавловска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PD1"/>
          <p:cNvPicPr/>
          <p:nvPr/>
        </p:nvPicPr>
        <p:blipFill>
          <a:blip r:embed="rId2"/>
          <a:stretch/>
        </p:blipFill>
        <p:spPr>
          <a:xfrm>
            <a:off x="571680" y="3857760"/>
            <a:ext cx="2496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28592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одной из версий название «Рикасиха» в переводе с финского означает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каси» – ягоды (брусника, голубика, черника, морошка);   «ри» - ……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означает эта часть слова?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692360" y="642960"/>
            <a:ext cx="6400800" cy="13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PD1"/>
          <p:cNvPicPr/>
          <p:nvPr/>
        </p:nvPicPr>
        <p:blipFill>
          <a:blip r:embed="rId2"/>
          <a:stretch/>
        </p:blipFill>
        <p:spPr>
          <a:xfrm>
            <a:off x="785880" y="4429080"/>
            <a:ext cx="20001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Болот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PD1"/>
          <p:cNvPicPr/>
          <p:nvPr/>
        </p:nvPicPr>
        <p:blipFill>
          <a:blip r:embed="rId2"/>
          <a:stretch/>
        </p:blipFill>
        <p:spPr>
          <a:xfrm>
            <a:off x="571680" y="3929040"/>
            <a:ext cx="24969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Цифры и факты - 10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79743"/>
          <p:cNvPicPr/>
          <p:nvPr/>
        </p:nvPicPr>
        <p:blipFill>
          <a:blip r:embed="rId2"/>
          <a:stretch/>
        </p:blipFill>
        <p:spPr>
          <a:xfrm>
            <a:off x="642960" y="4071960"/>
            <a:ext cx="1962000" cy="2368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28400" y="1356840"/>
            <a:ext cx="87152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жителей проживает в деревне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92896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Примерно 2000 челове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79743"/>
          <p:cNvPicPr/>
          <p:nvPr/>
        </p:nvPicPr>
        <p:blipFill>
          <a:blip r:embed="rId2"/>
          <a:stretch/>
        </p:blipFill>
        <p:spPr>
          <a:xfrm>
            <a:off x="785880" y="928800"/>
            <a:ext cx="17859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F:\My_new_fon_3\54a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2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571760"/>
            <a:ext cx="8686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ие годы в Рикасихе были построены 5-ти этажные дома, Дом Культуры, школа, магази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50 – 60-е;    60 – 70-е;   70 – 80-е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79743"/>
          <p:cNvPicPr/>
          <p:nvPr/>
        </p:nvPicPr>
        <p:blipFill>
          <a:blip r:embed="rId2"/>
          <a:stretch/>
        </p:blipFill>
        <p:spPr>
          <a:xfrm>
            <a:off x="928800" y="4572000"/>
            <a:ext cx="175104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:\My_new_fon_3\55a.jpg"/>
          <p:cNvPicPr/>
          <p:nvPr/>
        </p:nvPicPr>
        <p:blipFill>
          <a:blip r:embed="rId1"/>
          <a:stretch/>
        </p:blipFill>
        <p:spPr>
          <a:xfrm>
            <a:off x="-304920" y="-200160"/>
            <a:ext cx="9753840" cy="7258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9280" y="549000"/>
            <a:ext cx="8964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Есть места, где ничто не меня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Тот же воздух и те же пру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В глади их строгий лес отраж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И сиянье далёкой звез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Места родные, здесь я и поны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Врачую душу щедростью лес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Какое счастье, что места род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Дарованы нам жизнью и судьбо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</a:t>
            </a: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(Т. В. Москви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276720" y="5229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70 – 80-е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79743"/>
          <p:cNvPicPr/>
          <p:nvPr/>
        </p:nvPicPr>
        <p:blipFill>
          <a:blip r:embed="rId2"/>
          <a:stretch/>
        </p:blipFill>
        <p:spPr>
          <a:xfrm>
            <a:off x="642960" y="1000080"/>
            <a:ext cx="18572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Цифры и факты - 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57120" y="1714680"/>
            <a:ext cx="832968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ом веке в письменных источника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первые встречается название «Рикасих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5 в;       16 в;       17 в)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79743"/>
          <p:cNvPicPr/>
          <p:nvPr/>
        </p:nvPicPr>
        <p:blipFill>
          <a:blip r:embed="rId2"/>
          <a:stretch/>
        </p:blipFill>
        <p:spPr>
          <a:xfrm>
            <a:off x="571680" y="4429080"/>
            <a:ext cx="162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75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16 веке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79743"/>
          <p:cNvPicPr/>
          <p:nvPr/>
        </p:nvPicPr>
        <p:blipFill>
          <a:blip r:embed="rId2"/>
          <a:stretch/>
        </p:blipFill>
        <p:spPr>
          <a:xfrm>
            <a:off x="714240" y="785880"/>
            <a:ext cx="1617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4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85688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Длина реки Л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(58 км;     110 км;     131 км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79743"/>
          <p:cNvPicPr/>
          <p:nvPr/>
        </p:nvPicPr>
        <p:blipFill>
          <a:blip r:embed="rId2"/>
          <a:stretch/>
        </p:blipFill>
        <p:spPr>
          <a:xfrm>
            <a:off x="214200" y="4189320"/>
            <a:ext cx="17067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00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31 км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9743"/>
          <p:cNvPicPr/>
          <p:nvPr/>
        </p:nvPicPr>
        <p:blipFill>
          <a:blip r:embed="rId2"/>
          <a:stretch/>
        </p:blipFill>
        <p:spPr>
          <a:xfrm>
            <a:off x="785880" y="1071720"/>
            <a:ext cx="164304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5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3493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имён размещено на Обелиске в д.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5;      135;      14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79743"/>
          <p:cNvPicPr/>
          <p:nvPr/>
        </p:nvPicPr>
        <p:blipFill>
          <a:blip r:embed="rId2"/>
          <a:stretch/>
        </p:blipFill>
        <p:spPr>
          <a:xfrm>
            <a:off x="1214280" y="4714920"/>
            <a:ext cx="13813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125</a:t>
            </a: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9743"/>
          <p:cNvPicPr/>
          <p:nvPr/>
        </p:nvPicPr>
        <p:blipFill>
          <a:blip r:embed="rId2"/>
          <a:stretch/>
        </p:blipFill>
        <p:spPr>
          <a:xfrm>
            <a:off x="395280" y="54936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458280" cy="7029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3300"/>
                </a:solidFill>
                <a:latin typeface="Arial"/>
              </a:rPr>
              <a:t>Цифры и факты - 60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1785600"/>
            <a:ext cx="89298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ая фамилия чаще всего упоминается на Обелиске в деревне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Широких; Кулаковы; Бармины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79743"/>
          <p:cNvPicPr/>
          <p:nvPr/>
        </p:nvPicPr>
        <p:blipFill>
          <a:blip r:embed="rId2"/>
          <a:stretch/>
        </p:blipFill>
        <p:spPr>
          <a:xfrm>
            <a:off x="571680" y="492912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7859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Бармины – 13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Широких – 11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улаковы - 10</a:t>
            </a: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79743"/>
          <p:cNvPicPr/>
          <p:nvPr/>
        </p:nvPicPr>
        <p:blipFill>
          <a:blip r:embed="rId2"/>
          <a:stretch/>
        </p:blipFill>
        <p:spPr>
          <a:xfrm>
            <a:off x="928800" y="785880"/>
            <a:ext cx="1380960" cy="16668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2286000" y="135720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F:\My_new_fon_3\54a.jpg"/>
          <p:cNvPicPr/>
          <p:nvPr/>
        </p:nvPicPr>
        <p:blipFill>
          <a:blip r:embed="rId1"/>
          <a:stretch/>
        </p:blipFill>
        <p:spPr>
          <a:xfrm>
            <a:off x="-357120" y="-214200"/>
            <a:ext cx="9753480" cy="7248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3600" spc="-1" strike="noStrike">
                <a:solidFill>
                  <a:srgbClr val="ff3300"/>
                </a:solidFill>
                <a:latin typeface="Calibri"/>
              </a:rPr>
              <a:t>Знаменательные события- 10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71760"/>
            <a:ext cx="8483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мае 1899 года в Лайском Доке началось строительство важного объекта, который строился почти 8 лет. Что было построе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:\My_new_fon_3\55a.jpg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257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r>
              <a:rPr b="1" i="1" lang="en-US" sz="6500" spc="-1" strike="noStrike">
                <a:solidFill>
                  <a:srgbClr val="254061"/>
                </a:solidFill>
                <a:latin typeface="Monotype Corsiva"/>
              </a:rPr>
              <a:t>Правила игры</a:t>
            </a:r>
            <a:br>
              <a:rPr sz="6500"/>
            </a:b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56840"/>
            <a:ext cx="8362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Участники выбирают категорию и стоимость 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Команды по очереди отвечают на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Победителем становится команда, набравшая наибольшее количество б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Судоремонтный зав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наменательные события -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500040" y="215100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857160" y="797040"/>
            <a:ext cx="600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85840" y="1536840"/>
            <a:ext cx="864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какому юбилею Побе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9 мая 2005 го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Рикасихе рядом с Обелиском  установлена мемориальная пли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 60 – летию Побед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F:\My_new_fon_3\54a.jpg"/>
          <p:cNvPicPr/>
          <p:nvPr/>
        </p:nvPicPr>
        <p:blipFill>
          <a:blip r:embed="rId1"/>
          <a:stretch/>
        </p:blipFill>
        <p:spPr>
          <a:xfrm>
            <a:off x="-357120" y="-214200"/>
            <a:ext cx="9753480" cy="72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Знаменательные события - 30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211640" y="60930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599840"/>
            <a:ext cx="89298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каком году состоялось открытие нового 3-х этажного здания детского сада «Солнышко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1975;    1982;   198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августе 1987 год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alibri"/>
              </a:rPr>
              <a:t>Знаменательные события - 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57140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какому юбилею Победы был установлен Обелиск в Рикасих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 30; 40; 50 – летию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1773000"/>
            <a:ext cx="85010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 40–летию Победы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(9 мая 1985 года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alibri"/>
              </a:rPr>
              <a:t>Знаменательные события - 5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1341360"/>
            <a:ext cx="89298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1 февраля в Рикасихе состоялось открытие нового Дома Культуры. В каком году это произошл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 1971;          1975;          198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356000" y="60930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1981 год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Знаменательные события - 6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600200"/>
            <a:ext cx="87152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ом году центр Приморского района из Кегострова перевели в деревню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 1930;      1931;          1932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79280" y="2205000"/>
          <a:ext cx="8820360" cy="446724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081080"/>
                <a:gridCol w="1008000"/>
                <a:gridCol w="1079640"/>
                <a:gridCol w="1008000"/>
                <a:gridCol w="97164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Знаменательные </a:t>
                      </a: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аша шк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то интерес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ирода нашего к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AutoShape 57"/>
          <p:cNvSpPr/>
          <p:nvPr/>
        </p:nvSpPr>
        <p:spPr>
          <a:xfrm>
            <a:off x="5000760" y="2286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8"/>
          <p:cNvSpPr/>
          <p:nvPr/>
        </p:nvSpPr>
        <p:spPr>
          <a:xfrm>
            <a:off x="6000840" y="2286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9"/>
          <p:cNvSpPr/>
          <p:nvPr/>
        </p:nvSpPr>
        <p:spPr>
          <a:xfrm>
            <a:off x="7093080" y="227664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0"/>
          <p:cNvSpPr/>
          <p:nvPr/>
        </p:nvSpPr>
        <p:spPr>
          <a:xfrm>
            <a:off x="8101080" y="2276640"/>
            <a:ext cx="861840" cy="93492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934920"/>
              <a:gd name="textAreaBottom" fmla="*/ 879120 h 934920"/>
            </a:gdLst>
            <a:ahLst/>
            <a:rect l="textAreaLeft" t="textAreaTop" r="textAreaRight" b="textAreaBottom"/>
            <a:pathLst>
              <a:path w="21600" h="23431">
                <a:moveTo>
                  <a:pt x="0" y="0"/>
                </a:moveTo>
                <a:lnTo>
                  <a:pt x="21600" y="0"/>
                </a:lnTo>
                <a:lnTo>
                  <a:pt x="21600" y="23431"/>
                </a:lnTo>
                <a:lnTo>
                  <a:pt x="0" y="23431"/>
                </a:lnTo>
                <a:close/>
              </a:path>
              <a:path fill="lightenLess" w="21600" h="234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31">
                <a:moveTo>
                  <a:pt x="21600" y="0"/>
                </a:moveTo>
                <a:lnTo>
                  <a:pt x="21600" y="23431"/>
                </a:lnTo>
                <a:lnTo>
                  <a:pt x="20200" y="22031"/>
                </a:lnTo>
                <a:lnTo>
                  <a:pt x="20200" y="1400"/>
                </a:lnTo>
                <a:close/>
              </a:path>
              <a:path fill="darkenLess" w="21600" h="23431">
                <a:moveTo>
                  <a:pt x="21600" y="23431"/>
                </a:moveTo>
                <a:lnTo>
                  <a:pt x="0" y="23431"/>
                </a:lnTo>
                <a:lnTo>
                  <a:pt x="1400" y="22031"/>
                </a:lnTo>
                <a:lnTo>
                  <a:pt x="20200" y="22031"/>
                </a:lnTo>
                <a:close/>
              </a:path>
              <a:path fill="lighten" w="21600" h="23431">
                <a:moveTo>
                  <a:pt x="0" y="234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3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4"/>
          <p:cNvSpPr/>
          <p:nvPr/>
        </p:nvSpPr>
        <p:spPr>
          <a:xfrm>
            <a:off x="3929040" y="2286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1"/>
          <p:cNvSpPr/>
          <p:nvPr/>
        </p:nvSpPr>
        <p:spPr>
          <a:xfrm>
            <a:off x="3929040" y="3357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2"/>
          <p:cNvSpPr/>
          <p:nvPr/>
        </p:nvSpPr>
        <p:spPr>
          <a:xfrm>
            <a:off x="5003640" y="3357720"/>
            <a:ext cx="935280" cy="100800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79">
                <a:moveTo>
                  <a:pt x="0" y="0"/>
                </a:moveTo>
                <a:lnTo>
                  <a:pt x="21600" y="0"/>
                </a:lnTo>
                <a:lnTo>
                  <a:pt x="21600" y="23279"/>
                </a:lnTo>
                <a:lnTo>
                  <a:pt x="0" y="23279"/>
                </a:lnTo>
                <a:close/>
              </a:path>
              <a:path fill="lightenLess" w="21600" h="23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9">
                <a:moveTo>
                  <a:pt x="21600" y="0"/>
                </a:moveTo>
                <a:lnTo>
                  <a:pt x="21600" y="23279"/>
                </a:lnTo>
                <a:lnTo>
                  <a:pt x="20200" y="21879"/>
                </a:lnTo>
                <a:lnTo>
                  <a:pt x="20200" y="1400"/>
                </a:lnTo>
                <a:close/>
              </a:path>
              <a:path fill="darkenLess" w="21600" h="23279">
                <a:moveTo>
                  <a:pt x="21600" y="23279"/>
                </a:moveTo>
                <a:lnTo>
                  <a:pt x="0" y="23279"/>
                </a:lnTo>
                <a:lnTo>
                  <a:pt x="1400" y="21879"/>
                </a:lnTo>
                <a:lnTo>
                  <a:pt x="20200" y="21879"/>
                </a:lnTo>
                <a:close/>
              </a:path>
              <a:path fill="lighten" w="21600" h="23279">
                <a:moveTo>
                  <a:pt x="0" y="23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3"/>
          <p:cNvSpPr/>
          <p:nvPr/>
        </p:nvSpPr>
        <p:spPr>
          <a:xfrm>
            <a:off x="6012000" y="3357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4"/>
          <p:cNvSpPr/>
          <p:nvPr/>
        </p:nvSpPr>
        <p:spPr>
          <a:xfrm>
            <a:off x="7072200" y="3357720"/>
            <a:ext cx="862200" cy="1008000"/>
          </a:xfrm>
          <a:custGeom>
            <a:avLst/>
            <a:gdLst>
              <a:gd name="textAreaLeft" fmla="*/ 55800 w 862200"/>
              <a:gd name="textAreaRight" fmla="*/ 806400 w 86220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51">
                <a:moveTo>
                  <a:pt x="0" y="0"/>
                </a:moveTo>
                <a:lnTo>
                  <a:pt x="21600" y="0"/>
                </a:lnTo>
                <a:lnTo>
                  <a:pt x="21600" y="25251"/>
                </a:lnTo>
                <a:lnTo>
                  <a:pt x="0" y="25251"/>
                </a:lnTo>
                <a:close/>
              </a:path>
              <a:path fill="lightenLess" w="21600" h="25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1">
                <a:moveTo>
                  <a:pt x="21600" y="0"/>
                </a:moveTo>
                <a:lnTo>
                  <a:pt x="21600" y="25251"/>
                </a:lnTo>
                <a:lnTo>
                  <a:pt x="20200" y="23851"/>
                </a:lnTo>
                <a:lnTo>
                  <a:pt x="20200" y="1400"/>
                </a:lnTo>
                <a:close/>
              </a:path>
              <a:path fill="darkenLess" w="21600" h="25251">
                <a:moveTo>
                  <a:pt x="21600" y="25251"/>
                </a:moveTo>
                <a:lnTo>
                  <a:pt x="0" y="25251"/>
                </a:lnTo>
                <a:lnTo>
                  <a:pt x="1400" y="23851"/>
                </a:lnTo>
                <a:lnTo>
                  <a:pt x="20200" y="23851"/>
                </a:lnTo>
                <a:close/>
              </a:path>
              <a:path fill="lighten" w="21600" h="25251">
                <a:moveTo>
                  <a:pt x="0" y="25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5"/>
          <p:cNvSpPr/>
          <p:nvPr/>
        </p:nvSpPr>
        <p:spPr>
          <a:xfrm>
            <a:off x="8101080" y="3357720"/>
            <a:ext cx="861840" cy="100800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62">
                <a:moveTo>
                  <a:pt x="0" y="0"/>
                </a:moveTo>
                <a:lnTo>
                  <a:pt x="21600" y="0"/>
                </a:lnTo>
                <a:lnTo>
                  <a:pt x="21600" y="25262"/>
                </a:lnTo>
                <a:lnTo>
                  <a:pt x="0" y="25262"/>
                </a:lnTo>
                <a:close/>
              </a:path>
              <a:path fill="lightenLess" w="21600" h="25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62">
                <a:moveTo>
                  <a:pt x="21600" y="0"/>
                </a:moveTo>
                <a:lnTo>
                  <a:pt x="21600" y="25262"/>
                </a:lnTo>
                <a:lnTo>
                  <a:pt x="20200" y="23862"/>
                </a:lnTo>
                <a:lnTo>
                  <a:pt x="20200" y="1400"/>
                </a:lnTo>
                <a:close/>
              </a:path>
              <a:path fill="darkenLess" w="21600" h="25262">
                <a:moveTo>
                  <a:pt x="21600" y="25262"/>
                </a:moveTo>
                <a:lnTo>
                  <a:pt x="0" y="25262"/>
                </a:lnTo>
                <a:lnTo>
                  <a:pt x="1400" y="23862"/>
                </a:lnTo>
                <a:lnTo>
                  <a:pt x="20200" y="23862"/>
                </a:lnTo>
                <a:close/>
              </a:path>
              <a:path fill="lighten" w="21600" h="25262">
                <a:moveTo>
                  <a:pt x="0" y="25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6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6"/>
          <p:cNvSpPr/>
          <p:nvPr/>
        </p:nvSpPr>
        <p:spPr>
          <a:xfrm>
            <a:off x="6000840" y="557208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7"/>
          <p:cNvSpPr/>
          <p:nvPr/>
        </p:nvSpPr>
        <p:spPr>
          <a:xfrm>
            <a:off x="601200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8"/>
          <p:cNvSpPr/>
          <p:nvPr/>
        </p:nvSpPr>
        <p:spPr>
          <a:xfrm>
            <a:off x="7093080" y="4508640"/>
            <a:ext cx="861840" cy="100944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1009440"/>
              <a:gd name="textAreaBottom" fmla="*/ 953640 h 1009440"/>
            </a:gdLst>
            <a:ahLst/>
            <a:rect l="textAreaLeft" t="textAreaTop" r="textAreaRight" b="textAreaBottom"/>
            <a:pathLst>
              <a:path w="21600" h="25298">
                <a:moveTo>
                  <a:pt x="0" y="0"/>
                </a:moveTo>
                <a:lnTo>
                  <a:pt x="21600" y="0"/>
                </a:lnTo>
                <a:lnTo>
                  <a:pt x="21600" y="25298"/>
                </a:lnTo>
                <a:lnTo>
                  <a:pt x="0" y="25298"/>
                </a:lnTo>
                <a:close/>
              </a:path>
              <a:path fill="lightenLess" w="21600" h="25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8">
                <a:moveTo>
                  <a:pt x="21600" y="0"/>
                </a:moveTo>
                <a:lnTo>
                  <a:pt x="21600" y="25298"/>
                </a:lnTo>
                <a:lnTo>
                  <a:pt x="20200" y="23898"/>
                </a:lnTo>
                <a:lnTo>
                  <a:pt x="20200" y="1400"/>
                </a:lnTo>
                <a:close/>
              </a:path>
              <a:path fill="darkenLess" w="21600" h="25298">
                <a:moveTo>
                  <a:pt x="21600" y="25298"/>
                </a:moveTo>
                <a:lnTo>
                  <a:pt x="0" y="25298"/>
                </a:lnTo>
                <a:lnTo>
                  <a:pt x="1400" y="23898"/>
                </a:lnTo>
                <a:lnTo>
                  <a:pt x="20200" y="23898"/>
                </a:lnTo>
                <a:close/>
              </a:path>
              <a:path fill="lighten" w="21600" h="25298">
                <a:moveTo>
                  <a:pt x="0" y="25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9"/>
          <p:cNvSpPr/>
          <p:nvPr/>
        </p:nvSpPr>
        <p:spPr>
          <a:xfrm>
            <a:off x="702000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0"/>
          <p:cNvSpPr/>
          <p:nvPr/>
        </p:nvSpPr>
        <p:spPr>
          <a:xfrm>
            <a:off x="8028000" y="566100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1"/>
          <p:cNvSpPr/>
          <p:nvPr/>
        </p:nvSpPr>
        <p:spPr>
          <a:xfrm>
            <a:off x="8101080" y="4508640"/>
            <a:ext cx="861840" cy="100944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1009440"/>
              <a:gd name="textAreaBottom" fmla="*/ 953640 h 1009440"/>
            </a:gdLst>
            <a:ahLst/>
            <a:rect l="textAreaLeft" t="textAreaTop" r="textAreaRight" b="textAreaBottom"/>
            <a:pathLst>
              <a:path w="21600" h="25298">
                <a:moveTo>
                  <a:pt x="0" y="0"/>
                </a:moveTo>
                <a:lnTo>
                  <a:pt x="21600" y="0"/>
                </a:lnTo>
                <a:lnTo>
                  <a:pt x="21600" y="25298"/>
                </a:lnTo>
                <a:lnTo>
                  <a:pt x="0" y="25298"/>
                </a:lnTo>
                <a:close/>
              </a:path>
              <a:path fill="lightenLess" w="21600" h="25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8">
                <a:moveTo>
                  <a:pt x="21600" y="0"/>
                </a:moveTo>
                <a:lnTo>
                  <a:pt x="21600" y="25298"/>
                </a:lnTo>
                <a:lnTo>
                  <a:pt x="20200" y="23898"/>
                </a:lnTo>
                <a:lnTo>
                  <a:pt x="20200" y="1400"/>
                </a:lnTo>
                <a:close/>
              </a:path>
              <a:path fill="darkenLess" w="21600" h="25298">
                <a:moveTo>
                  <a:pt x="21600" y="25298"/>
                </a:moveTo>
                <a:lnTo>
                  <a:pt x="0" y="25298"/>
                </a:lnTo>
                <a:lnTo>
                  <a:pt x="1400" y="23898"/>
                </a:lnTo>
                <a:lnTo>
                  <a:pt x="20200" y="23898"/>
                </a:lnTo>
                <a:close/>
              </a:path>
              <a:path fill="lighten" w="21600" h="25298">
                <a:moveTo>
                  <a:pt x="0" y="25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7"/>
          <p:cNvSpPr/>
          <p:nvPr/>
        </p:nvSpPr>
        <p:spPr>
          <a:xfrm>
            <a:off x="2857680" y="3286080"/>
            <a:ext cx="934920" cy="107964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42">
                <a:moveTo>
                  <a:pt x="0" y="0"/>
                </a:moveTo>
                <a:lnTo>
                  <a:pt x="21600" y="0"/>
                </a:lnTo>
                <a:lnTo>
                  <a:pt x="21600" y="24942"/>
                </a:lnTo>
                <a:lnTo>
                  <a:pt x="0" y="24942"/>
                </a:lnTo>
                <a:close/>
              </a:path>
              <a:path fill="lightenLess" w="21600" h="24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42">
                <a:moveTo>
                  <a:pt x="21600" y="0"/>
                </a:moveTo>
                <a:lnTo>
                  <a:pt x="21600" y="24942"/>
                </a:lnTo>
                <a:lnTo>
                  <a:pt x="20200" y="23542"/>
                </a:lnTo>
                <a:lnTo>
                  <a:pt x="20200" y="1400"/>
                </a:lnTo>
                <a:close/>
              </a:path>
              <a:path fill="darkenLess" w="21600" h="24942">
                <a:moveTo>
                  <a:pt x="21600" y="24942"/>
                </a:moveTo>
                <a:lnTo>
                  <a:pt x="0" y="24942"/>
                </a:lnTo>
                <a:lnTo>
                  <a:pt x="1400" y="23542"/>
                </a:lnTo>
                <a:lnTo>
                  <a:pt x="20200" y="23542"/>
                </a:lnTo>
                <a:close/>
              </a:path>
              <a:path fill="lighten" w="21600" h="24942">
                <a:moveTo>
                  <a:pt x="0" y="24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42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8"/>
          <p:cNvSpPr/>
          <p:nvPr/>
        </p:nvSpPr>
        <p:spPr>
          <a:xfrm>
            <a:off x="284328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9"/>
          <p:cNvSpPr/>
          <p:nvPr/>
        </p:nvSpPr>
        <p:spPr>
          <a:xfrm>
            <a:off x="284328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0"/>
          <p:cNvSpPr/>
          <p:nvPr/>
        </p:nvSpPr>
        <p:spPr>
          <a:xfrm>
            <a:off x="392436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1"/>
          <p:cNvSpPr/>
          <p:nvPr/>
        </p:nvSpPr>
        <p:spPr>
          <a:xfrm>
            <a:off x="392436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2"/>
          <p:cNvSpPr/>
          <p:nvPr/>
        </p:nvSpPr>
        <p:spPr>
          <a:xfrm>
            <a:off x="4932360" y="450864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3"/>
          <p:cNvSpPr/>
          <p:nvPr/>
        </p:nvSpPr>
        <p:spPr>
          <a:xfrm>
            <a:off x="4932360" y="558972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89000"/>
          <a:ext cx="8785440" cy="93636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081080"/>
                <a:gridCol w="1008000"/>
                <a:gridCol w="1079640"/>
                <a:gridCol w="1008000"/>
                <a:gridCol w="93672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опоним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129"/>
          <p:cNvSpPr/>
          <p:nvPr/>
        </p:nvSpPr>
        <p:spPr>
          <a:xfrm>
            <a:off x="392436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5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0"/>
          <p:cNvSpPr/>
          <p:nvPr/>
        </p:nvSpPr>
        <p:spPr>
          <a:xfrm>
            <a:off x="493236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6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1"/>
          <p:cNvSpPr/>
          <p:nvPr/>
        </p:nvSpPr>
        <p:spPr>
          <a:xfrm>
            <a:off x="601200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2"/>
          <p:cNvSpPr/>
          <p:nvPr/>
        </p:nvSpPr>
        <p:spPr>
          <a:xfrm>
            <a:off x="702000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3"/>
          <p:cNvSpPr/>
          <p:nvPr/>
        </p:nvSpPr>
        <p:spPr>
          <a:xfrm>
            <a:off x="8028000" y="189000"/>
            <a:ext cx="934920" cy="93636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5"/>
          <p:cNvSpPr/>
          <p:nvPr/>
        </p:nvSpPr>
        <p:spPr>
          <a:xfrm>
            <a:off x="2843280" y="227664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8"/>
          <p:cNvSpPr/>
          <p:nvPr/>
        </p:nvSpPr>
        <p:spPr>
          <a:xfrm>
            <a:off x="2843280" y="189000"/>
            <a:ext cx="861840" cy="936360"/>
          </a:xfrm>
          <a:custGeom>
            <a:avLst/>
            <a:gdLst>
              <a:gd name="textAreaLeft" fmla="*/ 55800 w 861840"/>
              <a:gd name="textAreaRight" fmla="*/ 806040 w 861840"/>
              <a:gd name="textAreaTop" fmla="*/ 55800 h 936360"/>
              <a:gd name="textAreaBottom" fmla="*/ 880560 h 936360"/>
            </a:gdLst>
            <a:ahLst/>
            <a:rect l="textAreaLeft" t="textAreaTop" r="textAreaRight" b="textAreaBottom"/>
            <a:pathLst>
              <a:path w="21600" h="23467">
                <a:moveTo>
                  <a:pt x="0" y="0"/>
                </a:moveTo>
                <a:lnTo>
                  <a:pt x="21600" y="0"/>
                </a:lnTo>
                <a:lnTo>
                  <a:pt x="21600" y="23467"/>
                </a:lnTo>
                <a:lnTo>
                  <a:pt x="0" y="23467"/>
                </a:lnTo>
                <a:close/>
              </a:path>
              <a:path fill="lightenLess" w="21600" h="234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67">
                <a:moveTo>
                  <a:pt x="21600" y="0"/>
                </a:moveTo>
                <a:lnTo>
                  <a:pt x="21600" y="23467"/>
                </a:lnTo>
                <a:lnTo>
                  <a:pt x="20200" y="22067"/>
                </a:lnTo>
                <a:lnTo>
                  <a:pt x="20200" y="1400"/>
                </a:lnTo>
                <a:close/>
              </a:path>
              <a:path fill="darkenLess" w="21600" h="23467">
                <a:moveTo>
                  <a:pt x="21600" y="23467"/>
                </a:moveTo>
                <a:lnTo>
                  <a:pt x="0" y="23467"/>
                </a:lnTo>
                <a:lnTo>
                  <a:pt x="1400" y="22067"/>
                </a:lnTo>
                <a:lnTo>
                  <a:pt x="20200" y="22067"/>
                </a:lnTo>
                <a:close/>
              </a:path>
              <a:path fill="lighten" w="21600" h="23467">
                <a:moveTo>
                  <a:pt x="0" y="234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67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1197000"/>
          <a:ext cx="8785440" cy="944640"/>
        </p:xfrm>
        <a:graphic>
          <a:graphicData uri="http://schemas.openxmlformats.org/drawingml/2006/table">
            <a:tbl>
              <a:tblPr/>
              <a:tblGrid>
                <a:gridCol w="2592360"/>
                <a:gridCol w="1008360"/>
                <a:gridCol w="1152360"/>
                <a:gridCol w="1008000"/>
                <a:gridCol w="1008000"/>
                <a:gridCol w="1008360"/>
                <a:gridCol w="100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Цифры и фак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AutoShape 176"/>
          <p:cNvSpPr/>
          <p:nvPr/>
        </p:nvSpPr>
        <p:spPr>
          <a:xfrm>
            <a:off x="2843280" y="1197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7"/>
          <p:cNvSpPr/>
          <p:nvPr/>
        </p:nvSpPr>
        <p:spPr>
          <a:xfrm>
            <a:off x="3924360" y="1268280"/>
            <a:ext cx="934920" cy="79236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484" h="21600">
                <a:moveTo>
                  <a:pt x="0" y="0"/>
                </a:moveTo>
                <a:lnTo>
                  <a:pt x="25484" y="0"/>
                </a:lnTo>
                <a:lnTo>
                  <a:pt x="25484" y="21600"/>
                </a:lnTo>
                <a:lnTo>
                  <a:pt x="0" y="21600"/>
                </a:lnTo>
                <a:close/>
              </a:path>
              <a:path fill="lightenLess" w="25484" h="21600">
                <a:moveTo>
                  <a:pt x="0" y="0"/>
                </a:moveTo>
                <a:lnTo>
                  <a:pt x="25484" y="0"/>
                </a:lnTo>
                <a:lnTo>
                  <a:pt x="24085" y="1400"/>
                </a:lnTo>
                <a:lnTo>
                  <a:pt x="1400" y="1400"/>
                </a:lnTo>
                <a:close/>
              </a:path>
              <a:path fill="darken" w="25484" h="21600">
                <a:moveTo>
                  <a:pt x="25484" y="0"/>
                </a:moveTo>
                <a:lnTo>
                  <a:pt x="25484" y="21600"/>
                </a:lnTo>
                <a:lnTo>
                  <a:pt x="24085" y="20200"/>
                </a:lnTo>
                <a:lnTo>
                  <a:pt x="24085" y="1400"/>
                </a:lnTo>
                <a:close/>
              </a:path>
              <a:path fill="darkenLess" w="25484" h="21600">
                <a:moveTo>
                  <a:pt x="25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85" y="20200"/>
                </a:lnTo>
                <a:close/>
              </a:path>
              <a:path fill="lighten" w="25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8"/>
          <p:cNvSpPr/>
          <p:nvPr/>
        </p:nvSpPr>
        <p:spPr>
          <a:xfrm>
            <a:off x="5003640" y="1268280"/>
            <a:ext cx="935280" cy="792360"/>
          </a:xfrm>
          <a:custGeom>
            <a:avLst/>
            <a:gdLst>
              <a:gd name="textAreaLeft" fmla="*/ 51120 w 935280"/>
              <a:gd name="textAreaRight" fmla="*/ 884160 w 935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494" h="21600">
                <a:moveTo>
                  <a:pt x="0" y="0"/>
                </a:moveTo>
                <a:lnTo>
                  <a:pt x="25494" y="0"/>
                </a:lnTo>
                <a:lnTo>
                  <a:pt x="25494" y="21600"/>
                </a:lnTo>
                <a:lnTo>
                  <a:pt x="0" y="21600"/>
                </a:lnTo>
                <a:close/>
              </a:path>
              <a:path fill="lightenLess" w="25494" h="21600">
                <a:moveTo>
                  <a:pt x="0" y="0"/>
                </a:moveTo>
                <a:lnTo>
                  <a:pt x="25494" y="0"/>
                </a:lnTo>
                <a:lnTo>
                  <a:pt x="24094" y="1400"/>
                </a:lnTo>
                <a:lnTo>
                  <a:pt x="1400" y="1400"/>
                </a:lnTo>
                <a:close/>
              </a:path>
              <a:path fill="darken" w="25494" h="21600">
                <a:moveTo>
                  <a:pt x="25494" y="0"/>
                </a:moveTo>
                <a:lnTo>
                  <a:pt x="25494" y="21600"/>
                </a:lnTo>
                <a:lnTo>
                  <a:pt x="24094" y="20200"/>
                </a:lnTo>
                <a:lnTo>
                  <a:pt x="24094" y="1400"/>
                </a:lnTo>
                <a:close/>
              </a:path>
              <a:path fill="darkenLess" w="25494" h="21600">
                <a:moveTo>
                  <a:pt x="25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4" y="20200"/>
                </a:lnTo>
                <a:close/>
              </a:path>
              <a:path fill="lighten" w="25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9"/>
          <p:cNvSpPr/>
          <p:nvPr/>
        </p:nvSpPr>
        <p:spPr>
          <a:xfrm>
            <a:off x="6000840" y="128592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0"/>
          <p:cNvSpPr/>
          <p:nvPr/>
        </p:nvSpPr>
        <p:spPr>
          <a:xfrm>
            <a:off x="7072200" y="1214280"/>
            <a:ext cx="935280" cy="863640"/>
          </a:xfrm>
          <a:custGeom>
            <a:avLst/>
            <a:gdLst>
              <a:gd name="textAreaLeft" fmla="*/ 55800 w 935280"/>
              <a:gd name="textAreaRight" fmla="*/ 879480 w 935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91" h="21600">
                <a:moveTo>
                  <a:pt x="0" y="0"/>
                </a:moveTo>
                <a:lnTo>
                  <a:pt x="23391" y="0"/>
                </a:lnTo>
                <a:lnTo>
                  <a:pt x="23391" y="21600"/>
                </a:lnTo>
                <a:lnTo>
                  <a:pt x="0" y="21600"/>
                </a:lnTo>
                <a:close/>
              </a:path>
              <a:path fill="lightenLess" w="23391" h="21600">
                <a:moveTo>
                  <a:pt x="0" y="0"/>
                </a:moveTo>
                <a:lnTo>
                  <a:pt x="23391" y="0"/>
                </a:lnTo>
                <a:lnTo>
                  <a:pt x="21991" y="1400"/>
                </a:lnTo>
                <a:lnTo>
                  <a:pt x="1400" y="1400"/>
                </a:lnTo>
                <a:close/>
              </a:path>
              <a:path fill="darken" w="23391" h="21600">
                <a:moveTo>
                  <a:pt x="23391" y="0"/>
                </a:moveTo>
                <a:lnTo>
                  <a:pt x="23391" y="21600"/>
                </a:lnTo>
                <a:lnTo>
                  <a:pt x="21991" y="20200"/>
                </a:lnTo>
                <a:lnTo>
                  <a:pt x="21991" y="1400"/>
                </a:lnTo>
                <a:close/>
              </a:path>
              <a:path fill="darkenLess" w="23391" h="21600">
                <a:moveTo>
                  <a:pt x="23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1" y="20200"/>
                </a:lnTo>
                <a:close/>
              </a:path>
              <a:path fill="lighten" w="23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1"/>
          <p:cNvSpPr/>
          <p:nvPr/>
        </p:nvSpPr>
        <p:spPr>
          <a:xfrm>
            <a:off x="8028000" y="1197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 марта 1932год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 - 10</a:t>
            </a:r>
            <a:br>
              <a:rPr sz="5400"/>
            </a:br>
            <a:br>
              <a:rPr sz="43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071960" y="600084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emblema"/>
          <p:cNvPicPr/>
          <p:nvPr/>
        </p:nvPicPr>
        <p:blipFill>
          <a:blip r:embed="rId2"/>
          <a:stretch/>
        </p:blipFill>
        <p:spPr>
          <a:xfrm>
            <a:off x="7572240" y="500040"/>
            <a:ext cx="1571760" cy="164952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357120" y="4408560"/>
            <a:ext cx="3357720" cy="2449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285480" y="1355760"/>
            <a:ext cx="7643880" cy="30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Рикасихинская школа 1-й ступени – трёхлетка. Северный край, Приморский район, Рикасихинский с/с, д. Рикасиха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какого года существует школа (как данный тип), если 1 сентября 2012 года ей испол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о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80 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С 1932 год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emblema"/>
          <p:cNvPicPr/>
          <p:nvPr/>
        </p:nvPicPr>
        <p:blipFill>
          <a:blip r:embed="rId2"/>
          <a:stretch/>
        </p:blipFill>
        <p:spPr>
          <a:xfrm>
            <a:off x="6643800" y="714240"/>
            <a:ext cx="1974600" cy="20718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714240" y="3500280"/>
            <a:ext cx="4000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20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43000" y="1500120"/>
            <a:ext cx="821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В каком году наша школа получила статус - Приморская средняя школ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4214880" y="5715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emblema"/>
          <p:cNvPicPr/>
          <p:nvPr/>
        </p:nvPicPr>
        <p:blipFill>
          <a:blip r:embed="rId2"/>
          <a:stretch/>
        </p:blipFill>
        <p:spPr>
          <a:xfrm>
            <a:off x="214200" y="357120"/>
            <a:ext cx="1714680" cy="17985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00040" y="3786120"/>
            <a:ext cx="3444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1975 год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emblema"/>
          <p:cNvPicPr/>
          <p:nvPr/>
        </p:nvPicPr>
        <p:blipFill>
          <a:blip r:embed="rId2"/>
          <a:stretch/>
        </p:blipFill>
        <p:spPr>
          <a:xfrm>
            <a:off x="6715080" y="500040"/>
            <a:ext cx="2178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642960" y="3786120"/>
            <a:ext cx="335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F:\My_new_fon_3\54a.jpg"/>
          <p:cNvPicPr/>
          <p:nvPr/>
        </p:nvPicPr>
        <p:blipFill>
          <a:blip r:embed="rId1"/>
          <a:stretch/>
        </p:blipFill>
        <p:spPr>
          <a:xfrm>
            <a:off x="-285840" y="-142920"/>
            <a:ext cx="9753840" cy="72486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3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285640" y="1196640"/>
            <a:ext cx="671508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 декабря 2004 года  в школе состоялось открытие Памятной мемориальной доски. В честь какого героя состоялось это открыти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857760" y="59292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emblema"/>
          <p:cNvPicPr/>
          <p:nvPr/>
        </p:nvPicPr>
        <p:blipFill>
          <a:blip r:embed="rId2"/>
          <a:stretch/>
        </p:blipFill>
        <p:spPr>
          <a:xfrm>
            <a:off x="428760" y="1285920"/>
            <a:ext cx="2179440" cy="22860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428760" y="4214880"/>
            <a:ext cx="314316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7859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 честь Процуна Руслана Николаевич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mblema"/>
          <p:cNvPicPr/>
          <p:nvPr/>
        </p:nvPicPr>
        <p:blipFill>
          <a:blip r:embed="rId2"/>
          <a:stretch/>
        </p:blipFill>
        <p:spPr>
          <a:xfrm>
            <a:off x="7215120" y="571680"/>
            <a:ext cx="1332000" cy="1398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00040" y="3857760"/>
            <a:ext cx="350064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4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85840" y="1214280"/>
            <a:ext cx="885816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 каком году наша школа стала победителем конкурса общеобразовательных учреждений и получила грант в размере 1 млн. рублей на развитие образовательного процесса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2005;        2007;        2010)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929040" y="564372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emblema"/>
          <p:cNvPicPr/>
          <p:nvPr/>
        </p:nvPicPr>
        <p:blipFill>
          <a:blip r:embed="rId2"/>
          <a:stretch/>
        </p:blipFill>
        <p:spPr>
          <a:xfrm>
            <a:off x="7628040" y="500040"/>
            <a:ext cx="1447560" cy="15192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285840" y="4214880"/>
            <a:ext cx="31431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2007 год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emblema"/>
          <p:cNvPicPr/>
          <p:nvPr/>
        </p:nvPicPr>
        <p:blipFill>
          <a:blip r:embed="rId2"/>
          <a:stretch/>
        </p:blipFill>
        <p:spPr>
          <a:xfrm>
            <a:off x="6715080" y="500040"/>
            <a:ext cx="1784520" cy="18716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857160" y="3357720"/>
            <a:ext cx="4154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5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929040" y="578628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emblema"/>
          <p:cNvPicPr/>
          <p:nvPr/>
        </p:nvPicPr>
        <p:blipFill>
          <a:blip r:embed="rId2"/>
          <a:stretch/>
        </p:blipFill>
        <p:spPr>
          <a:xfrm>
            <a:off x="714240" y="857160"/>
            <a:ext cx="1770120" cy="185760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00040" y="3857760"/>
            <a:ext cx="3270240" cy="242892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6"/>
          <p:cNvSpPr/>
          <p:nvPr/>
        </p:nvSpPr>
        <p:spPr>
          <a:xfrm>
            <a:off x="2214720" y="1428840"/>
            <a:ext cx="692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то из ныне работающих учителей является выпускниками нашей школ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1071720"/>
            <a:ext cx="89298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ются деревни Приморского района, которые находятся ближе всех к Рикасих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расположены на одном берегу Северной Дви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19280" y="3333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PD1"/>
          <p:cNvPicPr/>
          <p:nvPr/>
        </p:nvPicPr>
        <p:blipFill>
          <a:blip r:embed="rId2"/>
          <a:stretch/>
        </p:blipFill>
        <p:spPr>
          <a:xfrm>
            <a:off x="500040" y="4357800"/>
            <a:ext cx="1976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96720" y="-17136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emblema"/>
          <p:cNvPicPr/>
          <p:nvPr/>
        </p:nvPicPr>
        <p:blipFill>
          <a:blip r:embed="rId2"/>
          <a:stretch/>
        </p:blipFill>
        <p:spPr>
          <a:xfrm>
            <a:off x="6786720" y="3357720"/>
            <a:ext cx="19414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428760" y="3500280"/>
            <a:ext cx="4224240" cy="3071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280" y="409680"/>
            <a:ext cx="8607600" cy="25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ухина (Широких) Ольга Владимиров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льникова (Батурина) Елена Клавдиевна,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деева (Неклюдова) Елена Михайловна,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Щербань (Кузнецова) Елена Васильев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рлов Сергей Леонид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Наша школа - 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4143240" y="585792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emblema"/>
          <p:cNvPicPr/>
          <p:nvPr/>
        </p:nvPicPr>
        <p:blipFill>
          <a:blip r:embed="rId2"/>
          <a:stretch/>
        </p:blipFill>
        <p:spPr>
          <a:xfrm>
            <a:off x="851040" y="1071720"/>
            <a:ext cx="2220840" cy="23302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571680" y="3929040"/>
            <a:ext cx="3357360" cy="25369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6"/>
          <p:cNvSpPr/>
          <p:nvPr/>
        </p:nvSpPr>
        <p:spPr>
          <a:xfrm>
            <a:off x="2786040" y="1285920"/>
            <a:ext cx="59292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олько выпускников закончили нашу школу с золотой медаль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4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emblema"/>
          <p:cNvPicPr/>
          <p:nvPr/>
        </p:nvPicPr>
        <p:blipFill>
          <a:blip r:embed="rId2"/>
          <a:stretch/>
        </p:blipFill>
        <p:spPr>
          <a:xfrm>
            <a:off x="0" y="571680"/>
            <a:ext cx="2316240" cy="24285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\\Srv1\Foto\фото школы\DSC07500.JPG"/>
          <p:cNvPicPr/>
          <p:nvPr/>
        </p:nvPicPr>
        <p:blipFill>
          <a:blip r:embed="rId3"/>
          <a:stretch/>
        </p:blipFill>
        <p:spPr>
          <a:xfrm>
            <a:off x="142920" y="4357800"/>
            <a:ext cx="3143160" cy="22701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14800" y="419400"/>
            <a:ext cx="5929200" cy="447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.Родионова Ирина (1994г.),        2.Рекина Татьяна (2000г.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.Климантова Марина (2000г.),   4.Волкова Анна (2004г.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.Подомарев Владимир (2005г.), 6.Первухин Геннадий (2006г.),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7.Базыкина Евгения (2007г.).       8.Неманов Артем (2009г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1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1143000" y="1536840"/>
            <a:ext cx="73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ие населённые пункты расположены на реке Л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4143240"/>
            <a:ext cx="2554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400" y="1856880"/>
            <a:ext cx="7072200" cy="17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9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ая, Чужгоры, Лайский Д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0_19f0c_eb86b773_L"/>
          <p:cNvPicPr/>
          <p:nvPr/>
        </p:nvPicPr>
        <p:blipFill>
          <a:blip r:embed="rId2"/>
          <a:stretch/>
        </p:blipFill>
        <p:spPr>
          <a:xfrm>
            <a:off x="571680" y="4200480"/>
            <a:ext cx="2571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2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2560" y="1571760"/>
            <a:ext cx="9001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каком берегу Северной Двины находится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0_19f0c_eb86b773_L"/>
          <p:cNvPicPr/>
          <p:nvPr/>
        </p:nvPicPr>
        <p:blipFill>
          <a:blip r:embed="rId2"/>
          <a:stretch/>
        </p:blipFill>
        <p:spPr>
          <a:xfrm>
            <a:off x="785880" y="4071960"/>
            <a:ext cx="2820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21430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На левом берег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0_19f0c_eb86b773_L"/>
          <p:cNvPicPr/>
          <p:nvPr/>
        </p:nvPicPr>
        <p:blipFill>
          <a:blip r:embed="rId2"/>
          <a:stretch/>
        </p:blipFill>
        <p:spPr>
          <a:xfrm>
            <a:off x="857160" y="4229280"/>
            <a:ext cx="27147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3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14240" y="1143000"/>
            <a:ext cx="7786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старинная фамилия жителей деревни Рикасих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ушевы,  Давыдовы,  Орловы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06728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0_19f0c_eb86b773_L"/>
          <p:cNvPicPr/>
          <p:nvPr/>
        </p:nvPicPr>
        <p:blipFill>
          <a:blip r:embed="rId2"/>
          <a:stretch/>
        </p:blipFill>
        <p:spPr>
          <a:xfrm>
            <a:off x="785880" y="3929040"/>
            <a:ext cx="2857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F:\My_new_fon_3\54a.jpg"/>
          <p:cNvPicPr/>
          <p:nvPr/>
        </p:nvPicPr>
        <p:blipFill>
          <a:blip r:embed="rId1"/>
          <a:stretch/>
        </p:blipFill>
        <p:spPr>
          <a:xfrm>
            <a:off x="0" y="-39060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785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ушев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0_19f0c_eb86b773_L"/>
          <p:cNvPicPr/>
          <p:nvPr/>
        </p:nvPicPr>
        <p:blipFill>
          <a:blip r:embed="rId2"/>
          <a:stretch/>
        </p:blipFill>
        <p:spPr>
          <a:xfrm>
            <a:off x="1285920" y="3971880"/>
            <a:ext cx="25002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6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4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211640" y="602136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0_19f0c_eb86b773_L"/>
          <p:cNvPicPr/>
          <p:nvPr/>
        </p:nvPicPr>
        <p:blipFill>
          <a:blip r:embed="rId2"/>
          <a:stretch/>
        </p:blipFill>
        <p:spPr>
          <a:xfrm>
            <a:off x="1571760" y="4572000"/>
            <a:ext cx="2214360" cy="17654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6"/>
          <p:cNvSpPr/>
          <p:nvPr/>
        </p:nvSpPr>
        <p:spPr>
          <a:xfrm>
            <a:off x="571680" y="1357200"/>
            <a:ext cx="82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ую дикую водоплавающую птицу называют «чирок»? Название деревень Птичья и Чиркановская могли произойти от названия этих пт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PD1"/>
          <p:cNvPicPr/>
          <p:nvPr/>
        </p:nvPicPr>
        <p:blipFill>
          <a:blip r:embed="rId2"/>
          <a:stretch/>
        </p:blipFill>
        <p:spPr>
          <a:xfrm>
            <a:off x="571680" y="4143240"/>
            <a:ext cx="2319120" cy="2516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1360" y="1428840"/>
            <a:ext cx="714348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Шихириха,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Ут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3922560"/>
            <a:ext cx="2786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5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1285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которые названия в Рикасихе связаны с   числительными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й км, 5-й км, 7-й км, 12-й к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каком км расположена ж/д станция, а на каком сельское кладбищ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4273560"/>
            <a:ext cx="2714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571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-й км;     12-й к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0_19f0c_eb86b773_L"/>
          <p:cNvPicPr/>
          <p:nvPr/>
        </p:nvPicPr>
        <p:blipFill>
          <a:blip r:embed="rId2"/>
          <a:stretch/>
        </p:blipFill>
        <p:spPr>
          <a:xfrm>
            <a:off x="1285920" y="3984480"/>
            <a:ext cx="2857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Это интересно - 60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320" y="1213920"/>
            <a:ext cx="77864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ой овощ на севере в старину называли  «вторым хлебом»? Крестьяне на зиму укладывали его в кадку, но не валом валили, а  пересыпали слоем песк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4211640" y="602136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0_19f0c_eb86b773_L"/>
          <p:cNvPicPr/>
          <p:nvPr/>
        </p:nvPicPr>
        <p:blipFill>
          <a:blip r:embed="rId2"/>
          <a:stretch/>
        </p:blipFill>
        <p:spPr>
          <a:xfrm>
            <a:off x="857160" y="4357800"/>
            <a:ext cx="27860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Реп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0_19f0c_eb86b773_L"/>
          <p:cNvPicPr/>
          <p:nvPr/>
        </p:nvPicPr>
        <p:blipFill>
          <a:blip r:embed="rId2"/>
          <a:stretch/>
        </p:blipFill>
        <p:spPr>
          <a:xfrm>
            <a:off x="1071720" y="3813120"/>
            <a:ext cx="3071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F:\My_new_fon_3\54a.jpg"/>
          <p:cNvPicPr/>
          <p:nvPr/>
        </p:nvPicPr>
        <p:blipFill>
          <a:blip r:embed="rId1"/>
          <a:stretch/>
        </p:blipFill>
        <p:spPr>
          <a:xfrm>
            <a:off x="-285840" y="-21420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рирода нашего края - 10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4" descr="x_0e421403"/>
          <p:cNvPicPr/>
          <p:nvPr/>
        </p:nvPicPr>
        <p:blipFill>
          <a:blip r:embed="rId2"/>
          <a:stretch/>
        </p:blipFill>
        <p:spPr>
          <a:xfrm>
            <a:off x="357120" y="3929040"/>
            <a:ext cx="3714840" cy="27147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714240" y="1714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В какой природной зоне мы живё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тайг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4" descr="x_0e421403"/>
          <p:cNvPicPr/>
          <p:nvPr/>
        </p:nvPicPr>
        <p:blipFill>
          <a:blip r:embed="rId2"/>
          <a:stretch/>
        </p:blipFill>
        <p:spPr>
          <a:xfrm>
            <a:off x="571680" y="3762360"/>
            <a:ext cx="3786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5" descr="F:\My_new_fon_3\54a.jpg"/>
          <p:cNvPicPr/>
          <p:nvPr/>
        </p:nvPicPr>
        <p:blipFill>
          <a:blip r:embed="rId1"/>
          <a:stretch/>
        </p:blipFill>
        <p:spPr>
          <a:xfrm>
            <a:off x="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рирода нашего края - 20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608360" y="600084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4" descr="x_0e421403"/>
          <p:cNvPicPr/>
          <p:nvPr/>
        </p:nvPicPr>
        <p:blipFill>
          <a:blip r:embed="rId2"/>
          <a:stretch/>
        </p:blipFill>
        <p:spPr>
          <a:xfrm>
            <a:off x="642960" y="3714840"/>
            <a:ext cx="3643200" cy="285732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5"/>
          <p:cNvSpPr/>
          <p:nvPr/>
        </p:nvSpPr>
        <p:spPr>
          <a:xfrm>
            <a:off x="1071720" y="17146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ой тип почв преобладает в нашей мест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1357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одзолисты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Рисунок 4" descr="x_0e421403"/>
          <p:cNvPicPr/>
          <p:nvPr/>
        </p:nvPicPr>
        <p:blipFill>
          <a:blip r:embed="rId2"/>
          <a:stretch/>
        </p:blipFill>
        <p:spPr>
          <a:xfrm>
            <a:off x="571680" y="4000680"/>
            <a:ext cx="3429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F:\My_new_fon_3\54a.jpg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рода нашего края -30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4" descr="x_0e421403"/>
          <p:cNvPicPr/>
          <p:nvPr/>
        </p:nvPicPr>
        <p:blipFill>
          <a:blip r:embed="rId2"/>
          <a:stretch/>
        </p:blipFill>
        <p:spPr>
          <a:xfrm>
            <a:off x="428760" y="4071960"/>
            <a:ext cx="3357360" cy="264312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5"/>
          <p:cNvSpPr/>
          <p:nvPr/>
        </p:nvSpPr>
        <p:spPr>
          <a:xfrm>
            <a:off x="108000" y="1571760"/>
            <a:ext cx="90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ой тип болот преобладает в нашей мест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верховые, низинные, переходны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357200"/>
            <a:ext cx="807264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ихирь – коротыш, малорослый человек. Шихан – (татар.) – холм, бугор, макушка, верхушка горы.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звание какого населённого пункта произошло от этих слов?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Топонимика - 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PD1"/>
          <p:cNvPicPr/>
          <p:nvPr/>
        </p:nvPicPr>
        <p:blipFill>
          <a:blip r:embed="rId2"/>
          <a:stretch/>
        </p:blipFill>
        <p:spPr>
          <a:xfrm>
            <a:off x="500040" y="4379760"/>
            <a:ext cx="2284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42884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ерховые бол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Рисунок 4" descr="x_0e421403"/>
          <p:cNvPicPr/>
          <p:nvPr/>
        </p:nvPicPr>
        <p:blipFill>
          <a:blip r:embed="rId2"/>
          <a:stretch/>
        </p:blipFill>
        <p:spPr>
          <a:xfrm>
            <a:off x="785880" y="3643200"/>
            <a:ext cx="3643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рирода нашего края - 40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5" descr="x_0e421403"/>
          <p:cNvPicPr/>
          <p:nvPr/>
        </p:nvPicPr>
        <p:blipFill>
          <a:blip r:embed="rId2"/>
          <a:stretch/>
        </p:blipFill>
        <p:spPr>
          <a:xfrm>
            <a:off x="428760" y="3786120"/>
            <a:ext cx="3668400" cy="271476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6"/>
          <p:cNvSpPr/>
          <p:nvPr/>
        </p:nvSpPr>
        <p:spPr>
          <a:xfrm>
            <a:off x="285840" y="1643040"/>
            <a:ext cx="88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 каком климатическом поясе расположен наш кра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В умеренном пояс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4" descr="x_0e421403"/>
          <p:cNvPicPr/>
          <p:nvPr/>
        </p:nvPicPr>
        <p:blipFill>
          <a:blip r:embed="rId2"/>
          <a:stretch/>
        </p:blipFill>
        <p:spPr>
          <a:xfrm>
            <a:off x="428760" y="3857760"/>
            <a:ext cx="35719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рода нашего края - 50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4284720" y="602136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4" descr="x_0e421403"/>
          <p:cNvPicPr/>
          <p:nvPr/>
        </p:nvPicPr>
        <p:blipFill>
          <a:blip r:embed="rId2"/>
          <a:stretch/>
        </p:blipFill>
        <p:spPr>
          <a:xfrm>
            <a:off x="214200" y="3571920"/>
            <a:ext cx="3857760" cy="30859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5"/>
          <p:cNvSpPr/>
          <p:nvPr/>
        </p:nvSpPr>
        <p:spPr>
          <a:xfrm>
            <a:off x="928800" y="1428840"/>
            <a:ext cx="714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называется рукав Северной Двины, на берегу которого расположена Рикасих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00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Никольский рука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4" descr="x_0e421403"/>
          <p:cNvPicPr/>
          <p:nvPr/>
        </p:nvPicPr>
        <p:blipFill>
          <a:blip r:embed="rId2"/>
          <a:stretch/>
        </p:blipFill>
        <p:spPr>
          <a:xfrm>
            <a:off x="571680" y="3643200"/>
            <a:ext cx="3643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рирода нашего края - 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4429080" y="5929200"/>
            <a:ext cx="45356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4" descr="x_0e421403"/>
          <p:cNvPicPr/>
          <p:nvPr/>
        </p:nvPicPr>
        <p:blipFill>
          <a:blip r:embed="rId2"/>
          <a:stretch/>
        </p:blipFill>
        <p:spPr>
          <a:xfrm>
            <a:off x="357120" y="3786120"/>
            <a:ext cx="38577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5"/>
          <p:cNvSpPr/>
          <p:nvPr/>
        </p:nvSpPr>
        <p:spPr>
          <a:xfrm>
            <a:off x="642960" y="21510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500040" y="1285920"/>
            <a:ext cx="77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 называется заказник, расположенный на территории нашего кр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876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Лайский заказни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4" descr="x_0e421403"/>
          <p:cNvPicPr/>
          <p:nvPr/>
        </p:nvPicPr>
        <p:blipFill>
          <a:blip r:embed="rId2"/>
          <a:stretch/>
        </p:blipFill>
        <p:spPr>
          <a:xfrm>
            <a:off x="642960" y="3500280"/>
            <a:ext cx="37861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F:\My_new_fon_3\55a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179280" y="785880"/>
            <a:ext cx="878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у составил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Щербань Елена Васильев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«Приморская СОШ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ы материалы работы по краеведению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Латухиной Ольги Владимиров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чителя истории, заведующей библиотеко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«Приморская СОШ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тябрь 201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Шихирих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7020000" y="5661000"/>
            <a:ext cx="1873080" cy="792360"/>
          </a:xfrm>
          <a:custGeom>
            <a:avLst/>
            <a:gdLst>
              <a:gd name="textAreaLeft" fmla="*/ 327600 w 1873080"/>
              <a:gd name="textAreaRight" fmla="*/ 1357920 w 1873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PD1"/>
          <p:cNvPicPr/>
          <p:nvPr/>
        </p:nvPicPr>
        <p:blipFill>
          <a:blip r:embed="rId2"/>
          <a:stretch/>
        </p:blipFill>
        <p:spPr>
          <a:xfrm>
            <a:off x="857160" y="4071960"/>
            <a:ext cx="23194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F:\My_new_fon_3\54a.jpg"/>
          <p:cNvPicPr/>
          <p:nvPr/>
        </p:nvPicPr>
        <p:blipFill>
          <a:blip r:embed="rId1"/>
          <a:stretch/>
        </p:blipFill>
        <p:spPr>
          <a:xfrm>
            <a:off x="-304920" y="-195120"/>
            <a:ext cx="9753840" cy="7248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760" y="1285920"/>
            <a:ext cx="857268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1930 году в д.Шихириха работала бондарная мастерская. Что изготавливали в этой мастерск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9236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Топонимика - 3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284720" y="6093000"/>
            <a:ext cx="45352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PD1"/>
          <p:cNvPicPr/>
          <p:nvPr/>
        </p:nvPicPr>
        <p:blipFill>
          <a:blip r:embed="rId2"/>
          <a:stretch/>
        </p:blipFill>
        <p:spPr>
          <a:xfrm>
            <a:off x="714240" y="4357800"/>
            <a:ext cx="20718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5:31:11Z</dcterms:created>
  <dc:creator>Русина</dc:creator>
  <dc:description/>
  <dc:language>en-US</dc:language>
  <cp:lastModifiedBy>elena</cp:lastModifiedBy>
  <dcterms:modified xsi:type="dcterms:W3CDTF">2013-05-13T08:06:22Z</dcterms:modified>
  <cp:revision>7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30000000000010250300207f7000400038000</vt:lpwstr>
  </property>
</Properties>
</file>