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918-51DA-4598-B72D-72AB8E024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F08-A719-4EFE-88F3-402938F31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63E-5AC5-45D6-A799-A999BD92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0C0-17D4-45FD-9AD7-3AF19EFE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B2D-7010-4F88-8D53-2389200E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0F3-282E-4181-8F02-6B3726DA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61F-0C68-405E-9585-2773A53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0BF-8FD4-4788-A825-5D5F846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864-769C-4C8B-97C9-589BC9D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23E-8B38-42AE-AD4A-1154050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6F5-21E8-4DDE-8F12-465B245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6EF-F310-4D8E-9C9C-6822F7D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927-B71C-417D-9414-FBAFF08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DD9-AED2-4799-BEB4-9638778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3FD-4E9F-41F5-9829-D2F64E2E7A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7.xml"/><Relationship Id="rId5" Type="http://schemas.openxmlformats.org/officeDocument/2006/relationships/slide" Target="slide39.xml"/><Relationship Id="rId6" Type="http://schemas.openxmlformats.org/officeDocument/2006/relationships/slide" Target="slide31.xml"/><Relationship Id="rId7" Type="http://schemas.openxmlformats.org/officeDocument/2006/relationships/slide" Target="slide43.xml"/><Relationship Id="rId8" Type="http://schemas.openxmlformats.org/officeDocument/2006/relationships/slide" Target="slide45.xml"/><Relationship Id="rId9" Type="http://schemas.openxmlformats.org/officeDocument/2006/relationships/slide" Target="slide47.xml"/><Relationship Id="rId10" Type="http://schemas.openxmlformats.org/officeDocument/2006/relationships/slide" Target="slide49.xml"/><Relationship Id="rId11" Type="http://schemas.openxmlformats.org/officeDocument/2006/relationships/slide" Target="slide51.xml"/><Relationship Id="rId12" Type="http://schemas.openxmlformats.org/officeDocument/2006/relationships/slide" Target="slide71.xml"/><Relationship Id="rId13" Type="http://schemas.openxmlformats.org/officeDocument/2006/relationships/slide" Target="slide59.xml"/><Relationship Id="rId14" Type="http://schemas.openxmlformats.org/officeDocument/2006/relationships/slide" Target="slide61.xml"/><Relationship Id="rId15" Type="http://schemas.openxmlformats.org/officeDocument/2006/relationships/slide" Target="slide73.xml"/><Relationship Id="rId16" Type="http://schemas.openxmlformats.org/officeDocument/2006/relationships/slide" Target="slide75.xml"/><Relationship Id="rId17" Type="http://schemas.openxmlformats.org/officeDocument/2006/relationships/slide" Target="slide63.xml"/><Relationship Id="rId18" Type="http://schemas.openxmlformats.org/officeDocument/2006/relationships/slide" Target="slide41.xml"/><Relationship Id="rId19" Type="http://schemas.openxmlformats.org/officeDocument/2006/relationships/slide" Target="slide53.xml"/><Relationship Id="rId20" Type="http://schemas.openxmlformats.org/officeDocument/2006/relationships/slide" Target="slide65.xml"/><Relationship Id="rId21" Type="http://schemas.openxmlformats.org/officeDocument/2006/relationships/slide" Target="slide67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69.xml"/><Relationship Id="rId25" Type="http://schemas.openxmlformats.org/officeDocument/2006/relationships/slide" Target="slide7.xml"/><Relationship Id="rId26" Type="http://schemas.openxmlformats.org/officeDocument/2006/relationships/slide" Target="slide9.xml"/><Relationship Id="rId27" Type="http://schemas.openxmlformats.org/officeDocument/2006/relationships/slide" Target="slide1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:\My_new_fon_3\55a.jpg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257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Drawn_wallpapers_Green_Planet_013437_.jpg"/>
          <p:cNvPicPr/>
          <p:nvPr/>
        </p:nvPicPr>
        <p:blipFill>
          <a:blip r:embed="rId2"/>
          <a:stretch/>
        </p:blipFill>
        <p:spPr>
          <a:xfrm>
            <a:off x="5357880" y="3500280"/>
            <a:ext cx="3503520" cy="2627640"/>
          </a:xfrm>
          <a:prstGeom prst="rect">
            <a:avLst/>
          </a:prstGeom>
          <a:ln w="0">
            <a:noFill/>
          </a:ln>
        </p:spPr>
      </p:pic>
      <p:sp>
        <p:nvSpPr>
          <p:cNvPr id="51" name="Выноска-облако 5"/>
          <p:cNvSpPr/>
          <p:nvPr/>
        </p:nvSpPr>
        <p:spPr>
          <a:xfrm>
            <a:off x="214200" y="1214280"/>
            <a:ext cx="6143760" cy="3600720"/>
          </a:xfrm>
          <a:prstGeom prst="cloudCallout">
            <a:avLst>
              <a:gd name="adj1" fmla="val 58495"/>
              <a:gd name="adj2" fmla="val 2425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Путешествие по родному кр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боч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PD1"/>
          <p:cNvPicPr/>
          <p:nvPr/>
        </p:nvPicPr>
        <p:blipFill>
          <a:blip r:embed="rId2"/>
          <a:stretch/>
        </p:blipFill>
        <p:spPr>
          <a:xfrm>
            <a:off x="571680" y="4071960"/>
            <a:ext cx="24285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1571400"/>
            <a:ext cx="87156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я наших деревень тесно связана с Северодвинском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Как раньше назывался этот город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PD1"/>
          <p:cNvPicPr/>
          <p:nvPr/>
        </p:nvPicPr>
        <p:blipFill>
          <a:blip r:embed="rId2"/>
          <a:stretch/>
        </p:blipFill>
        <p:spPr>
          <a:xfrm>
            <a:off x="571680" y="4357800"/>
            <a:ext cx="2178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олотовс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PD1"/>
          <p:cNvPicPr/>
          <p:nvPr/>
        </p:nvPicPr>
        <p:blipFill>
          <a:blip r:embed="rId2"/>
          <a:stretch/>
        </p:blipFill>
        <p:spPr>
          <a:xfrm>
            <a:off x="571680" y="3714840"/>
            <a:ext cx="256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лась церковь, находившаяся в Шихирих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так же называется знаменитая крепость в Санкт-Петербург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D1"/>
          <p:cNvPicPr/>
          <p:nvPr/>
        </p:nvPicPr>
        <p:blipFill>
          <a:blip r:embed="rId2"/>
          <a:stretch/>
        </p:blipFill>
        <p:spPr>
          <a:xfrm>
            <a:off x="642960" y="4500720"/>
            <a:ext cx="197172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643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етропавловск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D1"/>
          <p:cNvPicPr/>
          <p:nvPr/>
        </p:nvPicPr>
        <p:blipFill>
          <a:blip r:embed="rId2"/>
          <a:stretch/>
        </p:blipFill>
        <p:spPr>
          <a:xfrm>
            <a:off x="571680" y="385776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одной из версий название «Рикасиха» в переводе с финского означает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каси» – ягоды (брусника, голубика, черника, морошка);   «ри» - ……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значает эта часть слова?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92360" y="642960"/>
            <a:ext cx="6400800" cy="13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PD1"/>
          <p:cNvPicPr/>
          <p:nvPr/>
        </p:nvPicPr>
        <p:blipFill>
          <a:blip r:embed="rId2"/>
          <a:stretch/>
        </p:blipFill>
        <p:spPr>
          <a:xfrm>
            <a:off x="785880" y="4429080"/>
            <a:ext cx="2000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Болот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PD1"/>
          <p:cNvPicPr/>
          <p:nvPr/>
        </p:nvPicPr>
        <p:blipFill>
          <a:blip r:embed="rId2"/>
          <a:stretch/>
        </p:blipFill>
        <p:spPr>
          <a:xfrm>
            <a:off x="571680" y="392904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Цифры и факты - 1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79743"/>
          <p:cNvPicPr/>
          <p:nvPr/>
        </p:nvPicPr>
        <p:blipFill>
          <a:blip r:embed="rId2"/>
          <a:stretch/>
        </p:blipFill>
        <p:spPr>
          <a:xfrm>
            <a:off x="642960" y="4071960"/>
            <a:ext cx="1962000" cy="236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28400" y="1356840"/>
            <a:ext cx="87152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жителей проживает в деревне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9289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имерно 2000 челов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79743"/>
          <p:cNvPicPr/>
          <p:nvPr/>
        </p:nvPicPr>
        <p:blipFill>
          <a:blip r:embed="rId2"/>
          <a:stretch/>
        </p:blipFill>
        <p:spPr>
          <a:xfrm>
            <a:off x="785880" y="928800"/>
            <a:ext cx="17859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F:\My_new_fon_3\54a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2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57176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ие годы в Рикасихе были построены 5-ти этажные дома, Дом Культуры, школа, магази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50 – 60-е;    60 – 70-е;   70 – 80-е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79743"/>
          <p:cNvPicPr/>
          <p:nvPr/>
        </p:nvPicPr>
        <p:blipFill>
          <a:blip r:embed="rId2"/>
          <a:stretch/>
        </p:blipFill>
        <p:spPr>
          <a:xfrm>
            <a:off x="928800" y="4572000"/>
            <a:ext cx="17510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:\My_new_fon_3\55a.jpg"/>
          <p:cNvPicPr/>
          <p:nvPr/>
        </p:nvPicPr>
        <p:blipFill>
          <a:blip r:embed="rId1"/>
          <a:stretch/>
        </p:blipFill>
        <p:spPr>
          <a:xfrm>
            <a:off x="-304920" y="-200160"/>
            <a:ext cx="9753840" cy="725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8964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Есть места, где ничто не меня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Тот же воздух и те же пру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 глади их строгий лес отраж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 сиянье далёк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Места родные, здесь я и поны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рачую душу щедростью л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Какое счастье, что места род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Дарованы нам жизнью и судьбо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(Т. В. Москви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76720" y="522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70 – 80-е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79743"/>
          <p:cNvPicPr/>
          <p:nvPr/>
        </p:nvPicPr>
        <p:blipFill>
          <a:blip r:embed="rId2"/>
          <a:stretch/>
        </p:blipFill>
        <p:spPr>
          <a:xfrm>
            <a:off x="642960" y="1000080"/>
            <a:ext cx="18572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Цифры и факты - 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120" y="1714680"/>
            <a:ext cx="83296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м веке в письменных источника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первые встречается название «Рикасих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5 в;       16 в;       17 в)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79743"/>
          <p:cNvPicPr/>
          <p:nvPr/>
        </p:nvPicPr>
        <p:blipFill>
          <a:blip r:embed="rId2"/>
          <a:stretch/>
        </p:blipFill>
        <p:spPr>
          <a:xfrm>
            <a:off x="571680" y="4429080"/>
            <a:ext cx="162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6 веке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79743"/>
          <p:cNvPicPr/>
          <p:nvPr/>
        </p:nvPicPr>
        <p:blipFill>
          <a:blip r:embed="rId2"/>
          <a:stretch/>
        </p:blipFill>
        <p:spPr>
          <a:xfrm>
            <a:off x="714240" y="785880"/>
            <a:ext cx="1617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4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568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Длина реки Л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(58 км;     110 км;     131 км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79743"/>
          <p:cNvPicPr/>
          <p:nvPr/>
        </p:nvPicPr>
        <p:blipFill>
          <a:blip r:embed="rId2"/>
          <a:stretch/>
        </p:blipFill>
        <p:spPr>
          <a:xfrm>
            <a:off x="214200" y="4189320"/>
            <a:ext cx="17067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31 км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9743"/>
          <p:cNvPicPr/>
          <p:nvPr/>
        </p:nvPicPr>
        <p:blipFill>
          <a:blip r:embed="rId2"/>
          <a:stretch/>
        </p:blipFill>
        <p:spPr>
          <a:xfrm>
            <a:off x="785880" y="1071720"/>
            <a:ext cx="164304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5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имён размещено на Обелиске в д.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5;      135;      14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79743"/>
          <p:cNvPicPr/>
          <p:nvPr/>
        </p:nvPicPr>
        <p:blipFill>
          <a:blip r:embed="rId2"/>
          <a:stretch/>
        </p:blipFill>
        <p:spPr>
          <a:xfrm>
            <a:off x="1214280" y="4714920"/>
            <a:ext cx="13813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9743"/>
          <p:cNvPicPr/>
          <p:nvPr/>
        </p:nvPicPr>
        <p:blipFill>
          <a:blip r:embed="rId2"/>
          <a:stretch/>
        </p:blipFill>
        <p:spPr>
          <a:xfrm>
            <a:off x="395280" y="549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458280" cy="7029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6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1785600"/>
            <a:ext cx="89298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ая фамилия чаще всего упоминается на Обелиске в деревне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Широких; Кулаковы; Бармин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79743"/>
          <p:cNvPicPr/>
          <p:nvPr/>
        </p:nvPicPr>
        <p:blipFill>
          <a:blip r:embed="rId2"/>
          <a:stretch/>
        </p:blipFill>
        <p:spPr>
          <a:xfrm>
            <a:off x="571680" y="492912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785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армины – 13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Широких – 11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улаковы - 10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79743"/>
          <p:cNvPicPr/>
          <p:nvPr/>
        </p:nvPicPr>
        <p:blipFill>
          <a:blip r:embed="rId2"/>
          <a:stretch/>
        </p:blipFill>
        <p:spPr>
          <a:xfrm>
            <a:off x="928800" y="785880"/>
            <a:ext cx="1380960" cy="16668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2286000" y="135720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F:\My_new_fon_3\54a.jpg"/>
          <p:cNvPicPr/>
          <p:nvPr/>
        </p:nvPicPr>
        <p:blipFill>
          <a:blip r:embed="rId1"/>
          <a:stretch/>
        </p:blipFill>
        <p:spPr>
          <a:xfrm>
            <a:off x="-357120" y="-214200"/>
            <a:ext cx="9753480" cy="7248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- 10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71760"/>
            <a:ext cx="8483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е 1899 года в Лайском Доке началось строительство важного объекта, который строился почти 8 лет. Что было построе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:\My_new_fon_3\55a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257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i="1" lang="en-US" sz="6500" spc="-1" strike="noStrike">
                <a:solidFill>
                  <a:srgbClr val="254061"/>
                </a:solidFill>
                <a:latin typeface="Monotype Corsiva"/>
              </a:rPr>
              <a:t>Правила игры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56840"/>
            <a:ext cx="8362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Участники выбирают категорию и стоимость 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Команды по очереди отвечают на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Победителем становится команда, набравшая наибольшее количество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Судоремонтный зав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наменательные события -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500040" y="21510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857160" y="797040"/>
            <a:ext cx="60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85840" y="1536840"/>
            <a:ext cx="864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какому юбилею Побе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9 мая 2005 г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икасихе рядом с Обелиском  установлена мемориальная пли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 60 – летию Побе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57120" y="-214200"/>
            <a:ext cx="9753480" cy="72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Знаменательные события - 30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21164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599840"/>
            <a:ext cx="89298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аком году состоялось открытие нового 3-х этажного здания детского сада «Солнышко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975;    1982;   198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августе 1987 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 - 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57140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какому юбилею Победы был установлен Обелиск в Рикасих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 30; 40; 50 – лети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773000"/>
            <a:ext cx="85010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 40–летию Победы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(9 мая 1985 год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 - 5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1341360"/>
            <a:ext cx="8929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1 февраля в Рикасихе состоялось открытие нового Дома Культуры. В каком году это произош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 1971;          1975;          198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35600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981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Знаменательные события - 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600200"/>
            <a:ext cx="87152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м году центр Приморского района из Кегострова перевели в деревню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 1930;      1931;          193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79280" y="2205000"/>
          <a:ext cx="8820360" cy="44672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081080"/>
                <a:gridCol w="1008000"/>
                <a:gridCol w="1079640"/>
                <a:gridCol w="1008000"/>
                <a:gridCol w="97164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наменательные </a:t>
                      </a: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ша шк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то интерес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ирода нашего к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AutoShape 57"/>
          <p:cNvSpPr/>
          <p:nvPr/>
        </p:nvSpPr>
        <p:spPr>
          <a:xfrm>
            <a:off x="500076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8"/>
          <p:cNvSpPr/>
          <p:nvPr/>
        </p:nvSpPr>
        <p:spPr>
          <a:xfrm>
            <a:off x="600084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9"/>
          <p:cNvSpPr/>
          <p:nvPr/>
        </p:nvSpPr>
        <p:spPr>
          <a:xfrm>
            <a:off x="7093080" y="227664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0"/>
          <p:cNvSpPr/>
          <p:nvPr/>
        </p:nvSpPr>
        <p:spPr>
          <a:xfrm>
            <a:off x="8101080" y="2276640"/>
            <a:ext cx="861840" cy="93492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431">
                <a:moveTo>
                  <a:pt x="0" y="0"/>
                </a:moveTo>
                <a:lnTo>
                  <a:pt x="21600" y="0"/>
                </a:lnTo>
                <a:lnTo>
                  <a:pt x="21600" y="23431"/>
                </a:lnTo>
                <a:lnTo>
                  <a:pt x="0" y="23431"/>
                </a:lnTo>
                <a:close/>
              </a:path>
              <a:path fill="lightenLess" w="21600" h="234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1">
                <a:moveTo>
                  <a:pt x="21600" y="0"/>
                </a:moveTo>
                <a:lnTo>
                  <a:pt x="21600" y="23431"/>
                </a:lnTo>
                <a:lnTo>
                  <a:pt x="20200" y="22031"/>
                </a:lnTo>
                <a:lnTo>
                  <a:pt x="20200" y="1400"/>
                </a:lnTo>
                <a:close/>
              </a:path>
              <a:path fill="darkenLess" w="21600" h="23431">
                <a:moveTo>
                  <a:pt x="21600" y="23431"/>
                </a:moveTo>
                <a:lnTo>
                  <a:pt x="0" y="23431"/>
                </a:lnTo>
                <a:lnTo>
                  <a:pt x="1400" y="22031"/>
                </a:lnTo>
                <a:lnTo>
                  <a:pt x="20200" y="22031"/>
                </a:lnTo>
                <a:close/>
              </a:path>
              <a:path fill="lighten" w="21600" h="23431">
                <a:moveTo>
                  <a:pt x="0" y="234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4"/>
          <p:cNvSpPr/>
          <p:nvPr/>
        </p:nvSpPr>
        <p:spPr>
          <a:xfrm>
            <a:off x="392904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1"/>
          <p:cNvSpPr/>
          <p:nvPr/>
        </p:nvSpPr>
        <p:spPr>
          <a:xfrm>
            <a:off x="3929040" y="3357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2"/>
          <p:cNvSpPr/>
          <p:nvPr/>
        </p:nvSpPr>
        <p:spPr>
          <a:xfrm>
            <a:off x="5003640" y="3357720"/>
            <a:ext cx="935280" cy="100800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79">
                <a:moveTo>
                  <a:pt x="0" y="0"/>
                </a:moveTo>
                <a:lnTo>
                  <a:pt x="21600" y="0"/>
                </a:lnTo>
                <a:lnTo>
                  <a:pt x="21600" y="23279"/>
                </a:lnTo>
                <a:lnTo>
                  <a:pt x="0" y="23279"/>
                </a:lnTo>
                <a:close/>
              </a:path>
              <a:path fill="lightenLess" w="21600" h="23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9">
                <a:moveTo>
                  <a:pt x="21600" y="0"/>
                </a:moveTo>
                <a:lnTo>
                  <a:pt x="21600" y="23279"/>
                </a:lnTo>
                <a:lnTo>
                  <a:pt x="20200" y="21879"/>
                </a:lnTo>
                <a:lnTo>
                  <a:pt x="20200" y="1400"/>
                </a:lnTo>
                <a:close/>
              </a:path>
              <a:path fill="darkenLess" w="21600" h="23279">
                <a:moveTo>
                  <a:pt x="21600" y="23279"/>
                </a:moveTo>
                <a:lnTo>
                  <a:pt x="0" y="23279"/>
                </a:lnTo>
                <a:lnTo>
                  <a:pt x="1400" y="21879"/>
                </a:lnTo>
                <a:lnTo>
                  <a:pt x="20200" y="21879"/>
                </a:lnTo>
                <a:close/>
              </a:path>
              <a:path fill="lighten" w="21600" h="23279">
                <a:moveTo>
                  <a:pt x="0" y="23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3"/>
          <p:cNvSpPr/>
          <p:nvPr/>
        </p:nvSpPr>
        <p:spPr>
          <a:xfrm>
            <a:off x="6012000" y="3357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4"/>
          <p:cNvSpPr/>
          <p:nvPr/>
        </p:nvSpPr>
        <p:spPr>
          <a:xfrm>
            <a:off x="7072200" y="3357720"/>
            <a:ext cx="862200" cy="1008000"/>
          </a:xfrm>
          <a:custGeom>
            <a:avLst/>
            <a:gdLst>
              <a:gd name="textAreaLeft" fmla="*/ 55800 w 862200"/>
              <a:gd name="textAreaRight" fmla="*/ 806400 w 86220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51">
                <a:moveTo>
                  <a:pt x="0" y="0"/>
                </a:moveTo>
                <a:lnTo>
                  <a:pt x="21600" y="0"/>
                </a:lnTo>
                <a:lnTo>
                  <a:pt x="21600" y="25251"/>
                </a:lnTo>
                <a:lnTo>
                  <a:pt x="0" y="25251"/>
                </a:lnTo>
                <a:close/>
              </a:path>
              <a:path fill="lightenLess" w="21600" h="25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1">
                <a:moveTo>
                  <a:pt x="21600" y="0"/>
                </a:moveTo>
                <a:lnTo>
                  <a:pt x="21600" y="25251"/>
                </a:lnTo>
                <a:lnTo>
                  <a:pt x="20200" y="23851"/>
                </a:lnTo>
                <a:lnTo>
                  <a:pt x="20200" y="1400"/>
                </a:lnTo>
                <a:close/>
              </a:path>
              <a:path fill="darkenLess" w="21600" h="25251">
                <a:moveTo>
                  <a:pt x="21600" y="25251"/>
                </a:moveTo>
                <a:lnTo>
                  <a:pt x="0" y="25251"/>
                </a:lnTo>
                <a:lnTo>
                  <a:pt x="1400" y="23851"/>
                </a:lnTo>
                <a:lnTo>
                  <a:pt x="20200" y="23851"/>
                </a:lnTo>
                <a:close/>
              </a:path>
              <a:path fill="lighten" w="21600" h="25251">
                <a:moveTo>
                  <a:pt x="0" y="25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5"/>
          <p:cNvSpPr/>
          <p:nvPr/>
        </p:nvSpPr>
        <p:spPr>
          <a:xfrm>
            <a:off x="8101080" y="3357720"/>
            <a:ext cx="861840" cy="100800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6"/>
          <p:cNvSpPr/>
          <p:nvPr/>
        </p:nvSpPr>
        <p:spPr>
          <a:xfrm>
            <a:off x="6000840" y="557208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7"/>
          <p:cNvSpPr/>
          <p:nvPr/>
        </p:nvSpPr>
        <p:spPr>
          <a:xfrm>
            <a:off x="601200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8"/>
          <p:cNvSpPr/>
          <p:nvPr/>
        </p:nvSpPr>
        <p:spPr>
          <a:xfrm>
            <a:off x="7093080" y="4508640"/>
            <a:ext cx="861840" cy="100944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9440"/>
              <a:gd name="textAreaBottom" fmla="*/ 953640 h 1009440"/>
            </a:gdLst>
            <a:ahLst/>
            <a:rect l="textAreaLeft" t="textAreaTop" r="textAreaRight" b="textAreaBottom"/>
            <a:pathLst>
              <a:path w="21600" h="25298">
                <a:moveTo>
                  <a:pt x="0" y="0"/>
                </a:moveTo>
                <a:lnTo>
                  <a:pt x="21600" y="0"/>
                </a:lnTo>
                <a:lnTo>
                  <a:pt x="21600" y="25298"/>
                </a:lnTo>
                <a:lnTo>
                  <a:pt x="0" y="25298"/>
                </a:lnTo>
                <a:close/>
              </a:path>
              <a:path fill="lightenLess" w="21600" h="25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8">
                <a:moveTo>
                  <a:pt x="21600" y="0"/>
                </a:moveTo>
                <a:lnTo>
                  <a:pt x="21600" y="25298"/>
                </a:lnTo>
                <a:lnTo>
                  <a:pt x="20200" y="23898"/>
                </a:lnTo>
                <a:lnTo>
                  <a:pt x="20200" y="1400"/>
                </a:lnTo>
                <a:close/>
              </a:path>
              <a:path fill="darkenLess" w="21600" h="25298">
                <a:moveTo>
                  <a:pt x="21600" y="25298"/>
                </a:moveTo>
                <a:lnTo>
                  <a:pt x="0" y="25298"/>
                </a:lnTo>
                <a:lnTo>
                  <a:pt x="1400" y="23898"/>
                </a:lnTo>
                <a:lnTo>
                  <a:pt x="20200" y="23898"/>
                </a:lnTo>
                <a:close/>
              </a:path>
              <a:path fill="lighten" w="21600" h="25298">
                <a:moveTo>
                  <a:pt x="0" y="25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9"/>
          <p:cNvSpPr/>
          <p:nvPr/>
        </p:nvSpPr>
        <p:spPr>
          <a:xfrm>
            <a:off x="702000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0"/>
          <p:cNvSpPr/>
          <p:nvPr/>
        </p:nvSpPr>
        <p:spPr>
          <a:xfrm>
            <a:off x="8028000" y="566100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1"/>
          <p:cNvSpPr/>
          <p:nvPr/>
        </p:nvSpPr>
        <p:spPr>
          <a:xfrm>
            <a:off x="8101080" y="4508640"/>
            <a:ext cx="861840" cy="100944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9440"/>
              <a:gd name="textAreaBottom" fmla="*/ 953640 h 1009440"/>
            </a:gdLst>
            <a:ahLst/>
            <a:rect l="textAreaLeft" t="textAreaTop" r="textAreaRight" b="textAreaBottom"/>
            <a:pathLst>
              <a:path w="21600" h="25298">
                <a:moveTo>
                  <a:pt x="0" y="0"/>
                </a:moveTo>
                <a:lnTo>
                  <a:pt x="21600" y="0"/>
                </a:lnTo>
                <a:lnTo>
                  <a:pt x="21600" y="25298"/>
                </a:lnTo>
                <a:lnTo>
                  <a:pt x="0" y="25298"/>
                </a:lnTo>
                <a:close/>
              </a:path>
              <a:path fill="lightenLess" w="21600" h="25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8">
                <a:moveTo>
                  <a:pt x="21600" y="0"/>
                </a:moveTo>
                <a:lnTo>
                  <a:pt x="21600" y="25298"/>
                </a:lnTo>
                <a:lnTo>
                  <a:pt x="20200" y="23898"/>
                </a:lnTo>
                <a:lnTo>
                  <a:pt x="20200" y="1400"/>
                </a:lnTo>
                <a:close/>
              </a:path>
              <a:path fill="darkenLess" w="21600" h="25298">
                <a:moveTo>
                  <a:pt x="21600" y="25298"/>
                </a:moveTo>
                <a:lnTo>
                  <a:pt x="0" y="25298"/>
                </a:lnTo>
                <a:lnTo>
                  <a:pt x="1400" y="23898"/>
                </a:lnTo>
                <a:lnTo>
                  <a:pt x="20200" y="23898"/>
                </a:lnTo>
                <a:close/>
              </a:path>
              <a:path fill="lighten" w="21600" h="25298">
                <a:moveTo>
                  <a:pt x="0" y="25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7"/>
          <p:cNvSpPr/>
          <p:nvPr/>
        </p:nvSpPr>
        <p:spPr>
          <a:xfrm>
            <a:off x="2857680" y="3286080"/>
            <a:ext cx="934920" cy="1079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42">
                <a:moveTo>
                  <a:pt x="0" y="0"/>
                </a:moveTo>
                <a:lnTo>
                  <a:pt x="21600" y="0"/>
                </a:lnTo>
                <a:lnTo>
                  <a:pt x="21600" y="24942"/>
                </a:lnTo>
                <a:lnTo>
                  <a:pt x="0" y="24942"/>
                </a:lnTo>
                <a:close/>
              </a:path>
              <a:path fill="lightenLess" w="21600" h="24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42">
                <a:moveTo>
                  <a:pt x="21600" y="0"/>
                </a:moveTo>
                <a:lnTo>
                  <a:pt x="21600" y="24942"/>
                </a:lnTo>
                <a:lnTo>
                  <a:pt x="20200" y="23542"/>
                </a:lnTo>
                <a:lnTo>
                  <a:pt x="20200" y="1400"/>
                </a:lnTo>
                <a:close/>
              </a:path>
              <a:path fill="darkenLess" w="21600" h="24942">
                <a:moveTo>
                  <a:pt x="21600" y="24942"/>
                </a:moveTo>
                <a:lnTo>
                  <a:pt x="0" y="24942"/>
                </a:lnTo>
                <a:lnTo>
                  <a:pt x="1400" y="23542"/>
                </a:lnTo>
                <a:lnTo>
                  <a:pt x="20200" y="23542"/>
                </a:lnTo>
                <a:close/>
              </a:path>
              <a:path fill="lighten" w="21600" h="24942">
                <a:moveTo>
                  <a:pt x="0" y="24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4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8"/>
          <p:cNvSpPr/>
          <p:nvPr/>
        </p:nvSpPr>
        <p:spPr>
          <a:xfrm>
            <a:off x="284328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9"/>
          <p:cNvSpPr/>
          <p:nvPr/>
        </p:nvSpPr>
        <p:spPr>
          <a:xfrm>
            <a:off x="284328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0"/>
          <p:cNvSpPr/>
          <p:nvPr/>
        </p:nvSpPr>
        <p:spPr>
          <a:xfrm>
            <a:off x="392436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1"/>
          <p:cNvSpPr/>
          <p:nvPr/>
        </p:nvSpPr>
        <p:spPr>
          <a:xfrm>
            <a:off x="392436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2"/>
          <p:cNvSpPr/>
          <p:nvPr/>
        </p:nvSpPr>
        <p:spPr>
          <a:xfrm>
            <a:off x="493236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3"/>
          <p:cNvSpPr/>
          <p:nvPr/>
        </p:nvSpPr>
        <p:spPr>
          <a:xfrm>
            <a:off x="493236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89000"/>
          <a:ext cx="8785440" cy="93636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081080"/>
                <a:gridCol w="1008000"/>
                <a:gridCol w="1079640"/>
                <a:gridCol w="1008000"/>
                <a:gridCol w="93672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опони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129"/>
          <p:cNvSpPr/>
          <p:nvPr/>
        </p:nvSpPr>
        <p:spPr>
          <a:xfrm>
            <a:off x="392436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0"/>
          <p:cNvSpPr/>
          <p:nvPr/>
        </p:nvSpPr>
        <p:spPr>
          <a:xfrm>
            <a:off x="493236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6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1"/>
          <p:cNvSpPr/>
          <p:nvPr/>
        </p:nvSpPr>
        <p:spPr>
          <a:xfrm>
            <a:off x="6012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2"/>
          <p:cNvSpPr/>
          <p:nvPr/>
        </p:nvSpPr>
        <p:spPr>
          <a:xfrm>
            <a:off x="7020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3"/>
          <p:cNvSpPr/>
          <p:nvPr/>
        </p:nvSpPr>
        <p:spPr>
          <a:xfrm>
            <a:off x="8028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5"/>
          <p:cNvSpPr/>
          <p:nvPr/>
        </p:nvSpPr>
        <p:spPr>
          <a:xfrm>
            <a:off x="2843280" y="227664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8"/>
          <p:cNvSpPr/>
          <p:nvPr/>
        </p:nvSpPr>
        <p:spPr>
          <a:xfrm>
            <a:off x="2843280" y="189000"/>
            <a:ext cx="861840" cy="93636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936360"/>
              <a:gd name="textAreaBottom" fmla="*/ 880560 h 936360"/>
            </a:gdLst>
            <a:ahLst/>
            <a:rect l="textAreaLeft" t="textAreaTop" r="textAreaRight" b="textAreaBottom"/>
            <a:pathLst>
              <a:path w="21600" h="23467">
                <a:moveTo>
                  <a:pt x="0" y="0"/>
                </a:moveTo>
                <a:lnTo>
                  <a:pt x="21600" y="0"/>
                </a:lnTo>
                <a:lnTo>
                  <a:pt x="21600" y="23467"/>
                </a:lnTo>
                <a:lnTo>
                  <a:pt x="0" y="23467"/>
                </a:lnTo>
                <a:close/>
              </a:path>
              <a:path fill="lightenLess" w="21600" h="234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7">
                <a:moveTo>
                  <a:pt x="21600" y="0"/>
                </a:moveTo>
                <a:lnTo>
                  <a:pt x="21600" y="23467"/>
                </a:lnTo>
                <a:lnTo>
                  <a:pt x="20200" y="22067"/>
                </a:lnTo>
                <a:lnTo>
                  <a:pt x="20200" y="1400"/>
                </a:lnTo>
                <a:close/>
              </a:path>
              <a:path fill="darkenLess" w="21600" h="23467">
                <a:moveTo>
                  <a:pt x="21600" y="23467"/>
                </a:moveTo>
                <a:lnTo>
                  <a:pt x="0" y="23467"/>
                </a:lnTo>
                <a:lnTo>
                  <a:pt x="1400" y="22067"/>
                </a:lnTo>
                <a:lnTo>
                  <a:pt x="20200" y="22067"/>
                </a:lnTo>
                <a:close/>
              </a:path>
              <a:path fill="lighten" w="21600" h="23467">
                <a:moveTo>
                  <a:pt x="0" y="234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7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197000"/>
          <a:ext cx="8785440" cy="944640"/>
        </p:xfrm>
        <a:graphic>
          <a:graphicData uri="http://schemas.openxmlformats.org/drawingml/2006/table">
            <a:tbl>
              <a:tblPr/>
              <a:tblGrid>
                <a:gridCol w="2592360"/>
                <a:gridCol w="1008360"/>
                <a:gridCol w="1152360"/>
                <a:gridCol w="1008000"/>
                <a:gridCol w="1008000"/>
                <a:gridCol w="1008360"/>
                <a:gridCol w="100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ифры и фа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176"/>
          <p:cNvSpPr/>
          <p:nvPr/>
        </p:nvSpPr>
        <p:spPr>
          <a:xfrm>
            <a:off x="2843280" y="1197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7"/>
          <p:cNvSpPr/>
          <p:nvPr/>
        </p:nvSpPr>
        <p:spPr>
          <a:xfrm>
            <a:off x="3924360" y="1268280"/>
            <a:ext cx="934920" cy="7923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84" h="21600">
                <a:moveTo>
                  <a:pt x="0" y="0"/>
                </a:moveTo>
                <a:lnTo>
                  <a:pt x="25484" y="0"/>
                </a:lnTo>
                <a:lnTo>
                  <a:pt x="25484" y="21600"/>
                </a:lnTo>
                <a:lnTo>
                  <a:pt x="0" y="21600"/>
                </a:lnTo>
                <a:close/>
              </a:path>
              <a:path fill="lightenLess" w="25484" h="21600">
                <a:moveTo>
                  <a:pt x="0" y="0"/>
                </a:moveTo>
                <a:lnTo>
                  <a:pt x="25484" y="0"/>
                </a:lnTo>
                <a:lnTo>
                  <a:pt x="24085" y="1400"/>
                </a:lnTo>
                <a:lnTo>
                  <a:pt x="1400" y="1400"/>
                </a:lnTo>
                <a:close/>
              </a:path>
              <a:path fill="darken" w="25484" h="21600">
                <a:moveTo>
                  <a:pt x="25484" y="0"/>
                </a:moveTo>
                <a:lnTo>
                  <a:pt x="25484" y="21600"/>
                </a:lnTo>
                <a:lnTo>
                  <a:pt x="24085" y="20200"/>
                </a:lnTo>
                <a:lnTo>
                  <a:pt x="24085" y="1400"/>
                </a:lnTo>
                <a:close/>
              </a:path>
              <a:path fill="darkenLess" w="25484" h="21600">
                <a:moveTo>
                  <a:pt x="25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85" y="20200"/>
                </a:lnTo>
                <a:close/>
              </a:path>
              <a:path fill="lighten" w="25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8"/>
          <p:cNvSpPr/>
          <p:nvPr/>
        </p:nvSpPr>
        <p:spPr>
          <a:xfrm>
            <a:off x="5003640" y="1268280"/>
            <a:ext cx="935280" cy="792360"/>
          </a:xfrm>
          <a:custGeom>
            <a:avLst/>
            <a:gdLst>
              <a:gd name="textAreaLeft" fmla="*/ 51120 w 935280"/>
              <a:gd name="textAreaRight" fmla="*/ 884160 w 935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94" h="21600">
                <a:moveTo>
                  <a:pt x="0" y="0"/>
                </a:moveTo>
                <a:lnTo>
                  <a:pt x="25494" y="0"/>
                </a:lnTo>
                <a:lnTo>
                  <a:pt x="25494" y="21600"/>
                </a:lnTo>
                <a:lnTo>
                  <a:pt x="0" y="21600"/>
                </a:lnTo>
                <a:close/>
              </a:path>
              <a:path fill="lightenLess" w="25494" h="21600">
                <a:moveTo>
                  <a:pt x="0" y="0"/>
                </a:moveTo>
                <a:lnTo>
                  <a:pt x="25494" y="0"/>
                </a:lnTo>
                <a:lnTo>
                  <a:pt x="24094" y="1400"/>
                </a:lnTo>
                <a:lnTo>
                  <a:pt x="1400" y="1400"/>
                </a:lnTo>
                <a:close/>
              </a:path>
              <a:path fill="darken" w="25494" h="21600">
                <a:moveTo>
                  <a:pt x="25494" y="0"/>
                </a:moveTo>
                <a:lnTo>
                  <a:pt x="25494" y="21600"/>
                </a:lnTo>
                <a:lnTo>
                  <a:pt x="24094" y="20200"/>
                </a:lnTo>
                <a:lnTo>
                  <a:pt x="24094" y="1400"/>
                </a:lnTo>
                <a:close/>
              </a:path>
              <a:path fill="darkenLess" w="25494" h="21600">
                <a:moveTo>
                  <a:pt x="25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4" y="20200"/>
                </a:lnTo>
                <a:close/>
              </a:path>
              <a:path fill="lighten" w="25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9"/>
          <p:cNvSpPr/>
          <p:nvPr/>
        </p:nvSpPr>
        <p:spPr>
          <a:xfrm>
            <a:off x="6000840" y="1285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0"/>
          <p:cNvSpPr/>
          <p:nvPr/>
        </p:nvSpPr>
        <p:spPr>
          <a:xfrm>
            <a:off x="7072200" y="121428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1"/>
          <p:cNvSpPr/>
          <p:nvPr/>
        </p:nvSpPr>
        <p:spPr>
          <a:xfrm>
            <a:off x="8028000" y="1197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марта 1932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- 10</a:t>
            </a:r>
            <a:br>
              <a:rPr sz="5400"/>
            </a:br>
            <a:br>
              <a:rPr sz="4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071960" y="600084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emblema"/>
          <p:cNvPicPr/>
          <p:nvPr/>
        </p:nvPicPr>
        <p:blipFill>
          <a:blip r:embed="rId2"/>
          <a:stretch/>
        </p:blipFill>
        <p:spPr>
          <a:xfrm>
            <a:off x="7572240" y="500040"/>
            <a:ext cx="1571760" cy="16495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357120" y="4408560"/>
            <a:ext cx="3357720" cy="2449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85480" y="1355760"/>
            <a:ext cx="7643880" cy="30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Рикасихинская школа 1-й ступени – трёхлетка. Северный край, Приморский район, Рикасихинский с/с, д. Рикасиха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какого года существует школа (как данный тип), если 1 сентября 2012 года ей испол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о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80 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1932 го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emblema"/>
          <p:cNvPicPr/>
          <p:nvPr/>
        </p:nvPicPr>
        <p:blipFill>
          <a:blip r:embed="rId2"/>
          <a:stretch/>
        </p:blipFill>
        <p:spPr>
          <a:xfrm>
            <a:off x="6643800" y="714240"/>
            <a:ext cx="1974600" cy="20718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714240" y="3500280"/>
            <a:ext cx="4000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20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150012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 каком году наша школа получила статус - Приморская средняя школ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214880" y="5715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emblema"/>
          <p:cNvPicPr/>
          <p:nvPr/>
        </p:nvPicPr>
        <p:blipFill>
          <a:blip r:embed="rId2"/>
          <a:stretch/>
        </p:blipFill>
        <p:spPr>
          <a:xfrm>
            <a:off x="214200" y="357120"/>
            <a:ext cx="1714680" cy="17985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786120"/>
            <a:ext cx="344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975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emblema"/>
          <p:cNvPicPr/>
          <p:nvPr/>
        </p:nvPicPr>
        <p:blipFill>
          <a:blip r:embed="rId2"/>
          <a:stretch/>
        </p:blipFill>
        <p:spPr>
          <a:xfrm>
            <a:off x="6715080" y="500040"/>
            <a:ext cx="2178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642960" y="3786120"/>
            <a:ext cx="33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F:\My_new_fon_3\54a.jpg"/>
          <p:cNvPicPr/>
          <p:nvPr/>
        </p:nvPicPr>
        <p:blipFill>
          <a:blip r:embed="rId1"/>
          <a:stretch/>
        </p:blipFill>
        <p:spPr>
          <a:xfrm>
            <a:off x="-285840" y="-142920"/>
            <a:ext cx="9753840" cy="7248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5640" y="1196640"/>
            <a:ext cx="671508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 декабря 2004 года  в школе состоялось открытие Памятной мемориальной доски. В честь какого героя состоялось это открыти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857760" y="59292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emblema"/>
          <p:cNvPicPr/>
          <p:nvPr/>
        </p:nvPicPr>
        <p:blipFill>
          <a:blip r:embed="rId2"/>
          <a:stretch/>
        </p:blipFill>
        <p:spPr>
          <a:xfrm>
            <a:off x="428760" y="1285920"/>
            <a:ext cx="2179440" cy="22860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428760" y="4214880"/>
            <a:ext cx="314316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785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честь Процуна Руслана Николаевич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mblema"/>
          <p:cNvPicPr/>
          <p:nvPr/>
        </p:nvPicPr>
        <p:blipFill>
          <a:blip r:embed="rId2"/>
          <a:stretch/>
        </p:blipFill>
        <p:spPr>
          <a:xfrm>
            <a:off x="7215120" y="571680"/>
            <a:ext cx="1332000" cy="1398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857760"/>
            <a:ext cx="3500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840" y="1214280"/>
            <a:ext cx="8858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каком году наша школа стала победителем конкурса общеобразовательных учреждений и получила грант в размере 1 млн. рублей на развитие образовательного процесса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2005;        2007;        2010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929040" y="564372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emblema"/>
          <p:cNvPicPr/>
          <p:nvPr/>
        </p:nvPicPr>
        <p:blipFill>
          <a:blip r:embed="rId2"/>
          <a:stretch/>
        </p:blipFill>
        <p:spPr>
          <a:xfrm>
            <a:off x="7628040" y="500040"/>
            <a:ext cx="1447560" cy="15192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285840" y="4214880"/>
            <a:ext cx="31431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2007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emblema"/>
          <p:cNvPicPr/>
          <p:nvPr/>
        </p:nvPicPr>
        <p:blipFill>
          <a:blip r:embed="rId2"/>
          <a:stretch/>
        </p:blipFill>
        <p:spPr>
          <a:xfrm>
            <a:off x="6715080" y="500040"/>
            <a:ext cx="1784520" cy="18716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857160" y="3357720"/>
            <a:ext cx="4154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929040" y="578628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emblema"/>
          <p:cNvPicPr/>
          <p:nvPr/>
        </p:nvPicPr>
        <p:blipFill>
          <a:blip r:embed="rId2"/>
          <a:stretch/>
        </p:blipFill>
        <p:spPr>
          <a:xfrm>
            <a:off x="714240" y="857160"/>
            <a:ext cx="1770120" cy="185760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857760"/>
            <a:ext cx="3270240" cy="242892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6"/>
          <p:cNvSpPr/>
          <p:nvPr/>
        </p:nvSpPr>
        <p:spPr>
          <a:xfrm>
            <a:off x="2214720" y="1428840"/>
            <a:ext cx="69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то из ныне работающих учителей является выпускниками нашей шко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1071720"/>
            <a:ext cx="89298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ются деревни Приморского района, которые находятся ближе всех к Рикасих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расположены на одном берегу Северной Дв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PD1"/>
          <p:cNvPicPr/>
          <p:nvPr/>
        </p:nvPicPr>
        <p:blipFill>
          <a:blip r:embed="rId2"/>
          <a:stretch/>
        </p:blipFill>
        <p:spPr>
          <a:xfrm>
            <a:off x="500040" y="4357800"/>
            <a:ext cx="197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emblema"/>
          <p:cNvPicPr/>
          <p:nvPr/>
        </p:nvPicPr>
        <p:blipFill>
          <a:blip r:embed="rId2"/>
          <a:stretch/>
        </p:blipFill>
        <p:spPr>
          <a:xfrm>
            <a:off x="6786720" y="3357720"/>
            <a:ext cx="19414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428760" y="3500280"/>
            <a:ext cx="4224240" cy="3071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9680"/>
            <a:ext cx="8607600" cy="25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ухина (Широких) Ольга Владимиров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ьникова (Батурина) Елена Клавдиевна,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еева (Неклюдова) Елена Михайловна,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Щербань (Кузнецова) Елена Васильев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рлов Сергей Леонид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143240" y="585792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emblema"/>
          <p:cNvPicPr/>
          <p:nvPr/>
        </p:nvPicPr>
        <p:blipFill>
          <a:blip r:embed="rId2"/>
          <a:stretch/>
        </p:blipFill>
        <p:spPr>
          <a:xfrm>
            <a:off x="851040" y="1071720"/>
            <a:ext cx="2220840" cy="2330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71680" y="3929040"/>
            <a:ext cx="3357360" cy="2536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6"/>
          <p:cNvSpPr/>
          <p:nvPr/>
        </p:nvSpPr>
        <p:spPr>
          <a:xfrm>
            <a:off x="2786040" y="1285920"/>
            <a:ext cx="5929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олько выпускников закончили нашу школу с золотой медаль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emblema"/>
          <p:cNvPicPr/>
          <p:nvPr/>
        </p:nvPicPr>
        <p:blipFill>
          <a:blip r:embed="rId2"/>
          <a:stretch/>
        </p:blipFill>
        <p:spPr>
          <a:xfrm>
            <a:off x="0" y="571680"/>
            <a:ext cx="2316240" cy="24285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142920" y="4357800"/>
            <a:ext cx="3143160" cy="22701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14800" y="419400"/>
            <a:ext cx="5929200" cy="447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Родионова Ирина (1994г.),        2.Рекина Татьяна (2000г.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Климантова Марина (2000г.),   4.Волкова Анна (2004г.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Подомарев Владимир (2005г.), 6.Первухин Геннадий (2006г.),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7.Базыкина Евгения (2007г.).       8.Неманов Артем (2009г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1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143000" y="15368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ие населённые пункты расположены на реке Л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4143240"/>
            <a:ext cx="2554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400" y="1856880"/>
            <a:ext cx="70722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9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ая, Чужгоры, Лайский Д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0_19f0c_eb86b773_L"/>
          <p:cNvPicPr/>
          <p:nvPr/>
        </p:nvPicPr>
        <p:blipFill>
          <a:blip r:embed="rId2"/>
          <a:stretch/>
        </p:blipFill>
        <p:spPr>
          <a:xfrm>
            <a:off x="571680" y="4200480"/>
            <a:ext cx="2571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2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2560" y="1571760"/>
            <a:ext cx="9001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каком берегу Северной Двины находится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0_19f0c_eb86b773_L"/>
          <p:cNvPicPr/>
          <p:nvPr/>
        </p:nvPicPr>
        <p:blipFill>
          <a:blip r:embed="rId2"/>
          <a:stretch/>
        </p:blipFill>
        <p:spPr>
          <a:xfrm>
            <a:off x="785880" y="4071960"/>
            <a:ext cx="2820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21430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На левом берег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0_19f0c_eb86b773_L"/>
          <p:cNvPicPr/>
          <p:nvPr/>
        </p:nvPicPr>
        <p:blipFill>
          <a:blip r:embed="rId2"/>
          <a:stretch/>
        </p:blipFill>
        <p:spPr>
          <a:xfrm>
            <a:off x="857160" y="4229280"/>
            <a:ext cx="27147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3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14240" y="1143000"/>
            <a:ext cx="77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старинная фамилия жителей деревни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ушевы,  Давыдовы,  Орлов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0_19f0c_eb86b773_L"/>
          <p:cNvPicPr/>
          <p:nvPr/>
        </p:nvPicPr>
        <p:blipFill>
          <a:blip r:embed="rId2"/>
          <a:stretch/>
        </p:blipFill>
        <p:spPr>
          <a:xfrm>
            <a:off x="785880" y="392904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F:\My_new_fon_3\54a.jpg"/>
          <p:cNvPicPr/>
          <p:nvPr/>
        </p:nvPicPr>
        <p:blipFill>
          <a:blip r:embed="rId1"/>
          <a:stretch/>
        </p:blipFill>
        <p:spPr>
          <a:xfrm>
            <a:off x="0" y="-39060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785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ушев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0_19f0c_eb86b773_L"/>
          <p:cNvPicPr/>
          <p:nvPr/>
        </p:nvPicPr>
        <p:blipFill>
          <a:blip r:embed="rId2"/>
          <a:stretch/>
        </p:blipFill>
        <p:spPr>
          <a:xfrm>
            <a:off x="1285920" y="3971880"/>
            <a:ext cx="2500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4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211640" y="602136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0_19f0c_eb86b773_L"/>
          <p:cNvPicPr/>
          <p:nvPr/>
        </p:nvPicPr>
        <p:blipFill>
          <a:blip r:embed="rId2"/>
          <a:stretch/>
        </p:blipFill>
        <p:spPr>
          <a:xfrm>
            <a:off x="1571760" y="4572000"/>
            <a:ext cx="2214360" cy="17654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6"/>
          <p:cNvSpPr/>
          <p:nvPr/>
        </p:nvSpPr>
        <p:spPr>
          <a:xfrm>
            <a:off x="571680" y="1357200"/>
            <a:ext cx="82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ую дикую водоплавающую птицу называют «чирок»? Название деревень Птичья и Чиркановская могли произойти от названия этих пт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PD1"/>
          <p:cNvPicPr/>
          <p:nvPr/>
        </p:nvPicPr>
        <p:blipFill>
          <a:blip r:embed="rId2"/>
          <a:stretch/>
        </p:blipFill>
        <p:spPr>
          <a:xfrm>
            <a:off x="571680" y="4143240"/>
            <a:ext cx="2319120" cy="2516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360" y="1428840"/>
            <a:ext cx="71434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Шихириха,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Ут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3922560"/>
            <a:ext cx="2786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5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285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оторые названия в Рикасихе связаны с   числительными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й км, 5-й км, 7-й км, 12-й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каком км расположена ж/д станция, а на каком сельское кладбищ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4273560"/>
            <a:ext cx="2714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571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-й км;     12-й к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0_19f0c_eb86b773_L"/>
          <p:cNvPicPr/>
          <p:nvPr/>
        </p:nvPicPr>
        <p:blipFill>
          <a:blip r:embed="rId2"/>
          <a:stretch/>
        </p:blipFill>
        <p:spPr>
          <a:xfrm>
            <a:off x="1285920" y="398448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6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320" y="1213920"/>
            <a:ext cx="7786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овощ на севере в старину называли  «вторым хлебом»? Крестьяне на зиму укладывали его в кадку, но не валом валили, а  пересыпали слоем пес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211640" y="602136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0_19f0c_eb86b773_L"/>
          <p:cNvPicPr/>
          <p:nvPr/>
        </p:nvPicPr>
        <p:blipFill>
          <a:blip r:embed="rId2"/>
          <a:stretch/>
        </p:blipFill>
        <p:spPr>
          <a:xfrm>
            <a:off x="857160" y="4357800"/>
            <a:ext cx="2786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Реп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3813120"/>
            <a:ext cx="3071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F:\My_new_fon_3\54a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1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x_0e421403"/>
          <p:cNvPicPr/>
          <p:nvPr/>
        </p:nvPicPr>
        <p:blipFill>
          <a:blip r:embed="rId2"/>
          <a:stretch/>
        </p:blipFill>
        <p:spPr>
          <a:xfrm>
            <a:off x="357120" y="3929040"/>
            <a:ext cx="3714840" cy="27147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714240" y="1714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 какой природной зоне мы живё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тайг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3762360"/>
            <a:ext cx="378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2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08360" y="600084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4" descr="x_0e421403"/>
          <p:cNvPicPr/>
          <p:nvPr/>
        </p:nvPicPr>
        <p:blipFill>
          <a:blip r:embed="rId2"/>
          <a:stretch/>
        </p:blipFill>
        <p:spPr>
          <a:xfrm>
            <a:off x="642960" y="3714840"/>
            <a:ext cx="3643200" cy="28573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5"/>
          <p:cNvSpPr/>
          <p:nvPr/>
        </p:nvSpPr>
        <p:spPr>
          <a:xfrm>
            <a:off x="1071720" y="17146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й тип почв преобладает 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357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одзолист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400068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F:\My_new_fon_3\54a.jpg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30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4" descr="x_0e421403"/>
          <p:cNvPicPr/>
          <p:nvPr/>
        </p:nvPicPr>
        <p:blipFill>
          <a:blip r:embed="rId2"/>
          <a:stretch/>
        </p:blipFill>
        <p:spPr>
          <a:xfrm>
            <a:off x="428760" y="4071960"/>
            <a:ext cx="3357360" cy="264312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5"/>
          <p:cNvSpPr/>
          <p:nvPr/>
        </p:nvSpPr>
        <p:spPr>
          <a:xfrm>
            <a:off x="108000" y="1571760"/>
            <a:ext cx="90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й тип болот преобладает 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верховые, низинные, переходны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807264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ихирь – коротыш, малорослый человек. Шихан – (татар.) – холм, бугор, макушка, верхушка горы.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вание какого населённого пункта произошло от этих слов?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D1"/>
          <p:cNvPicPr/>
          <p:nvPr/>
        </p:nvPicPr>
        <p:blipFill>
          <a:blip r:embed="rId2"/>
          <a:stretch/>
        </p:blipFill>
        <p:spPr>
          <a:xfrm>
            <a:off x="500040" y="4379760"/>
            <a:ext cx="2284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428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ерховые бол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4" descr="x_0e421403"/>
          <p:cNvPicPr/>
          <p:nvPr/>
        </p:nvPicPr>
        <p:blipFill>
          <a:blip r:embed="rId2"/>
          <a:stretch/>
        </p:blipFill>
        <p:spPr>
          <a:xfrm>
            <a:off x="785880" y="3643200"/>
            <a:ext cx="3643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4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5" descr="x_0e421403"/>
          <p:cNvPicPr/>
          <p:nvPr/>
        </p:nvPicPr>
        <p:blipFill>
          <a:blip r:embed="rId2"/>
          <a:stretch/>
        </p:blipFill>
        <p:spPr>
          <a:xfrm>
            <a:off x="428760" y="3786120"/>
            <a:ext cx="3668400" cy="27147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6"/>
          <p:cNvSpPr/>
          <p:nvPr/>
        </p:nvSpPr>
        <p:spPr>
          <a:xfrm>
            <a:off x="285840" y="1643040"/>
            <a:ext cx="88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 каком климатическом поясе расположен наш кра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умеренном пояс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4" descr="x_0e421403"/>
          <p:cNvPicPr/>
          <p:nvPr/>
        </p:nvPicPr>
        <p:blipFill>
          <a:blip r:embed="rId2"/>
          <a:stretch/>
        </p:blipFill>
        <p:spPr>
          <a:xfrm>
            <a:off x="428760" y="3857760"/>
            <a:ext cx="3571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 50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4" descr="x_0e421403"/>
          <p:cNvPicPr/>
          <p:nvPr/>
        </p:nvPicPr>
        <p:blipFill>
          <a:blip r:embed="rId2"/>
          <a:stretch/>
        </p:blipFill>
        <p:spPr>
          <a:xfrm>
            <a:off x="214200" y="3571920"/>
            <a:ext cx="3857760" cy="30859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928800" y="142884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называется рукав Северной Двины, на берегу которого расположена Рикаси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Никольский рука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3643200"/>
            <a:ext cx="3643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4429080" y="59292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4" descr="x_0e421403"/>
          <p:cNvPicPr/>
          <p:nvPr/>
        </p:nvPicPr>
        <p:blipFill>
          <a:blip r:embed="rId2"/>
          <a:stretch/>
        </p:blipFill>
        <p:spPr>
          <a:xfrm>
            <a:off x="357120" y="3786120"/>
            <a:ext cx="38577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642960" y="21510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500040" y="1285920"/>
            <a:ext cx="77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 называется заказник, расположенный на территории нашего кр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айский заказни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4" descr="x_0e421403"/>
          <p:cNvPicPr/>
          <p:nvPr/>
        </p:nvPicPr>
        <p:blipFill>
          <a:blip r:embed="rId2"/>
          <a:stretch/>
        </p:blipFill>
        <p:spPr>
          <a:xfrm>
            <a:off x="64296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F:\My_new_fon_3\55a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179280" y="78588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у составил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Щербань Елена Васильев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Приморская СОШ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ы материалы работы по краеведению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атухиной Ольги Владимир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чителя истории, заведующей библиотек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Приморская СОШ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тябрь 201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Шихирих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D1"/>
          <p:cNvPicPr/>
          <p:nvPr/>
        </p:nvPicPr>
        <p:blipFill>
          <a:blip r:embed="rId2"/>
          <a:stretch/>
        </p:blipFill>
        <p:spPr>
          <a:xfrm>
            <a:off x="857160" y="4071960"/>
            <a:ext cx="23194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1930 году в д.Шихириха работала бондарная мастерская. Что изготавливали в этой мастерск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92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Топонимика - 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PD1"/>
          <p:cNvPicPr/>
          <p:nvPr/>
        </p:nvPicPr>
        <p:blipFill>
          <a:blip r:embed="rId2"/>
          <a:stretch/>
        </p:blipFill>
        <p:spPr>
          <a:xfrm>
            <a:off x="714240" y="4357800"/>
            <a:ext cx="20718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31:11Z</dcterms:created>
  <dc:creator>Русина</dc:creator>
  <dc:description/>
  <dc:language>en-US</dc:language>
  <cp:lastModifiedBy>elena</cp:lastModifiedBy>
  <dcterms:modified xsi:type="dcterms:W3CDTF">2013-05-13T08:06:22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30000000000010250300207f7000400038000</vt:lpwstr>
  </property>
</Properties>
</file>