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421-60B7-4475-BD89-F73FA6F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91C-60CB-4895-844F-63DC461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93E-4951-4578-B800-DE778AEF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BDA-5EE7-4830-9661-4F95FBC6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45BE-FFD7-4BA5-9C36-D25402CF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E19-BF80-4A98-8CBC-866E007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99D1-A28E-434F-B89A-71BE9ACF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42D-2E04-4483-9127-63D99086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E58D-3D20-400C-98E8-85426F6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77E7-0CC3-43E4-A201-2CC9EC5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116E-C788-41C7-B8C6-475F2F6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2AB-C762-406E-A1AB-FDF1948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512-8240-4C22-99B8-AC45AF3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C5B-91B3-42FF-A3A2-0A8A84A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2907-D138-4F97-9A38-8A5B1637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E3B-9D8C-4760-B552-23780F5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922B-A948-4348-BC7A-2AAAE50A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85B7-A81B-4B97-BAFF-3F68A3E1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9530-8C23-4C6A-8F15-F2825339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1934-5700-4AE1-8914-46EE0804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68E7-78DC-471E-B8F2-C1A607A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51A7-217A-4333-9643-4EDCBEB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0DC-3FBF-49F7-B6C1-557CF7DC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4191-B09E-4579-8F37-638CF911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9F35-A8C4-48F4-967D-74D8194E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0BE9-78D4-47A8-8442-9FCE782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6299-5AEA-4DB2-A024-09F76AD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4890-C50C-4FAD-9B46-79F01CE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FD6A9-D4B4-429E-8305-B6BD07DA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F135-83BE-4C7C-BD48-83E70B80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9F0B-37D1-46C2-9229-23C59C49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3104-33AA-437C-88DB-FEC9AFE1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B262-CCA3-4F1F-BE24-D83841C3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5DA-ADE2-4BB2-811A-881A9C13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0509-DE90-46A5-B6B8-D7E6496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A865-F289-495B-88A5-47068698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D5D3-D424-4D8B-A588-97F3A0B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2DE2-A89A-4603-8F7F-F68FA84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F594-E061-4907-9C1E-6D9AB24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DD32-E147-49EC-BC71-13A96E5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8222-FAD8-4A3F-9E85-5A7013D8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EAA6-51C7-40E6-80CA-209B900E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438B-C26E-4584-A3A1-532AEE44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03AD-AFD8-43CA-964D-FF28638C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20D-5CA7-4F93-B60D-1F080C1F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1484-6B11-4274-84B9-72B1AD7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3894-0615-4D78-BA9A-7682ACB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83FCF-E4F0-4851-90D5-3B3CE5D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AF5A8-BA04-46AA-8546-10C15FA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15E7-21F3-40F5-ADAB-B38C9B4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C3803-90E0-4FBD-8103-94849B0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4594-D9D1-4F9A-BF01-BFC13F2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3237-81F8-4B53-B1D7-16FAEED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5409-0CE0-4B21-BDCA-B79C390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57F9-3E40-46A8-9F18-C059EE85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44E-866F-44DB-97C6-0301CFA6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A11E-8AD7-462E-8AB6-F6A74331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6D93-99E7-4650-A348-BA1D0564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8E8B0-8415-449E-9321-718E082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B01E-C1A2-4808-A25E-A958C43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CBDC-AD38-47AA-A613-C5098D5F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1E01-988B-4F8C-AD09-91167AAE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D1C4-C646-4DCF-8C90-DBFCF0E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69F2-93CE-4C9E-8BF4-2D9DEEE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ED6C-C22B-424D-8069-1DF7084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90EE-9D0E-43BE-B8BB-64578067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A95-8E4F-43FA-9745-2885E8E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5BCB-D058-4360-9558-26DF2D3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4288-E442-4CC0-A5DF-FF720D29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A6D8-B9E2-427D-9C74-114528AF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7AE3-C8B9-4216-8059-D45830B7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F0D3-8C6F-4B0C-9155-FFBA273D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EF40-906D-497B-878A-BF4AB4CC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8EE2F-050F-46FC-A0C3-05BF75C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2A5C-FC45-46F2-B6CC-9B458CAA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D71D-06B5-4F0D-B137-B4A25CF8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BABDA-597E-4759-808C-51A2671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535-3E35-4549-B4DF-BD4277C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6BA1F-96A0-4367-91A5-F4F013C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5224-953A-41FD-BDCB-99B0595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D59F-7F90-4A7B-907D-73874FB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BF5F-B579-414A-B217-A9E51383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66A8-D801-4647-A140-6D133CF1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7EFE-34B4-4B7B-BE5F-70B19F0C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AB4B-52C5-426A-9D36-8B994240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9F0FB-2B31-42C4-AE15-CC71538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CBB4-8B52-4E2A-AEEB-0589B6A7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8A4EF-51DA-4050-865D-27E64DA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3CA-A6AE-4DCA-8A61-18C0D902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BE50-8745-4328-B144-F7233C7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38062-864E-4AF0-8398-0D10AC3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40A7-5282-42F0-AC9B-26E6E147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FFF1-B2CA-4011-B6A9-F70A1F8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1AFB-8055-431C-BF0A-CA89DA2B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6BC5C-032C-45A6-B569-9546DC9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106B2-0595-4C7E-B8C2-771F5386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912-1C03-4025-92A8-B3D2699B68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E829-8440-41C2-A540-9FA824D10B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9F3-463B-47E8-A67E-627A3F2FBA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47D4-AF6C-455C-B533-419EBE302D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0B2-8F0B-47DB-A4AE-7CA2189BE3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98E-0CC8-4C72-A602-AD7350190E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9C45-1EEF-4535-A2BB-76327D8BC1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5FF-BABF-4DF1-BF2F-E6938729AA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6600" y="-42840"/>
            <a:ext cx="9277200" cy="3719520"/>
          </a:xfrm>
          <a:prstGeom prst="rect">
            <a:avLst/>
          </a:prstGeom>
          <a:ln w="0">
            <a:noFill/>
          </a:ln>
        </p:spPr>
      </p:pic>
      <p:grpSp>
        <p:nvGrpSpPr>
          <p:cNvPr id="371" name="Подзаголовок 2"/>
          <p:cNvGrpSpPr/>
          <p:nvPr/>
        </p:nvGrpSpPr>
        <p:grpSpPr>
          <a:xfrm>
            <a:off x="-66600" y="3456000"/>
            <a:ext cx="9277200" cy="1920960"/>
            <a:chOff x="-66600" y="3456000"/>
            <a:chExt cx="9277200" cy="1920960"/>
          </a:xfrm>
        </p:grpSpPr>
        <p:pic>
          <p:nvPicPr>
            <p:cNvPr id="37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-66600" y="3456000"/>
              <a:ext cx="92772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0" y="3611520"/>
              <a:ext cx="914400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2060"/>
                  </a:solidFill>
                  <a:uFillTx/>
                  <a:latin typeface="Century Schoolbook"/>
                </a:rPr>
                <a:t>Контрольные вопросы и задания.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данных представляет собой совокупность  таблиц с установленными между ними связями. Название «реляционная» происходит от английского слова </a:t>
            </a:r>
            <a:r>
              <a:rPr b="0" i="1" lang="en-US" sz="2700" spc="-1" strike="noStrike">
                <a:solidFill>
                  <a:srgbClr val="000000"/>
                </a:solidFill>
                <a:latin typeface="Century Schoolbook"/>
              </a:rPr>
              <a:t>relation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-отношение. Этот термин указывает, что модель отражает отношения составляющих её част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В реляционной модели каждая таблица   описывает один класс объект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19240" y="-73080"/>
            <a:ext cx="84866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00040" y="1357200"/>
          <a:ext cx="8115480" cy="445932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  <a:gridCol w="1865160"/>
                <a:gridCol w="138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личного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1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ух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ячеслав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.03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ет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онид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.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-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в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ге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.02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гнать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.1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элемент таблицы - один элемент данных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ментом таблицы является ячейка. Данное свойство означает, что в одной ячейке реляционной таблицы не может указываться более одного значения парамет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71520" y="128520"/>
            <a:ext cx="853452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1071720" y="3652920"/>
          <a:ext cx="6858000" cy="320508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Е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Все элементы одного столбца(поля)имеют одинаковый тип(числовой, символичный и т. п.), формат и смысл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, что в одном столбце таблицы не могут содержаться данные разных типов, например, и текст, и числа. Все данные одного столбца должны иметь одинаковый смыс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столбец(поле) имеет уникальное имя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в таблице не может быть столбца, не имеющего имени, и не может быть двух столбцов с одинаковыми имен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 Одинаковые строки в таблице отсутствуют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каждая строка описывает конкретный объе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орядок следования строк в таблице может быть произвольным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информация об объекте одного класса не зависит от информации о другом объекте этого же клас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должна иметь ключ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Ключ(ключевой элемент)-это поле или совокупность полей, которые единственным образом определяют каждую строку(запись) в таблице. Таким образом, не может быть строк с одинаковыми ключа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Таблицы, входящие в модель данных, могут характеризоваться разным количеством полей и записей.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описывает определенный класс объектов, который может характеризоваться своим набором параметров, и, соответственно, таблицы могут иметь разную структуру, а также количество запис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:М                          1: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 flipH="1">
            <a:off x="785160" y="2214720"/>
            <a:ext cx="207180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люч К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4000680" y="2214720"/>
            <a:ext cx="21430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6929280" y="2214720"/>
            <a:ext cx="19288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ая соединительная линия 8"/>
          <p:cNvSpPr/>
          <p:nvPr/>
        </p:nvSpPr>
        <p:spPr>
          <a:xfrm>
            <a:off x="2857680" y="32860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>
            <a:off x="6143760" y="3286080"/>
            <a:ext cx="78552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760" y="2357280"/>
            <a:ext cx="8300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Пример сетевой модели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21571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1143000" y="342900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3214800" y="3429000"/>
            <a:ext cx="14684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5143680" y="342900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6929280" y="3429000"/>
            <a:ext cx="1357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1143000" y="485784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оугольник 8"/>
          <p:cNvSpPr/>
          <p:nvPr/>
        </p:nvSpPr>
        <p:spPr>
          <a:xfrm>
            <a:off x="3357720" y="492912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9"/>
          <p:cNvSpPr/>
          <p:nvPr/>
        </p:nvSpPr>
        <p:spPr>
          <a:xfrm>
            <a:off x="5214960" y="4857840"/>
            <a:ext cx="121428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ет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0"/>
          <p:cNvSpPr/>
          <p:nvPr/>
        </p:nvSpPr>
        <p:spPr>
          <a:xfrm>
            <a:off x="7072200" y="4857840"/>
            <a:ext cx="128592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3947400" y="4071960"/>
            <a:ext cx="355284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Прямая соединительная линия 17"/>
          <p:cNvSpPr/>
          <p:nvPr/>
        </p:nvSpPr>
        <p:spPr>
          <a:xfrm>
            <a:off x="1857240" y="4071960"/>
            <a:ext cx="214344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7500960" y="4071960"/>
            <a:ext cx="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Прямая соединительная линия 21"/>
          <p:cNvSpPr/>
          <p:nvPr/>
        </p:nvSpPr>
        <p:spPr>
          <a:xfrm>
            <a:off x="1785240" y="4071960"/>
            <a:ext cx="396540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3948120" y="4071960"/>
            <a:ext cx="5256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ая соединительная линия 28"/>
          <p:cNvSpPr/>
          <p:nvPr/>
        </p:nvSpPr>
        <p:spPr>
          <a:xfrm flipH="1">
            <a:off x="1999800" y="4071960"/>
            <a:ext cx="1947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рямая соединительная линия 32"/>
          <p:cNvSpPr/>
          <p:nvPr/>
        </p:nvSpPr>
        <p:spPr>
          <a:xfrm flipV="1">
            <a:off x="2071800" y="4071600"/>
            <a:ext cx="55371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49"/>
          <p:cNvSpPr/>
          <p:nvPr/>
        </p:nvSpPr>
        <p:spPr>
          <a:xfrm flipV="1">
            <a:off x="4000680" y="4071600"/>
            <a:ext cx="178560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ая соединительная линия 55"/>
          <p:cNvSpPr/>
          <p:nvPr/>
        </p:nvSpPr>
        <p:spPr>
          <a:xfrm>
            <a:off x="5785560" y="4071960"/>
            <a:ext cx="171468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72"/>
          <p:cNvSpPr/>
          <p:nvPr/>
        </p:nvSpPr>
        <p:spPr>
          <a:xfrm flipH="1">
            <a:off x="5822640" y="4071960"/>
            <a:ext cx="1785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0718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     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20545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1143000" y="3571920"/>
            <a:ext cx="264312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од 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зв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4929120" y="3571920"/>
            <a:ext cx="271476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од подрост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Прямая соединительная линия 6"/>
          <p:cNvSpPr/>
          <p:nvPr/>
        </p:nvSpPr>
        <p:spPr>
          <a:xfrm>
            <a:off x="3786120" y="43228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08:57Z</dcterms:created>
  <dc:creator>Настена</dc:creator>
  <dc:description/>
  <dc:language>en-US</dc:language>
  <cp:lastModifiedBy>Админ</cp:lastModifiedBy>
  <dcterms:modified xsi:type="dcterms:W3CDTF">2011-09-24T09:02:23Z</dcterms:modified>
  <cp:revision>26</cp:revision>
  <dc:subject/>
  <dc:title>Глава 4. Информационная технология хранения данны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