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DE94-0E46-4F19-AB87-D75F80FAC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A0A6-5B6B-46E1-BE4A-9950F320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C827-A792-4B00-BF68-96CF47F13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85D6-3DB0-447B-B85A-E51E8F117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5205-7E4F-4171-998D-ABA2A6A4B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8ECC-7ECB-4D25-B08A-3F6840798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DCC0-0190-479F-88EB-BB552394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B61E-9499-43E3-A45F-CBC9FF6A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FB01C-2AB9-4778-A7A6-8A51D7BC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14594-1642-4008-B353-358E8F51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5677-217E-468C-B895-02075002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14FD-9174-4494-8B41-7103C60B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025ED-5FB9-4C4E-8A98-F0A0B578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6041-7B9D-4EB1-9559-9A12ECCE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6A00-0839-44D5-B58D-60E7793F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3DA6-DFE9-4D1B-8941-B7F135E6E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83CB-572A-4D2E-A17E-A9F098D31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44BD8-6FCA-48CA-81F3-BFE8D7FAD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764A1-7F20-42F8-A6E1-288FD423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2ECD8-A22F-4B7E-9A54-AE9A2156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2CEE6-84A6-49A7-9B03-CEDF535D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54A98-A095-4741-AB66-2A310C4B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7D68-930A-41AF-AB70-330ACDAD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A1A62-81AE-41FB-A566-CBB9283A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E0D35-108E-45F8-8660-1A695A12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F27C0-9003-47F7-94FE-426F9D35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24A94-A6E1-4258-94B8-04504772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884EB-DFA1-48CC-BF41-1CD7E119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0EAF3-F18C-4F3A-BA88-05A3BF4E8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3A8F8-A97A-4EF6-A858-75FCF40BA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609CF-081A-4A7A-B876-161BFB3E8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5CD53-D933-456E-9342-E5EDABBF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AD6E8-1804-4B06-92F6-D99C90C9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E0AA-B344-48BD-ADD1-6FC39500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8FD11-7D81-4E3C-91A8-5573F23C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5CBE9-D268-4868-9F0A-7E1972BA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E8A8B-12E0-4B35-913E-0C3794FE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0D47A-1992-4128-A9F3-73E4976C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60863-12BD-483D-BB2D-917CA580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F72B7-0606-4FFC-ABC7-F0D065B1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26EA0-2328-4B7C-8C74-FDC5587D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3B408-84FE-477C-8548-FD6A8F6D1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D99B2-DE6F-4B3F-B838-2481777E0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F8B8B-D5BC-454C-ABFF-756C60B65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7BEB-6DDB-4569-A2D8-67BE8635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F4366-4315-4226-B454-1AC65023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87154-E35D-4366-B21A-5E61F1C2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9E1EB-D65D-4F0D-AE3B-EAD24969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DC804-309E-45A8-B5B0-DDB3D941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42644-38AB-4135-A14D-0E7BF023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11277-C223-431F-8BF2-629F107F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9313D-ADE5-4A09-ACE3-42B1A373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7628A-7E90-4093-8C6E-5D921598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7E0DE-AF8C-4862-8A8A-5C7FD3B1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7ECC6-756B-4F87-BE46-BFAB3794F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FFAA-C5AD-46C0-9138-916CCE18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82860-CC74-4E62-9FBE-383CD299F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52643-F07C-4A2A-BC15-B41890BC4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62C08-E2C5-4608-8383-A6A756C6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CFCC1-890F-4A8E-8C1F-FC90398A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75F2E-394D-4D6C-9805-586D2594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CD5C4-A8EC-47C6-A52B-21E17A19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A73B6-D6CE-47C6-81C7-E81F5F6F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A025C-1843-4D2D-BC61-48702A63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2BC78-F1E9-434A-A8CC-8476362A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2CB8F-21BE-466A-A1E1-DC14B808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E096-BA87-4FFF-9BFC-B479C8B7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2FDFE-0369-49D1-914A-556A8444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68FD5-8026-4FCC-BDAC-7FFBD8F1E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AB941-1BB1-44A2-BB37-2133ED960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CA2E7-2775-4F2E-A74A-3724F59F0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212D0-1A63-476C-B1F4-EF63F662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559DC-FA7D-4966-9EC0-9463C57E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74D01-5D09-467E-9EEE-B9D9FF70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A912C-9EFC-47CB-9608-971FB690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B8756-5D14-4A53-93E7-D724194D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F33B4-FA2E-4844-8B93-DE073D32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29D5-9D83-4B55-A777-8818BD10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3D9FD-7269-45C9-A55F-641B8C79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391A0-C4F6-4BF9-9F5F-BBC52D74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EDB38-925A-4DD2-9D5A-BF2EA3D9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567B8-0547-4A6E-BE43-6C1EA1BB0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1783E-7DB3-492C-8B02-B5A3BFFC8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ADD77-A0AD-4528-A2A5-CABD62FD3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EAE29-366D-4658-A005-8C0796DE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061D1-3768-4CC9-8966-AA4A54E8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FAD2D-6F01-4D2C-9921-44808F85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45722-A5D3-4B90-8B1B-ED0FDD0F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D246-3A13-463A-B149-4CA55870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907BA-4F03-45B5-AB73-2E1A5D24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D13CC-D83F-4425-AE37-FC485F3C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17435-49D0-4481-9E42-0C046DE5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6BE52-4D67-472E-9400-EEC53E73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35DC9-8A8D-4804-AC53-0AF4D7B47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D4E43-B557-4DED-80F3-AA507CD0C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E7953-8358-4836-ABC8-2938A1FBE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2610-1D17-443D-A91E-F53F4FC9F48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4aa400"/>
              </a:gs>
              <a:gs pos="50000">
                <a:srgbClr val="8df24d"/>
              </a:gs>
              <a:gs pos="100000">
                <a:srgbClr val="4aa4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b8e7a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388D-1ED1-400A-BE2C-6ECAFE4F1F0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Century Schoolbook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9E0F-9D7B-465C-82EC-9D5B5FDA9CD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Century Schoolbook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7087-BDF5-4BE4-9F1A-FD60FFF8C93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214C-6FD0-4BE3-8EF2-D948D98C7FC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Century Schoolbook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Century School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854E-C387-4F22-82FC-89CE1B3BB0E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33C8-33EE-4FD8-8CC4-9C3B131653D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Century Schoolbook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Century School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E3F1-A205-4A6D-8988-1F915534FE0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-66600" y="-42840"/>
            <a:ext cx="9277200" cy="3719520"/>
          </a:xfrm>
          <a:prstGeom prst="rect">
            <a:avLst/>
          </a:prstGeom>
          <a:ln w="0">
            <a:noFill/>
          </a:ln>
        </p:spPr>
      </p:pic>
      <p:grpSp>
        <p:nvGrpSpPr>
          <p:cNvPr id="371" name="Подзаголовок 2"/>
          <p:cNvGrpSpPr/>
          <p:nvPr/>
        </p:nvGrpSpPr>
        <p:grpSpPr>
          <a:xfrm>
            <a:off x="-66600" y="3456000"/>
            <a:ext cx="9277200" cy="1920960"/>
            <a:chOff x="-66600" y="3456000"/>
            <a:chExt cx="9277200" cy="1920960"/>
          </a:xfrm>
        </p:grpSpPr>
        <p:pic>
          <p:nvPicPr>
            <p:cNvPr id="372" name="Подзаголовок 2" descr=""/>
            <p:cNvPicPr/>
            <p:nvPr/>
          </p:nvPicPr>
          <p:blipFill>
            <a:blip r:embed="rId2"/>
            <a:stretch/>
          </p:blipFill>
          <p:spPr>
            <a:xfrm>
              <a:off x="-66600" y="3456000"/>
              <a:ext cx="9277200" cy="192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0" y="3611520"/>
              <a:ext cx="9144000" cy="16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 u="sng">
                  <a:solidFill>
                    <a:srgbClr val="002060"/>
                  </a:solidFill>
                  <a:uFillTx/>
                  <a:latin typeface="Century Schoolbook"/>
                </a:rPr>
                <a:t>Контрольные вопросы и задания.</a:t>
              </a:r>
              <a:endParaRPr b="0" lang="en-US" sz="4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500040" y="2071800"/>
            <a:ext cx="8229600" cy="45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entury Schoolbook"/>
              </a:rPr>
              <a:t>Реляционная модель </a:t>
            </a: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данных представляет собой совокупность  таблиц с установленными между ними связями. Название «реляционная» происходит от английского слова </a:t>
            </a:r>
            <a:r>
              <a:rPr b="0" i="1" lang="en-US" sz="2700" spc="-1" strike="noStrike">
                <a:solidFill>
                  <a:srgbClr val="000000"/>
                </a:solidFill>
                <a:latin typeface="Century Schoolbook"/>
              </a:rPr>
              <a:t>relation</a:t>
            </a: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-отношение. Этот термин указывает, что модель отражает отношения составляющих её частей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В реляционной модели каждая таблица   описывает один класс объектов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5" name="Заголовок 2" descr=""/>
          <p:cNvPicPr/>
          <p:nvPr/>
        </p:nvPicPr>
        <p:blipFill>
          <a:blip r:embed="rId1"/>
          <a:stretch/>
        </p:blipFill>
        <p:spPr>
          <a:xfrm>
            <a:off x="219240" y="-73080"/>
            <a:ext cx="848664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500040" y="1357200"/>
          <a:ext cx="8115480" cy="4459320"/>
        </p:xfrm>
        <a:graphic>
          <a:graphicData uri="http://schemas.openxmlformats.org/drawingml/2006/table">
            <a:tbl>
              <a:tblPr/>
              <a:tblGrid>
                <a:gridCol w="1622520"/>
                <a:gridCol w="1623960"/>
                <a:gridCol w="1622520"/>
                <a:gridCol w="1865160"/>
                <a:gridCol w="13813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омер личного д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Фами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т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ата рож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70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-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ом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ихаи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лександров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3.10.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-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ух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лекс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ячеславов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0.03.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70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-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ветл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Татья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еонидо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4.08.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-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ван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Ел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ергее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.02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Ф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гнатье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наста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лександро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1.11.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pic>
        <p:nvPicPr>
          <p:cNvPr id="37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entury Schoolbook"/>
              </a:rPr>
              <a:t>1. </a:t>
            </a:r>
            <a:r>
              <a:rPr b="0" i="1" lang="ru-RU" sz="2700" spc="-1" strike="noStrike">
                <a:solidFill>
                  <a:srgbClr val="000000"/>
                </a:solidFill>
                <a:latin typeface="Century Schoolbook"/>
              </a:rPr>
              <a:t>Каждый элемент таблицы - один элемент данных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Элементом таблицы является ячейка. Данное свойство означает, что в одной ячейке реляционной таблицы не может указываться более одного значения параметра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9" name="Заголовок 2" descr=""/>
          <p:cNvPicPr/>
          <p:nvPr/>
        </p:nvPicPr>
        <p:blipFill>
          <a:blip r:embed="rId1"/>
          <a:stretch/>
        </p:blipFill>
        <p:spPr>
          <a:xfrm>
            <a:off x="371520" y="128520"/>
            <a:ext cx="8534520" cy="129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0" name=""/>
          <p:cNvGraphicFramePr/>
          <p:nvPr/>
        </p:nvGraphicFramePr>
        <p:xfrm>
          <a:off x="1071720" y="3652920"/>
          <a:ext cx="6858000" cy="3205080"/>
        </p:xfrm>
        <a:graphic>
          <a:graphicData uri="http://schemas.openxmlformats.org/drawingml/2006/table">
            <a:tbl>
              <a:tblPr/>
              <a:tblGrid>
                <a:gridCol w="1714320"/>
                <a:gridCol w="1714680"/>
                <a:gridCol w="1714320"/>
                <a:gridCol w="171468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НЕПРАВИ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ПРАВИ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арка автомоби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Ц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арка автомоби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Ц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642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DA-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рас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окрый асфаль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еребристый металл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DA-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рас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DA-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окрый асфаль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DA-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еребристый металл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-360" y="0"/>
            <a:ext cx="9001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entury Schoolbook"/>
              </a:rPr>
              <a:t>2.</a:t>
            </a: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000000"/>
                </a:solidFill>
                <a:latin typeface="Century Schoolbook"/>
              </a:rPr>
              <a:t>Все элементы одного столбца(поля)имеют одинаковый тип(числовой, символичный и т. п.), формат и смысл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казывает, что в одном столбце таблицы не могут содержаться данные разных типов, например, и текст, и числа. Все данные одного столбца должны иметь одинаковый смысл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entury Schoolbook"/>
              </a:rPr>
              <a:t>3. </a:t>
            </a:r>
            <a:r>
              <a:rPr b="0" i="1" lang="ru-RU" sz="2700" spc="-1" strike="noStrike">
                <a:solidFill>
                  <a:srgbClr val="000000"/>
                </a:solidFill>
                <a:latin typeface="Century Schoolbook"/>
              </a:rPr>
              <a:t>Каждый столбец(поле) имеет уникальное имя.</a:t>
            </a: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значает, что в таблице не может быть столбца, не имеющего имени, и не может быть двух столбцов с одинаковыми имена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entury Schoolbook"/>
              </a:rPr>
              <a:t>4.</a:t>
            </a:r>
            <a:r>
              <a:rPr b="0" i="1" lang="ru-RU" sz="2700" spc="-1" strike="noStrike">
                <a:solidFill>
                  <a:srgbClr val="000000"/>
                </a:solidFill>
                <a:latin typeface="Century Schoolbook"/>
              </a:rPr>
              <a:t> Одинаковые строки в таблице отсутствуют.</a:t>
            </a: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значает, что каждая строка описывает конкретный объек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5.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Порядок следования строк в таблице может быть произвольным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значает, что информация об объекте одного класса не зависит от информации о другом объекте этого же класс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entury Schoolbook"/>
              </a:rPr>
              <a:t>6. </a:t>
            </a:r>
            <a:r>
              <a:rPr b="0" i="1" lang="ru-RU" sz="2700" spc="-1" strike="noStrike">
                <a:solidFill>
                  <a:srgbClr val="000000"/>
                </a:solidFill>
                <a:latin typeface="Century Schoolbook"/>
              </a:rPr>
              <a:t>Каждая таблица должна иметь ключ.</a:t>
            </a: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 Ключ(ключевой элемент)-это поле или совокупность полей, которые единственным образом определяют каждую строку(запись) в таблице. Таким образом, не может быть строк с одинаковыми ключами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entury Schoolbook"/>
              </a:rPr>
              <a:t>7. </a:t>
            </a:r>
            <a:r>
              <a:rPr b="0" i="1" lang="ru-RU" sz="2700" spc="-1" strike="noStrike">
                <a:solidFill>
                  <a:srgbClr val="000000"/>
                </a:solidFill>
                <a:latin typeface="Century Schoolbook"/>
              </a:rPr>
              <a:t>Таблицы, входящие в модель данных, могут характеризоваться разным количеством полей и записей. </a:t>
            </a: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Каждая таблица описывает определенный класс объектов, который может характеризоваться своим набором параметров, и, соответственно, таблицы могут иметь разную структуру, а также количество записей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М:М                          1:М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4" name="Заголовок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  <p:sp>
        <p:nvSpPr>
          <p:cNvPr id="385" name="Прямоугольник 4"/>
          <p:cNvSpPr/>
          <p:nvPr/>
        </p:nvSpPr>
        <p:spPr>
          <a:xfrm flipH="1">
            <a:off x="785160" y="2214720"/>
            <a:ext cx="2071800" cy="214308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entury Schoolbook"/>
              </a:rPr>
              <a:t>Таблица 1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#</a:t>
            </a:r>
            <a:r>
              <a:rPr b="1" lang="ru-RU" sz="1800" spc="-1" strike="noStrike">
                <a:solidFill>
                  <a:srgbClr val="ffffff"/>
                </a:solidFill>
                <a:latin typeface="Century Schoolbook"/>
              </a:rPr>
              <a:t> Ключ К1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Поле 11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Поле12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6" name="Прямоугольник 5"/>
          <p:cNvSpPr/>
          <p:nvPr/>
        </p:nvSpPr>
        <p:spPr>
          <a:xfrm>
            <a:off x="4000680" y="2214720"/>
            <a:ext cx="2143080" cy="214308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entury Schoolbook"/>
              </a:rPr>
              <a:t>Таблица 2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#</a:t>
            </a:r>
            <a:r>
              <a:rPr b="1" lang="ru-RU" sz="1800" spc="-1" strike="noStrike">
                <a:solidFill>
                  <a:srgbClr val="ffffff"/>
                </a:solidFill>
                <a:latin typeface="Century Schoolbook"/>
              </a:rPr>
              <a:t>Ключ К2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Поле 21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Поле 22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Прямоугольник 6"/>
          <p:cNvSpPr/>
          <p:nvPr/>
        </p:nvSpPr>
        <p:spPr>
          <a:xfrm>
            <a:off x="6929280" y="2214720"/>
            <a:ext cx="1928880" cy="214308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entury Schoolbook"/>
              </a:rPr>
              <a:t>Таблица 3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#</a:t>
            </a:r>
            <a:r>
              <a:rPr b="1" lang="ru-RU" sz="1800" spc="-1" strike="noStrike">
                <a:solidFill>
                  <a:srgbClr val="ffffff"/>
                </a:solidFill>
                <a:latin typeface="Century Schoolbook"/>
              </a:rPr>
              <a:t>Ключ К3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Поле 31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Поле 32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Прямая соединительная линия 8"/>
          <p:cNvSpPr/>
          <p:nvPr/>
        </p:nvSpPr>
        <p:spPr>
          <a:xfrm>
            <a:off x="2857680" y="3286080"/>
            <a:ext cx="1143000" cy="0"/>
          </a:xfrm>
          <a:prstGeom prst="line">
            <a:avLst/>
          </a:prstGeom>
          <a:ln w="12600">
            <a:solidFill>
              <a:srgbClr val="69d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Прямая соединительная линия 22"/>
          <p:cNvSpPr/>
          <p:nvPr/>
        </p:nvSpPr>
        <p:spPr>
          <a:xfrm>
            <a:off x="6143760" y="3286080"/>
            <a:ext cx="785520" cy="0"/>
          </a:xfrm>
          <a:prstGeom prst="line">
            <a:avLst/>
          </a:prstGeom>
          <a:ln w="12600">
            <a:solidFill>
              <a:srgbClr val="69d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9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28760" y="2357280"/>
            <a:ext cx="830088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Пример сетевой модели увлечений и подростков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1" name="Заголовок 2" descr=""/>
          <p:cNvPicPr/>
          <p:nvPr/>
        </p:nvPicPr>
        <p:blipFill>
          <a:blip r:embed="rId1"/>
          <a:stretch/>
        </p:blipFill>
        <p:spPr>
          <a:xfrm>
            <a:off x="450720" y="208080"/>
            <a:ext cx="8242560" cy="2157120"/>
          </a:xfrm>
          <a:prstGeom prst="rect">
            <a:avLst/>
          </a:prstGeom>
          <a:ln w="0">
            <a:noFill/>
          </a:ln>
        </p:spPr>
      </p:pic>
      <p:sp>
        <p:nvSpPr>
          <p:cNvPr id="392" name="Прямоугольник 3"/>
          <p:cNvSpPr/>
          <p:nvPr/>
        </p:nvSpPr>
        <p:spPr>
          <a:xfrm>
            <a:off x="1143000" y="3429000"/>
            <a:ext cx="1428840" cy="64296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Музык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Прямоугольник 4"/>
          <p:cNvSpPr/>
          <p:nvPr/>
        </p:nvSpPr>
        <p:spPr>
          <a:xfrm>
            <a:off x="3214800" y="3429000"/>
            <a:ext cx="1468440" cy="64296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Компьютер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Прямоугольник 5"/>
          <p:cNvSpPr/>
          <p:nvPr/>
        </p:nvSpPr>
        <p:spPr>
          <a:xfrm>
            <a:off x="5143680" y="3429000"/>
            <a:ext cx="1285560" cy="64296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Чтение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Прямоугольник 6"/>
          <p:cNvSpPr/>
          <p:nvPr/>
        </p:nvSpPr>
        <p:spPr>
          <a:xfrm>
            <a:off x="6929280" y="3429000"/>
            <a:ext cx="1357560" cy="64296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Спорт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Прямоугольник 7"/>
          <p:cNvSpPr/>
          <p:nvPr/>
        </p:nvSpPr>
        <p:spPr>
          <a:xfrm>
            <a:off x="1143000" y="4857840"/>
            <a:ext cx="1428840" cy="64296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Олег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Прямоугольник 8"/>
          <p:cNvSpPr/>
          <p:nvPr/>
        </p:nvSpPr>
        <p:spPr>
          <a:xfrm>
            <a:off x="3357720" y="4929120"/>
            <a:ext cx="1285560" cy="64296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Наталь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Прямоугольник 9"/>
          <p:cNvSpPr/>
          <p:nvPr/>
        </p:nvSpPr>
        <p:spPr>
          <a:xfrm>
            <a:off x="5214960" y="4857840"/>
            <a:ext cx="1214280" cy="64296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Петр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Прямоугольник 10"/>
          <p:cNvSpPr/>
          <p:nvPr/>
        </p:nvSpPr>
        <p:spPr>
          <a:xfrm>
            <a:off x="7072200" y="4857840"/>
            <a:ext cx="1285920" cy="64296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Галин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0" name="Прямая соединительная линия 12"/>
          <p:cNvSpPr/>
          <p:nvPr/>
        </p:nvSpPr>
        <p:spPr>
          <a:xfrm>
            <a:off x="3947400" y="4071960"/>
            <a:ext cx="3552840" cy="785880"/>
          </a:xfrm>
          <a:prstGeom prst="line">
            <a:avLst/>
          </a:prstGeom>
          <a:ln w="12600">
            <a:solidFill>
              <a:srgbClr val="69d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Прямая соединительная линия 17"/>
          <p:cNvSpPr/>
          <p:nvPr/>
        </p:nvSpPr>
        <p:spPr>
          <a:xfrm>
            <a:off x="1857240" y="4071960"/>
            <a:ext cx="2143440" cy="857160"/>
          </a:xfrm>
          <a:prstGeom prst="line">
            <a:avLst/>
          </a:prstGeom>
          <a:ln w="12600">
            <a:solidFill>
              <a:srgbClr val="69d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2" name="Прямая соединительная линия 19"/>
          <p:cNvSpPr/>
          <p:nvPr/>
        </p:nvSpPr>
        <p:spPr>
          <a:xfrm>
            <a:off x="7500960" y="4071960"/>
            <a:ext cx="0" cy="857160"/>
          </a:xfrm>
          <a:prstGeom prst="line">
            <a:avLst/>
          </a:prstGeom>
          <a:ln w="12600">
            <a:solidFill>
              <a:srgbClr val="69d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3" name="Прямая соединительная линия 21"/>
          <p:cNvSpPr/>
          <p:nvPr/>
        </p:nvSpPr>
        <p:spPr>
          <a:xfrm>
            <a:off x="1785240" y="4071960"/>
            <a:ext cx="3965400" cy="785880"/>
          </a:xfrm>
          <a:prstGeom prst="line">
            <a:avLst/>
          </a:prstGeom>
          <a:ln w="12600">
            <a:solidFill>
              <a:srgbClr val="69d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" name="Прямая соединительная линия 24"/>
          <p:cNvSpPr/>
          <p:nvPr/>
        </p:nvSpPr>
        <p:spPr>
          <a:xfrm>
            <a:off x="3948120" y="4071960"/>
            <a:ext cx="52560" cy="857160"/>
          </a:xfrm>
          <a:prstGeom prst="line">
            <a:avLst/>
          </a:prstGeom>
          <a:ln w="12600">
            <a:solidFill>
              <a:srgbClr val="69d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Прямая соединительная линия 28"/>
          <p:cNvSpPr/>
          <p:nvPr/>
        </p:nvSpPr>
        <p:spPr>
          <a:xfrm flipH="1">
            <a:off x="1999800" y="4071960"/>
            <a:ext cx="1947960" cy="785880"/>
          </a:xfrm>
          <a:prstGeom prst="line">
            <a:avLst/>
          </a:prstGeom>
          <a:ln w="12600">
            <a:solidFill>
              <a:srgbClr val="69d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Прямая соединительная линия 32"/>
          <p:cNvSpPr/>
          <p:nvPr/>
        </p:nvSpPr>
        <p:spPr>
          <a:xfrm flipV="1">
            <a:off x="2071800" y="4071600"/>
            <a:ext cx="5537160" cy="785880"/>
          </a:xfrm>
          <a:prstGeom prst="line">
            <a:avLst/>
          </a:prstGeom>
          <a:ln w="12600">
            <a:solidFill>
              <a:srgbClr val="69d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" name="Прямая соединительная линия 49"/>
          <p:cNvSpPr/>
          <p:nvPr/>
        </p:nvSpPr>
        <p:spPr>
          <a:xfrm flipV="1">
            <a:off x="4000680" y="4071600"/>
            <a:ext cx="1785600" cy="857160"/>
          </a:xfrm>
          <a:prstGeom prst="line">
            <a:avLst/>
          </a:prstGeom>
          <a:ln w="12600">
            <a:solidFill>
              <a:srgbClr val="69d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Прямая соединительная линия 55"/>
          <p:cNvSpPr/>
          <p:nvPr/>
        </p:nvSpPr>
        <p:spPr>
          <a:xfrm>
            <a:off x="5785560" y="4071960"/>
            <a:ext cx="1714680" cy="785880"/>
          </a:xfrm>
          <a:prstGeom prst="line">
            <a:avLst/>
          </a:prstGeom>
          <a:ln w="12600">
            <a:solidFill>
              <a:srgbClr val="69d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Прямая соединительная линия 72"/>
          <p:cNvSpPr/>
          <p:nvPr/>
        </p:nvSpPr>
        <p:spPr>
          <a:xfrm flipH="1">
            <a:off x="5822640" y="4071960"/>
            <a:ext cx="1785960" cy="785880"/>
          </a:xfrm>
          <a:prstGeom prst="line">
            <a:avLst/>
          </a:prstGeom>
          <a:ln w="12600">
            <a:solidFill>
              <a:srgbClr val="69d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57200" y="207180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Реляционная модель увлечений и подростков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 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М     М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1" name="Заголовок 2" descr=""/>
          <p:cNvPicPr/>
          <p:nvPr/>
        </p:nvPicPr>
        <p:blipFill>
          <a:blip r:embed="rId1"/>
          <a:stretch/>
        </p:blipFill>
        <p:spPr>
          <a:xfrm>
            <a:off x="450720" y="55440"/>
            <a:ext cx="8242560" cy="205452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оугольник 3"/>
          <p:cNvSpPr/>
          <p:nvPr/>
        </p:nvSpPr>
        <p:spPr>
          <a:xfrm>
            <a:off x="1143000" y="3571920"/>
            <a:ext cx="2643120" cy="150012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entury Schoolbook"/>
              </a:rPr>
              <a:t>Увлечени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# </a:t>
            </a:r>
            <a:r>
              <a:rPr b="1" lang="ru-RU" sz="1800" spc="-1" strike="noStrike">
                <a:solidFill>
                  <a:srgbClr val="ffffff"/>
                </a:solidFill>
                <a:latin typeface="Century Schoolbook"/>
              </a:rPr>
              <a:t>Код увлечени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Название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3" name="Прямоугольник 4"/>
          <p:cNvSpPr/>
          <p:nvPr/>
        </p:nvSpPr>
        <p:spPr>
          <a:xfrm>
            <a:off x="4929120" y="3571920"/>
            <a:ext cx="2714760" cy="150012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entury Schoolbook"/>
              </a:rPr>
              <a:t>Подросток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#</a:t>
            </a:r>
            <a:r>
              <a:rPr b="1" lang="ru-RU" sz="1800" spc="-1" strike="noStrike">
                <a:solidFill>
                  <a:srgbClr val="ffffff"/>
                </a:solidFill>
                <a:latin typeface="Century Schoolbook"/>
              </a:rPr>
              <a:t> Код подростк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Им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Прямая соединительная линия 6"/>
          <p:cNvSpPr/>
          <p:nvPr/>
        </p:nvSpPr>
        <p:spPr>
          <a:xfrm>
            <a:off x="3786120" y="4322880"/>
            <a:ext cx="1143000" cy="0"/>
          </a:xfrm>
          <a:prstGeom prst="line">
            <a:avLst/>
          </a:prstGeom>
          <a:ln w="12600">
            <a:solidFill>
              <a:srgbClr val="69d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1T18:08:57Z</dcterms:created>
  <dc:creator>Настена</dc:creator>
  <dc:description/>
  <dc:language>en-US</dc:language>
  <cp:lastModifiedBy>Админ</cp:lastModifiedBy>
  <dcterms:modified xsi:type="dcterms:W3CDTF">2011-09-24T09:02:23Z</dcterms:modified>
  <cp:revision>26</cp:revision>
  <dc:subject/>
  <dc:title>Глава 4. Информационная технология хранения данных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a260000000000010250300207f7000400038000</vt:lpwstr>
  </property>
</Properties>
</file>