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6.jpeg" ContentType="image/jpeg"/>
  <Override PartName="/ppt/media/image1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1F1A-D5D8-4026-9C21-96D8B6A61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59FA-4CB1-412B-B025-64987A051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812E-0BBD-460A-84D6-0B3FDD7FC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6C1C-23CD-428D-85DF-DC8D31D9A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0A7A2-E823-49EF-9BED-100EF5FF3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93AFA-3655-45DF-AA27-323B941FE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4961C-92ED-43E4-9CE3-6CBFD3EDA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056C8-C1DF-4BBF-8AD4-9810C7896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678C1-D3CB-46BC-A7C8-6777D839E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26A60-A247-4717-9224-497601F3E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FCCCE-58A7-4FE7-9913-0AF34D49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F17D-6288-48A4-B448-0EFA1509A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70780-E04E-4BD3-A34D-AAD93C9C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FFEFD-5FBE-4B3A-B540-B3C617CD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C3A2F-A485-468A-BAD8-A2B7E81DB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6D941-AF39-4617-BD1C-3D61CAF91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20E12-4C33-40E7-B398-D6BD2A916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24FD5-5314-421B-9E0C-7D8C2EA69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8E777-32F9-4255-8D87-936E6E723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B8ABE-F77B-425B-8EB6-73B766DF2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505A6-B75F-4B9F-A5B8-C1568AC66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06B73-010E-4661-AFD1-36A7BADAA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B1F5-32B5-4E22-95EF-0B65B3D2F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53738-13EC-4CCF-9648-EDF8D9939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6A45C-FE17-443B-980A-A94FD5A4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3B12C-55B9-49D0-ACB8-04C79C08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64408-81BB-48D5-B201-E92E7796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B7FB3-E73C-427F-8A0A-37EB4C807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6312F-2B2A-428E-BE8F-796142AAB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F7C18-B061-477D-8A25-E336DD08E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51F6F-A227-4E6A-BAE0-4EAA2AED0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80150-5CE6-4D5D-942F-694FA089B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C502D-9D5D-4F01-A8D2-9E3DDDC55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3573-7BA6-4341-9C1F-A0EBB35FB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7FA27-FA8D-46AE-B0A6-F40DDCAB6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7B294-DC94-4326-BE05-816690A6C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CE7E1-8F64-4455-8586-3795B06E5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681EB-7957-44F9-8C2D-1E0D810E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E05BD-6443-43AF-ABBC-8140C3F6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A6B77-A5BD-4059-80F4-1FEED305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00DF0-EF3E-424E-B243-3EA695604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7DEA9-64C9-4B55-B2C7-4D9B54E5E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1DAFE-886E-4475-AA5D-720A8CABA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37998-8521-46C4-9330-756DD9348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56FC-A593-4FFC-824B-B9EF7C8D4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A8840-5F2F-4F24-965B-CF882BA65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FC315-4ED7-4006-BA39-8DE4CE4D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8F0CB-7C2E-4D51-8AAC-D8F1FF547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A4232-0A36-412D-BFF7-B843C7700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602A8-5B30-4FD4-9AEB-1B7D0407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B54E1-5B7E-4A65-9F31-9FB5F709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2408C-AE32-4682-BF6B-541E71F5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7554B-8D41-4ECF-858C-6B78F2DB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410C3-7362-4CDB-8255-9D86FCE69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3CF41-A6EA-4AE8-8E88-362B00226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0522-6756-4933-BB82-AD4EBBE95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9E2DA-E204-4511-9FEF-920666A01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4D437-6575-4251-8B8B-2C26A05B2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C476B-62AA-4A12-8E43-8CA0D5F44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1B5CE-5ADA-44C7-B1A2-A2217CE2F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CFBC4-C42D-44B3-B0A7-5B4EC1EE1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7E375-FA68-4B2D-95F7-8A629C4AB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56255-A2A4-4879-9829-E0C01C3FE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3D557-4E0A-429C-84F1-132B6C3A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717B5-1BE4-4894-BA9D-46D919BA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C5A2C-6A1C-4DDF-9E33-E97F2F31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CC30-CACA-41D7-BB97-A197D7A8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2A7D9-9E60-44C0-A0BF-475B01B30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07900-2279-4E93-8888-EBD4B9D5A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8D555-5718-4449-A9A4-120ED70A2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C75C6D-E7D8-4AE4-AA13-F96C8231A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3BA35D-0865-406E-AE68-D77237E62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C3F230-F73F-43A8-9630-313F56F87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67B13-D34B-49FB-9F5D-F79860EDA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7D669D-1A09-4A70-9893-355287471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7F8947-09EE-4BA0-8161-56C1950EB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CA0240-35DD-4E35-BD7B-9AA6EAD7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4C55-08A9-4B4F-A5C7-90EF6900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75295-7472-46CB-B889-A71CAA9A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72D3D-103B-435F-94F6-F9999B04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9448D-98E9-4C92-8828-8E0B1EF8D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40C861-BFE2-442C-8AEF-5A4D6539E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F31477-8F82-4FF5-B3DB-D9397860C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4D855D-6E50-458C-ADC0-D5273A538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8E88F8-48C4-429B-8316-9688D89B6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1ACAF6-0FB5-44B8-99A5-B2F162E72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EC7D6B-442D-413F-AD54-BA4A27744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C4D1AC-5344-46CD-9037-16B7E9DA9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48B4-B00E-4D0B-BF41-4251AE13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D5029F-EA7A-4EB4-AD3C-5B1DB3789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AE06E8-F5B5-4510-952C-B59EFE5D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E927B3-145D-48EB-9E78-9E511B0F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BD0B5E-B34A-4727-9599-C07490D1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4416F3-132D-4450-AFE5-77E8C3C0D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40078A-E48B-4462-9CEA-08D2D19C7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7EEC9A-337B-4227-9FDA-F185E1E14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28F88-DD3E-4D8F-92EE-2B587093F6E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4aa400"/>
              </a:gs>
              <a:gs pos="50000">
                <a:srgbClr val="8df24d"/>
              </a:gs>
              <a:gs pos="100000">
                <a:srgbClr val="4aa40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b8e7a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20E41-7A7B-470B-9D82-B9DA8BC95AA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Century Schoolbook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Century School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39FDD-D73B-48B7-9DDF-3450591B28A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Century Schoolbook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Century School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52F23-22C3-4116-9FAF-1B398F426ED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F8785-8CD5-4AC9-A72C-094257D7B08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Century Schoolbook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Century School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4A65B-DCDB-47C0-A18B-21326EA4CC0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8094C-A326-46D4-A3B9-0FE0186552E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Century Schoolbook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Century Schoolboo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15364-7519-45D0-9D46-B9F3E70090A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-66600" y="-42840"/>
            <a:ext cx="9277200" cy="3719520"/>
          </a:xfrm>
          <a:prstGeom prst="rect">
            <a:avLst/>
          </a:prstGeom>
          <a:ln w="0">
            <a:noFill/>
          </a:ln>
        </p:spPr>
      </p:pic>
      <p:grpSp>
        <p:nvGrpSpPr>
          <p:cNvPr id="371" name="Подзаголовок 2"/>
          <p:cNvGrpSpPr/>
          <p:nvPr/>
        </p:nvGrpSpPr>
        <p:grpSpPr>
          <a:xfrm>
            <a:off x="-66600" y="3456000"/>
            <a:ext cx="9277200" cy="1920960"/>
            <a:chOff x="-66600" y="3456000"/>
            <a:chExt cx="9277200" cy="1920960"/>
          </a:xfrm>
        </p:grpSpPr>
        <p:pic>
          <p:nvPicPr>
            <p:cNvPr id="372" name="Подзаголовок 2" descr=""/>
            <p:cNvPicPr/>
            <p:nvPr/>
          </p:nvPicPr>
          <p:blipFill>
            <a:blip r:embed="rId2"/>
            <a:stretch/>
          </p:blipFill>
          <p:spPr>
            <a:xfrm>
              <a:off x="-66600" y="3456000"/>
              <a:ext cx="9277200" cy="192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0" y="3611520"/>
              <a:ext cx="9144000" cy="16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 u="sng">
                  <a:solidFill>
                    <a:srgbClr val="002060"/>
                  </a:solidFill>
                  <a:uFillTx/>
                  <a:latin typeface="Century Schoolbook"/>
                </a:rPr>
                <a:t>Контрольные вопросы и задания.</a:t>
              </a:r>
              <a:endParaRPr b="0" lang="en-US" sz="44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500040" y="2071800"/>
            <a:ext cx="8229600" cy="45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entury Schoolbook"/>
              </a:rPr>
              <a:t>Реляционная модель </a:t>
            </a:r>
            <a:r>
              <a:rPr b="0" lang="ru-RU" sz="2700" spc="-1" strike="noStrike">
                <a:solidFill>
                  <a:srgbClr val="000000"/>
                </a:solidFill>
                <a:latin typeface="Century Schoolbook"/>
              </a:rPr>
              <a:t>данных представляет собой совокупность  таблиц с установленными между ними связями. Название «реляционная» происходит от английского слова </a:t>
            </a:r>
            <a:r>
              <a:rPr b="0" i="1" lang="en-US" sz="2700" spc="-1" strike="noStrike">
                <a:solidFill>
                  <a:srgbClr val="000000"/>
                </a:solidFill>
                <a:latin typeface="Century Schoolbook"/>
              </a:rPr>
              <a:t>relation</a:t>
            </a:r>
            <a:r>
              <a:rPr b="0" lang="ru-RU" sz="2700" spc="-1" strike="noStrike">
                <a:solidFill>
                  <a:srgbClr val="000000"/>
                </a:solidFill>
                <a:latin typeface="Century Schoolbook"/>
              </a:rPr>
              <a:t>-отношение. Этот термин указывает, что модель отражает отношения составляющих её частей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entury Schoolbook"/>
              </a:rPr>
              <a:t>В реляционной модели каждая таблица   описывает один класс объектов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5" name="Заголовок 2" descr=""/>
          <p:cNvPicPr/>
          <p:nvPr/>
        </p:nvPicPr>
        <p:blipFill>
          <a:blip r:embed="rId1"/>
          <a:stretch/>
        </p:blipFill>
        <p:spPr>
          <a:xfrm>
            <a:off x="219240" y="-73080"/>
            <a:ext cx="848664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6" name=""/>
          <p:cNvGraphicFramePr/>
          <p:nvPr/>
        </p:nvGraphicFramePr>
        <p:xfrm>
          <a:off x="500040" y="1357200"/>
          <a:ext cx="8115480" cy="4459320"/>
        </p:xfrm>
        <a:graphic>
          <a:graphicData uri="http://schemas.openxmlformats.org/drawingml/2006/table">
            <a:tbl>
              <a:tblPr/>
              <a:tblGrid>
                <a:gridCol w="1622520"/>
                <a:gridCol w="1623960"/>
                <a:gridCol w="1622520"/>
                <a:gridCol w="1865160"/>
                <a:gridCol w="13813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омер личного де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Фамил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И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тч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ата рожд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70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-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ом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ихаи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лександрови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3.10.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70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-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ух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лекс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ячеславови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0.03.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70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У-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ветл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Татья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Леонидов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4.08.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70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И-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Иван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Ел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ергеев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4.02.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Ф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Игнатье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настас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лександров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1.11.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  <p:pic>
        <p:nvPicPr>
          <p:cNvPr id="37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entury Schoolbook"/>
              </a:rPr>
              <a:t>1. </a:t>
            </a:r>
            <a:r>
              <a:rPr b="0" i="1" lang="ru-RU" sz="2700" spc="-1" strike="noStrike">
                <a:solidFill>
                  <a:srgbClr val="000000"/>
                </a:solidFill>
                <a:latin typeface="Century Schoolbook"/>
              </a:rPr>
              <a:t>Каждый элемент таблицы - один элемент данных.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Элементом таблицы является ячейка. Данное свойство означает, что в одной ячейке реляционной таблицы не может указываться более одного значения параметра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9" name="Заголовок 2" descr=""/>
          <p:cNvPicPr/>
          <p:nvPr/>
        </p:nvPicPr>
        <p:blipFill>
          <a:blip r:embed="rId1"/>
          <a:stretch/>
        </p:blipFill>
        <p:spPr>
          <a:xfrm>
            <a:off x="371520" y="128520"/>
            <a:ext cx="8534520" cy="129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0" name=""/>
          <p:cNvGraphicFramePr/>
          <p:nvPr/>
        </p:nvGraphicFramePr>
        <p:xfrm>
          <a:off x="1071720" y="3652920"/>
          <a:ext cx="6858000" cy="3205080"/>
        </p:xfrm>
        <a:graphic>
          <a:graphicData uri="http://schemas.openxmlformats.org/drawingml/2006/table">
            <a:tbl>
              <a:tblPr/>
              <a:tblGrid>
                <a:gridCol w="1714320"/>
                <a:gridCol w="1714680"/>
                <a:gridCol w="1714320"/>
                <a:gridCol w="171468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НЕПРАВИЛЬ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ПРАВИЛЬ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арка автомоби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Цв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арка автомоби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Цв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6426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DA-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рас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окрый асфаль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еребристый металл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DA-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рас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DA-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окрый асфаль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DA-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еребристый металл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-360" y="0"/>
            <a:ext cx="9001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entury Schoolbook"/>
              </a:rPr>
              <a:t>2.</a:t>
            </a:r>
            <a:r>
              <a:rPr b="0" lang="ru-RU" sz="27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000000"/>
                </a:solidFill>
                <a:latin typeface="Century Schoolbook"/>
              </a:rPr>
              <a:t>Все элементы одного столбца(поля)имеют одинаковый тип(числовой, символичный и т. п.), формат и смысл.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казывает, что в одном столбце таблицы не могут содержаться данные разных типов, например, и текст, и числа. Все данные одного столбца должны иметь одинаковый смысл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entury Schoolbook"/>
              </a:rPr>
              <a:t>3. </a:t>
            </a:r>
            <a:r>
              <a:rPr b="0" i="1" lang="ru-RU" sz="2700" spc="-1" strike="noStrike">
                <a:solidFill>
                  <a:srgbClr val="000000"/>
                </a:solidFill>
                <a:latin typeface="Century Schoolbook"/>
              </a:rPr>
              <a:t>Каждый столбец(поле) имеет уникальное имя.</a:t>
            </a:r>
            <a:r>
              <a:rPr b="0" lang="ru-RU" sz="27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значает, что в таблице не может быть столбца, не имеющего имени, и не может быть двух столбцов с одинаковыми именам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entury Schoolbook"/>
              </a:rPr>
              <a:t>4.</a:t>
            </a:r>
            <a:r>
              <a:rPr b="0" i="1" lang="ru-RU" sz="2700" spc="-1" strike="noStrike">
                <a:solidFill>
                  <a:srgbClr val="000000"/>
                </a:solidFill>
                <a:latin typeface="Century Schoolbook"/>
              </a:rPr>
              <a:t> Одинаковые строки в таблице отсутствуют.</a:t>
            </a:r>
            <a:r>
              <a:rPr b="0" lang="ru-RU" sz="27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значает, что каждая строка описывает конкретный объект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5.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Порядок следования строк в таблице может быть произвольным.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значает, что информация об объекте одного класса не зависит от информации о другом объекте этого же класс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entury Schoolbook"/>
              </a:rPr>
              <a:t>6. </a:t>
            </a:r>
            <a:r>
              <a:rPr b="0" i="1" lang="ru-RU" sz="2700" spc="-1" strike="noStrike">
                <a:solidFill>
                  <a:srgbClr val="000000"/>
                </a:solidFill>
                <a:latin typeface="Century Schoolbook"/>
              </a:rPr>
              <a:t>Каждая таблица должна иметь ключ.</a:t>
            </a:r>
            <a:r>
              <a:rPr b="0" lang="ru-RU" sz="2700" spc="-1" strike="noStrike">
                <a:solidFill>
                  <a:srgbClr val="000000"/>
                </a:solidFill>
                <a:latin typeface="Century Schoolbook"/>
              </a:rPr>
              <a:t> Ключ(ключевой элемент)-это поле или совокупность полей, которые единственным образом определяют каждую строку(запись) в таблице. Таким образом, не может быть строк с одинаковыми ключами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entury Schoolbook"/>
              </a:rPr>
              <a:t>7. </a:t>
            </a:r>
            <a:r>
              <a:rPr b="0" i="1" lang="ru-RU" sz="2700" spc="-1" strike="noStrike">
                <a:solidFill>
                  <a:srgbClr val="000000"/>
                </a:solidFill>
                <a:latin typeface="Century Schoolbook"/>
              </a:rPr>
              <a:t>Таблицы, входящие в модель данных, могут характеризоваться разным количеством полей и записей. </a:t>
            </a:r>
            <a:r>
              <a:rPr b="0" lang="ru-RU" sz="2700" spc="-1" strike="noStrike">
                <a:solidFill>
                  <a:srgbClr val="000000"/>
                </a:solidFill>
                <a:latin typeface="Century Schoolbook"/>
              </a:rPr>
              <a:t>Каждая таблица описывает определенный класс объектов, который может характеризоваться своим набором параметров, и, соответственно, таблицы могут иметь разную структуру, а также количество записей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entury Schoolbook"/>
              </a:rPr>
              <a:t>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Century Schoolbook"/>
              </a:rPr>
              <a:t>М:М                          1:М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4" name="Заголовок 2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41360"/>
          </a:xfrm>
          <a:prstGeom prst="rect">
            <a:avLst/>
          </a:prstGeom>
          <a:ln w="0">
            <a:noFill/>
          </a:ln>
        </p:spPr>
      </p:pic>
      <p:sp>
        <p:nvSpPr>
          <p:cNvPr id="385" name="Прямоугольник 4"/>
          <p:cNvSpPr/>
          <p:nvPr/>
        </p:nvSpPr>
        <p:spPr>
          <a:xfrm flipH="1">
            <a:off x="785160" y="2214720"/>
            <a:ext cx="2071800" cy="214308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Century Schoolbook"/>
              </a:rPr>
              <a:t>Таблица 1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#</a:t>
            </a:r>
            <a:r>
              <a:rPr b="1" lang="ru-RU" sz="1800" spc="-1" strike="noStrike">
                <a:solidFill>
                  <a:srgbClr val="ffffff"/>
                </a:solidFill>
                <a:latin typeface="Century Schoolbook"/>
              </a:rPr>
              <a:t> Ключ К1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Поле 11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Поле12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6" name="Прямоугольник 5"/>
          <p:cNvSpPr/>
          <p:nvPr/>
        </p:nvSpPr>
        <p:spPr>
          <a:xfrm>
            <a:off x="4000680" y="2214720"/>
            <a:ext cx="2143080" cy="214308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Century Schoolbook"/>
              </a:rPr>
              <a:t>Таблица 2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#</a:t>
            </a:r>
            <a:r>
              <a:rPr b="1" lang="ru-RU" sz="1800" spc="-1" strike="noStrike">
                <a:solidFill>
                  <a:srgbClr val="ffffff"/>
                </a:solidFill>
                <a:latin typeface="Century Schoolbook"/>
              </a:rPr>
              <a:t>Ключ К2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Поле 21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Поле 22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Прямоугольник 6"/>
          <p:cNvSpPr/>
          <p:nvPr/>
        </p:nvSpPr>
        <p:spPr>
          <a:xfrm>
            <a:off x="6929280" y="2214720"/>
            <a:ext cx="1928880" cy="214308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Century Schoolbook"/>
              </a:rPr>
              <a:t>Таблица 3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#</a:t>
            </a:r>
            <a:r>
              <a:rPr b="1" lang="ru-RU" sz="1800" spc="-1" strike="noStrike">
                <a:solidFill>
                  <a:srgbClr val="ffffff"/>
                </a:solidFill>
                <a:latin typeface="Century Schoolbook"/>
              </a:rPr>
              <a:t>Ключ К3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Поле 31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Поле 32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Прямая соединительная линия 8"/>
          <p:cNvSpPr/>
          <p:nvPr/>
        </p:nvSpPr>
        <p:spPr>
          <a:xfrm>
            <a:off x="2857680" y="3286080"/>
            <a:ext cx="1143000" cy="0"/>
          </a:xfrm>
          <a:prstGeom prst="line">
            <a:avLst/>
          </a:prstGeom>
          <a:ln w="12600">
            <a:solidFill>
              <a:srgbClr val="69d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Прямая соединительная линия 22"/>
          <p:cNvSpPr/>
          <p:nvPr/>
        </p:nvSpPr>
        <p:spPr>
          <a:xfrm>
            <a:off x="6143760" y="3286080"/>
            <a:ext cx="785520" cy="0"/>
          </a:xfrm>
          <a:prstGeom prst="line">
            <a:avLst/>
          </a:prstGeom>
          <a:ln w="12600">
            <a:solidFill>
              <a:srgbClr val="69d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9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9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28760" y="2357280"/>
            <a:ext cx="830088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entury Schoolbook"/>
              </a:rPr>
              <a:t>Пример сетевой модели увлечений и подростков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1" name="Заголовок 2" descr=""/>
          <p:cNvPicPr/>
          <p:nvPr/>
        </p:nvPicPr>
        <p:blipFill>
          <a:blip r:embed="rId1"/>
          <a:stretch/>
        </p:blipFill>
        <p:spPr>
          <a:xfrm>
            <a:off x="450720" y="208080"/>
            <a:ext cx="8242560" cy="2157120"/>
          </a:xfrm>
          <a:prstGeom prst="rect">
            <a:avLst/>
          </a:prstGeom>
          <a:ln w="0">
            <a:noFill/>
          </a:ln>
        </p:spPr>
      </p:pic>
      <p:sp>
        <p:nvSpPr>
          <p:cNvPr id="392" name="Прямоугольник 3"/>
          <p:cNvSpPr/>
          <p:nvPr/>
        </p:nvSpPr>
        <p:spPr>
          <a:xfrm>
            <a:off x="1143000" y="3429000"/>
            <a:ext cx="1428840" cy="64296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Музык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Прямоугольник 4"/>
          <p:cNvSpPr/>
          <p:nvPr/>
        </p:nvSpPr>
        <p:spPr>
          <a:xfrm>
            <a:off x="3214800" y="3429000"/>
            <a:ext cx="1468440" cy="64296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Компьютер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Прямоугольник 5"/>
          <p:cNvSpPr/>
          <p:nvPr/>
        </p:nvSpPr>
        <p:spPr>
          <a:xfrm>
            <a:off x="5143680" y="3429000"/>
            <a:ext cx="1285560" cy="64296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Чтение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Прямоугольник 6"/>
          <p:cNvSpPr/>
          <p:nvPr/>
        </p:nvSpPr>
        <p:spPr>
          <a:xfrm>
            <a:off x="6929280" y="3429000"/>
            <a:ext cx="1357560" cy="64296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Спорт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Прямоугольник 7"/>
          <p:cNvSpPr/>
          <p:nvPr/>
        </p:nvSpPr>
        <p:spPr>
          <a:xfrm>
            <a:off x="1143000" y="4857840"/>
            <a:ext cx="1428840" cy="64296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Олег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Прямоугольник 8"/>
          <p:cNvSpPr/>
          <p:nvPr/>
        </p:nvSpPr>
        <p:spPr>
          <a:xfrm>
            <a:off x="3357720" y="4929120"/>
            <a:ext cx="1285560" cy="64296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Наталья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8" name="Прямоугольник 9"/>
          <p:cNvSpPr/>
          <p:nvPr/>
        </p:nvSpPr>
        <p:spPr>
          <a:xfrm>
            <a:off x="5214960" y="4857840"/>
            <a:ext cx="1214280" cy="64296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Петр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9" name="Прямоугольник 10"/>
          <p:cNvSpPr/>
          <p:nvPr/>
        </p:nvSpPr>
        <p:spPr>
          <a:xfrm>
            <a:off x="7072200" y="4857840"/>
            <a:ext cx="1285920" cy="64296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Галин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0" name="Прямая соединительная линия 12"/>
          <p:cNvSpPr/>
          <p:nvPr/>
        </p:nvSpPr>
        <p:spPr>
          <a:xfrm>
            <a:off x="3947400" y="4071960"/>
            <a:ext cx="3552840" cy="785880"/>
          </a:xfrm>
          <a:prstGeom prst="line">
            <a:avLst/>
          </a:prstGeom>
          <a:ln w="12600">
            <a:solidFill>
              <a:srgbClr val="69d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1" name="Прямая соединительная линия 17"/>
          <p:cNvSpPr/>
          <p:nvPr/>
        </p:nvSpPr>
        <p:spPr>
          <a:xfrm>
            <a:off x="1857240" y="4071960"/>
            <a:ext cx="2143440" cy="857160"/>
          </a:xfrm>
          <a:prstGeom prst="line">
            <a:avLst/>
          </a:prstGeom>
          <a:ln w="12600">
            <a:solidFill>
              <a:srgbClr val="69d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2" name="Прямая соединительная линия 19"/>
          <p:cNvSpPr/>
          <p:nvPr/>
        </p:nvSpPr>
        <p:spPr>
          <a:xfrm>
            <a:off x="7500960" y="4071960"/>
            <a:ext cx="0" cy="857160"/>
          </a:xfrm>
          <a:prstGeom prst="line">
            <a:avLst/>
          </a:prstGeom>
          <a:ln w="12600">
            <a:solidFill>
              <a:srgbClr val="69d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3" name="Прямая соединительная линия 21"/>
          <p:cNvSpPr/>
          <p:nvPr/>
        </p:nvSpPr>
        <p:spPr>
          <a:xfrm>
            <a:off x="1785240" y="4071960"/>
            <a:ext cx="3965400" cy="785880"/>
          </a:xfrm>
          <a:prstGeom prst="line">
            <a:avLst/>
          </a:prstGeom>
          <a:ln w="12600">
            <a:solidFill>
              <a:srgbClr val="69d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4" name="Прямая соединительная линия 24"/>
          <p:cNvSpPr/>
          <p:nvPr/>
        </p:nvSpPr>
        <p:spPr>
          <a:xfrm>
            <a:off x="3948120" y="4071960"/>
            <a:ext cx="52560" cy="857160"/>
          </a:xfrm>
          <a:prstGeom prst="line">
            <a:avLst/>
          </a:prstGeom>
          <a:ln w="12600">
            <a:solidFill>
              <a:srgbClr val="69d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5" name="Прямая соединительная линия 28"/>
          <p:cNvSpPr/>
          <p:nvPr/>
        </p:nvSpPr>
        <p:spPr>
          <a:xfrm flipH="1">
            <a:off x="1999800" y="4071960"/>
            <a:ext cx="1947960" cy="785880"/>
          </a:xfrm>
          <a:prstGeom prst="line">
            <a:avLst/>
          </a:prstGeom>
          <a:ln w="12600">
            <a:solidFill>
              <a:srgbClr val="69d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Прямая соединительная линия 32"/>
          <p:cNvSpPr/>
          <p:nvPr/>
        </p:nvSpPr>
        <p:spPr>
          <a:xfrm flipV="1">
            <a:off x="2071800" y="4071600"/>
            <a:ext cx="5537160" cy="785880"/>
          </a:xfrm>
          <a:prstGeom prst="line">
            <a:avLst/>
          </a:prstGeom>
          <a:ln w="12600">
            <a:solidFill>
              <a:srgbClr val="69d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7" name="Прямая соединительная линия 49"/>
          <p:cNvSpPr/>
          <p:nvPr/>
        </p:nvSpPr>
        <p:spPr>
          <a:xfrm flipV="1">
            <a:off x="4000680" y="4071600"/>
            <a:ext cx="1785600" cy="857160"/>
          </a:xfrm>
          <a:prstGeom prst="line">
            <a:avLst/>
          </a:prstGeom>
          <a:ln w="12600">
            <a:solidFill>
              <a:srgbClr val="69d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8" name="Прямая соединительная линия 55"/>
          <p:cNvSpPr/>
          <p:nvPr/>
        </p:nvSpPr>
        <p:spPr>
          <a:xfrm>
            <a:off x="5785560" y="4071960"/>
            <a:ext cx="1714680" cy="785880"/>
          </a:xfrm>
          <a:prstGeom prst="line">
            <a:avLst/>
          </a:prstGeom>
          <a:ln w="12600">
            <a:solidFill>
              <a:srgbClr val="69d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9" name="Прямая соединительная линия 72"/>
          <p:cNvSpPr/>
          <p:nvPr/>
        </p:nvSpPr>
        <p:spPr>
          <a:xfrm flipH="1">
            <a:off x="5822640" y="4071960"/>
            <a:ext cx="1785960" cy="785880"/>
          </a:xfrm>
          <a:prstGeom prst="line">
            <a:avLst/>
          </a:prstGeom>
          <a:ln w="12600">
            <a:solidFill>
              <a:srgbClr val="69d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457200" y="207180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entury Schoolbook"/>
              </a:rPr>
              <a:t>Реляционная модель увлечений и подростков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entury Schoolbook"/>
              </a:rPr>
              <a:t> 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Century Schoolbook"/>
              </a:rPr>
              <a:t>М     М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1" name="Заголовок 2" descr=""/>
          <p:cNvPicPr/>
          <p:nvPr/>
        </p:nvPicPr>
        <p:blipFill>
          <a:blip r:embed="rId1"/>
          <a:stretch/>
        </p:blipFill>
        <p:spPr>
          <a:xfrm>
            <a:off x="450720" y="55440"/>
            <a:ext cx="8242560" cy="2054520"/>
          </a:xfrm>
          <a:prstGeom prst="rect">
            <a:avLst/>
          </a:prstGeom>
          <a:ln w="0">
            <a:noFill/>
          </a:ln>
        </p:spPr>
      </p:pic>
      <p:sp>
        <p:nvSpPr>
          <p:cNvPr id="412" name="Прямоугольник 3"/>
          <p:cNvSpPr/>
          <p:nvPr/>
        </p:nvSpPr>
        <p:spPr>
          <a:xfrm>
            <a:off x="1143000" y="3571920"/>
            <a:ext cx="2643120" cy="150012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Century Schoolbook"/>
              </a:rPr>
              <a:t>Увлечения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# </a:t>
            </a:r>
            <a:r>
              <a:rPr b="1" lang="ru-RU" sz="1800" spc="-1" strike="noStrike">
                <a:solidFill>
                  <a:srgbClr val="ffffff"/>
                </a:solidFill>
                <a:latin typeface="Century Schoolbook"/>
              </a:rPr>
              <a:t>Код увлечения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Название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3" name="Прямоугольник 4"/>
          <p:cNvSpPr/>
          <p:nvPr/>
        </p:nvSpPr>
        <p:spPr>
          <a:xfrm>
            <a:off x="4929120" y="3571920"/>
            <a:ext cx="2714760" cy="150012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Century Schoolbook"/>
              </a:rPr>
              <a:t>Подросток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#</a:t>
            </a:r>
            <a:r>
              <a:rPr b="1" lang="ru-RU" sz="1800" spc="-1" strike="noStrike">
                <a:solidFill>
                  <a:srgbClr val="ffffff"/>
                </a:solidFill>
                <a:latin typeface="Century Schoolbook"/>
              </a:rPr>
              <a:t> Код подростк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Имя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4" name="Прямая соединительная линия 6"/>
          <p:cNvSpPr/>
          <p:nvPr/>
        </p:nvSpPr>
        <p:spPr>
          <a:xfrm>
            <a:off x="3786120" y="4322880"/>
            <a:ext cx="1143000" cy="0"/>
          </a:xfrm>
          <a:prstGeom prst="line">
            <a:avLst/>
          </a:prstGeom>
          <a:ln w="12600">
            <a:solidFill>
              <a:srgbClr val="69d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8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1T18:08:57Z</dcterms:created>
  <dc:creator>Настена</dc:creator>
  <dc:description/>
  <dc:language>en-US</dc:language>
  <cp:lastModifiedBy>Админ</cp:lastModifiedBy>
  <dcterms:modified xsi:type="dcterms:W3CDTF">2011-09-24T09:02:23Z</dcterms:modified>
  <cp:revision>26</cp:revision>
  <dc:subject/>
  <dc:title>Глава 4. Информационная технология хранения данных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a260000000000010250300207f7000400038000</vt:lpwstr>
  </property>
</Properties>
</file>