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DD64-9944-4714-BAFB-DE802838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68CB8-EFDF-4D63-9DA3-FB7AE0A7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5EB10-2ECA-4ABE-8661-890117D40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EFC0B-1EF7-41C6-8C3D-6D3480352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5E894-72E1-4454-A007-14F49C169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45E19-EB82-460F-9B1F-084AC66FB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DA5E9-6F74-465A-B26B-AB633170C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66A5D-50F8-4738-AC33-DE5D6CE82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A59E1-E76A-4B83-AEC3-8494887BB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08625-415D-4E5E-82D9-7C00DDB43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E8D8A-EBE8-439E-877F-2E6B1B31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4995-315A-49B5-9D8C-D94BE450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20E65-EA40-434E-A2E6-EED3A5182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D0AA0-96BC-4466-A234-1843EFD04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998DB-2E5D-4A79-BA1C-FD2466A45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7FAA9-3923-4DE7-8338-3A3574889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324CA-0954-4EC3-B104-4488F16E2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E5E2A5-540E-45E5-AC40-D6C287700E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8307B1-C838-4C82-9D80-AA37993EF0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A10BB7-8578-4D25-9FB6-C8041E788B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0ECD3E-D60F-485E-A66A-372A82927B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B5B401-8E45-4ED4-918B-EB9C097936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C589D-0098-45E1-9A1A-E76756B2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421BB3-6AE0-416A-9307-25A7ECEAAF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BF049D-8541-4A23-8140-5BE4A0C115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5680EE-6BD4-42C6-8BC0-B5325C2013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511080-D4C6-4B26-8C7F-01FE363028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22E433-0968-4277-BB45-19291B6266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27CB11-4CB6-43C3-A4A3-AACC05A951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EE6388-0A3B-4F17-942D-E30A7428C4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CBF7-F700-48F3-BBEB-E8EDD934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17A1-7C68-400F-AA6A-74ED82E3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4D8D-E3BF-40C0-933F-32507623C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740E-BF48-44A5-95B8-6FBFA47E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5219-E1F7-484B-B208-8757BA6A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52F3-780D-491D-9871-0E72C78F3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06E7-D7E9-4D9C-845F-0235F3C93FE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5E2E-6F1B-4A75-A2E7-175FB9CDCDD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D69F-D64B-4BB5-B13C-F146F5E7E45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WordArt 6"/>
          <p:cNvSpPr txBox="1"/>
          <p:nvPr/>
        </p:nvSpPr>
        <p:spPr>
          <a:xfrm>
            <a:off x="1371600" y="838080"/>
            <a:ext cx="6477120" cy="28861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ндонезия</a:t>
            </a:r>
            <a:endParaRPr b="0" lang="en-US" sz="1800" spc="1" strike="noStrike">
              <a:ln w="9360">
                <a:solidFill>
                  <a:srgbClr val="000000"/>
                </a:solidFill>
                <a:miter/>
              </a:ln>
              <a:solidFill>
                <a:srgbClr val="000000"/>
              </a:solidFill>
              <a:latin typeface="Arial"/>
              <a:ea typeface="Arial"/>
            </a:endParaRPr>
          </a:p>
        </p:txBody>
      </p:sp>
      <p:sp>
        <p:nvSpPr>
          <p:cNvPr id="125" name="Rectangle 9"/>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http://www.krugosvet.ru/uploads/enc/images/t26/1236331319c33b.jpg"/>
          <p:cNvPicPr/>
          <p:nvPr/>
        </p:nvPicPr>
        <p:blipFill>
          <a:blip r:embed="rId1"/>
          <a:stretch/>
        </p:blipFill>
        <p:spPr>
          <a:xfrm>
            <a:off x="2743200" y="3429000"/>
            <a:ext cx="3200400" cy="1828800"/>
          </a:xfrm>
          <a:prstGeom prst="rect">
            <a:avLst/>
          </a:prstGeom>
          <a:ln w="0">
            <a:noFill/>
          </a:ln>
        </p:spPr>
      </p:pic>
    </p:spTree>
  </p:cSld>
  <p:transition spd="med" advTm="30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ивот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словная линия, проведенная английским естествоиспытателем 19 в. А.Р.Уоллесом вдоль внешнего края Зондского континентального шельфа, восточнее Калимантана и Явы, соответствует примерной границе азиатской фауны на западе и австралийской – на востоке. Соответственно такие крупные животные, как слон, носорог (однорогий на Яве и двурогий на Суматре), тигр и орангутанг, обитают к западу от означенной границы, а более мелкие обезьяны встречаются и восточнее – на островах Сулавеси и Тимор. Еще дальше на восток проникают многие азиатские виды птиц, пресмыкающихся и насекомых (включая бабочек). По мере удаления к востоку от этой линии количество австралийских видов животных возрастает, что прежде всего заметно в провинции Папуа, для которой характерны сумчатые животные. </a:t>
            </a:r>
            <a:endParaRPr b="0" lang="en-US" sz="2400" spc="-1" strike="noStrike">
              <a:solidFill>
                <a:srgbClr val="000000"/>
              </a:solidFill>
              <a:latin typeface="Arial"/>
            </a:endParaRPr>
          </a:p>
        </p:txBody>
      </p:sp>
      <p:pic>
        <p:nvPicPr>
          <p:cNvPr id="155" name="Picture 4" descr="тигр"/>
          <p:cNvPicPr/>
          <p:nvPr/>
        </p:nvPicPr>
        <p:blipFill>
          <a:blip r:embed="rId1"/>
          <a:stretch/>
        </p:blipFill>
        <p:spPr>
          <a:xfrm>
            <a:off x="7829640" y="0"/>
            <a:ext cx="1314360" cy="1752480"/>
          </a:xfrm>
          <a:prstGeom prst="rect">
            <a:avLst/>
          </a:prstGeom>
          <a:ln w="0">
            <a:noFill/>
          </a:ln>
        </p:spPr>
      </p:pic>
    </p:spTree>
  </p:cSld>
  <p:transition spd="med" advTm="30000">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храняемые территор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го в стране свыше 35 национальных парков (9,7% площади страны, 1997), созданных для охраны редких животных и сохранения живой природы. Многие виды животных, в т.ч. орангутанг, яванский и суматрийский носорог, находятся на грани исчезновения и встретить их можно теперь почти исключительно в заповедниках. В </a:t>
            </a:r>
            <a:r>
              <a:rPr b="0" i="1" lang="ru-RU" sz="2000" spc="-1" strike="noStrike">
                <a:solidFill>
                  <a:srgbClr val="000000"/>
                </a:solidFill>
                <a:latin typeface="Times New Roman"/>
              </a:rPr>
              <a:t>Список Всемирного наследия ЮНЕСКО</a:t>
            </a:r>
            <a:r>
              <a:rPr b="0" lang="ru-RU" sz="2000" spc="-1" strike="noStrike">
                <a:solidFill>
                  <a:srgbClr val="000000"/>
                </a:solidFill>
                <a:latin typeface="Times New Roman"/>
              </a:rPr>
              <a:t> включены парки: Уджунг Кулон (Западная Ява, 1206 кв. км), Koмодо (Комодо, 1817 кв. км), Лорентц (Западное Папуа, 25 000 кв. км), а также парки проекта «Наследие тропических лесов Суматры» – Национальный парк Керинчи Себлат (Центральная Суматра, 15 000 кв. км), Национальный парк Гунунг-Лёсер (Северо-Западная Суматра, ок. 9500 кв. км) и Национальный парк Букит Барисан Селатан (Южная Суматра, 3650 кв. км). Другие природные парки – Сиберут (Западная Суматра, 4030 кв. км), Танджунг Путинг (Центральный Калимантан, 3040 кв. км), Кутаи (Восточный Калимантан, ок. 2000 кв. км), Меру Бетири (Восточная Ява, 580 кв. км), Алас Пурво (Юго-Восточная Ява, 434 кв. км). Статус охраняемой территории распространен также на обширную сеть морских заповедников. </a:t>
            </a:r>
            <a:endParaRPr b="0" lang="en-US" sz="2000" spc="-1" strike="noStrike">
              <a:solidFill>
                <a:srgbClr val="000000"/>
              </a:solidFill>
              <a:latin typeface="Arial"/>
            </a:endParaRPr>
          </a:p>
        </p:txBody>
      </p:sp>
    </p:spTree>
  </p:cSld>
  <p:transition spd="med" advTm="30000">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АСЕЛЕНИЕ</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величение численности населения происходит за счет естественного прироста, характеризуемого высокой рождаемостью и постепенно снижающейся смертностью. Ежегодные темпы прироста в 1963–1970 оценивались в 2,8% в год, в 1970–1980 – 2,34%, в 1985 – 2,9%, но благодаря успешному осуществлению программы планирования семьи в 1990–1995 снизились до 1,7%. Сейчас прирост населения равен 1,5%. Рождаемость (2003) из расчета на 1000 человек составляет 21,49 человек. Уровень смертности 6,26 на 1000 человек. Средняя продолжительность жизни 68,94 года. При сохранении нынешних темпов роста ожидаемая численность населения в 2025 должна достигнуть 287 млн. человек. </a:t>
            </a:r>
            <a:endParaRPr b="0" lang="en-US" sz="1600" spc="-1" strike="noStrike">
              <a:solidFill>
                <a:srgbClr val="000000"/>
              </a:solidFill>
              <a:latin typeface="Arial"/>
            </a:endParaRPr>
          </a:p>
        </p:txBody>
      </p:sp>
      <p:pic>
        <p:nvPicPr>
          <p:cNvPr id="160" name="Picture 6" descr="ТОРГОВКА НА О.БАЛИ"/>
          <p:cNvPicPr/>
          <p:nvPr/>
        </p:nvPicPr>
        <p:blipFill>
          <a:blip r:embed="rId1"/>
          <a:stretch/>
        </p:blipFill>
        <p:spPr>
          <a:xfrm>
            <a:off x="5353200" y="1862280"/>
            <a:ext cx="2628720" cy="4000320"/>
          </a:xfrm>
          <a:prstGeom prst="rect">
            <a:avLst/>
          </a:prstGeom>
          <a:ln w="0">
            <a:noFill/>
          </a:ln>
        </p:spPr>
      </p:pic>
    </p:spTree>
  </p:cSld>
  <p:transition spd="med" advTm="30000">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Язы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числу живых языков Индонезия занимает второе место в мире. Здесь говорят на 728 языках и диалектах. Языки коренных этносов страны существенно различаются, хотя все они относятся к малайско-полинезийской (австронезийской) языковой семье, включая яванский язык, наиболее широко распространенный в Индонезии. Он является родным для 75 млн. жителей, особенно на о. Ява. Исключение составляют лишь папуасские языки, на которых говорят в Западном Папуа и других районах восточной части Индонези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30000">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КА</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 развивающаяся индустриально-аграрная страна с многоукладной экономикой и крупнейший в мире экспортер сырьевых товаров. Стратегия развития экономики базируется на пятилетних планах. Период с 1969 по 1997 характеризуется высокими темпами роста промышленности и сектора услуг, привлечением иностранных инвестиций и попытками диверсификации экономики. После 30 лет устойчивого экономического роста индонезийская экономика в 1998 испытала сильный спад. Кризис особенно сильно ударил по Индонезии и подорвал позиции президента Сухарто, породив самую острую политическую ситуацию в стране с середины 1960-х. Хотя кризис высветил много теневых явлений, большинство экономистов и бизнесменов полагают, что в долгосрочной перспективе Индонезию ждет благоприятное будущее, основанное на использовании богатых природных ресурсов. </a:t>
            </a:r>
            <a:endParaRPr b="0" lang="en-US" sz="1400" spc="-1" strike="noStrike">
              <a:solidFill>
                <a:srgbClr val="000000"/>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структуре индонезийской экономики наблюдаются существенные сдвиги, о чем свидетельствует распределение национального продукта. Доля агропроизводства в валовом внутреннем продукте (ВВП) постепенно сократилась примерно с 45,5% в начале 1970-х до 22% в середине 1980-х, а затем до 16–17% в 1997–2004. Доля промышленности возросла примерно с 7% в 1970 до 16% в 1985 и с 25% в 1997 до 43,6% в 2004 (в том числе обрабатывающей – с 8,4% в 1970 до 13% в 1980 и до 25% в 2002). Особенно снизилась роль нефтегазовой отрасли, в которой в 1970-х создавалось в среднем 30% ВВП и лишь 14% в 1990 и 6% в 1997. За те же годы заметно окреп сектор услуг, выросший с 29,8% в 1970 до 39,9% в 2004. </a:t>
            </a:r>
            <a:endParaRPr b="0" lang="en-US" sz="1400" spc="-1" strike="noStrike">
              <a:solidFill>
                <a:srgbClr val="000000"/>
              </a:solidFill>
              <a:latin typeface="Arial"/>
            </a:endParaRPr>
          </a:p>
        </p:txBody>
      </p:sp>
    </p:spTree>
  </p:cSld>
  <p:transition spd="med" advTm="30000">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Organization Chart 7"/>
          <p:cNvGrpSpPr/>
          <p:nvPr/>
        </p:nvGrpSpPr>
        <p:grpSpPr>
          <a:xfrm>
            <a:off x="457200" y="685800"/>
            <a:ext cx="8228880" cy="5424120"/>
            <a:chOff x="457200" y="685800"/>
            <a:chExt cx="8228880" cy="5424120"/>
          </a:xfrm>
        </p:grpSpPr>
        <p:cxnSp>
          <p:nvCxnSpPr>
            <p:cNvPr id="167" name="_s1028"/>
            <p:cNvCxnSpPr>
              <a:stCxn id="168" idx="0"/>
              <a:endCxn id="169" idx="4"/>
            </p:cNvCxnSpPr>
            <p:nvPr/>
          </p:nvCxnSpPr>
          <p:spPr>
            <a:xfrm rot="10800000">
              <a:off x="6067080" y="2041560"/>
              <a:ext cx="374760" cy="1356120"/>
            </a:xfrm>
            <a:prstGeom prst="bentConnector2">
              <a:avLst/>
            </a:prstGeom>
            <a:ln w="9360">
              <a:solidFill>
                <a:srgbClr val="000000"/>
              </a:solidFill>
              <a:miter/>
            </a:ln>
          </p:spPr>
        </p:cxnSp>
        <p:cxnSp>
          <p:nvCxnSpPr>
            <p:cNvPr id="170" name="_s1029"/>
            <p:cNvCxnSpPr>
              <a:stCxn id="171" idx="0"/>
              <a:endCxn id="169" idx="3"/>
            </p:cNvCxnSpPr>
            <p:nvPr/>
          </p:nvCxnSpPr>
          <p:spPr>
            <a:xfrm flipV="1">
              <a:off x="5693400" y="2041560"/>
              <a:ext cx="374760" cy="1356120"/>
            </a:xfrm>
            <a:prstGeom prst="bentConnector2">
              <a:avLst/>
            </a:prstGeom>
            <a:ln w="9360">
              <a:solidFill>
                <a:srgbClr val="000000"/>
              </a:solidFill>
              <a:miter/>
            </a:ln>
          </p:spPr>
        </p:cxnSp>
        <p:cxnSp>
          <p:nvCxnSpPr>
            <p:cNvPr id="172" name="_s1030"/>
            <p:cNvCxnSpPr>
              <a:stCxn id="173" idx="0"/>
              <a:endCxn id="169" idx="2"/>
            </p:cNvCxnSpPr>
            <p:nvPr/>
          </p:nvCxnSpPr>
          <p:spPr>
            <a:xfrm rot="10800000">
              <a:off x="6067080" y="2040840"/>
              <a:ext cx="374760" cy="542880"/>
            </a:xfrm>
            <a:prstGeom prst="bentConnector2">
              <a:avLst/>
            </a:prstGeom>
            <a:ln w="9360">
              <a:solidFill>
                <a:srgbClr val="000000"/>
              </a:solidFill>
              <a:miter/>
            </a:ln>
          </p:spPr>
        </p:cxnSp>
        <p:cxnSp>
          <p:nvCxnSpPr>
            <p:cNvPr id="174" name="_s1031"/>
            <p:cNvCxnSpPr>
              <a:stCxn id="175" idx="0"/>
              <a:endCxn id="169" idx="1"/>
            </p:cNvCxnSpPr>
            <p:nvPr/>
          </p:nvCxnSpPr>
          <p:spPr>
            <a:xfrm flipV="1">
              <a:off x="5693400" y="2041200"/>
              <a:ext cx="374760" cy="542880"/>
            </a:xfrm>
            <a:prstGeom prst="bentConnector2">
              <a:avLst/>
            </a:prstGeom>
            <a:ln w="9360">
              <a:solidFill>
                <a:srgbClr val="000000"/>
              </a:solidFill>
              <a:miter/>
            </a:ln>
          </p:spPr>
        </p:cxnSp>
        <p:cxnSp>
          <p:nvCxnSpPr>
            <p:cNvPr id="176" name="_s1032"/>
            <p:cNvCxnSpPr>
              <a:stCxn id="169" idx="0"/>
              <a:endCxn id="177" idx="4"/>
            </p:cNvCxnSpPr>
            <p:nvPr/>
          </p:nvCxnSpPr>
          <p:spPr>
            <a:xfrm rot="10800000">
              <a:off x="3074760" y="1227240"/>
              <a:ext cx="1870920" cy="544680"/>
            </a:xfrm>
            <a:prstGeom prst="bentConnector2">
              <a:avLst/>
            </a:prstGeom>
            <a:ln w="9360">
              <a:solidFill>
                <a:srgbClr val="000000"/>
              </a:solidFill>
              <a:miter/>
            </a:ln>
          </p:spPr>
        </p:cxnSp>
        <p:cxnSp>
          <p:nvCxnSpPr>
            <p:cNvPr id="178" name="_s1033"/>
            <p:cNvCxnSpPr>
              <a:stCxn id="179" idx="0"/>
              <a:endCxn id="177" idx="3"/>
            </p:cNvCxnSpPr>
            <p:nvPr/>
          </p:nvCxnSpPr>
          <p:spPr>
            <a:xfrm flipV="1">
              <a:off x="2701080" y="1227240"/>
              <a:ext cx="374760" cy="544680"/>
            </a:xfrm>
            <a:prstGeom prst="bentConnector2">
              <a:avLst/>
            </a:prstGeom>
            <a:ln w="9360">
              <a:solidFill>
                <a:srgbClr val="000000"/>
              </a:solidFill>
              <a:miter/>
            </a:ln>
          </p:spPr>
        </p:cxnSp>
        <p:cxnSp>
          <p:nvCxnSpPr>
            <p:cNvPr id="180" name="_s1034"/>
            <p:cNvCxnSpPr>
              <a:stCxn id="181" idx="0"/>
              <a:endCxn id="177" idx="2"/>
            </p:cNvCxnSpPr>
            <p:nvPr/>
          </p:nvCxnSpPr>
          <p:spPr>
            <a:xfrm flipV="1">
              <a:off x="2701080" y="1227600"/>
              <a:ext cx="374760" cy="4610880"/>
            </a:xfrm>
            <a:prstGeom prst="bentConnector2">
              <a:avLst/>
            </a:prstGeom>
            <a:ln w="9360">
              <a:solidFill>
                <a:srgbClr val="000000"/>
              </a:solidFill>
              <a:miter/>
            </a:ln>
          </p:spPr>
        </p:cxnSp>
        <p:cxnSp>
          <p:nvCxnSpPr>
            <p:cNvPr id="182" name="_s1035"/>
            <p:cNvCxnSpPr>
              <a:stCxn id="183" idx="0"/>
              <a:endCxn id="177" idx="1"/>
            </p:cNvCxnSpPr>
            <p:nvPr/>
          </p:nvCxnSpPr>
          <p:spPr>
            <a:xfrm flipV="1">
              <a:off x="2701080" y="1227240"/>
              <a:ext cx="374760" cy="3797640"/>
            </a:xfrm>
            <a:prstGeom prst="bentConnector2">
              <a:avLst/>
            </a:prstGeom>
            <a:ln w="9360">
              <a:solidFill>
                <a:srgbClr val="000000"/>
              </a:solidFill>
              <a:miter/>
            </a:ln>
          </p:spPr>
        </p:cxnSp>
        <p:cxnSp>
          <p:nvCxnSpPr>
            <p:cNvPr id="184" name="_s1036"/>
            <p:cNvCxnSpPr>
              <a:stCxn id="185" idx="0"/>
              <a:endCxn id="177" idx="0"/>
            </p:cNvCxnSpPr>
            <p:nvPr/>
          </p:nvCxnSpPr>
          <p:spPr>
            <a:xfrm flipV="1">
              <a:off x="2701080" y="1227240"/>
              <a:ext cx="374760" cy="2984040"/>
            </a:xfrm>
            <a:prstGeom prst="bentConnector2">
              <a:avLst/>
            </a:prstGeom>
            <a:ln w="9360">
              <a:solidFill>
                <a:srgbClr val="000000"/>
              </a:solidFill>
              <a:miter/>
            </a:ln>
          </p:spPr>
        </p:cxnSp>
        <p:sp>
          <p:nvSpPr>
            <p:cNvPr id="177" name="_s1037"/>
            <p:cNvSpPr/>
            <p:nvPr/>
          </p:nvSpPr>
          <p:spPr>
            <a:xfrm>
              <a:off x="1953360" y="685800"/>
              <a:ext cx="2244240" cy="542160"/>
            </a:xfrm>
            <a:prstGeom prst="bevel">
              <a:avLst>
                <a:gd name="adj" fmla="val 12500"/>
              </a:avLst>
            </a:prstGeom>
            <a:gradFill rotWithShape="0">
              <a:gsLst>
                <a:gs pos="0">
                  <a:srgbClr val="bbe0e3"/>
                </a:gs>
                <a:gs pos="50000">
                  <a:srgbClr val="ffffff"/>
                </a:gs>
                <a:gs pos="100000">
                  <a:srgbClr val="bbe0e3"/>
                </a:gs>
              </a:gsLst>
              <a:lin ang="8100000"/>
            </a:gradFill>
            <a:ln w="324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нятость населения</a:t>
              </a:r>
              <a:endParaRPr b="0" lang="en-US" sz="1200" spc="-1" strike="noStrike">
                <a:solidFill>
                  <a:srgbClr val="000000"/>
                </a:solidFill>
                <a:latin typeface="Arial"/>
              </a:endParaRPr>
            </a:p>
          </p:txBody>
        </p:sp>
        <p:sp>
          <p:nvSpPr>
            <p:cNvPr id="185" name="_s1038"/>
            <p:cNvSpPr/>
            <p:nvPr/>
          </p:nvSpPr>
          <p:spPr>
            <a:xfrm>
              <a:off x="457200" y="39402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фтян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3" name="_s1039"/>
            <p:cNvSpPr/>
            <p:nvPr/>
          </p:nvSpPr>
          <p:spPr>
            <a:xfrm>
              <a:off x="457200" y="47538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азов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1" name="_s1040"/>
            <p:cNvSpPr/>
            <p:nvPr/>
          </p:nvSpPr>
          <p:spPr>
            <a:xfrm>
              <a:off x="457200" y="556776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батывающ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79" name="_s1041"/>
            <p:cNvSpPr/>
            <p:nvPr/>
          </p:nvSpPr>
          <p:spPr>
            <a:xfrm>
              <a:off x="45720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ктроэнергетик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_s1042"/>
            <p:cNvSpPr/>
            <p:nvPr/>
          </p:nvSpPr>
          <p:spPr>
            <a:xfrm>
              <a:off x="494568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ельское хозяйство</a:t>
              </a:r>
              <a:endParaRPr b="0" lang="en-US" sz="1200" spc="-1" strike="noStrike">
                <a:solidFill>
                  <a:srgbClr val="000000"/>
                </a:solidFill>
                <a:latin typeface="Arial"/>
              </a:endParaRPr>
            </a:p>
          </p:txBody>
        </p:sp>
        <p:sp>
          <p:nvSpPr>
            <p:cNvPr id="175" name="_s1043"/>
            <p:cNvSpPr/>
            <p:nvPr/>
          </p:nvSpPr>
          <p:spPr>
            <a:xfrm>
              <a:off x="344952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емледелие</a:t>
              </a:r>
              <a:endParaRPr b="0" lang="en-US" sz="1200" spc="-1" strike="noStrike">
                <a:solidFill>
                  <a:srgbClr val="000000"/>
                </a:solidFill>
                <a:latin typeface="Arial"/>
              </a:endParaRPr>
            </a:p>
          </p:txBody>
        </p:sp>
        <p:sp>
          <p:nvSpPr>
            <p:cNvPr id="173" name="_s1044"/>
            <p:cNvSpPr/>
            <p:nvPr/>
          </p:nvSpPr>
          <p:spPr>
            <a:xfrm>
              <a:off x="644184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отноводство</a:t>
              </a:r>
              <a:endParaRPr b="0" lang="en-US" sz="1200" spc="-1" strike="noStrike">
                <a:solidFill>
                  <a:srgbClr val="000000"/>
                </a:solidFill>
                <a:latin typeface="Arial"/>
              </a:endParaRPr>
            </a:p>
          </p:txBody>
        </p:sp>
        <p:sp>
          <p:nvSpPr>
            <p:cNvPr id="171" name="_s1045"/>
            <p:cNvSpPr/>
            <p:nvPr/>
          </p:nvSpPr>
          <p:spPr>
            <a:xfrm>
              <a:off x="3449520" y="31266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ыболовство</a:t>
              </a:r>
              <a:endParaRPr b="0" lang="en-US" sz="1200" spc="-1" strike="noStrike">
                <a:solidFill>
                  <a:srgbClr val="000000"/>
                </a:solidFill>
                <a:latin typeface="Arial"/>
              </a:endParaRPr>
            </a:p>
          </p:txBody>
        </p:sp>
        <p:sp>
          <p:nvSpPr>
            <p:cNvPr id="168" name="_s1046"/>
            <p:cNvSpPr/>
            <p:nvPr/>
          </p:nvSpPr>
          <p:spPr>
            <a:xfrm>
              <a:off x="6441840" y="3126600"/>
              <a:ext cx="2244240" cy="54000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созаготовк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6" name="Picture 39" descr="СЕЛЬСКОХОЗЯЙСТВЕННЫЕ УГОДЬЯ на острове Бали (Индонезия)."/>
            <p:cNvPicPr/>
            <p:nvPr/>
          </p:nvPicPr>
          <p:blipFill>
            <a:blip r:embed="rId1"/>
            <a:stretch/>
          </p:blipFill>
          <p:spPr>
            <a:xfrm>
              <a:off x="3961440" y="3962880"/>
              <a:ext cx="4548240" cy="1981080"/>
            </a:xfrm>
            <a:prstGeom prst="rect">
              <a:avLst/>
            </a:prstGeom>
            <a:ln w="0">
              <a:noFill/>
            </a:ln>
          </p:spPr>
        </p:pic>
      </p:grpSp>
    </p:spTree>
  </p:cSld>
  <p:transition spd="med" advTm="30000">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дравоохран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донезии достигла определенных успехов в области здравоохранения. Благодаря программе планирования семьи удалось снизить высокий уровень рождаемости. Продолжительность жизни мужчин выросла с 51,1 года в 1980 до 67 лет в 2003, женщин – с 54,4 лет до 71 года. Детская смертность (на 1 тыс. живорожденных) сократилась со 105 случаев в 1980 до 37 в 2004. Однако детская смертность в сельской местности гораздо выше среднего показател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смотря на вакцинацию, повсеместно встречаются различные заболевания, типичные для тропического климата. Очаги малярии сохраняются на Калимантане и Суматре. Негативное влияние на состояние здравоохранения оказывают также антисанитарные условия жизни большинства населения, особенно на перенаселенных островах. Согласно данным за 2000, не имеют доступа к безопасным питьевым источникам 90% городских и 69% сельских жителей, страдают от недоедания около 12 млн. человек. </a:t>
            </a:r>
            <a:endParaRPr b="0" lang="en-US" sz="2000" spc="-1" strike="noStrike">
              <a:solidFill>
                <a:srgbClr val="000000"/>
              </a:solidFill>
              <a:latin typeface="Arial"/>
            </a:endParaRPr>
          </a:p>
        </p:txBody>
      </p:sp>
    </p:spTree>
  </p:cSld>
  <p:transition spd="med" advTm="30000">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УЛЬТУРА</a:t>
            </a:r>
            <a:endParaRPr b="0" lang="en-US" sz="4400" spc="-1" strike="noStrike">
              <a:solidFill>
                <a:srgbClr val="000000"/>
              </a:solidFill>
              <a:latin typeface="Arial"/>
            </a:endParaRPr>
          </a:p>
        </p:txBody>
      </p:sp>
      <p:sp>
        <p:nvSpPr>
          <p:cNvPr id="190" name=""/>
          <p:cNvSpPr txBox="1"/>
          <p:nvPr/>
        </p:nvSpPr>
        <p:spPr>
          <a:xfrm>
            <a:off x="4648320" y="1600200"/>
            <a:ext cx="4038480" cy="2185920"/>
          </a:xfrm>
          <a:prstGeom prst="rect">
            <a:avLst/>
          </a:prstGeom>
          <a:noFill/>
          <a:ln w="0">
            <a:noFill/>
          </a:ln>
        </p:spPr>
        <p:txBody>
          <a:bodyPr anchor="t">
            <a:normAutofit fontScale="97000"/>
          </a:bodyPr>
          <a:p>
            <a:pPr marL="332640" indent="-33264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Культурные влияния.</a:t>
            </a:r>
            <a:r>
              <a:rPr b="0" lang="ru-RU" sz="2400" spc="-1" strike="noStrike">
                <a:solidFill>
                  <a:srgbClr val="000000"/>
                </a:solidFill>
                <a:latin typeface="Arial"/>
              </a:rPr>
              <a:t> </a:t>
            </a:r>
            <a:r>
              <a:rPr b="0" lang="ru-RU" sz="1000" spc="-1" strike="noStrike">
                <a:solidFill>
                  <a:srgbClr val="000000"/>
                </a:solidFill>
                <a:latin typeface="Times New Roman"/>
              </a:rPr>
              <a:t>О малайско-полинезийском происхождении коренного населения страны свидетельствует высокое общественное положение женщины и то символическое значение, которое придается лодкам. В результате коллективных творческих усилий различных народов, приходивших на архипелаг, произошло наслоение разных культур. Свое воздействие последовательно оказали индуизм и буддизм, попавшие на острова в первую очередь из Индии и с 8 в. успешно закрепившиеся на Яве и Бали; ислам, привнесенный в 14 в. со Среднего Востока купцами и проповедниками; европейские традиции, которые внедрялись португальцами в 16 в. и затем голландцами вплоть до начала 19 в. </a:t>
            </a:r>
            <a:endParaRPr b="0" lang="en-US" sz="1000" spc="-1" strike="noStrike">
              <a:solidFill>
                <a:srgbClr val="000000"/>
              </a:solidFill>
              <a:latin typeface="Arial"/>
            </a:endParaRPr>
          </a:p>
        </p:txBody>
      </p:sp>
      <p:sp>
        <p:nvSpPr>
          <p:cNvPr id="191" name=""/>
          <p:cNvSpPr txBox="1"/>
          <p:nvPr/>
        </p:nvSpPr>
        <p:spPr>
          <a:xfrm>
            <a:off x="4648320" y="3938760"/>
            <a:ext cx="4038480" cy="2187360"/>
          </a:xfrm>
          <a:prstGeom prst="rect">
            <a:avLst/>
          </a:prstGeom>
          <a:noFill/>
          <a:ln w="0">
            <a:noFill/>
          </a:ln>
        </p:spPr>
        <p:txBody>
          <a:bodyPr anchor="t">
            <a:normAutofit/>
          </a:bodyPr>
          <a:p>
            <a:pPr marL="343080" indent="-34308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1" lang="ru-RU" sz="1000" spc="-1" strike="noStrike">
                <a:solidFill>
                  <a:srgbClr val="000000"/>
                </a:solidFill>
                <a:latin typeface="Times New Roman"/>
              </a:rPr>
              <a:t>Музыка и танец. </a:t>
            </a:r>
            <a:r>
              <a:rPr b="0" lang="ru-RU" sz="1000" spc="-1" strike="noStrike">
                <a:solidFill>
                  <a:srgbClr val="000000"/>
                </a:solidFill>
                <a:latin typeface="Times New Roman"/>
              </a:rPr>
              <a:t>Примером соединения индуистского влияния и местной традиции может служить знаменитый яванский театр теней (ваянг-кулит), популярный также и на Бали. Во время представления кукловод (даланг) передвигает перед белым экраном фигуры кукол, сделанных из кожи буйвола, на которые направлен свет масляного светильника. На фоне экрана отчетливо видны куклы, а на самом экране их тени. Продолжающееся всю ночь представление ваянг-кулит – не только спектакль, но и своеобразное ритуальное действо. Разыгрывание сюжетов из индийских эпосов </a:t>
            </a:r>
            <a:r>
              <a:rPr b="0" i="1" lang="ru-RU" sz="1000" spc="-1" strike="noStrike">
                <a:solidFill>
                  <a:srgbClr val="000000"/>
                </a:solidFill>
                <a:latin typeface="Times New Roman"/>
              </a:rPr>
              <a:t>Рамаяна</a:t>
            </a:r>
            <a:r>
              <a:rPr b="0" lang="ru-RU" sz="1000" spc="-1" strike="noStrike">
                <a:solidFill>
                  <a:srgbClr val="000000"/>
                </a:solidFill>
                <a:latin typeface="Times New Roman"/>
              </a:rPr>
              <a:t> и </a:t>
            </a:r>
            <a:r>
              <a:rPr b="0" i="1" lang="ru-RU" sz="1000" spc="-1" strike="noStrike">
                <a:solidFill>
                  <a:srgbClr val="000000"/>
                </a:solidFill>
                <a:latin typeface="Times New Roman"/>
              </a:rPr>
              <a:t>Махабхарата</a:t>
            </a:r>
            <a:r>
              <a:rPr b="0" lang="ru-RU" sz="1000" spc="-1" strike="noStrike">
                <a:solidFill>
                  <a:srgbClr val="000000"/>
                </a:solidFill>
                <a:latin typeface="Times New Roman"/>
              </a:rPr>
              <a:t> служит прославлению богов, умиротворению духов и обогащению души зрителей. Полагают, что древнее искусство ваянг-кулит могло зародиться в Китае </a:t>
            </a:r>
            <a:endParaRPr b="0" lang="en-US" sz="1000" spc="-1" strike="noStrike">
              <a:solidFill>
                <a:srgbClr val="000000"/>
              </a:solidFill>
              <a:latin typeface="Arial"/>
            </a:endParaRPr>
          </a:p>
        </p:txBody>
      </p:sp>
      <p:pic>
        <p:nvPicPr>
          <p:cNvPr id="192" name="Picture 9" descr="ЖИТЕЛЬНИЦА ОСТРОВА БАЛИ (Индонезия) исполняет традиционный танец."/>
          <p:cNvPicPr/>
          <p:nvPr/>
        </p:nvPicPr>
        <p:blipFill>
          <a:blip r:embed="rId1"/>
          <a:stretch/>
        </p:blipFill>
        <p:spPr>
          <a:xfrm>
            <a:off x="1071720" y="1862280"/>
            <a:ext cx="2809800" cy="4000320"/>
          </a:xfrm>
          <a:prstGeom prst="rect">
            <a:avLst/>
          </a:prstGeom>
          <a:ln w="0">
            <a:noFill/>
          </a:ln>
        </p:spPr>
      </p:pic>
    </p:spTree>
  </p:cSld>
  <p:transition spd="med" advTm="30000">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Государственный гимн: Великая Индонезия."/>
          <p:cNvPicPr/>
          <p:nvPr/>
        </p:nvPicPr>
        <p:blipFill>
          <a:blip r:embed="rId1"/>
          <a:stretch/>
        </p:blipFill>
        <p:spPr>
          <a:xfrm>
            <a:off x="228600" y="457200"/>
            <a:ext cx="8763120" cy="6019920"/>
          </a:xfrm>
          <a:prstGeom prst="rect">
            <a:avLst/>
          </a:prstGeom>
          <a:ln w="0">
            <a:noFill/>
          </a:ln>
        </p:spPr>
      </p:pic>
    </p:spTree>
  </p:cSld>
  <p:transition spd="med" advTm="30000">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28600"/>
            <a:ext cx="8229600" cy="3581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ОНЕЗИЯ, </a:t>
            </a:r>
            <a:r>
              <a:rPr b="0" lang="ru-RU" sz="2000" spc="-1" strike="noStrike">
                <a:solidFill>
                  <a:srgbClr val="000000"/>
                </a:solidFill>
                <a:latin typeface="Times New Roman"/>
              </a:rPr>
              <a:t>Республика Индонезия, крупнейшее государство в Юго-Восточной Азии и самое большое островное государство в мире. Территория Индонезии простирается между 6" 11" северной широты и 11" 15" южной широты, между 94"54" и 141" 05" восточной долготы. Согласно последним данным, в состав Индонезии входит 18 108 островов, из которых около 1000 имеют постоянное население. Границы страны преимущественно морские. На северо-западе Индонезия отделена Малаккским проливом и Южно-Китайским морем от Западной Малайзии и Сингапура, на северо-востоке морями Сулу и Сулавеси от Филиппин и Тихим океаном от Палау, на юго-востоке Тиморским и Арафурским морями от Австралии. На Калимантане Индонезия граничит с Восточной Малайзией, на о. Тимор – с Восточным Тимором и на о. Новая Гвинея – с Папуа – Новой Гвинеей.</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29" name="Rectangle 5"/>
          <p:cNvSpPr/>
          <p:nvPr/>
        </p:nvSpPr>
        <p:spPr>
          <a:xfrm>
            <a:off x="838080" y="4267080"/>
            <a:ext cx="777240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a:t>
            </a:r>
            <a:endParaRPr b="0" lang="en-US" sz="1800" spc="-1" strike="noStrike">
              <a:solidFill>
                <a:srgbClr val="000000"/>
              </a:solidFill>
              <a:latin typeface="Arial"/>
            </a:endParaRPr>
          </a:p>
        </p:txBody>
      </p:sp>
    </p:spTree>
  </p:cSld>
  <p:transition spd="med" advTm="30000">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Rectangle 5"/>
          <p:cNvSpPr/>
          <p:nvPr/>
        </p:nvSpPr>
        <p:spPr>
          <a:xfrm>
            <a:off x="0" y="184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352680" y="4845600"/>
            <a:ext cx="2133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ДЖАКАРТА</a:t>
            </a:r>
            <a:endParaRPr b="0" lang="en-US" sz="2400" spc="-1" strike="noStrike">
              <a:solidFill>
                <a:srgbClr val="000000"/>
              </a:solidFill>
              <a:latin typeface="Arial"/>
            </a:endParaRPr>
          </a:p>
        </p:txBody>
      </p:sp>
      <p:pic>
        <p:nvPicPr>
          <p:cNvPr id="133" name="Picture 7" descr="ДЖАКАРТА"/>
          <p:cNvPicPr/>
          <p:nvPr/>
        </p:nvPicPr>
        <p:blipFill>
          <a:blip r:embed="rId1"/>
          <a:stretch/>
        </p:blipFill>
        <p:spPr>
          <a:xfrm>
            <a:off x="457200" y="1008000"/>
            <a:ext cx="7848720" cy="3335400"/>
          </a:xfrm>
          <a:prstGeom prst="rect">
            <a:avLst/>
          </a:prstGeom>
          <a:ln w="0">
            <a:noFill/>
          </a:ln>
        </p:spPr>
      </p:pic>
    </p:spTree>
  </p:cSld>
  <p:transition spd="med" advTm="30000">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34" name="Rectangle 11"/>
          <p:cNvSpPr/>
          <p:nvPr/>
        </p:nvSpPr>
        <p:spPr>
          <a:xfrm>
            <a:off x="4418640" y="227520"/>
            <a:ext cx="10677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ПРИРОДА</a:t>
            </a:r>
            <a:endParaRPr b="0" lang="en-US" sz="1400" spc="-1" strike="noStrike">
              <a:solidFill>
                <a:srgbClr val="000000"/>
              </a:solidFill>
              <a:latin typeface="Arial"/>
            </a:endParaRPr>
          </a:p>
        </p:txBody>
      </p:sp>
      <p:pic>
        <p:nvPicPr>
          <p:cNvPr id="135" name="Picture 10" descr="http://www.krugosvet.ru/uploads/enc/images/t26/1236331320a078.jpg"/>
          <p:cNvPicPr/>
          <p:nvPr/>
        </p:nvPicPr>
        <p:blipFill>
          <a:blip r:embed="rId1"/>
          <a:stretch/>
        </p:blipFill>
        <p:spPr>
          <a:xfrm>
            <a:off x="1066680" y="609480"/>
            <a:ext cx="7239240" cy="2438640"/>
          </a:xfrm>
          <a:prstGeom prst="rect">
            <a:avLst/>
          </a:prstGeom>
          <a:ln w="0">
            <a:noFill/>
          </a:ln>
        </p:spPr>
      </p:pic>
      <p:sp>
        <p:nvSpPr>
          <p:cNvPr id="136" name="Rectangle 12"/>
          <p:cNvSpPr/>
          <p:nvPr/>
        </p:nvSpPr>
        <p:spPr>
          <a:xfrm>
            <a:off x="380880" y="3063240"/>
            <a:ext cx="8534520" cy="3778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раскинулась на</a:t>
            </a:r>
            <a:r>
              <a:rPr b="0" lang="ru-RU" sz="1800" spc="-1" strike="noStrike">
                <a:solidFill>
                  <a:srgbClr val="000000"/>
                </a:solidFill>
                <a:latin typeface="Arial"/>
              </a:rPr>
              <a:t> </a:t>
            </a:r>
            <a:r>
              <a:rPr b="0" lang="ru-RU" sz="1400" spc="-1" strike="noStrike">
                <a:solidFill>
                  <a:srgbClr val="000000"/>
                </a:solidFill>
                <a:latin typeface="Arial"/>
                <a:ea typeface="Times New Roman"/>
              </a:rPr>
              <a:t>островах Малайского архипелага (Большие и Малые Зондские о-ва), Молуккских о-вах и западной части о. Новая Гвинея, которые вытянулись вдоль экватора. Крайние западную и восточную точки страны разделяют примерно 5150 км, а крайние северную и южную –1931 км. Общая площадь суши Индонезии составляет 1919,4 тыс. кв. км, а акватории – 7,9 млн. кв. к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ереговая линия изрезана довольно слабо, естественных бухт мало; вдоль побережья часто встречаются коралловые рифы и песчаные отмели. Побережья внутренних морей низменные, почти везде заболоченные с обширными мангровыми зарослями или заливными рисовыми полями. Берега на юге Суматры, Явы и островах Восточной Индонезии, обращенные к Индийскому океану, напротив, высокие и местами со скалистыми обрывам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Рельеф. </a:t>
            </a:r>
            <a:r>
              <a:rPr b="0" lang="ru-RU" sz="1400" spc="-1" strike="noStrike">
                <a:solidFill>
                  <a:srgbClr val="000000"/>
                </a:solidFill>
                <a:latin typeface="Arial"/>
                <a:ea typeface="Times New Roman"/>
              </a:rPr>
              <a:t>Острова Индонезии существенно различаются по размерам. Самые крупные из них – Новая Гвинея (829 тыс. кв. км, из них на долю провинции Папуа приходится 421,9 тыс. кв. км), Калимантан (734 тыс. кв. км, Индонезии принадлежат 539,5 тыс. кв. км), Суматра (473,6 тыс. кв. км), Сулавеси (189,2 тыс. кв. км) и Ява (126,5 тыс. кв. км). Остальные острова Индонезии по площади значительно уступают перечисленным, большинство относится к Малым Зондским и Молуккским островам. В состав Индонезии входит также множество крохотных коралловых атоллов и одиночных скал. </a:t>
            </a:r>
            <a:endParaRPr b="0" lang="en-US" sz="1400" spc="-1" strike="noStrike">
              <a:solidFill>
                <a:srgbClr val="000000"/>
              </a:solidFill>
              <a:latin typeface="Arial"/>
            </a:endParaRPr>
          </a:p>
        </p:txBody>
      </p:sp>
    </p:spTree>
  </p:cSld>
  <p:transition spd="med" advTm="30000">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ощадь:</a:t>
            </a:r>
            <a:br>
              <a:rPr sz="2000"/>
            </a:br>
            <a:r>
              <a:rPr b="0" lang="ru-RU" sz="2000" spc="-1" strike="noStrike">
                <a:solidFill>
                  <a:srgbClr val="000000"/>
                </a:solidFill>
                <a:latin typeface="Times New Roman"/>
              </a:rPr>
              <a:t>всего: 1 919 440 кв. км.</a:t>
            </a:r>
            <a:br>
              <a:rPr sz="2000"/>
            </a:br>
            <a:r>
              <a:rPr b="0" lang="ru-RU" sz="2000" spc="-1" strike="noStrike">
                <a:solidFill>
                  <a:srgbClr val="000000"/>
                </a:solidFill>
                <a:latin typeface="Times New Roman"/>
              </a:rPr>
              <a:t>вода: 4,85 кв.км.</a:t>
            </a:r>
            <a:endParaRPr b="0" lang="en-US" sz="2000" spc="-1" strike="noStrike">
              <a:solidFill>
                <a:srgbClr val="000000"/>
              </a:solidFill>
              <a:latin typeface="Arial"/>
            </a:endParaRPr>
          </a:p>
        </p:txBody>
      </p:sp>
      <p:sp>
        <p:nvSpPr>
          <p:cNvPr id="138" name="PlaceHolder 2"/>
          <p:cNvSpPr>
            <a:spLocks noGrp="1"/>
          </p:cNvSpPr>
          <p:nvPr>
            <p:ph/>
          </p:nvPr>
        </p:nvSpPr>
        <p:spPr>
          <a:xfrm>
            <a:off x="1523880" y="114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39" name="Rectangle 5"/>
          <p:cNvSpPr/>
          <p:nvPr/>
        </p:nvSpPr>
        <p:spPr>
          <a:xfrm>
            <a:off x="0" y="194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2160" y="4663440"/>
            <a:ext cx="5860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У БЕР</a:t>
            </a:r>
            <a:r>
              <a:rPr b="0" lang="ru-RU" sz="900" spc="-1" strike="noStrike">
                <a:solidFill>
                  <a:srgbClr val="000000"/>
                </a:solidFill>
                <a:latin typeface="Arial"/>
              </a:rPr>
              <a:t> </a:t>
            </a:r>
            <a:endParaRPr b="0" lang="en-US" sz="900" spc="-1" strike="noStrike">
              <a:solidFill>
                <a:srgbClr val="000000"/>
              </a:solidFill>
              <a:latin typeface="Arial"/>
            </a:endParaRPr>
          </a:p>
        </p:txBody>
      </p:sp>
      <p:pic>
        <p:nvPicPr>
          <p:cNvPr id="141" name="Picture 7" descr="У БЕРЕГОВ ОСТРОВА БАЛИ (Индонезия)"/>
          <p:cNvPicPr/>
          <p:nvPr/>
        </p:nvPicPr>
        <p:blipFill>
          <a:blip r:embed="rId1"/>
          <a:stretch/>
        </p:blipFill>
        <p:spPr>
          <a:xfrm>
            <a:off x="762120" y="1371600"/>
            <a:ext cx="4095720" cy="2714760"/>
          </a:xfrm>
          <a:prstGeom prst="rect">
            <a:avLst/>
          </a:prstGeom>
          <a:ln w="0">
            <a:noFill/>
          </a:ln>
        </p:spPr>
      </p:pic>
      <p:sp>
        <p:nvSpPr>
          <p:cNvPr id="142" name="Rectangle 9"/>
          <p:cNvSpPr/>
          <p:nvPr/>
        </p:nvSpPr>
        <p:spPr>
          <a:xfrm>
            <a:off x="0" y="184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9360" y="4768200"/>
            <a:ext cx="1247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А.ПАЙЕН. Город </a:t>
            </a:r>
            <a:endParaRPr b="0" lang="en-US" sz="1000" spc="-1" strike="noStrike">
              <a:solidFill>
                <a:srgbClr val="000000"/>
              </a:solidFill>
              <a:latin typeface="Arial"/>
            </a:endParaRPr>
          </a:p>
        </p:txBody>
      </p:sp>
      <p:pic>
        <p:nvPicPr>
          <p:cNvPr id="144" name="Picture 11" descr="А.ПАЙЕН. Город на севере Сулавеси во времена господства Нидерландов. "/>
          <p:cNvPicPr/>
          <p:nvPr/>
        </p:nvPicPr>
        <p:blipFill>
          <a:blip r:embed="rId2"/>
          <a:stretch/>
        </p:blipFill>
        <p:spPr>
          <a:xfrm>
            <a:off x="5048280" y="3657600"/>
            <a:ext cx="4095720" cy="2924280"/>
          </a:xfrm>
          <a:prstGeom prst="rect">
            <a:avLst/>
          </a:prstGeom>
          <a:ln w="0">
            <a:noFill/>
          </a:ln>
        </p:spPr>
      </p:pic>
    </p:spTree>
  </p:cSld>
  <p:transition spd="med" advTm="30000">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2286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лимат </a:t>
            </a:r>
            <a:r>
              <a:rPr b="0" lang="ru-RU" sz="2000" spc="-1" strike="noStrike">
                <a:solidFill>
                  <a:srgbClr val="000000"/>
                </a:solidFill>
                <a:latin typeface="Times New Roman"/>
              </a:rPr>
              <a:t>Индонезии экваториальный и субэкваториальный. Для протянувшейся вдоль экватора и окруженной со всех сторон морями Индонезии характерны весьма незначительные порайонные климатические различия и высокая относительная влажность воздуха (80%). Средняя месячная температура воздуха на уровне моря примерно соответствует средней годовой температуре +26–27° С. На относительно удаленных от экватора Малых Зондских о-вах, Яве и Бали достаточно сильно ощущается уравновешивающее климатическое воздействие океана. Так, в приморском городе Купанге на Тиморе, где находится самая южная метеорологическая станция страны, среднегодовая температура воздуха +26° С, а среднемесячные показатели колеблются в пределах +24–27° С. Хотя в возвышенных районах фиксируются не столь высокие и более дифференцированные показатели температуры воздуха, ее месячные значения остаются стабильными. На высотах более 1500 м бывают заморозки. </a:t>
            </a:r>
            <a:endParaRPr b="0" lang="en-US" sz="2000" spc="-1" strike="noStrike">
              <a:solidFill>
                <a:srgbClr val="000000"/>
              </a:solidFill>
              <a:latin typeface="Arial"/>
            </a:endParaRPr>
          </a:p>
        </p:txBody>
      </p:sp>
      <p:pic>
        <p:nvPicPr>
          <p:cNvPr id="146" name="Picture 6" descr="Копия 024 (1)"/>
          <p:cNvPicPr/>
          <p:nvPr/>
        </p:nvPicPr>
        <p:blipFill>
          <a:blip r:embed="rId1"/>
          <a:stretch/>
        </p:blipFill>
        <p:spPr>
          <a:xfrm>
            <a:off x="6686640" y="4038480"/>
            <a:ext cx="2000160" cy="2667240"/>
          </a:xfrm>
          <a:prstGeom prst="rect">
            <a:avLst/>
          </a:prstGeom>
          <a:ln w="0">
            <a:noFill/>
          </a:ln>
        </p:spPr>
      </p:pic>
    </p:spTree>
  </p:cSld>
  <p:transition spd="med" advTm="30000">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дные ресурс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9144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обенности климата и рельефа благоприятствуют образованию густой речной сети. Благодаря обилию атмосферных осадков реки полноводны почти круглый год и играют большую роль в системе ирригации. В горных районах реки представляют потенциальный источник электроэнергии. Вместе с тем в регионе нередки наводнения, а реки несут значительное количество илистого материала, затрудняющего навигацию и отлагающегося в прибрежной зон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ые большие реки Индонезии на о.Калимантан – р.Капуас, или Капуас Бесар (1040 км, площадь бассейна – 97 тыс. кв. км) в Западном Калимантане, Махакам (715 км) в Восточном Калимантане, Мартапура и Барито (650 км) в Южном Калимантане. Большинство рек берут начало в центральном горном массиве; на равнинах, ближе к побережью, они протекают через обширные болота; русла часто меняются. Вдоль многих рек, служащих также в качестве транспортных артерий, образуются поселения. </a:t>
            </a:r>
            <a:endParaRPr b="0" lang="en-US" sz="2000" spc="-1" strike="noStrike">
              <a:solidFill>
                <a:srgbClr val="000000"/>
              </a:solidFill>
              <a:latin typeface="Arial"/>
            </a:endParaRPr>
          </a:p>
        </p:txBody>
      </p:sp>
      <p:pic>
        <p:nvPicPr>
          <p:cNvPr id="149" name="Picture 4" descr="Копия 025 (1)"/>
          <p:cNvPicPr/>
          <p:nvPr/>
        </p:nvPicPr>
        <p:blipFill>
          <a:blip r:embed="rId1"/>
          <a:stretch/>
        </p:blipFill>
        <p:spPr>
          <a:xfrm>
            <a:off x="6781680" y="4495680"/>
            <a:ext cx="1771920" cy="2362320"/>
          </a:xfrm>
          <a:prstGeom prst="rect">
            <a:avLst/>
          </a:prstGeom>
          <a:ln w="0">
            <a:noFill/>
          </a:ln>
        </p:spPr>
      </p:pic>
    </p:spTree>
  </p:cSld>
  <p:transition spd="med" advTm="30000">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ститель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1447560" y="1600200"/>
            <a:ext cx="6629400" cy="2819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лагодаря жаркому и влажному климату, многообразию рельефа, а также географическому положению Индонезия располагает богатым и разнообразным растительным миром, включающим ок. 40 тыс. видов (только Ява насчитывает ок. 10 тыс. видов). За исключением Явы и Бали, примерно 90% территории страны покрыты лесами, в которых произрастает ок. 3 тыс. видов деревьев. В значительной степени это уже вторичный лес (белукар), который весьма распространен в тех частях Внешних островов, где практикуется подсечно-огневая система земледелия. В более засушливых районах при таком типе землепользования естественная растительность нередко полностью вытеснялась покровом жесткой травы лаланг.</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52" name="Picture 4" descr="ДОЛИНА НА ОСТРОВЕ БАЛИ (Индонезия) в архипелаге Малых Зондских островов"/>
          <p:cNvPicPr/>
          <p:nvPr/>
        </p:nvPicPr>
        <p:blipFill>
          <a:blip r:embed="rId1"/>
          <a:stretch/>
        </p:blipFill>
        <p:spPr>
          <a:xfrm>
            <a:off x="1447920" y="4267080"/>
            <a:ext cx="5181480" cy="1905120"/>
          </a:xfrm>
          <a:prstGeom prst="rect">
            <a:avLst/>
          </a:prstGeom>
          <a:ln w="0">
            <a:noFill/>
          </a:ln>
        </p:spPr>
      </p:pic>
    </p:spTree>
  </p:cSld>
  <p:transition spd="med" advTm="30000">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пиридонова Наталья Николаевна</cp:lastModifiedBy>
  <dcterms:modified xsi:type="dcterms:W3CDTF">2011-09-14T06:50: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8070000000000010250300207f7000400038000</vt:lpwstr>
  </property>
  <property fmtid="{D5CDD505-2E9C-101B-9397-08002B2CF9AE}" pid="3" name="Version">
    <vt:r8>1</vt:r8>
  </property>
</Properties>
</file>