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7.png" ContentType="image/png"/>
  <Override PartName="/ppt/media/image22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gif" ContentType="image/gif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6328A-302E-4D2E-83C8-A9F508C14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D2D38-C3A2-4940-987A-F8F729842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77516-1440-49F8-BC33-28C65701B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D4683-945A-455B-AC93-82DB0D75B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DB8E6-413B-4C18-9C23-1148F6AFF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AF9B6-34A5-4484-8C5C-E92C254A1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B1721-4BC1-4B47-A039-C3D22E020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26A05-3D2C-4FC3-B12A-0DB0251B8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72A41-4BE9-4D0A-A4DE-127420FEF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3543E-E183-4077-B6C1-A6D318764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0430A-36BF-43A2-95DF-F45EA7658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A4D8B-854E-4AAF-B6F6-C47DFAC3E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2C4AA-6328-4770-A37E-5127D08C9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74887-A670-44DD-8D98-2154D421F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F2719-81EF-48CB-8F80-91AD8AFA2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6A57D-7175-4CEA-9CCF-A5E727141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38A19-8D5C-4F04-9E4C-C3238F52D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01D23-8632-41F9-899D-02E4FA3AD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97AED-BA04-4ABF-AEE3-DB0037102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710B2-F6BA-4EBB-A32C-64C72CB0B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86173-C9C2-49E0-AE69-FFE95BFD6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366BE-7579-4AF5-9279-A09CC9526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123CB-1EF0-40B7-8D72-0E17EF9EB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2C24E-95C8-4380-A585-B8ACA442F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D733E-C0D4-4774-B750-7DA4EF5B9A7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198A4-35E8-4FAE-9EB3-541F1BEBBA5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ff"/>
                </a:solidFill>
                <a:latin typeface="Tahoma"/>
              </a:rPr>
              <a:t>Индия 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755640" y="2390760"/>
            <a:ext cx="4392720" cy="31719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5859360" y="2050920"/>
            <a:ext cx="2381400" cy="404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На спасение тигров Индия потратит 150 миллионов долларов  за следующие пять лет. Количество тигров в Индии сейчас оценивается примерно в 1300-1500 особей, хотя еще в прошлом веке их было около 40 тысяч. Также планируется создать восемь новых заповедников для сохранения тигров.</a:t>
            </a: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547640" y="1773360"/>
            <a:ext cx="6409080" cy="48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редкие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611280" y="2430360"/>
            <a:ext cx="4381560" cy="290988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5651640" y="1844640"/>
            <a:ext cx="2781000" cy="19908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5796000" y="4365720"/>
            <a:ext cx="2504880" cy="188568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1218600" y="567684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Малайский медвед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232320" y="3803760"/>
            <a:ext cx="164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Малая пан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675840" y="6324480"/>
            <a:ext cx="103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Марху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Священные </a:t>
            </a:r>
            <a:br>
              <a:rPr sz="4400"/>
            </a:b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Индия – страна с самым большим поголовьем коров, буйволов и быков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Корова спокойно прогуливается по улице города, мешая транспорту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Индуистская религия запрещает есть их мясо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Буйволы и быки служат вьючными и тягловыми животными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5145120" y="2641680"/>
            <a:ext cx="3809880" cy="286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Другие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928800" y="1916280"/>
            <a:ext cx="1658880" cy="223344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5670720" y="2017800"/>
            <a:ext cx="2757240" cy="198108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>
            <a:off x="6307200" y="4151160"/>
            <a:ext cx="1485720" cy="198144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4"/>
          <a:stretch/>
        </p:blipFill>
        <p:spPr>
          <a:xfrm>
            <a:off x="900000" y="4221000"/>
            <a:ext cx="2476440" cy="198144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2770200" y="2060640"/>
            <a:ext cx="249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ИНДИЙСКАЯ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КОБР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достигает в длину 1,8 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716280" y="5735520"/>
            <a:ext cx="74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Слон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05080" y="5091120"/>
            <a:ext cx="119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Крокоди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410000" y="3306600"/>
            <a:ext cx="9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Павли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Население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Этнический состав: в Индии насчитывается несколько сот наций, народностей и племен; крупнейшие из них: хиндустанцы, телугу, маратхи, бенгальцы, тамилы, гуджаратцы, каннара,. пенджабцы и др. Индуисты составляют 80% населения, мусульмане — 14%, христиане — 2,4%, сикхи — 2%, буддисты — 0,7%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013440" y="2017800"/>
            <a:ext cx="20732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Национальный костюм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716120" y="2017800"/>
            <a:ext cx="2743200" cy="411480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5506920" y="2017800"/>
            <a:ext cx="30862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350720" y="33300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«Индия – единственная страна в мире, где культурная и религиозная традиции не прерывались с древнейших времен. Индийцы первыми в мире научились выращивать рис, хлопчатник, сахарный тростник, первыми начали разводить домашнюю птицу. Индия подарила миру шахматы и десятичную систему исчисления. </a:t>
            </a:r>
            <a:br>
              <a:rPr sz="1800"/>
            </a:b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Афанасий Никитин, «Хождение за три моря»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«Индусы же не едят никакого мяса, ни говядины, ни баранины, ни курятины, ни рыбы, ни свинины, хотя свиней у них очень много. Едят же днем два раза, а ночью не едят, и вина не пьют. А с бесерменами не пьют, не едят. А еда у них плохая. И друг с другом не пьют, не едят, даже с женой. А едят они рис с маслом, да травы разные едят, да варят их с маслом да с молоком, а едят все правой рукой, а левою не берут ничего. Ножа и ложки не знают. А в пути, чтобы кашу варить, каждый носит котелок»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5311800" y="2170080"/>
            <a:ext cx="347652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Географическое положение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Индия – огромная страна, занимающая полуостров Индостан и прилегающие территории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= 3 287 590 км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²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5300640" y="2017800"/>
            <a:ext cx="3497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15640" y="-53208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Особенности рельеф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08000" y="1020600"/>
            <a:ext cx="6050160" cy="583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55280" y="414936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Гималаи              Декан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755640" y="2276640"/>
            <a:ext cx="3809880" cy="25416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5076720" y="2276640"/>
            <a:ext cx="3527640" cy="25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Климатические особенности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Климат Индии сложился под влиянием муссонов. С июня по октябрь постоянно идут дожди, с марта по май относительно сухо. Ноябрь – февраль – самые комфортные температуры, дожди редки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Самым влажным местом считается плато Шиллонг (12000 мм/год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В горах значительно холоднее, чем на равнине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Реки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182600" y="2017800"/>
            <a:ext cx="3810240" cy="411480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Река Ганг – судоходная, у индуистов считается священной. Индуисты  должны в водах Ганга искупаться хотя бы раз в жизни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Ежегодно миллионы индусов спускаются к реке, исполняя священный обряд очищения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332000" y="2133720"/>
            <a:ext cx="360036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Река Инд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826920" y="2652840"/>
            <a:ext cx="3883320" cy="29127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5076720" y="2637000"/>
            <a:ext cx="3888000" cy="29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Растительный мир Индии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908000" y="1989000"/>
            <a:ext cx="2303640" cy="21258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1763640" y="4508640"/>
            <a:ext cx="2641680" cy="198108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6370560" y="2017800"/>
            <a:ext cx="1357560" cy="19810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4"/>
          <a:stretch/>
        </p:blipFill>
        <p:spPr>
          <a:xfrm>
            <a:off x="5580000" y="4149720"/>
            <a:ext cx="1657440" cy="230184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 txBox="1"/>
          <p:nvPr/>
        </p:nvSpPr>
        <p:spPr>
          <a:xfrm>
            <a:off x="7451640" y="5300640"/>
            <a:ext cx="75240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баньян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7885080" y="2997360"/>
            <a:ext cx="35244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лук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427640" y="2997360"/>
            <a:ext cx="79992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жасмин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4360" y="4869000"/>
            <a:ext cx="79992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мимоз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Животные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647720" y="2017800"/>
            <a:ext cx="2880000" cy="41148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4859280" y="2060640"/>
            <a:ext cx="4095720" cy="317664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5113440" y="5661000"/>
            <a:ext cx="361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Бенгальские тигр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6T16:51:56Z</dcterms:created>
  <dc:creator>Loner-XP</dc:creator>
  <dc:description/>
  <dc:language>en-US</dc:language>
  <cp:lastModifiedBy>Loner-XP</cp:lastModifiedBy>
  <dcterms:modified xsi:type="dcterms:W3CDTF">2009-05-06T18:39:10Z</dcterms:modified>
  <cp:revision>2</cp:revision>
  <dc:subject/>
  <dc:title>Индия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740c0000000000010250600207f7000400038000</vt:lpwstr>
  </property>
</Properties>
</file>