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E76-47BC-443E-806F-AF25712E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CAE-93D8-4F22-92FA-3A40A0C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A63-E9A4-48E6-9098-3E5A667C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D91-4CDC-48B3-8944-24928DCC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1F24-3D9F-416A-9189-89BA60CE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1D8-FDE2-4962-8905-1E42547F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2CF1-3A1B-4700-B771-E7A4C9A5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BA17-6E4E-4D8A-90B5-3814130B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7E38-0FDF-406E-B865-F44B8A2D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C306-A301-4C78-9C96-6F8CB1D3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3FDB-8F64-40B6-9A76-1FEB8779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2CF-CBF7-4F5D-BD3C-08400C5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FAF8-1A22-4C8A-90D5-8BC4725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F60F-B25E-41EC-8E38-830B3F31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F350-29E6-471C-912B-33CF38F6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9E94-7467-4B29-A82C-4CF9C70A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C4E4-2384-4312-907C-9FFCB40A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0E9-B0BA-488C-A813-F5BCE73A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886-7807-4EE2-9EF8-8C00A97F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638-4EF2-4DA9-8B48-FA15B527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16A-DD97-4998-845C-FC0BAFD2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F1F-ABB9-476E-B639-756D31C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ED8-22E5-4DA7-ABE1-2BE4567F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5C0-3910-461E-8DB2-D2B6849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678F-9A94-4DB7-B97C-F36315EB22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714A-97E5-49B6-85E7-9CE3B33DE3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ahoma"/>
              </a:rPr>
              <a:t>Индия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2390760"/>
            <a:ext cx="4392720" cy="3171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859360" y="2050920"/>
            <a:ext cx="238140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На спасение тигров Индия потратит 150 миллионов долларов  за следующие пять лет. Количество тигров в Индии сейчас оценивается примерно в 1300-1500 особей, хотя еще в прошлом веке их было около 40 тысяч. Также планируется создать восемь новых заповедников для сохранения тигров.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4090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дкие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2430360"/>
            <a:ext cx="4381560" cy="2909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81000" cy="1990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6000" y="4365720"/>
            <a:ext cx="2504880" cy="1885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18600" y="567684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лайский 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2320" y="38037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лая п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75840" y="632448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арх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вященные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дия – страна с самым большим поголовьем коров, буйволов и бы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рова спокойно прогуливается по улице города, мешая транспор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дуистская религия запрещает есть их мяс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йволы и быки служат вьючными и тягловыми животны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45120" y="2641680"/>
            <a:ext cx="38098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руг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28800" y="1916280"/>
            <a:ext cx="1658880" cy="2233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670720" y="2017800"/>
            <a:ext cx="2757240" cy="198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307200" y="415116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476440" cy="1981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770200" y="206064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НДИЙСКА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О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стигает в длину 1,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6280" y="57355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о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5080" y="5091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окод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0000" y="33066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в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Населен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нический состав: в Индии насчитывается несколько сот наций, народностей и племен; крупнейшие из них: хиндустанцы, телугу, маратхи, бенгальцы, тамилы, гуджаратцы, каннара,. пенджабцы и др. Индуисты составляют 80% населения, мусульмане — 14%, христиане — 2,4%, сикхи — 2%, буддисты — 0,7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3440" y="2017800"/>
            <a:ext cx="207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Национальный костю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16120" y="201780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506920" y="20178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«Индия – единственная страна в мире, где культурная и религиозная традиции не прерывались с древнейших времен. Индийцы первыми в мире научились выращивать рис, хлопчатник, сахарный тростник, первыми начали разводить домашнюю птицу. Индия подарила миру шахматы и десятичную систему исчисления. </a:t>
            </a:r>
            <a:br>
              <a:rPr sz="1800"/>
            </a:b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фанасий Никитин, «Хождение за три моря»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Индусы же не едят никакого мяса, ни говядины, ни баранины, ни курятины, ни рыбы, ни свинины, хотя свиней у них очень много. Едят же днем два раза, а ночью не едят, и вина не пьют. А с бесерменами не пьют, не едят. А еда у них плохая. И друг с другом не пьют, не едят, даже с женой. А едят они рис с маслом, да травы разные едят, да варят их с маслом да с молоком, а едят все правой рукой, а левою не берут ничего. Ножа и ложки не знают. А в пути, чтобы кашу варить, каждый носит котело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11800" y="2170080"/>
            <a:ext cx="3476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еографическое пол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дия – огромная страна, занимающая полуостров Индостан и прилегающие территор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= 3 287 590 к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00640" y="2017800"/>
            <a:ext cx="349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-5320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собенности рельеф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8000" y="1020600"/>
            <a:ext cx="605016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4149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ималаи              Дек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809880" cy="254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527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лиматические особен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имат Индии сложился под влиянием муссонов. С июня по октябрь постоянно идут дожди, с марта по май относительно сухо. Ноябрь – февраль – самые комфортные температуры, дожди ре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ым влажным местом считается плато Шиллонг (12000 мм/год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горах значительно холоднее, чем на равни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ка Ганг – судоходная, у индуистов считается священной. Индуисты  должны в водах Ганга искупаться хотя бы раз в жиз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жегодно миллионы индусов спускаются к реке, исполняя священный обряд очищ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3600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ка Ин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2652840"/>
            <a:ext cx="3883320" cy="291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8880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стительный мир Инд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2303640" cy="212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63640" y="4508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70560" y="2017800"/>
            <a:ext cx="135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580000" y="4149720"/>
            <a:ext cx="1657440" cy="230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451640" y="5300640"/>
            <a:ext cx="7524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нья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85080" y="2997360"/>
            <a:ext cx="3524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427640" y="2997360"/>
            <a:ext cx="799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асм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4869000"/>
            <a:ext cx="799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мо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Животны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47720" y="2017800"/>
            <a:ext cx="28800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4095720" cy="3176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13440" y="566100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нгальские т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6:51:56Z</dcterms:created>
  <dc:creator>Loner-XP</dc:creator>
  <dc:description/>
  <dc:language>en-US</dc:language>
  <cp:lastModifiedBy>Loner-XP</cp:lastModifiedBy>
  <dcterms:modified xsi:type="dcterms:W3CDTF">2009-05-06T18:39:10Z</dcterms:modified>
  <cp:revision>2</cp:revision>
  <dc:subject/>
  <dc:title>Инд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c0000000000010250600207f7000400038000</vt:lpwstr>
  </property>
</Properties>
</file>