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5F9-1751-4A05-A611-A539EFB0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D1A-56D4-4F71-B9CB-81B6590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326-E717-45F9-B835-D3C8EF66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1AF-1367-4583-A4FA-C1F549C3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B87-B108-44A7-9FDD-0B124CBF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6FD-3EA7-4C70-A7D6-CB7D3471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484B-51C5-49AC-AB44-C362F8C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775-1EB8-4444-B24B-5BC269DE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40C7-C2F5-4D3C-A300-A3C40177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6F57-314C-4532-AD04-14FC2B8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EADF-C50E-4AA5-B938-E715600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282-9571-460E-952A-691D080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790-2A9B-4DFF-9DA7-AE8DE28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CA5B-EBF9-4B2A-A35C-F3670B6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782-02A9-4D2B-902F-9CEE5042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E6F-AD54-4AF2-A6EE-14FA372F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42AF-F971-44D2-BFA4-D8FC3D53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769-D42C-4FC2-B3CD-A2A43EDC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803-9A78-46C5-A225-1D6B18D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7D8-B8A2-4FD3-8430-37BB2B3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727-82C4-4501-ACD2-9D1D7B79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D82-41FA-431F-B166-56D3D7C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C52-EF6F-446D-A8A6-40A78A0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741-A249-47DE-8DAA-CD590E0B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518-7FA4-4628-AF81-010F2AEF6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5C8-7B2B-423D-AFEC-B4B08420B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ahoma"/>
              </a:rPr>
              <a:t>Индия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392720" cy="3171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59360" y="2050920"/>
            <a:ext cx="238140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На спасение тигров Индия потратит 150 миллионов долларов  за следующие пять лет. Количество тигров в Индии сейчас оценивается примерно в 1300-1500 особей, хотя еще в прошлом веке их было около 40 тысяч. Также планируется создать восемь новых заповедников для сохранения тигров.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409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дкие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2430360"/>
            <a:ext cx="4381560" cy="2909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81000" cy="199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504880" cy="1885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8600" y="56768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йски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2320" y="38037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я п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75840" y="63244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рх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вященные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ия – страна с самым большим поголовьем коров, буйволов и б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рова спокойно прогуливается по улице города, мешая транспор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уистская религия запрещает есть их мяс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йволы и быки служат вьючными и тягловыми живот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руг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28800" y="1916280"/>
            <a:ext cx="1658880" cy="2233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70720" y="2017800"/>
            <a:ext cx="275724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307200" y="415116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47644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0200" y="206064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ДИЙСКА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стигает в длину 1,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6280" y="57355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5080" y="5091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код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0000" y="33066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в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селе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нический состав: в Индии насчитывается несколько сот наций, народностей и племен; крупнейшие из них: хиндустанцы, телугу, маратхи, бенгальцы, тамилы, гуджаратцы, каннара,. пенджабцы и др. Индуисты составляют 80% населения, мусульмане — 14%, христиане — 2,4%, сикхи — 2%, буддисты — 0,7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3440" y="2017800"/>
            <a:ext cx="207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16120" y="20178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06920" y="2017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«Индия – единственная страна в мире, где культурная и религиозная традиции не прерывались с древнейших времен. Индийцы первыми в мире научились выращивать рис, хлопчатник, сахарный тростник, первыми начали разводить домашнюю птицу. Индия подарила миру шахматы и десятичную систему исчисления. 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фанасий Никитин, «Хождение за три моря»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Индусы же не едят никакого мяса, ни говядины, ни баранины, ни курятины, ни рыбы, ни свинины, хотя свиней у них очень много. Едят же днем два раза, а ночью не едят, и вина не пьют. А с бесерменами не пьют, не едят. А еда у них плохая. И друг с другом не пьют, не едят, даже с женой. А едят они рис с маслом, да травы разные едят, да варят их с маслом да с молоком, а едят все правой рукой, а левою не берут ничего. Ножа и ложки не знают. А в пути, чтобы кашу варить, каждый носит котело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11800" y="217008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еографическое пол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ия – огромная страна, занимающая полуостров Индостан и прилегающие территор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= 3 287 590 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00640" y="2017800"/>
            <a:ext cx="34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-532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обенности рельеф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1020600"/>
            <a:ext cx="60501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149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малаи              Дек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иматические особ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имат Индии сложился под влиянием муссонов. С июня по октябрь постоянно идут дожди, с марта по май относительно сухо. Ноябрь – февраль – самые комфортные температуры, дожди ре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м влажным местом считается плато Шиллонг (12000 мм/год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орах значительно холоднее, чем на равн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ка Ганг – судоходная, у индуистов считается священной. Индуисты  должны в водах Ганга искупаться хотя бы раз в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жегодно миллионы индусов спускаются к реке, исполняя священный обряд очищ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36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а Ин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2652840"/>
            <a:ext cx="3883320" cy="291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888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стительный мир Инд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2303640" cy="21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70560" y="2017800"/>
            <a:ext cx="135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657440" cy="230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451640" y="5300640"/>
            <a:ext cx="752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н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85080" y="2997360"/>
            <a:ext cx="352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27640" y="299736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асм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486900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м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Животны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47720" y="2017800"/>
            <a:ext cx="28800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409572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13440" y="566100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нгальские т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51:56Z</dcterms:created>
  <dc:creator>Loner-XP</dc:creator>
  <dc:description/>
  <dc:language>en-US</dc:language>
  <cp:lastModifiedBy>Loner-XP</cp:lastModifiedBy>
  <dcterms:modified xsi:type="dcterms:W3CDTF">2009-05-06T18:39:10Z</dcterms:modified>
  <cp:revision>2</cp:revision>
  <dc:subject/>
  <dc:title>Инд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c0000000000010250600207f7000400038000</vt:lpwstr>
  </property>
</Properties>
</file>