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D9D9-C4E3-439A-A1DC-72179ED06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82C6-7776-4E47-8ED9-A8D39065F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F330-A666-4E7A-B316-EC8B9E1DA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AE2B-3011-4FF4-B6CA-AC42B71B9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96E1-74A7-4E1F-B79D-9B4CFC481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5495-E678-4F33-AFE4-0DB42F70D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97B5-374B-4187-B05E-77556FFC2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6FBD-73DD-40DE-92C1-60A935FFB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3C78-9EF3-4CAE-BC83-F55A76431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EBA7-1CC6-4EB8-BD4A-766A4690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6EBD-E69A-480A-8FF8-E553941B7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96E4-8296-422C-B276-D4DD7F84E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EDDEE-0F9D-4A99-8317-6166377FFB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Хозяйство Росси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85880" y="1928520"/>
            <a:ext cx="7143840" cy="37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Хозяйство России состоит из производственной и непроизводственной сфер. В состав производственной сферы входит 65 % занятого населения, в него входят промышленность (22 % занятого населения), сельское и лесное хозяйство (14%), строительство (8%), торговля и общественное питание (14%), транспорт и связь (7 %). В непроизводственной сфере (35 % занятого населения) выделяют народное образование (9 %), здравоохранение (7%), а также жилищное хозяйство и бытовое обслуживание, управление, науку, культуру и искусство (19 %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-143280" y="642960"/>
            <a:ext cx="52866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изводственная сфера, в свою очередь, делится на отрасли. Под отраслью понимают область экономической деятельности, отличающуюся орудиями труда, технологией, профессиями работников и видом выпускаемой продук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3" descr=""/>
          <p:cNvPicPr/>
          <p:nvPr/>
        </p:nvPicPr>
        <p:blipFill>
          <a:blip r:embed="rId1"/>
          <a:stretch/>
        </p:blipFill>
        <p:spPr>
          <a:xfrm>
            <a:off x="4811760" y="1571760"/>
            <a:ext cx="4286160" cy="3217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85840" y="714240"/>
            <a:ext cx="582912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 отраслям промышленности относятся электроэнергетика, топливная промышленность, черная и цветная металлургия, химическая и нефтехимическая промышленность, машиностроение и металлообработка, лесная, деревообрабатывающая и целлюлозно-бумажная промышленность, промышленность строительных материалов, стекольная и фарфорофаянсовая, легкая, пищевая, мукомольно-крупяная и комбикормовая промышленность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3" descr=""/>
          <p:cNvPicPr/>
          <p:nvPr/>
        </p:nvPicPr>
        <p:blipFill>
          <a:blip r:embed="rId1"/>
          <a:stretch/>
        </p:blipFill>
        <p:spPr>
          <a:xfrm>
            <a:off x="6357960" y="1071720"/>
            <a:ext cx="2381400" cy="179388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4" descr=""/>
          <p:cNvPicPr/>
          <p:nvPr/>
        </p:nvPicPr>
        <p:blipFill>
          <a:blip r:embed="rId2"/>
          <a:stretch/>
        </p:blipFill>
        <p:spPr>
          <a:xfrm>
            <a:off x="6357960" y="3071880"/>
            <a:ext cx="2320920" cy="1431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Содержимое 3" descr=""/>
          <p:cNvPicPr/>
          <p:nvPr/>
        </p:nvPicPr>
        <p:blipFill>
          <a:blip r:embed="rId2"/>
          <a:stretch/>
        </p:blipFill>
        <p:spPr>
          <a:xfrm>
            <a:off x="214200" y="1214280"/>
            <a:ext cx="4364280" cy="44722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"/>
          <p:cNvSpPr/>
          <p:nvPr/>
        </p:nvSpPr>
        <p:spPr>
          <a:xfrm>
            <a:off x="4786200" y="1234800"/>
            <a:ext cx="4357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Сельское хозяйство состоит из двух групп отраслей: растениеводства и животноводства. Начиная с 1994 г. удельный вес продукции растениеводства в общей стоимости продукции сельского хозяйства превышает 50 %. К отраслям растениеводства относятся зерновое хозяйство, производство технических культур, картофелеводство, овощеводство, плодоводство, виноградарство, кормопроизводство. Отрасли животноводства – скотоводство, свиноводство, овцеводство, коневодство, птицеводство, оленеводство, пушное звероводство, рыбоводство, пчеловодство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42560" y="1000080"/>
            <a:ext cx="314316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траслевая структура хозяйства— соотношение сфер и отраслей экономики страны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Рисунок 3" descr=""/>
          <p:cNvPicPr/>
          <p:nvPr/>
        </p:nvPicPr>
        <p:blipFill>
          <a:blip r:embed="rId1"/>
          <a:stretch/>
        </p:blipFill>
        <p:spPr>
          <a:xfrm>
            <a:off x="3071880" y="142920"/>
            <a:ext cx="5940360" cy="445284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4"/>
          <p:cNvSpPr/>
          <p:nvPr/>
        </p:nvSpPr>
        <p:spPr>
          <a:xfrm>
            <a:off x="357120" y="457200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России сокращается доля производственной сферы и увеличивается доля непроизводственной сферы. Это вызвано, с одной стороны, общими тенденциями развития мирового хозяйства (влияние НТР), с дугой стороны, кризисными явлениями в промышленности и сельском хозяй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00320" y="2214360"/>
            <a:ext cx="4943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 производственной сфере относятся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отрасли, производящие материальные блага (добывающая и обрабатывающая промышленность, сельское хозяйство, строительство)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отрасли, оказывающие производственные услуги (ремонт и обслуживание техники, дорог, снабжение и т.д.) В России к отраслям производственной сферы относят грузовой транспорт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Содержимое 3" descr=""/>
          <p:cNvPicPr/>
          <p:nvPr/>
        </p:nvPicPr>
        <p:blipFill>
          <a:blip r:embed="rId1"/>
          <a:stretch/>
        </p:blipFill>
        <p:spPr>
          <a:xfrm>
            <a:off x="571680" y="1428840"/>
            <a:ext cx="3357360" cy="32144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85840" y="785880"/>
            <a:ext cx="840096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К непроизводственной сфере народного хозяйства относятся отрасли, обслуживающие население или обеспечивающие существование общества в целом (управление, наука, искусство и т.п.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Инфраструктурный комплекс объединяет отрасли хозяйства, производящие разнообразные услуги. При переходе к постиндустриальному обществу возрастает роль всех звеньев инфраструктурного комплекс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ыполнил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ученик МОУ СОШ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№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г.Геленджик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айдеросов А. 8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                                             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учитель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Сбитнева Е. В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бщий</cp:lastModifiedBy>
  <dcterms:modified xsi:type="dcterms:W3CDTF">2011-05-18T12:29:28Z</dcterms:modified>
  <cp:revision>11</cp:revision>
  <dc:subject/>
  <dc:title>Хозяйство России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c050000000000010250300207f7000400038000</vt:lpwstr>
  </property>
</Properties>
</file>