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FD5-EBE3-4715-A3F0-13F96FF9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128-9F29-4178-9EDD-19591555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D9E-ABFB-4152-986B-CDE9546C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3EE-FD6E-4CC7-85A1-45A8997B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692-E5AD-4A34-B606-E94C51A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333-AE20-42E2-869D-2D548C78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52A-6CC4-428A-A9E6-725AC31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FE5-9E42-4E22-B226-3614E683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C8B-AC00-47F7-AACB-7C8E6DB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E49-6082-4E84-95FC-B032F68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618-B70D-4D3D-9344-820F33F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960-5983-4C35-82D1-7D884A5A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5FD4-3C5E-4819-A558-88CC28802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Хозяйство Росс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1928520"/>
            <a:ext cx="71438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Хозяйство России состоит из производственной и непроизводственной сфер. В состав производственной сферы входит 65 % занятого населения, в него входят промышленность (22 % занятого населения), сельское и лесное хозяйство (14%), строительство (8%), торговля и общественное питание (14%), транспорт и связь (7 %). В непроизводственной сфере (35 % занятого населения) выделяют народное образование (9 %), здравоохранение (7%), а также жилищное хозяйство и бытовое обслуживание, управление, науку, культуру и искусство (19 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143280" y="642960"/>
            <a:ext cx="5286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ая сфера, в свою очередь, делится на отрасли. Под отраслью понимают область экономической деятельности, отличающуюся орудиями труда, технологией, профессиями работников и видом выпускаемой прод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811760" y="1571760"/>
            <a:ext cx="4286160" cy="32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714240"/>
            <a:ext cx="58291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отраслям промышленности относятся электроэнергетика, топливная промышленность, черная и цветная металлургия, химическая и нефтехимическая промышленность, машиностроение и металлообработка, лесная, деревообрабатывающая и целлюлозно-бумажная промышленность, промышленность строительных материалов, стекольная и фарфорофаянсовая, легкая, пищевая, мукомольно-крупяная и комбикормовая промышлен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6357960" y="1071720"/>
            <a:ext cx="2381400" cy="1793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6357960" y="3071880"/>
            <a:ext cx="2320920" cy="143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4364280" cy="4472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4786200" y="1234800"/>
            <a:ext cx="43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льское хозяйство состоит из двух групп отраслей: растениеводства и животноводства. Начиная с 1994 г. удельный вес продукции растениеводства в общей стоимости продукции сельского хозяйства превышает 50 %. К отраслям растениеводства относятся зерновое хозяйство, производство технических культур, картофелеводство, овощеводство, плодоводство, виноградарство, кормопроизводство. Отрасли животноводства – скотоводство, свиноводство, овцеводство, коневодство, птицеводство, оленеводство, пушное звероводство, рыбоводство, пчеловод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000080"/>
            <a:ext cx="3143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раслевая структура хозяйства— соотношение сфер и отраслей экономики стра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3071880" y="142920"/>
            <a:ext cx="5940360" cy="4452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7120" y="45720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сокращается доля производственной сферы и увеличивается доля непроизводственной сферы. Это вызвано, с одной стороны, общими тенденциями развития мирового хозяйства (влияние НТР), с дугой стороны, кризисными явлениями в промышленности и сельском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00320" y="2214360"/>
            <a:ext cx="49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производственной сфере относя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трасли, производящие материальные блага (добывающая и обрабатывающая промышленность, сельское хозяйство, строительство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трасли, оказывающие производственные услуги (ремонт и обслуживание техники, дорог, снабжение и т.д.) В России к отраслям производственной сферы относят грузовой транспор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357360" cy="3214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непроизводственной сфере народного хозяйства относятся отрасли, обслуживающие население или обеспечивающие существование общества в целом (управление, наука, искусство и т.п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фраструктурный комплекс объединяет отрасли хозяйства, производящие разнообразные услуги. При переходе к постиндустриальному обществу возрастает роль всех звеньев инфраструктурного комплекс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полнил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еник МОУ СО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.Гелендж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йдеросов А. 8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битнева Е. 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бщий</cp:lastModifiedBy>
  <dcterms:modified xsi:type="dcterms:W3CDTF">2011-05-18T12:29:28Z</dcterms:modified>
  <cp:revision>11</cp:revision>
  <dc:subject/>
  <dc:title>Хозяйство Росс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50000000000010250300207f7000400038000</vt:lpwstr>
  </property>
</Properties>
</file>