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9E426-F273-4BFC-8254-75A930798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80B92-2048-4DEA-88C9-4C2AACF2F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63B2E-62AA-4638-B72D-FE50EFC51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2CD3A-8714-4964-88C8-1002DD8CF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19D4E-5672-4653-AC11-4A1B19F76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4BE5D-6008-4928-9ABA-112BD34D5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99F52-4A5D-45AB-A0E0-BB27FE884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DB9B4-1EE2-460A-87DD-7D49233B8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5E04E-B8B1-447E-9337-6368E6C50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5EC51-5F4D-49D3-954B-985DC75D1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B293E-0B78-44B8-B158-D62F67214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6B7FB-F4A2-4347-B500-65D09C45A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DCCDB-A7E8-41B1-8E06-1722586BF13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8588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Хозяйство России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85880" y="1928520"/>
            <a:ext cx="7143840" cy="370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Calibri"/>
              </a:rPr>
              <a:t>Хозяйство России состоит из производственной и непроизводственной сфер. В состав производственной сферы входит 65 % занятого населения, в него входят промышленность (22 % занятого населения), сельское и лесное хозяйство (14%), строительство (8%), торговля и общественное питание (14%), транспорт и связь (7 %). В непроизводственной сфере (35 % занятого населения) выделяют народное образование (9 %), здравоохранение (7%), а также жилищное хозяйство и бытовое обслуживание, управление, науку, культуру и искусство (19 %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-143280" y="642960"/>
            <a:ext cx="528660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изводственная сфера, в свою очередь, делится на отрасли. Под отраслью понимают область экономической деятельности, отличающуюся орудиями труда, технологией, профессиями работников и видом выпускаемой продукци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Рисунок 3" descr=""/>
          <p:cNvPicPr/>
          <p:nvPr/>
        </p:nvPicPr>
        <p:blipFill>
          <a:blip r:embed="rId1"/>
          <a:stretch/>
        </p:blipFill>
        <p:spPr>
          <a:xfrm>
            <a:off x="4811760" y="1571760"/>
            <a:ext cx="4286160" cy="32176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285840" y="714240"/>
            <a:ext cx="582912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К отраслям промышленности относятся электроэнергетика, топливная промышленность, черная и цветная металлургия, химическая и нефтехимическая промышленность, машиностроение и металлообработка, лесная, деревообрабатывающая и целлюлозно-бумажная промышленность, промышленность строительных материалов, стекольная и фарфорофаянсовая, легкая, пищевая, мукомольно-крупяная и комбикормовая промышленность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Рисунок 3" descr=""/>
          <p:cNvPicPr/>
          <p:nvPr/>
        </p:nvPicPr>
        <p:blipFill>
          <a:blip r:embed="rId1"/>
          <a:stretch/>
        </p:blipFill>
        <p:spPr>
          <a:xfrm>
            <a:off x="6357960" y="1071720"/>
            <a:ext cx="2381400" cy="179388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4" descr=""/>
          <p:cNvPicPr/>
          <p:nvPr/>
        </p:nvPicPr>
        <p:blipFill>
          <a:blip r:embed="rId2"/>
          <a:stretch/>
        </p:blipFill>
        <p:spPr>
          <a:xfrm>
            <a:off x="6357960" y="3071880"/>
            <a:ext cx="2320920" cy="14317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Содержимое 3" descr=""/>
          <p:cNvPicPr/>
          <p:nvPr/>
        </p:nvPicPr>
        <p:blipFill>
          <a:blip r:embed="rId2"/>
          <a:stretch/>
        </p:blipFill>
        <p:spPr>
          <a:xfrm>
            <a:off x="214200" y="1214280"/>
            <a:ext cx="4364280" cy="447228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1"/>
          <p:cNvSpPr/>
          <p:nvPr/>
        </p:nvSpPr>
        <p:spPr>
          <a:xfrm>
            <a:off x="4786200" y="1234800"/>
            <a:ext cx="4357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Сельское хозяйство состоит из двух групп отраслей: растениеводства и животноводства. Начиная с 1994 г. удельный вес продукции растениеводства в общей стоимости продукции сельского хозяйства превышает 50 %. К отраслям растениеводства относятся зерновое хозяйство, производство технических культур, картофелеводство, овощеводство, плодоводство, виноградарство, кормопроизводство. Отрасли животноводства – скотоводство, свиноводство, овцеводство, коневодство, птицеводство, оленеводство, пушное звероводство, рыбоводство, пчеловодство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6e6e6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142560" y="1000080"/>
            <a:ext cx="314316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Отраслевая структура хозяйства— соотношение сфер и отраслей экономики страны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Рисунок 3" descr=""/>
          <p:cNvPicPr/>
          <p:nvPr/>
        </p:nvPicPr>
        <p:blipFill>
          <a:blip r:embed="rId1"/>
          <a:stretch/>
        </p:blipFill>
        <p:spPr>
          <a:xfrm>
            <a:off x="3071880" y="142920"/>
            <a:ext cx="5940360" cy="4452840"/>
          </a:xfrm>
          <a:prstGeom prst="rect">
            <a:avLst/>
          </a:prstGeom>
          <a:ln w="0">
            <a:noFill/>
          </a:ln>
        </p:spPr>
      </p:pic>
      <p:sp>
        <p:nvSpPr>
          <p:cNvPr id="56" name="Прямоугольник 4"/>
          <p:cNvSpPr/>
          <p:nvPr/>
        </p:nvSpPr>
        <p:spPr>
          <a:xfrm>
            <a:off x="357120" y="4572000"/>
            <a:ext cx="8001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России сокращается доля производственной сферы и увеличивается доля непроизводственной сферы. Это вызвано, с одной стороны, общими тенденциями развития мирового хозяйства (влияние НТР), с дугой стороны, кризисными явлениями в промышленности и сельском хозяйств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d6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00320" y="2214360"/>
            <a:ext cx="4943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0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 производственной сфере относятся: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 отрасли, производящие материальные блага (добывающая и обрабатывающая промышленность, сельское хозяйство, строительство)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 отрасли, оказывающие производственные услуги (ремонт и обслуживание техники, дорог, снабжение и т.д.) В России к отраслям производственной сферы относят грузовой транспорт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Содержимое 3" descr=""/>
          <p:cNvPicPr/>
          <p:nvPr/>
        </p:nvPicPr>
        <p:blipFill>
          <a:blip r:embed="rId1"/>
          <a:stretch/>
        </p:blipFill>
        <p:spPr>
          <a:xfrm>
            <a:off x="571680" y="1428840"/>
            <a:ext cx="3357360" cy="321444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9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285840" y="785880"/>
            <a:ext cx="8400960" cy="53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К непроизводственной сфере народного хозяйства относятся отрасли, обслуживающие население или обеспечивающие существование общества в целом (управление, наука, искусство и т.п.)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Инфраструктурный комплекс объединяет отрасли хозяйства, производящие разнообразные услуги. При переходе к постиндустриальному обществу возрастает роль всех звеньев инфраструктурного комплекса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Выполнил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ученик МОУ СОШ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№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г.Геленджика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Майдеросов А. 8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”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                                                    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учитель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Сбитнева Е. В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общий</cp:lastModifiedBy>
  <dcterms:modified xsi:type="dcterms:W3CDTF">2011-05-18T12:29:28Z</dcterms:modified>
  <cp:revision>11</cp:revision>
  <dc:subject/>
  <dc:title>Хозяйство России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ec050000000000010250300207f7000400038000</vt:lpwstr>
  </property>
</Properties>
</file>