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5.jpeg" ContentType="image/jpeg"/>
  <Override PartName="/ppt/media/image14.png" ContentType="image/png"/>
  <Override PartName="/ppt/media/image5.gif" ContentType="image/gif"/>
  <Override PartName="/ppt/media/image8.wmf" ContentType="image/x-wmf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1CC2-AF1C-4DEE-ABF2-475C4DF380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B4CF-D95E-45A5-A17C-D3A14489E1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177-253C-467E-A7A9-D9AE37B1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430-349C-4E30-A65D-42260B86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2A0-9A11-4BA3-B9CE-AF7679F5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669-0211-4483-A6F6-E146D37F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697D-CFD0-428D-AC6A-4EECA90B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E969-28DA-4982-A39D-8B0B7E75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D3E6-A09D-4E3B-8C3F-86DD5BEE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8BA2-C170-439F-9968-5581546C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E1E0-ACCA-4AE8-A48B-55036829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0535-6CB1-4AE6-88C8-82AB7B33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9FAA-9A1F-4690-BFF4-D68F97E7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C4D-B941-4182-9269-1DD8C328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6D09-B434-4A41-9425-2753544E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6AD0-607A-460C-8F4E-01FFC81F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13A4-E6B8-4369-B4D9-6583F4D7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8AC4-FACA-4ADE-9365-6CB652D0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44B0-B46B-406B-B383-801A4A52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BFE-2C2F-45AF-B6D1-6990E172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B72-0C8C-4152-B536-74550BBD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FC3-7B93-40C6-B10C-84B3B123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38D-AB68-428B-9D32-4EAAA9C1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92E4-7282-4307-BC78-AF6AB853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FC3-96BD-43D9-B887-624E2E3F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A9B-68CF-4D9D-87E3-3B53E070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32F1-0EFC-4B14-9AE1-E815D37CEE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B6C9-34E4-4181-8895-C22838A399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9.png"/><Relationship Id="rId34" Type="http://schemas.openxmlformats.org/officeDocument/2006/relationships/image" Target="../media/image9.png"/><Relationship Id="rId35" Type="http://schemas.openxmlformats.org/officeDocument/2006/relationships/image" Target="../media/image9.png"/><Relationship Id="rId36" Type="http://schemas.openxmlformats.org/officeDocument/2006/relationships/image" Target="../media/image9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1.png"/><Relationship Id="rId24" Type="http://schemas.openxmlformats.org/officeDocument/2006/relationships/image" Target="../media/image12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image" Target="../media/image11.png"/><Relationship Id="rId29" Type="http://schemas.openxmlformats.org/officeDocument/2006/relationships/image" Target="../media/image12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2.png"/><Relationship Id="rId33" Type="http://schemas.openxmlformats.org/officeDocument/2006/relationships/image" Target="../media/image11.png"/><Relationship Id="rId34" Type="http://schemas.openxmlformats.org/officeDocument/2006/relationships/image" Target="../media/image12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2.png"/><Relationship Id="rId38" Type="http://schemas.openxmlformats.org/officeDocument/2006/relationships/image" Target="../media/image11.png"/><Relationship Id="rId39" Type="http://schemas.openxmlformats.org/officeDocument/2006/relationships/image" Target="../media/image12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2.png"/><Relationship Id="rId43" Type="http://schemas.openxmlformats.org/officeDocument/2006/relationships/image" Target="../media/image11.png"/><Relationship Id="rId44" Type="http://schemas.openxmlformats.org/officeDocument/2006/relationships/image" Target="../media/image12.png"/><Relationship Id="rId45" Type="http://schemas.openxmlformats.org/officeDocument/2006/relationships/image" Target="../media/image11.png"/><Relationship Id="rId46" Type="http://schemas.openxmlformats.org/officeDocument/2006/relationships/image" Target="../media/image11.png"/><Relationship Id="rId47" Type="http://schemas.openxmlformats.org/officeDocument/2006/relationships/image" Target="../media/image12.png"/><Relationship Id="rId48" Type="http://schemas.openxmlformats.org/officeDocument/2006/relationships/image" Target="../media/image11.png"/><Relationship Id="rId49" Type="http://schemas.openxmlformats.org/officeDocument/2006/relationships/image" Target="../media/image12.png"/><Relationship Id="rId50" Type="http://schemas.openxmlformats.org/officeDocument/2006/relationships/image" Target="../media/image11.png"/><Relationship Id="rId51" Type="http://schemas.openxmlformats.org/officeDocument/2006/relationships/image" Target="../media/image11.png"/><Relationship Id="rId52" Type="http://schemas.openxmlformats.org/officeDocument/2006/relationships/image" Target="../media/image12.png"/><Relationship Id="rId53" Type="http://schemas.openxmlformats.org/officeDocument/2006/relationships/image" Target="../media/image11.png"/><Relationship Id="rId54" Type="http://schemas.openxmlformats.org/officeDocument/2006/relationships/image" Target="../media/image12.png"/><Relationship Id="rId55" Type="http://schemas.openxmlformats.org/officeDocument/2006/relationships/image" Target="../media/image11.png"/><Relationship Id="rId5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0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91" name="Rectangle 3"/>
          <p:cNvSpPr/>
          <p:nvPr/>
        </p:nvSpPr>
        <p:spPr>
          <a:xfrm>
            <a:off x="2627280" y="5383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40000" y="69228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840" y="3786120"/>
            <a:ext cx="8610840" cy="21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d4"/>
                </a:solidFill>
                <a:latin typeface="Arial"/>
              </a:rPr>
              <a:t>ХИМИЧЕСКАЯ ПРОМЫШЛЕННОСТЬ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Нефтеперерабатывающий завод"/>
          <p:cNvPicPr/>
          <p:nvPr/>
        </p:nvPicPr>
        <p:blipFill>
          <a:blip r:embed="rId1"/>
          <a:stretch/>
        </p:blipFill>
        <p:spPr>
          <a:xfrm>
            <a:off x="214200" y="214200"/>
            <a:ext cx="4930920" cy="3286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Состав отрасл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Схема 3" descr=""/>
          <p:cNvPicPr/>
          <p:nvPr/>
        </p:nvPicPr>
        <p:blipFill>
          <a:blip r:embed="rId1"/>
          <a:stretch/>
        </p:blipFill>
        <p:spPr>
          <a:xfrm>
            <a:off x="298440" y="1670040"/>
            <a:ext cx="8620200" cy="4906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D:\КАРТИНКИ\Коллекция картинок1\j0233248.wmf"/>
          <p:cNvPicPr/>
          <p:nvPr/>
        </p:nvPicPr>
        <p:blipFill>
          <a:blip r:embed="rId2"/>
          <a:stretch/>
        </p:blipFill>
        <p:spPr>
          <a:xfrm>
            <a:off x="6286680" y="4071960"/>
            <a:ext cx="2430360" cy="24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Темпы роста химической промышленности мир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28760" y="1714680"/>
          <a:ext cx="8286480" cy="4714560"/>
        </p:xfrm>
        <a:graphic>
          <a:graphicData uri="http://schemas.openxmlformats.org/drawingml/2006/table">
            <a:tbl>
              <a:tblPr/>
              <a:tblGrid>
                <a:gridCol w="2404800"/>
                <a:gridCol w="1176480"/>
                <a:gridCol w="1176480"/>
                <a:gridCol w="1176120"/>
                <a:gridCol w="1176480"/>
                <a:gridCol w="1176120"/>
              </a:tblGrid>
              <a:tr h="904320">
                <a:tc rowSpan="2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8"/>
                          </a:solidFill>
                          <a:latin typeface="Times New Roman"/>
                          <a:ea typeface="Times New Roman"/>
                        </a:rPr>
                        <a:t>Проду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2d050"/>
                    </a:solidFill>
                  </a:tcPr>
                </a:tc>
                <a:tc gridSpan="5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8"/>
                          </a:solidFill>
                          <a:latin typeface="Times New Roman"/>
                          <a:ea typeface="Times New Roman"/>
                        </a:rPr>
                        <a:t>Производство, млн. тон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ada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0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0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0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0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мас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 волок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еральные удоб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Arial"/>
              </a:rPr>
              <a:t>В эпоху НТР продолжается рост производства в </a:t>
            </a: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нижних этажах</a:t>
            </a:r>
            <a:r>
              <a:rPr b="1" lang="ru-RU" sz="2000" spc="-1" strike="noStrike">
                <a:solidFill>
                  <a:srgbClr val="ccffff"/>
                </a:solidFill>
                <a:latin typeface="Arial"/>
              </a:rPr>
              <a:t> химической промышленности, производящих серную кислоту, минеральные удобрения, различные ядохимикаты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2920" y="1785960"/>
          <a:ext cx="8715240" cy="4932360"/>
        </p:xfrm>
        <a:graphic>
          <a:graphicData uri="http://schemas.openxmlformats.org/drawingml/2006/table">
            <a:tbl>
              <a:tblPr/>
              <a:tblGrid>
                <a:gridCol w="2730600"/>
                <a:gridCol w="1641240"/>
                <a:gridCol w="2670120"/>
                <a:gridCol w="1673280"/>
              </a:tblGrid>
              <a:tr h="61020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ерная кисл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инеральные удоб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8100000"/>
                    </a:gradFill>
                  </a:tcPr>
                </a:tc>
              </a:tr>
              <a:tr h="3920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938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3938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938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39348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9240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39348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393120"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Arial"/>
              </a:rPr>
              <a:t>Но еще более высокими темпами развиваются те отрасли </a:t>
            </a: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верхних этажей</a:t>
            </a:r>
            <a:r>
              <a:rPr b="1" lang="ru-RU" sz="2000" spc="-1" strike="noStrike">
                <a:solidFill>
                  <a:srgbClr val="ccffff"/>
                </a:solidFill>
                <a:latin typeface="Arial"/>
              </a:rPr>
              <a:t>, которые связаны  с выпуском продукции не основной химии, а химии органического синтеза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14200" y="1643040"/>
          <a:ext cx="8643960" cy="5159520"/>
        </p:xfrm>
        <a:graphic>
          <a:graphicData uri="http://schemas.openxmlformats.org/drawingml/2006/table">
            <a:tbl>
              <a:tblPr/>
              <a:tblGrid>
                <a:gridCol w="1873440"/>
                <a:gridCol w="942840"/>
                <a:gridCol w="1792440"/>
                <a:gridCol w="995400"/>
                <a:gridCol w="2057400"/>
                <a:gridCol w="982440"/>
              </a:tblGrid>
              <a:tr h="7588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ластма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имические волок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интетический каучу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йва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дерлан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ь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дерлан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География химической промышленност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755640" y="1643040"/>
            <a:ext cx="7888320" cy="4973760"/>
          </a:xfrm>
          <a:prstGeom prst="rect">
            <a:avLst/>
          </a:prstGeom>
          <a:ln w="9360">
            <a:solidFill>
              <a:srgbClr val="00004d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География химической промышленност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Схема 4" descr=""/>
          <p:cNvPicPr/>
          <p:nvPr/>
        </p:nvPicPr>
        <p:blipFill>
          <a:blip r:embed="rId1"/>
          <a:stretch/>
        </p:blipFill>
        <p:spPr>
          <a:xfrm>
            <a:off x="195120" y="1494000"/>
            <a:ext cx="8777520" cy="5082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dri7"/>
          <p:cNvPicPr/>
          <p:nvPr/>
        </p:nvPicPr>
        <p:blipFill>
          <a:blip r:embed="rId2"/>
          <a:stretch/>
        </p:blipFill>
        <p:spPr>
          <a:xfrm>
            <a:off x="6643800" y="714240"/>
            <a:ext cx="2357280" cy="1428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2:54:02Z</dcterms:created>
  <dc:creator>starostina</dc:creator>
  <dc:description/>
  <cp:keywords/>
  <dc:language>en-US</dc:language>
  <cp:lastModifiedBy>starostina</cp:lastModifiedBy>
  <dcterms:modified xsi:type="dcterms:W3CDTF">2010-05-06T06:18:15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d000000000001024140</vt:lpwstr>
  </property>
  <property fmtid="{D5CDD505-2E9C-101B-9397-08002B2CF9AE}" pid="3" name="_TemplateID">
    <vt:lpwstr>TC011408261049</vt:lpwstr>
  </property>
</Properties>
</file>