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1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ECA-6D09-4DD9-BF0D-AEC42C915A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2886-8EE3-434F-8AD5-1C55EEE477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AE2-07E8-466C-877E-E3757252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702-526C-4285-8373-9449A31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1EF-E574-4527-8ADA-6F20F41B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08C-77D4-4AF3-9D03-71B5BDEB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A649-1B70-4AB0-B537-BF30C993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FE43-374A-47EF-A50F-4AD55A4D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620-FC4D-4279-BC7B-A487ACD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6303-609E-4FD0-8B8A-8254EB98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984B-EF61-44D5-A951-83D128D6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18B2-1357-4B88-BBD7-BAB73855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715F-5277-4CE8-B022-C7055BC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F6C-3CD2-469D-AF79-DE67DCB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7D37-89C6-4C25-AE61-45B9A75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8045-D963-4133-98B0-793FB56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0A44-A1EB-4C4D-90D7-3091BB7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6749-7455-403C-9295-950D0A5B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E857-28F0-4991-94AE-92791674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380-FBF8-491E-BE1A-889FD8EF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911-9AF7-4724-BB62-4917118B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11C-D3E0-458D-895C-E0E3469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ADC-C731-4A1C-94D3-A7838D44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16E-A0C3-461B-BF84-DECDC7A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9C5-9307-4F58-9653-153CA63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44B-41FB-4D56-BC8F-887851B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0783-A990-4D80-9AA3-7B171BFD47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E90C-56FE-4FFB-9BD5-793294A713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2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1.png"/><Relationship Id="rId41" Type="http://schemas.openxmlformats.org/officeDocument/2006/relationships/image" Target="../media/image11.png"/><Relationship Id="rId42" Type="http://schemas.openxmlformats.org/officeDocument/2006/relationships/image" Target="../media/image12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12.png"/><Relationship Id="rId48" Type="http://schemas.openxmlformats.org/officeDocument/2006/relationships/image" Target="../media/image11.png"/><Relationship Id="rId49" Type="http://schemas.openxmlformats.org/officeDocument/2006/relationships/image" Target="../media/image12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2.png"/><Relationship Id="rId53" Type="http://schemas.openxmlformats.org/officeDocument/2006/relationships/image" Target="../media/image11.png"/><Relationship Id="rId54" Type="http://schemas.openxmlformats.org/officeDocument/2006/relationships/image" Target="../media/image12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840" y="3786120"/>
            <a:ext cx="8610840" cy="21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d4"/>
                </a:solidFill>
                <a:latin typeface="Arial"/>
              </a:rPr>
              <a:t>ХИМИЧЕСКАЯ ПРОМЫШЛЕННОСТЬ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214200" y="214200"/>
            <a:ext cx="4930920" cy="3286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остав отрасл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хема 3" descr=""/>
          <p:cNvPicPr/>
          <p:nvPr/>
        </p:nvPicPr>
        <p:blipFill>
          <a:blip r:embed="rId1"/>
          <a:stretch/>
        </p:blipFill>
        <p:spPr>
          <a:xfrm>
            <a:off x="298440" y="1670040"/>
            <a:ext cx="8620200" cy="490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КАРТИНКИ\Коллекция картинок1\j0233248.wmf"/>
          <p:cNvPicPr/>
          <p:nvPr/>
        </p:nvPicPr>
        <p:blipFill>
          <a:blip r:embed="rId2"/>
          <a:stretch/>
        </p:blipFill>
        <p:spPr>
          <a:xfrm>
            <a:off x="6286680" y="4071960"/>
            <a:ext cx="2430360" cy="24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Темпы роста химической промышленности ми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8760" y="1714680"/>
          <a:ext cx="8286480" cy="4714560"/>
        </p:xfrm>
        <a:graphic>
          <a:graphicData uri="http://schemas.openxmlformats.org/drawingml/2006/table">
            <a:tbl>
              <a:tblPr/>
              <a:tblGrid>
                <a:gridCol w="2404800"/>
                <a:gridCol w="1176480"/>
                <a:gridCol w="1176480"/>
                <a:gridCol w="1176120"/>
                <a:gridCol w="1176480"/>
                <a:gridCol w="1176120"/>
              </a:tblGrid>
              <a:tr h="904320">
                <a:tc row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8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2d050"/>
                    </a:solidFill>
                  </a:tcPr>
                </a:tc>
                <a:tc gridSpan="5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8"/>
                          </a:solidFill>
                          <a:latin typeface="Times New Roman"/>
                          <a:ea typeface="Times New Roman"/>
                        </a:rPr>
                        <a:t>Производство, млн. то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adad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м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волок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ьные удоб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В эпоху НТР продолжается рост производства в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нижних этажах</a:t>
            </a: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 химической промышленности, производящих серную кислоту, минеральные удобрения, различные ядохимикат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2920" y="1785960"/>
          <a:ext cx="8715240" cy="4932360"/>
        </p:xfrm>
        <a:graphic>
          <a:graphicData uri="http://schemas.openxmlformats.org/drawingml/2006/table">
            <a:tbl>
              <a:tblPr/>
              <a:tblGrid>
                <a:gridCol w="2730600"/>
                <a:gridCol w="1641240"/>
                <a:gridCol w="2670120"/>
                <a:gridCol w="1673280"/>
              </a:tblGrid>
              <a:tr h="6102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ерн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инеральные удоб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8100000"/>
                    </a:grad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93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934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9348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93120"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8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>
                      <a:noFill/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Но еще более высокими темпами развиваются те отрасли </a:t>
            </a:r>
            <a:r>
              <a:rPr b="1" i="1" lang="ru-RU" sz="2000" spc="-1" strike="noStrike">
                <a:solidFill>
                  <a:srgbClr val="00ff00"/>
                </a:solidFill>
                <a:latin typeface="Arial"/>
              </a:rPr>
              <a:t>верхних этажей</a:t>
            </a: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, которые связаны  с выпуском продукции не основной химии, а химии органического синтеза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4200" y="1643040"/>
          <a:ext cx="8643960" cy="5159520"/>
        </p:xfrm>
        <a:graphic>
          <a:graphicData uri="http://schemas.openxmlformats.org/drawingml/2006/table">
            <a:tbl>
              <a:tblPr/>
              <a:tblGrid>
                <a:gridCol w="1873440"/>
                <a:gridCol w="942840"/>
                <a:gridCol w="1792440"/>
                <a:gridCol w="995400"/>
                <a:gridCol w="2057400"/>
                <a:gridCol w="982440"/>
              </a:tblGrid>
              <a:tr h="75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ластм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имические вол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нтетический кауч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еография химической промышленност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755640" y="1643040"/>
            <a:ext cx="7888320" cy="4973760"/>
          </a:xfrm>
          <a:prstGeom prst="rect">
            <a:avLst/>
          </a:prstGeom>
          <a:ln w="9360">
            <a:solidFill>
              <a:srgbClr val="00004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География химической промышленност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хема 4" descr=""/>
          <p:cNvPicPr/>
          <p:nvPr/>
        </p:nvPicPr>
        <p:blipFill>
          <a:blip r:embed="rId1"/>
          <a:stretch/>
        </p:blipFill>
        <p:spPr>
          <a:xfrm>
            <a:off x="195120" y="1494000"/>
            <a:ext cx="8777520" cy="50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dri7"/>
          <p:cNvPicPr/>
          <p:nvPr/>
        </p:nvPicPr>
        <p:blipFill>
          <a:blip r:embed="rId2"/>
          <a:stretch/>
        </p:blipFill>
        <p:spPr>
          <a:xfrm>
            <a:off x="6643800" y="714240"/>
            <a:ext cx="2357280" cy="1428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54:02Z</dcterms:created>
  <dc:creator>starostina</dc:creator>
  <dc:description/>
  <cp:keywords/>
  <dc:language>en-US</dc:language>
  <cp:lastModifiedBy>starostina</cp:lastModifiedBy>
  <dcterms:modified xsi:type="dcterms:W3CDTF">2010-05-06T06:18:15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d000000000001024140</vt:lpwstr>
  </property>
  <property fmtid="{D5CDD505-2E9C-101B-9397-08002B2CF9AE}" pid="3" name="_TemplateID">
    <vt:lpwstr>TC011408261049</vt:lpwstr>
  </property>
</Properties>
</file>