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0FE-181C-4C37-9069-0DBF5633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954-7F46-430F-B799-FD2AD5D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519-0EE9-4207-BF7B-007DFBE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813-962E-460E-8F85-9D25566F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16D2-3ED3-47CA-9502-40C60335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57CF-69DF-46CE-A4E5-1EDF84AA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8197-0472-4DAF-9C22-1169D25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048B-FE49-4587-9F4E-C255430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6F15-E723-4742-B74B-0B8D5BA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BC89-126B-4F79-BCB4-9DDB31D6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1ACF-EA96-477B-926A-D78BDBF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529-0700-4896-B028-FEC6132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B9F-8189-47B9-B0BA-7CE4114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48B2-5CA9-47CA-BB32-5BB68C3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ECCC-556C-4807-9569-F0A81A4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BD03-6FEC-4351-A243-C5FB8C1E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D7F2-7519-4ACC-AE73-D3A8EEF5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E604-E692-40F5-8E00-7A304A4D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00D7-80D0-4BF2-A9E9-10A95C2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BCEC-940C-4DA5-8D4A-97779DE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0D52-28DA-4269-8686-55CA6AF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6B6E-58AE-4EDC-8172-D9FC844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E6B-2D71-4F0D-93E1-59B76152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D91C-9CF0-4B1C-A376-C992104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DDDA-EEC5-458F-8120-93E1D77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A5FE-2D2B-4108-BBF0-7E50E76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57B7-8731-4DC2-A2E9-B12C07E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B9DD-9621-4BEE-974A-440E603B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1F19-82AD-4519-9579-751A10D3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9D60-8285-4F47-A183-E10C27E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307E-D6E8-49F9-B004-A56A2BAB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307E-13D8-4D65-B977-5DA6E12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78AD-BDE5-4AE6-8EAD-D5296B87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78A-3D89-403F-AD9C-D53CDDA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E5C8-3A33-4BCD-837A-6868879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433F-913E-4C82-BA1F-EC60827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5441-C4D9-4554-AA95-AC46440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E9BA-CA5C-4236-95CF-C6BFB13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8EC2-28F0-4596-83F1-F6A1603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62A8-591F-4C68-B153-65F5EA9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66AE-9FD4-45C6-A8DC-94EBF42D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F1DA-B7BB-4595-B5BC-FB893FCF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DBAA-0D2C-4DF5-A1E0-0DDE1EC9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18AC-53E6-42CC-BA37-8E0253B2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0ED-0875-4829-9E9C-4CF2778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C3CF-9D74-47D1-8CE8-B215C5E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4E5E-8957-4401-84C6-1D3BCC4F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264F-2E07-495B-8307-C8D529A9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FEED-699A-4410-B23D-0E10DCB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6258-7785-4BD3-A35F-767D84D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1D504-6926-4F2A-A93E-11722C9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16E81-BE27-486A-915C-4C832B9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7FB0-8CC9-4A0C-B1D6-B5B55453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2313-7B65-4D20-8542-2B0AC25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3585-3E24-49DA-8B51-8BC1A17B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751-AE2A-42D8-9F2C-7FFB38D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3006-AFC9-4846-806F-0C85D7AA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1F23-52A2-44E9-AD3F-1277A4EA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85E3-8621-45B9-9F43-D5E19DA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48F9-6ED5-4C78-9D26-8C2974F7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80D9-A5B4-492C-896F-65BA7C5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27D4-F5C0-4046-9664-3C9C0628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E8F7-94B9-4CB4-AD43-34E9B4C2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78550-A9E0-4D2F-845D-A4AF8D2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A2D2-9CCF-4EEC-B4B1-7EDF506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E0F7-2D3B-41CD-966C-9B6C994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F21-84CF-4F69-AF02-B0DAFB0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3D7E-0F6E-49DE-9D28-467E1A7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473D-1E91-4212-863A-369143D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4A5B-E98B-4301-9552-4AA5A074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1736-89A1-4DC3-9FFF-FB974BC0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7F563-CA4F-4626-BFB5-7B0DB47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960E-6331-49AC-B28E-428380E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0ABF-8FE0-40C6-A4A6-EC6C5FBC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49E4-7140-4836-9722-4F334BC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83BB-AD2B-4156-9AFA-307316A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ACD4-2CEB-40EE-8369-1641F39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FFE-A0A2-44AD-A95A-F6821C1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B729B-C194-4D86-8E49-C6D91A4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0FA08-30E4-4A5C-A62F-59829F31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A4D1-FFE7-46CF-AE4C-C57975F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E25C-74F9-4E2E-AB3E-610CCB30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0F9E-5B5F-4EF4-BA9F-057542BA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6613-45A4-4934-8F55-D24AD11E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D1E2C-C444-49A6-A554-4C8275FA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4648-5895-43E6-B1C8-88E6CE4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357D-85F5-470C-8011-5A6478E7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666DB-A6C2-452D-9A62-2A1272B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363-6CC1-4712-9E28-C56CD48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96A7-A25E-4052-A448-537747F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F83A-42CD-4611-86A0-CF82926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B5ED-D52F-431C-B18E-9900E11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E37F-FEF4-470F-B7E5-08BBB3F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4F04C-5D6A-4DA0-AC94-D704DD7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588AF-82F3-4461-8B2A-F98ECCBA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90242-E05E-4102-95B4-734F1EA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7A6D-0279-4E38-BF1C-F4FD105EF4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8705-A05A-473E-8BD7-FCD219A5F97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115-2B0E-4BCF-B4AC-2C185416AD3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D58-5F6C-45FD-8ED2-CB7D16C0A7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B350-5EBE-4449-9C70-3A8C94D07E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896-DA2B-42A2-967B-9764640A32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F91-937D-47C8-8A8D-98EA582169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F71-39B8-4A04-A595-685326C8A70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ели урока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ть познавательный интерес, реализуя межпредметные связи курсов химии, географии, экологи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формировать знания о сложности отраслевого состава химической промышленности, о ее значении в народном хозяйств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казать влияние сырьевого, энергетического, потребительского и экологического факторов на размещение предприятий химической промышленности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ь экологические проблемы региона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формирование умений самостоятельного поиска знаний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сширить кругозор учащихся, развить их мышлени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спитать разумное отношение к природе, экологическую грамотность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3" descr=""/>
          <p:cNvPicPr/>
          <p:nvPr/>
        </p:nvPicPr>
        <p:blipFill>
          <a:blip r:embed="rId1"/>
          <a:stretch/>
        </p:blipFill>
        <p:spPr>
          <a:xfrm>
            <a:off x="353880" y="237960"/>
            <a:ext cx="82836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Задачи химической промышленности состоят в том, чтобы изменить природные материалы, так, чтобы сделать их полезными. Большинство людей не видят этих превращений и даже не представляют себе, как они происходят , не понимают , как работают химические предприятия в целом. Но ведь промышленность – это наш социальный партнер, и ответственность за производство химических продуктов с минимальным риском и к общей выгоде лежит на всех. Познакомимся с некоторыми химическими предприятиями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стабильное, динамично развивающееся предприятие, не уступающее заводам конкурентам по качеству выпускаемой продукции, экологической безопасности и социальной защите. 5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троительство завода началось в 1931 г., а уже 1934 г. предприятие выпускало первую продукцию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о время Великой - Отечественной войны 1941 -1945гг предприятие завода давал топливо для фрон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1967 г. проведена установка по каталитическому риформингу бензина Л-35-11/300, в 1970 г. - установка для производства серы и установка по гидроочистке дизельного топливо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 2000 г. на отечественном оборудовании и отечественном сырье освоено производство кровельных и гидроизоляционных материалов, нового поколения “Саркров” и “Сарфлекс”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ся производственная деятельность ОАО “Сарт НПЗ” строится на двух принципах, во-первых, она не должна оказывать необратимого вредного воздействия на окружающую среду, а во-вторых, должна быть безопасной, как для работников завода, так и для ближайших к предприятию жизнедеятельности человек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263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551800" cy="1201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Первые волокна из нефти были получены в 1937-1939гг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2920" y="1356840"/>
            <a:ext cx="4572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Два крупных предприятия химической промышленности: комбинат искусственного и синтетического волокна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вое из них специализируется на производстве капроновой нити и волокна, хлопковой целлюлозы; второе - на выпуске стиральных и чистящих порошков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Химические волокна обладают самыми разнообразными свойствами.  В наше время их используют повсюду. Из них делают повседневную и нарядную одежду, специализированные изделия – “нережущиеся перчатки», бронежилеты, негорючие и теплостойкие ткани. Продукты нефтеперерабатывающих заводов находят применение в космических технологиях: скафандр космонавта, зонд для исследования атмосфер планет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</a:rPr>
              <a:t>Прядильный цех нит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Содержимое 7" descr="http://festival.1september.ru/articles/501873/img2.gif"/>
          <p:cNvPicPr/>
          <p:nvPr/>
        </p:nvPicPr>
        <p:blipFill>
          <a:blip r:embed="rId3"/>
          <a:stretch/>
        </p:blipFill>
        <p:spPr>
          <a:xfrm>
            <a:off x="4956120" y="2000160"/>
            <a:ext cx="36878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одно из крупнейших в Европе стекольных производств, существует с 1957 г. Предприятие выпускает стекло листовое толщиной от 2 до 10 мм, автомобильное стекло на уровне мировых стандартов, свыше двухсот наименований хрустальных изделий , разнообразный спектр зеркал различной конфигурации с нанесением декоративные рисунка, мебель из стекла, оригинальные светильни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909720" y="2071800"/>
            <a:ext cx="70200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5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2535480" cy="1096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57120" y="3714840"/>
            <a:ext cx="2857680" cy="2643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В результате внедрения в производство автомобильной линии фирма “BAVELLONI” расширились возможности алмазного декорирования поверхностей зеркал и нанесения широкого фаце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714840" y="6000480"/>
            <a:ext cx="5214960" cy="500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 fontScale="9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А сколько лет стеклу?       (Около 6 тысяч лет)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Содержимое 3" descr="http://festival.1september.ru/articles/501873/img4.gif"/>
          <p:cNvPicPr/>
          <p:nvPr/>
        </p:nvPicPr>
        <p:blipFill>
          <a:blip r:embed="rId3"/>
          <a:stretch/>
        </p:blipFill>
        <p:spPr>
          <a:xfrm>
            <a:off x="857160" y="1428840"/>
            <a:ext cx="1800360" cy="1752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285720" y="499680"/>
            <a:ext cx="5715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Первые изделия - бусы, сосуды неправильной формы – были изготовлены еще в Древнем Египте рабами, которые лепили их с помощью палки и щипцов. А вот оконное стекло появилось в Европе только при Людовике XIV . Оно было в виде маленьких цветных стеклышек в свинцовых переплетах окон и дверей замков и дворцов. В домах бедняков оконные рамы были затянуты бычьими пузырями, промасленной бумагой или слюдо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Очень много для развития русского стеклоделия сделал М.В.Ломоносов. Он создал первую химическую лабораторию в России, в которой ставил эксперименты и изучал свойства веществ, в том числе и стекла. Проделав со стеклом четыре тысячи опытов, ученый нашел способы улучить его качество. Его перу принадлежит и большой труд, посвященный стеклу, и поэма о стекле. Со времени Киевской Руси искусство мозаики было совсем забыто в России. О нем вспомнил Ломоносов. Он добился того, что стекляшки для мозаики – смальты – стали получаться очень красивых цветов. Ломоносов собственноручно выполнил мозаичную большую картину “Полтавская баталия”, на создание которой использовалась цветная мозаика. Размер картины 42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. Над ней Ломоносов работал почти 5 лет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7358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14200" y="5000760"/>
            <a:ext cx="3286080" cy="11714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Цементный заво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редприятие основано в 1897 г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Содержимое 3" descr="http://festival.1september.ru/articles/501873/img5.gif"/>
          <p:cNvPicPr/>
          <p:nvPr/>
        </p:nvPicPr>
        <p:blipFill>
          <a:blip r:embed="rId3"/>
          <a:stretch/>
        </p:blipFill>
        <p:spPr>
          <a:xfrm>
            <a:off x="428760" y="1928880"/>
            <a:ext cx="3566880" cy="2571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071600" y="1500120"/>
            <a:ext cx="471492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лагодаря богатейшим запасам уникального сырья ОАО “Вольскцемент” производит около 10 видов цемента. Еще XIX в цементники маркировали свою продукцию гербом России, как товар наивысшего качеств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Качество вольского цемента отмечено наградами . 1995 г. - “Золотая звезда”- европейская награда за качеств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998 И 2000 гг. - дипломом конкурса “100 лучших товаров России”. Волжский цемент прекрасно зарекомендовал себя в прошлом: Каскад волжских ГЭС, ВАЗ, КамАЗ, Московское метро. Крупнейшие проекты России каскад ГЭС в Дагестане, мосты через Волгу в Саратове и Нижнем Новгороде, метро в Самаре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98440" y="231840"/>
            <a:ext cx="8632800" cy="10605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20430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1640" y="5643360"/>
            <a:ext cx="4357800" cy="8571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Перечень производственно - технической продукции, выпускаемой предприятиями саратовской области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85480" y="1444320"/>
            <a:ext cx="421164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В народном хозяйстве нет отрасли, где бы не использовались изделия химической промышленности. Легкой промышленности, она дает волокна и красители: строительству - краски, стекло; сельскому хозяйству - удобрения, ядохимикаты; машиностроению - краски, резину, синтетический каучук и пластмассы: транспорту - горючее и масло: энергетике топливо, мазут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00360" y="92880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. Удобрения минеральные (азотное и фосфорное)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2. Химические волокна - искусственные, синтетическ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3. Кислота сер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4. Синтетические смо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5. С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6. Пленка полим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7. Лакокрасочные материа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8. Олифа натураль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9. Кислота уксус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0. Фонол синтет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1. Глицерин техн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2. Этиловый спирт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3. Шелковые ткан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4. Сульфат натр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5. Целлофан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6. Вата медицинск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7. Пряжа: “Волжанка”, “Неженка”, “Катрин”. “Пушинка”, “Нитрон”, “Ровница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анорама Сарат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29160"/>
            <a:ext cx="4041720" cy="743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Lucida Sans Unicode"/>
              </a:rPr>
              <a:t>Н. Пальки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457200" y="19000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о прежде чем вдоль круч горбат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 него войдет с рожденья дн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Скажу, чем славен мой Сарат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 что он значит для мен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-498600" y="-44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3" descr="http://festival.1september.ru/articles/501873/Image41.jpg"/>
          <p:cNvPicPr/>
          <p:nvPr/>
        </p:nvPicPr>
        <p:blipFill>
          <a:blip r:embed="rId2"/>
          <a:stretch/>
        </p:blipFill>
        <p:spPr>
          <a:xfrm>
            <a:off x="428760" y="1481040"/>
            <a:ext cx="8501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Саратовская область расположена на юго-востоке европейской части России. Ее площадь составляет 100.2 тысячи  км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Недра Поволжья богаты нефтью, газом, мелом, фосфоритами, глинами, песком и другими природными ресурса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представлена минеральными удобрениями, серной кислотой, химическими волокнами, нитями, резинотехническими изделия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одна из ведущих отраслей тяжелой промышленности, развитие которой укрепляет экономическую и оборонную мощь страны, удовлетворяет потребности населения во многих изделиях, применяемых в быт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е упоминание о природном газе в Саратовской области относится к 1840 г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ещанин Поздняков, живущий в районе Глебучева оврага, спустился в погреб со свечой в руке, раздался взрыв, и хранилище крестьянских продуктов превратилось в развал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867 г. подобный случай произошел в деревне Елшанка, в 18 км от Саратов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906 г. у с. Дергачи Новоузенского района и на хуторе вольского купца Мельникова при бурении артезианского колодца был обнаружен метан (СН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 Предприимчивый купец построил на этом месте стекольный и кирпичный заводы - на бесплатном топлив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852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1913 г. на Белоглинской улице в Саратове был сооружен газовый завод и проложен газопровод протяженностью около 2 км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начально газ получали из каменного угля и использовали для освещ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первые годы советской власти развернулось производство других искусственных газов; коксового, доменного, генераторного. Газы получали из каменного и бурого угля, горючих сланцев, торфа и древес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величилась добыча нефти. В 1940 г. в Саратове был получен первый газовый фонтан. Это было время, когда на учет брался каждый кг горючего, когда любая возможность становилась ощутимым ударом по враг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2 г. завершилось бурение трех скважин, давших первый газ – метан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Был сдан в эксплуатацию 15 километровый газопровод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3 г, газ пришел на Саратовскую ТЭЦ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4 г. приняли постановление о создании газопровода Саратов – Москв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ачале 1980-х гг. по объему газификации Саратовской область, была одной из крупнейших в РСФСР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Ныне ОАО “Саратовоблгаз входит в структуру газового холдинга Саратовской области. Это предприятие обеспечивает бесперебойное снабжение газом 2 млн 740 тыс. жителей и 6 тыс. 723 предприятий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2001 г. исполнилось 60 лет с начал добычи промышленного газа в Саратове, да и в России в целом, поскольку Саратовскую область принято считать родиной газовой промышленности страны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500040" y="357120"/>
            <a:ext cx="792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Основным полезным ископаемым, добываемым в Саратовской области, является нефть и газ. С 1947 г. введены в промышленную разработку нефтяные залеж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По объему промышленного производства, химия и нефтехимия, являются одними из главных отраслей специализации области, их доля в отраслевой структуре промышленного производства составляет 13% . В состав комплекса входят 17 крупных и средних предприятий 6% химической продукции в Росс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Для химического комплекса характерно, использование местного сырья. (Продуктов переработки добываемых в области нефти и газа), а также сырья, доставляемого в область извне (на целлюлозе, апатитах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714240" y="785880"/>
          <a:ext cx="7858440" cy="5214960"/>
        </p:xfrm>
        <a:graphic>
          <a:graphicData uri="http://schemas.openxmlformats.org/drawingml/2006/table">
            <a:tbl>
              <a:tblPr/>
              <a:tblGrid>
                <a:gridCol w="3929040"/>
                <a:gridCol w="3929400"/>
              </a:tblGrid>
              <a:tr h="16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трасли комплек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спользуемое сыр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ческая промышленность: производство удобрений - фосфорных – азот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я полиме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патиты, фосфори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иродный газ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ефть, природн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0:46Z</dcterms:created>
  <dc:creator>Loner-XP</dc:creator>
  <dc:description/>
  <dc:language>en-US</dc:language>
  <cp:lastModifiedBy>Наталья Васильевна </cp:lastModifiedBy>
  <dcterms:modified xsi:type="dcterms:W3CDTF">2011-04-09T08:20:09Z</dcterms:modified>
  <cp:revision>10</cp:revision>
  <dc:subject/>
  <dc:title> Химическая промышленность Сарат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50000000000010250300207f7000400038000</vt:lpwstr>
  </property>
</Properties>
</file>