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616-67E5-4E68-911F-23CB28B8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A71-3513-4FA5-A3D7-654ED64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E06-63C5-42FB-82A2-9132FEED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9AE-2DE9-4FD7-A485-F7B90792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2558-3F54-4146-A45F-1D000304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C2B-31B1-43BA-94DF-F8A8AC1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40BB-8DB4-418F-B3D7-D0B5227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60CB-BB55-4D23-BE95-F49A3DF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930-1E1B-4E2D-91C0-6E0DB5D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B35D-E908-4EB3-9C2D-1468530A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8E25-B1B3-463C-87E0-775C2A9F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BB3-5BFB-4AE5-91CA-059B1FB6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DAF-74DF-43F2-94C2-3EFF112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F1F-F10C-410C-85E1-993E776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5131-9E54-4A8D-86D6-DC0ACE5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707D-4C3D-4301-866F-574725A2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06A2-D41F-400B-BBB7-33DC637E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9A7CA-046B-42BF-8979-CE7B3E2E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9B41-6ECC-4E27-9AEA-1756214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C68B-71E5-4739-AD4F-0AC02E5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9A9C-9172-4B07-96B1-0E0FACC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B3A8-143F-46B0-AC23-2B81E16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A82-AA34-47A6-B2C0-2C7E855D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3290-16BC-497A-922B-7FDE592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0EAE-C66F-4DF0-8C74-D779D7B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2310-795F-432C-9B26-F232C45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126E-C4E3-44BD-82BA-8DF07D1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9B40-5807-4D27-9A41-59C94244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2DA1-9B5D-453E-A3D0-D81A471A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4281-1B7B-4DA5-8C80-94CBAF3D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6157-AC5F-41EA-8A84-1D9F9385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2606E-ABFF-42B3-89B3-0370DB0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9A39B-DA43-4ED8-AA90-8845EA6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B4A-F3FC-4E20-A1E5-CA8E9C0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D332-104D-4024-955E-E0EC42C4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F598-67FF-4C19-BDBF-B4309F8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1C71-2025-46B2-A556-68D18C41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ED23-BFEE-4A67-823F-D8F2515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7ED3-4D4F-44C5-827C-DC3DE90A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68F1-2D50-4F4A-85BC-1C19D3C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0037-E849-4CD1-B141-03627DC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588A-BC28-446E-8AC7-12A972A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2355-F4C5-4266-A317-C4E36A74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469E-5A1F-4514-997F-BD627501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A30-F606-4FBC-A184-CF4D20F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17880-DC00-43FC-BD8F-1C8A268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2FFCC-BD96-4113-8CE2-7A319EB1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03AB-5A7C-4516-A5E2-8B389A3F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1C32-8F99-46F2-B246-9318D13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638E-EFCA-46CB-8672-52B3D6A5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82BF-B7AC-4890-9F91-CB36E13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87EE-43D2-4616-9D3A-23760BA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1DC06-CD08-4F7D-BB13-D51A6D0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F3AE-CC22-4C24-9822-0B500CE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A252-5AB4-4365-8C65-EF8B1600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24A-EB21-4853-B06A-829DEA3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A1A8-1F16-4A21-8A48-7F17C715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05F3E-3707-4D79-9F69-6D9BE0B7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B496-9C2B-441F-9D3B-466E78C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DDC7-8837-4CD9-9860-86CCF51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0B15-B7BB-4C01-9A87-8A65ADD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441AB-6820-409D-9DB2-8C62EBAF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B070-B0F8-463E-A4FD-173370D9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6B5B-F281-415E-B696-A93BD6C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F8E3E-F79B-4E37-91E2-198EBBC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EB3E-690D-4AA3-8413-738055E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964-A461-4DBE-8C0D-4C65A38D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E9D6-8344-4797-9916-B5975AD9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EDB0-99B2-4C4F-B895-BAA406C9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B8FE-62E7-4B93-8616-09270B7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1B6F-A070-4B78-876B-1BEDAE70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976E-18DD-465A-B6FF-86B8C47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E906-DFDE-4CF1-BB0B-5F4A422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6957F-4660-4A66-A28B-E465D4D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5B4B0-AD44-4ED2-B51E-978E1C94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D099E-EC69-497D-B949-9D55B5C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00A8-4483-4BC5-A28C-C580A73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1B1-3749-4743-8981-E7567B6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0BCF6-D3EB-4ABF-8D63-9C078A7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97E9-AADA-4741-8A72-CBFAA31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FA43-BE59-4A8E-BE3E-10C453D7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9846-1A41-4009-848E-A48087F6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E2951-9E44-42F9-BC80-C16A4E2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BCCE-3BAE-4B37-8F12-C0D6D844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A23F3-2A08-43A3-B788-7CD0964F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ABD7-0B10-47F1-9810-B6BC1C73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6E52-F973-4F3B-BC86-651CA4A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B7D0E-6C2A-4842-BC4B-C7B32C71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8D5-6DE9-4958-A11B-180F8FBE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FFCF-7DF4-4890-A9A2-7CB4B75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FC98-CFB6-490B-9588-C9E5969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B70CB-4215-4A09-B828-37B0271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0FA0-3153-4DC9-97FD-FD0725F8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CBE3-5035-433C-A3B0-BD7C4B13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827F-6070-4C0B-ABAA-CB6EE9BE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960C-15B7-421E-B71D-D5FE87F3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6347-C93A-4487-8CE0-5D409282F3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7AA6-83DE-4547-B052-06516691066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157-E3CA-4925-B2CF-A206B615DF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DE9D-27BD-4845-9559-A6C2EB4960D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0B0-EBC9-4A0F-83C4-574896E34A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40A-2326-4FFA-9EC1-400B7899A4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883D-6EC9-42E1-9393-4812741151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0BD-481E-4B6B-9654-4F9A519890E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ели урока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ть познавательный интерес, реализуя межпредметные связи курсов химии, географии, экологии;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формировать знания о сложности отраслевого состава химической промышленности, о ее значении в народном хозяйств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казать влияние сырьевого, энергетического, потребительского и экологического факторов на размещение предприятий химической промышленности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ь экологические проблемы региона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формирование умений самостоятельного поиска знаний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сширить кругозор учащихся, развить их мышление;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спитать разумное отношение к природе, экологическую грамотность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3" descr=""/>
          <p:cNvPicPr/>
          <p:nvPr/>
        </p:nvPicPr>
        <p:blipFill>
          <a:blip r:embed="rId1"/>
          <a:stretch/>
        </p:blipFill>
        <p:spPr>
          <a:xfrm>
            <a:off x="353880" y="237960"/>
            <a:ext cx="82836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Задачи химической промышленности состоят в том, чтобы изменить природные материалы, так, чтобы сделать их полезными. Большинство людей не видят этих превращений и даже не представляют себе, как они происходят , не понимают , как работают химические предприятия в целом. Но ведь промышленность – это наш социальный партнер, и ответственность за производство химических продуктов с минимальным риском и к общей выгоде лежит на всех. Познакомимся с некоторыми химическими предприятиями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стабильное, динамично развивающееся предприятие, не уступающее заводам конкурентам по качеству выпускаемой продукции, экологической безопасности и социальной защите. 5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троительство завода началось в 1931 г., а уже 1934 г. предприятие выпускало первую продукцию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о время Великой - Отечественной войны 1941 -1945гг предприятие завода давал топливо для фрон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1967 г. проведена установка по каталитическому риформингу бензина Л-35-11/300, в 1970 г. - установка для производства серы и установка по гидроочистке дизельного топливо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 2000 г. на отечественном оборудовании и отечественном сырье освоено производство кровельных и гидроизоляционных материалов, нового поколения “Саркров” и “Сарфлекс”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ся производственная деятельность ОАО “Сарт НПЗ” строится на двух принципах, во-первых, она не должна оказывать необратимого вредного воздействия на окружающую среду, а во-вторых, должна быть безопасной, как для работников завода, так и для ближайших к предприятию жизнедеятельности человек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263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2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551800" cy="12016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Первые волокна из нефти были получены в 1937-1939гг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2920" y="1356840"/>
            <a:ext cx="4572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Два крупных предприятия химической промышленности: комбинат искусственного и синтетического волокна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вое из них специализируется на производстве капроновой нити и волокна, хлопковой целлюлозы; второе - на выпуске стиральных и чистящих порошков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Химические волокна обладают самыми разнообразными свойствами.  В наше время их используют повсюду. Из них делают повседневную и нарядную одежду, специализированные изделия – “нережущиеся перчатки», бронежилеты, негорючие и теплостойкие ткани. Продукты нефтеперерабатывающих заводов находят применение в космических технологиях: скафандр космонавта, зонд для исследования атмосфер планет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 Unicode"/>
              </a:rPr>
              <a:t>Прядильный цех нит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Содержимое 7" descr="http://festival.1september.ru/articles/501873/img2.gif"/>
          <p:cNvPicPr/>
          <p:nvPr/>
        </p:nvPicPr>
        <p:blipFill>
          <a:blip r:embed="rId3"/>
          <a:stretch/>
        </p:blipFill>
        <p:spPr>
          <a:xfrm>
            <a:off x="4956120" y="2000160"/>
            <a:ext cx="36878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одно из крупнейших в Европе стекольных производств, существует с 1957 г. Предприятие выпускает стекло листовое толщиной от 2 до 10 мм, автомобильное стекло на уровне мировых стандартов, свыше двухсот наименований хрустальных изделий , разнообразный спектр зеркал различной конфигурации с нанесением декоративные рисунка, мебель из стекла, оригинальные светильни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909720" y="2071800"/>
            <a:ext cx="70200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5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2535480" cy="1096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57120" y="3714840"/>
            <a:ext cx="2857680" cy="2643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Sans Unicode"/>
              </a:rPr>
              <a:t>В результате внедрения в производство автомобильной линии фирма “BAVELLONI” расширились возможности алмазного декорирования поверхностей зеркал и нанесения широкого фацет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714840" y="6000480"/>
            <a:ext cx="5214960" cy="500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 fontScale="93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А сколько лет стеклу?       (Около 6 тысяч лет)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Содержимое 3" descr="http://festival.1september.ru/articles/501873/img4.gif"/>
          <p:cNvPicPr/>
          <p:nvPr/>
        </p:nvPicPr>
        <p:blipFill>
          <a:blip r:embed="rId3"/>
          <a:stretch/>
        </p:blipFill>
        <p:spPr>
          <a:xfrm>
            <a:off x="857160" y="1428840"/>
            <a:ext cx="1800360" cy="1752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285720" y="499680"/>
            <a:ext cx="5715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Первые изделия - бусы, сосуды неправильной формы – были изготовлены еще в Древнем Египте рабами, которые лепили их с помощью палки и щипцов. А вот оконное стекло появилось в Европе только при Людовике XIV . Оно было в виде маленьких цветных стеклышек в свинцовых переплетах окон и дверей замков и дворцов. В домах бедняков оконные рамы были затянуты бычьими пузырями, промасленной бумагой или слюдо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Очень много для развития русского стеклоделия сделал М.В.Ломоносов. Он создал первую химическую лабораторию в России, в которой ставил эксперименты и изучал свойства веществ, в том числе и стекла. Проделав со стеклом четыре тысячи опытов, ученый нашел способы улучить его качество. Его перу принадлежит и большой труд, посвященный стеклу, и поэма о стекле. Со времени Киевской Руси искусство мозаики было совсем забыто в России. О нем вспомнил Ломоносов. Он добился того, что стекляшки для мозаики – смальты – стали получаться очень красивых цветов. Ломоносов собственноручно выполнил мозаичную большую картину “Полтавская баталия”, на создание которой использовалась цветная мозаика. Размер картины 42м</a:t>
            </a:r>
            <a:r>
              <a:rPr b="0" lang="en-US" sz="1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. Над ней Ломоносов работал почти 5 лет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7358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14200" y="5000760"/>
            <a:ext cx="3286080" cy="11714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Цементный завод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редприятие основано в 1897 г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Содержимое 3" descr="http://festival.1september.ru/articles/501873/img5.gif"/>
          <p:cNvPicPr/>
          <p:nvPr/>
        </p:nvPicPr>
        <p:blipFill>
          <a:blip r:embed="rId3"/>
          <a:stretch/>
        </p:blipFill>
        <p:spPr>
          <a:xfrm>
            <a:off x="428760" y="1928880"/>
            <a:ext cx="3566880" cy="2571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071600" y="1500120"/>
            <a:ext cx="471492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лагодаря богатейшим запасам уникального сырья ОАО “Вольскцемент” производит около 10 видов цемента. Еще XIX в цементники маркировали свою продукцию гербом России, как товар наивысшего качеств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Качество вольского цемента отмечено наградами . 1995 г. - “Золотая звезда”- европейская награда за качество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998 И 2000 гг. - дипломом конкурса “100 лучших товаров России”. Волжский цемент прекрасно зарекомендовал себя в прошлом: Каскад волжских ГЭС, ВАЗ, КамАЗ, Московское метро. Крупнейшие проекты России каскад ГЭС в Дагестане, мосты через Волгу в Саратове и Нижнем Новгороде, метро в Самаре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98440" y="231840"/>
            <a:ext cx="8632800" cy="10605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204300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1640" y="5643360"/>
            <a:ext cx="4357800" cy="8571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Перечень производственно - технической продукции, выпускаемой предприятиями саратовской области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85480" y="1444320"/>
            <a:ext cx="421164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</a:rPr>
              <a:t>В народном хозяйстве нет отрасли, где бы не использовались изделия химической промышленности. Легкой промышленности, она дает волокна и красители: строительству - краски, стекло; сельскому хозяйству - удобрения, ядохимикаты; машиностроению - краски, резину, синтетический каучук и пластмассы: транспорту - горючее и масло: энергетике топливо, мазут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00360" y="92880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. Удобрения минеральные (азотное и фосфорное)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2. Химические волокна - искусственные, синтетическ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3. Кислота сер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4. Синтетические смо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5. С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6. Пленка полимер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7. Лакокрасочные материалы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8. Олифа натураль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9. Кислота уксусн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0. Фонол синтет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1. Глицерин технический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2. Этиловый спирт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3. Шелковые ткан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4. Сульфат натр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5. Целлофан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6. Вата медицинска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17. Пряжа: “Волжанка”, “Неженка”, “Катрин”. “Пушинка”, “Нитрон”, “Ровница»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Панорама Сарато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29160"/>
            <a:ext cx="4041720" cy="7430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Lucida Sans Unicode"/>
              </a:rPr>
              <a:t>Н. Пальки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457200" y="19000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о прежде чем вдоль круч горбаты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 него войдет с рожденья дня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Скажу, чем славен мой Сарат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 что он значит для мен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-498600" y="-44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3" descr="http://festival.1september.ru/articles/501873/Image41.jpg"/>
          <p:cNvPicPr/>
          <p:nvPr/>
        </p:nvPicPr>
        <p:blipFill>
          <a:blip r:embed="rId2"/>
          <a:stretch/>
        </p:blipFill>
        <p:spPr>
          <a:xfrm>
            <a:off x="428760" y="1481040"/>
            <a:ext cx="8501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Саратовская область расположена на юго-востоке европейской части России. Ее площадь составляет 100.2 тысячи  км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Недра Поволжья богаты нефтью, газом, мелом, фосфоритами, глинами, песком и другими природными ресурса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представлена минеральными удобрениями, серной кислотой, химическими волокнами, нитями, резинотехническими изделия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Химическая промышленность одна из ведущих отраслей тяжелой промышленности, развитие которой укрепляет экономическую и оборонную мощь страны, удовлетворяет потребности населения во многих изделиях, применяемых в быту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е упоминание о природном газе в Саратовской области относится к 1840 г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ещанин Поздняков, живущий в районе Глебучева оврага, спустился в погреб со свечой в руке, раздался взрыв, и хранилище крестьянских продуктов превратилось в развал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867 г. подобный случай произошел в деревне Елшанка, в 18 км от Саратов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1906 г. у с. Дергачи Новоузенского района и на хуторе вольского купца Мельникова при бурении артезианского колодца был обнаружен метан (СН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 Предприимчивый купец построил на этом месте стекольный и кирпичный заводы - на бесплатном топлив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852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1913 г. на Белоглинской улице в Саратове был сооружен газовый завод и проложен газопровод протяженностью около 2 км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начально газ получали из каменного угля и использовали для освещ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первые годы советской власти развернулось производство других искусственных газов; коксового, доменного, генераторного. Газы получали из каменного и бурого угля, горючих сланцев, торфа и древесин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Увеличилась добыча нефти. В 1940 г. в Саратове был получен первый газовый фонтан. Это было время, когда на учет брался каждый кг горючего, когда любая возможность становилась ощутимым ударом по враг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2 г. завершилось бурение трех скважин, давших первый газ – метан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Был сдан в эксплуатацию 15 километровый газопровод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3 г, газ пришел на Саратовскую ТЭЦ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944 г. приняли постановление о создании газопровода Саратов – Москв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ачале 1980-х гг. по объему газификации Саратовской область, была одной из крупнейших в РСФСР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Ныне ОАО “Саратовоблгаз входит в структуру газового холдинга Саратовской области. Это предприятие обеспечивает бесперебойное снабжение газом 2 млн 740 тыс. жителей и 6 тыс. 723 предприятий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2001 г. исполнилось 60 лет с начал добычи промышленного газа в Саратове, да и в России в целом, поскольку Саратовскую область принято считать родиной газовой промышленности страны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3"/>
          <p:cNvSpPr/>
          <p:nvPr/>
        </p:nvSpPr>
        <p:spPr>
          <a:xfrm>
            <a:off x="500040" y="357120"/>
            <a:ext cx="792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Основным полезным ископаемым, добываемым в Саратовской области, является нефть и газ. С 1947 г. введены в промышленную разработку нефтяные залеж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По объему промышленного производства, химия и нефтехимия, являются одними из главных отраслей специализации области, их доля в отраслевой структуре промышленного производства составляет 13% . В состав комплекса входят 17 крупных и средних предприятий 6% химической продукции в Росс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Для химического комплекса характерно, использование местного сырья. (Продуктов переработки добываемых в области нефти и газа), а также сырья, доставляемого в область извне (на целлюлозе, апатитах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714240" y="785880"/>
          <a:ext cx="7858440" cy="5214960"/>
        </p:xfrm>
        <a:graphic>
          <a:graphicData uri="http://schemas.openxmlformats.org/drawingml/2006/table">
            <a:tbl>
              <a:tblPr/>
              <a:tblGrid>
                <a:gridCol w="3929040"/>
                <a:gridCol w="3929400"/>
              </a:tblGrid>
              <a:tr h="16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трасли комплек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спользуемое сыр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ческая промышленность: производство удобрений - фосфорных – азот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химия полиме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патиты, фосфори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иродный газ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ефть, природн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00:46Z</dcterms:created>
  <dc:creator>Loner-XP</dc:creator>
  <dc:description/>
  <dc:language>en-US</dc:language>
  <cp:lastModifiedBy>Наталья Васильевна </cp:lastModifiedBy>
  <dcterms:modified xsi:type="dcterms:W3CDTF">2011-04-09T08:20:09Z</dcterms:modified>
  <cp:revision>10</cp:revision>
  <dc:subject/>
  <dc:title> Химическая промышленность Сарат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50000000000010250300207f7000400038000</vt:lpwstr>
  </property>
</Properties>
</file>