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442-FC8F-42B2-8518-B651A5AB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191-ED3C-437B-A045-3060FA15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AAF-1E72-41A2-AB27-EB02F56A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3A2-1093-4751-9229-7D06FE3B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228-903E-463F-896D-165DB325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58C9-E26E-44F4-B245-D7D3299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C45E-7E49-42D8-B0CC-C3C7E11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B36D-6267-4BCE-8932-6F173DFF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8EC6-7072-49B6-BA1F-AD84025A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F89-87E8-4651-8544-A46471DC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3C68-5D4D-4E15-A6C2-8B1535D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7A9-E091-4ECA-9AE0-2F296E7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D979-0608-4F90-9DFE-CBA828B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068F-62E2-4365-9497-A2E2ADB7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D0D5-7C5E-4C1A-8B3D-6ADE157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26D6-CF32-4A55-948C-87083995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6BE-AF39-4487-AFF0-3045516D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EBFF-AF06-4546-AA6B-4AC90674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497D-3503-4BFB-BEB8-845EC6BE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1C87-801E-4332-8655-12E1F100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3EE6-1642-4BE4-8EFC-219E4C64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18FA-71D0-4477-B4F5-35D5DC1E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AC6-2C2F-4DA0-B58D-60FF559F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8A53-7932-4153-B04A-F2B18ED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4543-980C-4C33-82CD-1E584AF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F44E-1BCD-42C2-8047-3E19BA1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EFA1-3CDC-43C9-B014-87001BEF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74FF-D891-4E28-8413-1AC0604C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0DCD-4418-4014-B27E-38B0C09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1915-0D3A-4772-8FDD-EC51D285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F5F2-B52F-4EC2-845D-63C29E05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5DD6-E89A-4E3E-BB56-3844B32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0E4A-E202-4EEC-9A36-B668B915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AEA-03B2-4DDA-BC08-66AD101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29AE-F06D-4A02-A524-F769189B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EFAA-E6A3-43FD-AEC3-E26062D7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775F-4209-4A92-AF54-46CA931F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8CEA-2275-469F-AD3E-F90E319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FFF8-EEC4-4494-A71F-E39454A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3C95-1A9E-47C9-A2B3-FF036150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E452-9D1C-43AC-A857-F9F2862D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A047-4B06-4F0F-A429-8F6E87FB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2045E-1CFB-4672-80ED-6A8DF955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DFC4-5A43-47BB-A312-7ADA5F7B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823-C6F8-4C14-BF56-8986CEBF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A89EE-E44F-44A9-A1DB-BD2C798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D030-C8FD-48A1-A6D4-6DA95BF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4CCC-15AC-4B92-94C6-8DC648B7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07C9-9881-44F8-AD6E-7AB76710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0F89-D349-40DF-B536-B368880D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DF44-643B-4D99-A5C3-F51894ED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B795-05B5-4AB8-BD19-9ACC58D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CAA2-BA80-4386-97BD-BEA4342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23A0-90E7-4AA3-A046-85926D6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A656F-769E-48D3-92DA-99B9D488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9C2-9F6F-4BD6-BEF4-0D3A68C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CCAA-DB06-45F3-A5B7-3E4C60F8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0DA0-89FA-4ED6-BBF7-EC52A305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B2E5-9A95-452C-B253-C4B0B04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F1BB-2E16-467C-8D53-D3170355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65A0-B5C4-41C9-9153-541FB101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B3F3-8D2B-45E2-B554-1FE9DE6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5D38-8BF1-4BA5-B9F6-012250CD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B533-DC20-4511-AFE0-972A325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0B79E-C90C-4588-9F64-8259ABE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EB8A2-CDC2-4962-869E-B07BEEB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B08-4D0B-466C-BCD4-997F7113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74F2-F456-4C3E-940D-330332F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8293-6EDA-4EE7-A23A-4B5D2149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0957-E6A9-4098-9EDE-0B219B14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A109-FB45-4AD7-904E-0E3532F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7CDC-87B3-47A7-8FB0-CD139D77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F464-E685-44D4-AE7A-D40A1BD9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0074-8A37-4695-84B1-634E218F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5C60-0DF7-4E6D-8D22-2F585320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FA30-EAD0-454A-8B4D-06BB86B4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EEF8A-47DF-436D-BD27-C0724A6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ED4-6741-425B-9929-181A7DFC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B3223-1C2C-41EE-B861-AE9044A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628C-A705-45B2-A3BC-0E8E96D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2831-C608-4881-9A00-8B3C0633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6BBC9-A948-499C-836E-A63068A2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07739-74B7-411E-B02C-58645DB9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5B99-4CAD-4E7B-AAAF-8362BC1B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6C8E-CD28-4765-818F-D2B42120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B7F8-2A40-4DA2-B0B0-9B78F45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41320-7DDE-44AE-B5A7-E3F6E4A8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1071-8326-4783-B4A1-42383FA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3B8-265C-4610-A506-DEC80EC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F1934-F0D2-46E2-80C9-8AEAB2D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28BA9-C08F-400A-9BCB-D0EB865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9BCD6-9C69-4EE8-968D-567131A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1CFD-DB6F-4CA7-B816-C40876A0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AD3B-1822-4C90-AA87-97B3E502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7D42-6933-4B9E-B068-A96C57CC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79604-7A55-485C-90A2-8C7EFDBB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2C6-F258-4420-91BF-CEB22E7B03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10E-2125-4CAE-BDB5-FB21BAA4E27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F312-8E0C-42F2-B8CB-947B2F59AC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A9F6-D6DC-4886-9072-10ED4109E2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1AEF-AF3B-4DF2-8C0D-E0F4199C04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31EC-391E-48AE-B4EE-F9F59D7C41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280-14C8-46BC-8B3E-95CBF67218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DA9-95DE-49BC-992F-F78E443660D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ели урока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ть познавательный интерес, реализуя межпредметные связи курсов химии, географии, экологи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формировать знания о сложности отраслевого состава химической промышленности, о ее значении в народном хозяйстве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казать влияние сырьевого, энергетического, потребительского и экологического факторов на размещение предприятий химической промышленности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ь экологические проблемы региона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формирование умений самостоятельного поиска знаний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сширить кругозор учащихся, развить их мышление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оспитать разумное отношение к природе, экологическую грамотность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3" descr=""/>
          <p:cNvPicPr/>
          <p:nvPr/>
        </p:nvPicPr>
        <p:blipFill>
          <a:blip r:embed="rId1"/>
          <a:stretch/>
        </p:blipFill>
        <p:spPr>
          <a:xfrm>
            <a:off x="353880" y="237960"/>
            <a:ext cx="82836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Задачи химической промышленности состоят в том, чтобы изменить природные материалы, так, чтобы сделать их полезными. Большинство людей не видят этих превращений и даже не представляют себе, как они происходят , не понимают , как работают химические предприятия в целом. Но ведь промышленность – это наш социальный партнер, и ответственность за производство химических продуктов с минимальным риском и к общей выгоде лежит на всех. Познакомимся с некоторыми химическими предприятиями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стабильное, динамично развивающееся предприятие, не уступающее заводам конкурентам по качеству выпускаемой продукции, экологической безопасности и социальной защите. 5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троительство завода началось в 1931 г., а уже 1934 г. предприятие выпускало первую продукцию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о время Великой - Отечественной войны 1941 -1945гг предприятие завода давал топливо для фронт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1967 г. проведена установка по каталитическому риформингу бензина Л-35-11/300, в 1970 г. - установка для производства серы и установка по гидроочистке дизельного топливо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 2000 г. на отечественном оборудовании и отечественном сырье освоено производство кровельных и гидроизоляционных материалов, нового поколения “Саркров” и “Сарфлекс”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ся производственная деятельность ОАО “Сарт НПЗ” строится на двух принципах, во-первых, она не должна оказывать необратимого вредного воздействия на окружающую среду, а во-вторых, должна быть безопасной, как для работников завода, так и для ближайших к предприятию жизнедеятельности человек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263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551800" cy="1201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Sans Unicode"/>
              </a:rPr>
              <a:t>Первые волокна из нефти были получены в 1937-1939гг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2920" y="1356840"/>
            <a:ext cx="4572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Два крупных предприятия химической промышленности: комбинат искусственного и синтетического волокна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вое из них специализируется на производстве капроновой нити и волокна, хлопковой целлюлозы; второе - на выпуске стиральных и чистящих порошков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Химические волокна обладают самыми разнообразными свойствами.  В наше время их используют повсюду. Из них делают повседневную и нарядную одежду, специализированные изделия – “нережущиеся перчатки», бронежилеты, негорючие и теплостойкие ткани. Продукты нефтеперерабатывающих заводов находят применение в космических технологиях: скафандр космонавта, зонд для исследования атмосфер планет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</a:rPr>
              <a:t>Прядильный цех нитро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Содержимое 7" descr="http://festival.1september.ru/articles/501873/img2.gif"/>
          <p:cNvPicPr/>
          <p:nvPr/>
        </p:nvPicPr>
        <p:blipFill>
          <a:blip r:embed="rId3"/>
          <a:stretch/>
        </p:blipFill>
        <p:spPr>
          <a:xfrm>
            <a:off x="4956120" y="2000160"/>
            <a:ext cx="36878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одно из крупнейших в Европе стекольных производств, существует с 1957 г. Предприятие выпускает стекло листовое толщиной от 2 до 10 мм, автомобильное стекло на уровне мировых стандартов, свыше двухсот наименований хрустальных изделий , разнообразный спектр зеркал различной конфигурации с нанесением декоративные рисунка, мебель из стекла, оригинальные светильни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909720" y="2071800"/>
            <a:ext cx="70200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5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2535480" cy="1096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57120" y="3714840"/>
            <a:ext cx="2857680" cy="2643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Sans Unicode"/>
              </a:rPr>
              <a:t>В результате внедрения в производство автомобильной линии фирма “BAVELLONI” расширились возможности алмазного декорирования поверхностей зеркал и нанесения широкого фацет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714840" y="6000480"/>
            <a:ext cx="5214960" cy="500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 fontScale="9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А сколько лет стеклу?       (Около 6 тысяч лет)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Содержимое 3" descr="http://festival.1september.ru/articles/501873/img4.gif"/>
          <p:cNvPicPr/>
          <p:nvPr/>
        </p:nvPicPr>
        <p:blipFill>
          <a:blip r:embed="rId3"/>
          <a:stretch/>
        </p:blipFill>
        <p:spPr>
          <a:xfrm>
            <a:off x="857160" y="1428840"/>
            <a:ext cx="1800360" cy="1752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285720" y="499680"/>
            <a:ext cx="5715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Первые изделия - бусы, сосуды неправильной формы – были изготовлены еще в Древнем Египте рабами, которые лепили их с помощью палки и щипцов. А вот оконное стекло появилось в Европе только при Людовике XIV . Оно было в виде маленьких цветных стеклышек в свинцовых переплетах окон и дверей замков и дворцов. В домах бедняков оконные рамы были затянуты бычьими пузырями, промасленной бумагой или слюдо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Очень много для развития русского стеклоделия сделал М.В.Ломоносов. Он создал первую химическую лабораторию в России, в которой ставил эксперименты и изучал свойства веществ, в том числе и стекла. Проделав со стеклом четыре тысячи опытов, ученый нашел способы улучить его качество. Его перу принадлежит и большой труд, посвященный стеклу, и поэма о стекле. Со времени Киевской Руси искусство мозаики было совсем забыто в России. О нем вспомнил Ломоносов. Он добился того, что стекляшки для мозаики – смальты – стали получаться очень красивых цветов. Ломоносов собственноручно выполнил мозаичную большую картину “Полтавская баталия”, на создание которой использовалась цветная мозаика. Размер картины 42м</a:t>
            </a:r>
            <a:r>
              <a:rPr b="0" lang="en-US" sz="1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. Над ней Ломоносов работал почти 5 лет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7358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14200" y="5000760"/>
            <a:ext cx="3286080" cy="11714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Цементный заво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Предприятие основано в 1897 г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Содержимое 3" descr="http://festival.1september.ru/articles/501873/img5.gif"/>
          <p:cNvPicPr/>
          <p:nvPr/>
        </p:nvPicPr>
        <p:blipFill>
          <a:blip r:embed="rId3"/>
          <a:stretch/>
        </p:blipFill>
        <p:spPr>
          <a:xfrm>
            <a:off x="428760" y="1928880"/>
            <a:ext cx="3566880" cy="2571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071600" y="1500120"/>
            <a:ext cx="471492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лагодаря богатейшим запасам уникального сырья ОАО “Вольскцемент” производит около 10 видов цемента. Еще XIX в цементники маркировали свою продукцию гербом России, как товар наивысшего качеств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Качество вольского цемента отмечено наградами . 1995 г. - “Золотая звезда”- европейская награда за качеств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998 И 2000 гг. - дипломом конкурса “100 лучших товаров России”. Волжский цемент прекрасно зарекомендовал себя в прошлом: Каскад волжских ГЭС, ВАЗ, КамАЗ, Московское метро. Крупнейшие проекты России каскад ГЭС в Дагестане, мосты через Волгу в Саратове и Нижнем Новгороде, метро в Самаре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298440" y="231840"/>
            <a:ext cx="8632800" cy="10605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20430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1640" y="5643360"/>
            <a:ext cx="4357800" cy="8571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Перечень производственно - технической продукции, выпускаемой предприятиями саратовской области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85480" y="1444320"/>
            <a:ext cx="421164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В народном хозяйстве нет отрасли, где бы не использовались изделия химической промышленности. Легкой промышленности, она дает волокна и красители: строительству - краски, стекло; сельскому хозяйству - удобрения, ядохимикаты; машиностроению - краски, резину, синтетический каучук и пластмассы: транспорту - горючее и масло: энергетике топливо, мазут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00360" y="92880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. Удобрения минеральные (азотное и фосфорное)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2. Химические волокна - искусственные, синтетическ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3. Кислота сер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4. Синтетические смолы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5. Се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6. Пленка полиме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7. Лакокрасочные материалы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8. Олифа натураль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9. Кислота уксус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0. Фонол синтетический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1. Глицерин технический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2. Этиловый спирт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3. Шелковые ткан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4. Сульфат натри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5. Целлофан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6. Вата медицинск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7. Пряжа: “Волжанка”, “Неженка”, “Катрин”. “Пушинка”, “Нитрон”, “Ровница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Панорама Сарат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29160"/>
            <a:ext cx="4041720" cy="743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Lucida Sans Unicode"/>
              </a:rPr>
              <a:t>Н. Пальки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457200" y="1900080"/>
            <a:ext cx="4040280" cy="3030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о прежде чем вдоль круч горбат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 него войдет с рожденья дн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Скажу, чем славен мой Сарат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 что он значит для мен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-498600" y="-44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3" descr="http://festival.1september.ru/articles/501873/Image41.jpg"/>
          <p:cNvPicPr/>
          <p:nvPr/>
        </p:nvPicPr>
        <p:blipFill>
          <a:blip r:embed="rId2"/>
          <a:stretch/>
        </p:blipFill>
        <p:spPr>
          <a:xfrm>
            <a:off x="428760" y="1481040"/>
            <a:ext cx="8501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Саратовская область расположена на юго-востоке европейской части России. Ее площадь составляет 100.2 тысячи  км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Недра Поволжья богаты нефтью, газом, мелом, фосфоритами, глинами, песком и другими природными ресурса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Химическая промышленность представлена минеральными удобрениями, серной кислотой, химическими волокнами, нитями, резинотехническими изделия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Химическая промышленность одна из ведущих отраслей тяжелой промышленности, развитие которой укрепляет экономическую и оборонную мощь страны, удовлетворяет потребности населения во многих изделиях, применяемых в быт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е упоминание о природном газе в Саратовской области относится к 1840 г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ещанин Поздняков, живущий в районе Глебучева оврага, спустился в погреб со свечой в руке, раздался взрыв, и хранилище крестьянских продуктов превратилось в развалин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1867 г. подобный случай произошел в деревне Елшанка, в 18 км от Саратов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1906 г. у с. Дергачи Новоузенского района и на хуторе вольского купца Мельникова при бурении артезианского колодца был обнаружен метан (СН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 Предприимчивый купец построил на этом месте стекольный и кирпичный заводы - на бесплатном топлив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852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1913 г. на Белоглинской улице в Саратове был сооружен газовый завод и проложен газопровод протяженностью около 2 км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начально газ получали из каменного угля и использовали для освещ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первые годы советской власти развернулось производство других искусственных газов; коксового, доменного, генераторного. Газы получали из каменного и бурого угля, горючих сланцев, торфа и древесин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Увеличилась добыча нефти. В 1940 г. в Саратове был получен первый газовый фонтан. Это было время, когда на учет брался каждый кг горючего, когда любая возможность становилась ощутимым ударом по враг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2 г. завершилось бурение трех скважин, давших первый газ – метан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Был сдан в эксплуатацию 15 километровый газопровод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3 г, газ пришел на Саратовскую ТЭЦ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4 г. приняли постановление о создании газопровода Саратов – Москва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ачале 1980-х гг. по объему газификации Саратовской область, была одной из крупнейших в РСФСР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Ныне ОАО “Саратовоблгаз входит в структуру газового холдинга Саратовской области. Это предприятие обеспечивает бесперебойное снабжение газом 2 млн 740 тыс. жителей и 6 тыс. 723 предприятий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 2001 г. исполнилось 60 лет с начал добычи промышленного газа в Саратове, да и в России в целом, поскольку Саратовскую область принято считать родиной газовой промышленности страны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3"/>
          <p:cNvSpPr/>
          <p:nvPr/>
        </p:nvSpPr>
        <p:spPr>
          <a:xfrm>
            <a:off x="500040" y="357120"/>
            <a:ext cx="7929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Основным полезным ископаемым, добываемым в Саратовской области, является нефть и газ. С 1947 г. введены в промышленную разработку нефтяные залеж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По объему промышленного производства, химия и нефтехимия, являются одними из главных отраслей специализации области, их доля в отраслевой структуре промышленного производства составляет 13% . В состав комплекса входят 17 крупных и средних предприятий 6% химической продукции в Росс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Для химического комплекса характерно, использование местного сырья. (Продуктов переработки добываемых в области нефти и газа), а также сырья, доставляемого в область извне (на целлюлозе, апатитах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714240" y="785880"/>
          <a:ext cx="7858440" cy="5214960"/>
        </p:xfrm>
        <a:graphic>
          <a:graphicData uri="http://schemas.openxmlformats.org/drawingml/2006/table">
            <a:tbl>
              <a:tblPr/>
              <a:tblGrid>
                <a:gridCol w="3929040"/>
                <a:gridCol w="3929400"/>
              </a:tblGrid>
              <a:tr h="16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трасли комплек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Используемое сыр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имическая промышленность: производство удобрений - фосфорных – азот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имия полиме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патиты, фосфори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иродный газ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ефть, природн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0:46Z</dcterms:created>
  <dc:creator>Loner-XP</dc:creator>
  <dc:description/>
  <dc:language>en-US</dc:language>
  <cp:lastModifiedBy>Наталья Васильевна </cp:lastModifiedBy>
  <dcterms:modified xsi:type="dcterms:W3CDTF">2011-04-09T08:20:09Z</dcterms:modified>
  <cp:revision>10</cp:revision>
  <dc:subject/>
  <dc:title> Химическая промышленность Сарат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50000000000010250300207f7000400038000</vt:lpwstr>
  </property>
</Properties>
</file>