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5C8-9979-492B-8A95-B9D76C04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2AA-11E7-49B5-97B3-74398D12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66EA-C82A-4696-939A-BDDAD41E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3A5-8178-4064-89B4-C1EE2581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DC7-1C2E-49AB-8B4B-5F377651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EE8-3E60-40B2-814F-0D7D7001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52D-F5E1-401B-8F75-2944C7B1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8082-2034-46F4-810B-F91B9F3B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C45-0162-428C-A561-2F74039D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8A5-35F2-46FD-B920-BCFDB82F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A88-5FA2-446B-85F3-74AB81C8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E85-9C1C-4623-96D4-3FB457C2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B53C-78D6-44DE-ADD1-ACDD34EEFD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973600">
            <a:off x="641520" y="1641240"/>
            <a:ext cx="7772400" cy="19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ГРАДУСНАЯ СЕТЬ НА ГЛОБУСЕ И КАРТАХ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Мои презентации\Глобусы\глобус №1.jpeg"/>
          <p:cNvPicPr/>
          <p:nvPr/>
        </p:nvPicPr>
        <p:blipFill>
          <a:blip r:embed="rId1"/>
          <a:stretch/>
        </p:blipFill>
        <p:spPr>
          <a:xfrm>
            <a:off x="6377040" y="3657600"/>
            <a:ext cx="2359080" cy="328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571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Лента лицом вверх 6"/>
          <p:cNvSpPr/>
          <p:nvPr/>
        </p:nvSpPr>
        <p:spPr>
          <a:xfrm>
            <a:off x="1357200" y="1285920"/>
            <a:ext cx="6858000" cy="3500280"/>
          </a:xfrm>
          <a:custGeom>
            <a:avLst/>
            <a:gdLst>
              <a:gd name="textAreaLeft" fmla="*/ 1714320 w 6858000"/>
              <a:gd name="textAreaRight" fmla="*/ 5143680 w 6858000"/>
              <a:gd name="textAreaTop" fmla="*/ 0 h 3500280"/>
              <a:gd name="textAreaBottom" fmla="*/ 2917080 h 350028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00b0f0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2876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Градусная сеть 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- система меридианов и параллелей на географических картах и глобусах, которая служит для отсчета географических координа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Географические полюса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–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еверный и Южный - точки пересечения воображаемой оси вращения Земли с земной поверхностью. На полюсах нет сторон горизонта.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D:\Мои презентации\Глобусы\глобус №7jpeg.jpeg"/>
          <p:cNvPicPr/>
          <p:nvPr/>
        </p:nvPicPr>
        <p:blipFill>
          <a:blip r:embed="rId2"/>
          <a:stretch/>
        </p:blipFill>
        <p:spPr>
          <a:xfrm>
            <a:off x="2076480" y="4572000"/>
            <a:ext cx="4991040" cy="207180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85480"/>
            <a:ext cx="40384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Экватор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линия пересечения земного шара плоскостью, проходящей через центр Земли перпендикулярно оси ее вращ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D:\Мои презентации\Глобусы\глобус №9peg.jpeg"/>
          <p:cNvPicPr/>
          <p:nvPr/>
        </p:nvPicPr>
        <p:blipFill>
          <a:blip r:embed="rId2"/>
          <a:stretch/>
        </p:blipFill>
        <p:spPr>
          <a:xfrm>
            <a:off x="4871880" y="285840"/>
            <a:ext cx="3986280" cy="584028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Параллельно экватору проведены линии, которые называются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параллеля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4200" y="357120"/>
            <a:ext cx="8715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Назовите самую большую паралл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динакова ли длина всех параллел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ак изменяется длина параллелей?</a:t>
            </a:r>
            <a:br>
              <a:rPr sz="4400"/>
            </a:b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Экватор делит Землю на два полуша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Назовите и покажите эти полушария на глобус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Меридианы –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линии сечения земной поверхности, проходящие через ось вращения Земли и соответственно через оба ее полюса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D:\Мои презентации\Глобусы\глобус №8peg.jpeg"/>
          <p:cNvPicPr/>
          <p:nvPr/>
        </p:nvPicPr>
        <p:blipFill>
          <a:blip r:embed="rId2"/>
          <a:stretch/>
        </p:blipFill>
        <p:spPr>
          <a:xfrm>
            <a:off x="2571840" y="3589200"/>
            <a:ext cx="3857400" cy="2982960"/>
          </a:xfrm>
          <a:prstGeom prst="rect">
            <a:avLst/>
          </a:prstGeom>
          <a:ln w="76320">
            <a:solidFill>
              <a:srgbClr val="002060"/>
            </a:solidFill>
            <a:miter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динакова ли длина всех меридиан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Через сколько градусов проходят параллели и меридиан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окажите на глобусах нулевой меридиа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Нулевой меридиан делит Землю еще на два полушария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акие, покажите их на глобус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Задание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окажите на глобусах и укажите, в каких полушариях находятс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14308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еверная Америка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строва Новая Зеландия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. Гренландия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Антарктида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Афр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5:38:32Z</dcterms:created>
  <dc:creator>Санек</dc:creator>
  <dc:description/>
  <dc:language>en-US</dc:language>
  <cp:lastModifiedBy>Санек</cp:lastModifiedBy>
  <dcterms:modified xsi:type="dcterms:W3CDTF">2011-09-10T12:12:42Z</dcterms:modified>
  <cp:revision>5</cp:revision>
  <dc:subject/>
  <dc:title>ГРАДУСНАЯ СЕТЬ НА ГЛОБУСЕ И КАРТ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70000000000010243100207f6000400038000</vt:lpwstr>
  </property>
</Properties>
</file>