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6C1-DB21-495C-9CEE-16CE67FE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FCE-CC4C-485F-8E22-77ABB5D1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5C1-10EF-479A-AD4D-29792824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280-378C-488B-8F2F-B4051AC4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887-73B7-4514-9412-1A32CE0C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F5C-482A-4FB6-AE4E-63178722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DA0-0F12-46E3-8920-C3A45B5D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CAA-E5DF-4731-A7B1-2BD02453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693-E0BE-4BC2-AB1A-36B01E91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F8D-6459-48B1-BC27-72107DC4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217-6812-4277-9F93-6581B719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6B7-D7FC-4BBB-82BD-1639FADB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A8C8-897E-4440-B3CF-E7A42FACE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973600">
            <a:off x="641520" y="164124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ГРАДУСНАЯ СЕТЬ НА ГЛОБУСЕ И КАРТА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Мои презентации\Глобусы\глобус №1.jpeg"/>
          <p:cNvPicPr/>
          <p:nvPr/>
        </p:nvPicPr>
        <p:blipFill>
          <a:blip r:embed="rId1"/>
          <a:stretch/>
        </p:blipFill>
        <p:spPr>
          <a:xfrm>
            <a:off x="6377040" y="3657600"/>
            <a:ext cx="235908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Лента лицом вверх 6"/>
          <p:cNvSpPr/>
          <p:nvPr/>
        </p:nvSpPr>
        <p:spPr>
          <a:xfrm>
            <a:off x="1357200" y="1285920"/>
            <a:ext cx="6858000" cy="350028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0 h 3500280"/>
              <a:gd name="textAreaBottom" fmla="*/ 2917080 h 35002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b0f0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2876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Градусная сеть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- система меридианов и параллелей на географических картах и глобусах, которая служит для отсчета географических координа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Географические полюса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–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еверный и Южный - точки пересечения воображаемой оси вращения Земли с земной поверхностью. На полюсах нет сторон горизонта.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Мои презентации\Глобусы\глобус №7jpeg.jpeg"/>
          <p:cNvPicPr/>
          <p:nvPr/>
        </p:nvPicPr>
        <p:blipFill>
          <a:blip r:embed="rId2"/>
          <a:stretch/>
        </p:blipFill>
        <p:spPr>
          <a:xfrm>
            <a:off x="2076480" y="4572000"/>
            <a:ext cx="4991040" cy="20718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85480"/>
            <a:ext cx="4038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Экватор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иния пересечения земного шара плоскостью, проходящей через центр Земли перпендикулярно оси ее вращ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Мои презентации\Глобусы\глобус №9peg.jpeg"/>
          <p:cNvPicPr/>
          <p:nvPr/>
        </p:nvPicPr>
        <p:blipFill>
          <a:blip r:embed="rId2"/>
          <a:stretch/>
        </p:blipFill>
        <p:spPr>
          <a:xfrm>
            <a:off x="4871880" y="285840"/>
            <a:ext cx="3986280" cy="58402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араллельно экватору проведены линии, которые называются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параллеля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4200" y="357120"/>
            <a:ext cx="8715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зовите самую большую паралл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динакова ли длина всех параллел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 изменяется длина параллелей?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Экватор делит Землю на два полуша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зовите и покажите эти полушария на глобус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Меридианы 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линии сечения земной поверхности, проходящие через ось вращения Земли и соответственно через оба ее полюса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:\Мои презентации\Глобусы\глобус №8peg.jpeg"/>
          <p:cNvPicPr/>
          <p:nvPr/>
        </p:nvPicPr>
        <p:blipFill>
          <a:blip r:embed="rId2"/>
          <a:stretch/>
        </p:blipFill>
        <p:spPr>
          <a:xfrm>
            <a:off x="2571840" y="3589200"/>
            <a:ext cx="3857400" cy="2982960"/>
          </a:xfrm>
          <a:prstGeom prst="rect">
            <a:avLst/>
          </a:prstGeom>
          <a:ln w="76320">
            <a:solidFill>
              <a:srgbClr val="002060"/>
            </a:solidFill>
            <a:miter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динакова ли длина всех меридиан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Через сколько градусов проходят параллели и меридиа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окажите на глобусах нулевой меридиа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улевой меридиан делит Землю еще на два полушари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акие, покажите их на глобус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Задание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окажите на глобусах и укажите, в каких полушариях находятс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143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еверная Америк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строва Новая Зеландия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. Гренландия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нтарктид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фр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8:32Z</dcterms:created>
  <dc:creator>Санек</dc:creator>
  <dc:description/>
  <dc:language>en-US</dc:language>
  <cp:lastModifiedBy>Санек</cp:lastModifiedBy>
  <dcterms:modified xsi:type="dcterms:W3CDTF">2011-09-10T12:12:42Z</dcterms:modified>
  <cp:revision>5</cp:revision>
  <dc:subject/>
  <dc:title>ГРАДУСНАЯ СЕТЬ НА ГЛОБУСЕ И КАРТ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70000000000010243100207f6000400038000</vt:lpwstr>
  </property>
</Properties>
</file>