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656A-54E3-4CD1-9724-EF8F0AA0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4D95-0C49-4B48-B9D9-BBB43B4F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3212-B4A8-4C32-ABEC-4101A6CED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4F02-8C26-449D-B53A-31208665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0F92-CFE1-4FDD-AEDA-0C4534F3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DA12-42F6-4F18-BDE3-756D8F55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30F5-79D7-4AEF-B5E1-8F46A013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388-C3FC-4B25-92E8-A9B90135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AA3B-0017-4D41-83DE-BE4CAF38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219A-841F-443F-A9D2-02BFCD98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216A-487B-40E1-A769-F04D78C0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4017-219C-429C-AB3A-F60A326B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9170-9E2A-4192-91B8-EA571855F8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20973600">
            <a:off x="641520" y="1641240"/>
            <a:ext cx="7772400" cy="19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ГРАДУСНАЯ СЕТЬ НА ГЛОБУСЕ И КАРТАХ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D:\Мои презентации\Глобусы\глобус №1.jpeg"/>
          <p:cNvPicPr/>
          <p:nvPr/>
        </p:nvPicPr>
        <p:blipFill>
          <a:blip r:embed="rId1"/>
          <a:stretch/>
        </p:blipFill>
        <p:spPr>
          <a:xfrm>
            <a:off x="6377040" y="3657600"/>
            <a:ext cx="2359080" cy="3286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5713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Лента лицом вверх 6"/>
          <p:cNvSpPr/>
          <p:nvPr/>
        </p:nvSpPr>
        <p:spPr>
          <a:xfrm>
            <a:off x="1357200" y="1285920"/>
            <a:ext cx="6858000" cy="3500280"/>
          </a:xfrm>
          <a:custGeom>
            <a:avLst/>
            <a:gdLst>
              <a:gd name="textAreaLeft" fmla="*/ 1714320 w 6858000"/>
              <a:gd name="textAreaRight" fmla="*/ 5143680 w 6858000"/>
              <a:gd name="textAreaTop" fmla="*/ 0 h 3500280"/>
              <a:gd name="textAreaBottom" fmla="*/ 2917080 h 350028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00b0f0"/>
          </a:solidFill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mic Sans MS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2876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Monotype Corsiva"/>
              </a:rPr>
              <a:t>Градусная сеть </a:t>
            </a: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- система меридианов и параллелей на географических картах и глобусах, которая служит для отсчета географических координа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Географические полюса 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–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еверный и Южный - точки пересечения воображаемой оси вращения Земли с земной поверхностью. На полюсах нет сторон горизонта.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D:\Мои презентации\Глобусы\глобус №7jpeg.jpeg"/>
          <p:cNvPicPr/>
          <p:nvPr/>
        </p:nvPicPr>
        <p:blipFill>
          <a:blip r:embed="rId2"/>
          <a:stretch/>
        </p:blipFill>
        <p:spPr>
          <a:xfrm>
            <a:off x="2076480" y="4572000"/>
            <a:ext cx="4991040" cy="207180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285480"/>
            <a:ext cx="40384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Экватор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линия пересечения земного шара плоскостью, проходящей через центр Земли перпендикулярно оси ее вращ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D:\Мои презентации\Глобусы\глобус №9peg.jpeg"/>
          <p:cNvPicPr/>
          <p:nvPr/>
        </p:nvPicPr>
        <p:blipFill>
          <a:blip r:embed="rId2"/>
          <a:stretch/>
        </p:blipFill>
        <p:spPr>
          <a:xfrm>
            <a:off x="4871880" y="285840"/>
            <a:ext cx="3986280" cy="584028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Параллельно экватору проведены линии, которые называются </a:t>
            </a: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параллелям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14200" y="357120"/>
            <a:ext cx="8715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Назовите самую большую параллел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Одинакова ли длина всех параллеле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ак изменяется длина параллелей?</a:t>
            </a:r>
            <a:br>
              <a:rPr sz="4400"/>
            </a:b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Экватор делит Землю на два полушар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Назовите и покажите эти полушария на глобуса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5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Меридианы –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линии сечения земной поверхности, проходящие через ось вращения Земли и соответственно через оба ее полюса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D:\Мои презентации\Глобусы\глобус №8peg.jpeg"/>
          <p:cNvPicPr/>
          <p:nvPr/>
        </p:nvPicPr>
        <p:blipFill>
          <a:blip r:embed="rId2"/>
          <a:stretch/>
        </p:blipFill>
        <p:spPr>
          <a:xfrm>
            <a:off x="2571840" y="3589200"/>
            <a:ext cx="3857400" cy="2982960"/>
          </a:xfrm>
          <a:prstGeom prst="rect">
            <a:avLst/>
          </a:prstGeom>
          <a:ln w="76320">
            <a:solidFill>
              <a:srgbClr val="002060"/>
            </a:solidFill>
            <a:miter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Одинакова ли длина всех меридиано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Через сколько градусов проходят параллели и меридиан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окажите на глобусах нулевой меридиа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Нулевой меридиан делит Землю еще на два полушария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акие, покажите их на глобус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Задание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окажите на глобусах и укажите, в каких полушариях находятс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14308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еверная Америка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Острова Новая Зеландия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о. Гренландия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Антарктида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Афри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5:38:32Z</dcterms:created>
  <dc:creator>Санек</dc:creator>
  <dc:description/>
  <dc:language>en-US</dc:language>
  <cp:lastModifiedBy>Санек</cp:lastModifiedBy>
  <dcterms:modified xsi:type="dcterms:W3CDTF">2011-09-10T12:12:42Z</dcterms:modified>
  <cp:revision>5</cp:revision>
  <dc:subject/>
  <dc:title>ГРАДУСНАЯ СЕТЬ НА ГЛОБУСЕ И КАРТА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70000000000010243100207f6000400038000</vt:lpwstr>
  </property>
</Properties>
</file>