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029-4936-44A4-9602-B3B381509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1D4B-C8E6-47AB-BBD1-F93FC1E4EF78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900B-A658-4C8F-975A-2DE5F2FBF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0D71-FA09-4693-81EF-B765105E4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4658-B83B-41E8-AB62-0C25D2038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E347-5953-46EB-B0C3-64C265CA7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4DCC-E258-452A-B329-195893AD1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51D6-581C-4560-9C79-20F506F5D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1415-DFF7-4AFC-B0B9-FB3A32AB3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ACE7-62E0-4365-837B-C918D287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D9F5-B133-4F38-9167-FB34FFE16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56D7-00FA-45B6-8462-69CA3AB2D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463F-20AC-4E07-9C04-00858BDAD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ECDE-99B3-4390-B533-F27701FD0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B606-FB69-42B6-B98C-91FAB4AD41E0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7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48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1" descr="D:\КАРТИНКИ\Коллекция картинок 5\j0238090.wmf"/>
          <p:cNvPicPr/>
          <p:nvPr/>
        </p:nvPicPr>
        <p:blipFill>
          <a:blip r:embed="rId4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КАРТИНКИ\Коллекция картинок 5\j0298113.wmf"/>
          <p:cNvPicPr/>
          <p:nvPr/>
        </p:nvPicPr>
        <p:blipFill>
          <a:blip r:embed="rId5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хема 4" descr=""/>
          <p:cNvPicPr/>
          <p:nvPr/>
        </p:nvPicPr>
        <p:blipFill>
          <a:blip r:embed="rId2"/>
          <a:stretch/>
        </p:blipFill>
        <p:spPr>
          <a:xfrm>
            <a:off x="-55440" y="1200240"/>
            <a:ext cx="9040680" cy="534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wer6"/>
          <p:cNvPicPr/>
          <p:nvPr/>
        </p:nvPicPr>
        <p:blipFill>
          <a:blip r:embed="rId4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Цветная металлургия"/>
          <p:cNvPicPr/>
          <p:nvPr/>
        </p:nvPicPr>
        <p:blipFill>
          <a:blip r:embed="rId2"/>
          <a:stretch/>
        </p:blipFill>
        <p:spPr>
          <a:xfrm>
            <a:off x="500040" y="1285920"/>
            <a:ext cx="8072640" cy="54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7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90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6" descr="D:\КАРТИНКИ\Коллекция картинок 5\in00689_.wmf"/>
          <p:cNvPicPr/>
          <p:nvPr/>
        </p:nvPicPr>
        <p:blipFill>
          <a:blip r:embed="rId2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D:\КАРТИНКИ\Коллекция картинок 5\j0195826.wmf"/>
          <p:cNvPicPr/>
          <p:nvPr/>
        </p:nvPicPr>
        <p:blipFill>
          <a:blip r:embed="rId3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5" name="Picture 11" descr="wer1"/>
          <p:cNvPicPr/>
          <p:nvPr/>
        </p:nvPicPr>
        <p:blipFill>
          <a:blip r:embed="rId2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28760" y="1357200"/>
            <a:ext cx="84405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ие горнодобывающие 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57120" y="192888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en-US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3" name="Picture 12" descr="vis5"/>
          <p:cNvPicPr/>
          <p:nvPr/>
        </p:nvPicPr>
        <p:blipFill>
          <a:blip r:embed="rId2"/>
          <a:stretch/>
        </p:blipFill>
        <p:spPr>
          <a:xfrm>
            <a:off x="3071880" y="414324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6" name="Picture 12" descr="dri8"/>
          <p:cNvPicPr/>
          <p:nvPr/>
        </p:nvPicPr>
        <p:blipFill>
          <a:blip r:embed="rId2"/>
          <a:stretch/>
        </p:blipFill>
        <p:spPr>
          <a:xfrm>
            <a:off x="1643040" y="4071960"/>
            <a:ext cx="3559320" cy="252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7" name="Picture 10" descr="Литье металла"/>
          <p:cNvPicPr/>
          <p:nvPr/>
        </p:nvPicPr>
        <p:blipFill>
          <a:blip r:embed="rId3"/>
          <a:stretch/>
        </p:blipFill>
        <p:spPr>
          <a:xfrm>
            <a:off x="285840" y="1428840"/>
            <a:ext cx="3708360" cy="2492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4200" y="1785960"/>
            <a:ext cx="878688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0" name="Picture 12" descr="На сталелитейном заводе"/>
          <p:cNvPicPr/>
          <p:nvPr/>
        </p:nvPicPr>
        <p:blipFill>
          <a:blip r:embed="rId2"/>
          <a:stretch/>
        </p:blipFill>
        <p:spPr>
          <a:xfrm>
            <a:off x="2357280" y="3571920"/>
            <a:ext cx="4357800" cy="290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Черная металлургия"/>
          <p:cNvPicPr/>
          <p:nvPr/>
        </p:nvPicPr>
        <p:blipFill>
          <a:blip r:embed="rId2"/>
          <a:stretch/>
        </p:blipFill>
        <p:spPr>
          <a:xfrm>
            <a:off x="428760" y="1357200"/>
            <a:ext cx="829440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starostina</cp:lastModifiedBy>
  <dcterms:modified xsi:type="dcterms:W3CDTF">2010-05-06T06:30:42Z</dcterms:modified>
  <cp:revision>25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