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F48C-8282-4120-8829-6D996F43D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27F0-1FBF-4FA7-BD6B-B3E7800BE7D7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B93F-F1B2-42CD-81C8-25D5A2235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27B3-A6C2-4B54-A5DF-DE95B8513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9803-E8CD-48E6-821B-5D6079BAF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3A75-96F1-43BC-A52C-D02A15366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938E-F900-471F-A459-C42AF0ED78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A12A-88EF-4FA3-9D07-761D6BBB1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E3CF-7BC3-4197-A4D3-FA003BCCE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3A91-66F5-4FA7-9A4E-3EF9F4BCA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B368-C502-496E-A26C-EBADC0D54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3C2E-0F24-47DC-9C1E-183F78085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01CF-AE42-4A7D-BA94-83CA8D54D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1722-09B4-4E5E-9504-2FFC880B5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62B4-B1E7-4514-A89F-EB386A37D04A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7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48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Международная торговля </a:t>
            </a:r>
            <a:br>
              <a:rPr sz="3600"/>
            </a:b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железной руд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357200"/>
          <a:ext cx="9144000" cy="5397480"/>
        </p:xfrm>
        <a:graphic>
          <a:graphicData uri="http://schemas.openxmlformats.org/drawingml/2006/table">
            <a:tbl>
              <a:tblPr/>
              <a:tblGrid>
                <a:gridCol w="4235400"/>
                <a:gridCol w="49086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экс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им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в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 и Люксембу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1" descr="D:\КАРТИНКИ\Коллекция картинок 5\j0238090.wmf"/>
          <p:cNvPicPr/>
          <p:nvPr/>
        </p:nvPicPr>
        <p:blipFill>
          <a:blip r:embed="rId4"/>
          <a:stretch/>
        </p:blipFill>
        <p:spPr>
          <a:xfrm>
            <a:off x="6858000" y="264312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КАРТИНКИ\Коллекция картинок 5\j0298113.wmf"/>
          <p:cNvPicPr/>
          <p:nvPr/>
        </p:nvPicPr>
        <p:blipFill>
          <a:blip r:embed="rId5"/>
          <a:stretch/>
        </p:blipFill>
        <p:spPr>
          <a:xfrm>
            <a:off x="1857240" y="2500200"/>
            <a:ext cx="207036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Факто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хема 4" descr=""/>
          <p:cNvPicPr/>
          <p:nvPr/>
        </p:nvPicPr>
        <p:blipFill>
          <a:blip r:embed="rId2"/>
          <a:stretch/>
        </p:blipFill>
        <p:spPr>
          <a:xfrm>
            <a:off x="-55440" y="1200240"/>
            <a:ext cx="9040680" cy="534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14200" y="4143240"/>
            <a:ext cx="8929800" cy="25628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9a0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1417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Цветная металлургия производит около 40 млн.т различных металлов в год. Это прежде всег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ЛЮМИНИЙ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(около 20 млн.т/г), находящий самое широкое применение в современной жизни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Алюминиевая  промышленность  представлена  двумя  территориально разорванными производственными звеньями.  Первое из них  – получение глинозема (окисла алюминия),  география которого тяготеет к странам, добывающим бокситы (алюминиевые руды).  Второе,  более энергоемкое – производство алюминия, география  которого тяготеет к источникам дешевой электроэнергии).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429000" y="1500120"/>
          <a:ext cx="5286240" cy="2621160"/>
        </p:xfrm>
        <a:graphic>
          <a:graphicData uri="http://schemas.openxmlformats.org/drawingml/2006/table">
            <a:tbl>
              <a:tblPr/>
              <a:tblGrid>
                <a:gridCol w="1887480"/>
                <a:gridCol w="755640"/>
                <a:gridCol w="1887480"/>
                <a:gridCol w="7556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Добыча бокситов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ыплавка алюминия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ине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Ямайк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9" descr="wer6"/>
          <p:cNvPicPr/>
          <p:nvPr/>
        </p:nvPicPr>
        <p:blipFill>
          <a:blip r:embed="rId4"/>
          <a:stretch/>
        </p:blipFill>
        <p:spPr>
          <a:xfrm>
            <a:off x="214200" y="1643040"/>
            <a:ext cx="3048120" cy="235764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Цветная металлургия"/>
          <p:cNvPicPr/>
          <p:nvPr/>
        </p:nvPicPr>
        <p:blipFill>
          <a:blip r:embed="rId2"/>
          <a:stretch/>
        </p:blipFill>
        <p:spPr>
          <a:xfrm>
            <a:off x="500040" y="1285920"/>
            <a:ext cx="8072640" cy="54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цвет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7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1571760" y="2857680"/>
            <a:ext cx="6000480" cy="37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90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2786040" y="4572000"/>
            <a:ext cx="321480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7772400" cy="29419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Горнодобывающая промышленность</a:t>
            </a:r>
            <a:br>
              <a:rPr sz="5400"/>
            </a:b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 и металлур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6" descr="D:\КАРТИНКИ\Коллекция картинок 5\in00689_.wmf"/>
          <p:cNvPicPr/>
          <p:nvPr/>
        </p:nvPicPr>
        <p:blipFill>
          <a:blip r:embed="rId2"/>
          <a:stretch/>
        </p:blipFill>
        <p:spPr>
          <a:xfrm>
            <a:off x="1285920" y="142920"/>
            <a:ext cx="621504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D:\КАРТИНКИ\Коллекция картинок 5\j0195826.wmf"/>
          <p:cNvPicPr/>
          <p:nvPr/>
        </p:nvPicPr>
        <p:blipFill>
          <a:blip r:embed="rId3"/>
          <a:stretch/>
        </p:blipFill>
        <p:spPr>
          <a:xfrm>
            <a:off x="7143840" y="435780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28680" y="1709280"/>
            <a:ext cx="5072040" cy="47912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3a3a3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66"/>
                </a:solidFill>
                <a:uFillTx/>
                <a:latin typeface="Arial"/>
                <a:ea typeface="Times New Roman"/>
              </a:rPr>
              <a:t>Горнодобывающая промышленность обеспечивает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обычу минерального топлива, руд черных, цветных, редких и благородных металлов, а так же неметаллического сырья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Хотя доля горнодобывающей промышленности в мировом промышленном производстве постепенно снижается, она продолжает оказывать очень большое воздействие на международное географическое разделение труда и мировое хозяйство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5" name="Picture 11" descr="wer1"/>
          <p:cNvPicPr/>
          <p:nvPr/>
        </p:nvPicPr>
        <p:blipFill>
          <a:blip r:embed="rId2"/>
          <a:stretch/>
        </p:blipFill>
        <p:spPr>
          <a:xfrm>
            <a:off x="142920" y="2500200"/>
            <a:ext cx="3630600" cy="272268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орнодобывающая промышленно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428760" y="1357200"/>
            <a:ext cx="844056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горнодобывающей промышлен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ировая добыча основных видов сырья  в конце ХХ ве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500120"/>
          <a:ext cx="9144000" cy="51213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507204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ВИД  СЫРЬ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ДОБЫЧА, МЛН. Т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ГЛАВНЫЕ  СТРАНЫ  ДОБЫЧ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Россия, Украина, США, Канада, ЮАР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ли, США, Канада, Замбия, Конго (б. Заир), Перу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я, Канада, Новая Каледон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мазы (тыс. каратов)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ликие горнодобывающие державы ми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57120" y="1928880"/>
            <a:ext cx="8643960" cy="20437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3500000"/>
          </a:gradFill>
          <a:ln w="93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олю этих стран  приходи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ее 2/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й добычи сырья и топлива: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ША, КАНАДА, АВСТРАЛИЯ, ЮАР, КИТАЙ, РОССИЯ, БРАЗИЛИЯ И ИНДИЯ</a:t>
            </a:r>
            <a:r>
              <a:rPr b="1" i="1" lang="en-US" sz="3200" spc="-1" strike="noStrike">
                <a:solidFill>
                  <a:srgbClr val="46464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3" name="Picture 12" descr="vis5"/>
          <p:cNvPicPr/>
          <p:nvPr/>
        </p:nvPicPr>
        <p:blipFill>
          <a:blip r:embed="rId2"/>
          <a:stretch/>
        </p:blipFill>
        <p:spPr>
          <a:xfrm>
            <a:off x="3071880" y="4143240"/>
            <a:ext cx="314316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еталлург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57520" y="1714680"/>
            <a:ext cx="3560760" cy="471960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Значение отрасли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: обеспечивает человечество конструкционными материалами – черными и цветными металлами. 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есмотря  на усиливающуюся  конкуренцию   пластмасс, сталь остается пока основным  конструк-ционным материалом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6" name="Picture 12" descr="dri8"/>
          <p:cNvPicPr/>
          <p:nvPr/>
        </p:nvPicPr>
        <p:blipFill>
          <a:blip r:embed="rId2"/>
          <a:stretch/>
        </p:blipFill>
        <p:spPr>
          <a:xfrm>
            <a:off x="1643040" y="4071960"/>
            <a:ext cx="3559320" cy="25272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67" name="Picture 10" descr="Литье металла"/>
          <p:cNvPicPr/>
          <p:nvPr/>
        </p:nvPicPr>
        <p:blipFill>
          <a:blip r:embed="rId3"/>
          <a:stretch/>
        </p:blipFill>
        <p:spPr>
          <a:xfrm>
            <a:off x="285840" y="1428840"/>
            <a:ext cx="3708360" cy="2492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4200" y="1785960"/>
            <a:ext cx="8786880" cy="161856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Мировое производств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ЛИ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 составляет  около  750  млн.т ежегодно.  При этом на экономически развитые  страны  приходится  около  80%  её производства, на развивающиеся – 20%. Однако черная металлургия в развивающихся странах быстро набирает темпы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0" name="Picture 12" descr="На сталелитейном заводе"/>
          <p:cNvPicPr/>
          <p:nvPr/>
        </p:nvPicPr>
        <p:blipFill>
          <a:blip r:embed="rId2"/>
          <a:stretch/>
        </p:blipFill>
        <p:spPr>
          <a:xfrm>
            <a:off x="2357280" y="3571920"/>
            <a:ext cx="4357800" cy="2905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чер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Черная металлургия"/>
          <p:cNvPicPr/>
          <p:nvPr/>
        </p:nvPicPr>
        <p:blipFill>
          <a:blip r:embed="rId2"/>
          <a:stretch/>
        </p:blipFill>
        <p:spPr>
          <a:xfrm>
            <a:off x="428760" y="1357200"/>
            <a:ext cx="829440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53:44Z</dcterms:created>
  <dc:creator>starostina</dc:creator>
  <dc:description/>
  <cp:keywords/>
  <dc:language>en-US</dc:language>
  <cp:lastModifiedBy>starostina</cp:lastModifiedBy>
  <dcterms:modified xsi:type="dcterms:W3CDTF">2010-05-06T06:30:42Z</dcterms:modified>
  <cp:revision>25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0000000000001024140</vt:lpwstr>
  </property>
  <property fmtid="{D5CDD505-2E9C-101B-9397-08002B2CF9AE}" pid="3" name="_TemplateID">
    <vt:lpwstr>TC101950851049</vt:lpwstr>
  </property>
</Properties>
</file>