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D884-9E3D-4D4A-821E-144B9BF3DF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A557-F3E6-4D49-97A5-D98891A96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054-B67E-4D50-AE22-1DA9A7D0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D3C-06C7-4FB2-BDBD-AFFB0ED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9EF-4AC7-4D76-9D9E-F1FE94C4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602-139F-48AE-BDFD-A386A0B6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3EB0-1936-42A5-BB46-73B04863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39DE-9166-4C1B-AB68-4E55D5D4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0C4A-4411-40BA-98D3-BB36441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6B70-7BA8-4660-8835-2DA4CF6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CB25-6119-43DA-8F69-00C3F970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EBD8-47DE-498C-A122-D5F8A0F8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0D08-025B-40C1-8779-CE5A82A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F46-E8DD-4064-9A9F-81689CEA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F5BC-1D27-451A-BA02-F757E93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4186-2FAF-4322-9A97-2B084B2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92DE-E31C-4A09-80B8-BF475622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6BBB-DF9A-4B65-ADF8-692629F6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B298-D195-497C-96F5-F76FA664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1A24-72D0-4344-898E-702D6756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30BC-CC3A-4AF3-9FA3-1587D0E2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F6F9-FA87-41A7-A777-BBF148EA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3BCE-39F4-40E5-90F8-16B57E7B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9263-FBC6-4AA0-B23C-2EF9BC41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4C7-CD62-44AF-8DF8-C6441268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AC82-4ED1-4825-B06F-CD582DB9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BB34-F7B2-4BA3-8E3E-84762374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A750E-567C-4C56-A7A5-7F48616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C4B4-3FC4-46F1-BF35-147F7343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8CB5-9E3A-49A4-B9C4-43DCF3F4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0D18-CC0F-4270-8180-77E08079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DE6E-113F-47C7-A6A9-FBB2CAD9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00F02-EE48-4620-A9E6-BC1F73F9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EEEB-92EB-4B2A-9BE9-2A2D73BE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49E1-BF34-44C6-84C8-D659E661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08C-5372-4408-A8C5-10695E8E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A4B6-D9F8-4430-813F-BF90B5DC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6481-AD1D-48D7-8093-8B978A30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9907-E9C7-4788-A2AF-26A8643D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D1ED-4B8D-477E-9E0B-406211F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062E-8F39-46D7-BCB1-9E3EBB1E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1B6A3-7F27-4D81-ABDB-F98C4715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ED30-F2AB-4AFD-8BA9-ED79DEED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FCFAB-6E92-48E9-BEE7-37425906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50281-8AD6-4C86-94DB-7114AE1B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A7DF-E257-4A6D-9EAA-6B9C3DD3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6D7-7B35-4DAD-A9E3-F4BA7C3B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39378-A952-434C-9EE9-8AD528DF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8C120-BE9B-4B7F-B9D2-69EB61BB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CC97-D66A-4A52-B03B-02FC575E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FB1FA-0B3C-439A-86BC-0383CBBD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8D78E-185D-445D-B9F4-C390C967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C7210-A275-4797-8C21-0DC7FB91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4E68-E496-4438-9C9D-92A8976D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B4A9-0F97-4A6D-9B56-1BFADC5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64EF-5FA5-4C14-90DC-3711C154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5DD3-247E-4089-89FC-DBB7702B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D96-911B-43FE-93F0-D335D8C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567F6-22F4-4C1D-8A9E-19BAAFD0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1AA1-B737-4F7B-AA46-9477ED4B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7D7E-7351-4A45-BE81-8968AA41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675DF-D44A-4FD9-8110-7BA9556A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415D5-5A6A-4C5B-95A5-75599A42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71D5F-9D34-41C7-AECA-9528B469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4D087-1DA4-439A-B6DD-C615DD5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05A0-6712-4F3A-9F70-BC393256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27CA3-0C56-4DBD-9925-5742A752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DA8C6-EB50-4D8E-9C0A-82C6AC14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DB5-AA59-4346-A3DA-E08F279A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3B62F-F6CC-4E7D-B6DF-9A207ED5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C387-6B37-46AF-B54F-1A21D96C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A58F0-1DBD-44E1-B9E7-4F9494F4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ABEF9-ED9D-4EBC-B6E0-7818D628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4C4B7-7E76-4AFC-A855-34278357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A323D-14FE-4F70-AF87-592783B9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E9FE9-8A1B-4331-9F74-1EE86CF3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B852-E877-4A1B-B373-4B13C5F5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6B57D-18E9-4BD7-9EC7-A593C17A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D43BF-229A-4417-9C38-3D642E2C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C62-97EF-4CB7-A8FE-C7DDCA7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44D64-8A56-4320-8A25-F4A7C8D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6E48A-DD72-400B-9D6F-13CA2D67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4A82C-138E-416A-B17C-06CB2895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E0890-DB72-497D-924D-9F42F625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07BA2-7BFC-426A-AFBF-45050C96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6F3-CA85-4B4F-9BA2-B5179879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9084-FEB2-402E-8840-F40A04CAFAB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C71-946A-4983-A774-F457A3ED84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FA5B-9EDC-49A1-B93F-1FDAA2A854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DA1C-9CD1-4089-919D-F1911CBF86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A5C9-64FA-41CB-867F-06A9294985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9272-60F7-4D39-AB9B-BC053A1419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A919-DAFE-4A05-8E5D-3CAEC56020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315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900" spc="-1" strike="noStrike">
                <a:solidFill>
                  <a:srgbClr val="572314"/>
                </a:solidFill>
                <a:latin typeface="Corbel"/>
              </a:rPr>
              <a:t>Горные породы </a:t>
            </a:r>
            <a:br>
              <a:rPr sz="7900"/>
            </a:br>
            <a:r>
              <a:rPr b="1" i="1" lang="ru-RU" sz="7900" spc="-1" strike="noStrike">
                <a:solidFill>
                  <a:srgbClr val="572314"/>
                </a:solidFill>
                <a:latin typeface="Corbel"/>
              </a:rPr>
              <a:t>и </a:t>
            </a:r>
            <a:br>
              <a:rPr sz="7900"/>
            </a:br>
            <a:r>
              <a:rPr b="1" i="1" lang="ru-RU" sz="7900" spc="-1" strike="noStrike">
                <a:solidFill>
                  <a:srgbClr val="572314"/>
                </a:solidFill>
                <a:latin typeface="Corbel"/>
              </a:rPr>
              <a:t>минералы</a:t>
            </a:r>
            <a:endParaRPr b="0" lang="en-US" sz="7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1714680"/>
            <a:ext cx="82296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                                          </a:t>
            </a: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Алмаз.</a:t>
            </a:r>
            <a:br>
              <a:rPr sz="4300"/>
            </a:b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Месторождения алмазов в Пермском крае находятся на р. Вишера на севере края.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2" descr="D:\Documents and Settings\Neo\Мои документы\6 класс\Полезные ископаемые\Алмаз.jpg"/>
          <p:cNvPicPr/>
          <p:nvPr/>
        </p:nvPicPr>
        <p:blipFill>
          <a:blip r:embed="rId1"/>
          <a:stretch/>
        </p:blipFill>
        <p:spPr>
          <a:xfrm>
            <a:off x="0" y="0"/>
            <a:ext cx="3859200" cy="2286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Documents and Settings\Admin\Мои документы\ал.jpg"/>
          <p:cNvPicPr/>
          <p:nvPr/>
        </p:nvPicPr>
        <p:blipFill>
          <a:blip r:embed="rId2"/>
          <a:stretch/>
        </p:blipFill>
        <p:spPr>
          <a:xfrm>
            <a:off x="1571760" y="3286080"/>
            <a:ext cx="671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Железная руда.</a:t>
            </a:r>
            <a:br>
              <a:rPr sz="4300"/>
            </a:b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Добыча ведется на северо-востоке края,  у реки Улс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Picture 2" descr="D:\Documents and Settings\Neo\Мои документы\6 класс\Полезные ископаемые\Железная руда.jpg"/>
          <p:cNvPicPr/>
          <p:nvPr/>
        </p:nvPicPr>
        <p:blipFill>
          <a:blip r:embed="rId1"/>
          <a:stretch/>
        </p:blipFill>
        <p:spPr>
          <a:xfrm>
            <a:off x="142920" y="2143080"/>
            <a:ext cx="4408560" cy="1957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Documents and Settings\Admin\Мои документы\на металл.jpeg"/>
          <p:cNvPicPr/>
          <p:nvPr/>
        </p:nvPicPr>
        <p:blipFill>
          <a:blip r:embed="rId2"/>
          <a:stretch/>
        </p:blipFill>
        <p:spPr>
          <a:xfrm>
            <a:off x="4149720" y="3929040"/>
            <a:ext cx="4994280" cy="29289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67200" y="621504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таллургическом комбин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Золото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Месторождения находятся в горной части Прикамья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2" descr="D:\Documents and Settings\Neo\Мои документы\6 класс\Полезные ископаемые\Золотой самородок.jpg"/>
          <p:cNvPicPr/>
          <p:nvPr/>
        </p:nvPicPr>
        <p:blipFill>
          <a:blip r:embed="rId1"/>
          <a:stretch/>
        </p:blipFill>
        <p:spPr>
          <a:xfrm>
            <a:off x="1285920" y="1785960"/>
            <a:ext cx="74991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Калийная соль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Одно из крупнейших месторождений мира находится в Соликамске и Березниках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8" name="Picture 2" descr="D:\Documents and Settings\Neo\Мои документы\6 класс\Полезные ископаемые\Калийная соль.jpg"/>
          <p:cNvPicPr/>
          <p:nvPr/>
        </p:nvPicPr>
        <p:blipFill>
          <a:blip r:embed="rId1"/>
          <a:stretch/>
        </p:blipFill>
        <p:spPr>
          <a:xfrm>
            <a:off x="142920" y="2000160"/>
            <a:ext cx="4214880" cy="2214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C:\Documents and Settings\Admin\Мои документы\березники.jpg"/>
          <p:cNvPicPr/>
          <p:nvPr/>
        </p:nvPicPr>
        <p:blipFill>
          <a:blip r:embed="rId2"/>
          <a:stretch/>
        </p:blipFill>
        <p:spPr>
          <a:xfrm>
            <a:off x="3759120" y="3286080"/>
            <a:ext cx="5384880" cy="3571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C:\Documents and Settings\Admin\Мои документы\калийная.jpg"/>
          <p:cNvPicPr/>
          <p:nvPr/>
        </p:nvPicPr>
        <p:blipFill>
          <a:blip r:embed="rId3"/>
          <a:stretch/>
        </p:blipFill>
        <p:spPr>
          <a:xfrm>
            <a:off x="0" y="4429080"/>
            <a:ext cx="3500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Каменная соль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Крупнейшее месторождение России находится в Березниках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2" descr="D:\Documents and Settings\Neo\Мои документы\6 класс\Полезные ископаемые\Каменная соль.jpg"/>
          <p:cNvPicPr/>
          <p:nvPr/>
        </p:nvPicPr>
        <p:blipFill>
          <a:blip r:embed="rId1"/>
          <a:stretch/>
        </p:blipFill>
        <p:spPr>
          <a:xfrm>
            <a:off x="0" y="2928960"/>
            <a:ext cx="4429080" cy="3143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Documents and Settings\Admin\Мои документы\соликамск.jpg"/>
          <p:cNvPicPr/>
          <p:nvPr/>
        </p:nvPicPr>
        <p:blipFill>
          <a:blip r:embed="rId2"/>
          <a:stretch/>
        </p:blipFill>
        <p:spPr>
          <a:xfrm>
            <a:off x="4619520" y="2928960"/>
            <a:ext cx="45244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Уголь.</a:t>
            </a:r>
            <a:br>
              <a:rPr sz="43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Кизеловский каменноугольный бассейн имеет двух вековую историю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Picture 2" descr="D:\Documents and Settings\Neo\Мои документы\6 класс\Полезные ископаемые\Уголь.jpg"/>
          <p:cNvPicPr/>
          <p:nvPr/>
        </p:nvPicPr>
        <p:blipFill>
          <a:blip r:embed="rId1"/>
          <a:stretch/>
        </p:blipFill>
        <p:spPr>
          <a:xfrm>
            <a:off x="0" y="0"/>
            <a:ext cx="3633840" cy="21430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Documents and Settings\Admin\Мои документы\угноль.jpg"/>
          <p:cNvPicPr/>
          <p:nvPr/>
        </p:nvPicPr>
        <p:blipFill>
          <a:blip r:embed="rId2"/>
          <a:stretch/>
        </p:blipFill>
        <p:spPr>
          <a:xfrm>
            <a:off x="1285920" y="3143160"/>
            <a:ext cx="6072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Известняк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Добыча осуществляется  у подножия  Уральских гор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Picture 2" descr="D:\Documents and Settings\Neo\Мои документы\6 класс\Полезные ископаемые\Осадочная порода.jpg"/>
          <p:cNvPicPr/>
          <p:nvPr/>
        </p:nvPicPr>
        <p:blipFill>
          <a:blip r:embed="rId1"/>
          <a:stretch/>
        </p:blipFill>
        <p:spPr>
          <a:xfrm>
            <a:off x="0" y="0"/>
            <a:ext cx="3214800" cy="1990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Admin\Мои документы\из.jpg"/>
          <p:cNvPicPr/>
          <p:nvPr/>
        </p:nvPicPr>
        <p:blipFill>
          <a:blip r:embed="rId2"/>
          <a:stretch/>
        </p:blipFill>
        <p:spPr>
          <a:xfrm>
            <a:off x="1143000" y="3071880"/>
            <a:ext cx="6858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Горные пор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14200" y="1285920"/>
          <a:ext cx="8643960" cy="5526000"/>
        </p:xfrm>
        <a:graphic>
          <a:graphicData uri="http://schemas.openxmlformats.org/drawingml/2006/table">
            <a:tbl>
              <a:tblPr/>
              <a:tblGrid>
                <a:gridCol w="4322880"/>
                <a:gridCol w="432108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Магматическ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роды, образовавшиеся из магмы при ее остывании и затвердеван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Глуби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Излившие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гма застыла внутри (интрузии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гма застыла на поверхности (эффузии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ранит, габбро, диор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азальт, пемза, андез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Corbel"/>
              </a:rPr>
              <a:t>Магматическая руд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2" descr="D:\Documents and Settings\Neo\Мои документы\6 класс\Полезные ископаемые\Магматическая порода.jpg"/>
          <p:cNvPicPr/>
          <p:nvPr/>
        </p:nvPicPr>
        <p:blipFill>
          <a:blip r:embed="rId1"/>
          <a:stretch/>
        </p:blipFill>
        <p:spPr>
          <a:xfrm>
            <a:off x="1357200" y="1943280"/>
            <a:ext cx="6367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Горные пород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14200" y="857160"/>
          <a:ext cx="8715600" cy="5878440"/>
        </p:xfrm>
        <a:graphic>
          <a:graphicData uri="http://schemas.openxmlformats.org/drawingml/2006/table">
            <a:tbl>
              <a:tblPr/>
              <a:tblGrid>
                <a:gridCol w="3143520"/>
                <a:gridCol w="3000240"/>
                <a:gridCol w="257184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Осад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уются из остатков растений и животных, осколков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неорг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орг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облом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хим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д влиянием ветра, воды, температуры скалы разрушаются, образуются облом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уются в морях при осаждении кристаллов солей, химических вещест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уются из остатков растений и живот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счаник, галька, щебень, грав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звестняк, гипс, поваренная соль, калийная со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голь, нефть, газ, тор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Corbel"/>
              </a:rPr>
              <a:t>Осадочная пород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D:\Documents and Settings\Neo\Мои документы\6 класс\Полезные ископаемые\Осадочная порода.jpg"/>
          <p:cNvPicPr/>
          <p:nvPr/>
        </p:nvPicPr>
        <p:blipFill>
          <a:blip r:embed="rId1"/>
          <a:stretch/>
        </p:blipFill>
        <p:spPr>
          <a:xfrm>
            <a:off x="1571760" y="15001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Corbel"/>
              </a:rPr>
              <a:t>Органическая пород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Picture 2" descr="D:\Documents and Settings\Neo\Мои документы\6 класс\Полезные ископаемые\Органическая порода.jpg"/>
          <p:cNvPicPr/>
          <p:nvPr/>
        </p:nvPicPr>
        <p:blipFill>
          <a:blip r:embed="rId1"/>
          <a:stretch/>
        </p:blipFill>
        <p:spPr>
          <a:xfrm>
            <a:off x="1584360" y="14479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Горные пород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" y="1600200"/>
          <a:ext cx="7686720" cy="4237200"/>
        </p:xfrm>
        <a:graphic>
          <a:graphicData uri="http://schemas.openxmlformats.org/drawingml/2006/table">
            <a:tbl>
              <a:tblPr/>
              <a:tblGrid>
                <a:gridCol w="768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Метаморфическ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роды, образовавшиеся  в результате изменения свойств и состав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 образуются под воздействием высоких температур, давления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звестняк       мрамор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счаник         кварц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ина                глинисный слан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cxnSp>
        <p:nvCxnSpPr>
          <p:cNvPr id="339" name="Прямая со стрелкой 7"/>
          <p:cNvCxnSpPr/>
          <p:nvPr/>
        </p:nvCxnSpPr>
        <p:spPr>
          <a:xfrm>
            <a:off x="4286160" y="4572000"/>
            <a:ext cx="3578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0" name="Прямая со стрелкой 9"/>
          <p:cNvCxnSpPr/>
          <p:nvPr/>
        </p:nvCxnSpPr>
        <p:spPr>
          <a:xfrm>
            <a:off x="4357800" y="5072040"/>
            <a:ext cx="3578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1" name="Прямая со стрелкой 11"/>
          <p:cNvCxnSpPr/>
          <p:nvPr/>
        </p:nvCxnSpPr>
        <p:spPr>
          <a:xfrm>
            <a:off x="4286160" y="5571720"/>
            <a:ext cx="35784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Горные породы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и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минералы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Пермского края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49287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57268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Нефть.</a:t>
            </a:r>
            <a:br>
              <a:rPr sz="2200"/>
            </a:b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Добыча нефти в Пермском крае осуществляется с середины 20 века. Сейчас идут разработки на         месторождениях. В Куединском районе открыто 18 месторождений нефти.</a:t>
            </a:r>
            <a:br>
              <a:rPr sz="22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5" descr="Фото008"/>
          <p:cNvPicPr/>
          <p:nvPr/>
        </p:nvPicPr>
        <p:blipFill>
          <a:blip r:embed="rId1"/>
          <a:stretch/>
        </p:blipFill>
        <p:spPr>
          <a:xfrm>
            <a:off x="0" y="2928960"/>
            <a:ext cx="3643200" cy="4022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C:\Documents and Settings\Admin\Мои документы\нефть.jpg"/>
          <p:cNvPicPr/>
          <p:nvPr/>
        </p:nvPicPr>
        <p:blipFill>
          <a:blip r:embed="rId2"/>
          <a:stretch/>
        </p:blipFill>
        <p:spPr>
          <a:xfrm>
            <a:off x="4214880" y="2928960"/>
            <a:ext cx="4929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3-22T20:55:17Z</dcterms:modified>
  <cp:revision>12</cp:revision>
  <dc:subject/>
  <dc:title>Горные породы и  минерал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20000000000010243100207f6000400038000</vt:lpwstr>
  </property>
</Properties>
</file>