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3AE1-B82B-475D-AFF8-18558A651B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BF0C-5098-412C-A814-3725915703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A14-4F18-4727-8D7E-BC0E8DAA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91B-B948-4281-82F8-256A166A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D055-84B1-4C64-A97D-E222EBA5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111-7847-4EB7-B4B2-EF7F5774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8B82-81B5-48AA-B4BC-C3810749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0A95-DB88-4DCC-8FC6-31744559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85F5-27C0-4C2D-AFDB-D8243CB5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C853-70C3-4EC3-9BD1-2BF8DFA4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74BD-0781-4B78-B1CF-763119FD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BC4B-7745-438E-A35E-6E3FFD9F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DAD3-330B-42B2-880F-0626B34D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485-561B-4B1A-92F5-12153DC6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3A07-9095-4261-AA7A-FA672204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6488-E07E-426C-810E-04B88F80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5541-DF5F-4430-8C7E-9205DB75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158A-C277-493C-B971-A38A3B7E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89E0-0ACB-4493-8D7A-79719A3B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4BC78-4054-4FE9-8757-CF9A2675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2B1FC-656E-40B0-BC47-9F9CF996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B2987-82EE-4E2A-BABF-1696B608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5C459-24E6-4416-BAFF-C07F0ED8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D5B03-08B2-44FB-9C6A-992CC3C7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19F-8B59-4F62-B8CA-93DF4D74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27248-7F81-44DB-B4D5-43A5DA65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D683C-9261-409C-B744-9ADCB6B6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E5F48-3EC4-43F4-8A96-15E0246A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2E4AC-F729-4CAF-8982-6B8D17CB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A3452-A191-4ADF-A07C-DB97FBBE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72FAF-FC96-4788-8C18-38B3DF52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11B97-7330-42A0-9D51-0D4BE479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6F597-F63E-45F0-8839-F34FD365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A26FE-3FD5-4330-AFCA-9209779C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B9EF4-112A-452D-8E7C-BE23FDAC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6A9A-9ACF-4894-9C6F-0092C637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510A4-BD9B-43BA-A4AB-E7A78399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040BF-6995-4E9C-B814-F128E64D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4110C-8C16-46B7-BFA3-03C28B7D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BA2E3-2EB3-414C-A415-9D5669CF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6A2CB-D143-4A1D-A3AF-E6198A98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EE268-A50F-444B-910C-AE3589D1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4C903-E3AF-4574-8FCC-87B208A3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FAE4C-C4BF-403C-8301-4E1A44E2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71402-03FF-49EA-96A1-AD037E25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C8CF9-1647-49E4-BF01-3DD0CD6C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361-08DB-4557-A041-A56D7B8F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D4CE1-D47F-4926-924F-3456761B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8A939-A8B0-45E8-8EC1-5929AC89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BEFA6-27C2-43A2-953A-F7258044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D40B1-EE49-4CB2-8476-55577295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6D27C-D773-4C29-B176-D3AAD861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5471A-5349-46DB-A7FC-1190824A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4C34E-512D-4A8B-A1DE-18F9BB8E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7808F-B41E-4497-AD4E-5B971F30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29744-A3F0-4797-8DF8-CAF219E1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8C58A-9806-42E0-A31C-FAF64120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F0B6-F20B-4ACC-863D-3E232C5E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FBEAC-567B-4809-8084-BB605D82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72B1E-D43D-491D-AE24-9E2C683D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6612B-8F2C-4CF6-ABC8-869DA649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8E4AE-D6D2-468C-B10C-D90F2160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A1F92-3734-4379-AE1E-1004EC70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C9653-5C8A-4C03-A75A-6567464A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AEDE1-DB09-45C7-9D2E-DFBBF1EF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D31F3-D13A-412E-AC87-40E4B9AB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9C7A2-B295-4FA6-A99B-D9824539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A50AE-40C1-42FF-A154-57A83F94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0BBD-C31F-49C4-B52B-2C80B676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CF819-BDE5-409B-9004-6FD980A6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2EBD4-3764-4EB3-9517-90F29D40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3FE71-EACD-430D-AA1F-3C0AD337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D2B90-4F83-47BA-B3D0-E13D251D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A76A5-DBAC-410C-AD83-C767FA3D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A068B-EBF7-4DFE-991A-4F0BBC11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0C1BE-DB02-4E71-AFE2-BD8BF857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532FA-9875-4335-9734-DDC51A61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EF4E0-1BEB-4ED6-A67F-BFE9325F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4290E-2F8D-46AA-B58F-FCF95BAF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76E-3434-4804-AA53-F81638BF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7C193-C0E7-44DF-BD20-61C997CD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DFDE7-9A4F-43FA-B6CE-AE19EE2D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111BD-BC4A-4686-9300-0A8DDA53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6332C-B5A6-464D-A661-A8737AF8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109AD-AB78-4E5B-A87F-601FD79A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119-F745-48C2-9528-089892AF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12EB-F2FE-4B75-8348-3A85F543C9F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2341-EEC5-4DDD-A240-81C823161A7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C26C-9778-418D-B701-DBCC23205B7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92E8-A718-4CAE-A7E3-967A2E9699D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6B8E-B3AC-43E7-8D96-9D4A5D98CEE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195E-F1E7-4C41-B071-7CAE904E1AC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6A9E-4449-4936-8AD5-92861802EBA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3152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900" spc="-1" strike="noStrike">
                <a:solidFill>
                  <a:srgbClr val="572314"/>
                </a:solidFill>
                <a:latin typeface="Corbel"/>
              </a:rPr>
              <a:t>Горные породы </a:t>
            </a:r>
            <a:br>
              <a:rPr sz="7900"/>
            </a:br>
            <a:r>
              <a:rPr b="1" i="1" lang="ru-RU" sz="7900" spc="-1" strike="noStrike">
                <a:solidFill>
                  <a:srgbClr val="572314"/>
                </a:solidFill>
                <a:latin typeface="Corbel"/>
              </a:rPr>
              <a:t>и </a:t>
            </a:r>
            <a:br>
              <a:rPr sz="7900"/>
            </a:br>
            <a:r>
              <a:rPr b="1" i="1" lang="ru-RU" sz="7900" spc="-1" strike="noStrike">
                <a:solidFill>
                  <a:srgbClr val="572314"/>
                </a:solidFill>
                <a:latin typeface="Corbel"/>
              </a:rPr>
              <a:t>минералы</a:t>
            </a:r>
            <a:endParaRPr b="0" lang="en-US" sz="7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1714680"/>
            <a:ext cx="82296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                                          </a:t>
            </a: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Алмаз.</a:t>
            </a:r>
            <a:br>
              <a:rPr sz="4300"/>
            </a:br>
            <a:r>
              <a:rPr b="1" i="1" lang="ru-RU" sz="2500" spc="-1" strike="noStrike">
                <a:solidFill>
                  <a:srgbClr val="572314"/>
                </a:solidFill>
                <a:latin typeface="Corbel"/>
              </a:rPr>
              <a:t>Месторождения алмазов в Пермском крае находятся на р. Вишера на севере края.</a:t>
            </a: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9" name="Picture 2" descr="D:\Documents and Settings\Neo\Мои документы\6 класс\Полезные ископаемые\Алмаз.jpg"/>
          <p:cNvPicPr/>
          <p:nvPr/>
        </p:nvPicPr>
        <p:blipFill>
          <a:blip r:embed="rId1"/>
          <a:stretch/>
        </p:blipFill>
        <p:spPr>
          <a:xfrm>
            <a:off x="0" y="0"/>
            <a:ext cx="3859200" cy="2286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C:\Documents and Settings\Admin\Мои документы\ал.jpg"/>
          <p:cNvPicPr/>
          <p:nvPr/>
        </p:nvPicPr>
        <p:blipFill>
          <a:blip r:embed="rId2"/>
          <a:stretch/>
        </p:blipFill>
        <p:spPr>
          <a:xfrm>
            <a:off x="1571760" y="3286080"/>
            <a:ext cx="6715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Железная руда.</a:t>
            </a:r>
            <a:br>
              <a:rPr sz="4300"/>
            </a:b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Добыча ведется на северо-востоке края,  у реки Улс. 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2" name="Picture 2" descr="D:\Documents and Settings\Neo\Мои документы\6 класс\Полезные ископаемые\Железная руда.jpg"/>
          <p:cNvPicPr/>
          <p:nvPr/>
        </p:nvPicPr>
        <p:blipFill>
          <a:blip r:embed="rId1"/>
          <a:stretch/>
        </p:blipFill>
        <p:spPr>
          <a:xfrm>
            <a:off x="142920" y="2143080"/>
            <a:ext cx="4408560" cy="19573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C:\Documents and Settings\Admin\Мои документы\на металл.jpeg"/>
          <p:cNvPicPr/>
          <p:nvPr/>
        </p:nvPicPr>
        <p:blipFill>
          <a:blip r:embed="rId2"/>
          <a:stretch/>
        </p:blipFill>
        <p:spPr>
          <a:xfrm>
            <a:off x="4149720" y="3929040"/>
            <a:ext cx="4994280" cy="29289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367200" y="621504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еталлургическом комбин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Золото.</a:t>
            </a:r>
            <a:br>
              <a:rPr sz="3900"/>
            </a:br>
            <a:r>
              <a:rPr b="1" i="1" lang="ru-RU" sz="2900" spc="-1" strike="noStrike">
                <a:solidFill>
                  <a:srgbClr val="572314"/>
                </a:solidFill>
                <a:latin typeface="Corbel"/>
              </a:rPr>
              <a:t>Месторождения находятся в горной части Прикамья.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6" name="Picture 2" descr="D:\Documents and Settings\Neo\Мои документы\6 класс\Полезные ископаемые\Золотой самородок.jpg"/>
          <p:cNvPicPr/>
          <p:nvPr/>
        </p:nvPicPr>
        <p:blipFill>
          <a:blip r:embed="rId1"/>
          <a:stretch/>
        </p:blipFill>
        <p:spPr>
          <a:xfrm>
            <a:off x="1285920" y="1785960"/>
            <a:ext cx="74991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Калийная соль.</a:t>
            </a:r>
            <a:br>
              <a:rPr sz="3900"/>
            </a:br>
            <a:r>
              <a:rPr b="1" i="1" lang="ru-RU" sz="2900" spc="-1" strike="noStrike">
                <a:solidFill>
                  <a:srgbClr val="572314"/>
                </a:solidFill>
                <a:latin typeface="Corbel"/>
              </a:rPr>
              <a:t>Одно из крупнейших месторождений мира находится в Соликамске и Березниках.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8" name="Picture 2" descr="D:\Documents and Settings\Neo\Мои документы\6 класс\Полезные ископаемые\Калийная соль.jpg"/>
          <p:cNvPicPr/>
          <p:nvPr/>
        </p:nvPicPr>
        <p:blipFill>
          <a:blip r:embed="rId1"/>
          <a:stretch/>
        </p:blipFill>
        <p:spPr>
          <a:xfrm>
            <a:off x="142920" y="2000160"/>
            <a:ext cx="4214880" cy="22147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C:\Documents and Settings\Admin\Мои документы\березники.jpg"/>
          <p:cNvPicPr/>
          <p:nvPr/>
        </p:nvPicPr>
        <p:blipFill>
          <a:blip r:embed="rId2"/>
          <a:stretch/>
        </p:blipFill>
        <p:spPr>
          <a:xfrm>
            <a:off x="3759120" y="3286080"/>
            <a:ext cx="5384880" cy="3571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C:\Documents and Settings\Admin\Мои документы\калийная.jpg"/>
          <p:cNvPicPr/>
          <p:nvPr/>
        </p:nvPicPr>
        <p:blipFill>
          <a:blip r:embed="rId3"/>
          <a:stretch/>
        </p:blipFill>
        <p:spPr>
          <a:xfrm>
            <a:off x="0" y="4429080"/>
            <a:ext cx="3500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Каменная соль.</a:t>
            </a:r>
            <a:br>
              <a:rPr sz="3900"/>
            </a:br>
            <a:r>
              <a:rPr b="1" i="1" lang="ru-RU" sz="2900" spc="-1" strike="noStrike">
                <a:solidFill>
                  <a:srgbClr val="572314"/>
                </a:solidFill>
                <a:latin typeface="Corbel"/>
              </a:rPr>
              <a:t>Крупнейшее месторождение России находится в Березниках.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2" name="Picture 2" descr="D:\Documents and Settings\Neo\Мои документы\6 класс\Полезные ископаемые\Каменная соль.jpg"/>
          <p:cNvPicPr/>
          <p:nvPr/>
        </p:nvPicPr>
        <p:blipFill>
          <a:blip r:embed="rId1"/>
          <a:stretch/>
        </p:blipFill>
        <p:spPr>
          <a:xfrm>
            <a:off x="0" y="2928960"/>
            <a:ext cx="4429080" cy="31431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C:\Documents and Settings\Admin\Мои документы\соликамск.jpg"/>
          <p:cNvPicPr/>
          <p:nvPr/>
        </p:nvPicPr>
        <p:blipFill>
          <a:blip r:embed="rId2"/>
          <a:stretch/>
        </p:blipFill>
        <p:spPr>
          <a:xfrm>
            <a:off x="4619520" y="2928960"/>
            <a:ext cx="45244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Уголь.</a:t>
            </a:r>
            <a:br>
              <a:rPr sz="4300"/>
            </a:br>
            <a:r>
              <a:rPr b="1" i="1" lang="ru-RU" sz="2900" spc="-1" strike="noStrike">
                <a:solidFill>
                  <a:srgbClr val="572314"/>
                </a:solidFill>
                <a:latin typeface="Corbel"/>
              </a:rPr>
              <a:t>Кизеловский каменноугольный бассейн имеет двух вековую историю.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5" name="Picture 2" descr="D:\Documents and Settings\Neo\Мои документы\6 класс\Полезные ископаемые\Уголь.jpg"/>
          <p:cNvPicPr/>
          <p:nvPr/>
        </p:nvPicPr>
        <p:blipFill>
          <a:blip r:embed="rId1"/>
          <a:stretch/>
        </p:blipFill>
        <p:spPr>
          <a:xfrm>
            <a:off x="0" y="0"/>
            <a:ext cx="3633840" cy="21430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Documents and Settings\Admin\Мои документы\угноль.jpg"/>
          <p:cNvPicPr/>
          <p:nvPr/>
        </p:nvPicPr>
        <p:blipFill>
          <a:blip r:embed="rId2"/>
          <a:stretch/>
        </p:blipFill>
        <p:spPr>
          <a:xfrm>
            <a:off x="1285920" y="3143160"/>
            <a:ext cx="60721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0040" y="142848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Известняк.</a:t>
            </a:r>
            <a:br>
              <a:rPr sz="3900"/>
            </a:br>
            <a:r>
              <a:rPr b="1" i="1" lang="ru-RU" sz="2900" spc="-1" strike="noStrike">
                <a:solidFill>
                  <a:srgbClr val="572314"/>
                </a:solidFill>
                <a:latin typeface="Corbel"/>
              </a:rPr>
              <a:t>Добыча осуществляется  у подножия  Уральских гор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8" name="Picture 2" descr="D:\Documents and Settings\Neo\Мои документы\6 класс\Полезные ископаемые\Осадочная порода.jpg"/>
          <p:cNvPicPr/>
          <p:nvPr/>
        </p:nvPicPr>
        <p:blipFill>
          <a:blip r:embed="rId1"/>
          <a:stretch/>
        </p:blipFill>
        <p:spPr>
          <a:xfrm>
            <a:off x="0" y="0"/>
            <a:ext cx="3214800" cy="19908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Admin\Мои документы\из.jpg"/>
          <p:cNvPicPr/>
          <p:nvPr/>
        </p:nvPicPr>
        <p:blipFill>
          <a:blip r:embed="rId2"/>
          <a:stretch/>
        </p:blipFill>
        <p:spPr>
          <a:xfrm>
            <a:off x="1143000" y="3071880"/>
            <a:ext cx="6858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2314"/>
                </a:solidFill>
                <a:latin typeface="Corbel"/>
              </a:rPr>
              <a:t>Горные пород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14200" y="1285920"/>
          <a:ext cx="8643960" cy="5526000"/>
        </p:xfrm>
        <a:graphic>
          <a:graphicData uri="http://schemas.openxmlformats.org/drawingml/2006/table">
            <a:tbl>
              <a:tblPr/>
              <a:tblGrid>
                <a:gridCol w="4322880"/>
                <a:gridCol w="4321080"/>
              </a:tblGrid>
              <a:tr h="76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Магматически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4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роды, образовавшиеся из магмы при ее остывании и затвердеван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Глубин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Излившиес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агма застыла внутри (интрузии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агма застыла на поверхности (эффузии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ранит, габбро, диори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азальт, пемза, андези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72314"/>
                </a:solidFill>
                <a:latin typeface="Corbel"/>
              </a:rPr>
              <a:t>Магматическая руда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Picture 2" descr="D:\Documents and Settings\Neo\Мои документы\6 класс\Полезные ископаемые\Магматическая порода.jpg"/>
          <p:cNvPicPr/>
          <p:nvPr/>
        </p:nvPicPr>
        <p:blipFill>
          <a:blip r:embed="rId1"/>
          <a:stretch/>
        </p:blipFill>
        <p:spPr>
          <a:xfrm>
            <a:off x="1357200" y="1943280"/>
            <a:ext cx="636768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Горные пород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14200" y="857160"/>
          <a:ext cx="8715600" cy="5878440"/>
        </p:xfrm>
        <a:graphic>
          <a:graphicData uri="http://schemas.openxmlformats.org/drawingml/2006/table">
            <a:tbl>
              <a:tblPr/>
              <a:tblGrid>
                <a:gridCol w="3143520"/>
                <a:gridCol w="3000240"/>
                <a:gridCol w="2571840"/>
              </a:tblGrid>
              <a:tr h="581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Осадоч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разуются из остатков растений и животных, осколков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неорган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орган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обломо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хим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д влиянием ветра, воды, температуры скалы разрушаются, образуются облом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разуются в морях при осаждении кристаллов солей, химических вещест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разуются из остатков растений и животны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есчаник, галька, щебень, грав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звестняк, гипс, поваренная соль, калийная со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голь, нефть, газ, торф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72314"/>
                </a:solidFill>
                <a:latin typeface="Corbel"/>
              </a:rPr>
              <a:t>Осадочная порода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Picture 2" descr="D:\Documents and Settings\Neo\Мои документы\6 класс\Полезные ископаемые\Осадочная порода.jpg"/>
          <p:cNvPicPr/>
          <p:nvPr/>
        </p:nvPicPr>
        <p:blipFill>
          <a:blip r:embed="rId1"/>
          <a:stretch/>
        </p:blipFill>
        <p:spPr>
          <a:xfrm>
            <a:off x="1571760" y="1500120"/>
            <a:ext cx="720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72314"/>
                </a:solidFill>
                <a:latin typeface="Corbel"/>
              </a:rPr>
              <a:t>Органическая порода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Picture 2" descr="D:\Documents and Settings\Neo\Мои документы\6 класс\Полезные ископаемые\Органическая порода.jpg"/>
          <p:cNvPicPr/>
          <p:nvPr/>
        </p:nvPicPr>
        <p:blipFill>
          <a:blip r:embed="rId1"/>
          <a:stretch/>
        </p:blipFill>
        <p:spPr>
          <a:xfrm>
            <a:off x="1584360" y="1447920"/>
            <a:ext cx="720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Горные пород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457200" y="1600200"/>
          <a:ext cx="7686720" cy="4237200"/>
        </p:xfrm>
        <a:graphic>
          <a:graphicData uri="http://schemas.openxmlformats.org/drawingml/2006/table">
            <a:tbl>
              <a:tblPr/>
              <a:tblGrid>
                <a:gridCol w="768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713204"/>
                          </a:solidFill>
                          <a:latin typeface="Corbel"/>
                        </a:rPr>
                        <a:t>Метаморфическ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роды, образовавшиеся  в результате изменения свойств и состав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 образуются под воздействием высоких температур, давления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звестняк       мрамор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есчаник         кварци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       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лина                глинисный слане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cxnSp>
        <p:nvCxnSpPr>
          <p:cNvPr id="339" name="Прямая со стрелкой 7"/>
          <p:cNvCxnSpPr/>
          <p:nvPr/>
        </p:nvCxnSpPr>
        <p:spPr>
          <a:xfrm>
            <a:off x="4286160" y="4572000"/>
            <a:ext cx="35784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0" name="Прямая со стрелкой 9"/>
          <p:cNvCxnSpPr/>
          <p:nvPr/>
        </p:nvCxnSpPr>
        <p:spPr>
          <a:xfrm>
            <a:off x="4357800" y="5072040"/>
            <a:ext cx="35784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1" name="Прямая со стрелкой 11"/>
          <p:cNvCxnSpPr/>
          <p:nvPr/>
        </p:nvCxnSpPr>
        <p:spPr>
          <a:xfrm>
            <a:off x="4286160" y="5571720"/>
            <a:ext cx="357840" cy="25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572314"/>
                </a:solidFill>
                <a:latin typeface="Corbel"/>
              </a:rPr>
              <a:t>Горные породы </a:t>
            </a:r>
            <a:br>
              <a:rPr sz="6600"/>
            </a:br>
            <a:r>
              <a:rPr b="1" i="1" lang="ru-RU" sz="6600" spc="-1" strike="noStrike">
                <a:solidFill>
                  <a:srgbClr val="572314"/>
                </a:solidFill>
                <a:latin typeface="Corbel"/>
              </a:rPr>
              <a:t>и </a:t>
            </a:r>
            <a:br>
              <a:rPr sz="6600"/>
            </a:br>
            <a:r>
              <a:rPr b="1" i="1" lang="ru-RU" sz="6600" spc="-1" strike="noStrike">
                <a:solidFill>
                  <a:srgbClr val="572314"/>
                </a:solidFill>
                <a:latin typeface="Corbel"/>
              </a:rPr>
              <a:t>минералы </a:t>
            </a:r>
            <a:br>
              <a:rPr sz="6600"/>
            </a:br>
            <a:r>
              <a:rPr b="1" i="1" lang="ru-RU" sz="6600" spc="-1" strike="noStrike">
                <a:solidFill>
                  <a:srgbClr val="572314"/>
                </a:solidFill>
                <a:latin typeface="Corbel"/>
              </a:rPr>
              <a:t>Пермского края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49287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57268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572314"/>
                </a:solidFill>
                <a:latin typeface="Corbel"/>
              </a:rPr>
              <a:t>Нефть.</a:t>
            </a:r>
            <a:br>
              <a:rPr sz="2200"/>
            </a:br>
            <a:r>
              <a:rPr b="1" i="1" lang="ru-RU" sz="22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500" spc="-1" strike="noStrike">
                <a:solidFill>
                  <a:srgbClr val="572314"/>
                </a:solidFill>
                <a:latin typeface="Corbel"/>
              </a:rPr>
              <a:t>Добыча нефти в Пермском крае осуществляется с середины 20 века. Сейчас идут разработки на         месторождениях. В Куединском районе открыто 18 месторождений нефти.</a:t>
            </a:r>
            <a:br>
              <a:rPr sz="22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5" descr="Фото008"/>
          <p:cNvPicPr/>
          <p:nvPr/>
        </p:nvPicPr>
        <p:blipFill>
          <a:blip r:embed="rId1"/>
          <a:stretch/>
        </p:blipFill>
        <p:spPr>
          <a:xfrm>
            <a:off x="0" y="2928960"/>
            <a:ext cx="3643200" cy="40226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C:\Documents and Settings\Admin\Мои документы\нефть.jpg"/>
          <p:cNvPicPr/>
          <p:nvPr/>
        </p:nvPicPr>
        <p:blipFill>
          <a:blip r:embed="rId2"/>
          <a:stretch/>
        </p:blipFill>
        <p:spPr>
          <a:xfrm>
            <a:off x="4214880" y="2928960"/>
            <a:ext cx="4929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3-22T20:55:17Z</dcterms:modified>
  <cp:revision>12</cp:revision>
  <dc:subject/>
  <dc:title>Горные породы и  минерал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120000000000010243100207f6000400038000</vt:lpwstr>
  </property>
</Properties>
</file>