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00A-3F74-4FE2-925A-823419E03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691-C197-4977-B2C6-E868008D8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4FF-B99D-442B-99AB-E8182458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912-F84D-4C2D-9900-014AD0FF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B37-7463-4BFF-9B1C-5977CE57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5E9-AF15-4E6D-A8D0-8B4B072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0ADF-1BC2-4A10-81A1-E61070A3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DD4-D5AF-4F8E-B489-661F7BC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488-5D83-4234-86B7-B5D4DD80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1038-9461-46B1-91D9-77418E4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16A8-2185-498A-8A86-18654FDA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B216-8E91-49CC-A64B-D02F04F5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8764-537B-40DD-A0AE-B0B0C5BB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925-25F9-4C2A-8B09-AFF30E4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669-BF16-4477-BD7E-5182A5F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4DE8-E8A7-40F6-A3B9-D15B3C4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06B-3596-43C4-BF8A-CD423C0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D1BC-12B5-49B4-AD91-69535E68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C82-E241-4DAB-9D6C-02AF2856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738C-183C-49C0-97C9-793C13D3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EBAB-9B6D-4030-9D53-8722341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14C7-114C-4022-962C-B556AC8A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15CA-B705-44A7-B49E-4FF4983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CCD2-AF80-434A-97CE-158DD43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EDA-8128-4B77-86C5-34DDFB5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EBF6-4841-491C-959E-7DB7A69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FAC6-D64E-48B0-BBFE-D40AB54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59E5-6B4A-41A0-ACD5-3A394685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7064-3E4D-451C-82F9-13C2EE4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E700-076F-4553-9108-0422F5D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FB0A-5563-46C9-B32A-BDADC017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F648-3A14-4BA0-94C8-562CE17A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F807-FD36-4081-B74F-54CAD82F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78B2-C639-4D7C-A231-3F67F44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5BFB-7671-452C-A3F5-244B082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421-D803-43B9-8E35-783EFAB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BDC1-E68B-4A3F-84EE-48B8B399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5FFB-EC21-40B7-9663-504BF5A1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3989-A648-4D27-8E5A-4E191EB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1E9C-207E-469A-9DF9-98ADE34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48CF-44AB-476A-B26D-A15EF73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8396-D923-47FD-AC5D-2D43275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CBAD-A076-4D3D-8AB3-779084C5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9ADF-EAC6-490A-B3BE-6A9B89BF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BC05-2564-40FC-B786-7139708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A8FE-247A-4635-9AD0-462066FF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260-DAFE-45FF-AAA3-9227DAD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FC26-F58C-497E-91AA-96B0D310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1AE9-AFF8-4E9F-8477-877701E8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1F721-23A0-433C-B550-63294E71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8954-B31E-4379-88C6-C48D2FE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BC97C-5521-42B7-BBFB-D3E477D5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6086E-BBC3-40AB-8BAB-7D5173A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4841-761B-4662-A0EA-3F253D76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F1AB-4C02-473A-8301-53BF175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351D-3874-430A-9239-E80F1C0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EE7A-DB49-4F6E-A34A-F1E82F91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502-BC1A-4650-A060-664EAEDF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59B9-3C35-4CD9-A9F0-F3DFB00D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F214F-03C2-4690-A3A4-5886B94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C4F4-6687-4290-BD99-B540E4FD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7600-262E-4523-960B-A9C3BFD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AB04-4399-407D-95E5-BE721AB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9AC4-CE17-4F41-866A-BD52AE4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B3D7-2D91-4A3B-A525-A19C5D55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225A-FE16-403D-90FE-F476E7BF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A1A7-C05A-46E1-A137-D1EF716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D7E5-C389-4EA7-A8EF-1C4434A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9D2-2095-4B15-AFE1-6072850D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D0DB-1C60-4CE6-A7B2-DCBAAD9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31581-567F-498F-BE83-3E83322D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1BD7B-B3AB-421C-AEF5-E3CDE521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A39C6-FBA7-469D-89A2-A6D07DDF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6493-D6B2-4A88-A1C1-84672EFD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7F14-1F25-46D9-9173-904A89A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2B3D-A598-43DD-B70F-6B81D08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7BCB1-6DEB-43B8-A1A4-C213C5E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7385-926D-4AA9-A8D1-0107E02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9FE9-CE30-47E1-B2C7-13C940C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96C-6081-45D9-BE42-65C5F3B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8DF64-83F9-4EF1-8992-755044D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9A7CA-0431-4C95-BE1E-E8CC6F5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90E5-4A75-41F1-8A1F-8700E399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B388-DFA7-4915-A679-E8438216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DD12-9563-4EB1-B257-3241F0B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482-424F-4E93-B6A5-ED8FBB6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DB7-BBA9-4179-9338-7B9DCEC166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48D3-0C6E-4CCB-8070-F447E49766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641-CFA6-4CC7-A67B-AB1590DCA3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4D9A-2FD1-4D5C-B09A-65DCA82347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4339-4FB5-46C5-B5D2-4E551462E6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7E1-658A-4C33-9ACA-88AC1F5FF5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E82-44F8-4FAA-8C94-7E93527477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315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минералы</a:t>
            </a:r>
            <a:endParaRPr b="0" lang="en-US" sz="7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1714680"/>
            <a:ext cx="8229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                                          </a:t>
            </a: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Алмаз.</a:t>
            </a:r>
            <a:br>
              <a:rPr sz="4300"/>
            </a:b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Месторождения алмазов в Пермском крае находятся на р. Вишера на севере края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D:\Documents and Settings\Neo\Мои документы\6 класс\Полезные ископаемые\Алмаз.jpg"/>
          <p:cNvPicPr/>
          <p:nvPr/>
        </p:nvPicPr>
        <p:blipFill>
          <a:blip r:embed="rId1"/>
          <a:stretch/>
        </p:blipFill>
        <p:spPr>
          <a:xfrm>
            <a:off x="0" y="0"/>
            <a:ext cx="385920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Documents and Settings\Admin\Мои документы\ал.jpg"/>
          <p:cNvPicPr/>
          <p:nvPr/>
        </p:nvPicPr>
        <p:blipFill>
          <a:blip r:embed="rId2"/>
          <a:stretch/>
        </p:blipFill>
        <p:spPr>
          <a:xfrm>
            <a:off x="1571760" y="3286080"/>
            <a:ext cx="671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Железная руда.</a:t>
            </a:r>
            <a:br>
              <a:rPr sz="43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Добыча ведется на северо-востоке края,  у реки Улс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D:\Documents and Settings\Neo\Мои документы\6 класс\Полезные ископаемые\Железная руда.jpg"/>
          <p:cNvPicPr/>
          <p:nvPr/>
        </p:nvPicPr>
        <p:blipFill>
          <a:blip r:embed="rId1"/>
          <a:stretch/>
        </p:blipFill>
        <p:spPr>
          <a:xfrm>
            <a:off x="142920" y="2143080"/>
            <a:ext cx="4408560" cy="1957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Admin\Мои документы\на металл.jpeg"/>
          <p:cNvPicPr/>
          <p:nvPr/>
        </p:nvPicPr>
        <p:blipFill>
          <a:blip r:embed="rId2"/>
          <a:stretch/>
        </p:blipFill>
        <p:spPr>
          <a:xfrm>
            <a:off x="4149720" y="3929040"/>
            <a:ext cx="4994280" cy="29289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67200" y="621504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таллургическом комби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Золото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Месторождения находятся в горной части Прикамья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D:\Documents and Settings\Neo\Мои документы\6 класс\Полезные ископаемые\Золотой самородок.jpg"/>
          <p:cNvPicPr/>
          <p:nvPr/>
        </p:nvPicPr>
        <p:blipFill>
          <a:blip r:embed="rId1"/>
          <a:stretch/>
        </p:blipFill>
        <p:spPr>
          <a:xfrm>
            <a:off x="1285920" y="1785960"/>
            <a:ext cx="7499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лий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Одно из крупнейших месторождений мира находится в Соликамске и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Picture 2" descr="D:\Documents and Settings\Neo\Мои документы\6 класс\Полезные ископаемые\Калийная соль.jpg"/>
          <p:cNvPicPr/>
          <p:nvPr/>
        </p:nvPicPr>
        <p:blipFill>
          <a:blip r:embed="rId1"/>
          <a:stretch/>
        </p:blipFill>
        <p:spPr>
          <a:xfrm>
            <a:off x="142920" y="2000160"/>
            <a:ext cx="4214880" cy="2214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Admin\Мои документы\березники.jpg"/>
          <p:cNvPicPr/>
          <p:nvPr/>
        </p:nvPicPr>
        <p:blipFill>
          <a:blip r:embed="rId2"/>
          <a:stretch/>
        </p:blipFill>
        <p:spPr>
          <a:xfrm>
            <a:off x="3759120" y="3286080"/>
            <a:ext cx="5384880" cy="357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Admin\Мои документы\калийная.jpg"/>
          <p:cNvPicPr/>
          <p:nvPr/>
        </p:nvPicPr>
        <p:blipFill>
          <a:blip r:embed="rId3"/>
          <a:stretch/>
        </p:blipFill>
        <p:spPr>
          <a:xfrm>
            <a:off x="0" y="442908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мен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рупнейшее месторождение России находится в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D:\Documents and Settings\Neo\Мои документы\6 класс\Полезные ископаемые\Каменная соль.jpg"/>
          <p:cNvPicPr/>
          <p:nvPr/>
        </p:nvPicPr>
        <p:blipFill>
          <a:blip r:embed="rId1"/>
          <a:stretch/>
        </p:blipFill>
        <p:spPr>
          <a:xfrm>
            <a:off x="0" y="292896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Admin\Мои документы\соликамск.jpg"/>
          <p:cNvPicPr/>
          <p:nvPr/>
        </p:nvPicPr>
        <p:blipFill>
          <a:blip r:embed="rId2"/>
          <a:stretch/>
        </p:blipFill>
        <p:spPr>
          <a:xfrm>
            <a:off x="4619520" y="2928960"/>
            <a:ext cx="4524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Уголь.</a:t>
            </a:r>
            <a:br>
              <a:rPr sz="43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изеловский каменноугольный бассейн имеет двух вековую историю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Picture 2" descr="D:\Documents and Settings\Neo\Мои документы\6 класс\Полезные ископаемые\Уголь.jpg"/>
          <p:cNvPicPr/>
          <p:nvPr/>
        </p:nvPicPr>
        <p:blipFill>
          <a:blip r:embed="rId1"/>
          <a:stretch/>
        </p:blipFill>
        <p:spPr>
          <a:xfrm>
            <a:off x="0" y="0"/>
            <a:ext cx="363384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Documents and Settings\Admin\Мои документы\угноль.jpg"/>
          <p:cNvPicPr/>
          <p:nvPr/>
        </p:nvPicPr>
        <p:blipFill>
          <a:blip r:embed="rId2"/>
          <a:stretch/>
        </p:blipFill>
        <p:spPr>
          <a:xfrm>
            <a:off x="1285920" y="3143160"/>
            <a:ext cx="6072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Известняк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Добыча осуществляется  у подножия  Уральских гор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0" y="0"/>
            <a:ext cx="3214800" cy="1990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Admin\Мои документы\из.jpg"/>
          <p:cNvPicPr/>
          <p:nvPr/>
        </p:nvPicPr>
        <p:blipFill>
          <a:blip r:embed="rId2"/>
          <a:stretch/>
        </p:blipFill>
        <p:spPr>
          <a:xfrm>
            <a:off x="1143000" y="3071880"/>
            <a:ext cx="685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14200" y="1285920"/>
          <a:ext cx="8643960" cy="5526000"/>
        </p:xfrm>
        <a:graphic>
          <a:graphicData uri="http://schemas.openxmlformats.org/drawingml/2006/table">
            <a:tbl>
              <a:tblPr/>
              <a:tblGrid>
                <a:gridCol w="4322880"/>
                <a:gridCol w="432108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агматическ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из магмы при ее остывании и затвердеван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Глуби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Излившие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внутри (интр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на поверхности (эфф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ранит, габбро, диор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азальт, пемза, андез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Магматическая ру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D:\Documents and Settings\Neo\Мои документы\6 класс\Полезные ископаемые\Магматическая порода.jpg"/>
          <p:cNvPicPr/>
          <p:nvPr/>
        </p:nvPicPr>
        <p:blipFill>
          <a:blip r:embed="rId1"/>
          <a:stretch/>
        </p:blipFill>
        <p:spPr>
          <a:xfrm>
            <a:off x="1357200" y="1943280"/>
            <a:ext cx="6367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14200" y="857160"/>
          <a:ext cx="8715600" cy="5878440"/>
        </p:xfrm>
        <a:graphic>
          <a:graphicData uri="http://schemas.openxmlformats.org/drawingml/2006/table">
            <a:tbl>
              <a:tblPr/>
              <a:tblGrid>
                <a:gridCol w="3143520"/>
                <a:gridCol w="3000240"/>
                <a:gridCol w="257184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сад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, осколков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не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блом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хим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 влиянием ветра, воды, температуры скалы разрушаются, образуются облом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в морях при осаждении кристаллов солей, химических вещест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, галька, щебень, гра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, гипс, поваренная соль, калийная с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голь, нефть, газ, тор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садочн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рганическ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2" descr="D:\Documents and Settings\Neo\Мои документы\6 класс\Полезные ископаемые\Органическая порода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600200"/>
          <a:ext cx="7686720" cy="4237200"/>
        </p:xfrm>
        <a:graphic>
          <a:graphicData uri="http://schemas.openxmlformats.org/drawingml/2006/table">
            <a:tbl>
              <a:tblPr/>
              <a:tblGrid>
                <a:gridCol w="76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етаморфическ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 в результате изменения свойств и состав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образуются под воздействием высоких температур, давления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       мрамор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         кварц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ина                глинисный слан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cxnSp>
        <p:nvCxnSpPr>
          <p:cNvPr id="339" name="Прямая со стрелкой 7"/>
          <p:cNvCxnSpPr/>
          <p:nvPr/>
        </p:nvCxnSpPr>
        <p:spPr>
          <a:xfrm>
            <a:off x="4286160" y="457200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0" name="Прямая со стрелкой 9"/>
          <p:cNvCxnSpPr/>
          <p:nvPr/>
        </p:nvCxnSpPr>
        <p:spPr>
          <a:xfrm>
            <a:off x="4357800" y="507204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1" name="Прямая со стрелкой 11"/>
          <p:cNvCxnSpPr/>
          <p:nvPr/>
        </p:nvCxnSpPr>
        <p:spPr>
          <a:xfrm>
            <a:off x="4286160" y="5571720"/>
            <a:ext cx="35784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минерал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Пермского края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Нефть.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Добыча нефти в Пермском крае осуществляется с середины 20 века. Сейчас идут разработки на         месторождениях. В Куединском районе открыто 18 месторождений нефти.</a:t>
            </a:r>
            <a:br>
              <a:rPr sz="2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Фото008"/>
          <p:cNvPicPr/>
          <p:nvPr/>
        </p:nvPicPr>
        <p:blipFill>
          <a:blip r:embed="rId1"/>
          <a:stretch/>
        </p:blipFill>
        <p:spPr>
          <a:xfrm>
            <a:off x="0" y="2928960"/>
            <a:ext cx="3643200" cy="4022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C:\Documents and Settings\Admin\Мои документы\нефть.jpg"/>
          <p:cNvPicPr/>
          <p:nvPr/>
        </p:nvPicPr>
        <p:blipFill>
          <a:blip r:embed="rId2"/>
          <a:stretch/>
        </p:blipFill>
        <p:spPr>
          <a:xfrm>
            <a:off x="4214880" y="2928960"/>
            <a:ext cx="4929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22T20:55:17Z</dcterms:modified>
  <cp:revision>12</cp:revision>
  <dc:subject/>
  <dc:title>Горные породы и  минерал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20000000000010243100207f6000400038000</vt:lpwstr>
  </property>
</Properties>
</file>