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120-9961-44AD-A732-716D4DAF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F4C-ED16-4E7F-A76C-0FE1FC01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2E3-C7E3-4155-B486-936DCADB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FC4-16DA-42BA-94B0-ECE2F69D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A5C-6596-4C48-A827-60CA88F8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E6BF-60EE-4B45-A17B-CD76895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2626-D4CD-46A6-8307-0A3BFEC1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111-63F7-4B9B-ACDE-28F66931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4899-A5BB-4F27-B7CD-FA8949F3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8BF1-54CA-46CE-ADF0-B93EBE0C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2294-09B3-46BB-9829-E22DB14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460-D15B-45D7-BD52-B8101CC8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ED2-D471-447C-A793-E92CA56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99DF-C80E-453A-A0C5-D879E14A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AA15-C6CC-4500-BAE8-F9C835F2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6FDB-DBF8-436C-991C-C83B92BD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E8F6-4ADB-4690-AFF4-C0BA0FAB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578-5190-4F07-93D3-2B9DB94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02E-20CC-4EC6-910D-A76CFE0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F06-FDDD-4E92-9DE0-26C10E65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74D-A86A-494C-93B8-24EB1594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3E5-5B68-48F8-A101-C83143F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D37-9E71-4098-ADAB-C7A821E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019-D01B-4B25-ADBE-6A99C29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8E6-3EEB-4C10-BAEA-BE67152AD70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3CB3-70D6-4BD9-BF0F-A2D8CC30A1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ой Светлана Викторов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ыполнила учитель   начальных классов МБОУ СОШ № 24 г. Нижний Новгород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опасного в горах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утешествовать в горах опасно. Там встречаются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Пропа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крутые глубокие обрыв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нежная лавин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аменная осып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Сел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грязекаменные пото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па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mac34"/>
          <p:cNvPicPr/>
          <p:nvPr/>
        </p:nvPicPr>
        <p:blipFill>
          <a:blip r:embed="rId1"/>
          <a:stretch/>
        </p:blipFill>
        <p:spPr>
          <a:xfrm>
            <a:off x="0" y="1295280"/>
            <a:ext cx="80773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1840" y="376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нежная ла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lav"/>
          <p:cNvPicPr/>
          <p:nvPr/>
        </p:nvPicPr>
        <p:blipFill>
          <a:blip r:embed="rId1"/>
          <a:stretch/>
        </p:blipFill>
        <p:spPr>
          <a:xfrm>
            <a:off x="6858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55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енные осы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000156"/>
          <p:cNvPicPr/>
          <p:nvPr/>
        </p:nvPicPr>
        <p:blipFill>
          <a:blip r:embed="rId1"/>
          <a:stretch/>
        </p:blipFill>
        <p:spPr>
          <a:xfrm>
            <a:off x="762120" y="13716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552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sel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133720" y="1295280"/>
            <a:ext cx="31194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оры и лю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горных долинах люди строят поселки и города. Добраться можно туда по горным тропа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огда нужны тонне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e934cd9ff4bf3fe15859e1589987391f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kb100f"/>
          <p:cNvPicPr/>
          <p:nvPr/>
        </p:nvPicPr>
        <p:blipFill>
          <a:blip r:embed="rId1"/>
          <a:stretch/>
        </p:blipFill>
        <p:spPr>
          <a:xfrm>
            <a:off x="914400" y="838080"/>
            <a:ext cx="75438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фессии  в горах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горах стоят спортивные базы для занятий горнолыжным спортом и альпинизм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1241461612_sport"/>
          <p:cNvPicPr/>
          <p:nvPr/>
        </p:nvPicPr>
        <p:blipFill>
          <a:blip r:embed="rId1"/>
          <a:stretch/>
        </p:blipFill>
        <p:spPr>
          <a:xfrm>
            <a:off x="914400" y="-914400"/>
            <a:ext cx="7589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2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1334990216_1-9"/>
          <p:cNvPicPr/>
          <p:nvPr/>
        </p:nvPicPr>
        <p:blipFill>
          <a:blip r:embed="rId1"/>
          <a:stretch/>
        </p:blipFill>
        <p:spPr>
          <a:xfrm>
            <a:off x="380880" y="304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лли</cp:lastModifiedBy>
  <dcterms:modified xsi:type="dcterms:W3CDTF">2014-03-13T13:36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10000000000010250300207f7000400038000</vt:lpwstr>
  </property>
  <property fmtid="{D5CDD505-2E9C-101B-9397-08002B2CF9AE}" pid="3" name="Version">
    <vt:r8>1</vt:r8>
  </property>
</Properties>
</file>