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7959-2617-4599-AE52-D7343CD37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B07F-2AFD-46CE-9184-B69973A1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3655-6F67-4C02-9397-5D385C59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AD56-B1F3-47B7-BC34-3797B4EA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5CBF-E4F7-4C12-AB74-8572F818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62A1-EA91-408B-940A-F2947ACA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710E-171F-49C4-B0B6-1D4DC64E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F478-EF53-40C7-8E61-BD635298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6ED6-56B9-4856-AE7C-326AD556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9996-19F7-4A90-AAE8-29490C50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2135-3E30-4EAF-A108-0A3995FF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AB62-7BF6-467E-A601-355953C1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232E-2FC0-440B-87C1-B33A7446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CBBE-6AC3-43D3-93C7-8BAAB334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44DE-EDE3-4963-9D9F-F160E6FD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B470-0AAC-4649-96A4-92E83D73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5DDB-3C25-4D02-A127-009CFD66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2CFD-DE3A-4161-AC5F-8CAE48F8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D011-5B7B-4E9A-89DA-4E41E64A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B096-34BE-40CB-92D5-0FDAEA2D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5CCB-8C81-4892-99F0-B7B704D7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EA1F-5A5E-4058-8146-6F6EE472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96CA-CF8E-4122-B77B-C2ADB8BF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4D5D-AFE3-4FF0-8E28-CC2C58E6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931E-BF04-44C3-A602-1535329B27B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91B0-6330-4BC0-80A3-3614B871497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Гой Светлана Викторовн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Выполнила учитель   начальных классов МБОУ СОШ № 24 г. Нижний Новгород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то опасного в горах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утешествовать в горах опасно. Там встречаются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Пропа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- крутые глубокие обрыв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Снежная лавин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Каменная осып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Сел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грязекаменные пото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757800" y="376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па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5" descr="mac34"/>
          <p:cNvPicPr/>
          <p:nvPr/>
        </p:nvPicPr>
        <p:blipFill>
          <a:blip r:embed="rId1"/>
          <a:stretch/>
        </p:blipFill>
        <p:spPr>
          <a:xfrm>
            <a:off x="0" y="1295280"/>
            <a:ext cx="807732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1840" y="3769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нежная лави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5" descr="lav"/>
          <p:cNvPicPr/>
          <p:nvPr/>
        </p:nvPicPr>
        <p:blipFill>
          <a:blip r:embed="rId1"/>
          <a:stretch/>
        </p:blipFill>
        <p:spPr>
          <a:xfrm>
            <a:off x="685800" y="15238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05520" y="376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менные осып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5" descr="000156"/>
          <p:cNvPicPr/>
          <p:nvPr/>
        </p:nvPicPr>
        <p:blipFill>
          <a:blip r:embed="rId1"/>
          <a:stretch/>
        </p:blipFill>
        <p:spPr>
          <a:xfrm>
            <a:off x="762120" y="1371600"/>
            <a:ext cx="57150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05520" y="376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ел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5" descr="sel"/>
          <p:cNvPicPr/>
          <p:nvPr/>
        </p:nvPicPr>
        <p:blipFill>
          <a:blip r:embed="rId1"/>
          <a:stretch/>
        </p:blipFill>
        <p:spPr>
          <a:xfrm>
            <a:off x="762120" y="1295280"/>
            <a:ext cx="754380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2133720" y="1295280"/>
            <a:ext cx="3119400" cy="14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оры и люд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горных долинах люди строят поселки и города. Добраться можно туда по горным тропа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огда нужны тоннел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5" descr="e934cd9ff4bf3fe15859e1589987391f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5" descr="kb100f"/>
          <p:cNvPicPr/>
          <p:nvPr/>
        </p:nvPicPr>
        <p:blipFill>
          <a:blip r:embed="rId1"/>
          <a:stretch/>
        </p:blipFill>
        <p:spPr>
          <a:xfrm>
            <a:off x="914400" y="838080"/>
            <a:ext cx="754380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фессии  в горах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горах стоят спортивные базы для занятий горнолыжным спортом и альпинизм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5" descr="1241461612_sport"/>
          <p:cNvPicPr/>
          <p:nvPr/>
        </p:nvPicPr>
        <p:blipFill>
          <a:blip r:embed="rId1"/>
          <a:stretch/>
        </p:blipFill>
        <p:spPr>
          <a:xfrm>
            <a:off x="914400" y="-914400"/>
            <a:ext cx="758988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5" descr="2"/>
          <p:cNvPicPr/>
          <p:nvPr/>
        </p:nvPicPr>
        <p:blipFill>
          <a:blip r:embed="rId1"/>
          <a:stretch/>
        </p:blipFill>
        <p:spPr>
          <a:xfrm>
            <a:off x="380880" y="609480"/>
            <a:ext cx="845820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5" descr="1334990216_1-9"/>
          <p:cNvPicPr/>
          <p:nvPr/>
        </p:nvPicPr>
        <p:blipFill>
          <a:blip r:embed="rId1"/>
          <a:stretch/>
        </p:blipFill>
        <p:spPr>
          <a:xfrm>
            <a:off x="380880" y="3049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елли</cp:lastModifiedBy>
  <dcterms:modified xsi:type="dcterms:W3CDTF">2014-03-13T13:36:4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110000000000010250300207f7000400038000</vt:lpwstr>
  </property>
  <property fmtid="{D5CDD505-2E9C-101B-9397-08002B2CF9AE}" pid="3" name="Version">
    <vt:r8>1</vt:r8>
  </property>
</Properties>
</file>