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081-D648-457B-9F47-3BB42BC6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4B9-4C6E-42E6-9C49-821D10DE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493-431D-4481-A738-443B1C68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EAC-0FFC-484C-8D7A-DAA276B4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F2E3-48B4-4A82-B48D-58A08E84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B649-7251-49B9-9736-DC7A302A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973A-DEE6-475B-B9EC-A3A00042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ABEF-9157-46DB-9C71-E4F0E405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1C4C-BFE4-484F-A074-7CC566C3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54AA-3C78-4679-84EC-918FC9A9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545D-F46B-47CD-B00E-B6FF5418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202-BA06-4452-879F-AF89025D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1900-AE11-4C3A-991F-AD7B33C2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EAB2-BAB6-4E7F-8EBE-FF816D5C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F157-F63A-439E-8BF4-7F37F198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3A82-2D7C-4510-BB45-B07C6E09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DC41-66B4-4D92-91BB-A65D008C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CD4-13FF-4FDF-A27A-DA25DE0B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255-1B05-4831-A8DB-1C4D34C8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812-472B-4963-A3A7-8821C222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199-ABCA-4FF0-BA68-BC800622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87A-EE16-4B68-ABF0-BE3B5DA3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40D-6489-477C-AD3F-B340C01D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F47-CA77-4A1A-B4EF-0DF96CA7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5506-8FC7-4842-AB16-CA31DAF3C95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7E0A-A49E-4E3A-95E0-23ADDF3497C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Гой Светлана Викторов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ыполнила учитель   начальных классов МБОУ СОШ № 24 г. Нижний Новгород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о опасного в горах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утешествовать в горах опасно. Там встречаются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Пропа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крутые глубокие обрыв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Снежная лави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аменная осып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Сел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грязекаменные пото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5780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па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5" descr="mac34"/>
          <p:cNvPicPr/>
          <p:nvPr/>
        </p:nvPicPr>
        <p:blipFill>
          <a:blip r:embed="rId1"/>
          <a:stretch/>
        </p:blipFill>
        <p:spPr>
          <a:xfrm>
            <a:off x="0" y="1295280"/>
            <a:ext cx="807732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1840" y="3769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нежная лави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lav"/>
          <p:cNvPicPr/>
          <p:nvPr/>
        </p:nvPicPr>
        <p:blipFill>
          <a:blip r:embed="rId1"/>
          <a:stretch/>
        </p:blipFill>
        <p:spPr>
          <a:xfrm>
            <a:off x="685800" y="15238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0552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менные осып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5" descr="000156"/>
          <p:cNvPicPr/>
          <p:nvPr/>
        </p:nvPicPr>
        <p:blipFill>
          <a:blip r:embed="rId1"/>
          <a:stretch/>
        </p:blipFill>
        <p:spPr>
          <a:xfrm>
            <a:off x="762120" y="1371600"/>
            <a:ext cx="5715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552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5" descr="sel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133720" y="1295280"/>
            <a:ext cx="311940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оры и лю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горных долинах люди строят поселки и города. Добраться можно туда по горным тропа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огда нужны тонне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e934cd9ff4bf3fe15859e1589987391f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5" descr="kb100f"/>
          <p:cNvPicPr/>
          <p:nvPr/>
        </p:nvPicPr>
        <p:blipFill>
          <a:blip r:embed="rId1"/>
          <a:stretch/>
        </p:blipFill>
        <p:spPr>
          <a:xfrm>
            <a:off x="914400" y="838080"/>
            <a:ext cx="754380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фессии  в горах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горах стоят спортивные базы для занятий горнолыжным спортом и альпинизм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1241461612_sport"/>
          <p:cNvPicPr/>
          <p:nvPr/>
        </p:nvPicPr>
        <p:blipFill>
          <a:blip r:embed="rId1"/>
          <a:stretch/>
        </p:blipFill>
        <p:spPr>
          <a:xfrm>
            <a:off x="914400" y="-914400"/>
            <a:ext cx="7589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2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1334990216_1-9"/>
          <p:cNvPicPr/>
          <p:nvPr/>
        </p:nvPicPr>
        <p:blipFill>
          <a:blip r:embed="rId1"/>
          <a:stretch/>
        </p:blipFill>
        <p:spPr>
          <a:xfrm>
            <a:off x="380880" y="3049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лли</cp:lastModifiedBy>
  <dcterms:modified xsi:type="dcterms:W3CDTF">2014-03-13T13:36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110000000000010250300207f7000400038000</vt:lpwstr>
  </property>
  <property fmtid="{D5CDD505-2E9C-101B-9397-08002B2CF9AE}" pid="3" name="Version">
    <vt:r8>1</vt:r8>
  </property>
</Properties>
</file>