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69C-AD3F-4538-9BFA-4B13DC61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3CB-1AE1-4355-8D8A-CE1E6442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500-78D6-4D4C-BF44-3204F238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0A8-0321-481C-9544-BFCA24CD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AD95-93F5-468C-B109-5E83C5B8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DC18-9BB6-48B8-92BD-294227CC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38CD-C314-43A3-AF02-94506496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2F9B-07BB-42A2-872B-0679C6A8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25C2-0D8C-4F2F-9D30-C9A8E410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FE58-9D5D-45C7-BCAA-7C8DE440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BC8D-BD00-4931-89A2-44FDBAF2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6EA-A695-4854-AD30-A1A41927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6222-0A50-465C-8DB5-B97C894D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DB2D-BE50-4D37-99CA-3D670BA4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234A-CCFA-46DD-B7D7-8E95E337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8537-A52E-43C6-8677-12EE5ADE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BDA6-AE7D-426D-9260-AE67DEFC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7FE-3DEE-4D1A-BA7E-8C01E69B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86D-76C0-4393-9EFB-77415E36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90E-8A83-4A7F-968B-D9F08222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28D-244B-4665-BB30-FCF59C5F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E2E-87F0-48A7-81BD-2C7F7221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C73-C66C-441F-8995-68E1669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6AF-EA02-4C18-9124-2CBE8DA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B671-1A0E-4F93-B86C-017488318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44DA-9F22-4EFB-9DFD-58CCA3388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3840" cy="3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Геополитическое 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и 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экономико-географическое положение России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(ЭГП)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9cb5"/>
                </a:solidFill>
                <a:latin typeface="Tahoma"/>
              </a:rPr>
              <a:t>Экономико – географическое положение России (ЭГП)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кроуров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дин из центров мирового хозяйства, науки и культуры, 30% мировых ресурсов, великая морская держ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езоуров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80% производства по СНГ, 30% внешнеторгового оборота с развитыми странами, усиление связей с Китаем, Индией, Бразилией и ЮАР (БРИКС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икроуров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кономические отношения с отдельными стра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дания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участки государственной границы России наиболее удобны для развития торговли ( в том числе приграничной) с соседними странами ? Обоснуйте свои выводы (используйте  таблицу – приложени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ите геополитическое (военно – стратегическое), экономико-географическое, транспортно-географическое и рыночное положение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Повтор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м и определим положение крайних точек Росс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ать на карте соседей России первого и второго поряд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«анклав» и «полуанклав»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ли в России такие территор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вы плюсы и минусы ГП Росс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собенности ГП Росси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лагоприятны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евразийское положение, сухопутная граница, выход к 13 морям трёх океанов, самая большая территория в мире, ведущее место по природным ресурсам, преобладание умеренного пояса, единое эконо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благоприятны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1/3 территории малопригодная для жизни, 80% природных ресурсов в азиатской части, транспортные проблемы, неравномерность заселения и хозяйства, отдалённость восточных регионов, ухудшение ГП с распадом ССС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Что такое «геополитика» ?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ополитика занимается глобальной системой, межгосударственными союз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авная цель геополитики – разработка геостратегии государ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Факторы, определяющие геополитическое положение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оложение на самом крупном материке (1/4 – в Европе, ¾ - в Азии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лизость очагов военно – политической нестабильности (Закавказье, Ближний Восток, Юго-Западная Аз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по отношению к трём главным центрам мировой экономики (каким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е СН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ад военно-политического и экономического союза бывшего СССР и стран Восточной Европ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Особенности геополитического положения (ГПП)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акроуров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входит в «большую восьмёрку», постоянный член Совета Безопасности ООН, ведущая ядерная держа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езоуров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ведущий член СНГ, член Азиатско-Тихоокеанского сотрудничества (АТЭС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икроуров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литические отношения с отдельными стран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Изменение геополитической ситуации в результате распада СССР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11 экономических районов только 6 имели выход к госгранице и океанам (теперь 10, кроме Волго - Вятского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76 нынешних субъектов РФ приграничными были 19 (теперь 4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Влияние России на положение дел в мире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362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лияние военной сил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ескими связя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льтурными связя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аиболее значительное влияние было в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VII – XIX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веках и в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веке (когда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18:31Z</dcterms:created>
  <dc:creator>Admin</dc:creator>
  <dc:description/>
  <dc:language>en-US</dc:language>
  <cp:lastModifiedBy>Admin</cp:lastModifiedBy>
  <dcterms:modified xsi:type="dcterms:W3CDTF">2011-12-18T16:09:43Z</dcterms:modified>
  <cp:revision>23</cp:revision>
  <dc:subject/>
  <dc:title>Геополитическое  и  экономико-географическое положение России (ЭГП)</dc:title>
</cp:coreProperties>
</file>