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870-BE12-4DDC-80B5-92CA9585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C2A3-E292-4BEB-80BD-E6290A9B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880-7724-48B4-890B-1FB0DFDD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9B0-4D46-40FA-962E-1BBF31D4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56A8-AD78-463A-88A3-9EF05BC9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E4C2-AE7F-4029-B568-75DD2D16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C807-43C2-4E0E-9B74-480646A7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CB58-0552-4431-928C-7D8AC9AC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C308-FC3E-4525-8BF9-1B93C162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13C5-EA6A-4515-AEF2-8E28D7D8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FD4E-05D4-485B-9910-DD35AA14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639-E8E2-4E59-9B50-75067DB5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C46B-FABF-4338-9061-1081E0AA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54B3-3735-43FE-8B9A-01EFB33B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DC2A-D262-4794-B154-2E55D510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AC9C-67E9-43F0-8DBF-896F090D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0A47-8891-4303-80D7-CF319891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0CB-1447-4742-A34C-F66E9EC1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496-1520-4EDF-9218-0F3B6251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A0B-31C0-4603-ABDB-4F8AE9C4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3FA-6C8F-443D-A76A-BC691119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5BB-A2F5-4909-8826-4168C738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61A-384A-45B1-8729-0F23961C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462-0CB0-492C-BDE0-456A54C8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96CA-E0DE-40FC-9282-7C246264D9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D52D-651E-4784-8ABC-29C04ACDB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3840" cy="3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Геополитическое </a:t>
            </a:r>
            <a:br>
              <a:rPr sz="4400"/>
            </a:b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и </a:t>
            </a:r>
            <a:br>
              <a:rPr sz="4400"/>
            </a:b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экономико-географическое положение России</a:t>
            </a:r>
            <a:br>
              <a:rPr sz="4400"/>
            </a:b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(ЭГП)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b9cb5"/>
                </a:solidFill>
                <a:latin typeface="Tahoma"/>
              </a:rPr>
              <a:t>Экономико – географическое положение России (ЭГП)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акроуровен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дин из центров мирового хозяйства, науки и культуры, 30% мировых ресурсов, великая морская держа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езоуровен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80% производства по СНГ, 30% внешнеторгового оборота с развитыми странами, усиление связей с Китаем, Индией, Бразилией и ЮАР (БРИКС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икроуровен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экономические отношения с отдельными стран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Задания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участки государственной границы России наиболее удобны для развития торговли ( в том числе приграничной) с соседними странами ? Обоснуйте свои выводы (используйте  таблицу – приложение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цените геополитическое (военно – стратегическое), экономико-географическое, транспортно-географическое и рыночное положение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Повторение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помним и определим положение крайних точек Росс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казать на карте соседей России первого и второго поряд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«анклав» и «полуанклав»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ть ли в России такие территор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вы плюсы и минусы ГП Росс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собенности ГП России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лагоприятны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евразийское положение, сухопутная граница, выход к 13 морям трёх океанов, самая большая территория в мире, ведущее место по природным ресурсам, преобладание умеренного пояса, единое экономическое пространств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еблагоприятны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1/3 территории малопригодная для жизни, 80% природных ресурсов в азиатской части, транспортные проблемы, неравномерность заселения и хозяйства, отдалённость восточных регионов, ухудшение ГП с распадом ССС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Что такое «геополитика» ?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еополитика занимается глобальной системой, межгосударственными союз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авная цель геополитики – разработка геостратегии государст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Факторы, определяющие геополитическое положение: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оложение на самом крупном материке (1/4 – в Европе, ¾ - в Азии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лизость очагов военно – политической нестабильности (Закавказье, Ближний Восток, Юго-Западная Аз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ожение по отношению к трём главным центрам мировой экономики (каким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е СН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ад военно-политического и экономического союза бывшего СССР и стран Восточной Европ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Особенности геополитического положения (ГПП):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акроуровен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входит в «большую восьмёрку», постоянный член Совета Безопасности ООН, ведущая ядерная держа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езоуровен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ведущий член СНГ, член Азиатско-Тихоокеанского сотрудничества (АТЭС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икроуровен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политические отношения с отдельными стран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Изменение геополитической ситуации в результате распада СССР: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11 экономических районов только 6 имели выход к госгранице и океанам (теперь 10, кроме Волго - Вятского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76 нынешних субъектов РФ приграничными были 19 (теперь 4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Влияние России на положение дел в мире: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3628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лияние военной сило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ческими связя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ультурными связя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аиболее значительное влияние было в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XVII – XIX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веках и в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веке (когда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8:18:31Z</dcterms:created>
  <dc:creator>Admin</dc:creator>
  <dc:description/>
  <dc:language>en-US</dc:language>
  <cp:lastModifiedBy>Admin</cp:lastModifiedBy>
  <dcterms:modified xsi:type="dcterms:W3CDTF">2011-12-18T16:09:43Z</dcterms:modified>
  <cp:revision>23</cp:revision>
  <dc:subject/>
  <dc:title>Геополитическое  и  экономико-географическое положение России (ЭГП)</dc:title>
</cp:coreProperties>
</file>