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E89-82A2-4920-B8E0-6F9589BB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E9B-A4C8-46AE-8B43-BC3FAC2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CBB-6B53-4385-97B2-ADBA661E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F61-9C7F-48F0-AC6A-3AC1CCF8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9F8F-965B-4285-982E-BDD37BEB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41E5-F949-4094-A391-0F9B743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BA63-0BB5-43B8-A110-9D8F5AA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7F1-D34A-4CFD-9CC1-1F56B6BA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1EF5-C969-465C-AF16-82F3090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68B-1932-4A80-8535-4E0D6EFF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7A1-E0C0-414D-BC57-6A5B211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ABF-C970-4022-917C-5CC2BD20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F6E-B405-4744-B83A-EAA9D9B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1618-F0E6-4532-8B29-D57CD62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D741-10F6-4A25-A850-146C38B3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3EE3-D658-4015-BA93-DD3CA93F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3AEE-3E95-4DBD-93FD-17D989A1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235-7374-49FF-8DD7-ED08E30E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4EE-5A7C-4A2F-B5E2-5C7E3A75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C03-F75A-4C48-B68F-ECDC2EB1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195-41D4-45E8-A448-1040BC9C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711-56F4-49F8-94BE-59C7AAD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80D-DA35-45EB-8528-151F83B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B81-880B-4B1D-B96B-719BF26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6F6-8828-4AAC-8BFA-038BCF2ED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039-51B4-4728-9B7C-E84CCC2AD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384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Геополитическое 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и 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экономико-географическое положение России</a:t>
            </a:r>
            <a:br>
              <a:rPr sz="4400"/>
            </a:b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(ЭГП)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b9cb5"/>
                </a:solidFill>
                <a:latin typeface="Tahoma"/>
              </a:rPr>
              <a:t>Экономико – географическое положение России (ЭГП)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дин из центров мирового хозяйства, науки и культуры, 30% мировых ресурсов, великая морская держ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ез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80% производства по СНГ, 30% внешнеторгового оборота с развитыми странами, усиление связей с Китаем, Индией, Бразилией и ЮАР (БРИКС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икроуровен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кономические отношения с отдельными стра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Задания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участки государственной границы России наиболее удобны для развития торговли ( в том числе приграничной) с соседними странами ? Обоснуйте свои выводы (используйте  таблицу – приложение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ите геополитическое (военно – стратегическое), экономико-географическое, транспортно-географическое и рыночное положение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Повтор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м и определим положение крайних точек Росс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ть на карте соседей России первого и второго поряд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«анклав» и «полуанклав»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ть ли в России такие территор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ы плюсы и минусы ГП Росс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Особенности ГП Росси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лагоприят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евразийское положение, сухопутная граница, выход к 13 морям трёх океанов, самая большая территория в мире, ведущее место по природным ресурсам, преобладание умеренного пояса, единое экономическое пространств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благоприят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1/3 территории малопригодная для жизни, 80% природных ресурсов в азиатской части, транспортные проблемы, неравномерность заселения и хозяйства, отдалённость восточных регионов, ухудшение ГП с распадом ССС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Что такое «геополитика» ?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ополитика занимается глобальной системой, межгосударственными союз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вная цель геополитики – разработка геостратегии государ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Факторы, определяющие геополитическое положение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оложение на самом крупном материке (1/4 – в Европе, ¾ - в Азии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изость очагов военно – политической нестабильности (Закавказье, Ближний Восток, Юго-Западная Аз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по отношению к трём главным центрам мировой экономики (каким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е С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д военно-политического и экономического союза бывшего СССР и стран Восточной Европ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Особенности геополитического положения (ГПП)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акр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ходит в «большую восьмёрку», постоянный член Совета Безопасности ООН, ведущая ядерная держа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з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ведущий член СНГ, член Азиатско-Тихоокеанского сотрудничества (АТЭС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икроуровен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политические отношения с отдельными стра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Изменение геополитической ситуации в результате распада СССР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11 экономических районов только 6 имели выход к госгранице и океанам (теперь 10, кроме Волго - Вятского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76 нынешних субъектов РФ приграничными были 19 (теперь 4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Влияние России на положение дел в мире: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362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ияние военной сил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ескими связя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ными связя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иболее значительное влияние было в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VII – XIX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веках и в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веке (когда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8:18:31Z</dcterms:created>
  <dc:creator>Admin</dc:creator>
  <dc:description/>
  <dc:language>en-US</dc:language>
  <cp:lastModifiedBy>Admin</cp:lastModifiedBy>
  <dcterms:modified xsi:type="dcterms:W3CDTF">2011-12-18T16:09:43Z</dcterms:modified>
  <cp:revision>23</cp:revision>
  <dc:subject/>
  <dc:title>Геополитическое  и  экономико-географическое положение России (ЭГП)</dc:title>
</cp:coreProperties>
</file>