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24C-9635-450F-8E7B-4366D907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720-12BF-402D-BF20-F75C6A86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782-9727-4E72-A969-A489759E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1D4-7D28-4E1A-B5F3-516145E4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B048-F15C-42CC-885D-C80C0B08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803E-5CA7-4028-8C12-B2A125CC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5350-3B3A-42C8-A5D6-245B2875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22B1-1A0B-4153-AEF4-E6B7006B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D75F-446E-41F7-9D37-4CA09F75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9547-816D-4BC6-9AC2-91061281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5052-3D36-47BF-9A0B-30A4ACB4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095-E082-45D5-918F-2A378883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E69A-F933-4833-84FB-1B5C0AFF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FE98-38CB-43B2-ACB1-87F225F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3795-242E-47B7-829E-CC6FD157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3B6C-C309-48D7-8C6B-2EF739AD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CD97-8FBF-4760-948A-7A6A48CF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E79-CC1B-4888-A02C-0F46909F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C46-50F4-40FB-A8E8-425332C8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7DB-466A-4980-9043-1FBF6FBC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3EC-AD1F-4BB2-A319-B9F8208A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4BA-AF6E-4070-A5D5-3D361091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BE9-0274-4184-8A26-8291FE0E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7A4-560C-4107-B70E-A917D58E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50E4-3B80-4B4D-9BA4-B7B0FD609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C0F0-55C9-4338-BC2E-6BF87B874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Геология как наука.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299556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954680" y="1773360"/>
            <a:ext cx="3612960" cy="469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364000" y="98100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УШКЕТОВ И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94172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ПИНСКИЙ А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.А.Обруче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разработал многие важные вопросы (крупный исследователь Сибири и Центральной Ази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.П.Павл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основоположник учения о четвертичных отложен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.С.Федор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известный кристаллограф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.И.Вернад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его труды по геохимии, биогеохимии, радиогеологии всемирно извест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3368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8436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РУЧЕВ В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3629160" cy="48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867280" y="620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ВЛОВ А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Первые космогонические гипотезы: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смого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ука о происхождении и развитии небесных т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 гипотезы о происхождении Земли можно разбить на две основные групп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булярн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 лат. «небула» - туман, газ) –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потеза Канта – Лапла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тастрофическ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потеза Джин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Современные гипотезы: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лнечная система образовалась из скопления межзвездной материи, захваченной Солнцем в процессе движения в мировом пространстве –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потеза О.Ю.Шмид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планет связано с образованием новых звезд, возникающих в результате сгущения первоначально разреженного вещества –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потеза В.Г.Фесенк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Общие сведения: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еолог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наука о Земле, изучает строение, состав и историю развития, закономерности и процессы формирования и развития земной коры, а также этапы развития органической жизни на Зем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Главнейшие разделы геологии: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нерало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исталлограф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трография и литоло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охим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офиз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оморфоло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идрогеоло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ология четвертичных отлож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ние о полезных ископаемы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еотекто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леогеограф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атиграф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леонтолог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Нередко выделяются разделы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намическая геология, минералогия и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трография, геотектоника и вулканолог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История науки: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ристоте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384-322гг. до н.э.) – представил первые астрономические доказательства шарообразности Зем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ристарх Самосск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до н.э.) – предвосхитил гелиоцентрическую систему мира Коперн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-Биру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972-1048гг.) из Хорезма – определил длину окружности земного ша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452-1519гг.)- окаменелости, встречаемые в горных породах считал перемещением суши и мор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омоносов М.В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1711-1765) – по праву считается одним из основоположников научной геолог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ная роль в развитии геологических представлений о происхождении Земли принадлежит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. Кант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немецкому философу, и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 Лаплас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французскому математику и астроном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48588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58920" y="49435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ануил К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219640" y="2205000"/>
            <a:ext cx="3394080" cy="422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084720" y="1484280"/>
            <a:ext cx="22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ьер ЛАПЛ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Враждующие направления в науке ( конец 18 века):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птунис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читали, что в основе всех изменений Земли лежит действие внешних сил (вода, ветер, лед, море), идейный вдохновитель профессор Фрейбергской академии Верне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лутонис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в основе лежит действие внутренней энергии (вулканизм, землетрясения), идейный вдохновитель шотландский геолог Гетт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Вклад в науку русских ученых: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82 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Петербург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оздаетс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еологический комите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который руководит изучением геологии России в дореволюционное врем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.П.Карпин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отец русской геолог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.В.Мушкет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положил начало сейсмотектоническим исследован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1:58:41Z</dcterms:created>
  <dc:creator>admin</dc:creator>
  <dc:description/>
  <dc:language>en-US</dc:language>
  <cp:lastModifiedBy>admin</cp:lastModifiedBy>
  <dcterms:modified xsi:type="dcterms:W3CDTF">2010-02-01T14:02:30Z</dcterms:modified>
  <cp:revision>5</cp:revision>
  <dc:subject/>
  <dc:title>Геология как нау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20000000000010250300207f7000400038000</vt:lpwstr>
  </property>
</Properties>
</file>