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C32-CA40-46B8-AB53-849764F3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9FE-8584-4F4D-9033-22745B5B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53E-B309-4BED-8249-CBD5A103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C6A-33A2-4110-9207-5EECC2F2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3C5D-5046-481C-AD09-20A50367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066E-9FFD-4E8E-B175-65D21532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CA82-7DF5-4412-9CC5-9166F245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4F65-FBAC-4622-B70A-F960AD69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B16B-F785-4811-946F-78AD0A57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E8B0-787C-43BB-9AFB-00735929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3602-0DDF-4200-89AD-BDAFA283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9B4-48DC-4013-ABC6-62768A71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61E6-FA6F-4C2F-900B-85E3C4C9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5F9C-A779-4CC2-9C1A-39C33716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3560-62C9-4519-83B2-9C71873B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61D6-5C95-44A2-AE01-9E5EC84A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6E27-37E0-45D0-8B01-0BC7C97A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3FDB-7BE3-40B4-B854-403C721C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0C4-B218-464B-90AB-28CBA5F9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D7B-81AA-4DFF-894D-00BAE37D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15E-278C-40BE-ACF9-468C5B67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00C-113C-4F54-9F3D-B73608B1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C6D-9DDD-4CE1-AADA-172904E0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3AF-E720-49D0-9BB1-A9EB1D04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A359-1C1F-4D13-97F6-49C2B2713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0A55-4EFA-4F03-90C7-143C6DF9A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Геология как наука.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2995560" cy="42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954680" y="1773360"/>
            <a:ext cx="3612960" cy="469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5364000" y="98100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УШКЕТОВ И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94172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ПИНСКИЙ А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.А.Обруче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разработал многие важные вопросы (крупный исследователь Сибири и Центральной Ази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.П.Павл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основоположник учения о четвертичных отложени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.С.Федор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известный кристаллограф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.И.Вернад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его труды по геохимии, биогеохимии, радиогеологии всемирно извест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43368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8436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РУЧЕВ В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3629160" cy="488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867280" y="620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ВЛОВ А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ccff99"/>
                </a:solidFill>
                <a:latin typeface="Tahoma"/>
              </a:rPr>
              <a:t>Первые космогонические гипотезы: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осмого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ука о происхождении и развитии небесных т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 гипотезы о происхождении Земли можно разбить на две основные групп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булярн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 лат. «небула» - туман, газ) –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потеза Канта – Лапла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тастрофическ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потеза Джин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Современные гипотезы: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лнечная система образовалась из скопления межзвездной материи, захваченной Солнцем в процессе движения в мировом пространстве –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потеза О.Ю.Шмид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планет связано с образованием новых звезд, возникающих в результате сгущения первоначально разреженного вещества –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потеза В.Г.Фесенк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Общие сведения: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еолог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наука о Земле, изучает строение, состав и историю развития, закономерности и процессы формирования и развития земной коры, а также этапы развития органической жизни на Зем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Tahoma"/>
              </a:rPr>
              <a:t>Главнейшие разделы геологии: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нералог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исталлограф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трография и литолог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охим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офиз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оморфолог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идрогеолог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ология четвертичных отлож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4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ние о полезных ископаемы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еотектони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леогеограф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атиграф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леонтолог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Нередко выделяются разделы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намическая геология, минералогия и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трография, геотектоника и вулканолог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История науки: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ристотел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384-322гг. до н.э.) – представил первые астрономические доказательства шарообразности Зем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ристарх Самосски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до н.э.) – предвосхитил гелиоцентрическую систему мира Коперн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-Биру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972-1048гг.) из Хорезма – определил длину окружности земного ша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еонардо да Винч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1452-1519гг.)- окаменелости, встречаемые в горных породах считал перемещением суши и мор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Ломоносов М.В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1711-1765) – по праву считается одним из основоположников научной геолог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ажная роль в развитии геологических представлений о происхождении Земли принадлежит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. Кант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немецкому философу, и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. Лаплас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французскому математику и астроном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485880" cy="38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58920" y="49435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ануил К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219640" y="2205000"/>
            <a:ext cx="3394080" cy="422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084720" y="1484280"/>
            <a:ext cx="22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ьер ЛАПЛ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Tahoma"/>
              </a:rPr>
              <a:t>Враждующие направления в науке ( конец 18 века):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птунис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считали, что в основе всех изменений Земли лежит действие внешних сил (вода, ветер, лед, море), идейный вдохновитель профессор Фрейбергской академии Верне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лутонис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в основе лежит действие внутренней энергии (вулканизм, землетрясения), идейный вдохновитель шотландский геолог Гетт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Вклад в науку русских ученых: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882 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Петербург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оздается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еологический комите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который руководит изучением геологии России в дореволюционное врем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.П.Карпин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отец русской геолог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.В.Мушкет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положил начало сейсмотектоническим исследования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1:58:41Z</dcterms:created>
  <dc:creator>admin</dc:creator>
  <dc:description/>
  <dc:language>en-US</dc:language>
  <cp:lastModifiedBy>admin</cp:lastModifiedBy>
  <dcterms:modified xsi:type="dcterms:W3CDTF">2010-02-01T14:02:30Z</dcterms:modified>
  <cp:revision>5</cp:revision>
  <dc:subject/>
  <dc:title>Геология как нау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20000000000010250300207f7000400038000</vt:lpwstr>
  </property>
</Properties>
</file>