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BC76-2522-4EF0-ADAB-4BB3EDD3F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D0B3-261B-438D-87E9-0FD38A33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6D91-C45C-441E-A5A8-DDC497A79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B050-0B61-45BA-A398-014B7AC15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F6A4-C91D-49C6-A5D4-B8E7AA969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E0358-4823-4B41-9F29-0A38788F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08EB-4A52-4C42-9811-737BBF73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07C8-980B-4C4C-9AA8-099FB590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1089-5B4E-437F-8187-E637F453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708C0-1C66-428C-956C-4950B3CE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8518-ED66-429B-9BBF-28E92F5A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A9E7-5E17-4794-9A56-71970D2F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4802F-69CC-4F36-8ECC-FFA49BDD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4231-ED4B-485E-8216-675791DB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893C-8F53-4857-9F2C-296D1F64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068A-679B-4ECA-A7FA-839F9B5E6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0E79-D2C0-4716-A397-56B07D413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9E23-8D26-4D1E-9C94-58C4CC73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4285-2BBC-4E06-940C-757C9831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6D0F-A5D3-4999-A4A3-C828B14C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8391-974F-4F65-8FDF-213AEB39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6607-46BF-4BF6-B3BA-109ABCED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19E9-E8C2-4338-B66C-6AD6F085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D38C-6972-46A1-8021-51F7A39E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3D90-AEEF-49D7-898A-F9213E4C62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0252-4CB9-41B2-B813-2191BF7703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Геология как наука.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2995560" cy="424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954680" y="1773360"/>
            <a:ext cx="3612960" cy="469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5364000" y="981000"/>
            <a:ext cx="316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УШКЕТОВ И.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4360" y="4941720"/>
            <a:ext cx="29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РПИНСКИЙ А.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.А.Обруче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разработал многие важные вопросы (крупный исследователь Сибири и Центральной Азии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А.П.Павло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основоположник учения о четвертичных отложения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Е.С.Федоро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известный кристаллограф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.И.Вернадский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его труды по геохимии, биогеохимии, радиогеологии всемирно извест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3433680" cy="345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684360" y="407664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РУЧЕВ В.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932360" y="1413000"/>
            <a:ext cx="3629160" cy="4886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5867280" y="620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АВЛОВ А.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ccff99"/>
                </a:solidFill>
                <a:latin typeface="Tahoma"/>
              </a:rPr>
              <a:t>Первые космогонические гипотезы:</a:t>
            </a:r>
            <a:endParaRPr b="0" lang="en-US" sz="40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Космогон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наука о происхождении и развитии небесных те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се гипотезы о происхождении Земли можно разбить на две основные групп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ебулярны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 лат. «небула» - туман, газ) –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гипотеза Канта – Лаплас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атастрофические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гипотеза Джинс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Современные гипотезы: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лнечная система образовалась из скопления межзвездной материи, захваченной Солнцем в процессе движения в мировом пространстве –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гипотеза О.Ю.Шмидт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ормирование планет связано с образованием новых звезд, возникающих в результате сгущения первоначально разреженного вещества –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гипотеза В.Г.Фесенко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Общие сведения: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Геологи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наука о Земле, изучает строение, состав и историю развития, закономерности и процессы формирования и развития земной коры, а также этапы развития органической жизни на Земл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99"/>
                </a:solidFill>
                <a:latin typeface="Tahoma"/>
              </a:rPr>
              <a:t>Главнейшие разделы геологии:</a:t>
            </a:r>
            <a:endParaRPr b="0" lang="en-US" sz="40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инералог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ристаллограф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етрография и литолог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еохим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еофизи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еоморфолог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идрогеолог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еология четвертичных отложен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29600" cy="54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чение о полезных ископаемы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еотектоник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алеогеограф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атиграф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алеонтолог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Нередко выделяются разделы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инамическая геология, минералогия и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трография, геотектоника и вулканолог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История науки: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ристотель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384-322гг. до н.э.) – представил первые астрономические доказательства шарообразности Земл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ристарх Самосский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. до н.э.) – предвосхитил гелиоцентрическую систему мира Коперни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л-Бирун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972-1048гг.) из Хорезма – определил длину окружности земного шар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Леонардо да Винч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1452-1519гг.)- окаменелости, встречаемые в горных породах считал перемещением суши и мор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Ломоносов М.В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1711-1765) – по праву считается одним из основоположников научной геолог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ажная роль в развитии геологических представлений о происхождении Земли принадлежит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И. Канту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немецкому философу, и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. Лапласу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французскому математику и астроном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3485880" cy="388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258920" y="49435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мануил КА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219640" y="2205000"/>
            <a:ext cx="3394080" cy="422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084720" y="1484280"/>
            <a:ext cx="22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ьер ЛАПЛА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99"/>
                </a:solidFill>
                <a:latin typeface="Tahoma"/>
              </a:rPr>
              <a:t>Враждующие направления в науке ( конец 18 века):</a:t>
            </a:r>
            <a:endParaRPr b="0" lang="en-US" sz="40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Нептунист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считали, что в основе всех изменений Земли лежит действие внешних сил (вода, ветер, лед, море), идейный вдохновитель профессор Фрейбергской академии Вернер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лутонист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в основе лежит действие внутренней энергии (вулканизм, землетрясения), идейный вдохновитель шотландский геолог Гетто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Вклад в науку русских ученых: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882 г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–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 Петербург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создается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Геологический комитет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который руководит изучением геологии России в дореволюционное врем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А.П.Карпинский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отец русской геолог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И.В.Мушкето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положил начало сейсмотектоническим исследованиям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11:58:41Z</dcterms:created>
  <dc:creator>admin</dc:creator>
  <dc:description/>
  <dc:language>en-US</dc:language>
  <cp:lastModifiedBy>admin</cp:lastModifiedBy>
  <dcterms:modified xsi:type="dcterms:W3CDTF">2010-02-01T14:02:30Z</dcterms:modified>
  <cp:revision>5</cp:revision>
  <dc:subject/>
  <dc:title>Геология как наук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2020000000000010250300207f7000400038000</vt:lpwstr>
  </property>
</Properties>
</file>