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9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30.gif" ContentType="image/gif"/>
  <Override PartName="/ppt/media/image31.gif" ContentType="image/gif"/>
  <Override PartName="/ppt/media/image29.gif" ContentType="image/gif"/>
  <Override PartName="/ppt/media/image13.png" ContentType="image/png"/>
  <Override PartName="/ppt/media/image33.gif" ContentType="image/gif"/>
  <Override PartName="/ppt/media/image8.gif" ContentType="image/gif"/>
  <Override PartName="/ppt/media/image38.jpeg" ContentType="image/jpeg"/>
  <Override PartName="/ppt/media/image35.gif" ContentType="image/gif"/>
  <Override PartName="/ppt/media/image40.png" ContentType="image/png"/>
  <Override PartName="/ppt/media/image37.gif" ContentType="image/gif"/>
  <Override PartName="/ppt/media/image41.jpeg" ContentType="image/jpeg"/>
  <Override PartName="/ppt/media/image43.png" ContentType="image/png"/>
  <Override PartName="/ppt/media/image45.png" ContentType="image/png"/>
  <Override PartName="/ppt/media/image10.png" ContentType="image/png"/>
  <Override PartName="/ppt/media/image34.gif" ContentType="image/gif"/>
  <Override PartName="/ppt/media/image39.gif" ContentType="image/gif"/>
  <Override PartName="/ppt/media/image9.gif" ContentType="image/gif"/>
  <Override PartName="/ppt/media/image46.gif" ContentType="image/gif"/>
  <Override PartName="/ppt/media/image11.gif" ContentType="image/gif"/>
  <Override PartName="/ppt/media/image12.png" ContentType="image/png"/>
  <Override PartName="/ppt/media/image44.gif" ContentType="image/gif"/>
  <Override PartName="/ppt/media/image7.png" ContentType="image/png"/>
  <Override PartName="/ppt/media/image27.gif" ContentType="image/gif"/>
  <Override PartName="/ppt/media/image6.gif" ContentType="image/gif"/>
  <Override PartName="/ppt/media/image36.gif" ContentType="image/gif"/>
  <Override PartName="/ppt/media/image5.png" ContentType="image/png"/>
  <Override PartName="/ppt/media/image42.jpeg" ContentType="image/jpeg"/>
  <Override PartName="/ppt/media/image2.gif" ContentType="image/gif"/>
  <Override PartName="/ppt/media/image3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615-8DF0-48C4-A133-AFE446C9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23C-5C6A-43CF-9509-FC341D9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25C-75E3-4D36-AB31-921927B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477-6BC1-41C3-A213-C433B4E5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42E-3462-463C-836A-1309E162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596E-404D-4496-8F3E-11F168F1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B2C-25E2-45DF-9027-DAD63857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7033-5213-4489-A69E-7F7089F3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2CED-C1C9-4087-B110-FEE44A7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EEF-8525-4791-85DB-80425C06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18EC-DDDA-491E-8499-02B5A68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BAC-4CFD-4358-835C-FCAEAE4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588-49ED-4181-8313-87CB845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D66A-690F-41B8-88BC-F3D09AB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F13-237A-4FFD-AFAE-F9135D5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297-AF0C-4934-A242-9AC54729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5F67-9A72-4495-956B-5D4A86EE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1824-E908-45B1-AB39-E5617998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94C4-D11D-4AF3-B6AF-7B6AD0F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C396-398C-4CD2-9695-F849973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A527-A42E-4A45-92DF-D2407FF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AC17-CD9B-4D28-A1A8-AA69443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337-53E0-476F-B589-2CEEAF9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E665-7440-4F25-8079-E9CF367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CCD9-EE85-4CFD-91FF-E1E6309A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0749-7EC2-4493-85F3-DFAD6C8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2981-3EFB-48EF-8A53-907FD92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FEEB-D58C-45AB-A3CD-F4639A6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F15C-EC12-42D0-86BF-2DF954FC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132D-F85E-42B8-95DC-8BCAB38C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DF1-0C02-4336-932E-0B9F1A7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24B-F23A-4B78-AD04-89F93E5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47C-707B-42A9-AA82-C267FB7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0CC-1173-4A67-B33A-E7650EA9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7CB-CFFB-4936-9F1B-CECDDDF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B77-09E1-4E77-9377-1FC6880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592-F33F-4B6C-9CEB-21517DABA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0_2f36b_eea00400_M.gif"/>
          <p:cNvPicPr/>
          <p:nvPr/>
        </p:nvPicPr>
        <p:blipFill>
          <a:blip r:embed="rId3"/>
          <a:stretch/>
        </p:blipFill>
        <p:spPr>
          <a:xfrm>
            <a:off x="428760" y="428760"/>
            <a:ext cx="2835000" cy="25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62771800_1281938811_TheEscapingSmuggler.png"/>
          <p:cNvPicPr/>
          <p:nvPr/>
        </p:nvPicPr>
        <p:blipFill>
          <a:blip r:embed="rId2"/>
          <a:srcRect l="29130" t="0" r="0" b="0"/>
          <a:stretch/>
        </p:blipFill>
        <p:spPr>
          <a:xfrm>
            <a:off x="0" y="0"/>
            <a:ext cx="4172040" cy="384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55E-F187-4CAE-9AD9-95911CFF9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Безымянный.gif"/>
          <p:cNvPicPr/>
          <p:nvPr/>
        </p:nvPicPr>
        <p:blipFill>
          <a:blip r:embed="rId2"/>
          <a:stretch/>
        </p:blipFill>
        <p:spPr>
          <a:xfrm>
            <a:off x="6504120" y="4214880"/>
            <a:ext cx="2425680" cy="240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18B-0C99-45F3-B58C-78EE93929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2.gif"/><Relationship Id="rId10" Type="http://schemas.openxmlformats.org/officeDocument/2006/relationships/image" Target="../media/image33.gif"/><Relationship Id="rId11" Type="http://schemas.openxmlformats.org/officeDocument/2006/relationships/image" Target="../media/image34.gif"/><Relationship Id="rId12" Type="http://schemas.openxmlformats.org/officeDocument/2006/relationships/image" Target="../media/image35.gif"/><Relationship Id="rId13" Type="http://schemas.openxmlformats.org/officeDocument/2006/relationships/image" Target="../media/image36.gif"/><Relationship Id="rId14" Type="http://schemas.openxmlformats.org/officeDocument/2006/relationships/image" Target="../media/image37.gif"/><Relationship Id="rId15" Type="http://schemas.openxmlformats.org/officeDocument/2006/relationships/image" Target="../media/image8.gi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3133800" y="-55440"/>
            <a:ext cx="5724360" cy="203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еография сегод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0_79ec8_c0157c62_XS.gif"/>
          <p:cNvPicPr/>
          <p:nvPr/>
        </p:nvPicPr>
        <p:blipFill>
          <a:blip r:embed="rId2"/>
          <a:stretch/>
        </p:blipFill>
        <p:spPr>
          <a:xfrm>
            <a:off x="2928960" y="235728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0_79ee2_63292349_XS.gif"/>
          <p:cNvPicPr/>
          <p:nvPr/>
        </p:nvPicPr>
        <p:blipFill>
          <a:blip r:embed="rId3"/>
          <a:stretch/>
        </p:blipFill>
        <p:spPr>
          <a:xfrm>
            <a:off x="2852640" y="-6480"/>
            <a:ext cx="963720" cy="841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0_79ee6_263c1a49_XS.gif"/>
          <p:cNvPicPr/>
          <p:nvPr/>
        </p:nvPicPr>
        <p:blipFill>
          <a:blip r:embed="rId4"/>
          <a:stretch/>
        </p:blipFill>
        <p:spPr>
          <a:xfrm>
            <a:off x="214200" y="1928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алее, рассматривая схему на с. 17 учебника, учащиеся знакомятся с источниками географической информации. Выясняют, какие источники географической информации имеются в кабинете географии, до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Рисунок 2" descr="школьная.jpg"/>
          <p:cNvPicPr/>
          <p:nvPr/>
        </p:nvPicPr>
        <p:blipFill>
          <a:blip r:embed="rId1"/>
          <a:stretch/>
        </p:blipFill>
        <p:spPr>
          <a:xfrm>
            <a:off x="5810400" y="2286000"/>
            <a:ext cx="3333600" cy="33433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3" descr="a3c61faf5dab61a0f2a0fc84e6a13ca7.gif"/>
          <p:cNvPicPr/>
          <p:nvPr/>
        </p:nvPicPr>
        <p:blipFill>
          <a:blip r:embed="rId2"/>
          <a:stretch/>
        </p:blipFill>
        <p:spPr>
          <a:xfrm>
            <a:off x="0" y="57168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1048_globe_placed_next_to_a_book.jpg"/>
          <p:cNvPicPr/>
          <p:nvPr/>
        </p:nvPicPr>
        <p:blipFill>
          <a:blip r:embed="rId3"/>
          <a:stretch/>
        </p:blipFill>
        <p:spPr>
          <a:xfrm>
            <a:off x="4572000" y="3143160"/>
            <a:ext cx="1068480" cy="920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1-Porhov-202.JPG"/>
          <p:cNvPicPr/>
          <p:nvPr/>
        </p:nvPicPr>
        <p:blipFill>
          <a:blip r:embed="rId4"/>
          <a:stretch/>
        </p:blipFill>
        <p:spPr>
          <a:xfrm>
            <a:off x="4286160" y="5040360"/>
            <a:ext cx="2428920" cy="181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2162523.jpg"/>
          <p:cNvPicPr/>
          <p:nvPr/>
        </p:nvPicPr>
        <p:blipFill>
          <a:blip r:embed="rId5"/>
          <a:stretch/>
        </p:blipFill>
        <p:spPr>
          <a:xfrm>
            <a:off x="0" y="2714760"/>
            <a:ext cx="4500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Самостоятельно заполнить новую схе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71720" y="2857680"/>
            <a:ext cx="7215120" cy="2209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81" name="Стрелка вниз 3"/>
          <p:cNvSpPr/>
          <p:nvPr/>
        </p:nvSpPr>
        <p:spPr>
          <a:xfrm>
            <a:off x="235728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низ 4"/>
          <p:cNvSpPr/>
          <p:nvPr/>
        </p:nvSpPr>
        <p:spPr>
          <a:xfrm>
            <a:off x="6572160" y="5214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. Изучить § 3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. Ответить на вопросы 1—6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3. Выполнить задания 7, 8 (по выбору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Содержимое 7" descr="77693795.gif"/>
          <p:cNvPicPr/>
          <p:nvPr/>
        </p:nvPicPr>
        <p:blipFill>
          <a:blip r:embed="rId1"/>
          <a:stretch/>
        </p:blipFill>
        <p:spPr>
          <a:xfrm>
            <a:off x="4327560" y="2714760"/>
            <a:ext cx="1936800" cy="2071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7072200" y="26431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2" descr="0_79ee7_38c93a5b_S.gif"/>
          <p:cNvPicPr/>
          <p:nvPr/>
        </p:nvPicPr>
        <p:blipFill>
          <a:blip r:embed="rId3"/>
          <a:stretch/>
        </p:blipFill>
        <p:spPr>
          <a:xfrm>
            <a:off x="500040" y="214200"/>
            <a:ext cx="924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857400"/>
            <a:ext cx="297180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57760" y="1600200"/>
            <a:ext cx="528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как и с помощью каких способов изучают Землю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казать связь географии с практической деятельностью челове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ыяснить, где можно получить информацию о любой точке Зем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28600" y="272520"/>
            <a:ext cx="6000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аковы были представления о Земле у людей в древнос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 Как люди представляли землю в Средние ве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3. Когда и почему наступила эпоха Великих географических открыт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4. Какое значение имели путешествия X. Колумба и Ф. Магеллан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. Каков вклад русских ученых и путешественников в освоение Зем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30081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7" descr="5+.gif"/>
          <p:cNvPicPr/>
          <p:nvPr/>
        </p:nvPicPr>
        <p:blipFill>
          <a:blip r:embed="rId1"/>
          <a:stretch/>
        </p:blipFill>
        <p:spPr>
          <a:xfrm>
            <a:off x="571680" y="3143160"/>
            <a:ext cx="2100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71520" y="428400"/>
            <a:ext cx="6072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ткрыть § 3 на с. 16 учебника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выяснить, какие вопросы будут обсуждаться на уроке. Далее путем комментированного чтения учащиеся выясняют, какие исследования необходимы человеку в наше время. Учащимся предлагается установить, какова роль исследований в развитии географической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7" descr="77905999_35.gif"/>
          <p:cNvPicPr/>
          <p:nvPr/>
        </p:nvPicPr>
        <p:blipFill>
          <a:blip r:embed="rId1"/>
          <a:stretch/>
        </p:blipFill>
        <p:spPr>
          <a:xfrm>
            <a:off x="357120" y="2957400"/>
            <a:ext cx="27860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857680" y="2174400"/>
            <a:ext cx="6000480" cy="33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егодня человечеству необходимо непрерывное наблюдение за земной поверхность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6" descr="56r4.gif"/>
          <p:cNvPicPr/>
          <p:nvPr/>
        </p:nvPicPr>
        <p:blipFill>
          <a:blip r:embed="rId1"/>
          <a:stretch/>
        </p:blipFill>
        <p:spPr>
          <a:xfrm>
            <a:off x="357120" y="507204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алее учащиеся выясняют, как сегодня собирают информацию о Земле. На основе текста учебника и рассказа учителя они составляют сх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7020000" cy="3585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Исследование земной поверхности осуществляется различными способ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572160" y="2857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85840" y="4983120"/>
            <a:ext cx="300024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6500880" y="478620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568440" y="3071880"/>
            <a:ext cx="2398680" cy="157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5000760" y="1285920"/>
            <a:ext cx="2119320" cy="1589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143240" y="52862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2857680" y="14288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8"/>
          <a:stretch/>
        </p:blipFill>
        <p:spPr>
          <a:xfrm>
            <a:off x="7215120" y="928800"/>
            <a:ext cx="1714680" cy="1276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0" descr="375277958.gif"/>
          <p:cNvPicPr/>
          <p:nvPr/>
        </p:nvPicPr>
        <p:blipFill>
          <a:blip r:embed="rId9"/>
          <a:stretch/>
        </p:blipFill>
        <p:spPr>
          <a:xfrm>
            <a:off x="3357720" y="2928960"/>
            <a:ext cx="2857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0_79ece_33522223_S.gif"/>
          <p:cNvPicPr/>
          <p:nvPr/>
        </p:nvPicPr>
        <p:blipFill>
          <a:blip r:embed="rId2"/>
          <a:stretch/>
        </p:blipFill>
        <p:spPr>
          <a:xfrm>
            <a:off x="79200" y="2219400"/>
            <a:ext cx="3564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лово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навигация»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переводе с латинского языка означае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«плыву на судне». Навигаци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— это наука о способах выбора пути и методах хождения судов, летательных и космических аппаратов. Ее задача — нахождение оптимального маршрута (траектории), определение местонахождения, направления и значения скорости и других параметров движения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15" descr="0_79ec1_d376068c_M.gif"/>
          <p:cNvPicPr/>
          <p:nvPr/>
        </p:nvPicPr>
        <p:blipFill>
          <a:blip r:embed="rId1"/>
          <a:stretch/>
        </p:blipFill>
        <p:spPr>
          <a:xfrm>
            <a:off x="5857920" y="5372280"/>
            <a:ext cx="1057320" cy="14857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0_79ed0_9269a7f1_S.gif"/>
          <p:cNvPicPr/>
          <p:nvPr/>
        </p:nvPicPr>
        <p:blipFill>
          <a:blip r:embed="rId2"/>
          <a:stretch/>
        </p:blipFill>
        <p:spPr>
          <a:xfrm>
            <a:off x="5572080" y="371484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7" descr="0_79edb_cfd989ed_S.gif"/>
          <p:cNvPicPr/>
          <p:nvPr/>
        </p:nvPicPr>
        <p:blipFill>
          <a:blip r:embed="rId3"/>
          <a:stretch/>
        </p:blipFill>
        <p:spPr>
          <a:xfrm>
            <a:off x="2000160" y="5929200"/>
            <a:ext cx="1047960" cy="723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8" descr="0_79edd_3563e48e_S.gif"/>
          <p:cNvPicPr/>
          <p:nvPr/>
        </p:nvPicPr>
        <p:blipFill>
          <a:blip r:embed="rId4"/>
          <a:stretch/>
        </p:blipFill>
        <p:spPr>
          <a:xfrm>
            <a:off x="7924680" y="1714680"/>
            <a:ext cx="1219320" cy="952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9" descr="0_79edf_d6d0f442_M.gif"/>
          <p:cNvPicPr/>
          <p:nvPr/>
        </p:nvPicPr>
        <p:blipFill>
          <a:blip r:embed="rId5"/>
          <a:stretch/>
        </p:blipFill>
        <p:spPr>
          <a:xfrm>
            <a:off x="3071880" y="3786120"/>
            <a:ext cx="2095560" cy="809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0_79ebc_a5b61b04_S.gif"/>
          <p:cNvPicPr/>
          <p:nvPr/>
        </p:nvPicPr>
        <p:blipFill>
          <a:blip r:embed="rId6"/>
          <a:stretch/>
        </p:blipFill>
        <p:spPr>
          <a:xfrm>
            <a:off x="7286760" y="321480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1" descr="0_79ebd_b4402f9c_M.gif"/>
          <p:cNvPicPr/>
          <p:nvPr/>
        </p:nvPicPr>
        <p:blipFill>
          <a:blip r:embed="rId7"/>
          <a:stretch/>
        </p:blipFill>
        <p:spPr>
          <a:xfrm>
            <a:off x="1214280" y="371484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0_79ee4_ccf1b30f_M.gif"/>
          <p:cNvPicPr/>
          <p:nvPr/>
        </p:nvPicPr>
        <p:blipFill>
          <a:blip r:embed="rId8"/>
          <a:stretch/>
        </p:blipFill>
        <p:spPr>
          <a:xfrm>
            <a:off x="4572000" y="4857840"/>
            <a:ext cx="146700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3" descr="0_79eef_750cda4c_S.gif"/>
          <p:cNvPicPr/>
          <p:nvPr/>
        </p:nvPicPr>
        <p:blipFill>
          <a:blip r:embed="rId9"/>
          <a:stretch/>
        </p:blipFill>
        <p:spPr>
          <a:xfrm>
            <a:off x="285840" y="3071880"/>
            <a:ext cx="1009440" cy="780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4" descr="0_79eff_e3eff635_M.gif"/>
          <p:cNvPicPr/>
          <p:nvPr/>
        </p:nvPicPr>
        <p:blipFill>
          <a:blip r:embed="rId10"/>
          <a:stretch/>
        </p:blipFill>
        <p:spPr>
          <a:xfrm>
            <a:off x="7215120" y="5072040"/>
            <a:ext cx="1647720" cy="942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5" descr="0_79ef7_20bafcbd_XS.gif"/>
          <p:cNvPicPr/>
          <p:nvPr/>
        </p:nvPicPr>
        <p:blipFill>
          <a:blip r:embed="rId11"/>
          <a:stretch/>
        </p:blipFill>
        <p:spPr>
          <a:xfrm>
            <a:off x="357120" y="4000680"/>
            <a:ext cx="762120" cy="637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6" descr="0_79efb_d7ebd04e_M.gif"/>
          <p:cNvPicPr/>
          <p:nvPr/>
        </p:nvPicPr>
        <p:blipFill>
          <a:blip r:embed="rId12"/>
          <a:stretch/>
        </p:blipFill>
        <p:spPr>
          <a:xfrm>
            <a:off x="3071880" y="5286240"/>
            <a:ext cx="1819080" cy="9716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7" descr="0_79f05_7e3c0ce8_S.gif"/>
          <p:cNvPicPr/>
          <p:nvPr/>
        </p:nvPicPr>
        <p:blipFill>
          <a:blip r:embed="rId13"/>
          <a:stretch/>
        </p:blipFill>
        <p:spPr>
          <a:xfrm>
            <a:off x="0" y="552456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8" descr="0_79f0f_b326750e_S.gif"/>
          <p:cNvPicPr/>
          <p:nvPr/>
        </p:nvPicPr>
        <p:blipFill>
          <a:blip r:embed="rId14"/>
          <a:stretch/>
        </p:blipFill>
        <p:spPr>
          <a:xfrm>
            <a:off x="642960" y="4929120"/>
            <a:ext cx="1266840" cy="743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9" descr="0_79ee6_263c1a49_XS.gif"/>
          <p:cNvPicPr/>
          <p:nvPr/>
        </p:nvPicPr>
        <p:blipFill>
          <a:blip r:embed="rId15"/>
          <a:stretch/>
        </p:blipFill>
        <p:spPr>
          <a:xfrm>
            <a:off x="214200" y="20001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52:21Z</dcterms:created>
  <dc:creator>Дмитрий</dc:creator>
  <dc:description/>
  <dc:language>en-US</dc:language>
  <cp:lastModifiedBy>Admin</cp:lastModifiedBy>
  <dcterms:modified xsi:type="dcterms:W3CDTF">2012-09-14T08:14:30Z</dcterms:modified>
  <cp:revision>76</cp:revision>
  <dc:subject/>
  <dc:title>Слайд 1</dc:title>
</cp:coreProperties>
</file>