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gif" ContentType="image/gif"/>
  <Override PartName="/ppt/media/image19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21.gif" ContentType="image/gif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30.gif" ContentType="image/gif"/>
  <Override PartName="/ppt/media/image31.gif" ContentType="image/gif"/>
  <Override PartName="/ppt/media/image29.gif" ContentType="image/gif"/>
  <Override PartName="/ppt/media/image13.png" ContentType="image/png"/>
  <Override PartName="/ppt/media/image33.gif" ContentType="image/gif"/>
  <Override PartName="/ppt/media/image8.gif" ContentType="image/gif"/>
  <Override PartName="/ppt/media/image38.jpeg" ContentType="image/jpeg"/>
  <Override PartName="/ppt/media/image35.gif" ContentType="image/gif"/>
  <Override PartName="/ppt/media/image40.png" ContentType="image/png"/>
  <Override PartName="/ppt/media/image37.gif" ContentType="image/gif"/>
  <Override PartName="/ppt/media/image41.jpeg" ContentType="image/jpeg"/>
  <Override PartName="/ppt/media/image43.png" ContentType="image/png"/>
  <Override PartName="/ppt/media/image45.png" ContentType="image/png"/>
  <Override PartName="/ppt/media/image10.png" ContentType="image/png"/>
  <Override PartName="/ppt/media/image34.gif" ContentType="image/gif"/>
  <Override PartName="/ppt/media/image39.gif" ContentType="image/gif"/>
  <Override PartName="/ppt/media/image9.gif" ContentType="image/gif"/>
  <Override PartName="/ppt/media/image46.gif" ContentType="image/gif"/>
  <Override PartName="/ppt/media/image11.gif" ContentType="image/gif"/>
  <Override PartName="/ppt/media/image12.png" ContentType="image/png"/>
  <Override PartName="/ppt/media/image44.gif" ContentType="image/gif"/>
  <Override PartName="/ppt/media/image7.png" ContentType="image/png"/>
  <Override PartName="/ppt/media/image27.gif" ContentType="image/gif"/>
  <Override PartName="/ppt/media/image6.gif" ContentType="image/gif"/>
  <Override PartName="/ppt/media/image36.gif" ContentType="image/gif"/>
  <Override PartName="/ppt/media/image5.png" ContentType="image/png"/>
  <Override PartName="/ppt/media/image42.jpeg" ContentType="image/jpeg"/>
  <Override PartName="/ppt/media/image2.gif" ContentType="image/gif"/>
  <Override PartName="/ppt/media/image3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230-3964-4EE2-BAE5-9B2E9483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3F3-C0B1-49BF-852C-FCE60CE0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208-DDFA-4B38-97CE-4E556213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E98-D933-4F11-8535-14368765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D911-8737-4906-91C2-E9C645BE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F8CD-2D83-41D6-8DFB-83A0FD22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4A6B-9B7E-4211-9DF6-D43FD635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41B5-93F7-4188-9AE1-9CD22469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BA4F-CBB2-4213-92EA-3F2648BA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87D6-488F-4AE7-B4BF-E431E634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4F50-E2CD-4E4A-B54B-2D2BDD28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F3D-35F0-4157-8FA4-1550FF6D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3F16-0F42-49A2-80AD-3C426653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478D-9B53-4075-B00B-2A0C7575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D4CA-A7A2-4318-8B4E-98CB819A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3196-5C61-40A6-9714-2B23885F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5C3D-62E2-4A63-B26E-1FD62B88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4DCD5-E7E9-49FE-ABB2-CFD15710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CB408-A68B-438F-B679-D0502DF6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D23DE-3BE2-4851-88A4-DF3E3F1A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6EE2-3B3A-4A7B-A071-F5AF6EE6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A306-CA5F-4898-8199-6FFDA813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F28-5A32-44D9-98B7-35CEA763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8B434-73F5-422D-994D-AFD75984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B97BA-AA81-497E-BAA6-E9C6DED4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DDB1E-60A1-4288-AC29-3C4D23E1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5E27-FE48-41CA-8414-21B4A7FD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8EE6-494D-4936-9E23-2055FDB8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B311-9AD8-4D9A-836F-B9798DE0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748B-3D53-4F15-8690-C85894BB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5BA-9D34-4D59-97AB-B9504ADF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A8A-3305-440D-9616-E1FA253C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187-0B2F-42BB-AEB8-2F89DA1A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9B4-8B54-4F03-B7FD-AFACC8C6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20C-BB0E-4E1A-ACB5-6460665D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33A-D664-4903-AEFD-CE59F141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C209-5F73-4A1D-A0BE-B4E50CC9A9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0_2f36b_eea00400_M.gif"/>
          <p:cNvPicPr/>
          <p:nvPr/>
        </p:nvPicPr>
        <p:blipFill>
          <a:blip r:embed="rId3"/>
          <a:stretch/>
        </p:blipFill>
        <p:spPr>
          <a:xfrm>
            <a:off x="428760" y="428760"/>
            <a:ext cx="2835000" cy="25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62771800_1281938811_TheEscapingSmuggler.png"/>
          <p:cNvPicPr/>
          <p:nvPr/>
        </p:nvPicPr>
        <p:blipFill>
          <a:blip r:embed="rId2"/>
          <a:srcRect l="29130" t="0" r="0" b="0"/>
          <a:stretch/>
        </p:blipFill>
        <p:spPr>
          <a:xfrm>
            <a:off x="0" y="0"/>
            <a:ext cx="4172040" cy="3848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EA39-AF07-4E7A-9834-07CBCB151E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7" descr="Безымянный.gif"/>
          <p:cNvPicPr/>
          <p:nvPr/>
        </p:nvPicPr>
        <p:blipFill>
          <a:blip r:embed="rId2"/>
          <a:stretch/>
        </p:blipFill>
        <p:spPr>
          <a:xfrm>
            <a:off x="6504120" y="4214880"/>
            <a:ext cx="2425680" cy="240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D8DF-EEBD-4696-B552-E959338DBE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png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2.gif"/><Relationship Id="rId10" Type="http://schemas.openxmlformats.org/officeDocument/2006/relationships/image" Target="../media/image33.gif"/><Relationship Id="rId11" Type="http://schemas.openxmlformats.org/officeDocument/2006/relationships/image" Target="../media/image34.gif"/><Relationship Id="rId12" Type="http://schemas.openxmlformats.org/officeDocument/2006/relationships/image" Target="../media/image35.gif"/><Relationship Id="rId13" Type="http://schemas.openxmlformats.org/officeDocument/2006/relationships/image" Target="../media/image36.gif"/><Relationship Id="rId14" Type="http://schemas.openxmlformats.org/officeDocument/2006/relationships/image" Target="../media/image37.gif"/><Relationship Id="rId15" Type="http://schemas.openxmlformats.org/officeDocument/2006/relationships/image" Target="../media/image8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3133800" y="-55440"/>
            <a:ext cx="5724360" cy="2030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География сегод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0_79ec8_c0157c62_XS.gif"/>
          <p:cNvPicPr/>
          <p:nvPr/>
        </p:nvPicPr>
        <p:blipFill>
          <a:blip r:embed="rId2"/>
          <a:stretch/>
        </p:blipFill>
        <p:spPr>
          <a:xfrm>
            <a:off x="2928960" y="235728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0_79ee2_63292349_XS.gif"/>
          <p:cNvPicPr/>
          <p:nvPr/>
        </p:nvPicPr>
        <p:blipFill>
          <a:blip r:embed="rId3"/>
          <a:stretch/>
        </p:blipFill>
        <p:spPr>
          <a:xfrm>
            <a:off x="2852640" y="-6480"/>
            <a:ext cx="963720" cy="8416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0_79ee6_263c1a49_XS.gif"/>
          <p:cNvPicPr/>
          <p:nvPr/>
        </p:nvPicPr>
        <p:blipFill>
          <a:blip r:embed="rId4"/>
          <a:stretch/>
        </p:blipFill>
        <p:spPr>
          <a:xfrm>
            <a:off x="214200" y="1928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7868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алее, рассматривая схему на с. 17 учебника, учащиеся знакомятся с источниками географической информации. Выясняют, какие источники географической информации имеются в кабинете географии, до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Рисунок 2" descr="школьная.jpg"/>
          <p:cNvPicPr/>
          <p:nvPr/>
        </p:nvPicPr>
        <p:blipFill>
          <a:blip r:embed="rId1"/>
          <a:stretch/>
        </p:blipFill>
        <p:spPr>
          <a:xfrm>
            <a:off x="5810400" y="2286000"/>
            <a:ext cx="3333600" cy="33433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3" descr="a3c61faf5dab61a0f2a0fc84e6a13ca7.gif"/>
          <p:cNvPicPr/>
          <p:nvPr/>
        </p:nvPicPr>
        <p:blipFill>
          <a:blip r:embed="rId2"/>
          <a:stretch/>
        </p:blipFill>
        <p:spPr>
          <a:xfrm>
            <a:off x="0" y="571680"/>
            <a:ext cx="1428840" cy="17334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1048_globe_placed_next_to_a_book.jpg"/>
          <p:cNvPicPr/>
          <p:nvPr/>
        </p:nvPicPr>
        <p:blipFill>
          <a:blip r:embed="rId3"/>
          <a:stretch/>
        </p:blipFill>
        <p:spPr>
          <a:xfrm>
            <a:off x="4572000" y="3143160"/>
            <a:ext cx="1068480" cy="920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1-Porhov-202.JPG"/>
          <p:cNvPicPr/>
          <p:nvPr/>
        </p:nvPicPr>
        <p:blipFill>
          <a:blip r:embed="rId4"/>
          <a:stretch/>
        </p:blipFill>
        <p:spPr>
          <a:xfrm>
            <a:off x="4286160" y="5040360"/>
            <a:ext cx="2428920" cy="181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7" descr="2162523.jpg"/>
          <p:cNvPicPr/>
          <p:nvPr/>
        </p:nvPicPr>
        <p:blipFill>
          <a:blip r:embed="rId5"/>
          <a:stretch/>
        </p:blipFill>
        <p:spPr>
          <a:xfrm>
            <a:off x="0" y="2714760"/>
            <a:ext cx="45007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Самостоятельно заполнить новую схе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71720" y="2857680"/>
            <a:ext cx="7215120" cy="2209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81" name="Стрелка вниз 3"/>
          <p:cNvSpPr/>
          <p:nvPr/>
        </p:nvSpPr>
        <p:spPr>
          <a:xfrm>
            <a:off x="2357280" y="52149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трелка вниз 4"/>
          <p:cNvSpPr/>
          <p:nvPr/>
        </p:nvSpPr>
        <p:spPr>
          <a:xfrm>
            <a:off x="6572160" y="52149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. Изучить § 3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2. Ответить на вопросы 1—6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3. Выполнить задания 7, 8 (по выбору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Содержимое 7" descr="77693795.gif"/>
          <p:cNvPicPr/>
          <p:nvPr/>
        </p:nvPicPr>
        <p:blipFill>
          <a:blip r:embed="rId1"/>
          <a:stretch/>
        </p:blipFill>
        <p:spPr>
          <a:xfrm>
            <a:off x="4327560" y="2714760"/>
            <a:ext cx="1936800" cy="2071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7072200" y="26431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2" descr="0_79ee7_38c93a5b_S.gif"/>
          <p:cNvPicPr/>
          <p:nvPr/>
        </p:nvPicPr>
        <p:blipFill>
          <a:blip r:embed="rId3"/>
          <a:stretch/>
        </p:blipFill>
        <p:spPr>
          <a:xfrm>
            <a:off x="500040" y="214200"/>
            <a:ext cx="924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3857400"/>
            <a:ext cx="29718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57760" y="1600200"/>
            <a:ext cx="528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•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ыяснить, как и с помощью каких способов изучают Землю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казать связь географии с практической деятельностью человек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ыяснить, где можно получить информацию о любой точке Зем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928600" y="272520"/>
            <a:ext cx="60008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. Каковы были представления о Земле у людей в древност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 Как люди представляли землю в Средние век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. Когда и почему наступила эпоха Великих географических открыт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. Какое значение имели путешествия X. Колумба и Ф. Магеллан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. Каков вклад русских ученых и путешественников в освоение Зем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30081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7" descr="5+.gif"/>
          <p:cNvPicPr/>
          <p:nvPr/>
        </p:nvPicPr>
        <p:blipFill>
          <a:blip r:embed="rId1"/>
          <a:stretch/>
        </p:blipFill>
        <p:spPr>
          <a:xfrm>
            <a:off x="571680" y="3143160"/>
            <a:ext cx="21002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71520" y="428400"/>
            <a:ext cx="60721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ткрыть § 3 на с. 16 учебника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 выяснить, какие вопросы будут обсуждаться на уроке. Далее путем комментированного чтения учащиеся выясняют, какие исследования необходимы человеку в наше время. Учащимся предлагается установить, какова роль исследований в развитии географической на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7" descr="77905999_35.gif"/>
          <p:cNvPicPr/>
          <p:nvPr/>
        </p:nvPicPr>
        <p:blipFill>
          <a:blip r:embed="rId1"/>
          <a:stretch/>
        </p:blipFill>
        <p:spPr>
          <a:xfrm>
            <a:off x="357120" y="2957400"/>
            <a:ext cx="27860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857680" y="2174400"/>
            <a:ext cx="6000480" cy="33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егодня человечеству необходимо непрерывное наблюдение за земной поверхность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6" descr="56r4.gif"/>
          <p:cNvPicPr/>
          <p:nvPr/>
        </p:nvPicPr>
        <p:blipFill>
          <a:blip r:embed="rId1"/>
          <a:stretch/>
        </p:blipFill>
        <p:spPr>
          <a:xfrm>
            <a:off x="357120" y="5072040"/>
            <a:ext cx="1357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алее учащиеся выясняют, как сегодня собирают информацию о Земле. На основе текста учебника и рассказа учителя они составляют схе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214280" y="2857680"/>
            <a:ext cx="7020000" cy="35859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Исследование земной поверхности осуществляется различными способ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572160" y="28576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85840" y="4983120"/>
            <a:ext cx="3000240" cy="1874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6500880" y="478620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568440" y="3071880"/>
            <a:ext cx="2398680" cy="1571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5"/>
          <a:stretch/>
        </p:blipFill>
        <p:spPr>
          <a:xfrm>
            <a:off x="5000760" y="1285920"/>
            <a:ext cx="2119320" cy="1589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6"/>
          <a:stretch/>
        </p:blipFill>
        <p:spPr>
          <a:xfrm>
            <a:off x="4143240" y="528624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2857680" y="14288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8"/>
          <a:stretch/>
        </p:blipFill>
        <p:spPr>
          <a:xfrm>
            <a:off x="7215120" y="928800"/>
            <a:ext cx="1714680" cy="1276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0" descr="375277958.gif"/>
          <p:cNvPicPr/>
          <p:nvPr/>
        </p:nvPicPr>
        <p:blipFill>
          <a:blip r:embed="rId9"/>
          <a:stretch/>
        </p:blipFill>
        <p:spPr>
          <a:xfrm>
            <a:off x="3357720" y="2928960"/>
            <a:ext cx="28573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" descr="0_79ece_33522223_S.gif"/>
          <p:cNvPicPr/>
          <p:nvPr/>
        </p:nvPicPr>
        <p:blipFill>
          <a:blip r:embed="rId2"/>
          <a:stretch/>
        </p:blipFill>
        <p:spPr>
          <a:xfrm>
            <a:off x="79200" y="2219400"/>
            <a:ext cx="35640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лово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«навигация»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переводе с латинского языка означает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«плыву на судне». Навигаци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— это наука о способах выбора пути и методах хождения судов, летательных и космических аппаратов. Ее задача — нахождение оптимального маршрута (траектории), определение местонахождения, направления и значения скорости и других параметров движения объе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15" descr="0_79ec1_d376068c_M.gif"/>
          <p:cNvPicPr/>
          <p:nvPr/>
        </p:nvPicPr>
        <p:blipFill>
          <a:blip r:embed="rId1"/>
          <a:stretch/>
        </p:blipFill>
        <p:spPr>
          <a:xfrm>
            <a:off x="5857920" y="5372280"/>
            <a:ext cx="1057320" cy="14857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6" descr="0_79ed0_9269a7f1_S.gif"/>
          <p:cNvPicPr/>
          <p:nvPr/>
        </p:nvPicPr>
        <p:blipFill>
          <a:blip r:embed="rId2"/>
          <a:stretch/>
        </p:blipFill>
        <p:spPr>
          <a:xfrm>
            <a:off x="5572080" y="371484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7" descr="0_79edb_cfd989ed_S.gif"/>
          <p:cNvPicPr/>
          <p:nvPr/>
        </p:nvPicPr>
        <p:blipFill>
          <a:blip r:embed="rId3"/>
          <a:stretch/>
        </p:blipFill>
        <p:spPr>
          <a:xfrm>
            <a:off x="2000160" y="5929200"/>
            <a:ext cx="1047960" cy="7239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8" descr="0_79edd_3563e48e_S.gif"/>
          <p:cNvPicPr/>
          <p:nvPr/>
        </p:nvPicPr>
        <p:blipFill>
          <a:blip r:embed="rId4"/>
          <a:stretch/>
        </p:blipFill>
        <p:spPr>
          <a:xfrm>
            <a:off x="7924680" y="1714680"/>
            <a:ext cx="1219320" cy="9522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9" descr="0_79edf_d6d0f442_M.gif"/>
          <p:cNvPicPr/>
          <p:nvPr/>
        </p:nvPicPr>
        <p:blipFill>
          <a:blip r:embed="rId5"/>
          <a:stretch/>
        </p:blipFill>
        <p:spPr>
          <a:xfrm>
            <a:off x="3071880" y="3786120"/>
            <a:ext cx="2095560" cy="8096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0" descr="0_79ebc_a5b61b04_S.gif"/>
          <p:cNvPicPr/>
          <p:nvPr/>
        </p:nvPicPr>
        <p:blipFill>
          <a:blip r:embed="rId6"/>
          <a:stretch/>
        </p:blipFill>
        <p:spPr>
          <a:xfrm>
            <a:off x="7286760" y="3214800"/>
            <a:ext cx="141912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21" descr="0_79ebd_b4402f9c_M.gif"/>
          <p:cNvPicPr/>
          <p:nvPr/>
        </p:nvPicPr>
        <p:blipFill>
          <a:blip r:embed="rId7"/>
          <a:stretch/>
        </p:blipFill>
        <p:spPr>
          <a:xfrm>
            <a:off x="1214280" y="3714840"/>
            <a:ext cx="1905120" cy="17240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0_79ee4_ccf1b30f_M.gif"/>
          <p:cNvPicPr/>
          <p:nvPr/>
        </p:nvPicPr>
        <p:blipFill>
          <a:blip r:embed="rId8"/>
          <a:stretch/>
        </p:blipFill>
        <p:spPr>
          <a:xfrm>
            <a:off x="4572000" y="4857840"/>
            <a:ext cx="1467000" cy="7333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3" descr="0_79eef_750cda4c_S.gif"/>
          <p:cNvPicPr/>
          <p:nvPr/>
        </p:nvPicPr>
        <p:blipFill>
          <a:blip r:embed="rId9"/>
          <a:stretch/>
        </p:blipFill>
        <p:spPr>
          <a:xfrm>
            <a:off x="285840" y="3071880"/>
            <a:ext cx="1009440" cy="780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24" descr="0_79eff_e3eff635_M.gif"/>
          <p:cNvPicPr/>
          <p:nvPr/>
        </p:nvPicPr>
        <p:blipFill>
          <a:blip r:embed="rId10"/>
          <a:stretch/>
        </p:blipFill>
        <p:spPr>
          <a:xfrm>
            <a:off x="7215120" y="5072040"/>
            <a:ext cx="1647720" cy="942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25" descr="0_79ef7_20bafcbd_XS.gif"/>
          <p:cNvPicPr/>
          <p:nvPr/>
        </p:nvPicPr>
        <p:blipFill>
          <a:blip r:embed="rId11"/>
          <a:stretch/>
        </p:blipFill>
        <p:spPr>
          <a:xfrm>
            <a:off x="357120" y="4000680"/>
            <a:ext cx="762120" cy="637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6" descr="0_79efb_d7ebd04e_M.gif"/>
          <p:cNvPicPr/>
          <p:nvPr/>
        </p:nvPicPr>
        <p:blipFill>
          <a:blip r:embed="rId12"/>
          <a:stretch/>
        </p:blipFill>
        <p:spPr>
          <a:xfrm>
            <a:off x="3071880" y="5286240"/>
            <a:ext cx="1819080" cy="971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7" descr="0_79f05_7e3c0ce8_S.gif"/>
          <p:cNvPicPr/>
          <p:nvPr/>
        </p:nvPicPr>
        <p:blipFill>
          <a:blip r:embed="rId13"/>
          <a:stretch/>
        </p:blipFill>
        <p:spPr>
          <a:xfrm>
            <a:off x="0" y="5524560"/>
            <a:ext cx="952560" cy="13334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8" descr="0_79f0f_b326750e_S.gif"/>
          <p:cNvPicPr/>
          <p:nvPr/>
        </p:nvPicPr>
        <p:blipFill>
          <a:blip r:embed="rId14"/>
          <a:stretch/>
        </p:blipFill>
        <p:spPr>
          <a:xfrm>
            <a:off x="642960" y="4929120"/>
            <a:ext cx="1266840" cy="7430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9" descr="0_79ee6_263c1a49_XS.gif"/>
          <p:cNvPicPr/>
          <p:nvPr/>
        </p:nvPicPr>
        <p:blipFill>
          <a:blip r:embed="rId15"/>
          <a:stretch/>
        </p:blipFill>
        <p:spPr>
          <a:xfrm>
            <a:off x="214200" y="20001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7:52:21Z</dcterms:created>
  <dc:creator>Дмитрий</dc:creator>
  <dc:description/>
  <dc:language>en-US</dc:language>
  <cp:lastModifiedBy>Admin</cp:lastModifiedBy>
  <dcterms:modified xsi:type="dcterms:W3CDTF">2012-09-14T08:14:30Z</dcterms:modified>
  <cp:revision>76</cp:revision>
  <dc:subject/>
  <dc:title>Слайд 1</dc:title>
</cp:coreProperties>
</file>