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35.jpeg" ContentType="image/jpeg"/>
  <Override PartName="/ppt/media/image8.png" ContentType="image/png"/>
  <Override PartName="/ppt/media/image33.png" ContentType="image/png"/>
  <Override PartName="/ppt/media/image28.png" ContentType="image/png"/>
  <Override PartName="/ppt/media/image5.gif" ContentType="image/gif"/>
  <Override PartName="/ppt/media/image14.jpeg" ContentType="image/jpeg"/>
  <Override PartName="/ppt/media/image22.jpeg" ContentType="image/jpeg"/>
  <Override PartName="/ppt/media/image7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27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87E-2F12-441E-84FE-7FD2B64F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5FC-0E4F-4F36-A680-4DF928F9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CC4-CD29-43C1-9687-1EDE3FFF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619-279E-414E-9FFF-6C893144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E73C-0400-4229-87EC-CFDCE663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7211-3631-42F5-A73B-C2456B0D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AF07-A0B6-41B5-85A8-FA7B2AFB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13E1-B9CB-48BA-9C3F-58A95089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7E6D-05B2-4EF1-9E86-54C6D799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CE47-E4FD-4824-BA28-AB60A69F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8975-CFD9-4A68-8CC2-5C910093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A78-74A1-49EE-9AB1-5310D72B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558B-3BE3-4D83-BFFB-C5C4628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34FB-B8BF-4F85-8886-D2C65AD7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5DC0-7814-479D-A50D-530FAEB2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F16F-3778-4B67-B668-C535A8B4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1AD7-7FD3-4CD2-86B4-C78EA355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E1C-19E8-4B3E-BCC4-B424FB85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47D-70A7-44D2-9CEE-737A483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6B1-D84E-4D60-B196-500E42B1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3AE-E500-4882-B34E-0BDD08A8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3B7-C51D-46F0-A07C-149D7AE6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E8E-8127-4F50-9104-FC0C7DB9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562-F695-4FDD-B7FB-885DED82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7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4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6720-21EC-41A7-BB5B-1703EBFFD25A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4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6" name="Rectangle 2"/>
            <p:cNvSpPr/>
            <p:nvPr/>
          </p:nvSpPr>
          <p:spPr>
            <a:xfrm>
              <a:off x="0" y="0"/>
              <a:ext cx="1465200" cy="68565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1573200"/>
              <a:ext cx="14605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Freeform 4"/>
            <p:cNvSpPr/>
            <p:nvPr/>
          </p:nvSpPr>
          <p:spPr>
            <a:xfrm>
              <a:off x="0" y="23760"/>
              <a:ext cx="1413000" cy="1454040"/>
            </a:xfrm>
            <a:prstGeom prst="pie">
              <a:avLst/>
            </a:pr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5"/>
            <p:cNvSpPr/>
            <p:nvPr/>
          </p:nvSpPr>
          <p:spPr>
            <a:xfrm>
              <a:off x="9360" y="3313080"/>
              <a:ext cx="1413000" cy="1454040"/>
            </a:xfrm>
            <a:prstGeom prst="pie">
              <a:avLst/>
            </a:pr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6"/>
            <p:cNvSpPr/>
            <p:nvPr/>
          </p:nvSpPr>
          <p:spPr>
            <a:xfrm>
              <a:off x="9360" y="5016600"/>
              <a:ext cx="1413000" cy="1454040"/>
            </a:xfrm>
            <a:prstGeom prst="pie">
              <a:avLst/>
            </a:pr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Group 13"/>
            <p:cNvGrpSpPr/>
            <p:nvPr/>
          </p:nvGrpSpPr>
          <p:grpSpPr>
            <a:xfrm>
              <a:off x="1576440" y="3079800"/>
              <a:ext cx="7566120" cy="189000"/>
              <a:chOff x="1576440" y="3079800"/>
              <a:chExt cx="7566120" cy="189000"/>
            </a:xfrm>
          </p:grpSpPr>
          <p:sp>
            <p:nvSpPr>
              <p:cNvPr id="62" name="Rectangle 7"/>
              <p:cNvSpPr/>
              <p:nvPr/>
            </p:nvSpPr>
            <p:spPr>
              <a:xfrm>
                <a:off x="1581120" y="309096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Line 8"/>
              <p:cNvSpPr/>
              <p:nvPr/>
            </p:nvSpPr>
            <p:spPr>
              <a:xfrm>
                <a:off x="1585800" y="32655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>
                <a:off x="1585800" y="32274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10"/>
              <p:cNvSpPr/>
              <p:nvPr/>
            </p:nvSpPr>
            <p:spPr>
              <a:xfrm>
                <a:off x="1585800" y="3179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11"/>
              <p:cNvSpPr/>
              <p:nvPr/>
            </p:nvSpPr>
            <p:spPr>
              <a:xfrm>
                <a:off x="1585800" y="3125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1576440" y="30798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D190-AA34-4D26-BF98-77D3B4EBFAF2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179a_shool36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1571760"/>
            <a:ext cx="1994040" cy="15001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10" name="Picture 2" descr="J:\Краеведение в школе\Вики-Владимир\Starostina T.V..jpg"/>
          <p:cNvPicPr/>
          <p:nvPr/>
        </p:nvPicPr>
        <p:blipFill>
          <a:blip r:embed="rId2"/>
          <a:stretch/>
        </p:blipFill>
        <p:spPr>
          <a:xfrm>
            <a:off x="4000680" y="1428840"/>
            <a:ext cx="4176360" cy="3130560"/>
          </a:xfrm>
          <a:prstGeom prst="rect">
            <a:avLst/>
          </a:prstGeom>
          <a:ln w="9360">
            <a:solidFill>
              <a:srgbClr val="e57300"/>
            </a:solidFill>
            <a:miter/>
          </a:ln>
        </p:spPr>
      </p:pic>
      <p:sp>
        <p:nvSpPr>
          <p:cNvPr id="111" name="Rectangle 3"/>
          <p:cNvSpPr/>
          <p:nvPr/>
        </p:nvSpPr>
        <p:spPr>
          <a:xfrm>
            <a:off x="3929040" y="486756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189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85840" y="428760"/>
            <a:ext cx="85723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Times New Roman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Times New Roman"/>
              </a:rPr>
              <a:t>средняя общеобразовательная школа  № 36</a:t>
            </a:r>
            <a:r>
              <a:rPr b="0" lang="en-US" sz="1800" spc="-1" strike="noStrike">
                <a:solidFill>
                  <a:srgbClr val="a50021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Times New Roman"/>
              </a:rPr>
              <a:t>г. Владими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1" descr="D:\КАРТИНКИ\Коллекция картинок1\j0285333.gif"/>
          <p:cNvPicPr/>
          <p:nvPr/>
        </p:nvPicPr>
        <p:blipFill>
          <a:blip r:embed="rId3"/>
          <a:stretch/>
        </p:blipFill>
        <p:spPr>
          <a:xfrm>
            <a:off x="2071800" y="364320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D:\ТАНЯ2\Рисунки с дисков\Г - 6 класс\Picts\c8_1.gif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308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15" name="Прямоугольник 5" descr=""/>
          <p:cNvPicPr/>
          <p:nvPr/>
        </p:nvPicPr>
        <p:blipFill>
          <a:blip r:embed="rId2"/>
          <a:stretch/>
        </p:blipFill>
        <p:spPr>
          <a:xfrm>
            <a:off x="128520" y="1268280"/>
            <a:ext cx="949176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Documents and Settings\Admin\Рабочий стол\Греция.BMP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1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2" descr="C:\Documents and Settings\Admin\Рабочий стол\s_596i.bmp"/>
          <p:cNvPicPr/>
          <p:nvPr/>
        </p:nvPicPr>
        <p:blipFill>
          <a:blip r:embed="rId2"/>
          <a:stretch/>
        </p:blipFill>
        <p:spPr>
          <a:xfrm>
            <a:off x="285840" y="214200"/>
            <a:ext cx="2786040" cy="2881440"/>
          </a:xfrm>
          <a:prstGeom prst="rect">
            <a:avLst/>
          </a:prstGeom>
          <a:ln w="0">
            <a:noFill/>
          </a:ln>
        </p:spPr>
      </p:pic>
      <p:sp>
        <p:nvSpPr>
          <p:cNvPr id="118" name="Стрелка вправо 4"/>
          <p:cNvSpPr/>
          <p:nvPr/>
        </p:nvSpPr>
        <p:spPr>
          <a:xfrm>
            <a:off x="2428920" y="3286080"/>
            <a:ext cx="1643040" cy="7858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25560">
            <a:solidFill>
              <a:srgbClr val="bc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C:\Documents and Settings\Admin\Рабочий стол\a104.jpg"/>
          <p:cNvPicPr/>
          <p:nvPr/>
        </p:nvPicPr>
        <p:blipFill>
          <a:blip r:embed="rId3"/>
          <a:stretch/>
        </p:blipFill>
        <p:spPr>
          <a:xfrm>
            <a:off x="5214960" y="375120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2571840" y="34290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ир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87120" y="21384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Наука </a:t>
            </a:r>
            <a:r>
              <a:rPr b="1" i="1" lang="ru-RU" sz="6000" spc="-1" strike="noStrike">
                <a:solidFill>
                  <a:srgbClr val="a50021"/>
                </a:solidFill>
                <a:latin typeface="Times New Roman"/>
              </a:rPr>
              <a:t>ГЕОГРАФИЯ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760" y="4714920"/>
            <a:ext cx="853416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Times New Roman"/>
              </a:rPr>
              <a:t>Физическая география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часть географической науки, изучающей законы функционирования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85480" y="2285640"/>
            <a:ext cx="8643960" cy="21430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a50021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Географи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дна из древнейших наук, занимающаяся описанием окружающего ми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3" descr="морепять"/>
          <p:cNvPicPr/>
          <p:nvPr/>
        </p:nvPicPr>
        <p:blipFill>
          <a:blip r:embed="rId2"/>
          <a:stretch/>
        </p:blipFill>
        <p:spPr>
          <a:xfrm>
            <a:off x="214200" y="3571920"/>
            <a:ext cx="178596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Picture 6" descr="http://im3-tub.yandex.net/i?id=74829323-01"/>
          <p:cNvPicPr/>
          <p:nvPr/>
        </p:nvPicPr>
        <p:blipFill>
          <a:blip r:embed="rId3"/>
          <a:stretch/>
        </p:blipFill>
        <p:spPr>
          <a:xfrm>
            <a:off x="0" y="0"/>
            <a:ext cx="2835360" cy="185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4"/>
          <a:stretch/>
        </p:blipFill>
        <p:spPr>
          <a:xfrm>
            <a:off x="7072200" y="3500280"/>
            <a:ext cx="1928880" cy="13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http://im7-tub.yandex.net/i?id=40716508-01"/>
          <p:cNvPicPr/>
          <p:nvPr/>
        </p:nvPicPr>
        <p:blipFill>
          <a:blip r:embed="rId1"/>
          <a:stretch/>
        </p:blipFill>
        <p:spPr>
          <a:xfrm>
            <a:off x="3286080" y="2500200"/>
            <a:ext cx="261000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10" descr="http://im4-tub.yandex.net/i?id=149043898-02"/>
          <p:cNvPicPr/>
          <p:nvPr/>
        </p:nvPicPr>
        <p:blipFill>
          <a:blip r:embed="rId2"/>
          <a:stretch/>
        </p:blipFill>
        <p:spPr>
          <a:xfrm>
            <a:off x="96840" y="3548160"/>
            <a:ext cx="2975040" cy="24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http://im8-tub.yandex.net/i?id=4062379-03"/>
          <p:cNvPicPr/>
          <p:nvPr/>
        </p:nvPicPr>
        <p:blipFill>
          <a:blip r:embed="rId3"/>
          <a:stretch/>
        </p:blipFill>
        <p:spPr>
          <a:xfrm>
            <a:off x="6102360" y="3548160"/>
            <a:ext cx="2901960" cy="237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http://im8-tub.yandex.net/i?id=112285301-01"/>
          <p:cNvPicPr/>
          <p:nvPr/>
        </p:nvPicPr>
        <p:blipFill>
          <a:blip r:embed="rId4"/>
          <a:stretch/>
        </p:blipFill>
        <p:spPr>
          <a:xfrm>
            <a:off x="171360" y="762120"/>
            <a:ext cx="2895840" cy="2444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http://im2-tub.yandex.net/i?id=227657302-05"/>
          <p:cNvPicPr/>
          <p:nvPr/>
        </p:nvPicPr>
        <p:blipFill>
          <a:blip r:embed="rId5"/>
          <a:stretch/>
        </p:blipFill>
        <p:spPr>
          <a:xfrm>
            <a:off x="3286080" y="4714920"/>
            <a:ext cx="2571840" cy="19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2" name="Picture 18" descr="http://im7-tub.yandex.net/i?id=227163660-04"/>
          <p:cNvPicPr/>
          <p:nvPr/>
        </p:nvPicPr>
        <p:blipFill>
          <a:blip r:embed="rId6"/>
          <a:stretch/>
        </p:blipFill>
        <p:spPr>
          <a:xfrm>
            <a:off x="3286080" y="223920"/>
            <a:ext cx="2571840" cy="19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Picture 20" descr="http://im2-tub.yandex.net/i?id=231016683-07"/>
          <p:cNvPicPr/>
          <p:nvPr/>
        </p:nvPicPr>
        <p:blipFill>
          <a:blip r:embed="rId7"/>
          <a:stretch/>
        </p:blipFill>
        <p:spPr>
          <a:xfrm>
            <a:off x="6102360" y="828720"/>
            <a:ext cx="2792520" cy="2378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учитель\Рабочий стол\Рисунок1.jpg"/>
          <p:cNvPicPr/>
          <p:nvPr/>
        </p:nvPicPr>
        <p:blipFill>
          <a:blip r:embed="rId1"/>
          <a:stretch/>
        </p:blipFill>
        <p:spPr>
          <a:xfrm>
            <a:off x="1571760" y="142920"/>
            <a:ext cx="7429320" cy="65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7113600" y="120600"/>
            <a:ext cx="1887480" cy="15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2" descr=""/>
          <p:cNvPicPr/>
          <p:nvPr/>
        </p:nvPicPr>
        <p:blipFill>
          <a:blip r:embed="rId3"/>
          <a:srcRect l="0" t="0" r="-308" b="0"/>
          <a:stretch/>
        </p:blipFill>
        <p:spPr>
          <a:xfrm>
            <a:off x="142920" y="1857240"/>
            <a:ext cx="1758960" cy="14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3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1357200" cy="13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Picture 3" descr=""/>
          <p:cNvPicPr/>
          <p:nvPr/>
        </p:nvPicPr>
        <p:blipFill>
          <a:blip r:embed="rId5"/>
          <a:stretch/>
        </p:blipFill>
        <p:spPr>
          <a:xfrm>
            <a:off x="142920" y="3571920"/>
            <a:ext cx="138888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6" descr="http://im8-tub.yandex.net/i?id=70276121-03"/>
          <p:cNvPicPr/>
          <p:nvPr/>
        </p:nvPicPr>
        <p:blipFill>
          <a:blip r:embed="rId6"/>
          <a:stretch/>
        </p:blipFill>
        <p:spPr>
          <a:xfrm>
            <a:off x="81000" y="5214960"/>
            <a:ext cx="1560600" cy="13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4675320" y="554040"/>
            <a:ext cx="1792080" cy="5303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http://im8-tub.yandex.net/i?id=180365197-04"/>
          <p:cNvPicPr/>
          <p:nvPr/>
        </p:nvPicPr>
        <p:blipFill>
          <a:blip r:embed="rId2"/>
          <a:stretch/>
        </p:blipFill>
        <p:spPr>
          <a:xfrm>
            <a:off x="2249640" y="554040"/>
            <a:ext cx="1773000" cy="548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http://im0-tub.yandex.net/i?id=123294658-06"/>
          <p:cNvPicPr/>
          <p:nvPr/>
        </p:nvPicPr>
        <p:blipFill>
          <a:blip r:embed="rId3"/>
          <a:stretch/>
        </p:blipFill>
        <p:spPr>
          <a:xfrm>
            <a:off x="7034040" y="480960"/>
            <a:ext cx="1841760" cy="555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http://im0-tub.yandex.net/i?id=99939728-00"/>
          <p:cNvPicPr/>
          <p:nvPr/>
        </p:nvPicPr>
        <p:blipFill>
          <a:blip r:embed="rId4"/>
          <a:stretch/>
        </p:blipFill>
        <p:spPr>
          <a:xfrm>
            <a:off x="12600" y="12600"/>
            <a:ext cx="1468440" cy="1560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http://im0-tub.yandex.net/i?id=1597460-05"/>
          <p:cNvPicPr/>
          <p:nvPr/>
        </p:nvPicPr>
        <p:blipFill>
          <a:blip r:embed="rId5"/>
          <a:stretch/>
        </p:blipFill>
        <p:spPr>
          <a:xfrm>
            <a:off x="115920" y="1695600"/>
            <a:ext cx="1841400" cy="205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http://im0-tub.yandex.net/i?id=49069766-07"/>
          <p:cNvPicPr/>
          <p:nvPr/>
        </p:nvPicPr>
        <p:blipFill>
          <a:blip r:embed="rId6"/>
          <a:stretch/>
        </p:blipFill>
        <p:spPr>
          <a:xfrm>
            <a:off x="1536840" y="3627360"/>
            <a:ext cx="1858680" cy="5668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http://im0-tub.yandex.net/i?id=78914046-01"/>
          <p:cNvPicPr/>
          <p:nvPr/>
        </p:nvPicPr>
        <p:blipFill>
          <a:blip r:embed="rId7"/>
          <a:stretch/>
        </p:blipFill>
        <p:spPr>
          <a:xfrm>
            <a:off x="4322880" y="3913200"/>
            <a:ext cx="399888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</a:rPr>
              <a:t>КАРТА МИРА</a:t>
            </a:r>
            <a:endParaRPr b="0" i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0" t="0" r="0" b="64"/>
          <a:stretch/>
        </p:blipFill>
        <p:spPr>
          <a:xfrm>
            <a:off x="428760" y="1928880"/>
            <a:ext cx="8358120" cy="47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2:02:11Z</dcterms:created>
  <dc:creator>starostina</dc:creator>
  <dc:description/>
  <cp:keywords/>
  <dc:language>en-US</dc:language>
  <cp:lastModifiedBy>Admin</cp:lastModifiedBy>
  <dcterms:modified xsi:type="dcterms:W3CDTF">2010-07-15T19:21:03Z</dcterms:modified>
  <cp:revision>18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20000000000001024140</vt:lpwstr>
  </property>
  <property fmtid="{D5CDD505-2E9C-101B-9397-08002B2CF9AE}" pid="3" name="_TemplateID">
    <vt:lpwstr>TC010690801049</vt:lpwstr>
  </property>
</Properties>
</file>