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832-058C-4D86-B9EF-E761A4D6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136-7987-4A3D-86E5-FBFF01D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F96-45F0-4790-804C-AA61C30C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E32-7A40-4302-BFE8-22E7BF1F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0EC-A254-4B6C-B425-F3612709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1A5-68B2-4CC0-A3DC-C9B7CA5D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CCD-E031-4674-83A5-AA8D07B9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73C-F67A-4545-B976-167666AE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F54-11C0-468E-8C03-755FB5D9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666-8495-4F3B-9EB8-700D30AE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15B-B645-4526-8B80-04DEBB7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5F5-7810-46A4-A805-349E8D5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D1E-1884-4500-80EC-2226B2880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ографический диктан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Науч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Химико-лесно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Кооперировани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Связ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Машиностроитель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Металлургически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. Химизац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8. Инфраструктур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9. ВП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 Пищевая промышленнос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1. Коммуникационная систе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2. АП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3. Транспортная систе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4. Специализац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5. ТЭ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4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 указу Президента для укрепления эффективности федеральной государственной власти, были образованы семь федеральных округов. (май 2000 г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4200" y="150012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Центральный (центр - Моск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еверо-Западный (центр – Санкт-Петербур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Южный (центр – Ростов – на - Дон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волжский (центр – Нижний Новгор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ральский (центр - Екатеринбур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ибирский (центр – Новосибирс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Дальневосточный (центр - Хабаровск)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еверо-Кавказский ( центр – Пятигорск)  (2010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лан характеристики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480" y="99972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ЭГП:  положение относительно: стран, регионов, хоз. центров, транспортных путей, грузопото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риродные условия и ресур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История освоения и формирование хоз-го комплек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Население и трудовые ресурсы.  Рынок труда. Занят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Хозяйство:  отрасли специализации, крупные цент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Транспортная с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роблемы района и перспективы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1000080" y="496800"/>
          <a:ext cx="7331040" cy="629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96800"/>
                    <a:ext cx="733104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ЭГ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214280"/>
            <a:ext cx="8543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района на территории государства (окраинное,  центральное, пограничн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едние  районы и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по отношению к  топливно - энергетическим и сырьевым базам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по отношению к транспортным магистралям ( ж/д, автомагистралям, магистральным трубопроводам, выход к морским путя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изменялось ЭГП райо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вод о влиянии ЭГП района на развитие его эконом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7152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актическая работа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  № 8  «Составление типового плана экономико-географической характеристики территории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«Изучение  Центрального  райо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1.особенность – нахождение  здесь столицы </a:t>
            </a: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СТОЛИЧНОЕ ПОЛОЖЕНИЕ (ПО СУТИ ЦЕНТРАЛЬНОЕ)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Насыщенность транспортными магистралями и пут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3. Соседи развитые рай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4. Природные  условия и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14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ГРТ выражается в</a:t>
            </a:r>
            <a:br>
              <a:rPr sz="4400"/>
            </a:b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специализации терр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Loner\Рабочий стол\МАМА РАБОТА\2803334.gif"/>
          <p:cNvPicPr/>
          <p:nvPr/>
        </p:nvPicPr>
        <p:blipFill>
          <a:blip r:embed="rId1"/>
          <a:stretch/>
        </p:blipFill>
        <p:spPr>
          <a:xfrm>
            <a:off x="142920" y="28584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Loner\Рабочий стол\МАМА РАБОТА\схема.gif"/>
          <p:cNvPicPr/>
          <p:nvPr/>
        </p:nvPicPr>
        <p:blipFill>
          <a:blip r:embed="rId2"/>
          <a:stretch/>
        </p:blipFill>
        <p:spPr>
          <a:xfrm>
            <a:off x="642960" y="2071800"/>
            <a:ext cx="764388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Экономический рай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28556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5968"/>
                </a:solidFill>
                <a:latin typeface="Calibri"/>
              </a:rPr>
              <a:t>территория страны. Состоящая из нескольких субъектов (областей, республик, краев), которая отличается от других своей специализ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эффициент специализации</a:t>
            </a: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:  К = П/Н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г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доля продукции района в общем производстве страны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- доля населения райо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К &gt;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о данная отрасль является отраслью специализации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1. по стр. 26 атласа, определить отрасли специализации Центральной России Европейского Севе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2. стр.163 таблица 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и число жител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ченые, рассматривавшие проблемы райо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24324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786120" y="1600200"/>
            <a:ext cx="52149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понять особенности и проблемы любой страны, не оценивая её внутренние территориальное разнообразие. Без глубокого изучения порайонных (региональных) географических особенностей не возможно решение сложных проблем и самих районов, и страны в целом. Виднейшие учёные России: -Ломоносов М.В..; Менделеев Д. И. –Татищев В. Н.; Семёнов - Тян- Шанский П. П. –Колосовский Н. 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71680" y="55720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моносов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ченые, рассматривавшие проблемы райо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402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5359320" y="1714680"/>
            <a:ext cx="2998800" cy="3709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714240" y="5786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тищев В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072040" y="59292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енов – Тян – Шанский П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Группы вспомогательных отрас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4"/>
          <p:cNvCxnSpPr/>
          <p:nvPr/>
        </p:nvCxnSpPr>
        <p:spPr>
          <a:xfrm flipV="1">
            <a:off x="5571720" y="2285640"/>
            <a:ext cx="11437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5"/>
          <p:cNvSpPr/>
          <p:nvPr/>
        </p:nvSpPr>
        <p:spPr>
          <a:xfrm>
            <a:off x="6863760" y="18572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7"/>
          <p:cNvCxnSpPr/>
          <p:nvPr/>
        </p:nvCxnSpPr>
        <p:spPr>
          <a:xfrm>
            <a:off x="5929200" y="3286080"/>
            <a:ext cx="929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9"/>
          <p:cNvCxnSpPr/>
          <p:nvPr/>
        </p:nvCxnSpPr>
        <p:spPr>
          <a:xfrm flipH="1" flipV="1">
            <a:off x="5785560" y="3428640"/>
            <a:ext cx="10011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10"/>
          <p:cNvSpPr/>
          <p:nvPr/>
        </p:nvSpPr>
        <p:spPr>
          <a:xfrm>
            <a:off x="6215040" y="49291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ог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12"/>
          <p:cNvCxnSpPr/>
          <p:nvPr/>
        </p:nvCxnSpPr>
        <p:spPr>
          <a:xfrm flipH="1">
            <a:off x="2071080" y="3214800"/>
            <a:ext cx="1215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4"/>
          <p:cNvCxnSpPr/>
          <p:nvPr/>
        </p:nvCxnSpPr>
        <p:spPr>
          <a:xfrm flipV="1">
            <a:off x="2214360" y="3357360"/>
            <a:ext cx="1215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TextBox 16"/>
          <p:cNvSpPr/>
          <p:nvPr/>
        </p:nvSpPr>
        <p:spPr>
          <a:xfrm>
            <a:off x="357120" y="478620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с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лужив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18"/>
          <p:cNvCxnSpPr/>
          <p:nvPr/>
        </p:nvCxnSpPr>
        <p:spPr>
          <a:xfrm>
            <a:off x="2643120" y="507204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 flipH="1" flipV="1">
            <a:off x="2714400" y="5357520"/>
            <a:ext cx="2929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ТПК и ТНК (технополисы)- формы территориальной организации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28840"/>
            <a:ext cx="87152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ет экономию средств за счет близко расположенных предприятий, использующих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Прямая со стрелкой 4"/>
          <p:cNvCxnSpPr/>
          <p:nvPr/>
        </p:nvCxnSpPr>
        <p:spPr>
          <a:xfrm flipV="1">
            <a:off x="2071800" y="2714040"/>
            <a:ext cx="192960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6"/>
          <p:cNvCxnSpPr/>
          <p:nvPr/>
        </p:nvCxnSpPr>
        <p:spPr>
          <a:xfrm flipV="1">
            <a:off x="2071800" y="3071160"/>
            <a:ext cx="19296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8"/>
          <p:cNvCxnSpPr/>
          <p:nvPr/>
        </p:nvCxnSpPr>
        <p:spPr>
          <a:xfrm flipV="1">
            <a:off x="2071800" y="3499560"/>
            <a:ext cx="1929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0"/>
          <p:cNvCxnSpPr/>
          <p:nvPr/>
        </p:nvCxnSpPr>
        <p:spPr>
          <a:xfrm>
            <a:off x="2071440" y="3571560"/>
            <a:ext cx="18579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12"/>
          <p:cNvCxnSpPr/>
          <p:nvPr/>
        </p:nvCxnSpPr>
        <p:spPr>
          <a:xfrm>
            <a:off x="2071800" y="3571920"/>
            <a:ext cx="17150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4"/>
          <p:cNvCxnSpPr/>
          <p:nvPr/>
        </p:nvCxnSpPr>
        <p:spPr>
          <a:xfrm flipV="1">
            <a:off x="2071440" y="2428200"/>
            <a:ext cx="18579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15"/>
          <p:cNvSpPr/>
          <p:nvPr/>
        </p:nvSpPr>
        <p:spPr>
          <a:xfrm>
            <a:off x="3857760" y="2143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3643200" y="2428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3857760" y="2857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етически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857760" y="32860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000680" y="385776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3929040" y="4357800"/>
            <a:ext cx="21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 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Виды ТП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икроуровень – промузел, г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езоуровень – область, крупный промузел (Самарский.  Нижегородск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айонный ТПК  - КМА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(металлургический комплек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акрорайон – (Волго-Уральский, Центральная Росс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бщероссийский – (Газпро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37:14Z</dcterms:created>
  <dc:creator>Loner-XP</dc:creator>
  <dc:description/>
  <dc:language>en-US</dc:language>
  <cp:lastModifiedBy>Loner-XP</cp:lastModifiedBy>
  <dcterms:modified xsi:type="dcterms:W3CDTF">2011-09-24T18:36:12Z</dcterms:modified>
  <cp:revision>30</cp:revision>
  <dc:subject/>
  <dc:title> Географический диктант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d0000000000010250300207f7000400038000</vt:lpwstr>
  </property>
</Properties>
</file>