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png" ContentType="image/png"/>
  <Override PartName="/ppt/media/image21.jpeg" ContentType="image/jpeg"/>
  <Override PartName="/ppt/media/image16.wmf" ContentType="image/x-wmf"/>
  <Override PartName="/ppt/media/image8.png" ContentType="image/png"/>
  <Override PartName="/ppt/media/image33.png" ContentType="image/png"/>
  <Override PartName="/ppt/media/image5.gif" ContentType="image/gif"/>
  <Override PartName="/ppt/media/image7.jpeg" ContentType="image/jpe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png" ContentType="image/png"/>
  <Override PartName="/ppt/media/image32.jpeg" ContentType="image/jpeg"/>
  <Override PartName="/ppt/media/image34.png" ContentType="image/png"/>
  <Override PartName="/ppt/media/image17.wmf" ContentType="image/x-wmf"/>
  <Override PartName="/ppt/media/image4.jpeg" ContentType="image/jpeg"/>
  <Override PartName="/ppt/media/image25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28.wmf" ContentType="image/x-wmf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15.wmf" ContentType="image/x-wmf"/>
  <Override PartName="/ppt/media/image19.jpeg" ContentType="image/jpeg"/>
  <Override PartName="/ppt/media/image29.wmf" ContentType="image/x-wmf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F55-722C-489E-A9F2-144E9318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BE5-D2BF-4C8D-A0BB-B5B4B9EE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331-7AAB-4CE2-8E7F-08BECADB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F13-17E9-4A32-A52B-F4EB310A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6875-6FB3-4ED3-A575-8F6CFD01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8AB1-DBF9-47F6-A710-BE527F2A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2230-9A05-459C-81C1-A072FF71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A753-93EB-4A73-8C88-2F641C9A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4388-14B9-4D3A-901A-C011A207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131-9C87-4AB5-BA2A-CDA675D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004-356A-4657-AF12-EB66218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DCD-FB2C-4BE3-94A6-9BCE38F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503B-74B8-4260-A832-391DF23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DAF-5497-4BCC-9CE1-048CC92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552-D59F-4A49-BE22-B16658A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532-F80B-4774-8510-ACA1FAD3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464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4880" y="220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464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4880" y="4279320"/>
            <a:ext cx="2257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DF08-2A1C-43AD-A13A-50B18183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959-E8C9-49A5-97CC-A46D289B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0E5-2F92-452C-874B-E829FB10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760-215B-4579-ADAD-CC16AA14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837720"/>
            <a:ext cx="70102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4CD-2BE5-4FAB-8612-17C20F7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729-0805-47C0-BA44-C3259C4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6120" y="427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E52-8232-4A02-835A-F0BF642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6120" y="2209320"/>
            <a:ext cx="34207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279320"/>
            <a:ext cx="7010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BB3-A670-4949-ABA8-5C90EED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324120"/>
            <a:ext cx="1295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C37F-6451-4426-8D35-811BCE027E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093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22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D55-0238-437F-80FB-9600F53D07FD}" type="slidenum">
              <a:rPr b="0" lang="ru-RU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83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700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Rectangle 3"/>
          <p:cNvSpPr/>
          <p:nvPr/>
        </p:nvSpPr>
        <p:spPr>
          <a:xfrm>
            <a:off x="2700360" y="516420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1128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масштабу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2" name="Схема 2" descr=""/>
          <p:cNvPicPr/>
          <p:nvPr/>
        </p:nvPicPr>
        <p:blipFill>
          <a:blip r:embed="rId2"/>
          <a:stretch/>
        </p:blipFill>
        <p:spPr>
          <a:xfrm>
            <a:off x="268200" y="2206800"/>
            <a:ext cx="8680680" cy="4443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3"/>
          <p:cNvSpPr/>
          <p:nvPr/>
        </p:nvSpPr>
        <p:spPr>
          <a:xfrm>
            <a:off x="5929200" y="2857680"/>
            <a:ext cx="3000600" cy="2837160"/>
          </a:xfrm>
          <a:prstGeom prst="rect">
            <a:avLst/>
          </a:prstGeom>
          <a:solidFill>
            <a:srgbClr val="ccff99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арта масштаба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1 : 500 000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сится к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а) крупн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б) средне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Arial"/>
              </a:rPr>
              <a:t>в) мелкомасштабным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440" y="1428840"/>
            <a:ext cx="7010280" cy="5000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Переведите  численный масштаб – в именова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1 : 4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1 : 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1 : 9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 ) 1 : 7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1 : 10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1 : 35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Arial"/>
              </a:rPr>
              <a:t>2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. Переведите именованный масштаб – в численный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а) в 1 см 5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б) в 1 см 7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в) в 1 см 6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г) в 1 см 3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д) в 1 см 4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73"/>
                </a:solidFill>
                <a:latin typeface="Arial"/>
              </a:rPr>
              <a:t>е) в  1 см 8 000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6" name="Picture 2" descr="D:\КАРТИНКИ\Коллекция картинок1\j0232133.wmf"/>
          <p:cNvPicPr/>
          <p:nvPr/>
        </p:nvPicPr>
        <p:blipFill>
          <a:blip r:embed="rId2"/>
          <a:stretch/>
        </p:blipFill>
        <p:spPr>
          <a:xfrm>
            <a:off x="4572000" y="185724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D:\КАРТИНКИ\Коллекция картинок1\j0294973.wmf"/>
          <p:cNvPicPr/>
          <p:nvPr/>
        </p:nvPicPr>
        <p:blipFill>
          <a:blip r:embed="rId3"/>
          <a:stretch/>
        </p:blipFill>
        <p:spPr>
          <a:xfrm>
            <a:off x="4786200" y="4500720"/>
            <a:ext cx="1665360" cy="192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28440" y="1785600"/>
            <a:ext cx="7010280" cy="43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3. Изобразите линейным масштабом масштаб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 1 см 3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4. Изобразите линейным масштабом расстояние в 300 м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в 1 см 1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б) в 1 см 3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5. Начертите отрезок  длиной 50 м в масштабе 1 : 1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6. Карта какого масштаба карта крупнее и во сколько раз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а) 1 : 500 0000      или       б) 1 : 10 000 000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в) 1 : 300 000        или       г) в 1 см 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73"/>
                </a:solidFill>
                <a:latin typeface="Arial"/>
              </a:rPr>
              <a:t>д) в 1 см 100 км    или       е) в 1 см 275 к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2" descr="D:\КАРТИНКИ\Коллекция картинок1\j0290505.wmf"/>
          <p:cNvPicPr/>
          <p:nvPr/>
        </p:nvPicPr>
        <p:blipFill>
          <a:blip r:embed="rId2"/>
          <a:stretch/>
        </p:blipFill>
        <p:spPr>
          <a:xfrm>
            <a:off x="5929200" y="142884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КАРТИНКИ\Коллекция картинок1\j0290924.wmf"/>
          <p:cNvPicPr/>
          <p:nvPr/>
        </p:nvPicPr>
        <p:blipFill>
          <a:blip r:embed="rId3"/>
          <a:stretch/>
        </p:blipFill>
        <p:spPr>
          <a:xfrm rot="1663200">
            <a:off x="3719520" y="2655360"/>
            <a:ext cx="1692360" cy="1665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972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9720" y="1428480"/>
            <a:ext cx="7010280" cy="50720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7. Мальчик начертил план местности, где расстояние от дома до школы равнялось 5 см. Каков масштаб плана, если на местности это расстояние равно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5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1 000 м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8. Распределите карты по мере уменьшения подробности и охвата изображаемой территории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М – 1 : 1 00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М – 1 : 1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в) М – 1 : 250 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) М – 1 : 100 00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</a:rPr>
              <a:t>9. По плану местности в учебнике определите расстояние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) от озера Синего до загон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) от деревянного моста до колодца с ветряным двигателем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2" descr="D:\КАРТИНКИ\Коллекция картинок1\bd07215_.wmf"/>
          <p:cNvPicPr/>
          <p:nvPr/>
        </p:nvPicPr>
        <p:blipFill>
          <a:blip r:embed="rId2"/>
          <a:stretch/>
        </p:blipFill>
        <p:spPr>
          <a:xfrm>
            <a:off x="6000840" y="2000160"/>
            <a:ext cx="1330200" cy="106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КАРТИНКИ\Коллекция картинок1\j0404303.wmf"/>
          <p:cNvPicPr/>
          <p:nvPr/>
        </p:nvPicPr>
        <p:blipFill>
          <a:blip r:embed="rId3"/>
          <a:stretch/>
        </p:blipFill>
        <p:spPr>
          <a:xfrm>
            <a:off x="4643280" y="3929040"/>
            <a:ext cx="1643400" cy="139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адания по масштабу:</a:t>
            </a:r>
            <a:endParaRPr b="1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714920" y="1142640"/>
            <a:ext cx="3571920" cy="471492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тла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обрание географических карт разной тематики для единой территории района, страны, мира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357120" y="5214960"/>
            <a:ext cx="4572000" cy="1191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9360">
            <a:solidFill>
              <a:srgbClr val="157f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Сло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атлас» 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введено Герардом Меркатором в </a:t>
            </a:r>
            <a:r>
              <a:rPr b="0" i="1" lang="en-US" sz="1800" spc="-1" strike="noStrike">
                <a:solidFill>
                  <a:srgbClr val="001541"/>
                </a:solidFill>
                <a:latin typeface="Arial"/>
              </a:rPr>
              <a:t>XVI</a:t>
            </a:r>
            <a:r>
              <a:rPr b="0" i="1" lang="ru-RU" sz="1800" spc="-1" strike="noStrike">
                <a:solidFill>
                  <a:srgbClr val="001541"/>
                </a:solidFill>
                <a:latin typeface="Arial"/>
              </a:rPr>
              <a:t> веке в честь мифического короля Ливии Атласа, якобы изготовившего небесный глобус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Picture 5" descr="D:\КАРТИНКИ\Коллекция картинок1\bd06970_.wmf"/>
          <p:cNvPicPr/>
          <p:nvPr/>
        </p:nvPicPr>
        <p:blipFill>
          <a:blip r:embed="rId2"/>
          <a:stretch/>
        </p:blipFill>
        <p:spPr>
          <a:xfrm>
            <a:off x="560520" y="928800"/>
            <a:ext cx="4011480" cy="38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Admin\Рабочий стол\Карта России с ФО.jpg"/>
          <p:cNvPicPr/>
          <p:nvPr/>
        </p:nvPicPr>
        <p:blipFill>
          <a:blip r:embed="rId3"/>
          <a:stretch/>
        </p:blipFill>
        <p:spPr>
          <a:xfrm>
            <a:off x="1428840" y="2000160"/>
            <a:ext cx="2394000" cy="1643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28760" y="1857240"/>
          <a:ext cx="8181720" cy="3984840"/>
        </p:xfrm>
        <a:graphic>
          <a:graphicData uri="http://schemas.openxmlformats.org/drawingml/2006/table">
            <a:tbl>
              <a:tblPr/>
              <a:tblGrid>
                <a:gridCol w="2031840"/>
                <a:gridCol w="4361040"/>
                <a:gridCol w="1788840"/>
              </a:tblGrid>
              <a:tr h="121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Виды географических карт атласа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Что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изображено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71a26"/>
                          </a:solidFill>
                          <a:latin typeface="Cambria"/>
                          <a:ea typeface="Times New Roman"/>
                        </a:rPr>
                        <a:t>Масштаб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3680">
                      <a:solidFill>
                        <a:srgbClr val="c0504d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368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fd3d2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440" y="571680"/>
            <a:ext cx="7010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блица по атласу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Виды географических карт по содержанию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33" name="Схема 3" descr=""/>
          <p:cNvPicPr/>
          <p:nvPr/>
        </p:nvPicPr>
        <p:blipFill>
          <a:blip r:embed="rId2"/>
          <a:stretch/>
        </p:blipFill>
        <p:spPr>
          <a:xfrm>
            <a:off x="2511360" y="2206800"/>
            <a:ext cx="6681960" cy="407808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214200" y="221472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1a8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Картосхема погоды Московской области"/>
          <p:cNvPicPr/>
          <p:nvPr/>
        </p:nvPicPr>
        <p:blipFill>
          <a:blip r:embed="rId2"/>
          <a:stretch/>
        </p:blipFill>
        <p:spPr>
          <a:xfrm>
            <a:off x="993600" y="-6480"/>
            <a:ext cx="7016760" cy="678528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3"/>
          <a:stretch/>
        </p:blipFill>
        <p:spPr>
          <a:xfrm>
            <a:off x="146160" y="5767560"/>
            <a:ext cx="8888400" cy="105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24386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 Black"/>
              </a:rPr>
              <a:t>ГЕОГРАФИЧЕСКАЯ КАРТА</a:t>
            </a:r>
            <a:endParaRPr b="1" lang="en-US" sz="6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1857240" y="2928960"/>
            <a:ext cx="4857840" cy="37400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42920" y="713880"/>
            <a:ext cx="3714840" cy="571500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ографическая карт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 это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чертеж поверхности Земли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на плоскости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системе географических координат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в масштабе;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f1f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1f2e"/>
                </a:solidFill>
                <a:latin typeface="Arial"/>
              </a:rPr>
              <a:t>с помощью условных знаков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2" descr="C:\Documents and Settings\Admin\Рабочий стол\p24_2_1.bmp"/>
          <p:cNvPicPr/>
          <p:nvPr/>
        </p:nvPicPr>
        <p:blipFill>
          <a:blip r:embed="rId2"/>
          <a:stretch/>
        </p:blipFill>
        <p:spPr>
          <a:xfrm>
            <a:off x="357120" y="857160"/>
            <a:ext cx="4226040" cy="300060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91" name="Picture 5" descr="D:\ТАНЯ2\УРОКИ\География - 6\05gk0001i.bmp"/>
          <p:cNvPicPr/>
          <p:nvPr/>
        </p:nvPicPr>
        <p:blipFill>
          <a:blip r:embed="rId3"/>
          <a:stretch/>
        </p:blipFill>
        <p:spPr>
          <a:xfrm>
            <a:off x="714240" y="3929040"/>
            <a:ext cx="3683160" cy="274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0102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глобуса – к карте</a:t>
            </a:r>
            <a:endParaRPr b="1" lang="en-US" sz="54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3" name="Picture 4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0" y="2571840"/>
            <a:ext cx="9144000" cy="3406680"/>
          </a:xfrm>
          <a:prstGeom prst="rect">
            <a:avLst/>
          </a:prstGeom>
          <a:ln w="2232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506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541"/>
                </a:solidFill>
                <a:latin typeface="Arial Black"/>
              </a:rPr>
              <a:t>При развертывании в плоскость поверхности земного шара образуются разрывы. Чтобы заполнить их, производят растяжения в местах разрывов. При этом возникают искажения углов, длин, линий, площадей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5" name="Picture 3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214200" y="1874880"/>
            <a:ext cx="8572680" cy="48751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1506600"/>
          </a:xfrm>
          <a:prstGeom prst="rect">
            <a:avLst/>
          </a:prstGeom>
          <a:solidFill>
            <a:srgbClr val="fbdbd1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f2e"/>
                </a:solidFill>
                <a:latin typeface="Arial Black"/>
              </a:rPr>
              <a:t>По карте полушарий измерять расстояние с помощью масштаба можно только в частях, близких к экватору и среднему меридиану, где нет больших искажений длин, так как искажения увеличиваются от экватора к полюсам.</a:t>
            </a:r>
            <a:endParaRPr b="1" lang="en-US" sz="2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7" name="Picture 3" descr="C:\Documents and Settings\Admin\Рабочий стол\Рисунок3.jpg"/>
          <p:cNvPicPr/>
          <p:nvPr/>
        </p:nvPicPr>
        <p:blipFill>
          <a:blip r:embed="rId2"/>
          <a:stretch/>
        </p:blipFill>
        <p:spPr>
          <a:xfrm>
            <a:off x="82440" y="2214720"/>
            <a:ext cx="8936280" cy="4214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0102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 Black"/>
              </a:rPr>
              <a:t>Различие географических карт</a:t>
            </a:r>
            <a:endParaRPr b="1" lang="en-US" sz="40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99" name="Схема 2" descr=""/>
          <p:cNvPicPr/>
          <p:nvPr/>
        </p:nvPicPr>
        <p:blipFill>
          <a:blip r:embed="rId2"/>
          <a:stretch/>
        </p:blipFill>
        <p:spPr>
          <a:xfrm>
            <a:off x="1438200" y="2139840"/>
            <a:ext cx="6364440" cy="407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КАРТИНКИ\Коллекция картинок3\j0408334.wmf"/>
          <p:cNvPicPr/>
          <p:nvPr/>
        </p:nvPicPr>
        <p:blipFill>
          <a:blip r:embed="rId3"/>
          <a:stretch/>
        </p:blipFill>
        <p:spPr>
          <a:xfrm>
            <a:off x="554040" y="4456080"/>
            <a:ext cx="205596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D:\КАРТИНКИ\Коллекция картинок3\j0408466.wmf"/>
          <p:cNvPicPr/>
          <p:nvPr/>
        </p:nvPicPr>
        <p:blipFill>
          <a:blip r:embed="rId4"/>
          <a:stretch/>
        </p:blipFill>
        <p:spPr>
          <a:xfrm>
            <a:off x="6486480" y="4535640"/>
            <a:ext cx="2103480" cy="303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:\КАРТИНКИ\Коллекция картинок3\j0433610.wmf"/>
          <p:cNvPicPr/>
          <p:nvPr/>
        </p:nvPicPr>
        <p:blipFill>
          <a:blip r:embed="rId5"/>
          <a:stretch/>
        </p:blipFill>
        <p:spPr>
          <a:xfrm>
            <a:off x="142920" y="2500200"/>
            <a:ext cx="1214280" cy="16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5" descr="D:\КАРТИНКИ\Коллекция картинок3\j0434323.wmf"/>
          <p:cNvPicPr/>
          <p:nvPr/>
        </p:nvPicPr>
        <p:blipFill>
          <a:blip r:embed="rId6"/>
          <a:stretch/>
        </p:blipFill>
        <p:spPr>
          <a:xfrm>
            <a:off x="7683480" y="2500200"/>
            <a:ext cx="1460520" cy="137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D:\КАРТИНКИ\Коллекция картинок3\j0436954.wmf"/>
          <p:cNvPicPr/>
          <p:nvPr/>
        </p:nvPicPr>
        <p:blipFill>
          <a:blip r:embed="rId7"/>
          <a:stretch/>
        </p:blipFill>
        <p:spPr>
          <a:xfrm>
            <a:off x="7000920" y="142920"/>
            <a:ext cx="142884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КАРТИНКИ\Коллекция картинок3\j0437425.wmf"/>
          <p:cNvPicPr/>
          <p:nvPr/>
        </p:nvPicPr>
        <p:blipFill>
          <a:blip r:embed="rId8"/>
          <a:stretch/>
        </p:blipFill>
        <p:spPr>
          <a:xfrm>
            <a:off x="642960" y="14292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85520" y="999720"/>
            <a:ext cx="3429000" cy="5072040"/>
          </a:xfrm>
          <a:prstGeom prst="rect">
            <a:avLst/>
          </a:prstGeom>
          <a:gradFill rotWithShape="0">
            <a:gsLst>
              <a:gs pos="0">
                <a:srgbClr val="aed3c2"/>
              </a:gs>
              <a:gs pos="100000">
                <a:srgbClr val="e6f0ec"/>
              </a:gs>
            </a:gsLst>
            <a:lin ang="5400000"/>
          </a:gradFill>
          <a:ln w="9360">
            <a:solidFill>
              <a:srgbClr val="001f6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сшта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величина, показывающая насколько отрезок (расстояние) на карте меньше, чем на самой местности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Picture 11" descr="Масштаб"/>
          <p:cNvPicPr/>
          <p:nvPr/>
        </p:nvPicPr>
        <p:blipFill>
          <a:blip r:embed="rId2"/>
          <a:stretch/>
        </p:blipFill>
        <p:spPr>
          <a:xfrm>
            <a:off x="4286160" y="2857680"/>
            <a:ext cx="4357800" cy="2857320"/>
          </a:xfrm>
          <a:prstGeom prst="rect">
            <a:avLst/>
          </a:prstGeom>
          <a:ln w="9360">
            <a:solidFill>
              <a:srgbClr val="001f62"/>
            </a:solidFill>
            <a:miter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4468680" y="853920"/>
            <a:ext cx="4114800" cy="301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5866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арта Санкт-Петербурга</a:t>
            </a:r>
            <a:br>
              <a:rPr sz="4800"/>
            </a:br>
            <a:r>
              <a:rPr b="1" i="1" lang="ru-RU" sz="4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в разных масштабах</a:t>
            </a:r>
            <a:endParaRPr b="1" lang="en-US" sz="4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0" name="Picture 2" descr="C:\Documents and Settings\Admin\Рабочий стол\Рисунок4.jpg"/>
          <p:cNvPicPr/>
          <p:nvPr/>
        </p:nvPicPr>
        <p:blipFill>
          <a:blip r:embed="rId2"/>
          <a:stretch/>
        </p:blipFill>
        <p:spPr>
          <a:xfrm>
            <a:off x="1143000" y="1928880"/>
            <a:ext cx="7000920" cy="47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5:39:09Z</dcterms:created>
  <dc:creator>starostina</dc:creator>
  <dc:description/>
  <cp:keywords/>
  <dc:language>en-US</dc:language>
  <cp:lastModifiedBy>starostina</cp:lastModifiedBy>
  <dcterms:modified xsi:type="dcterms:W3CDTF">2010-04-28T10:09:29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6000000000001024140</vt:lpwstr>
  </property>
  <property fmtid="{D5CDD505-2E9C-101B-9397-08002B2CF9AE}" pid="3" name="_TemplateID">
    <vt:lpwstr>TC010721371049</vt:lpwstr>
  </property>
</Properties>
</file>