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2.png" ContentType="image/png"/>
  <Override PartName="/ppt/media/image21.jpeg" ContentType="image/jpeg"/>
  <Override PartName="/ppt/media/image16.wmf" ContentType="image/x-wmf"/>
  <Override PartName="/ppt/media/image8.png" ContentType="image/png"/>
  <Override PartName="/ppt/media/image33.png" ContentType="image/png"/>
  <Override PartName="/ppt/media/image5.gif" ContentType="image/gif"/>
  <Override PartName="/ppt/media/image7.jpeg" ContentType="image/jpeg"/>
  <Override PartName="/ppt/media/image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12.png" ContentType="image/png"/>
  <Override PartName="/ppt/media/image32.jpeg" ContentType="image/jpeg"/>
  <Override PartName="/ppt/media/image34.png" ContentType="image/png"/>
  <Override PartName="/ppt/media/image17.wmf" ContentType="image/x-wmf"/>
  <Override PartName="/ppt/media/image4.jpeg" ContentType="image/jpeg"/>
  <Override PartName="/ppt/media/image25.wmf" ContentType="image/x-wmf"/>
  <Override PartName="/ppt/media/image20.png" ContentType="image/png"/>
  <Override PartName="/ppt/media/image18.wmf" ContentType="image/x-wmf"/>
  <Override PartName="/ppt/media/image2.jpeg" ContentType="image/jpeg"/>
  <Override PartName="/ppt/media/image28.wmf" ContentType="image/x-wmf"/>
  <Override PartName="/ppt/media/image30.png" ContentType="image/png"/>
  <Override PartName="/ppt/media/image3.jpeg" ContentType="image/jpeg"/>
  <Override PartName="/ppt/media/image10.jpeg" ContentType="image/jpeg"/>
  <Override PartName="/ppt/media/image14.png" ContentType="image/png"/>
  <Override PartName="/ppt/media/image15.wmf" ContentType="image/x-wmf"/>
  <Override PartName="/ppt/media/image19.jpeg" ContentType="image/jpeg"/>
  <Override PartName="/ppt/media/image29.wmf" ContentType="image/x-wmf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049-D2D2-41B3-9EF8-9EBCDCFF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27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6D9-E373-4112-820E-877F15EE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0612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807-3993-4F27-B190-6E6410E4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464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5488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464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5488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38A-E5BA-462E-BDBC-0C93BAD7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E979-2A91-4B3E-96F9-013B986D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C126-7D0A-453D-8F80-E399FD90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1ED0-1A69-4CE4-93C0-4AAC2C7C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2A2E-97F9-4ED4-BCDA-09BA9E78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800F-A90B-47D8-AF06-A94E731F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0102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7528-BFA8-45A2-8E3F-4CEEF59E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6B5E-0008-4F5E-89F2-0D38125E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3F8-BBA1-44B2-81CC-043BC734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0612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53F5-489A-4D3F-B517-4598D397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E210-03B6-43E3-9C65-370587BD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427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8295-8343-4AE3-B6AB-4082C4FB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0612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6EEB-0A63-43AF-88D4-2E042613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464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5488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464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5488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EAAA-F72A-4480-BE3C-6B98A665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059-11A8-483D-87FB-0A7BBEAE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DB5B-5330-4E5E-BB49-1E92D8EA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C9C-4C1C-436B-9575-B6256772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0102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F6B-1695-471F-A77D-14E3BCAD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3E8-14FD-43D0-BE9D-A7585809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612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AC2-CAB5-40ED-8BA3-BEAEEED4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DB7-10B0-4CAB-BE09-493F2B93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520" y="6324120"/>
            <a:ext cx="12956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19920" y="6324120"/>
            <a:ext cx="1295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4CB8-4385-475F-A79F-0B6F9113B7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722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E261-4A1E-42A1-A1DD-8B97225E95E5}" type="slidenum">
              <a:rPr b="0" lang="ru-RU" sz="10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83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700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Rectangle 3"/>
          <p:cNvSpPr/>
          <p:nvPr/>
        </p:nvSpPr>
        <p:spPr>
          <a:xfrm>
            <a:off x="2700360" y="516420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411280" y="33336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9720" y="71388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 Black"/>
              </a:rPr>
              <a:t>Виды географических карт по масштабу</a:t>
            </a: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112" name="Схема 2" descr=""/>
          <p:cNvPicPr/>
          <p:nvPr/>
        </p:nvPicPr>
        <p:blipFill>
          <a:blip r:embed="rId2"/>
          <a:stretch/>
        </p:blipFill>
        <p:spPr>
          <a:xfrm>
            <a:off x="268200" y="2206800"/>
            <a:ext cx="8680680" cy="44431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3"/>
          <p:cNvSpPr/>
          <p:nvPr/>
        </p:nvSpPr>
        <p:spPr>
          <a:xfrm>
            <a:off x="5929200" y="2857680"/>
            <a:ext cx="3000600" cy="2837160"/>
          </a:xfrm>
          <a:prstGeom prst="rect">
            <a:avLst/>
          </a:prstGeom>
          <a:solidFill>
            <a:srgbClr val="ccff99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арта масштаба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1 : 500 000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тносится к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Arial"/>
              </a:rPr>
              <a:t>а) крупномасштабным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Arial"/>
              </a:rPr>
              <a:t>б) среднемасштабным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Arial"/>
              </a:rPr>
              <a:t>в) мелкомасштабным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7010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адания по масштабу:</a:t>
            </a:r>
            <a:endParaRPr b="1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28440" y="1428840"/>
            <a:ext cx="7010280" cy="5000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Переведите  численный масштаб – в именованный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а) 1 : 4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б) 1 : 5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в) 1 : 90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г ) 1 : 7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д) 1 : 10 00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е) 1 : 350 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00000"/>
                </a:solidFill>
                <a:uFillTx/>
                <a:latin typeface="Arial"/>
              </a:rPr>
              <a:t>2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. Переведите именованный масштаб – в численный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а) в 1 см 5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б) в 1 см 7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в) в 1 см 60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г) в 1 см 30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д) в 1 см 400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е) в  1 см 8 000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6" name="Picture 2" descr="D:\КАРТИНКИ\Коллекция картинок1\j0232133.wmf"/>
          <p:cNvPicPr/>
          <p:nvPr/>
        </p:nvPicPr>
        <p:blipFill>
          <a:blip r:embed="rId2"/>
          <a:stretch/>
        </p:blipFill>
        <p:spPr>
          <a:xfrm>
            <a:off x="4572000" y="1857240"/>
            <a:ext cx="2068560" cy="2122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D:\КАРТИНКИ\Коллекция картинок1\j0294973.wmf"/>
          <p:cNvPicPr/>
          <p:nvPr/>
        </p:nvPicPr>
        <p:blipFill>
          <a:blip r:embed="rId3"/>
          <a:stretch/>
        </p:blipFill>
        <p:spPr>
          <a:xfrm>
            <a:off x="4786200" y="4500720"/>
            <a:ext cx="1665360" cy="192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28440" y="1785600"/>
            <a:ext cx="7010280" cy="4357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3. Изобразите линейным масштабом масштаб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в 1 см 35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4. Изобразите линейным масштабом расстояние в 300 м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а) в 1 см 10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б) в 1 см 3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5. Начертите отрезок  длиной 50 м в масштабе 1 : 1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6. Карта какого масштаба карта крупнее и во сколько раз?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а) 1 : 500 0000      или       б) 1 : 10 000 000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в) 1 : 300 000        или       г) в 1 см 5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д) в 1 см 100 км    или       е) в 1 см 275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Picture 2" descr="D:\КАРТИНКИ\Коллекция картинок1\j0290505.wmf"/>
          <p:cNvPicPr/>
          <p:nvPr/>
        </p:nvPicPr>
        <p:blipFill>
          <a:blip r:embed="rId2"/>
          <a:stretch/>
        </p:blipFill>
        <p:spPr>
          <a:xfrm>
            <a:off x="5929200" y="1428840"/>
            <a:ext cx="18576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D:\КАРТИНКИ\Коллекция картинок1\j0290924.wmf"/>
          <p:cNvPicPr/>
          <p:nvPr/>
        </p:nvPicPr>
        <p:blipFill>
          <a:blip r:embed="rId3"/>
          <a:stretch/>
        </p:blipFill>
        <p:spPr>
          <a:xfrm rot="1663200">
            <a:off x="3719520" y="2655360"/>
            <a:ext cx="1692360" cy="1665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9720" y="571680"/>
            <a:ext cx="7010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адания по масштабу:</a:t>
            </a:r>
            <a:endParaRPr b="1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9720" y="1428480"/>
            <a:ext cx="7010280" cy="50720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7. Мальчик начертил план местности, где расстояние от дома до школы равнялось 5 см. Каков масштаб плана, если на местности это расстояние равно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) 50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б) 1 00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8. Распределите карты по мере уменьшения подробности и охвата изображаемой территории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) М – 1 : 1 00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б) М – 1 : 1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в) М – 1 : 25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) М – 1 : 100 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9. По плану местности в учебнике определите расстояние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) от озера Синего до загона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б) от деревянного моста до колодца с ветряным двигателем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3" name="Picture 2" descr="D:\КАРТИНКИ\Коллекция картинок1\bd07215_.wmf"/>
          <p:cNvPicPr/>
          <p:nvPr/>
        </p:nvPicPr>
        <p:blipFill>
          <a:blip r:embed="rId2"/>
          <a:stretch/>
        </p:blipFill>
        <p:spPr>
          <a:xfrm>
            <a:off x="6000840" y="2000160"/>
            <a:ext cx="1330200" cy="1063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D:\КАРТИНКИ\Коллекция картинок1\j0404303.wmf"/>
          <p:cNvPicPr/>
          <p:nvPr/>
        </p:nvPicPr>
        <p:blipFill>
          <a:blip r:embed="rId3"/>
          <a:stretch/>
        </p:blipFill>
        <p:spPr>
          <a:xfrm>
            <a:off x="4643280" y="3929040"/>
            <a:ext cx="1643400" cy="139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адания по масштабу:</a:t>
            </a:r>
            <a:endParaRPr b="1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714920" y="1142640"/>
            <a:ext cx="3571920" cy="4714920"/>
          </a:xfrm>
          <a:prstGeom prst="rect">
            <a:avLst/>
          </a:prstGeom>
          <a:gradFill rotWithShape="0">
            <a:gsLst>
              <a:gs pos="0">
                <a:srgbClr val="aed3c2"/>
              </a:gs>
              <a:gs pos="100000">
                <a:srgbClr val="e6f0ec"/>
              </a:gs>
            </a:gsLst>
            <a:lin ang="54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тлас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– это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обрание географических карт разной тематики для единой территории района, страны, мира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357120" y="5214960"/>
            <a:ext cx="4572000" cy="1191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157fc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1541"/>
                </a:solidFill>
                <a:latin typeface="Arial"/>
              </a:rPr>
              <a:t>Слов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атлас» </a:t>
            </a:r>
            <a:r>
              <a:rPr b="0" i="1" lang="ru-RU" sz="1800" spc="-1" strike="noStrike">
                <a:solidFill>
                  <a:srgbClr val="001541"/>
                </a:solidFill>
                <a:latin typeface="Arial"/>
              </a:rPr>
              <a:t>введено Герардом Меркатором в </a:t>
            </a:r>
            <a:r>
              <a:rPr b="0" i="1" lang="en-US" sz="1800" spc="-1" strike="noStrike">
                <a:solidFill>
                  <a:srgbClr val="001541"/>
                </a:solidFill>
                <a:latin typeface="Arial"/>
              </a:rPr>
              <a:t>XVI</a:t>
            </a:r>
            <a:r>
              <a:rPr b="0" i="1" lang="ru-RU" sz="1800" spc="-1" strike="noStrike">
                <a:solidFill>
                  <a:srgbClr val="001541"/>
                </a:solidFill>
                <a:latin typeface="Arial"/>
              </a:rPr>
              <a:t> веке в честь мифического короля Ливии Атласа, якобы изготовившего небесный глобус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Picture 5" descr="D:\КАРТИНКИ\Коллекция картинок1\bd06970_.wmf"/>
          <p:cNvPicPr/>
          <p:nvPr/>
        </p:nvPicPr>
        <p:blipFill>
          <a:blip r:embed="rId2"/>
          <a:stretch/>
        </p:blipFill>
        <p:spPr>
          <a:xfrm>
            <a:off x="560520" y="928800"/>
            <a:ext cx="4011480" cy="385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Admin\Рабочий стол\Карта России с ФО.jpg"/>
          <p:cNvPicPr/>
          <p:nvPr/>
        </p:nvPicPr>
        <p:blipFill>
          <a:blip r:embed="rId3"/>
          <a:stretch/>
        </p:blipFill>
        <p:spPr>
          <a:xfrm>
            <a:off x="1428840" y="2000160"/>
            <a:ext cx="2394000" cy="16430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28760" y="1857240"/>
          <a:ext cx="8181720" cy="3984840"/>
        </p:xfrm>
        <a:graphic>
          <a:graphicData uri="http://schemas.openxmlformats.org/drawingml/2006/table">
            <a:tbl>
              <a:tblPr/>
              <a:tblGrid>
                <a:gridCol w="2031840"/>
                <a:gridCol w="4361040"/>
                <a:gridCol w="1788840"/>
              </a:tblGrid>
              <a:tr h="121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71a26"/>
                          </a:solidFill>
                          <a:latin typeface="Cambria"/>
                          <a:ea typeface="Times New Roman"/>
                        </a:rPr>
                        <a:t>Виды географических карт атласа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3680">
                      <a:solidFill>
                        <a:srgbClr val="c0504d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71a26"/>
                          </a:solidFill>
                          <a:latin typeface="Cambria"/>
                          <a:ea typeface="Times New Roman"/>
                        </a:rPr>
                        <a:t>Что 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71a26"/>
                          </a:solidFill>
                          <a:latin typeface="Cambria"/>
                          <a:ea typeface="Times New Roman"/>
                        </a:rPr>
                        <a:t>изображено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3680">
                      <a:solidFill>
                        <a:srgbClr val="c0504d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71a26"/>
                          </a:solidFill>
                          <a:latin typeface="Cambria"/>
                          <a:ea typeface="Times New Roman"/>
                        </a:rPr>
                        <a:t>Масштаб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3680">
                      <a:solidFill>
                        <a:srgbClr val="c0504d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368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368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368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8440" y="571680"/>
            <a:ext cx="7010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Таблица по атласу</a:t>
            </a:r>
            <a:endParaRPr b="1" lang="en-US" sz="5400" spc="-1" strike="noStrike">
              <a:solidFill>
                <a:srgbClr val="003399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9720" y="71388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 Black"/>
              </a:rPr>
              <a:t>Виды географических карт по содержанию</a:t>
            </a: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133" name="Схема 3" descr=""/>
          <p:cNvPicPr/>
          <p:nvPr/>
        </p:nvPicPr>
        <p:blipFill>
          <a:blip r:embed="rId2"/>
          <a:stretch/>
        </p:blipFill>
        <p:spPr>
          <a:xfrm>
            <a:off x="2511360" y="2206800"/>
            <a:ext cx="6681960" cy="4078080"/>
          </a:xfrm>
          <a:prstGeom prst="rect">
            <a:avLst/>
          </a:prstGeom>
          <a:ln w="0">
            <a:noFill/>
          </a:ln>
        </p:spPr>
      </p:pic>
      <p:sp>
        <p:nvSpPr>
          <p:cNvPr id="134" name="Скругленный прямоугольник 4"/>
          <p:cNvSpPr/>
          <p:nvPr/>
        </p:nvSpPr>
        <p:spPr>
          <a:xfrm>
            <a:off x="214200" y="221472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1a8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Картосхема погоды Московской области"/>
          <p:cNvPicPr/>
          <p:nvPr/>
        </p:nvPicPr>
        <p:blipFill>
          <a:blip r:embed="rId2"/>
          <a:stretch/>
        </p:blipFill>
        <p:spPr>
          <a:xfrm>
            <a:off x="993600" y="-6480"/>
            <a:ext cx="7016760" cy="678528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4" descr=""/>
          <p:cNvPicPr/>
          <p:nvPr/>
        </p:nvPicPr>
        <p:blipFill>
          <a:blip r:embed="rId3"/>
          <a:stretch/>
        </p:blipFill>
        <p:spPr>
          <a:xfrm>
            <a:off x="146160" y="5767560"/>
            <a:ext cx="8888400" cy="105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2438640"/>
          </a:xfrm>
          <a:prstGeom prst="rect">
            <a:avLst/>
          </a:prstGeom>
          <a:gradFill rotWithShape="0">
            <a:gsLst>
              <a:gs pos="0">
                <a:srgbClr val="aed3c2"/>
              </a:gs>
              <a:gs pos="100000">
                <a:srgbClr val="e6f0ec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 Black"/>
              </a:rPr>
              <a:t>ГЕОГРАФИЧЕСКАЯ КАРТА</a:t>
            </a:r>
            <a:endParaRPr b="1" lang="en-US" sz="6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1857240" y="2928960"/>
            <a:ext cx="4857840" cy="3740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642920" y="713880"/>
            <a:ext cx="3714840" cy="5715000"/>
          </a:xfrm>
          <a:prstGeom prst="rect">
            <a:avLst/>
          </a:prstGeom>
          <a:gradFill rotWithShape="0">
            <a:gsLst>
              <a:gs pos="0">
                <a:srgbClr val="aed3c2"/>
              </a:gs>
              <a:gs pos="100000">
                <a:srgbClr val="e6f0ec"/>
              </a:gs>
            </a:gsLst>
            <a:lin ang="54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еографическая карт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– это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1f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1f2e"/>
                </a:solidFill>
                <a:latin typeface="Arial"/>
              </a:rPr>
              <a:t>чертеж поверхности Земли;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1f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1f2e"/>
                </a:solidFill>
                <a:latin typeface="Arial"/>
              </a:rPr>
              <a:t>на плоскости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1f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1f2e"/>
                </a:solidFill>
                <a:latin typeface="Arial"/>
              </a:rPr>
              <a:t>в системе географических координат;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1f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1f2e"/>
                </a:solidFill>
                <a:latin typeface="Arial"/>
              </a:rPr>
              <a:t>в масштабе;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1f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1f2e"/>
                </a:solidFill>
                <a:latin typeface="Arial"/>
              </a:rPr>
              <a:t>с помощью условных знаков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0" name="Picture 2" descr="C:\Documents and Settings\Admin\Рабочий стол\p24_2_1.bmp"/>
          <p:cNvPicPr/>
          <p:nvPr/>
        </p:nvPicPr>
        <p:blipFill>
          <a:blip r:embed="rId2"/>
          <a:stretch/>
        </p:blipFill>
        <p:spPr>
          <a:xfrm>
            <a:off x="357120" y="857160"/>
            <a:ext cx="4226040" cy="3000600"/>
          </a:xfrm>
          <a:prstGeom prst="rect">
            <a:avLst/>
          </a:prstGeom>
          <a:ln w="9360">
            <a:solidFill>
              <a:srgbClr val="001f62"/>
            </a:solidFill>
            <a:miter/>
          </a:ln>
        </p:spPr>
      </p:pic>
      <p:pic>
        <p:nvPicPr>
          <p:cNvPr id="91" name="Picture 5" descr="D:\ТАНЯ2\УРОКИ\География - 6\05gk0001i.bmp"/>
          <p:cNvPicPr/>
          <p:nvPr/>
        </p:nvPicPr>
        <p:blipFill>
          <a:blip r:embed="rId3"/>
          <a:stretch/>
        </p:blipFill>
        <p:spPr>
          <a:xfrm>
            <a:off x="714240" y="3929040"/>
            <a:ext cx="3683160" cy="2749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71360" y="785520"/>
            <a:ext cx="70102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ход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 глобуса – к карте</a:t>
            </a:r>
            <a:endParaRPr b="1" lang="en-US" sz="54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93" name="Picture 4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0" y="2571840"/>
            <a:ext cx="9144000" cy="3406680"/>
          </a:xfrm>
          <a:prstGeom prst="rect">
            <a:avLst/>
          </a:prstGeom>
          <a:ln w="22320">
            <a:solidFill>
              <a:srgbClr val="c00000"/>
            </a:solidFill>
            <a:miter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01000" cy="1506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541"/>
                </a:solidFill>
                <a:latin typeface="Arial Black"/>
              </a:rPr>
              <a:t>При развертывании в плоскость поверхности земного шара образуются разрывы. Чтобы заполнить их, производят растяжения в местах разрывов. При этом возникают искажения углов, длин, линий, площадей.</a:t>
            </a:r>
            <a:endParaRPr b="1" lang="en-US" sz="2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95" name="Picture 3" descr="C:\Documents and Settings\Admin\Рабочий стол\Рисунок2.jpg"/>
          <p:cNvPicPr/>
          <p:nvPr/>
        </p:nvPicPr>
        <p:blipFill>
          <a:blip r:embed="rId2"/>
          <a:stretch/>
        </p:blipFill>
        <p:spPr>
          <a:xfrm>
            <a:off x="214200" y="1874880"/>
            <a:ext cx="8572680" cy="487512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1506600"/>
          </a:xfrm>
          <a:prstGeom prst="rect">
            <a:avLst/>
          </a:prstGeom>
          <a:solidFill>
            <a:srgbClr val="fbdbd1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f2e"/>
                </a:solidFill>
                <a:latin typeface="Arial Black"/>
              </a:rPr>
              <a:t>По карте полушарий измерять расстояние с помощью масштаба можно только в частях, близких к экватору и среднему меридиану, где нет больших искажений длин, так как искажения увеличиваются от экватора к полюсам.</a:t>
            </a:r>
            <a:endParaRPr b="1" lang="en-US" sz="2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97" name="Picture 3" descr="C:\Documents and Settings\Admin\Рабочий стол\Рисунок3.jpg"/>
          <p:cNvPicPr/>
          <p:nvPr/>
        </p:nvPicPr>
        <p:blipFill>
          <a:blip r:embed="rId2"/>
          <a:stretch/>
        </p:blipFill>
        <p:spPr>
          <a:xfrm>
            <a:off x="82440" y="2214720"/>
            <a:ext cx="8936280" cy="421452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 Black"/>
              </a:rPr>
              <a:t>Различие географических карт</a:t>
            </a: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99" name="Схема 2" descr=""/>
          <p:cNvPicPr/>
          <p:nvPr/>
        </p:nvPicPr>
        <p:blipFill>
          <a:blip r:embed="rId2"/>
          <a:stretch/>
        </p:blipFill>
        <p:spPr>
          <a:xfrm>
            <a:off x="1438200" y="2139840"/>
            <a:ext cx="6364440" cy="4071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КАРТИНКИ\Коллекция картинок3\j0408334.wmf"/>
          <p:cNvPicPr/>
          <p:nvPr/>
        </p:nvPicPr>
        <p:blipFill>
          <a:blip r:embed="rId3"/>
          <a:stretch/>
        </p:blipFill>
        <p:spPr>
          <a:xfrm>
            <a:off x="554040" y="4456080"/>
            <a:ext cx="2055960" cy="321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D:\КАРТИНКИ\Коллекция картинок3\j0408466.wmf"/>
          <p:cNvPicPr/>
          <p:nvPr/>
        </p:nvPicPr>
        <p:blipFill>
          <a:blip r:embed="rId4"/>
          <a:stretch/>
        </p:blipFill>
        <p:spPr>
          <a:xfrm>
            <a:off x="6486480" y="4535640"/>
            <a:ext cx="2103480" cy="303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D:\КАРТИНКИ\Коллекция картинок3\j0433610.wmf"/>
          <p:cNvPicPr/>
          <p:nvPr/>
        </p:nvPicPr>
        <p:blipFill>
          <a:blip r:embed="rId5"/>
          <a:stretch/>
        </p:blipFill>
        <p:spPr>
          <a:xfrm>
            <a:off x="142920" y="2500200"/>
            <a:ext cx="1214280" cy="16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Picture 5" descr="D:\КАРТИНКИ\Коллекция картинок3\j0434323.wmf"/>
          <p:cNvPicPr/>
          <p:nvPr/>
        </p:nvPicPr>
        <p:blipFill>
          <a:blip r:embed="rId6"/>
          <a:stretch/>
        </p:blipFill>
        <p:spPr>
          <a:xfrm>
            <a:off x="7683480" y="2500200"/>
            <a:ext cx="1460520" cy="137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6" descr="D:\КАРТИНКИ\Коллекция картинок3\j0436954.wmf"/>
          <p:cNvPicPr/>
          <p:nvPr/>
        </p:nvPicPr>
        <p:blipFill>
          <a:blip r:embed="rId7"/>
          <a:stretch/>
        </p:blipFill>
        <p:spPr>
          <a:xfrm>
            <a:off x="7000920" y="142920"/>
            <a:ext cx="1428840" cy="136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D:\КАРТИНКИ\Коллекция картинок3\j0437425.wmf"/>
          <p:cNvPicPr/>
          <p:nvPr/>
        </p:nvPicPr>
        <p:blipFill>
          <a:blip r:embed="rId8"/>
          <a:stretch/>
        </p:blipFill>
        <p:spPr>
          <a:xfrm>
            <a:off x="642960" y="142920"/>
            <a:ext cx="1428840" cy="1419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85520" y="999720"/>
            <a:ext cx="3429000" cy="5072040"/>
          </a:xfrm>
          <a:prstGeom prst="rect">
            <a:avLst/>
          </a:prstGeom>
          <a:gradFill rotWithShape="0">
            <a:gsLst>
              <a:gs pos="0">
                <a:srgbClr val="aed3c2"/>
              </a:gs>
              <a:gs pos="100000">
                <a:srgbClr val="e6f0ec"/>
              </a:gs>
            </a:gsLst>
            <a:lin ang="54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сшта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– это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величина, показывающая насколько отрезок (расстояние) на карте меньше, чем на самой местности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Picture 11" descr="Масштаб"/>
          <p:cNvPicPr/>
          <p:nvPr/>
        </p:nvPicPr>
        <p:blipFill>
          <a:blip r:embed="rId2"/>
          <a:stretch/>
        </p:blipFill>
        <p:spPr>
          <a:xfrm>
            <a:off x="4286160" y="2857680"/>
            <a:ext cx="4357800" cy="2857320"/>
          </a:xfrm>
          <a:prstGeom prst="rect">
            <a:avLst/>
          </a:prstGeom>
          <a:ln w="9360">
            <a:solidFill>
              <a:srgbClr val="001f62"/>
            </a:solidFill>
            <a:miter/>
          </a:ln>
        </p:spPr>
      </p:pic>
      <p:pic>
        <p:nvPicPr>
          <p:cNvPr id="108" name="Прямоугольник 5" descr=""/>
          <p:cNvPicPr/>
          <p:nvPr/>
        </p:nvPicPr>
        <p:blipFill>
          <a:blip r:embed="rId3"/>
          <a:stretch/>
        </p:blipFill>
        <p:spPr>
          <a:xfrm>
            <a:off x="4468680" y="853920"/>
            <a:ext cx="4114800" cy="3011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571680"/>
            <a:ext cx="758664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арта Санкт-Петербурга</a:t>
            </a:r>
            <a:br>
              <a:rPr sz="4800"/>
            </a:br>
            <a:r>
              <a:rPr b="1" i="1" lang="ru-RU" sz="4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в разных масштабах</a:t>
            </a:r>
            <a:endParaRPr b="1" lang="en-US" sz="48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110" name="Picture 2" descr="C:\Documents and Settings\Admin\Рабочий стол\Рисунок4.jpg"/>
          <p:cNvPicPr/>
          <p:nvPr/>
        </p:nvPicPr>
        <p:blipFill>
          <a:blip r:embed="rId2"/>
          <a:stretch/>
        </p:blipFill>
        <p:spPr>
          <a:xfrm>
            <a:off x="1143000" y="1928880"/>
            <a:ext cx="7000920" cy="478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5:39:09Z</dcterms:created>
  <dc:creator>starostina</dc:creator>
  <dc:description/>
  <cp:keywords/>
  <dc:language>en-US</dc:language>
  <cp:lastModifiedBy>starostina</cp:lastModifiedBy>
  <dcterms:modified xsi:type="dcterms:W3CDTF">2010-04-28T10:09:29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26000000000001024140</vt:lpwstr>
  </property>
  <property fmtid="{D5CDD505-2E9C-101B-9397-08002B2CF9AE}" pid="3" name="_TemplateID">
    <vt:lpwstr>TC010721371049</vt:lpwstr>
  </property>
</Properties>
</file>