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8E9-0FEA-40CF-B635-E63C48D0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72E-DE19-40F1-9CBF-E2F697B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0BA-AE59-44A0-8664-A40CE011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AFA-813D-4770-8F84-3CBDA71B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3EC-21AB-49EB-A2A3-A85DAE2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A48-4D97-4FD3-B338-D5E2E70B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F6B-AAC7-4B2F-9137-F229BEF6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68A-CAA8-4387-A6CC-C0FC565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D9A-2ECC-4499-9D2F-8142D189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926-0E74-44EB-AA80-19152F53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D0C-4689-402F-81F9-0C7D82D1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776-154C-4453-9CC1-2311796F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278C-DDF8-4023-9521-C83459223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0195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Презентация по географ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457200" y="1536840"/>
            <a:ext cx="404172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4" descr=""/>
          <p:cNvPicPr/>
          <p:nvPr/>
        </p:nvPicPr>
        <p:blipFill>
          <a:blip r:embed="rId2"/>
          <a:stretch/>
        </p:blipFill>
        <p:spPr>
          <a:xfrm>
            <a:off x="2352600" y="1712880"/>
            <a:ext cx="4054680" cy="157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19920" y="5638320"/>
            <a:ext cx="3124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 географии выполнила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итель Владимерец Екатерина Александровна МБОУ СОШ №20 г. Красно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362320" y="2743200"/>
            <a:ext cx="396216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4114800" cy="6377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386240" cy="333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2" descr=""/>
          <p:cNvPicPr/>
          <p:nvPr/>
        </p:nvPicPr>
        <p:blipFill>
          <a:blip r:embed="rId2"/>
          <a:stretch/>
        </p:blipFill>
        <p:spPr>
          <a:xfrm>
            <a:off x="365040" y="1542960"/>
            <a:ext cx="8321760" cy="4595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534520" cy="434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396252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 3" descr=""/>
          <p:cNvPicPr/>
          <p:nvPr/>
        </p:nvPicPr>
        <p:blipFill>
          <a:blip r:embed="rId2"/>
          <a:stretch/>
        </p:blipFill>
        <p:spPr>
          <a:xfrm>
            <a:off x="5943600" y="6272280"/>
            <a:ext cx="1981080" cy="585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2" descr=""/>
          <p:cNvPicPr/>
          <p:nvPr/>
        </p:nvPicPr>
        <p:blipFill>
          <a:blip r:embed="rId3"/>
          <a:stretch/>
        </p:blipFill>
        <p:spPr>
          <a:xfrm>
            <a:off x="268200" y="573120"/>
            <a:ext cx="4310280" cy="3846600"/>
          </a:xfrm>
          <a:prstGeom prst="rect">
            <a:avLst/>
          </a:prstGeom>
          <a:ln w="0">
            <a:noFill/>
          </a:ln>
        </p:spPr>
      </p:pic>
      <p:pic>
        <p:nvPicPr>
          <p:cNvPr id="55" name="Текст 4" descr=""/>
          <p:cNvPicPr/>
          <p:nvPr/>
        </p:nvPicPr>
        <p:blipFill>
          <a:blip r:embed="rId4"/>
          <a:stretch/>
        </p:blipFill>
        <p:spPr>
          <a:xfrm>
            <a:off x="5413320" y="2962440"/>
            <a:ext cx="3084480" cy="5666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"/>
          <p:cNvPicPr/>
          <p:nvPr/>
        </p:nvPicPr>
        <p:blipFill>
          <a:blip r:embed="rId5"/>
          <a:stretch/>
        </p:blipFill>
        <p:spPr>
          <a:xfrm>
            <a:off x="993600" y="4164120"/>
            <a:ext cx="2176560" cy="57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6"/>
          <a:stretch/>
        </p:blipFill>
        <p:spPr>
          <a:xfrm>
            <a:off x="5181480" y="304920"/>
            <a:ext cx="3743280" cy="25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7"/>
          <a:stretch/>
        </p:blipFill>
        <p:spPr>
          <a:xfrm>
            <a:off x="762120" y="4648320"/>
            <a:ext cx="309384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8"/>
          <a:stretch/>
        </p:blipFill>
        <p:spPr>
          <a:xfrm>
            <a:off x="5181480" y="3962520"/>
            <a:ext cx="3353040" cy="229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700600" cy="3962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23880" y="-85680"/>
            <a:ext cx="50292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Вход в Диснейле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685800"/>
            <a:ext cx="404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оятный парк для детей и взрослых находится в 32 км от Парижа, столицы Франции. Сюда ежегодно приезжают люди со всех уголков земного шара. Очутившись здесь один раз, вам захочется возвращаться сюда снова и снова, не зависимо от вашего возраста, ведь в глубине души мы хоть немного, но остаемся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86040" y="6435360"/>
            <a:ext cx="2746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stral"/>
              </a:rPr>
              <a:t>Главная у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38320" y="3276720"/>
            <a:ext cx="2133720" cy="3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иснейлен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3262320" cy="245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338148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4876920" y="6094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5791320" cy="131616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2" descr=""/>
          <p:cNvPicPr/>
          <p:nvPr/>
        </p:nvPicPr>
        <p:blipFill>
          <a:blip r:embed="rId2"/>
          <a:stretch/>
        </p:blipFill>
        <p:spPr>
          <a:xfrm>
            <a:off x="146160" y="1170000"/>
            <a:ext cx="5999040" cy="553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3860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86064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419720" y="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0" y="289548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4927680" y="3505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312408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6"/>
          <a:stretch/>
        </p:blipFill>
        <p:spPr>
          <a:xfrm>
            <a:off x="5181480" y="1905120"/>
            <a:ext cx="3738600" cy="27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7"/>
          <a:stretch/>
        </p:blipFill>
        <p:spPr>
          <a:xfrm>
            <a:off x="15228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8"/>
          <a:stretch/>
        </p:blipFill>
        <p:spPr>
          <a:xfrm>
            <a:off x="380880" y="384804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9"/>
          <a:stretch/>
        </p:blipFill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0"/>
          <a:stretch/>
        </p:blipFill>
        <p:spPr>
          <a:xfrm>
            <a:off x="441972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11"/>
          <a:stretch/>
        </p:blipFill>
        <p:spPr>
          <a:xfrm>
            <a:off x="2362320" y="3009960"/>
            <a:ext cx="5130720" cy="38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2"/>
          <a:stretch/>
        </p:blipFill>
        <p:spPr>
          <a:xfrm>
            <a:off x="990720" y="1066680"/>
            <a:ext cx="4647960" cy="348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13"/>
          <a:stretch/>
        </p:blipFill>
        <p:spPr>
          <a:xfrm>
            <a:off x="990720" y="762120"/>
            <a:ext cx="7619760" cy="567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2:57:40Z</dcterms:created>
  <dc:creator>User</dc:creator>
  <dc:description/>
  <dc:language>en-US</dc:language>
  <cp:lastModifiedBy>Admin</cp:lastModifiedBy>
  <dcterms:modified xsi:type="dcterms:W3CDTF">2014-01-19T15:24:19Z</dcterms:modified>
  <cp:revision>18</cp:revision>
  <dc:subject/>
  <dc:title>Презентация по географии Ученицы 7 А класса Мзыкян Н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80000000000010250300207f7000400038000</vt:lpwstr>
  </property>
</Properties>
</file>