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795-939E-471F-90D4-DEBA58D2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C68-CB1E-409F-AACF-83DE8D17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8688-2A0E-462F-B6F9-D29F0B62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F90-3BEB-4F11-BA24-B31755A6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3194B-0534-455F-B962-7F11C894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EF9E2-5C6A-4883-BB13-01B81E04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BBFB8-F1EB-438E-993B-856BBDD9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D30B0-E9D1-45D8-A889-DFAC73F1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E4BC0-8EE5-4B28-A90F-7A554C92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8EF6C-C881-46D9-9996-D399E3DF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7B2C4-8457-44BB-B401-2A0CD48B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037-26D8-47C9-8238-3B2D24C3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05C82-5478-4274-A763-0A69D35B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C82A3-2B41-4041-8682-00A5B153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41162-E868-4CAE-B819-353BF22D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CF594-AD7C-49D8-AEDE-91D12D6A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FF144-4A0F-48D1-90C4-220C84A8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376-E7BC-4B1F-B902-DFAFC1DD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2C6-80AA-4A14-A12C-0817E112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461-03FD-4B23-9FA6-28843A45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251-BFB8-456F-BEB5-34247288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B88-F07E-44CF-B0B3-76FE8B2F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7EFB-43FE-43D8-8472-1B17C9E7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22C-D021-4886-9EBB-24489EF7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5337-AD4A-4D3D-BAF1-2112A532D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788C-357B-422F-B9F0-DEEB3FCD5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ауна Москв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23456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81440" cy="313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211640" y="0"/>
            <a:ext cx="4932360" cy="3701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492360" y="3048120"/>
            <a:ext cx="2286000" cy="3809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V="1" rot="10479000">
            <a:off x="168120" y="360540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Белка обыкновенная. Длина тела 19,5 – 28 см, хвоста – 13-19, вес – 250-24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10769400">
            <a:off x="539640" y="56599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Заяц-русак. Длина тела – 57-68 см, масса – 4-6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 rot="10401000">
            <a:off x="5940360" y="37216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Еж обыкновенный. Длина тела – 20-30 см, масса 700-80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5538960" cy="4160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 rot="10769400">
            <a:off x="250560" y="2211840"/>
            <a:ext cx="29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Длина тела до 3 метров, высота – 2,3 м, масса – 360-600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0769400">
            <a:off x="2630160" y="59760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Хозяин Лосиного остр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4221000"/>
            <a:ext cx="30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Молоко лося в 3-4 раза жирнее коровь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За день лось проходит 10-15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548316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Самый крупный хищник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544464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Длина тела 60—90 см, хвоста — 40—60 с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масса — 6—10 к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42920" y="458100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Летучая мышь имеет длину тела 3-14 см и обладает способностью к эхолок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олотный лун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7760" y="1844640"/>
            <a:ext cx="3747960" cy="3816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3640" y="2558160"/>
            <a:ext cx="25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Общая длина 49—60 см, масса 500—750 г, длина крыла 36—43 см, размах крыльев 110—140 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екас и вальдшне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40208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2619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ивотные, занесенные в Красную книг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2619360" cy="1943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435640" y="2060640"/>
            <a:ext cx="2619360" cy="1752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55640" y="4292640"/>
            <a:ext cx="2619360" cy="2238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203640" y="2205000"/>
            <a:ext cx="2492280" cy="1870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219640" y="4149720"/>
            <a:ext cx="35449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20:40:55Z</dcterms:created>
  <dc:creator>www.PHILka.RU</dc:creator>
  <dc:description/>
  <dc:language>en-US</dc:language>
  <cp:lastModifiedBy>www.PHILka.RU</cp:lastModifiedBy>
  <dcterms:modified xsi:type="dcterms:W3CDTF">2011-09-23T20:43:38Z</dcterms:modified>
  <cp:revision>3</cp:revision>
  <dc:subject/>
  <dc:title>Фауна Москв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90000000000010250300207f7000400038000</vt:lpwstr>
  </property>
</Properties>
</file>