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9C56-99C1-4CB5-9AEE-824F651F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43D-C930-413D-AA94-D1D3B6E0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69A-D5EA-4137-8AA0-F8ADBF45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3E4-A28F-4CFA-ADF5-220E9A75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F469C-AD4F-4A14-9E30-94F22ADC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79DA9-2567-4471-B414-3FC4D6B5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D59DA-4621-490F-B7E5-10823393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C7330-2B7D-4DC4-A5D7-50679B8F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96A68-95CC-4339-B26D-A9ED66C0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764D8-9D0A-4F23-AC17-87FDA5AE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70C50-EC77-475C-ADCD-4FE0C3EF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752-57DD-434D-8AF3-3465F65B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8BC18-BBE8-44A9-BEA8-AD5283F5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58AF6-0F21-4034-ADA5-6B55111F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44F79-7F49-4D04-BFBC-2D729537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5398B-2DAB-4F85-A398-C8484D9B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4858E-0288-479E-A5F8-EA4A5769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1F3-ADFA-44B0-B20C-F6BD75A4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9AB-2D55-47C3-A4E9-0AB1C304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06C-D723-4583-BA8D-A3B9F711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7CA6-2F7C-445F-8D5B-61DE9C5A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95A8-AC3A-4F84-A598-67E70AE1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956-6913-4217-81AB-5FD56C6F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F12-A5FE-4692-91FF-7CAF21AC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FD8C-6DC1-42DC-B048-CDFF5B7F3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83F8-E4D4-448E-9D06-4F01FB955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ауна Москв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23456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81440" cy="313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211640" y="0"/>
            <a:ext cx="4932360" cy="3701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492360" y="3048120"/>
            <a:ext cx="2286000" cy="3809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V="1" rot="10479000">
            <a:off x="168120" y="360540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Белка обыкновенная. Длина тела 19,5 – 28 см, хвоста – 13-19, вес – 250-24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10769400">
            <a:off x="539640" y="56599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Заяц-русак. Длина тела – 57-68 см, масса – 4-6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 rot="10401000">
            <a:off x="5940360" y="37216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Еж обыкновенный. Длина тела – 20-30 см, масса 700-80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5538960" cy="4160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 rot="10769400">
            <a:off x="250560" y="2211840"/>
            <a:ext cx="29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Длина тела до 3 метров, высота – 2,3 м, масса – 360-600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0769400">
            <a:off x="2630160" y="59760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Хозяин Лосиного остр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4221000"/>
            <a:ext cx="30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Молоко лося в 3-4 раза жирнее коровь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За день лось проходит 10-15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548316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Самый крупный хищник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544464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Длина тела 60—90 см, хвоста — 40—60 с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масса — 6—10 к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42920" y="458100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Летучая мышь имеет длину тела 3-14 см и обладает способностью к эхолок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олотный лун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7760" y="1844640"/>
            <a:ext cx="3747960" cy="3816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3640" y="2558160"/>
            <a:ext cx="25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Общая длина 49—60 см, масса 500—750 г, длина крыла 36—43 см, размах крыльев 110—140 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екас и вальдшне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40208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2619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ивотные, занесенные в Красную книг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2619360" cy="1943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435640" y="2060640"/>
            <a:ext cx="2619360" cy="1752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55640" y="4292640"/>
            <a:ext cx="2619360" cy="2238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203640" y="2205000"/>
            <a:ext cx="2492280" cy="1870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219640" y="4149720"/>
            <a:ext cx="35449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20:40:55Z</dcterms:created>
  <dc:creator>www.PHILka.RU</dc:creator>
  <dc:description/>
  <dc:language>en-US</dc:language>
  <cp:lastModifiedBy>www.PHILka.RU</cp:lastModifiedBy>
  <dcterms:modified xsi:type="dcterms:W3CDTF">2011-09-23T20:43:38Z</dcterms:modified>
  <cp:revision>3</cp:revision>
  <dc:subject/>
  <dc:title>Фауна Москв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90000000000010250300207f7000400038000</vt:lpwstr>
  </property>
</Properties>
</file>