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8BA-636B-4C26-BFA5-F0FC9A53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173-D490-475A-8885-BEBA4B7B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9EE-DAF5-45AB-9EB3-B5227218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473-6222-46A7-B7A5-375C0347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5EE92-17E9-42C4-9C03-1A62634D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2A5E3-18F3-4F0C-90A9-045C1CDB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B9D91-64AB-4E02-B783-164509D0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F2E19-DC29-4358-A7B2-DBE7E943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5E182-BDD4-4671-A512-F5C537FE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0C71E-FCBE-47E6-865D-947D075D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E4EF6-F4C2-41BA-934A-303E5234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7BF-BD8E-4A6C-AEBA-A1FFAC8A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7EFF5-52E2-4220-AB4B-6EF1E78B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C5CBB-A8D8-410B-B1D4-03B30D14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32196-ED42-4598-AE30-0AA6CFB9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67B5A-96A4-4A66-86BA-85225FFD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2C52F-6C89-4C52-A143-03050A47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42D-34F8-4D1C-B1F9-F3B4EEFE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4B5-C379-4EA0-8499-5F470407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719-25D5-4CD4-96FB-156C54A5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695-4D5D-44B8-B865-4A2D8D70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4B9-7EAE-42F1-9486-CDEF129A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DD3-298B-414E-A9B4-8A0AF83B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D8F-8E92-4DFF-A919-B61286F2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54A9-DEF6-4981-8766-558A1B0D1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044D-775E-41A3-8F94-FC6E0DB01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ауна Москв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23456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81440" cy="313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3701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492360" y="304812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V="1" rot="10479000">
            <a:off x="168120" y="360540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Белка обыкновенная. Длина тела 19,5 – 28 см, хвоста – 13-19, вес – 250-24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0769400">
            <a:off x="539640" y="56599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Заяц-русак. Длина тела – 57-68 см, масса – 4-6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 rot="10401000">
            <a:off x="5940360" y="37216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Еж обыкновенный. Длина тела – 20-30 см, масса 700-80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5538960" cy="4160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 rot="10769400">
            <a:off x="250560" y="2211840"/>
            <a:ext cx="29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лина тела до 3 метров, высота – 2,3 м, масса – 360-600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0769400">
            <a:off x="2630160" y="59760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Хозяин Лосиного остр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4221000"/>
            <a:ext cx="30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олоко лося в 3-4 раза жирнее коровь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За день лось проходит 10-15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54831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Самый крупный хищник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544464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лина тела 60—90 см, хвоста — 40—60 с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асса — 6—10 к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42920" y="458100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Летучая мышь имеет длину тела 3-14 см и обладает способностью к эхолок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олотный лу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7760" y="1844640"/>
            <a:ext cx="3747960" cy="3816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3640" y="2558160"/>
            <a:ext cx="25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Общая длина 49—60 см, масса 500—750 г, длина крыла 36—43 см, размах крыльев 110—140 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екас и вальдшне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40208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2619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ивотные, занесенные в Красную книг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2619360" cy="1943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435640" y="2060640"/>
            <a:ext cx="2619360" cy="1752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55640" y="4292640"/>
            <a:ext cx="2619360" cy="2238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203640" y="2205000"/>
            <a:ext cx="2492280" cy="1870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219640" y="4149720"/>
            <a:ext cx="35449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20:40:55Z</dcterms:created>
  <dc:creator>www.PHILka.RU</dc:creator>
  <dc:description/>
  <dc:language>en-US</dc:language>
  <cp:lastModifiedBy>www.PHILka.RU</cp:lastModifiedBy>
  <dcterms:modified xsi:type="dcterms:W3CDTF">2011-09-23T20:43:38Z</dcterms:modified>
  <cp:revision>3</cp:revision>
  <dc:subject/>
  <dc:title>Фауна Москв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90000000000010250300207f7000400038000</vt:lpwstr>
  </property>
</Properties>
</file>