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EC3-6123-48FC-9FD6-8712E56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3A2-0F9A-4A25-9F75-3AD40CA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D3E-1B9F-4C78-9130-A3278E04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3A8-D642-44BD-B285-C07BDA01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AD5-9156-4ECF-B8C8-A4A59E26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367-4D3C-46E2-841B-E20AEA1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364-A8F0-4302-AE11-C34730A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36E-DF3E-4F3D-9714-798F343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7FB-C3E3-4423-AD99-EE351A64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CCB-BBE4-444C-9483-5D434EF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8FE-C135-4DE3-93F9-6F48CF9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A11-1F7F-40F9-88D1-462DA8C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9808-8612-413F-B243-836A5907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48607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6162840" y="765000"/>
            <a:ext cx="1029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1467000"/>
            <a:ext cx="3994200" cy="1310760"/>
          </a:xfrm>
          <a:prstGeom prst="rect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́ция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faci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ицо, обл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геологии этим термином характеризуются физико-географические условия или обстановка, отраженные в осад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13440" y="3938400"/>
            <a:ext cx="3995640" cy="14655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и выделяют по типам обстановок осадконакопления, по составу осадков, по стадиям изменения пород, по органическим остат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81360" y="260280"/>
            <a:ext cx="38595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ЦИА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248360" cy="318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067280" y="3032280"/>
            <a:ext cx="4932360" cy="370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4280040" cy="320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79280" y="3541680"/>
            <a:ext cx="4176720" cy="31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33840" y="79200"/>
            <a:ext cx="3815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е соли в современном оз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10320" y="11592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602240" cy="345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635280" y="2825640"/>
            <a:ext cx="5316480" cy="3988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3384720" cy="25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5083560" y="981000"/>
            <a:ext cx="3672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ыча каменной соли в шах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0" y="6453360"/>
            <a:ext cx="3734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ль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4741920" cy="35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9280" y="73080"/>
            <a:ext cx="4464000" cy="350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859280" y="146160"/>
            <a:ext cx="4000680" cy="256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5438160" y="2349360"/>
            <a:ext cx="30931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ипс, озеро Лефрой (Австра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4040" y="189000"/>
            <a:ext cx="5218920" cy="33732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лководная фация, жаркий засушливый 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50920" y="3781440"/>
            <a:ext cx="3889440" cy="291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060360" y="6453360"/>
            <a:ext cx="3750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п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з отложений пермск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58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24360" y="2448000"/>
            <a:ext cx="5062320" cy="424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782520" y="333360"/>
            <a:ext cx="536544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, оставшиеся от растворённых кристаллов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поверхностях напластования осадочных долом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227160"/>
            <a:ext cx="5689440" cy="420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84720" y="3208320"/>
            <a:ext cx="4684680" cy="34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0" y="100080"/>
            <a:ext cx="9144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ы дендритовидных сростков гипса на поверхности напластования осадочного долом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000" y="5661000"/>
            <a:ext cx="42408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устоты от кристаллов растворенного гип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олненные вторичным халцедо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195640" y="2548080"/>
            <a:ext cx="6825960" cy="41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176720" cy="341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4500720" y="693720"/>
            <a:ext cx="4572000" cy="8240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ая фация: раковины двустворок частично сломаны; совместно с ними захоронен фрагмент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16000" y="1387440"/>
            <a:ext cx="7905600" cy="5283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4680000" cy="38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2567160" y="24840"/>
            <a:ext cx="6589080" cy="5198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щины усыха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образуются при высыхании и уплотнении пропитан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дой глинистого или карбонатного 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63200" y="6573960"/>
            <a:ext cx="1852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ые (такы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076640"/>
            <a:ext cx="485928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поверхности слоя мергеля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93240" y="692280"/>
            <a:ext cx="461412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идетельствуют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ушении участков исследуемого палеобассей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416720" cy="556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0" y="30240"/>
            <a:ext cx="9144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гая и косая слоистость свидетельствуют о резкой смене движения воды или ветра в процессе осаждения материал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92280"/>
            <a:ext cx="9144000" cy="45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Характер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для отложений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 руслах ре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зонах подводных тече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рибрежных частях водных бассейно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устынных условия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6480" y="6453360"/>
            <a:ext cx="2722680" cy="276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плекс верхнепермски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04000" cy="645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3280680" y="4762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ая слоис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35960" cy="640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408760" y="189000"/>
            <a:ext cx="446760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сая слоистость в верхнепермских доломи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2040"/>
            <a:ext cx="9144000" cy="1067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геологии существует 2 толкования этого термин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это обстановка осадконакопления (современная или древняя), овеществленная в осадке или п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- это порода, возникшая в определённой обстановке осадконако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71520"/>
            <a:ext cx="914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ции, составляющие толщу одновозрастных пород в пределах изучаемой площади распространения, могут быть различ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6360" y="1844640"/>
            <a:ext cx="9223560" cy="4319640"/>
            <a:chOff x="-36360" y="1844640"/>
            <a:chExt cx="9223560" cy="4319640"/>
          </a:xfrm>
        </p:grpSpPr>
        <p:sp>
          <p:nvSpPr>
            <p:cNvPr id="49" name=""/>
            <p:cNvSpPr/>
            <p:nvPr/>
          </p:nvSpPr>
          <p:spPr>
            <a:xfrm>
              <a:off x="0" y="1844640"/>
              <a:ext cx="9144000" cy="165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5c9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.  .  .  .  .  .  .  .  .  .  .  .  .  .  .  .  .  .  .  .  .  .  .  .  .  .  .  .  .  .  .  .  .  .  .  .  .  .  .  .  .  .  .  .  .  .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500640"/>
              <a:ext cx="9144000" cy="17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2000" y="191628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72360" y="227664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5964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64000" y="2132280"/>
              <a:ext cx="32076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8360" y="1844640"/>
              <a:ext cx="22536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04960" y="2067120"/>
              <a:ext cx="200160" cy="150840"/>
            </a:xfrm>
            <a:custGeom>
              <a:avLst/>
              <a:gdLst/>
              <a:ahLst/>
              <a:rect l="l" t="t" r="r" b="b"/>
              <a:pathLst>
                <a:path w="126" h="95">
                  <a:moveTo>
                    <a:pt x="109" y="0"/>
                  </a:moveTo>
                  <a:cubicBezTo>
                    <a:pt x="75" y="6"/>
                    <a:pt x="50" y="9"/>
                    <a:pt x="21" y="29"/>
                  </a:cubicBezTo>
                  <a:cubicBezTo>
                    <a:pt x="0" y="95"/>
                    <a:pt x="43" y="71"/>
                    <a:pt x="109" y="66"/>
                  </a:cubicBezTo>
                  <a:cubicBezTo>
                    <a:pt x="126" y="39"/>
                    <a:pt x="123" y="28"/>
                    <a:pt x="109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916360" y="1916280"/>
              <a:ext cx="320400" cy="139680"/>
            </a:xfrm>
            <a:custGeom>
              <a:avLst/>
              <a:gdLst/>
              <a:ahLst/>
              <a:rect l="l" t="t" r="r" b="b"/>
              <a:pathLst>
                <a:path w="202" h="88">
                  <a:moveTo>
                    <a:pt x="113" y="0"/>
                  </a:moveTo>
                  <a:cubicBezTo>
                    <a:pt x="84" y="2"/>
                    <a:pt x="54" y="1"/>
                    <a:pt x="25" y="7"/>
                  </a:cubicBezTo>
                  <a:cubicBezTo>
                    <a:pt x="16" y="9"/>
                    <a:pt x="5" y="13"/>
                    <a:pt x="3" y="22"/>
                  </a:cubicBezTo>
                  <a:cubicBezTo>
                    <a:pt x="0" y="36"/>
                    <a:pt x="1" y="54"/>
                    <a:pt x="11" y="65"/>
                  </a:cubicBezTo>
                  <a:cubicBezTo>
                    <a:pt x="21" y="76"/>
                    <a:pt x="40" y="75"/>
                    <a:pt x="54" y="80"/>
                  </a:cubicBezTo>
                  <a:cubicBezTo>
                    <a:pt x="61" y="82"/>
                    <a:pt x="76" y="87"/>
                    <a:pt x="76" y="87"/>
                  </a:cubicBezTo>
                  <a:cubicBezTo>
                    <a:pt x="110" y="85"/>
                    <a:pt x="145" y="88"/>
                    <a:pt x="178" y="80"/>
                  </a:cubicBezTo>
                  <a:cubicBezTo>
                    <a:pt x="202" y="74"/>
                    <a:pt x="192" y="47"/>
                    <a:pt x="186" y="36"/>
                  </a:cubicBezTo>
                  <a:cubicBezTo>
                    <a:pt x="171" y="6"/>
                    <a:pt x="144" y="0"/>
                    <a:pt x="113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16360" y="1844640"/>
              <a:ext cx="432000" cy="22572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06" y="10"/>
                  </a:moveTo>
                  <a:cubicBezTo>
                    <a:pt x="66" y="19"/>
                    <a:pt x="54" y="25"/>
                    <a:pt x="26" y="54"/>
                  </a:cubicBezTo>
                  <a:cubicBezTo>
                    <a:pt x="0" y="125"/>
                    <a:pt x="22" y="127"/>
                    <a:pt x="77" y="142"/>
                  </a:cubicBezTo>
                  <a:cubicBezTo>
                    <a:pt x="138" y="128"/>
                    <a:pt x="142" y="104"/>
                    <a:pt x="120" y="32"/>
                  </a:cubicBezTo>
                  <a:cubicBezTo>
                    <a:pt x="110" y="0"/>
                    <a:pt x="88" y="31"/>
                    <a:pt x="106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8000" y="220356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191628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56360" y="1844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0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4360" y="2132280"/>
              <a:ext cx="18720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03640" y="2203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01080" y="1987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4000" y="1916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24360" y="2132280"/>
              <a:ext cx="187560" cy="10764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0360" y="1987560"/>
              <a:ext cx="18756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191628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67640" y="2132280"/>
              <a:ext cx="187200" cy="16488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84720" y="2060640"/>
              <a:ext cx="18756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1280" y="206064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87" y="10"/>
                  </a:moveTo>
                  <a:cubicBezTo>
                    <a:pt x="55" y="0"/>
                    <a:pt x="31" y="9"/>
                    <a:pt x="0" y="18"/>
                  </a:cubicBezTo>
                  <a:cubicBezTo>
                    <a:pt x="10" y="104"/>
                    <a:pt x="6" y="86"/>
                    <a:pt x="94" y="76"/>
                  </a:cubicBezTo>
                  <a:cubicBezTo>
                    <a:pt x="109" y="55"/>
                    <a:pt x="118" y="53"/>
                    <a:pt x="102" y="25"/>
                  </a:cubicBezTo>
                  <a:cubicBezTo>
                    <a:pt x="97" y="16"/>
                    <a:pt x="87" y="10"/>
                    <a:pt x="80" y="3"/>
                  </a:cubicBezTo>
                  <a:cubicBezTo>
                    <a:pt x="78" y="1"/>
                    <a:pt x="85" y="8"/>
                    <a:pt x="87" y="1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360" y="2203560"/>
              <a:ext cx="187200" cy="108000"/>
            </a:xfrm>
            <a:custGeom>
              <a:avLst/>
              <a:gdLst/>
              <a:ahLst/>
              <a:rect l="l" t="t" r="r" b="b"/>
              <a:pathLst>
                <a:path w="118" h="68">
                  <a:moveTo>
                    <a:pt x="118" y="3"/>
                  </a:moveTo>
                  <a:cubicBezTo>
                    <a:pt x="98" y="5"/>
                    <a:pt x="0" y="0"/>
                    <a:pt x="38" y="54"/>
                  </a:cubicBezTo>
                  <a:cubicBezTo>
                    <a:pt x="43" y="61"/>
                    <a:pt x="53" y="63"/>
                    <a:pt x="60" y="68"/>
                  </a:cubicBezTo>
                  <a:cubicBezTo>
                    <a:pt x="103" y="58"/>
                    <a:pt x="93" y="43"/>
                    <a:pt x="118" y="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1440" y="1893960"/>
              <a:ext cx="40932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72360" y="1916280"/>
              <a:ext cx="40932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8720" y="1844640"/>
              <a:ext cx="40968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64000" y="1844640"/>
              <a:ext cx="554040" cy="28908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8360" y="2132280"/>
              <a:ext cx="287280" cy="28872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32720" y="1916280"/>
              <a:ext cx="552600" cy="217440"/>
            </a:xfrm>
            <a:custGeom>
              <a:avLst/>
              <a:gdLst/>
              <a:ahLst/>
              <a:rect l="l" t="t" r="r" b="b"/>
              <a:pathLst>
                <a:path w="258" h="182">
                  <a:moveTo>
                    <a:pt x="153" y="13"/>
                  </a:moveTo>
                  <a:cubicBezTo>
                    <a:pt x="77" y="18"/>
                    <a:pt x="57" y="14"/>
                    <a:pt x="0" y="35"/>
                  </a:cubicBezTo>
                  <a:cubicBezTo>
                    <a:pt x="8" y="85"/>
                    <a:pt x="17" y="106"/>
                    <a:pt x="66" y="122"/>
                  </a:cubicBezTo>
                  <a:cubicBezTo>
                    <a:pt x="104" y="182"/>
                    <a:pt x="189" y="158"/>
                    <a:pt x="241" y="122"/>
                  </a:cubicBezTo>
                  <a:cubicBezTo>
                    <a:pt x="246" y="107"/>
                    <a:pt x="250" y="93"/>
                    <a:pt x="255" y="78"/>
                  </a:cubicBezTo>
                  <a:cubicBezTo>
                    <a:pt x="258" y="68"/>
                    <a:pt x="241" y="63"/>
                    <a:pt x="233" y="57"/>
                  </a:cubicBezTo>
                  <a:cubicBezTo>
                    <a:pt x="211" y="39"/>
                    <a:pt x="187" y="34"/>
                    <a:pt x="160" y="27"/>
                  </a:cubicBezTo>
                  <a:cubicBezTo>
                    <a:pt x="144" y="3"/>
                    <a:pt x="140" y="0"/>
                    <a:pt x="153" y="1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9800" y="2924280"/>
              <a:ext cx="52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068640"/>
              <a:ext cx="915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284640"/>
              <a:ext cx="914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36360" y="3429000"/>
              <a:ext cx="92167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 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787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076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364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6530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940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0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429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35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272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11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364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72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01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3080" y="350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25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4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69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9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51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328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3564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56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836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0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32720" y="37879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29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35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72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1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436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16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0872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1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3080" y="4076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25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74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69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59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3564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40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32720" y="4364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429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272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19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0364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2436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872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1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3080" y="465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25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4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69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9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1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328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564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56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40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494028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3716280"/>
              <a:ext cx="65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28000" y="4795920"/>
              <a:ext cx="360360" cy="3603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6596400">
              <a:off x="7858440" y="4964760"/>
              <a:ext cx="73080" cy="4557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443800">
              <a:off x="777528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01080" y="5156280"/>
              <a:ext cx="216000" cy="57456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3955200">
              <a:off x="8064720" y="5840280"/>
              <a:ext cx="57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6596400">
              <a:off x="8434800" y="5181120"/>
              <a:ext cx="73080" cy="45540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12000" y="6093000"/>
              <a:ext cx="21600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4000" y="6093000"/>
              <a:ext cx="215640" cy="71280"/>
            </a:xfrm>
            <a:prstGeom prst="ellipse">
              <a:avLst/>
            </a:prstGeom>
            <a:solidFill>
              <a:srgbClr val="e5c98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284720" y="5661000"/>
              <a:ext cx="352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26360" y="5680080"/>
              <a:ext cx="214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стирание сло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5280" y="1987200"/>
              <a:ext cx="0" cy="3457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58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33440" y="522936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Смена фац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095640" cy="2063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6200000">
            <a:off x="-2423880" y="3199680"/>
            <a:ext cx="518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мена фаций по вертикали (вкрест простир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5680" y="6524640"/>
            <a:ext cx="33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ределение элементов залег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73080"/>
            <a:ext cx="5002200" cy="666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5292720" y="28440"/>
            <a:ext cx="3773520" cy="17398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ералом-индикатором морской среды является глинистый минерал глауконит, а его окраска указывает на определенные интервалы глуб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1942200"/>
            <a:ext cx="3851280" cy="11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ние глубины образования современного глауконита от 20 до 150 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но вероятно образование на глубинах 10— 20 м при наличии изверженных пород и 200-400 м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3290400"/>
            <a:ext cx="3851280" cy="307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песчаных фаций обычно ассоциирует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лководны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бстановками, часто с фосфоритами. Он крупнозернистый и темно-зеленого цвет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боле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глубоковод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алевритовых глин имее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лто-зеленый цвет и более мелкозернист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уконит карбонатных монтморилонитовых пелитовых глин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дает весьма слабой зеленовато-желтой окраской («бесцветный»), ещ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тонкозернист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6381720"/>
            <a:ext cx="34401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хнепермские от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0920" y="152280"/>
            <a:ext cx="4897440" cy="366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348000" y="2367000"/>
            <a:ext cx="5576760" cy="41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4655520" y="189000"/>
            <a:ext cx="4298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бонатные ф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шельфовый скл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981000"/>
            <a:ext cx="3087000" cy="5806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огермная по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ерхнепермских известня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2720" y="3860640"/>
            <a:ext cx="30124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ебли криноидей захорон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рижизненном полож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79280" y="4508640"/>
            <a:ext cx="2952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15920"/>
            <a:ext cx="9144000" cy="51984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носительно глубоководная ф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отсутствуют фоссилии зеленых водорослей, вмещающие породы кремнистого соста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2080" y="6543720"/>
            <a:ext cx="721692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аменелости в прижизненном положении псевдоморфно замещены кварц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176720" cy="305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03640" y="765000"/>
            <a:ext cx="2808360" cy="277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3240360" cy="2809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084720" y="765000"/>
            <a:ext cx="2876760" cy="28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427640" y="3641760"/>
            <a:ext cx="4532040" cy="281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15920"/>
            <a:ext cx="91440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арактер расположения органических остатков на поверхности напластования осадка или осадочных п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2920" y="1052640"/>
            <a:ext cx="46818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упорядоченное скопление фоссилий без сортировки по размеру свидетельствует о быстром захоронении в спокойной водной обстанов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4032360" cy="360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22400"/>
            <a:ext cx="9144000" cy="131076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ателем быстрого и значительного накопления осадков может являться чрезвычайная бедность или отсутствие донных организмов. На высокую скорость накопления осадков указывает сохранение неразрозненных створок раковин незарывающихся пелеципод, прижизненные нарастания организмов и отчетливое сохранение следов животных на рыхлом д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1406520"/>
            <a:ext cx="4608360" cy="4179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492360" y="2286000"/>
            <a:ext cx="5384880" cy="433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74160"/>
            <a:ext cx="9144000" cy="122004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ые органические остатки могут играть ключевую роль при установлени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береговой лин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древнего водоема. Так, она может быть отмечена валами песка, гравия и гальки с перебитыми и окатанными ракуш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огда указанием на древнюю береговую линию служат специфические "мостовые" из закономерно ориентированных раковин и других остатков организм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51964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4487760" cy="336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3995640" y="3225960"/>
            <a:ext cx="4753080" cy="3555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7120" y="4653000"/>
            <a:ext cx="41734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ременное берегов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3360" y="6524640"/>
            <a:ext cx="305208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ое скопление раков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463320"/>
            <a:ext cx="914400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воздействием течений створки и части скелетов обычно разъединяются, разбиваются, истираются и шлифуются. Так, в прибрежной полосе, где существенная роль принадлежит волнению, раковины в значительной мере раздроблены и окатаны, скульптура часто бывает совершенно сглажена. По ориентировке раковин судят о направлении течения: например, конические раковины гастропод, тентакулит и других организмов при отсутствии во время их переноса трения о дно ориентируются основанием против т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17000" y="28440"/>
            <a:ext cx="1936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ы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6337080" cy="41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443640" y="2852640"/>
            <a:ext cx="2482920" cy="302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032360" cy="287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427640" y="836640"/>
            <a:ext cx="451620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0" y="28440"/>
            <a:ext cx="9144000" cy="5202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ические раковины тентакулитов и ростры белемнитов при отсутствии во время их переноса трения о дно ориентируются основанием против течения подобно брёвнам при спла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3809880" cy="2857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253440" y="3141720"/>
            <a:ext cx="20156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евой сплав л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8320" y="6381720"/>
            <a:ext cx="198072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9240" y="6381720"/>
            <a:ext cx="2323440" cy="3070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тентакули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23156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4280" y="40860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907920"/>
          <a:ext cx="9144000" cy="5861160"/>
        </p:xfrm>
        <a:graphic>
          <a:graphicData uri="http://schemas.openxmlformats.org/drawingml/2006/table">
            <a:tbl>
              <a:tblPr/>
              <a:tblGrid>
                <a:gridCol w="1627200"/>
                <a:gridCol w="1811520"/>
                <a:gridCol w="1369800"/>
                <a:gridCol w="1658880"/>
                <a:gridCol w="2676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ветривание на месте залег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ы выветривания (каолиновые глины с обломками коренных пор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ены за счет оксидов и гидрооксид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дождевыми и талыми вод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омочный материал слабо окатанный, шлейф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клонах и у поднож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 подножий г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ейф глыб и щеб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одножий г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еремещение реками с возвышеност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ечники, конгломераты, песчано-глинистые пор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речн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ы и эсту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юв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ормирование, перемещение и отложение постоянными и временными водотоками в речных долин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генные обломо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слоист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ительные остатки, раковины моллюс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упнение отложений вниз по разре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24280" y="119880"/>
            <a:ext cx="3605040" cy="368280"/>
          </a:xfrm>
          <a:prstGeom prst="rect">
            <a:avLst/>
          </a:prstGeom>
          <a:solidFill>
            <a:srgbClr val="fff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ИНЕНТАЛЬНЫЕ 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76280"/>
            <a:ext cx="9144000" cy="6064200"/>
            <a:chOff x="0" y="476280"/>
            <a:chExt cx="9144000" cy="6064200"/>
          </a:xfrm>
        </p:grpSpPr>
        <p:sp>
          <p:nvSpPr>
            <p:cNvPr id="301" name=""/>
            <p:cNvSpPr/>
            <p:nvPr/>
          </p:nvSpPr>
          <p:spPr>
            <a:xfrm>
              <a:off x="6467400" y="5599080"/>
              <a:ext cx="26766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известковых стяж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8520" y="5599080"/>
              <a:ext cx="165888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ктер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8360" y="5599080"/>
              <a:ext cx="1370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 ленточного ти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27200" y="5599080"/>
              <a:ext cx="181116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инисто-алевритовые с песчаниками в краевых зо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5599080"/>
              <a:ext cx="1627200" cy="94140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о-ледников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67400" y="4959360"/>
              <a:ext cx="26766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охая оката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8520" y="4959360"/>
              <a:ext cx="165888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38360" y="4959360"/>
              <a:ext cx="1370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ая 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7200" y="4959360"/>
              <a:ext cx="181116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алеч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959360"/>
              <a:ext cx="1627200" cy="63972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лювиогляциа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7400" y="423072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ы ледниковой штрихо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8520" y="423072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сутствую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38360" y="423072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сло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27200" y="423072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алуны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галечники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счано-глинис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423072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р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7400" y="350208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щины усых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расноцветная окрас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8520" y="350208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д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8360" y="350208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межающаяся. Следы ветровой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27200" y="350208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 с линзами со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350208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ы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7400" y="2773440"/>
              <a:ext cx="26766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но связаны с речными, озерными, прибрежно-морскими фация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2773440"/>
              <a:ext cx="165888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ительны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8360" y="2773440"/>
              <a:ext cx="1370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ризонта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27200" y="2773440"/>
              <a:ext cx="181116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рф, бурые и каменные уг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2773440"/>
              <a:ext cx="1627200" cy="7286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о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67400" y="981000"/>
              <a:ext cx="26766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ки ряб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8520" y="981000"/>
              <a:ext cx="165888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астые: моллюски, водоросли, споры и пыльца, бактериальные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соб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8360" y="981000"/>
              <a:ext cx="1370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нкая горизонтальная, реже кос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27200" y="981000"/>
              <a:ext cx="181116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счано-глинистые, карбона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981000"/>
              <a:ext cx="1627200" cy="179244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е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77344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502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23072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49593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55990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5404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72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836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852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674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44000" y="981000"/>
              <a:ext cx="0" cy="5559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7400" y="476280"/>
              <a:ext cx="26766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ругие призна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8520" y="476280"/>
              <a:ext cx="165888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ческие оста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8360" y="476280"/>
              <a:ext cx="1370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оист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7200" y="476280"/>
              <a:ext cx="181116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став пор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76280"/>
              <a:ext cx="1627200" cy="515880"/>
            </a:xfrm>
            <a:prstGeom prst="rect">
              <a:avLst/>
            </a:prstGeom>
            <a:solidFill>
              <a:srgbClr val="fff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7628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992160"/>
              <a:ext cx="914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272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836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852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674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0" y="476280"/>
              <a:ext cx="0" cy="515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1280" y="54000"/>
            <a:ext cx="3924360" cy="294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005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195640" y="2349360"/>
            <a:ext cx="3168360" cy="23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332000" y="2637000"/>
            <a:ext cx="71280" cy="21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284720" y="11592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8893080" y="3284640"/>
            <a:ext cx="0" cy="280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349360"/>
            <a:ext cx="1079640" cy="360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4508640"/>
            <a:ext cx="792000" cy="158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7400" y="189000"/>
            <a:ext cx="8816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480" y="0"/>
            <a:ext cx="24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луны, глыбы и гра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640" y="2421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8720" y="18900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760" y="4365720"/>
            <a:ext cx="28141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рбонаты и глубоковод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инистые ос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081080" y="-7083360"/>
          <a:ext cx="6980400" cy="5423040"/>
        </p:xfrm>
        <a:graphic>
          <a:graphicData uri="http://schemas.openxmlformats.org/drawingml/2006/table">
            <a:tbl>
              <a:tblPr/>
              <a:tblGrid>
                <a:gridCol w="1203480"/>
                <a:gridCol w="1950840"/>
                <a:gridCol w="1211400"/>
                <a:gridCol w="1746000"/>
                <a:gridCol w="868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(зона приливов и отлив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песчаники, алевролиты.Ракушечник,редко угли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крест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раковины и их облом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(70-200 м)   шель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Песчаники с глауконитом, алевролиты, аргиллиты.Хемогенные- кремнистые, карбонатные, конкреции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Хемогенные кремнистые, карбонатные, пластовые фосфори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упкие, тонкостенные раковины моллюсков,малочисл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ы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емнисты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рбонатные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кие радиоляри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ораминиф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копаемом состоянии редкая фа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х  глубин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опаемые фации неизвест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0" y="545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0" y="8784360"/>
            <a:ext cx="189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Arial"/>
                <a:ea typeface="Times New Roman"/>
              </a:rPr>
              <a:t>ПЕРЕХОДНЫЕ Ф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625760" y="9288360"/>
          <a:ext cx="5892480" cy="4653000"/>
        </p:xfrm>
        <a:graphic>
          <a:graphicData uri="http://schemas.openxmlformats.org/drawingml/2006/table">
            <a:tbl>
              <a:tblPr/>
              <a:tblGrid>
                <a:gridCol w="993240"/>
                <a:gridCol w="1387800"/>
                <a:gridCol w="1041120"/>
                <a:gridCol w="1347840"/>
                <a:gridCol w="112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н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0" y="139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89800" y="248400"/>
            <a:ext cx="27579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НЫЕ Ф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824040"/>
          <a:ext cx="9144000" cy="4194000"/>
        </p:xfrm>
        <a:graphic>
          <a:graphicData uri="http://schemas.openxmlformats.org/drawingml/2006/table">
            <a:tbl>
              <a:tblPr/>
              <a:tblGrid>
                <a:gridCol w="1455840"/>
                <a:gridCol w="1792080"/>
                <a:gridCol w="1733760"/>
                <a:gridCol w="1517400"/>
                <a:gridCol w="2644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у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, соль, гипс и ангидрит, органогенные, уг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сли, эвригалинная фа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но связаны с прибрежно-морскими фац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сн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врито - глинисты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ог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ы: водоросли, мшанки, моллюски плохой сохра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глауконит и фосф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ленных бассей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ые и карбонатные, песчано-глинистые загипсованные, мерг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обособ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сталлы со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рота литологическ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охтонные пресноводные вместе с мор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 и неф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уариев и лим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чано-глинистые и железис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ая и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- расти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ления угля, нефти и га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426480" y="38160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990720"/>
          <a:ext cx="9144000" cy="474336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ист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чески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призна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режные (зона приливов и отлив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гломераты, песчаники, алевролиты. Ракушечник, редко угли. Отложения грязевых вулкан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гонаклонная перекрес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остенные скульптурированные раковины и их облом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щины усыхания, знаки ряби, ходы ило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водные (70-200 м) шель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генные известняки, горючие сланцы. Песчаники с глауконитом, алевролиты, аргиллиты. Гидротермально-осадочные пор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е и многочисленные и специфичные для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ды те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о-глубоков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ют глинистые, реже алевролиты и песчаники. Органогенные-редко мел и др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ные по численности фоновые организмы и 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движение придонных 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2152800"/>
          <a:ext cx="9144000" cy="2554200"/>
        </p:xfrm>
        <a:graphic>
          <a:graphicData uri="http://schemas.openxmlformats.org/drawingml/2006/table">
            <a:tbl>
              <a:tblPr/>
              <a:tblGrid>
                <a:gridCol w="1471680"/>
                <a:gridCol w="1722240"/>
                <a:gridCol w="1757520"/>
                <a:gridCol w="2120760"/>
                <a:gridCol w="20718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овод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000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истые, кремнистые, карбонатные и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ллы, тонкостенные раковины моллюсков, радиолярии, фораминиферы и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глубины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красные глины и илы. Комплекс рудных и гидротермально-осадочных пор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ая гориз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ьно-многочисленные специфичные организмы пригидротермальных оази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геохимических исследований руд и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f4ea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3570840" y="840240"/>
            <a:ext cx="1835640" cy="307080"/>
          </a:xfrm>
          <a:prstGeom prst="rect">
            <a:avLst/>
          </a:prstGeom>
          <a:solidFill>
            <a:srgbClr val="b4e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РСКИЕ Ф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47880"/>
            <a:ext cx="9144000" cy="58140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играфическ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рушение возрастной последовательности залегания сло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79280" y="2557440"/>
            <a:ext cx="7272360" cy="40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6659640" y="260280"/>
            <a:ext cx="24462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0" y="907920"/>
            <a:ext cx="6659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яется путем сопоставления литолого-фаунистических комплексов с другими разрезами или непалеонтологическими методам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ейсмостратиграфический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2808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3" name=""/>
          <p:cNvSpPr/>
          <p:nvPr/>
        </p:nvSpPr>
        <p:spPr>
          <a:xfrm>
            <a:off x="350100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Fig-401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4775040" cy="152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5" name=""/>
          <p:cNvSpPr/>
          <p:nvPr/>
        </p:nvSpPr>
        <p:spPr>
          <a:xfrm>
            <a:off x="3674520" y="6528240"/>
            <a:ext cx="544140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 несогласного залегания: А - в обнажении, Б - на ка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0920" y="438120"/>
            <a:ext cx="8424720" cy="630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77" name=""/>
          <p:cNvSpPr/>
          <p:nvPr/>
        </p:nvSpPr>
        <p:spPr>
          <a:xfrm>
            <a:off x="2996280" y="115920"/>
            <a:ext cx="246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е не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77760" y="188280"/>
            <a:ext cx="717444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снове ФАЦИАЛЬНОГО АНАЛИЗА лежи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 актуал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6667560" cy="456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240160" y="1628640"/>
            <a:ext cx="3686400" cy="49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334080" y="5207040"/>
            <a:ext cx="39009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временная волновая рябь в прибрежной з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360" y="6561000"/>
            <a:ext cx="481356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еды волновой ряби в породах верхнепермск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" y="5805360"/>
            <a:ext cx="5260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лководн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зоне палеобассейна свидетельству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7400" y="1052640"/>
            <a:ext cx="32760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5200920" cy="390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51280" y="189000"/>
            <a:ext cx="5168880" cy="362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148360" y="3933720"/>
            <a:ext cx="3852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татки прибрежной растительности, захороненные в осадочных доломитах, свидетельствуют о том, что осадок формировался в волноприбойной з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435800" cy="605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922840" y="189000"/>
            <a:ext cx="304596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ция прибрежно-м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24640"/>
            <a:ext cx="9144000" cy="2764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стоты, оставшиеся после сгнивания растительных остатков, заполнились осадком и таким образом сохранил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895640" cy="351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4957920" cy="373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3294000"/>
            <a:ext cx="3600360" cy="341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084720" y="115920"/>
            <a:ext cx="2581560" cy="27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4760" y="3141720"/>
            <a:ext cx="5353200" cy="33732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ы жизнедеятельности различных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353440" cy="624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85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85760" y="189000"/>
            <a:ext cx="1438200" cy="368280"/>
          </a:xfrm>
          <a:prstGeom prst="rect">
            <a:avLst/>
          </a:prstGeom>
          <a:solidFill>
            <a:srgbClr val="d8f4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chnof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2200" y="208080"/>
            <a:ext cx="55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ы жизнедеятельности ископаем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47:20Z</dcterms:created>
  <dc:creator>Korolev</dc:creator>
  <dc:description/>
  <dc:language>en-US</dc:language>
  <cp:lastModifiedBy>Леонова</cp:lastModifiedBy>
  <dcterms:modified xsi:type="dcterms:W3CDTF">2010-05-18T13:46:00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32000000000001024140</vt:lpwstr>
  </property>
</Properties>
</file>