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E72-A190-4A04-96B6-35ADF3E4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2FC-753E-4D3F-AF7D-B9B60880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1E0-35EF-4CF8-AC74-5167E106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551-0C27-4BA0-9516-63CEAC07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390-EB5C-47A7-A36A-743A2B55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BD5-0F10-4596-A2A1-9BB816B1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C09-E68E-4653-B4A3-4A6EEFBD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1E9-665D-4E72-A08C-1BB255EC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753-C669-4D7B-B689-8FE3736C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546-1BED-49EB-A176-1B93E318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B5B2-B72A-4DC2-8E9A-D0A3539A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842-07BF-4687-ACFD-B67D73C0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5095-DC97-4FCA-B7C8-881EA2C35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4860720" cy="64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6162840" y="765000"/>
            <a:ext cx="1029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2 к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1467000"/>
            <a:ext cx="3994200" cy="131076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а́ция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facie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лицо, обли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в геологии этим термином характеризуются физико-географические условия или обстановка, отраженные в осад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13440" y="3938400"/>
            <a:ext cx="3995640" cy="146556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ции выделяют по типам обстановок осадконакопления, по составу осадков, по стадиям изменения пород, по органическим остатк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81360" y="260280"/>
            <a:ext cx="385956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ЦИАЛЬ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248360" cy="318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4067280" y="3032280"/>
            <a:ext cx="4932360" cy="3700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4280040" cy="3209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79280" y="3541680"/>
            <a:ext cx="4176720" cy="313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33840" y="79200"/>
            <a:ext cx="3815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разование соли в современном озе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10320" y="115920"/>
            <a:ext cx="5218920" cy="33732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лководная фация, жаркий засушливый клим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602240" cy="3451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635280" y="2825640"/>
            <a:ext cx="5316480" cy="3988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179280" y="3860640"/>
            <a:ext cx="3384720" cy="2540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5083560" y="981000"/>
            <a:ext cx="3672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ыча каменной соли в шах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0" y="6453360"/>
            <a:ext cx="3734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ль из отложений пермского возра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211640" y="2852640"/>
            <a:ext cx="4741920" cy="3587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79280" y="73080"/>
            <a:ext cx="4464000" cy="3500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4859280" y="146160"/>
            <a:ext cx="4000680" cy="2562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5438160" y="2349360"/>
            <a:ext cx="30931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ипс, озеро Лефрой (Австрал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4040" y="189000"/>
            <a:ext cx="5218920" cy="33732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лководная фация, жаркий засушливый клим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250920" y="3781440"/>
            <a:ext cx="3889440" cy="291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3060360" y="6453360"/>
            <a:ext cx="37501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ип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из отложений пермского возра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969080" cy="358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924360" y="2448000"/>
            <a:ext cx="5062320" cy="4243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3782520" y="333360"/>
            <a:ext cx="5365440" cy="52020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устоты, оставшиеся от растворённых кристаллов гип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 поверхностях напластования осадочных доломи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50920" y="227160"/>
            <a:ext cx="5689440" cy="420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284720" y="3208320"/>
            <a:ext cx="4684680" cy="3425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0" y="100080"/>
            <a:ext cx="9144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еды дендритовидных сростков гипса на поверхности напластования осадочного долом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000" y="5661000"/>
            <a:ext cx="4240800" cy="52020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устоты от кристаллов растворенного гип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полненные вторичным халцедо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195640" y="2548080"/>
            <a:ext cx="6825960" cy="411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176720" cy="341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4500720" y="693720"/>
            <a:ext cx="4572000" cy="82404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лководная фация: раковины двустворок частично сломаны; совместно с ними захоронен фрагмент ствола де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116000" y="1387440"/>
            <a:ext cx="7905600" cy="5283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79280" y="404640"/>
            <a:ext cx="4680000" cy="385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2" name=""/>
          <p:cNvSpPr/>
          <p:nvPr/>
        </p:nvSpPr>
        <p:spPr>
          <a:xfrm>
            <a:off x="2567160" y="24840"/>
            <a:ext cx="6589080" cy="51984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ещины усыхан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образуются при высыхании и уплотнении пропитан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одой глинистого или карбонатного 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63200" y="6573960"/>
            <a:ext cx="1852560" cy="2764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временные (такы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076640"/>
            <a:ext cx="4859280" cy="2764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 поверхности слоя мергеля верхнепермско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93240" y="692280"/>
            <a:ext cx="4614120" cy="55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идетельствуют 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иодичес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ушении участков исследуемого палеобассей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416720" cy="556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0" y="30240"/>
            <a:ext cx="9144000" cy="5806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гая и косая слоистость свидетельствуют о резкой смене движения воды или ветра в процессе осаждения материал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92280"/>
            <a:ext cx="9144000" cy="459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Характер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для отложений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 руслах рек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зонах подводных течени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рибрежных частях водных бассейно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в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устынных условия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6480" y="6453360"/>
            <a:ext cx="2722680" cy="276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мплекс верхнепермских п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04000" cy="6451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1" name=""/>
          <p:cNvSpPr/>
          <p:nvPr/>
        </p:nvSpPr>
        <p:spPr>
          <a:xfrm>
            <a:off x="3280680" y="47628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сая слоист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535960" cy="640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2408760" y="189000"/>
            <a:ext cx="446760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сая слоистость в верхнепермских доломи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2040"/>
            <a:ext cx="9144000" cy="106740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геологии существует 2 толкования этого термина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- это обстановка осадконакопления (современная или древняя), овеществленная в осадке или по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- это порода, возникшая в определённой обстановке осадконако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271520"/>
            <a:ext cx="9144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ации, составляющие толщу одновозрастных пород в пределах изучаемой площади распространения, могут быть различ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36360" y="1844640"/>
            <a:ext cx="9223560" cy="4319640"/>
            <a:chOff x="-36360" y="1844640"/>
            <a:chExt cx="9223560" cy="4319640"/>
          </a:xfrm>
        </p:grpSpPr>
        <p:sp>
          <p:nvSpPr>
            <p:cNvPr id="49" name=""/>
            <p:cNvSpPr/>
            <p:nvPr/>
          </p:nvSpPr>
          <p:spPr>
            <a:xfrm>
              <a:off x="0" y="1844640"/>
              <a:ext cx="9144000" cy="165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c98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.  .  .  .  .  .  .  .  .  .  .  .  .  .  .  .  .  .  .  .  .  .  .  .  .  .  .  .  .  .  .  .  .  .  .  .  .  .  .  .  .  .  .  .  .  .  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.  .  .  .  .  .  .  .  .  .  .  .  .  .  .  .  .  .  .  .  .  .  .  .  .  .  .  .  .  .  .  .  .  .  .  .  .  .  .  .  .  .  .  .  .  .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.  .  .  .  .  .  .  .  .  .  .  .  .  .  .  .  .  .  .  .  .  .  .  .  .  .  .  .  .  .  .  .  .  .  .  .  .  .  .  .  .  .  .  .  .  .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.  .  .  .  .  .  .  .  .  .  .  .  .  .  .  .  .  .  .  .  .  .  .  .  .  .  .  .  .  .  .  .  .  .  .  .  .  .  .  .  .  .  .  .  .  .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.  .  .  .  .  .  .  .  .  .  .  .  .  .  .  .  .  .  .  .  .  .  .  .  .  .  .  .  .  .  .  .  .  .  .  .  .  .  .  .  .  .  .  .  .  .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500640"/>
              <a:ext cx="9144000" cy="17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2000" y="1916280"/>
              <a:ext cx="200160" cy="150840"/>
            </a:xfrm>
            <a:custGeom>
              <a:avLst/>
              <a:gdLst/>
              <a:ahLst/>
              <a:rect l="l" t="t" r="r" b="b"/>
              <a:pathLst>
                <a:path w="126" h="95">
                  <a:moveTo>
                    <a:pt x="109" y="0"/>
                  </a:moveTo>
                  <a:cubicBezTo>
                    <a:pt x="75" y="6"/>
                    <a:pt x="50" y="9"/>
                    <a:pt x="21" y="29"/>
                  </a:cubicBezTo>
                  <a:cubicBezTo>
                    <a:pt x="0" y="95"/>
                    <a:pt x="43" y="71"/>
                    <a:pt x="109" y="66"/>
                  </a:cubicBezTo>
                  <a:cubicBezTo>
                    <a:pt x="126" y="39"/>
                    <a:pt x="123" y="28"/>
                    <a:pt x="109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72360" y="2276640"/>
              <a:ext cx="187200" cy="16488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59640" y="2132280"/>
              <a:ext cx="18720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64000" y="2132280"/>
              <a:ext cx="320760" cy="139680"/>
            </a:xfrm>
            <a:custGeom>
              <a:avLst/>
              <a:gdLst/>
              <a:ahLst/>
              <a:rect l="l" t="t" r="r" b="b"/>
              <a:pathLst>
                <a:path w="202" h="88">
                  <a:moveTo>
                    <a:pt x="113" y="0"/>
                  </a:moveTo>
                  <a:cubicBezTo>
                    <a:pt x="84" y="2"/>
                    <a:pt x="54" y="1"/>
                    <a:pt x="25" y="7"/>
                  </a:cubicBezTo>
                  <a:cubicBezTo>
                    <a:pt x="16" y="9"/>
                    <a:pt x="5" y="13"/>
                    <a:pt x="3" y="22"/>
                  </a:cubicBezTo>
                  <a:cubicBezTo>
                    <a:pt x="0" y="36"/>
                    <a:pt x="1" y="54"/>
                    <a:pt x="11" y="65"/>
                  </a:cubicBezTo>
                  <a:cubicBezTo>
                    <a:pt x="21" y="76"/>
                    <a:pt x="40" y="75"/>
                    <a:pt x="54" y="80"/>
                  </a:cubicBezTo>
                  <a:cubicBezTo>
                    <a:pt x="61" y="82"/>
                    <a:pt x="76" y="87"/>
                    <a:pt x="76" y="87"/>
                  </a:cubicBezTo>
                  <a:cubicBezTo>
                    <a:pt x="110" y="85"/>
                    <a:pt x="145" y="88"/>
                    <a:pt x="178" y="80"/>
                  </a:cubicBezTo>
                  <a:cubicBezTo>
                    <a:pt x="202" y="74"/>
                    <a:pt x="192" y="47"/>
                    <a:pt x="186" y="36"/>
                  </a:cubicBezTo>
                  <a:cubicBezTo>
                    <a:pt x="171" y="6"/>
                    <a:pt x="144" y="0"/>
                    <a:pt x="113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08360" y="1844640"/>
              <a:ext cx="225360" cy="22572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06" y="10"/>
                  </a:moveTo>
                  <a:cubicBezTo>
                    <a:pt x="66" y="19"/>
                    <a:pt x="54" y="25"/>
                    <a:pt x="26" y="54"/>
                  </a:cubicBezTo>
                  <a:cubicBezTo>
                    <a:pt x="0" y="125"/>
                    <a:pt x="22" y="127"/>
                    <a:pt x="77" y="142"/>
                  </a:cubicBezTo>
                  <a:cubicBezTo>
                    <a:pt x="138" y="128"/>
                    <a:pt x="142" y="104"/>
                    <a:pt x="120" y="32"/>
                  </a:cubicBezTo>
                  <a:cubicBezTo>
                    <a:pt x="110" y="0"/>
                    <a:pt x="88" y="31"/>
                    <a:pt x="106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04960" y="2067120"/>
              <a:ext cx="200160" cy="150840"/>
            </a:xfrm>
            <a:custGeom>
              <a:avLst/>
              <a:gdLst/>
              <a:ahLst/>
              <a:rect l="l" t="t" r="r" b="b"/>
              <a:pathLst>
                <a:path w="126" h="95">
                  <a:moveTo>
                    <a:pt x="109" y="0"/>
                  </a:moveTo>
                  <a:cubicBezTo>
                    <a:pt x="75" y="6"/>
                    <a:pt x="50" y="9"/>
                    <a:pt x="21" y="29"/>
                  </a:cubicBezTo>
                  <a:cubicBezTo>
                    <a:pt x="0" y="95"/>
                    <a:pt x="43" y="71"/>
                    <a:pt x="109" y="66"/>
                  </a:cubicBezTo>
                  <a:cubicBezTo>
                    <a:pt x="126" y="39"/>
                    <a:pt x="123" y="28"/>
                    <a:pt x="109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2916360" y="1916280"/>
              <a:ext cx="320400" cy="139680"/>
            </a:xfrm>
            <a:custGeom>
              <a:avLst/>
              <a:gdLst/>
              <a:ahLst/>
              <a:rect l="l" t="t" r="r" b="b"/>
              <a:pathLst>
                <a:path w="202" h="88">
                  <a:moveTo>
                    <a:pt x="113" y="0"/>
                  </a:moveTo>
                  <a:cubicBezTo>
                    <a:pt x="84" y="2"/>
                    <a:pt x="54" y="1"/>
                    <a:pt x="25" y="7"/>
                  </a:cubicBezTo>
                  <a:cubicBezTo>
                    <a:pt x="16" y="9"/>
                    <a:pt x="5" y="13"/>
                    <a:pt x="3" y="22"/>
                  </a:cubicBezTo>
                  <a:cubicBezTo>
                    <a:pt x="0" y="36"/>
                    <a:pt x="1" y="54"/>
                    <a:pt x="11" y="65"/>
                  </a:cubicBezTo>
                  <a:cubicBezTo>
                    <a:pt x="21" y="76"/>
                    <a:pt x="40" y="75"/>
                    <a:pt x="54" y="80"/>
                  </a:cubicBezTo>
                  <a:cubicBezTo>
                    <a:pt x="61" y="82"/>
                    <a:pt x="76" y="87"/>
                    <a:pt x="76" y="87"/>
                  </a:cubicBezTo>
                  <a:cubicBezTo>
                    <a:pt x="110" y="85"/>
                    <a:pt x="145" y="88"/>
                    <a:pt x="178" y="80"/>
                  </a:cubicBezTo>
                  <a:cubicBezTo>
                    <a:pt x="202" y="74"/>
                    <a:pt x="192" y="47"/>
                    <a:pt x="186" y="36"/>
                  </a:cubicBezTo>
                  <a:cubicBezTo>
                    <a:pt x="171" y="6"/>
                    <a:pt x="144" y="0"/>
                    <a:pt x="113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16360" y="1844640"/>
              <a:ext cx="432000" cy="22572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06" y="10"/>
                  </a:moveTo>
                  <a:cubicBezTo>
                    <a:pt x="66" y="19"/>
                    <a:pt x="54" y="25"/>
                    <a:pt x="26" y="54"/>
                  </a:cubicBezTo>
                  <a:cubicBezTo>
                    <a:pt x="0" y="125"/>
                    <a:pt x="22" y="127"/>
                    <a:pt x="77" y="142"/>
                  </a:cubicBezTo>
                  <a:cubicBezTo>
                    <a:pt x="138" y="128"/>
                    <a:pt x="142" y="104"/>
                    <a:pt x="120" y="32"/>
                  </a:cubicBezTo>
                  <a:cubicBezTo>
                    <a:pt x="110" y="0"/>
                    <a:pt x="88" y="31"/>
                    <a:pt x="106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28000" y="2203560"/>
              <a:ext cx="18720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0" y="1916280"/>
              <a:ext cx="18720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56360" y="1844640"/>
              <a:ext cx="18720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8000" y="2132280"/>
              <a:ext cx="18756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19640" y="1916280"/>
              <a:ext cx="187200" cy="16488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64360" y="2132280"/>
              <a:ext cx="18720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03640" y="2203560"/>
              <a:ext cx="18756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01080" y="1987560"/>
              <a:ext cx="18720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4000" y="1916280"/>
              <a:ext cx="187200" cy="16488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24360" y="2132280"/>
              <a:ext cx="18756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0360" y="1987560"/>
              <a:ext cx="18756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24000" y="1916280"/>
              <a:ext cx="18756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67640" y="2132280"/>
              <a:ext cx="187200" cy="16488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84720" y="2060640"/>
              <a:ext cx="18756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51280" y="2060640"/>
              <a:ext cx="18720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40360" y="2203560"/>
              <a:ext cx="18720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51440" y="1893960"/>
              <a:ext cx="409320" cy="28908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72360" y="1916280"/>
              <a:ext cx="409320" cy="28872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08720" y="1844640"/>
              <a:ext cx="409680" cy="28908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64000" y="1844640"/>
              <a:ext cx="554040" cy="28908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8360" y="2132280"/>
              <a:ext cx="287280" cy="28872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32720" y="1916280"/>
              <a:ext cx="552600" cy="21744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79800" y="2924280"/>
              <a:ext cx="520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068640"/>
              <a:ext cx="915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284640"/>
              <a:ext cx="914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 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36360" y="3429000"/>
              <a:ext cx="92167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 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 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 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 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7879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40766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3642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6530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49402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092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4292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3528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2728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1964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1164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364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72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0872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0108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9308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256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492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692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5928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5128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328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3564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5636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4836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4072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3272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092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292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3528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2728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1964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1164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2436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1672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0872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0108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9308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256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7492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6692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5928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128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3564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5636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4836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4072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3272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092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4292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528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2728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1964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164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0364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2436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72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0872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0108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308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256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7492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692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5928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128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328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3564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5636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4836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4072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3272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3716280"/>
              <a:ext cx="65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28000" y="4795920"/>
              <a:ext cx="360360" cy="36036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6596400">
              <a:off x="7858440" y="4964760"/>
              <a:ext cx="73080" cy="45576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7443800">
              <a:off x="7775280" y="5840280"/>
              <a:ext cx="576000" cy="7128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01080" y="5156280"/>
              <a:ext cx="216000" cy="57456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3955200">
              <a:off x="8064720" y="5840280"/>
              <a:ext cx="576000" cy="7128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6596400">
              <a:off x="8434800" y="5181120"/>
              <a:ext cx="73080" cy="45540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12000" y="6093000"/>
              <a:ext cx="216000" cy="7128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44000" y="6093000"/>
              <a:ext cx="215640" cy="7128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284720" y="5661000"/>
              <a:ext cx="352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26360" y="5680080"/>
              <a:ext cx="214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стирание сло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95280" y="1987200"/>
              <a:ext cx="0" cy="34578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55882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33440" y="522936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Смена фац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5640" y="4437000"/>
            <a:ext cx="3095640" cy="2063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rot="16200000">
            <a:off x="-2423880" y="3199680"/>
            <a:ext cx="518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мена фаций по вертикали (вкрест простир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5680" y="6524640"/>
            <a:ext cx="332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ределение элементов залег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79280" y="73080"/>
            <a:ext cx="5002200" cy="666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5292720" y="28440"/>
            <a:ext cx="3773520" cy="17398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ералом-индикатором морской среды является глинистый минерал глауконит, а его окраска указывает на определенные интервалы глуб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1942200"/>
            <a:ext cx="3851280" cy="1189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редние глубины образования современного глауконита от 20 до 150 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но вероятно образование на глубинах 10— 20 м при наличии изверженных пород и 200-400 м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9640" y="3290400"/>
            <a:ext cx="3851280" cy="30776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уконит песчаных фаций обычно ассоциирует с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лководным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обстановками, часто с фосфоритами. Он крупнозернистый и темно-зеленого цвета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уконит боле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глубоководны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алевритовых глин имее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лто-зеленый цвет и более мелкозернист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уконит карбонатных монтморилонитовых пелитовых глин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дает весьма слабой зеленовато-желтой окраской («бесцветный»), ещ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ее тонкозернисты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6381720"/>
            <a:ext cx="344016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хнепермские от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50920" y="152280"/>
            <a:ext cx="4897440" cy="3665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3348000" y="2367000"/>
            <a:ext cx="5576760" cy="418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4655520" y="189000"/>
            <a:ext cx="4298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бонатные ф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шельфовый скл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981000"/>
            <a:ext cx="3087000" cy="5806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иогермная по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ерхнепермских известня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2720" y="3860640"/>
            <a:ext cx="3012480" cy="52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ебли криноидей захорон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рижизненном полож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179280" y="4508640"/>
            <a:ext cx="2952720" cy="220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115920"/>
            <a:ext cx="9144000" cy="51984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носительно глубоководная ф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отсутствуют фоссилии зеленых водорослей, вмещающие породы кремнистого соста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92080" y="6543720"/>
            <a:ext cx="7216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аменелости в прижизненном положении псевдоморфно замещены кварц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4176720" cy="3055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3203640" y="765000"/>
            <a:ext cx="2808360" cy="2775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539640" y="3645000"/>
            <a:ext cx="3240360" cy="2809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6084720" y="765000"/>
            <a:ext cx="2876760" cy="28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4427640" y="3641760"/>
            <a:ext cx="4532040" cy="2813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15920"/>
            <a:ext cx="91440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арактер расположения органических остатков на поверхности напластования осадка или осадочных пор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2920" y="1052640"/>
            <a:ext cx="468180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упорядоченное скопление фоссилий без сортировки по размеру свидетельствует о быстром захоронении в спокойной водной обстанов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3276720" y="24210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4032360" cy="3608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122400"/>
            <a:ext cx="9144000" cy="131076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зателем быстрого и значительного накопления осадков может являться чрезвычайная бедность или отсутствие донных организмов. На высокую скорость накопления осадков указывает сохранение неразрозненных створок раковин незарывающихся пелеципод, прижизненные нарастания организмов и отчетливое сохранение следов животных на рыхлом д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0920" y="1406520"/>
            <a:ext cx="4608360" cy="4179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3492360" y="2286000"/>
            <a:ext cx="5384880" cy="433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74160"/>
            <a:ext cx="9144000" cy="122004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копаемые органические остатки могут играть ключевую роль при установлении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береговой лин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древнего водоема. Так, она может быть отмечена валами песка, гравия и гальки с перебитыми и окатанными ракуш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ногда указанием на древнюю береговую линию служат специфические "мостовые" из закономерно ориентированных раковин и других остатков организм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724360" y="1268280"/>
            <a:ext cx="2519640" cy="186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24000" y="1268280"/>
            <a:ext cx="4487760" cy="336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3995640" y="3225960"/>
            <a:ext cx="4753080" cy="3555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7120" y="4653000"/>
            <a:ext cx="4173480" cy="3070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временное береговое скопление раков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3360" y="6524640"/>
            <a:ext cx="3052080" cy="3070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копаемое скопление раков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463320"/>
            <a:ext cx="914400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воздействием течений створки и части скелетов обычно разъединяются, разбиваются, истираются и шлифуются. Так, в прибрежной полосе, где существенная роль принадлежит волнению, раковины в значительной мере раздроблены и окатаны, скульптура часто бывает совершенно сглажена. По ориентировке раковин судят о направлении течения: например, конические раковины гастропод, тентакулит и других организмов при отсутствии во время их переноса трения о дно ориентируются основанием против те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17000" y="28440"/>
            <a:ext cx="193644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еды те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6337080" cy="415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443640" y="2852640"/>
            <a:ext cx="2482920" cy="302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032360" cy="2873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4427640" y="836640"/>
            <a:ext cx="4516200" cy="54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0" y="28440"/>
            <a:ext cx="9144000" cy="52020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ические раковины тентакулитов и ростры белемнитов при отсутствии во время их переноса трения о дно ориентируются основанием против течения подобно брёвнам при сплав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3809880" cy="2857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253440" y="3141720"/>
            <a:ext cx="2015640" cy="3070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левой сплав л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28320" y="6381720"/>
            <a:ext cx="1980720" cy="3070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остры белемни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99240" y="6381720"/>
            <a:ext cx="2323440" cy="3070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ковины тентакули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023156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24280" y="408600"/>
            <a:ext cx="3605040" cy="368280"/>
          </a:xfrm>
          <a:prstGeom prst="rect">
            <a:avLst/>
          </a:prstGeom>
          <a:solidFill>
            <a:srgbClr val="fff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ИНЕНТАЛЬНЫЕ  Ф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0" y="907920"/>
          <a:ext cx="9144000" cy="5861160"/>
        </p:xfrm>
        <a:graphic>
          <a:graphicData uri="http://schemas.openxmlformats.org/drawingml/2006/table">
            <a:tbl>
              <a:tblPr/>
              <a:tblGrid>
                <a:gridCol w="1627200"/>
                <a:gridCol w="1811520"/>
                <a:gridCol w="1369800"/>
                <a:gridCol w="1658880"/>
                <a:gridCol w="2676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п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ист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ческие оста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юв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ветривание на месте залег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ы выветривания (каолиновые глины с обломками коренных пор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шены за счет оксидов и гидрооксидов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юв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еремещение дождевыми и талыми водам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омочный материал слабо окатанный, шлейф щеб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клонах и у поднож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юв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 подножий го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лейф глыб и щеб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подножий г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люв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еремещение реками с возвышеност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ечники, конгломераты, песчано-глинистые пор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ая речн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ьты и эсту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юв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ормирование, перемещение и отложение постоянными и временными водотоками в речных долина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генные обломоч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ая слоист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ительные остатки, раковины моллюс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упнение отложений вниз по разре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924280" y="119880"/>
            <a:ext cx="3605040" cy="368280"/>
          </a:xfrm>
          <a:prstGeom prst="rect">
            <a:avLst/>
          </a:prstGeom>
          <a:solidFill>
            <a:srgbClr val="fff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ИНЕНТАЛЬНЫЕ  Ф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476280"/>
            <a:ext cx="9144000" cy="6064200"/>
            <a:chOff x="0" y="476280"/>
            <a:chExt cx="9144000" cy="6064200"/>
          </a:xfrm>
        </p:grpSpPr>
        <p:sp>
          <p:nvSpPr>
            <p:cNvPr id="301" name=""/>
            <p:cNvSpPr/>
            <p:nvPr/>
          </p:nvSpPr>
          <p:spPr>
            <a:xfrm>
              <a:off x="6467400" y="5599080"/>
              <a:ext cx="2676600" cy="94140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ичие известковых стяж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08520" y="5599080"/>
              <a:ext cx="1658880" cy="94140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ктериа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особ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38360" y="5599080"/>
              <a:ext cx="1370160" cy="94140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нкая горизонтальная ленточного ти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27200" y="5599080"/>
              <a:ext cx="1811160" cy="94140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инисто-алевритовые с песчаниками в краевых зон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5599080"/>
              <a:ext cx="1627200" cy="94140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зерно-ледников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67400" y="4959360"/>
              <a:ext cx="2676600" cy="63972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охая оката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08520" y="4959360"/>
              <a:ext cx="1658880" cy="63972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сутствую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38360" y="4959360"/>
              <a:ext cx="1370160" cy="63972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сая слоист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27200" y="4959360"/>
              <a:ext cx="1811160" cy="63972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счано-галеч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4959360"/>
              <a:ext cx="1627200" cy="63972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лювиогляциа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67400" y="4230720"/>
              <a:ext cx="26766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еды ледниковой штрихо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08520" y="4230720"/>
              <a:ext cx="165888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сутствую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38360" y="4230720"/>
              <a:ext cx="1370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слоис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27200" y="4230720"/>
              <a:ext cx="1811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алуны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галечники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есчано-глинис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4230720"/>
              <a:ext cx="16272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ре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67400" y="3502080"/>
              <a:ext cx="26766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щины усых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расноцветная окрас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08520" y="3502080"/>
              <a:ext cx="165888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д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38360" y="3502080"/>
              <a:ext cx="1370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межающаяся. Следы ветровой ряб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27200" y="3502080"/>
              <a:ext cx="1811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счано-глинистые с линзами сол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3502080"/>
              <a:ext cx="16272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усты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67400" y="2773440"/>
              <a:ext cx="26766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сно связаны с речными, озерными, прибрежно-морскими фация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8520" y="2773440"/>
              <a:ext cx="165888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тительные оста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38360" y="2773440"/>
              <a:ext cx="1370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ризонта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27200" y="2773440"/>
              <a:ext cx="1811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рф, бурые и каменные уг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2773440"/>
              <a:ext cx="16272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от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67400" y="981000"/>
              <a:ext cx="2676600" cy="17924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наки ряб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08520" y="981000"/>
              <a:ext cx="1658880" cy="17924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астые: моллюски, водоросли, споры и пыльца, бактериальные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n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особ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38360" y="981000"/>
              <a:ext cx="1370160" cy="17924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нкая горизонтальная, реже кос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27200" y="981000"/>
              <a:ext cx="1811160" cy="17924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счано-глинистые, карбонат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981000"/>
              <a:ext cx="1627200" cy="17924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зер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98100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277344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350208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423072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495936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559908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654048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2720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3836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0852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6740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14400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67400" y="476280"/>
              <a:ext cx="2676600" cy="51588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ругие призна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08520" y="476280"/>
              <a:ext cx="1658880" cy="51588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ческие оста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38360" y="476280"/>
              <a:ext cx="1370160" cy="51588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оист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27200" y="476280"/>
              <a:ext cx="1811160" cy="51588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став пор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476280"/>
              <a:ext cx="1627200" cy="51588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47628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99216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2720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836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0852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6740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4400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1280" y="54000"/>
            <a:ext cx="3924360" cy="2943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9144000" cy="2005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195640" y="2349360"/>
            <a:ext cx="3168360" cy="23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1332000" y="2637000"/>
            <a:ext cx="71280" cy="21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284720" y="115920"/>
            <a:ext cx="3095640" cy="232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6095880" y="2276640"/>
            <a:ext cx="3048120" cy="22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8893080" y="3284640"/>
            <a:ext cx="0" cy="280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2349360"/>
            <a:ext cx="1079640" cy="360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4720" y="4508640"/>
            <a:ext cx="792000" cy="158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17400" y="189000"/>
            <a:ext cx="88164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7480" y="0"/>
            <a:ext cx="240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луны, глыбы и гра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1640" y="242100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с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8720" y="18900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2760" y="4365720"/>
            <a:ext cx="28141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рбонаты и глубоковод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линистые осад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081080" y="-7083360"/>
          <a:ext cx="6980400" cy="5423040"/>
        </p:xfrm>
        <a:graphic>
          <a:graphicData uri="http://schemas.openxmlformats.org/drawingml/2006/table">
            <a:tbl>
              <a:tblPr/>
              <a:tblGrid>
                <a:gridCol w="1203480"/>
                <a:gridCol w="1950840"/>
                <a:gridCol w="1211400"/>
                <a:gridCol w="1746000"/>
                <a:gridCol w="8686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п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ист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ческие ост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призна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режные(зона приливов и отливо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гломераты,песчаники, алевролиты.Ракушечник,редко угли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гонаклонная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крест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стостенные раковины и их облом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щины усыхания, знаки ряби, ходы илое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водные(70-200 м)   шель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огенные известняки, горючие сланцы.Песчаники с глауконитом, алевролиты, аргиллиты.Хемогенные- кремнистые, карбонатные, конкреции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е и многочисл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-глубоковод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00 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ладают глинистые, реже алевролиты и песчаники. Органогенные-редко мел и др.Хемогенные кремнистые, карбонатные, пластовые фосфори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ая горизонталь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упкие, тонкостенные раковины моллюсков,малочисл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движение придонных 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оководны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000 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истые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ремнистые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рбонатные и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кие радиоляри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ораминиф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скопаемом состоянии редкая ф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х  глубин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 м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е красные глины и и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опаемые фации неизвест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0" y="545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600" y="8784360"/>
            <a:ext cx="189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Arial"/>
                <a:ea typeface="Times New Roman"/>
              </a:rPr>
              <a:t>ПЕРЕХОДНЫЕ Ф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625760" y="9288360"/>
          <a:ext cx="5892480" cy="4653000"/>
        </p:xfrm>
        <a:graphic>
          <a:graphicData uri="http://schemas.openxmlformats.org/drawingml/2006/table">
            <a:tbl>
              <a:tblPr/>
              <a:tblGrid>
                <a:gridCol w="993240"/>
                <a:gridCol w="1387800"/>
                <a:gridCol w="1041120"/>
                <a:gridCol w="1347840"/>
                <a:gridCol w="11224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ции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ист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ческие 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призна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гу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сненных бассей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врито - глинисты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ог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льны: водоросли, мшанки, моллюски плохой сохра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глауконит и фосфор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ол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ссей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яные и карбонатные, песчано-глинистые загипсованные, мерг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ьт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трота литологического сост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ления угля и неф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уари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лим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чано-глинистые и железист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н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- растите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ления угля, нефти и га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0" y="1394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89800" y="248400"/>
            <a:ext cx="27579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НЫЕ Ф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0" y="824040"/>
          <a:ext cx="9144000" cy="4194000"/>
        </p:xfrm>
        <a:graphic>
          <a:graphicData uri="http://schemas.openxmlformats.org/drawingml/2006/table">
            <a:tbl>
              <a:tblPr/>
              <a:tblGrid>
                <a:gridCol w="1455840"/>
                <a:gridCol w="1792080"/>
                <a:gridCol w="1733760"/>
                <a:gridCol w="1517400"/>
                <a:gridCol w="2644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ист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ческие 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призна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гу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врито - глинистые, соль, гипс и ангидрит, органогенные, уг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сли, эвригалинная фау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но связаны с прибрежно-морскими фац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сненных бассей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врито - глинисты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ог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льны: водоросли, мшанки, моллюски плохой сохра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глауконит и фосфор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оленных бассей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яные и карбонатные, песчано-глинистые загипсованные, мерг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альные обособ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сталлы со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ьт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трота литологического сост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охтонные пресноводные вместе с морск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ления угля и неф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уариев и лим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чано-глинистые и железист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ая и 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- растите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ления угля, нефти и га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426480" y="381600"/>
            <a:ext cx="1835640" cy="30708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РСКИЕ Ф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990720"/>
          <a:ext cx="9144000" cy="4743360"/>
        </p:xfrm>
        <a:graphic>
          <a:graphicData uri="http://schemas.openxmlformats.org/drawingml/2006/table">
            <a:tbl>
              <a:tblPr/>
              <a:tblGrid>
                <a:gridCol w="1471680"/>
                <a:gridCol w="1722240"/>
                <a:gridCol w="1757520"/>
                <a:gridCol w="2120760"/>
                <a:gridCol w="2071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ист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ческие 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.призна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режные (зона приливов и отлив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гломераты, песчаники, алевролиты. Ракушечник, редко угли. Отложения грязевых вулкан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гонаклонная перекрес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стостенные скульптурированные раковины и их облом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щины усыхания, знаки ряби, ходы ило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водные (70-200 м) шель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огенные известняки, горючие сланцы. Песчаники с глауконитом, алевролиты, аргиллиты. Гидротермально-осадочные пор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е и многочисленные и специфичные для пригидротермальных оази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ды теч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-глубоковод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00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ладают глинистые, реже алевролиты и песчаники. Органогенные-редко мел и др. Комплекс рудных и гидротермально-осадочных пор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ая 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ые по численности фоновые организмы и локально-многочисленные специфичные организмы пригидротермальных оази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движение придонных в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0" y="2152800"/>
          <a:ext cx="9144000" cy="2554200"/>
        </p:xfrm>
        <a:graphic>
          <a:graphicData uri="http://schemas.openxmlformats.org/drawingml/2006/table">
            <a:tbl>
              <a:tblPr/>
              <a:tblGrid>
                <a:gridCol w="1471680"/>
                <a:gridCol w="1722240"/>
                <a:gridCol w="1757520"/>
                <a:gridCol w="2120760"/>
                <a:gridCol w="20718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оковод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000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истые, кремнистые, карбонатные и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рудных и гидротермально-осадочных пор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ая 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аллы, тонкостенные раковины моллюсков, радиолярии, фораминиферы и специфичные организмы пригидротермальных оази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геохимических исследований руд и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глубины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 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е красные глины и илы. Комплекс рудных и гидротермально-осадочных пор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ая 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ьно-многочисленные специфичные организмы пригидротермальных оази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геохимических исследований руд и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3570840" y="840240"/>
            <a:ext cx="1835640" cy="30708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РСКИЕ Ф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47880"/>
            <a:ext cx="9144000" cy="58140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тиграфическое несоглас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рушение возрастной последовательности залегания сло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79280" y="2557440"/>
            <a:ext cx="7272360" cy="4083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6659640" y="260280"/>
            <a:ext cx="244620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71" name=""/>
          <p:cNvSpPr/>
          <p:nvPr/>
        </p:nvSpPr>
        <p:spPr>
          <a:xfrm>
            <a:off x="0" y="907920"/>
            <a:ext cx="66596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яется путем сопоставления литолого-фаунистических комплексов с другими разрезами или непалеонтологическими методам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ейсмостратиграфический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128080" cy="609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73" name=""/>
          <p:cNvSpPr/>
          <p:nvPr/>
        </p:nvSpPr>
        <p:spPr>
          <a:xfrm>
            <a:off x="3501000" y="115920"/>
            <a:ext cx="2463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овое несоглас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Fig-401" descr=""/>
          <p:cNvPicPr/>
          <p:nvPr/>
        </p:nvPicPr>
        <p:blipFill>
          <a:blip r:embed="rId3"/>
          <a:stretch/>
        </p:blipFill>
        <p:spPr>
          <a:xfrm>
            <a:off x="4284720" y="4941720"/>
            <a:ext cx="4775040" cy="152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75" name=""/>
          <p:cNvSpPr/>
          <p:nvPr/>
        </p:nvSpPr>
        <p:spPr>
          <a:xfrm>
            <a:off x="3674520" y="6528240"/>
            <a:ext cx="544140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д несогласного залегания: А - в обнажении, Б - на кар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50920" y="438120"/>
            <a:ext cx="8424720" cy="6303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77" name=""/>
          <p:cNvSpPr/>
          <p:nvPr/>
        </p:nvSpPr>
        <p:spPr>
          <a:xfrm>
            <a:off x="2996280" y="115920"/>
            <a:ext cx="2463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овое несоглас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77760" y="188280"/>
            <a:ext cx="717444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снове ФАЦИАЛЬНОГО АНАЛИЗА лежит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инцип актуализ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6667560" cy="456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240160" y="1628640"/>
            <a:ext cx="3686400" cy="492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334080" y="5207040"/>
            <a:ext cx="3900960" cy="2764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временная волновая рябь в прибрежной з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7360" y="6561000"/>
            <a:ext cx="4813560" cy="2764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леды волновой ряби в породах верхнепермско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80" y="5805360"/>
            <a:ext cx="52603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лководно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зоне палеобассейна свидетельству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7400" y="1052640"/>
            <a:ext cx="327600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ция прибрежно-мо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5200920" cy="3905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851280" y="189000"/>
            <a:ext cx="5168880" cy="3627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5148360" y="3933720"/>
            <a:ext cx="385272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татки прибрежной растительности, захороненные в осадочных доломитах, свидетельствуют о том, что осадок формировался в волноприбойной зо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435800" cy="6051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2922840" y="189000"/>
            <a:ext cx="304596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ция прибрежно-мо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524640"/>
            <a:ext cx="9144000" cy="2764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устоты, оставшиеся после сгнивания растительных остатков, заполнились осадком и таким образом сохранил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895640" cy="351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995640" y="2997360"/>
            <a:ext cx="4957920" cy="373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50920" y="3294000"/>
            <a:ext cx="3600360" cy="341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6084720" y="115920"/>
            <a:ext cx="2581560" cy="27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4760" y="3141720"/>
            <a:ext cx="5353200" cy="33732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еды жизнедеятельности различных организ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353440" cy="6242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8785440" cy="5855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185760" y="189000"/>
            <a:ext cx="143820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chnof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52200" y="208080"/>
            <a:ext cx="55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ы жизнедеятельности ископаемых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47:20Z</dcterms:created>
  <dc:creator>Korolev</dc:creator>
  <dc:description/>
  <dc:language>en-US</dc:language>
  <cp:lastModifiedBy>Леонова</cp:lastModifiedBy>
  <dcterms:modified xsi:type="dcterms:W3CDTF">2010-05-18T13:46:00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32000000000001024140</vt:lpwstr>
  </property>
</Properties>
</file>