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5.gif" ContentType="image/gif"/>
  <Override PartName="/ppt/media/image7.jpeg" ContentType="image/jpeg"/>
  <Override PartName="/ppt/media/image36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055-BC83-43E4-896E-1B0B7B3C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836-32CE-4C60-BDE6-38DEA49A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8EE-6E60-4837-93FC-C13C02A4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9B2-0790-48F0-809D-DC68E135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E9D-E03E-4EE1-A76D-F20E1AB1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177-7B2E-426D-BFB3-ACFA8E7A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994-F388-477C-817C-55A4AE37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D16-CCBC-448D-87A9-A9A16F83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438-E908-4A47-A666-3751245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5F1-73AD-4FBB-9DC9-96D6C26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900-B1A4-453A-85A4-7ABD491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C5C-2F98-4594-B0FB-1625C67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73E-8FCC-4E30-A2B4-130C266590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5256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00"/>
                </a:solidFill>
                <a:uFillTx/>
                <a:latin typeface="Arial Black"/>
              </a:rPr>
              <a:t>Урок географии </a:t>
            </a:r>
            <a:br>
              <a:rPr sz="3600"/>
            </a:br>
            <a:r>
              <a:rPr b="0" lang="ru-RU" sz="3600" spc="-1" strike="noStrike" u="sng">
                <a:solidFill>
                  <a:srgbClr val="800000"/>
                </a:solidFill>
                <a:uFillTx/>
                <a:latin typeface="Arial Black"/>
              </a:rPr>
              <a:t>для 7 кла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6000" y="5157360"/>
            <a:ext cx="45849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БСУВУ ОТ СПУ «Уральское подворье» г.Пер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ыполнила: преподаватель географ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Абдалова Ильсияр Хан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природа"/>
          <p:cNvPicPr/>
          <p:nvPr/>
        </p:nvPicPr>
        <p:blipFill>
          <a:blip r:embed="rId1"/>
          <a:stretch/>
        </p:blipFill>
        <p:spPr>
          <a:xfrm>
            <a:off x="5076720" y="2852640"/>
            <a:ext cx="3527640" cy="216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Picture 5" descr="природа 2"/>
          <p:cNvPicPr/>
          <p:nvPr/>
        </p:nvPicPr>
        <p:blipFill>
          <a:blip r:embed="rId2"/>
          <a:stretch/>
        </p:blipFill>
        <p:spPr>
          <a:xfrm>
            <a:off x="5148360" y="189000"/>
            <a:ext cx="3456000" cy="244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Picture 7" descr="природа 5"/>
          <p:cNvPicPr/>
          <p:nvPr/>
        </p:nvPicPr>
        <p:blipFill>
          <a:blip r:embed="rId3"/>
          <a:stretch/>
        </p:blipFill>
        <p:spPr>
          <a:xfrm>
            <a:off x="468360" y="2421000"/>
            <a:ext cx="3797280" cy="386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аравийский полуостров"/>
          <p:cNvPicPr/>
          <p:nvPr/>
        </p:nvPicPr>
        <p:blipFill>
          <a:blip r:embed="rId1"/>
          <a:stretch/>
        </p:blipFill>
        <p:spPr>
          <a:xfrm>
            <a:off x="4143240" y="1413000"/>
            <a:ext cx="5000760" cy="5111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2421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крупный полуостров Земли- Аравийск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755640" y="333360"/>
            <a:ext cx="734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фьорд согне"/>
          <p:cNvPicPr/>
          <p:nvPr/>
        </p:nvPicPr>
        <p:blipFill>
          <a:blip r:embed="rId1"/>
          <a:stretch/>
        </p:blipFill>
        <p:spPr>
          <a:xfrm>
            <a:off x="3132000" y="1268280"/>
            <a:ext cx="5772240" cy="475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24000" y="2205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длинный из фьордов- фьорд Согне в Норвег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1187280" y="333360"/>
            <a:ext cx="7056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бведите красным цветом начальный и 180 меридиан, синим- линию экв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дпишите названия крайних точек и их коорди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Разным цветом раскрасьте и надпишите названия морей, относящихся к разным бассейнам четырех оке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Обозначте красным цветом границу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539640" y="549360"/>
            <a:ext cx="7696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9" descr="89"/>
          <p:cNvPicPr/>
          <p:nvPr/>
        </p:nvPicPr>
        <p:blipFill>
          <a:blip r:embed="rId3"/>
          <a:stretch/>
        </p:blipFill>
        <p:spPr>
          <a:xfrm>
            <a:off x="7667640" y="5877000"/>
            <a:ext cx="1476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еографическое положение Евразии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5399280"/>
          </a:xfrm>
          <a:prstGeom prst="rect">
            <a:avLst/>
          </a:prstGeom>
          <a:ln w="0">
            <a:noFill/>
          </a:ln>
        </p:spPr>
      </p:pic>
      <p:sp>
        <p:nvSpPr>
          <p:cNvPr id="95" name="Ink 5"/>
          <p:cNvSpPr/>
          <p:nvPr/>
        </p:nvSpPr>
        <p:spPr>
          <a:xfrm>
            <a:off x="82080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82" y="17636"/>
                </a:moveTo>
                <a:lnTo>
                  <a:pt x="2282" y="17636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395280" y="189000"/>
            <a:ext cx="8280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10" descr="пржевальский памятник"/>
          <p:cNvPicPr/>
          <p:nvPr/>
        </p:nvPicPr>
        <p:blipFill>
          <a:blip r:embed="rId3"/>
          <a:stretch/>
        </p:blipFill>
        <p:spPr>
          <a:xfrm>
            <a:off x="7236000" y="4292640"/>
            <a:ext cx="174276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2050920" y="852120"/>
            <a:ext cx="66963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нас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. рождения неизвестен - умер 1472), русский путешественник, писатель. В 1466 отправился с торговыми целями из Твери (ныне - г. Калинин) вниз по Волге, достиг морем Дербента, добрался до Баку, затем по Каспийскому морю приплыл в Персию, где жил около года; весной 1469 прибыл в г. Ормуз и по Аравийскому морю достиг Индии, где прожил около 3 лет, много путешествуя. На обратном пути через Персию дошёл до Трапезунда, пересек Чёрное море и в 1472 прибыл в Кафу (Феодосию). Осенью 1472 по пути на родину умер под Смоленском.)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50920" y="3789360"/>
            <a:ext cx="69865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путешествия внимательно изучал население Индии, общественный строй, государственное управление, хозяйство, религию и быт, отчасти её природу. Своё путешествие описал в "Хождении за три моря", которое явилось выдающимся произведением, свидетельствующим о широте кругозора Н. и его передовых для своего времени взглядах; оно относится к значительным памятникам древнерусской литерат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еведено на многие языки мира). Обилие и достоверность фактического материала в этих записях были ценным источником информации об Индии. В г. Калинине, на берегу Волги ему сооружен памятник (бронза, гранит, 1955, скульпторы С. М. Орлов, А. П. Завалов, архитектор Г. А. Захаров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16" descr="никитин афанасий"/>
          <p:cNvPicPr/>
          <p:nvPr/>
        </p:nvPicPr>
        <p:blipFill>
          <a:blip r:embed="rId4"/>
          <a:stretch/>
        </p:blipFill>
        <p:spPr>
          <a:xfrm>
            <a:off x="42840" y="1413000"/>
            <a:ext cx="2050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нов Петр Петр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ершил два путешествия по Тянь- Шан.Он установил границы Тянь- Шаня- одной из главных горных систем Центральной Азии, открыл Хан-Тенгри, долгое время считавшейся самой высокой вершиной Тянь-Шаня.  Исследовал озеро Иссык-Куль, установил высотные пояса в г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семенов тян -шанский"/>
          <p:cNvPicPr/>
          <p:nvPr/>
        </p:nvPicPr>
        <p:blipFill>
          <a:blip r:embed="rId1"/>
          <a:stretch/>
        </p:blipFill>
        <p:spPr>
          <a:xfrm>
            <a:off x="5267160" y="2000160"/>
            <a:ext cx="2800440" cy="3724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971640" y="40464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Vasco da Gama), граф Видигейра, португ. мореплаватель, 1469-1524, посланный кор. Эммануилом Великим, отплыл 7 июля 1497 из Лиссабона, 21 ноября 1497 обогнул мыс Доброй Надежды и 20 мая 1498 прибыл в Каликут на Малабарском берегу Индии, открыв так. обр. морской путь в Индию. В сентябре 1499 с ценным грузом пряностей вернулся в Португалию. 1502-3 с большой жестокостью подавил восстание в Индии. 1524 В. назначен вице-королем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1042920" y="40464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8" descr="vasko_da_gama"/>
          <p:cNvPicPr/>
          <p:nvPr/>
        </p:nvPicPr>
        <p:blipFill>
          <a:blip r:embed="rId3"/>
          <a:stretch/>
        </p:blipFill>
        <p:spPr>
          <a:xfrm>
            <a:off x="395280" y="1557360"/>
            <a:ext cx="324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042920" y="33336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" descr="пржевальский"/>
          <p:cNvPicPr/>
          <p:nvPr/>
        </p:nvPicPr>
        <p:blipFill>
          <a:blip r:embed="rId3"/>
          <a:stretch/>
        </p:blipFill>
        <p:spPr>
          <a:xfrm>
            <a:off x="179280" y="1628640"/>
            <a:ext cx="3600720" cy="388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3851280" y="249228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067280" y="2205000"/>
            <a:ext cx="4392360" cy="387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я Михайловича Пржеваль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всегда вошло в историю географических открытий и исследований. Впервые были нанесены на карту десятки не изученных ранее горных хребтов, описаны многие пустыни, истоки великих азиатских рек Хуанхэ и Янцзы, описал новые виды животных, среди них- дикая лошадь Пржевальского, дикий азиатский верблюд.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Задание: вычеркните лишн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ца между Европой и Азией имеет протяженность 5100 км. Эта граница - условная линия - проходит от                                   моря по                                        склону Уральских гор, на юге - вдоль рек                       до Каспийского моря, по                                        берегу Каспийского моря и Кумо-Манычской впадине. Морская граница проходит по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ям, а также по проливам, соединяющим Черное и Средиземное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170240" y="220500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рского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766120" y="220500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ренцева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58280" y="26370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точ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314520" y="263700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ад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96640" y="299736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рал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915080" y="299736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мба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124000" y="342900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вер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85128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ад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724360" y="4149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зовск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84360" y="45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лтийскому,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059280" y="4581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р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20" descr="AG_doctorwriting"/>
          <p:cNvPicPr/>
          <p:nvPr/>
        </p:nvPicPr>
        <p:blipFill>
          <a:blip r:embed="rId1"/>
          <a:stretch/>
        </p:blipFill>
        <p:spPr>
          <a:xfrm>
            <a:off x="7524720" y="5516640"/>
            <a:ext cx="14288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1187280" y="476280"/>
            <a:ext cx="6624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спасибо за урок</a:t>
            </a:r>
            <a:endParaRPr b="1" lang="en-US" sz="2000" spc="1" strike="noStrike">
              <a:ln w="3816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126" name="Picture 7" descr="107"/>
          <p:cNvPicPr/>
          <p:nvPr/>
        </p:nvPicPr>
        <p:blipFill>
          <a:blip r:embed="rId1"/>
          <a:stretch/>
        </p:blipFill>
        <p:spPr>
          <a:xfrm>
            <a:off x="1692360" y="2924280"/>
            <a:ext cx="5689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мира"/>
          <p:cNvPicPr/>
          <p:nvPr/>
        </p:nvPicPr>
        <p:blipFill>
          <a:blip r:embed="rId1"/>
          <a:stretch/>
        </p:blipFill>
        <p:spPr>
          <a:xfrm>
            <a:off x="250920" y="2573280"/>
            <a:ext cx="8496360" cy="4284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547640" y="0"/>
            <a:ext cx="5832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вразия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250920" y="105264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графическое положение </a:t>
            </a:r>
            <a:endParaRPr b="1" lang="en-US" sz="2000" spc="1" strike="noStrike">
              <a:ln w="9360">
                <a:solidFill>
                  <a:srgbClr val="a5002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е материка</a:t>
            </a:r>
            <a:endParaRPr b="1" lang="en-US" sz="2000" spc="1" strike="noStrike">
              <a:ln w="9360">
                <a:solidFill>
                  <a:srgbClr val="a5002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 Black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.Называть и показывать элементы береговой линии матер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.Определять географическое положение Евр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3.Называть имена путешественников и исследователей контин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6"/>
          <p:cNvSpPr/>
          <p:nvPr/>
        </p:nvSpPr>
        <p:spPr>
          <a:xfrm>
            <a:off x="4211640" y="1341360"/>
            <a:ext cx="46814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54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47"/>
          <p:cNvSpPr/>
          <p:nvPr/>
        </p:nvSpPr>
        <p:spPr>
          <a:xfrm>
            <a:off x="4211640" y="2205000"/>
            <a:ext cx="40338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30,3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AutoShape 48"/>
          <p:cNvSpPr/>
          <p:nvPr/>
        </p:nvSpPr>
        <p:spPr>
          <a:xfrm>
            <a:off x="4211640" y="3068640"/>
            <a:ext cx="34560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24,2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211640" y="3933720"/>
            <a:ext cx="295272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17,8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211640" y="5661000"/>
            <a:ext cx="2089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8 млн.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4211640" y="4797360"/>
            <a:ext cx="2521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14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684360" y="1341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Евраз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84360" y="2349360"/>
            <a:ext cx="35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ф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57"/>
          <p:cNvSpPr/>
          <p:nvPr/>
        </p:nvSpPr>
        <p:spPr>
          <a:xfrm>
            <a:off x="684360" y="314172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Северная Аме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58"/>
          <p:cNvSpPr/>
          <p:nvPr/>
        </p:nvSpPr>
        <p:spPr>
          <a:xfrm>
            <a:off x="755640" y="400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Южная Аме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59"/>
          <p:cNvSpPr/>
          <p:nvPr/>
        </p:nvSpPr>
        <p:spPr>
          <a:xfrm>
            <a:off x="755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нтарктид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60"/>
          <p:cNvSpPr/>
          <p:nvPr/>
        </p:nvSpPr>
        <p:spPr>
          <a:xfrm>
            <a:off x="755640" y="566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встрал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61" descr="ЕВРАЗИЯ"/>
          <p:cNvPicPr/>
          <p:nvPr/>
        </p:nvPicPr>
        <p:blipFill>
          <a:blip r:embed="rId1"/>
          <a:stretch/>
        </p:blipFill>
        <p:spPr>
          <a:xfrm>
            <a:off x="8172360" y="134136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2" descr="АФРИКА"/>
          <p:cNvPicPr/>
          <p:nvPr/>
        </p:nvPicPr>
        <p:blipFill>
          <a:blip r:embed="rId2"/>
          <a:stretch/>
        </p:blipFill>
        <p:spPr>
          <a:xfrm>
            <a:off x="7667640" y="2205000"/>
            <a:ext cx="550800" cy="5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3" descr="СЕВЕРНАЯ АМЕРИКА"/>
          <p:cNvPicPr/>
          <p:nvPr/>
        </p:nvPicPr>
        <p:blipFill>
          <a:blip r:embed="rId3"/>
          <a:stretch/>
        </p:blipFill>
        <p:spPr>
          <a:xfrm>
            <a:off x="7048440" y="3098880"/>
            <a:ext cx="576360" cy="57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4" descr="Южная америка"/>
          <p:cNvPicPr/>
          <p:nvPr/>
        </p:nvPicPr>
        <p:blipFill>
          <a:blip r:embed="rId4"/>
          <a:stretch/>
        </p:blipFill>
        <p:spPr>
          <a:xfrm>
            <a:off x="6472080" y="3962520"/>
            <a:ext cx="649440" cy="57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5" descr="Антарктида"/>
          <p:cNvPicPr/>
          <p:nvPr/>
        </p:nvPicPr>
        <p:blipFill>
          <a:blip r:embed="rId5"/>
          <a:stretch/>
        </p:blipFill>
        <p:spPr>
          <a:xfrm>
            <a:off x="6113520" y="4840200"/>
            <a:ext cx="574560" cy="57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6" descr="Австралия"/>
          <p:cNvPicPr/>
          <p:nvPr/>
        </p:nvPicPr>
        <p:blipFill>
          <a:blip r:embed="rId6"/>
          <a:stretch/>
        </p:blipFill>
        <p:spPr>
          <a:xfrm>
            <a:off x="5767560" y="571968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7"/>
          <p:cNvSpPr txBox="1"/>
          <p:nvPr/>
        </p:nvSpPr>
        <p:spPr>
          <a:xfrm>
            <a:off x="1835280" y="333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ь материков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джомолунга"/>
          <p:cNvPicPr/>
          <p:nvPr/>
        </p:nvPicPr>
        <p:blipFill>
          <a:blip r:embed="rId1"/>
          <a:stretch/>
        </p:blipFill>
        <p:spPr>
          <a:xfrm>
            <a:off x="4591080" y="1484280"/>
            <a:ext cx="4552920" cy="4465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4000" y="191628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чайшая точка Земли-гора Джомолунгма, высота 8848 метр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042920" y="476280"/>
            <a:ext cx="7345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мертвое море"/>
          <p:cNvPicPr/>
          <p:nvPr/>
        </p:nvPicPr>
        <p:blipFill>
          <a:blip r:embed="rId1"/>
          <a:stretch/>
        </p:blipFill>
        <p:spPr>
          <a:xfrm>
            <a:off x="3780000" y="1628640"/>
            <a:ext cx="5184720" cy="4969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250920" y="2205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низкая точка Земли- впадина Мертвого моря- -395 метр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900000" y="40464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каспийское море"/>
          <p:cNvPicPr/>
          <p:nvPr/>
        </p:nvPicPr>
        <p:blipFill>
          <a:blip r:embed="rId1"/>
          <a:stretch/>
        </p:blipFill>
        <p:spPr>
          <a:xfrm>
            <a:off x="4067280" y="1413000"/>
            <a:ext cx="4668840" cy="504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68360" y="2060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большое по площади море-Каспийское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684360" y="333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байкал"/>
          <p:cNvPicPr/>
          <p:nvPr/>
        </p:nvPicPr>
        <p:blipFill>
          <a:blip r:embed="rId1"/>
          <a:stretch/>
        </p:blipFill>
        <p:spPr>
          <a:xfrm>
            <a:off x="3492360" y="141300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39640" y="21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глубокое из озер мира- озеро Байкал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611280" y="333360"/>
            <a:ext cx="75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черрапунджи"/>
          <p:cNvPicPr/>
          <p:nvPr/>
        </p:nvPicPr>
        <p:blipFill>
          <a:blip r:embed="rId1"/>
          <a:stretch/>
        </p:blipFill>
        <p:spPr>
          <a:xfrm>
            <a:off x="4067280" y="1484280"/>
            <a:ext cx="4876560" cy="453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68360" y="2852640"/>
            <a:ext cx="32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влажное  место Земли с максимальным количеством осадков- деревня Черрапунджи в Инд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1042920" y="404640"/>
            <a:ext cx="76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08:28Z</dcterms:created>
  <dc:creator>Пак Александра Леонидовна</dc:creator>
  <dc:description/>
  <dc:language>en-US</dc:language>
  <cp:lastModifiedBy>user</cp:lastModifiedBy>
  <dcterms:modified xsi:type="dcterms:W3CDTF">2014-03-18T13:53:09Z</dcterms:modified>
  <cp:revision>19</cp:revision>
  <dc:subject>География</dc:subject>
  <dc:title>ЕВРАЗИЯ. Географическое положение и исследование материка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140000000000010250300207f7000400038000</vt:lpwstr>
  </property>
</Properties>
</file>