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19.png" ContentType="image/png"/>
  <Override PartName="/ppt/media/image25.png" ContentType="image/png"/>
  <Override PartName="/ppt/media/image24.png" ContentType="image/png"/>
  <Override PartName="/ppt/media/image21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5.gif" ContentType="image/gif"/>
  <Override PartName="/ppt/media/image7.jpeg" ContentType="image/jpeg"/>
  <Override PartName="/ppt/media/image36.gif" ContentType="image/gif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293-7EE2-4377-8E70-D374FCF6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AF3-4810-428F-9A0C-7296845C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70A-800E-4F02-81FD-AB89B0CC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0E4-50DB-44E0-BBA1-EC16C06D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F0C-6525-4C7D-B72D-A02A1F56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C6D-B0E2-4E29-AAF0-2A90AF58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9E3-7F0F-4F6E-BBD3-DE38460B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F7D-9006-4D12-B6EB-B8EDF5CF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249-D7BC-4FD9-AEBE-6AEFDE1F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EEE-E0F4-4E21-991E-68A89396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F31-73D5-4C3E-A3C3-8C0814F9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0F2-470D-4916-903D-1E3422AB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f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8352-F1F3-4F2E-BEDE-C9B3E1F98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5256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00000"/>
                </a:solidFill>
                <a:uFillTx/>
                <a:latin typeface="Arial Black"/>
              </a:rPr>
              <a:t>Урок географии </a:t>
            </a:r>
            <a:br>
              <a:rPr sz="3600"/>
            </a:br>
            <a:r>
              <a:rPr b="0" lang="ru-RU" sz="3600" spc="-1" strike="noStrike" u="sng">
                <a:solidFill>
                  <a:srgbClr val="800000"/>
                </a:solidFill>
                <a:uFillTx/>
                <a:latin typeface="Arial Black"/>
              </a:rPr>
              <a:t>для 7 клас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56000" y="5157360"/>
            <a:ext cx="45849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ГБСУВУ ОТ СПУ «Уральское подворье» г.Пер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Выполнила: преподаватель географ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Абдалова Ильсияр Хан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природа"/>
          <p:cNvPicPr/>
          <p:nvPr/>
        </p:nvPicPr>
        <p:blipFill>
          <a:blip r:embed="rId1"/>
          <a:stretch/>
        </p:blipFill>
        <p:spPr>
          <a:xfrm>
            <a:off x="5076720" y="2852640"/>
            <a:ext cx="3527640" cy="2165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" name="Picture 5" descr="природа 2"/>
          <p:cNvPicPr/>
          <p:nvPr/>
        </p:nvPicPr>
        <p:blipFill>
          <a:blip r:embed="rId2"/>
          <a:stretch/>
        </p:blipFill>
        <p:spPr>
          <a:xfrm>
            <a:off x="5148360" y="189000"/>
            <a:ext cx="3456000" cy="244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5" name="Picture 7" descr="природа 5"/>
          <p:cNvPicPr/>
          <p:nvPr/>
        </p:nvPicPr>
        <p:blipFill>
          <a:blip r:embed="rId3"/>
          <a:stretch/>
        </p:blipFill>
        <p:spPr>
          <a:xfrm>
            <a:off x="468360" y="2421000"/>
            <a:ext cx="3797280" cy="386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аравийский полуостров"/>
          <p:cNvPicPr/>
          <p:nvPr/>
        </p:nvPicPr>
        <p:blipFill>
          <a:blip r:embed="rId1"/>
          <a:stretch/>
        </p:blipFill>
        <p:spPr>
          <a:xfrm>
            <a:off x="4143240" y="1413000"/>
            <a:ext cx="5000760" cy="5111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2421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крупный полуостров Земли- Аравийский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755640" y="333360"/>
            <a:ext cx="734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фьорд согне"/>
          <p:cNvPicPr/>
          <p:nvPr/>
        </p:nvPicPr>
        <p:blipFill>
          <a:blip r:embed="rId1"/>
          <a:stretch/>
        </p:blipFill>
        <p:spPr>
          <a:xfrm>
            <a:off x="3132000" y="1268280"/>
            <a:ext cx="5772240" cy="4751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324000" y="2205000"/>
            <a:ext cx="24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длинный из фьордов- фьорд Согне в Норвегии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1187280" y="333360"/>
            <a:ext cx="7056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496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ни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Обведите красным цветом начальный и 180 меридиан, синим- линию эква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одпишите названия крайних точек и их координ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Разным цветом раскрасьте и надпишите названия морей, относящихся к разным бассейнам четырех оке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Обозначте красным цветом границу между Европой и Аз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539640" y="549360"/>
            <a:ext cx="76964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ическое положение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9" descr="89"/>
          <p:cNvPicPr/>
          <p:nvPr/>
        </p:nvPicPr>
        <p:blipFill>
          <a:blip r:embed="rId3"/>
          <a:stretch/>
        </p:blipFill>
        <p:spPr>
          <a:xfrm>
            <a:off x="7667640" y="5877000"/>
            <a:ext cx="1476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Географическое положение Евразии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125360"/>
            <a:ext cx="8137440" cy="5399280"/>
          </a:xfrm>
          <a:prstGeom prst="rect">
            <a:avLst/>
          </a:prstGeom>
          <a:ln w="0">
            <a:noFill/>
          </a:ln>
        </p:spPr>
      </p:pic>
      <p:sp>
        <p:nvSpPr>
          <p:cNvPr id="95" name="Ink 5"/>
          <p:cNvSpPr/>
          <p:nvPr/>
        </p:nvSpPr>
        <p:spPr>
          <a:xfrm>
            <a:off x="820800" y="6348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82" y="17636"/>
                </a:moveTo>
                <a:lnTo>
                  <a:pt x="2282" y="17636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395280" y="189000"/>
            <a:ext cx="82803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я исследования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10" descr="пржевальский памятник"/>
          <p:cNvPicPr/>
          <p:nvPr/>
        </p:nvPicPr>
        <p:blipFill>
          <a:blip r:embed="rId3"/>
          <a:stretch/>
        </p:blipFill>
        <p:spPr>
          <a:xfrm>
            <a:off x="7236000" y="4292640"/>
            <a:ext cx="1742760" cy="2333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2050920" y="852120"/>
            <a:ext cx="669636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итин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анас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г. рождения неизвестен - умер 1472), русский путешественник, писатель. В 1466 отправился с торговыми целями из Твери (ныне - г. Калинин) вниз по Волге, достиг морем Дербента, добрался до Баку, затем по Каспийскому морю приплыл в Персию, где жил около года; весной 1469 прибыл в г. Ормуз и по Аравийскому морю достиг Индии, где прожил около 3 лет, много путешествуя. На обратном пути через Персию дошёл до Трапезунда, пересек Чёрное море и в 1472 прибыл в Кафу (Феодосию). Осенью 1472 по пути на родину умер под Смоленском.)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250920" y="3789360"/>
            <a:ext cx="698652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путешествия внимательно изучал население Индии, общественный строй, государственное управление, хозяйство, религию и быт, отчасти её природу. Своё путешествие описал в "Хождении за три моря", которое явилось выдающимся произведением, свидетельствующим о широте кругозора Н. и его передовых для своего времени взглядах; оно относится к значительным памятникам древнерусской литерату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ереведено на многие языки мира). Обилие и достоверность фактического материала в этих записях были ценным источником информации об Индии. В г. Калинине, на берегу Волги ему сооружен памятник (бронза, гранит, 1955, скульпторы С. М. Орлов, А. П. Завалов, архитектор Г. А. Захаров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16" descr="никитин афанасий"/>
          <p:cNvPicPr/>
          <p:nvPr/>
        </p:nvPicPr>
        <p:blipFill>
          <a:blip r:embed="rId4"/>
          <a:stretch/>
        </p:blipFill>
        <p:spPr>
          <a:xfrm>
            <a:off x="42840" y="1413000"/>
            <a:ext cx="20509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енов Петр Петрови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ершил два путешествия по Тянь- Шан.Он установил границы Тянь- Шаня- одной из главных горных систем Центральной Азии, открыл Хан-Тенгри, долгое время считавшейся самой высокой вершиной Тянь-Шаня.  Исследовал озеро Иссык-Куль, установил высотные пояса в г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семенов тян -шанский"/>
          <p:cNvPicPr/>
          <p:nvPr/>
        </p:nvPicPr>
        <p:blipFill>
          <a:blip r:embed="rId1"/>
          <a:stretch/>
        </p:blipFill>
        <p:spPr>
          <a:xfrm>
            <a:off x="5267160" y="2000160"/>
            <a:ext cx="2800440" cy="37242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971640" y="404640"/>
            <a:ext cx="668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я исследования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ко да Га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Vasco da Gama), граф Видигейра, португ. мореплаватель, 1469-1524, посланный кор. Эммануилом Великим, отплыл 7 июля 1497 из Лиссабона, 21 ноября 1497 обогнул мыс Доброй Надежды и 20 мая 1498 прибыл в Каликут на Малабарском берегу Индии, открыв так. обр. морской путь в Индию. В сентябре 1499 с ценным грузом пряностей вернулся в Португалию. 1502-3 с большой жестокостью подавил восстание в Индии. 1524 В. назначен вице-королем И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1042920" y="404640"/>
            <a:ext cx="668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я исследования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8" descr="vasko_da_gama"/>
          <p:cNvPicPr/>
          <p:nvPr/>
        </p:nvPicPr>
        <p:blipFill>
          <a:blip r:embed="rId3"/>
          <a:stretch/>
        </p:blipFill>
        <p:spPr>
          <a:xfrm>
            <a:off x="395280" y="1557360"/>
            <a:ext cx="324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1042920" y="333360"/>
            <a:ext cx="668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я исследования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7" descr="пржевальский"/>
          <p:cNvPicPr/>
          <p:nvPr/>
        </p:nvPicPr>
        <p:blipFill>
          <a:blip r:embed="rId3"/>
          <a:stretch/>
        </p:blipFill>
        <p:spPr>
          <a:xfrm>
            <a:off x="179280" y="1628640"/>
            <a:ext cx="3600720" cy="388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3851280" y="249228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067280" y="2205000"/>
            <a:ext cx="4392360" cy="3874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лая Михайловича Пржевальс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всегда вошло в историю географических открытий и исследований. Впервые были нанесены на карту десятки не изученных ранее горных хребтов, описаны многие пустыни, истоки великих азиатских рек Хуанхэ и Янцзы, описал новые виды животных, среди них- дикая лошадь Пржевальского, дикий азиатский верблюд.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Задание: вычеркните лишне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ница между Европой и Азией имеет протяженность 5100 км. Эта граница - условная линия - проходит от                                   моря по                                        склону Уральских гор, на юге - вдоль рек                       до Каспийского моря, по                                        берегу Каспийского моря и Кумо-Манычской впадине. Морская граница проходит по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ям, а также по проливам, соединяющим Черное и Средиземное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170240" y="220500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рского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766120" y="220500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аренцева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358280" y="26370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осточ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314520" y="263700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пад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896640" y="299736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рал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915080" y="299736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Эмба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124000" y="3429000"/>
            <a:ext cx="19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евер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851280" y="3429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пад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724360" y="4149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зовско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684360" y="4581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алтийскому,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059280" y="4581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ер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20" descr="AG_doctorwriting"/>
          <p:cNvPicPr/>
          <p:nvPr/>
        </p:nvPicPr>
        <p:blipFill>
          <a:blip r:embed="rId1"/>
          <a:stretch/>
        </p:blipFill>
        <p:spPr>
          <a:xfrm>
            <a:off x="7524720" y="5516640"/>
            <a:ext cx="14288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6"/>
          <p:cNvSpPr txBox="1"/>
          <p:nvPr/>
        </p:nvSpPr>
        <p:spPr>
          <a:xfrm>
            <a:off x="1187280" y="476280"/>
            <a:ext cx="6624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спасибо за урок</a:t>
            </a:r>
            <a:endParaRPr b="1" lang="en-US" sz="2000" spc="1" strike="noStrike">
              <a:ln w="38160">
                <a:solidFill>
                  <a:srgbClr val="ffff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pic>
        <p:nvPicPr>
          <p:cNvPr id="126" name="Picture 7" descr="107"/>
          <p:cNvPicPr/>
          <p:nvPr/>
        </p:nvPicPr>
        <p:blipFill>
          <a:blip r:embed="rId1"/>
          <a:stretch/>
        </p:blipFill>
        <p:spPr>
          <a:xfrm>
            <a:off x="1692360" y="2924280"/>
            <a:ext cx="5689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арта мира"/>
          <p:cNvPicPr/>
          <p:nvPr/>
        </p:nvPicPr>
        <p:blipFill>
          <a:blip r:embed="rId1"/>
          <a:stretch/>
        </p:blipFill>
        <p:spPr>
          <a:xfrm>
            <a:off x="250920" y="2573280"/>
            <a:ext cx="8496360" cy="428472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>
            <a:off x="1547640" y="0"/>
            <a:ext cx="583272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вразия</a:t>
            </a:r>
            <a:endParaRPr b="1" lang="en-US" sz="20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250920" y="1052640"/>
            <a:ext cx="871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графическое положение </a:t>
            </a:r>
            <a:endParaRPr b="1" lang="en-US" sz="2000" spc="1" strike="noStrike">
              <a:ln w="9360">
                <a:solidFill>
                  <a:srgbClr val="a50021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следование материка</a:t>
            </a:r>
            <a:endParaRPr b="1" lang="en-US" sz="2000" spc="1" strike="noStrike">
              <a:ln w="9360">
                <a:solidFill>
                  <a:srgbClr val="a50021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 Black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1.Называть и показывать элементы береговой линии матер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2.Определять географическое положение Евр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3.Называть имена путешественников и исследователей контин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6"/>
          <p:cNvSpPr/>
          <p:nvPr/>
        </p:nvSpPr>
        <p:spPr>
          <a:xfrm>
            <a:off x="4211640" y="1341360"/>
            <a:ext cx="468144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54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AutoShape 47"/>
          <p:cNvSpPr/>
          <p:nvPr/>
        </p:nvSpPr>
        <p:spPr>
          <a:xfrm>
            <a:off x="4211640" y="2205000"/>
            <a:ext cx="403380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30,3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AutoShape 48"/>
          <p:cNvSpPr/>
          <p:nvPr/>
        </p:nvSpPr>
        <p:spPr>
          <a:xfrm>
            <a:off x="4211640" y="3068640"/>
            <a:ext cx="345600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24,2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AutoShape 49"/>
          <p:cNvSpPr/>
          <p:nvPr/>
        </p:nvSpPr>
        <p:spPr>
          <a:xfrm>
            <a:off x="4211640" y="3933720"/>
            <a:ext cx="295272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17,8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AutoShape 50"/>
          <p:cNvSpPr/>
          <p:nvPr/>
        </p:nvSpPr>
        <p:spPr>
          <a:xfrm>
            <a:off x="4211640" y="5661000"/>
            <a:ext cx="208908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8 млн.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AutoShape 52"/>
          <p:cNvSpPr/>
          <p:nvPr/>
        </p:nvSpPr>
        <p:spPr>
          <a:xfrm>
            <a:off x="4211640" y="4797360"/>
            <a:ext cx="252108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14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55"/>
          <p:cNvSpPr/>
          <p:nvPr/>
        </p:nvSpPr>
        <p:spPr>
          <a:xfrm>
            <a:off x="684360" y="13413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Евразия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684360" y="2349360"/>
            <a:ext cx="35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Африк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Text Box 57"/>
          <p:cNvSpPr/>
          <p:nvPr/>
        </p:nvSpPr>
        <p:spPr>
          <a:xfrm>
            <a:off x="684360" y="314172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Северная Америк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Text Box 58"/>
          <p:cNvSpPr/>
          <p:nvPr/>
        </p:nvSpPr>
        <p:spPr>
          <a:xfrm>
            <a:off x="755640" y="4005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Южная Америк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Text Box 59"/>
          <p:cNvSpPr/>
          <p:nvPr/>
        </p:nvSpPr>
        <p:spPr>
          <a:xfrm>
            <a:off x="75564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Антарктид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60"/>
          <p:cNvSpPr/>
          <p:nvPr/>
        </p:nvSpPr>
        <p:spPr>
          <a:xfrm>
            <a:off x="755640" y="5661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Австралия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61" descr="ЕВРАЗИЯ"/>
          <p:cNvPicPr/>
          <p:nvPr/>
        </p:nvPicPr>
        <p:blipFill>
          <a:blip r:embed="rId1"/>
          <a:stretch/>
        </p:blipFill>
        <p:spPr>
          <a:xfrm>
            <a:off x="8172360" y="134136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2" descr="АФРИКА"/>
          <p:cNvPicPr/>
          <p:nvPr/>
        </p:nvPicPr>
        <p:blipFill>
          <a:blip r:embed="rId2"/>
          <a:stretch/>
        </p:blipFill>
        <p:spPr>
          <a:xfrm>
            <a:off x="7667640" y="2205000"/>
            <a:ext cx="550800" cy="585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3" descr="СЕВЕРНАЯ АМЕРИКА"/>
          <p:cNvPicPr/>
          <p:nvPr/>
        </p:nvPicPr>
        <p:blipFill>
          <a:blip r:embed="rId3"/>
          <a:stretch/>
        </p:blipFill>
        <p:spPr>
          <a:xfrm>
            <a:off x="7048440" y="3098880"/>
            <a:ext cx="576360" cy="57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4" descr="Южная америка"/>
          <p:cNvPicPr/>
          <p:nvPr/>
        </p:nvPicPr>
        <p:blipFill>
          <a:blip r:embed="rId4"/>
          <a:stretch/>
        </p:blipFill>
        <p:spPr>
          <a:xfrm>
            <a:off x="6472080" y="3962520"/>
            <a:ext cx="649440" cy="574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5" descr="Антарктида"/>
          <p:cNvPicPr/>
          <p:nvPr/>
        </p:nvPicPr>
        <p:blipFill>
          <a:blip r:embed="rId5"/>
          <a:stretch/>
        </p:blipFill>
        <p:spPr>
          <a:xfrm>
            <a:off x="6113520" y="4840200"/>
            <a:ext cx="574560" cy="57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6" descr="Австралия"/>
          <p:cNvPicPr/>
          <p:nvPr/>
        </p:nvPicPr>
        <p:blipFill>
          <a:blip r:embed="rId6"/>
          <a:stretch/>
        </p:blipFill>
        <p:spPr>
          <a:xfrm>
            <a:off x="5767560" y="5719680"/>
            <a:ext cx="502920" cy="503280"/>
          </a:xfrm>
          <a:prstGeom prst="rect">
            <a:avLst/>
          </a:prstGeom>
          <a:ln w="0">
            <a:noFill/>
          </a:ln>
        </p:spPr>
      </p:pic>
      <p:sp>
        <p:nvSpPr>
          <p:cNvPr id="69" name="WordArt 67"/>
          <p:cNvSpPr txBox="1"/>
          <p:nvPr/>
        </p:nvSpPr>
        <p:spPr>
          <a:xfrm>
            <a:off x="1835280" y="33336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ь материков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джомолунга"/>
          <p:cNvPicPr/>
          <p:nvPr/>
        </p:nvPicPr>
        <p:blipFill>
          <a:blip r:embed="rId1"/>
          <a:stretch/>
        </p:blipFill>
        <p:spPr>
          <a:xfrm>
            <a:off x="4591080" y="1484280"/>
            <a:ext cx="4552920" cy="44658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324000" y="1916280"/>
            <a:ext cx="41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чайшая точка Земли-гора Джомолунгма, высота 8848 метро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1042920" y="476280"/>
            <a:ext cx="7345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мертвое море"/>
          <p:cNvPicPr/>
          <p:nvPr/>
        </p:nvPicPr>
        <p:blipFill>
          <a:blip r:embed="rId1"/>
          <a:stretch/>
        </p:blipFill>
        <p:spPr>
          <a:xfrm>
            <a:off x="3780000" y="1628640"/>
            <a:ext cx="5184720" cy="4969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250920" y="220500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низкая точка Земли- впадина Мертвого моря- -395 метро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900000" y="404640"/>
            <a:ext cx="72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каспийское море"/>
          <p:cNvPicPr/>
          <p:nvPr/>
        </p:nvPicPr>
        <p:blipFill>
          <a:blip r:embed="rId1"/>
          <a:stretch/>
        </p:blipFill>
        <p:spPr>
          <a:xfrm>
            <a:off x="4067280" y="1413000"/>
            <a:ext cx="4668840" cy="504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68360" y="2060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е большое по площади море-Каспийское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684360" y="333360"/>
            <a:ext cx="76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байкал"/>
          <p:cNvPicPr/>
          <p:nvPr/>
        </p:nvPicPr>
        <p:blipFill>
          <a:blip r:embed="rId1"/>
          <a:stretch/>
        </p:blipFill>
        <p:spPr>
          <a:xfrm>
            <a:off x="3492360" y="1413000"/>
            <a:ext cx="5327640" cy="5040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539640" y="2133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е глубокое из озер мира- озеро Байкал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611280" y="333360"/>
            <a:ext cx="75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черрапунджи"/>
          <p:cNvPicPr/>
          <p:nvPr/>
        </p:nvPicPr>
        <p:blipFill>
          <a:blip r:embed="rId1"/>
          <a:stretch/>
        </p:blipFill>
        <p:spPr>
          <a:xfrm>
            <a:off x="4067280" y="1484280"/>
            <a:ext cx="4876560" cy="4537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468360" y="2852640"/>
            <a:ext cx="324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е влажное  место Земли с максимальным количеством осадков- деревня Черрапунджи в Индии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1042920" y="404640"/>
            <a:ext cx="763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7:08:28Z</dcterms:created>
  <dc:creator>Пак Александра Леонидовна</dc:creator>
  <dc:description/>
  <dc:language>en-US</dc:language>
  <cp:lastModifiedBy>user</cp:lastModifiedBy>
  <dcterms:modified xsi:type="dcterms:W3CDTF">2014-03-18T13:53:09Z</dcterms:modified>
  <cp:revision>19</cp:revision>
  <dc:subject>География</dc:subject>
  <dc:title>ЕВРАЗИЯ. Географическое положение и исследование материка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140000000000010250300207f7000400038000</vt:lpwstr>
  </property>
</Properties>
</file>