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53BF-F2CF-456C-9A9E-3911F866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6009-DF91-463C-A92B-AC9C5DC0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2321-1F82-4DA4-B1A1-0B7CDE82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DB43-760F-4B4A-AE92-ABF35A39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2CED-5122-4408-8582-89E43575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AEEA-A81F-420E-8E5F-AC1B00C3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F648-B914-4800-B0CD-6A4D0E0B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9334-7775-4946-9C4D-F139CFA6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5BBD-23F8-4D17-853B-C2EFDE84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D7D7-A3D9-42FE-9239-1DF8F0D4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66DF-F05F-4CF7-A505-FC1307A4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52CB-D33B-4ADB-9654-AB4D6DD4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2D44-6696-4973-A5C0-A42AC49C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0223-6998-4A31-ADF8-3725395A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6F54-D5C6-4F3B-A438-0CE0FD80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440E-084C-4B65-88EE-B79ECC62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4C8F-E35F-4E27-B8FB-3F3A9C8B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541F-5F3F-4017-9108-D2040603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8852-A441-409A-8E83-DD4F2AC2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C57B-8E67-49C3-A3C6-F1284376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8262-C4B0-462E-B2B7-A632DDD9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52A6-E2A9-486A-A4C3-32F9276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9632-093C-47D1-BE06-7FFEB213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C683-D5FF-41FF-99EC-A721AC97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415D-F703-4E43-A326-7A50894D9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45CA-B3BA-4632-A382-808E71FA5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280"/>
            <a:ext cx="777384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Этапы развития географических представлений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География Средневековь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( до середины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XV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века)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«Центр географической науки» сместился на Восток, ведущая роль в географических открытиях перешла к арабам ( ученые и путешественники –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Ибн Сина (Авиценна), Бируни, Идриси, Ибн Батута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На севере норманы основали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0- 11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в. первые поселения в Исландии, Гренландии и Северной Америке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73600" cy="507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11280" y="5661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бн Сина (Авицен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495600" cy="4486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5435640" y="6206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Абу Рейхан ал-Биру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овгородцы достигли о. Шпицберген и устья р. Об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Марко Поло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открыл для европейцев Восточную Азию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Афанасий Никитин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( вторая половина 15 века) ходил по Каспийскому, Черному и Аравийскому морям, достиг Индии, описал  природу, жизнь и быт населения этой страны («Хождение за три моря»)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027240" cy="40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84360" y="4724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Марко По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78360" y="333360"/>
            <a:ext cx="2765520" cy="3024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867280" y="3716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Афанасий Ники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924360" y="3860640"/>
            <a:ext cx="2381040" cy="278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6156360" y="5373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уть Афанасия Ники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Эпоха Великих географических открытий (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XV-XVII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вв.)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Расцвет географии на фоне возрождения культуры и наук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а карте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Меркатора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показаны реальные очертания материков и их береговых линий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а карте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Леонардо да Винчи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– гипотетический Южный материк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ыдающееся событие российской картографии – создание «Большого чертежа» Российского государства (1627 г.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82720" cy="4944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39640" y="83664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Герхард Мерк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476440" cy="1847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6156360" y="234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роекция Мер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28080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5219640" y="5877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Карта Европы 159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Эпоха экспедици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XVII – XVIII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вв.)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Большое значение приобретает фиксация приобретённых знаний, картографирование и обобщение полученных сведений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ткрыта Австралия и многие острова Океан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 России интенсивное продвижение русских на восток (Хабаров, Поярков, Дежнёв, Атласов и др.)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739 г. - М.Ломоносовым создается Географический департамент в Росс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Ломоносов выдвигает важные географические идеи о непрерывном изменении  лика Земли под влиянием внешних и внутренних сил, о движении воздушных масс, о слоях земных, о возможности плавания в Ледовитом океане и др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ервую научную систему географических наук предложил В.Н.Татищев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Научные экспедиции и теоретические открытия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XIX -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начала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XX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вв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Значительные территориальные открытия сочетаются с глубокими теоретическими обобщениями, открытием географических законов (Гумбольт, Риттер, Реклю, Тюнен)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сё более обособляются отраслевые географические науки – геоботаника, климатология, океанология и др.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России этот период отмечен формированием новых структур Русского географического общества (1845)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формирование мощных географических школ, представители которых (Литке, Семёнов – Тянь- Шанский, Пржевальский, Кропоткин, Миклухо – Маклай, Воейков, Обручев, Козлов и др.)внесли выдающийся вклад в исследование Евразии и других регионов мир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Что тако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«история географии»?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Это особый раздел географической науки, который изучает историю территориального открытия Земли, историю развития географических идей и открытия новых географических законов и закономерност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1820 году русской экспедицией                 М. Лазарева и Ф. Беллинсгаузена была открыта Антарктида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Русские кругосветные путешествия И.Крузенштерна и Ю.Лисянского позволили по-новому взглянуть на мир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1884 году в Московском университете Д.Н.Анучиным была создана первая кафедра географ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етербургскую географию прославили В.В. Докучаев и А.И. Воейков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География Древнего Восток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3 тыс. до н.э. – в Древнем Египте снаряжаются экспедиции в центр Африки, по Средиземному и Красному морям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рабатываются навыки ориентирования по Солнцу, Луне и звездам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Месопотамии впервые разделили круг на градусы, год на 12 месяцев, сутки на 24 часа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3-2 тыс. до н.э. – представители Хараппской цивилизации ( территория современного Пакистана) открыли муссоны. ( Что такое муссоны?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Элементы географии содержат священные Древнеиндийские книги («Веды», «Махабхарат», «Рамаяна»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X – VIII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вв. до н.э. в Древнем Китае составляются карты при постройке крепостей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в. до н.э. – датируют изобретение компаса и прибора для измерения расстояний, «Региональный атлас» на 18 листах на шёлк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Античная средиземноморская география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. до н. э.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– V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в. н.э. – попытка создать теорию о происхождении и строении окружающего мира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мозрительное представление о Земле как о шаре 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Аристотель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), а затем научное доказательство (милетская философская школ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Фалеса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оздание карт и планов, определение географических координат, введение в обиход параллелей и меридианов, картографических проекций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809880" cy="258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2370240" cy="4437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403280" y="4365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9079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«География»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лавдия Птолемея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в 8 томах содержит сведения о 8 000 географических названиях и координаты почти 400 точек, описание способов построения карт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Эратосфен Киренск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( ок. 276 – 194 до н.э.)  впервые измерил дугу меридиана и оценил размеры Земл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Страбон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(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. до н.э.) автор 17-ти томной «Географии», родоначальник страноведения, геоморфологии и палеогеограф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3213000"/>
            <a:ext cx="1952640" cy="234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64440" y="549360"/>
            <a:ext cx="218124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097080" cy="293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042920" y="3573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трабон и Птоле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66100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Клавдий Птоле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357336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Эратосфен Кир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 трудах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Аристотеля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изложены основы гидрологии, метеорологии, океанологии и намечается разделение географических наук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Большой размах приобретают гидротехнические работы – прообразы современной мелиорац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3:55:23Z</dcterms:created>
  <dc:creator>admin</dc:creator>
  <dc:description/>
  <dc:language>en-US</dc:language>
  <cp:lastModifiedBy>Admin</cp:lastModifiedBy>
  <dcterms:modified xsi:type="dcterms:W3CDTF">2011-09-09T17:48:51Z</dcterms:modified>
  <cp:revision>33</cp:revision>
  <dc:subject/>
  <dc:title>Этапы развития географических представлений</dc:title>
</cp:coreProperties>
</file>