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FB4B-6F0F-4237-A7F7-FFF62CDD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EB72-06F4-4D8B-B3A5-B3CAC63C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0200-E1AD-437C-9CB9-EAB7A88A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A580-D82C-4D94-B66F-53FCA4E6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3C38-8FC3-4ABB-839E-33399188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A43D-E62C-4C6F-9F2D-4B752F16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C7A7-A689-4973-B109-BEA24062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B2B-1013-41E8-940C-88149CBA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695A-8054-422D-ADAF-25D7BC5E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1BB5-0818-4661-9068-42EC5C05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D14A-12BF-4DAA-9718-C747A774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6504-10AD-4FE8-9897-64F2C84F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8B16-D764-4509-8A0A-4638CF5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9514-907C-4BAA-B501-85CB656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2A91-A16C-48D9-AC47-A62FE0EA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A794-EFAE-4283-939C-5D4C09CA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C4F-ED51-400A-8300-D35D82AB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285B-F506-4DE4-9431-F1B3603A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0ED8-EA1B-4E2F-8A0E-20115ACF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6F90-4962-4010-BB84-F23C7A96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AAD0-23E7-4FB2-AFB7-F42A5A21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BCA7-5606-498D-A3D0-5A409B4E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062C-8641-41A9-BA2A-E3BB1F71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F062-BBB7-4E5A-9B67-2914FDEC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E4EE-F7B9-4275-ADB2-4B854472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5949-A8AD-4CD7-8FF6-83A5DAB3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280"/>
            <a:ext cx="777384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Этапы развития географических представлений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География Средневековь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 до середины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ека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Центр географической науки» сместился на Восток, ведущая роль в географических открытиях перешла к арабам ( ученые и путешественники –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Ибн Сина (Авиценна), Бируни, Идриси, Ибн Батута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а севере норманы основали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0- 11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в. первые поселения в Исландии, Гренландии и Северной Америке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73600" cy="507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11280" y="5661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бн Сина (Авицен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495600" cy="4486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5435640" y="620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бу Рейхан ал-Биру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овгородцы достигли о. Шпицберген и устья р. Об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Марко Поло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открыл для европейцев Восточную Азию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Афанасий Никитин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 вторая половина 15 века) ходил по Каспийскому, Черному и Аравийскому морям, достиг Индии, описал  природу, жизнь и быт населения этой страны («Хождение за три моря»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027240" cy="40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84360" y="472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Марко П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78360" y="333360"/>
            <a:ext cx="2765520" cy="302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867280" y="3716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Афанасий Ники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24360" y="3860640"/>
            <a:ext cx="2381040" cy="278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6156360" y="5373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уть Афанасия Ники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Эпоха Великих географических открытий (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-XVII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в.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Расцвет географии на фоне возрождения культуры и наук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 карте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Меркатора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показаны реальные очертания материков и их береговых лини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 карте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Леонардо да Винчи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– гипотетический Южный материк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ыдающееся событие российской картографии – создание «Большого чертежа» Российского государства (1627 г.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82720" cy="4944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39640" y="83664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Герхард Мерк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476440" cy="1847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6156360" y="234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роекция Мер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28080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219640" y="5877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Карта Европы 159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Эпоха экспедици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II – XVIII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в.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Большое значение приобретает фиксация приобретённых знаний, картографирование и обобщение полученных сведени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ткрыта Австралия и многие острова Океан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 России интенсивное продвижение русских на восток (Хабаров, Поярков, Дежнёв, Атласов и др.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739 г. - М.Ломоносовым создается Географический департамент в Росс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Ломоносов выдвигает важные географические идеи о непрерывном изменении  лика Земли под влиянием внешних и внутренних сил, о движении воздушных масс, о слоях земных, о возможности плавания в Ледовитом океане и др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ервую научную систему географических наук предложил В.Н.Татищев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аучные экспедиции и теоретические открытия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XIX -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начала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XX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вв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Значительные территориальные открытия сочетаются с глубокими теоретическими обобщениями, открытием географических законов (Гумбольт, Риттер, Реклю, Тюнен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сё более обособляются отраслевые географические науки – геоботаника, климатология, океанология и др.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России этот период отмечен формированием новых структур Русского географического общества (1845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формирование мощных географических школ, представители которых (Литке, Семёнов – Тянь- Шанский, Пржевальский, Кропоткин, Миклухо – Маклай, Воейков, Обручев, Козлов и др.)внесли выдающийся вклад в исследование Евразии и других регионов мир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Что тако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«история географии»?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Это особый раздел географической науки, который изучает историю территориального открытия Земли, историю развития географических идей и открытия новых географических законов и закономернос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1820 году русской экспедицией                 М. Лазарева и Ф. Беллинсгаузена была открыта Антарктида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Русские кругосветные путешествия И.Крузенштерна и Ю.Лисянского позволили по-новому взглянуть на мир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1884 году в Московском университете Д.Н.Анучиным была создана первая кафедра географ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етербургскую географию прославили В.В. Докучаев и А.И. Воейков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География Древнего Восто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3 тыс. до н.э. – в Древнем Египте снаряжаются экспедиции в центр Африки, по Средиземному и Красному морям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рабатываются навыки ориентирования по Солнцу, Луне и звездам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Месопотамии впервые разделили круг на градусы, год на 12 месяцев, сутки на 24 часа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3-2 тыс. до н.э. – представители Хараппской цивилизации ( территория современного Пакистана) открыли муссоны. ( Что такое муссоны?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Элементы географии содержат священные Древнеиндийские книги («Веды», «Махабхарат», «Рамаяна»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X – VIII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в. до н.э. в Древнем Китае составляются карты при постройке крепосте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. до н.э. – датируют изобретение компаса и прибора для измерения расстояний, «Региональный атлас» на 18 листах на шёлк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Античная средиземноморская географ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. до н. э.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– V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в. н.э. – попытка создать теорию о происхождении и строении окружающего мира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мозрительное представление о Земле как о шаре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ристотель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, а затем научное доказательство (милетская философская школ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Фалес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оздание карт и планов, определение географических координат, введение в обиход параллелей и меридианов, картографических проекций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809880" cy="258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370240" cy="443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403280" y="4365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9079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География»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лавдия Птолемея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 8 томах содержит сведения о 8 000 географических названиях и координаты почти 400 точек, описание способов построения карт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Эратосфен Киренск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( ок. 276 – 194 до н.э.)  впервые измерил дугу меридиана и оценил размеры Земл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Страбон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. до н.э.) автор 17-ти томной «Географии», родоначальник страноведения, геоморфологии и палеогеограф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3213000"/>
            <a:ext cx="1952640" cy="234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64440" y="549360"/>
            <a:ext cx="218124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097080" cy="293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042920" y="357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трабон и Птоле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66100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Клавдий Птоле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357336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Эратосфен Кир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 трудах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Аристотеля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изложены основы гидрологии, метеорологии, океанологии и намечается разделение географических наук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Большой размах приобретают гидротехнические работы – прообразы современной мелиорац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3:55:23Z</dcterms:created>
  <dc:creator>admin</dc:creator>
  <dc:description/>
  <dc:language>en-US</dc:language>
  <cp:lastModifiedBy>Admin</cp:lastModifiedBy>
  <dcterms:modified xsi:type="dcterms:W3CDTF">2011-09-09T17:48:51Z</dcterms:modified>
  <cp:revision>33</cp:revision>
  <dc:subject/>
  <dc:title>Этапы развития географических представлений</dc:title>
</cp:coreProperties>
</file>