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1DCE-A589-41BC-9505-3F0F5020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FBF2-CFA8-4DE7-B8E5-32B76039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EBD23-B49F-4B4C-8EE5-C5191E2C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38D6-97A2-4934-A098-461FD25A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0F12-C786-481E-B2A3-B7AC482C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6A2F-A6DA-4947-B972-0D26F259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1DD7-44D0-479F-B427-9E5CC821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996B-662D-4016-819B-6191CD54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201B-21A2-4B3A-8C31-507AFA3A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6FF5-3F31-4728-916B-0585E6C5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7883-4F8A-493C-8D3E-7BB70F11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DE76-C099-4C6F-82B3-2B67E5A2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8D37-54AB-4795-BACB-61A1A9C3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F71D-1501-4F57-B515-24557846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7FCB-A33D-4300-B41E-4EE3805A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01C8-4AC6-4586-8629-36144CAF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28F4-F454-4B48-8C6A-114F0B23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CF56E-95EB-430B-8429-2B8D05D0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A7342-BC1C-435E-9373-FFBB7F10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688CC-DDD9-42AF-BC67-BE2904CD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4AE4B-9640-45D3-AB13-2F9F2311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3EEF-3DB6-471C-87ED-A7B858A3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7E6E-6B2A-4E2F-B383-7E0BFD2F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F127E-F470-47D6-B3A4-E205618A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DFE4-2BF6-4556-8628-5B1C31F58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8B70-1030-4FD4-81E3-8E958BF2C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280"/>
            <a:ext cx="777384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Этапы развития географических представлений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География Средневековь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( до середины 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XV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века)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«Центр географической науки» сместился на Восток, ведущая роль в географических открытиях перешла к арабам ( ученые и путешественники –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Ибн Сина (Авиценна), Бируни, Идриси, Ибн Батута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На севере норманы основали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0- 11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в. первые поселения в Исландии, Гренландии и Северной Америке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873600" cy="5079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11280" y="566100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бн Сина (Авицен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3495600" cy="4486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5435640" y="62064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Абу Рейхан ал-Биру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овгородцы достигли о. Шпицберген и устья р. Об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Марко Поло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открыл для европейцев Восточную Азию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Афанасий Никитин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( вторая половина 15 века) ходил по Каспийскому, Черному и Аравийскому морям, достиг Индии, описал  природу, жизнь и быт населения этой страны («Хождение за три моря»)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027240" cy="40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684360" y="4724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Марко По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78360" y="333360"/>
            <a:ext cx="2765520" cy="3024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867280" y="37162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Афанасий Ники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924360" y="3860640"/>
            <a:ext cx="2381040" cy="2781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6156360" y="537372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Путь Афанасия Ники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Эпоха Великих географических открытий (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XV-XVII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вв.)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Расцвет географии на фоне возрождения культуры и наук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а карте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Меркатора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показаны реальные очертания материков и их береговых линий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а карте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Леонардо да Винчи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– гипотетический Южный материк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Выдающееся событие российской картографии – создание «Большого чертежа» Российского государства (1627 г.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582720" cy="4944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539640" y="836640"/>
            <a:ext cx="25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Герхард Мерк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476440" cy="1847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6156360" y="2349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Проекция Мер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500720" y="3284640"/>
            <a:ext cx="2808000" cy="255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5219640" y="5877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Карта Европы 159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Эпоха экспедици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XVII – XVIII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вв.)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Большое значение приобретает фиксация приобретённых знаний, картографирование и обобщение полученных сведений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Открыта Австралия и многие острова Океани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В России интенсивное продвижение русских на восток (Хабаров, Поярков, Дежнёв, Атласов и др.)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739 г. - М.Ломоносовым создается Географический департамент в Росси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Ломоносов выдвигает важные географические идеи о непрерывном изменении  лика Земли под влиянием внешних и внутренних сил, о движении воздушных масс, о слоях земных, о возможности плавания в Ледовитом океане и др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Первую научную систему географических наук предложил В.Н.Татищев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Научные экспедиции и теоретические открытия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XIX -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начала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XX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вв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Значительные территориальные открытия сочетаются с глубокими теоретическими обобщениями, открытием географических законов (Гумбольт, Риттер, Реклю, Тюнен)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сё более обособляются отраслевые географические науки – геоботаника, климатология, океанология и др.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 России этот период отмечен формированием новых структур Русского географического общества (1845)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формирование мощных географических школ, представители которых (Литке, Семёнов – Тянь- Шанский, Пржевальский, Кропоткин, Миклухо – Маклай, Воейков, Обручев, Козлов и др.)внесли выдающийся вклад в исследование Евразии и других регионов мир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Что тако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«история географии»?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Это особый раздел географической науки, который изучает историю территориального открытия Земли, историю развития географических идей и открытия новых географических законов и закономерносте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 1820 году русской экспедицией                 М. Лазарева и Ф. Беллинсгаузена была открыта Антарктида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Русские кругосветные путешествия И.Крузенштерна и Ю.Лисянского позволили по-новому взглянуть на мир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 1884 году в Московском университете Д.Н.Анучиным была создана первая кафедра географи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етербургскую географию прославили В.В. Докучаев и А.И. Воейков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География Древнего Востока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3 тыс. до н.э. – в Древнем Египте снаряжаются экспедиции в центр Африки, по Средиземному и Красному морям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рабатываются навыки ориентирования по Солнцу, Луне и звездам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Месопотамии впервые разделили круг на градусы, год на 12 месяцев, сутки на 24 часа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3-2 тыс. до н.э. – представители Хараппской цивилизации ( территория современного Пакистана) открыли муссоны. ( Что такое муссоны?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Элементы географии содержат священные Древнеиндийские книги («Веды», «Махабхарат», «Рамаяна»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X – VIII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вв. до н.э. в Древнем Китае составляются карты при постройке крепостей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в. до н.э. – датируют изобретение компаса и прибора для измерения расстояний, «Региональный атлас» на 18 листах на шёлк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Античная средиземноморская география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V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. до н. э.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– V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в. н.э. – попытка создать теорию о происхождении и строении окружающего мира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мозрительное представление о Земле как о шаре (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Аристотель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), а затем научное доказательство (милетская философская школа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Фалеса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оздание карт и планов, определение географических координат, введение в обиход параллелей и меридианов, картографических проекций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809880" cy="2581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56360" y="1628640"/>
            <a:ext cx="2370240" cy="4437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403280" y="4365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9079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Фа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«География»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лавдия Птолемея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в 8 томах содержит сведения о 8 000 географических названиях и координаты почти 400 точек, описание способов построения карт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Эратосфен Киренски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( ок. 276 – 194 до н.э.)  впервые измерил дугу меридиана и оценил размеры Земл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Страбон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(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. до н.э.) автор 17-ти томной «Географии», родоначальник страноведения, геоморфологии и палеогеографи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3213000"/>
            <a:ext cx="1952640" cy="234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64440" y="549360"/>
            <a:ext cx="2181240" cy="28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3097080" cy="293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1042920" y="3573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трабон и Птолем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66100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Клавдий Птолем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16720" y="357336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Эратосфен Кир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В трудах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Аристотеля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изложены основы гидрологии, метеорологии, океанологии и намечается разделение географических наук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Большой размах приобретают гидротехнические работы – прообразы современной мелиораци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3:55:23Z</dcterms:created>
  <dc:creator>admin</dc:creator>
  <dc:description/>
  <dc:language>en-US</dc:language>
  <cp:lastModifiedBy>Admin</cp:lastModifiedBy>
  <dcterms:modified xsi:type="dcterms:W3CDTF">2011-09-09T17:48:51Z</dcterms:modified>
  <cp:revision>33</cp:revision>
  <dc:subject/>
  <dc:title>Этапы развития географических представлений</dc:title>
</cp:coreProperties>
</file>