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34E-8DF3-4896-8506-AEBCFC10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FFC-4200-4285-80A2-476B56F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EE3-5C7B-433B-A8E4-7ED54EDD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D59-92C0-4A41-AD91-5DAF0756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AEC6-BFE3-4752-A428-EB0E8908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19B1-398C-4F47-ACF2-E6C9D89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CA9D-9258-4B9E-BE6A-C969E84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C196-AC85-4657-816E-03CC6857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4308-F416-4592-B0A0-DD331016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D249-06C4-477C-A211-909B28A3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760-F68A-4784-823C-CAE611D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46F-51C1-4AEE-BBA3-E3C414A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46E7-E6B3-4021-A020-9ADC691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50B-E4A4-4C9D-B5B6-B28BC62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D518-9324-4A8C-840F-DE9FF1F2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C6DB-0059-458B-8408-D2929712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6EFC-639E-4A64-9BBC-1337407A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491-45F7-4A7C-913A-921FB3D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DE6-FCB1-46EB-B12E-F4BF17DC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379-6E2A-440B-AA4C-3EB73E05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8A1-7192-41C9-8183-90A55BAA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583-679D-47C6-A7B1-8A73F85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36C-D7F6-4EFD-876F-D1C43EBB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ADC-78AA-482E-8EC1-AA22196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863344-B330-432B-BD8B-5A20BBE81C3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052299-B95D-4653-B6BC-ABA0DF28CC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7b9cb5"/>
                </a:solidFill>
                <a:latin typeface="Times New Roman"/>
              </a:rPr>
              <a:t>Этапы формирования политической карты  мира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овторение: </a:t>
            </a:r>
            <a:br>
              <a:rPr sz="4000"/>
            </a:b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основные идеи и концепции…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политическая география? Кто является её основател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направления включает в себя политическая географ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ы основные положения традиционных геополитических теор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стр. 171 учебник В.Н. Холино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Территория и границы страны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террито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часть земной поверхности (включая недра, внутренние и территориальные воды и воздушное пространство над ними), на которую распространяется власть государ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границ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…           (стр.4, учебник 11 к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Что такое делимитация и демаркация границ?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ими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арк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  …(выписать                 определения в тетрад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Виды границ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ш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оекция всех остальных границ в атмосфер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хопут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рис. 1, стр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по рекам и озёрам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а расстоянии 12 миль от уровня максимального отлива) – территориальные воды или 12 мильная зон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пределами расположе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00 - ми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зона, за ней нейтральные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Территория страны и площадь страны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ём принципиальная разница? (стр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олица стра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город, в котором размещаются основные органы государственной власти: парламент и прав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Формирование политической карты мира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ческие и социальные события приводят 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личестве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честве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менени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стр. 7, п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ериоды развития политической карты мира: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ев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иод (  начался тысячи лет назад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веков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 (самый богатый на количественные изменения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ли колониальный перио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ейш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иод  (два этап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Задание на урок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, стр. 59 – выписать понятия зависимых (несамоуправляющихся) территор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Таблицу 4 (1, 2 столбцы) перенести в тетрад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полнить задания 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1 в рабочей тетра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8:23:37Z</dcterms:created>
  <dc:creator>Admin</dc:creator>
  <dc:description/>
  <dc:language>en-US</dc:language>
  <cp:lastModifiedBy>Admin</cp:lastModifiedBy>
  <dcterms:modified xsi:type="dcterms:W3CDTF">2011-09-09T18:11:43Z</dcterms:modified>
  <cp:revision>14</cp:revision>
  <dc:subject/>
  <dc:title>Этапы формирования политической карты  мира</dc:title>
</cp:coreProperties>
</file>