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C51A-592B-41F6-AF45-8A2BB83D1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1040" y="8015040"/>
            <a:ext cx="780732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3B12-720D-43A0-B381-00CB9626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104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D3BE-7ADA-48C3-83E9-CA46AF0C5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1040" y="801504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920" y="801504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0800" y="801504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9F16-44B6-4575-98DC-5CF9C8778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CB1A-E576-40AA-88BC-9B055DCD8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44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7FB78-A092-483F-B4F1-A06C9F2C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5D83-8C23-4572-971A-3A07976C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F37C-C8D1-4CD6-805E-C35F4383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6585-83C9-4B98-9DD4-172001E62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447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4E80-F605-47CC-804D-6A513860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04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E678-A205-4E36-B273-34320C01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44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2D63-49D4-4909-BF4A-E4FA9503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172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498B-6864-44F5-8A68-52B54B33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040" y="8015040"/>
            <a:ext cx="780732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7C908-BDA3-4A32-87BD-A32DB1F4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040" y="8015040"/>
            <a:ext cx="780732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C265-4AF0-4E5E-8F69-7CC7E17D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04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172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8003-EEC0-46AC-83B8-0EDE9A1FD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040" y="801504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0920" y="801504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0800" y="801504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9FF2-37CA-4971-9EDC-7DEDD9F56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44794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0C43-BB72-4FE6-B8FC-5EDC2D72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44794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104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172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1040" y="8015040"/>
            <a:ext cx="780732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1040" y="8015040"/>
            <a:ext cx="780732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7104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172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71040" y="801504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10920" y="801504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50800" y="801504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C7A4-A3EB-4114-B8E1-1F98967D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B10A-1C76-491E-AFA1-1A5A5041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447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B288-5592-4EEB-B0EB-40DC9C04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104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3463-C9BB-4162-9B38-BF24D10D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F94A-DD09-43D2-9984-450EC616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1040" y="8015040"/>
            <a:ext cx="780732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DD9F-D33E-44D8-9187-EFB625C9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AF4C10E-4484-4CD9-BBBD-4AEC02F1DAD6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379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1C2FFA8-B8ED-4CD6-A63E-A24A85AE893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6000" spc="-1" strike="noStrike">
                <a:solidFill>
                  <a:srgbClr val="280099"/>
                </a:solidFill>
                <a:latin typeface="Times New Roman"/>
              </a:rPr>
              <a:t>Click to edit the title text format</a:t>
            </a: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16040"/>
            <a:ext cx="7772400" cy="37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6000" spc="-1" strike="noStrike">
                <a:solidFill>
                  <a:srgbClr val="7b9cb5"/>
                </a:solidFill>
                <a:latin typeface="Times New Roman"/>
              </a:rPr>
              <a:t>Этапы формирования политической карты  мира</a:t>
            </a: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280099"/>
                </a:solidFill>
                <a:latin typeface="Times New Roman"/>
              </a:rPr>
              <a:t>Повторение: </a:t>
            </a:r>
            <a:br>
              <a:rPr sz="4000"/>
            </a:br>
            <a:r>
              <a:rPr b="1" i="1" lang="en-US" sz="4000" spc="-1" strike="noStrike">
                <a:solidFill>
                  <a:srgbClr val="280099"/>
                </a:solidFill>
                <a:latin typeface="Times New Roman"/>
              </a:rPr>
              <a:t>основные идеи и концепции…</a:t>
            </a:r>
            <a:endParaRPr b="1" i="1" lang="en-US" sz="4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Что такое политическая география? Кто является её основателем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ие направления включает в себя политическая география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овы основные положения традиционных геополитических теорий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(стр. 171 учебник В.Н. Холиной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0476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6000" spc="-1" strike="noStrike">
                <a:solidFill>
                  <a:srgbClr val="280099"/>
                </a:solidFill>
                <a:latin typeface="Times New Roman"/>
              </a:rPr>
              <a:t>Территория и границы страны</a:t>
            </a: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осударственная территор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это часть земной поверхности (включая недра, внутренние и территориальные воды и воздушное пространство над ними), на которую распространяется власть государст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осударственная границ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…           (стр.4, учебник 11 к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280099"/>
                </a:solidFill>
                <a:latin typeface="Times New Roman"/>
              </a:rPr>
              <a:t>Что такое делимитация и демаркация границ?</a:t>
            </a:r>
            <a:endParaRPr b="1" i="1" lang="en-US" sz="4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елимит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емарк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  …(выписать                 определения в тетрадь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6000" spc="-1" strike="noStrike">
                <a:solidFill>
                  <a:srgbClr val="280099"/>
                </a:solidFill>
                <a:latin typeface="Times New Roman"/>
              </a:rPr>
              <a:t>Виды границ:</a:t>
            </a: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здушн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проекция всех остальных границ в атмосферу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ухопутн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рис. 1, стр.5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дн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 по рекам и озёрам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рск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на расстоянии 12 миль от уровня максимального отлива) – территориальные воды или 12 мильная зона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 пределами расположен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00 - мильн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экономическая зона, за ней нейтральные вод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280099"/>
                </a:solidFill>
                <a:latin typeface="Times New Roman"/>
              </a:rPr>
              <a:t>Территория страны и площадь страны</a:t>
            </a:r>
            <a:endParaRPr b="1" i="1" lang="en-US" sz="4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чём принципиальная разница? (стр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толица стран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город, в котором размещаются основные органы государственной власти: парламент и правительств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280099"/>
                </a:solidFill>
                <a:latin typeface="Times New Roman"/>
              </a:rPr>
              <a:t>Формирование политической карты мира</a:t>
            </a:r>
            <a:endParaRPr b="1" i="1" lang="en-US" sz="4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итические и социальные события приводят к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количественны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качественны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зменения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 стр. 7, п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280099"/>
                </a:solidFill>
                <a:latin typeface="Times New Roman"/>
              </a:rPr>
              <a:t>Периоды развития политической карты мира:</a:t>
            </a:r>
            <a:endParaRPr b="1" i="1" lang="en-US" sz="4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ревн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ериод (  начался тысячи лет назад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редневековый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иод (самый богатый на количественные изменения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овы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или колониальный период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овейш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ериод  (два этапа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6000" spc="-1" strike="noStrike">
                <a:solidFill>
                  <a:srgbClr val="280099"/>
                </a:solidFill>
                <a:latin typeface="Times New Roman"/>
              </a:rPr>
              <a:t>Задание на урок:</a:t>
            </a: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6, стр. 59 – выписать понятия зависимых (несамоуправляющихся) территори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Таблицу 4 (1, 2 столбцы) перенести в тетрадь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Выполнить задания к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1 в рабочей тетрад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08:23:37Z</dcterms:created>
  <dc:creator>Admin</dc:creator>
  <dc:description/>
  <dc:language>en-US</dc:language>
  <cp:lastModifiedBy>Admin</cp:lastModifiedBy>
  <dcterms:modified xsi:type="dcterms:W3CDTF">2011-09-09T18:11:43Z</dcterms:modified>
  <cp:revision>14</cp:revision>
  <dc:subject/>
  <dc:title>Этапы формирования политической карты  мира</dc:title>
</cp:coreProperties>
</file>