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919-A2BA-42C8-81A9-122D18BA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713-77BA-4A26-80F1-2BC97D8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59C-0722-41D8-80FB-78972A9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198-5830-4B0D-96A2-68EA2978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072-CF13-4407-9518-2C8ACC59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2019-1F81-41C8-AF8B-41984CE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0F76-4545-4CBA-8FE5-BA5D7BD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8F7-40F9-41F9-B959-9EEB9688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DAF-5D91-43A2-9AF6-883C4C4C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514B-BE74-4182-B5D9-ED8B06BB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6552-5DE6-46E8-9C84-5745205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606-9CEB-465E-945C-91B870D3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950E-D533-4CEA-8CFE-6F42856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DF68-31F7-4E9B-A75D-A42556D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776-84D6-457B-B34F-B5C38DD5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4467-1148-489D-9504-79E7A658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5AC8-E00A-43B4-A20D-90C4D1D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FE4-B1C7-4504-B9B5-DBBEDF20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6E1-F92B-4CD9-9AF8-654A920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8A6-7948-4544-AD17-5091B86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6D5-2F4B-43D1-B5D8-E3EF1E23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B2E-EE51-4EDA-A412-7DFA6F67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AAF-6431-4384-A5D2-473BFE3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7F7-E60A-4944-9AE2-B7BB712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2B5F11-A885-4CCB-859C-A148868267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06F9A2-2A79-4688-89A6-BF99835467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7b9cb5"/>
                </a:solidFill>
                <a:latin typeface="Times New Roman"/>
              </a:rPr>
              <a:t>Этапы формирования политической карты  мира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овторение: </a:t>
            </a:r>
            <a:br>
              <a:rPr sz="4000"/>
            </a:b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основные идеи и концепции…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политическая география? Кто является её основател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направления включает в себя политическая географ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ы основные положения традиционных геополитических теор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стр. 171 учебник В.Н. Холино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Территория и границы страны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террито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часть земной поверхности (включая недра, внутренние и территориальные воды и воздушное пространство над ними), на которую распространяется власть государ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границ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          (стр.4, учебник 11 к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Что такое делимитация и демаркация границ?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ими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арк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  …(выписать                 определения в тетрад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Виды границ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ш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роекция всех остальных границ в атмосфер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хопут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ис. 1, стр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по рекам и озёрам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ск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на расстоянии 12 миль от уровня максимального отлива) – территориальные воды или 12 мильная зон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пределами расположе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00 - ми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зона, за ней нейтральные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Территория страны и площадь страны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принципиальная разница? (стр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олица стра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город, в котором размещаются основные органы государственной власти: парламент и правитель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Формирование политической карты мира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ческие и социальные события приводят 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оли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честве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менени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 стр. 7, п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ериоды развития политической карты мира: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ев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(  начался тысячи лет назад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евеков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 (самый богатый на количественные изменения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ли колониальный перио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ейш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иод  (два этап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Задание на урок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6, стр. 59 – выписать понятия зависимых (несамоуправляющихся) территор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Таблицу 4 (1, 2 столбцы) перенести в тетрад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полнить задания 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1 в рабочей тетра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8:23:37Z</dcterms:created>
  <dc:creator>Admin</dc:creator>
  <dc:description/>
  <dc:language>en-US</dc:language>
  <cp:lastModifiedBy>Admin</cp:lastModifiedBy>
  <dcterms:modified xsi:type="dcterms:W3CDTF">2011-09-09T18:11:43Z</dcterms:modified>
  <cp:revision>14</cp:revision>
  <dc:subject/>
  <dc:title>Этапы формирования политической карты  мира</dc:title>
</cp:coreProperties>
</file>