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189-021A-4330-9CA1-DF75E63B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2D9-0252-400A-940E-93E13381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07C-FDC1-4B40-94E0-839515D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9C5-7AF1-49A0-B5C2-694EF6B9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5772-9397-439A-B475-7C68556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2B1B-9684-4460-93EB-58FDCCA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9A9B-1779-463F-87D5-13F446B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F8F-B8E1-4D40-8C62-327F8F26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5927-29ED-485E-8A8C-428A5D10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CC3-E6CB-46E9-93F0-29F753C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9A03-8740-474B-9548-D63A79F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F12-489F-41AA-9D66-05175A06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C4A3-9F9B-4AAA-8F8E-3D75811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44B9-09ED-45FB-9EDD-C556A913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917-2A3F-4344-9196-95587993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A1A7-4A40-4C40-845F-619B0AE7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DDFA-A26B-4671-BA74-D049D23B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083-B4F2-4F38-85DD-7572C0D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F4C-203B-48A1-ADF6-A2F946C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291-53C4-4FD3-BDA4-2EE87CA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F0B-84BA-4276-A2AB-B5493AC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70F-FC8C-42F2-B633-A0F8653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A9E-EB04-47DF-BA11-88C4005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F4A-BAF2-44D1-B438-73926B5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9AC-64DA-40F6-B964-1E210190E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ED0-9A04-4128-9C21-5E2269861E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оха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мериго Веспуч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сть него земли, открытые Колумбом, стали называть «страной Америго», а впоследствии- Амер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197000"/>
            <a:ext cx="33991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587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4-15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27572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41964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796000" y="2610000"/>
            <a:ext cx="256212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1280" y="260280"/>
            <a:ext cx="3459240" cy="3378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3849480" cy="3122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1917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15432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409572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артоломеу Диа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655280"/>
            <a:ext cx="3809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экспедиция в 1487-1488 гг. впервые обогнула южную оконечность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0-150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ско да Г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557360"/>
            <a:ext cx="23306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504972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1187280" y="623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9-152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2000" cy="648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ернан Магел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анский мореплаватель, совершивший первое кругосветное путеше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-152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 узнае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ы были предпосылки Великих географических от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, собираясь в Индию, можно попасть в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 как совершил первое кругосветное 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енсис Дрей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516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37168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8" name=""/>
          <p:cNvSpPr/>
          <p:nvPr/>
        </p:nvSpPr>
        <p:spPr>
          <a:xfrm flipV="1" rot="10800000">
            <a:off x="1834920" y="616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0-1596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начение Великих географических открыт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тверждена шарообразность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ы описания вновь открытых земель и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графия заняла положение одной из важнейших наук, выполняя важную справочную функцию, предлагая страноведческие описания и карты новых зе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спомни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аких странах Востока было известно европейцам к началу 15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чины наступле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рождение античных идей о шарообраз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книгопеча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вление н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Открытие нового св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офор Колум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2730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 мореплаватель, открывший европейцам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1-150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рабли  Колум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анта Ма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ин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и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68440" y="3935520"/>
            <a:ext cx="2174760" cy="202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1844640"/>
            <a:ext cx="443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плавание. Колумб достиг Багамских островов, Кубы и Га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плавание. Открыл ряд других остро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плавание. Достиг побережья Юж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плавание. Достиг побережья Централь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4:45:19Z</dcterms:created>
  <dc:creator>1</dc:creator>
  <dc:description/>
  <dc:language>en-US</dc:language>
  <cp:lastModifiedBy>1</cp:lastModifiedBy>
  <dcterms:modified xsi:type="dcterms:W3CDTF">2008-10-20T16:23:50Z</dcterms:modified>
  <cp:revision>5</cp:revision>
  <dc:subject/>
  <dc:title>Тема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220000000000010243100207f6000400038000</vt:lpwstr>
  </property>
</Properties>
</file>