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81F4-5C68-4562-8D99-9D765BD6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EE3-2BEC-4517-BA50-CEEA198A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2D79-EA2D-4B39-B34A-165073E3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636C-9E94-4B77-A6EF-E2527DBD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DCA0-39FF-465C-81C9-534299DC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22A5-E16E-4ADA-8EE1-998FA4AC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B2E3-F10D-42B6-834B-485AD488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17DC-66FD-4C32-9BB9-73BD7803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ACA4-1B04-429F-AE2B-9B178513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8F83-855C-4586-A6D5-B683C66E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145A-770F-4C78-8AC5-BF9FAC51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D9EB-9CDA-4ADD-8D4A-484980DE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64E7-79F7-4F2F-AD40-4601A7A2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EAEC-7C99-44A6-903A-AB27721B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A366-DB8B-44E9-ADDF-FDD71A69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9A4E-D03B-452F-BD0C-3D984A74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28CA-B776-470E-9F7F-1C3515F7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C342-AD2D-46E6-9A18-B6F39AD9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77D2-5D27-41AC-96B2-1C2B0F0E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4AF5-C593-4369-B399-AC68CAC8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B9FD-C47D-4E8E-9108-915F8B1E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FC16-8E1E-4546-9433-C46C6DAE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9E3D-9F94-4751-840E-63BB84A5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4A6D-9DE7-4A17-AA03-35FD1940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4A51-1FB5-4DA8-848E-A3D04BBDDC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6E92-9FA6-48CB-BFE6-5B36AE5762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Тема уро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поха Великих географических открыт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мериго Веспучч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честь него земли, открытые Колумбом, стали называть «страной Америго», а впоследствии- Амери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03640" y="1197000"/>
            <a:ext cx="3399120" cy="4525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867280" y="587700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54-1512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88000" y="260280"/>
            <a:ext cx="2757240" cy="2200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826920" y="3789360"/>
            <a:ext cx="3419640" cy="2841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796000" y="2610000"/>
            <a:ext cx="2562120" cy="424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611280" y="260280"/>
            <a:ext cx="3459240" cy="3378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3849480" cy="3122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372360" y="2997360"/>
            <a:ext cx="1917720" cy="3384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580000" y="189000"/>
            <a:ext cx="3154320" cy="2520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692360" y="3429000"/>
            <a:ext cx="4095720" cy="3135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Бартоломеу Диаш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651640" y="1268280"/>
            <a:ext cx="3019320" cy="4525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6880" y="1655280"/>
            <a:ext cx="380988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го экспедиция в 1487-1488 гг. впервые обогнула южную оконечность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00720" y="5877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50-1500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аско да Гам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00000" y="1557360"/>
            <a:ext cx="2330640" cy="4464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708360" y="1844640"/>
            <a:ext cx="5049720" cy="386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4" name=""/>
          <p:cNvSpPr/>
          <p:nvPr/>
        </p:nvSpPr>
        <p:spPr>
          <a:xfrm>
            <a:off x="1187280" y="6237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69-1524 г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112000" cy="6481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Фернан Магелл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219640" y="1197000"/>
            <a:ext cx="3538440" cy="45259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анский мореплаватель, совершивший первое кругосветное путешеств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0-1521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 узнает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вы были предпосылки Великих географических откры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, собираясь в Индию, можно попасть в Амер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то и как совершил первое кругосветное путеше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Френсис Дрейк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3516480" cy="4525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651640" y="1916280"/>
            <a:ext cx="2371680" cy="4752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8" name=""/>
          <p:cNvSpPr/>
          <p:nvPr/>
        </p:nvSpPr>
        <p:spPr>
          <a:xfrm flipV="1" rot="10800000">
            <a:off x="1834920" y="6164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40-1596 г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Значение Великих географических открытий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тверждена шарообразность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ны описания вновь открытых земель и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ография заняла положение одной из важнейших наук, выполняя важную справочную функцию, предлагая страноведческие описания и карты новых зем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спомнит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 каких странах Востока было известно европейцам к началу 15 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чины наступлени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рождение античных идей о шарообразности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книгопеча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явление новых к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Открытие нового свет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Христофор Колумб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42920" y="1628640"/>
            <a:ext cx="2730600" cy="4525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7368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менитый мореплаватель, открывший европейцам Амер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47640" y="6165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51-1506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орабли  Колумб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Санта Мар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Пин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Нин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468440" y="3935520"/>
            <a:ext cx="2174760" cy="2025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56000" y="1844640"/>
            <a:ext cx="4438800" cy="4305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тоги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плавание. Колумб достиг Багамских островов, Кубы и Га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плавание. Открыл ряд других остро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плавание. Достиг побережья Южной Аме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плавание. Достиг побережья Центральной Аме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4:45:19Z</dcterms:created>
  <dc:creator>1</dc:creator>
  <dc:description/>
  <dc:language>en-US</dc:language>
  <cp:lastModifiedBy>1</cp:lastModifiedBy>
  <dcterms:modified xsi:type="dcterms:W3CDTF">2008-10-20T16:23:50Z</dcterms:modified>
  <cp:revision>5</cp:revision>
  <dc:subject/>
  <dc:title>Тема уро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220000000000010243100207f6000400038000</vt:lpwstr>
  </property>
</Properties>
</file>