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BAA-DBBB-40E8-BA55-67ADF605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D65A-2788-47CA-9BBB-BD396C55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C1E-EDEF-462C-8C5C-31625CDA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68E-194D-4303-8DC4-A8994551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4909-C29D-4C6B-9A74-10510A0B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3987-8E97-462E-9AAB-E413D213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11EA-5581-4BDA-B193-157E1BE6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C750-D0E3-4044-8E8C-B7F3E0D1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9F0F-C106-4EDF-A1A4-032DE8CB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BB38-4818-4FB1-9EA3-C4244BCF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E0C9-9F34-43A2-828F-54211D56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721A-3959-482A-97B8-DF6C7C93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BE03-A1BF-4E12-A8EB-5B118A82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8652-E92C-4267-A370-BA85D1AF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3FEA-6707-411E-9C03-C1D61185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EF00-E6F2-49E7-9394-3B9CD4A6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9257-9AF2-49E5-AA7D-EB0FFEB2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F0E-292C-451E-A5FD-670C2533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4F3-325E-4C06-A589-FED45ED6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C4F4-EEDD-4FDD-93A2-B267891A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D0F-71B5-421C-8525-9B906A7F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4C1-5F99-4369-99F7-7551A7D9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C982-9EE1-4520-B6AA-3B75C27C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5AC9-7658-493F-9576-867A80D4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8F71-55A8-406A-B2A2-4457CABDA1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E8EA-51C1-4250-8CC5-D5CF33D47E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Тема уро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оха Великих географических откры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мериго Веспучч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честь него земли, открытые Колумбом, стали называть «страной Америго», а впоследствии- Амери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3640" y="1197000"/>
            <a:ext cx="339912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587700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54-1512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88000" y="260280"/>
            <a:ext cx="2757240" cy="2200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826920" y="3789360"/>
            <a:ext cx="3419640" cy="2841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796000" y="2610000"/>
            <a:ext cx="2562120" cy="424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611280" y="260280"/>
            <a:ext cx="3459240" cy="3378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3849480" cy="3122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372360" y="2997360"/>
            <a:ext cx="1917720" cy="3384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580000" y="189000"/>
            <a:ext cx="315432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692360" y="3429000"/>
            <a:ext cx="4095720" cy="3135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Бартоломеу Диаш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301932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6880" y="1655280"/>
            <a:ext cx="380988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го экспедиция в 1487-1488 гг. впервые обогнула южную оконечность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00720" y="5877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50-1500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аско да Гам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00000" y="1557360"/>
            <a:ext cx="2330640" cy="4464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708360" y="1844640"/>
            <a:ext cx="5049720" cy="386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4" name=""/>
          <p:cNvSpPr/>
          <p:nvPr/>
        </p:nvSpPr>
        <p:spPr>
          <a:xfrm>
            <a:off x="1187280" y="6237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69-1524 г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112000" cy="6481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ернан Магелл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53844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анский мореплаватель, совершивший первое кругосветное путешест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-1521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 узнает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вы были предпосылки Великих географических откр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, собираясь в Индию, можно попасть в Амер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то и как совершил первое кругосветное путеше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Френсис Дрей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3516480" cy="452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651640" y="1916280"/>
            <a:ext cx="2371680" cy="4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8" name=""/>
          <p:cNvSpPr/>
          <p:nvPr/>
        </p:nvSpPr>
        <p:spPr>
          <a:xfrm flipV="1" rot="10800000">
            <a:off x="1834920" y="6164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40-1596 г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Значение Великих географических открытий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тверждена шарообразность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ны описания вновь открытых земель и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ография заняла положение одной из важнейших наук, выполняя важную справочную функцию, предлагая страноведческие описания и карты новых зем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спомнит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каких странах Востока было известно европейцам к началу 15 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чины наступлен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рождение античных идей о шарообразности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книгопеча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явление новых 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Открытие нового свет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ристофор Колумб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42920" y="1628640"/>
            <a:ext cx="2730600" cy="4525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7368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менитый мореплаватель, открывший европейцам Амер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7640" y="6165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51-1506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орабли  Колумб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Санта Мар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ин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Нин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468440" y="3935520"/>
            <a:ext cx="2174760" cy="2025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56000" y="1844640"/>
            <a:ext cx="4438800" cy="4305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тоги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плавание. Колумб достиг Багамских островов, Кубы и Га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плавание. Открыл ряд других остро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плавание. Достиг побережья Южной Аме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плавание. Достиг побережья Центральной Аме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4:45:19Z</dcterms:created>
  <dc:creator>1</dc:creator>
  <dc:description/>
  <dc:language>en-US</dc:language>
  <cp:lastModifiedBy>1</cp:lastModifiedBy>
  <dcterms:modified xsi:type="dcterms:W3CDTF">2008-10-20T16:23:50Z</dcterms:modified>
  <cp:revision>5</cp:revision>
  <dc:subject/>
  <dc:title>Тема уро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220000000000010243100207f6000400038000</vt:lpwstr>
  </property>
</Properties>
</file>