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9.png" ContentType="image/png"/>
  <Override PartName="/ppt/media/image8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E7DE-69BA-4F0E-9BDF-D8986A4E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CF5D-F3D1-4424-B5B6-40EF5380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31E-8E61-4884-9323-74D1AA2D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2A34-519F-40CB-A2EF-E8C02C99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8266-F1E4-45A2-9B26-AAA375F2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1C89-D035-42FE-A9DA-F32349AF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32D0-7CC0-46B9-9F86-EAEEA476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4751-54E8-437A-94E4-5AB4ECC3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807F-F2F3-4E2E-AE7B-BFA11AE8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B9E1-0FFA-49E2-A5C5-DD4021B6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0514-04AD-4DB6-B90B-07438D51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305-61A3-47F2-A87F-DE58D804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E0DB-60B5-4FAF-8441-C65579DB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A37A-E357-41B3-A1E6-BA2C0C3E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8C76-3DA2-45C9-BB7A-FBFC2915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DD70-CD17-452F-9F76-10FC9480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B8D2-61ED-447B-BCFC-86D1B288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98238-B562-452E-B676-2DB3A2A7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9B6FD-DCE5-455A-9D9A-394CA884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79809-E509-4BA9-BA04-777DDF75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90A32-A954-457A-88C7-8188173F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30FE1-F920-44E8-BB78-274A8CEE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75A-8DBA-4384-AE1C-815E2EA1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F3E3A-793F-48D3-8269-DC805ADE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2E329-D09F-40E6-9313-B15EDBBB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ACA5F-2B92-418F-A624-F2813EB9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6B525-2401-4BA6-BDD0-EA826B52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F37DC-EA8D-4E44-847D-0E63000E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559F5-20B9-41B7-B932-D0C24B12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68A0F-D52A-4831-8927-EF1F3AD2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5CFAE-078E-447B-AFB6-12489C15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ACBF4-AB51-4151-88C8-1E1AD801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DBA5C-DE1D-4515-BABD-5ACED5A4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88C8-3712-4EF7-A5A3-211220AB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27CAA-74BA-4CBE-A25F-D5904808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7E950-29BA-4194-B136-3FFD58E2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5D98A-A87A-41D1-8016-7DB456BB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4DE34-4BCD-44CE-9BED-927281A9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A1EA0-7CE4-4547-BABE-27C862BD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497B4-CBDE-465D-8377-C9750EF0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9697E-C33F-45EB-AA3C-E5A3D145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AC774-40D7-4971-B7F6-C1EC4DBB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42463-082C-4857-AD6E-ED820DD2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FC63E-2830-45EC-B9D6-078FAF66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335-EEFC-40BA-BF3D-50E896E3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1E108-80C2-4ABB-8DC4-E063F1FD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9B715-45FD-441C-A9B5-3AE0C347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D38E0-11F4-4D45-8C59-A2B9161B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9A304-42F4-4147-8679-C8BDBFE8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B3679-C893-4944-91D8-577CBB41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CB0F0-DF36-4B63-91A2-8300363C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131B0-8844-4C19-A202-AA85619C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D2EE2-8659-4F55-A2A1-7178C668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8ACBA-1F19-4AF3-88C5-394D2D8D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7B0FC-B071-4B8F-8F7C-E9882C12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F112-CD2A-4912-9063-6F99867C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9C4EF-9702-41E2-A562-BDBC7FF9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54B-F04A-496F-AE75-1B667633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5F3A-9239-4505-AE2A-3B3C6B2C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697-A943-4FA1-B04D-3FAC0BC9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98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A705-02AF-4A9C-9901-EFD206D2C1B6}" type="slidenum">
              <a:rPr b="0" lang="ru-RU" sz="1200" spc="-1" strike="noStrike">
                <a:solidFill>
                  <a:srgbClr val="d398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98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7A69-C4B2-43EF-B31D-6FDFE2941188}" type="slidenum">
              <a:rPr b="0" lang="ru-RU" sz="1200" spc="-1" strike="noStrike">
                <a:solidFill>
                  <a:srgbClr val="d398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8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98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5CA8-0D67-4AA1-8D34-EEEF02277564}" type="slidenum">
              <a:rPr b="0" lang="ru-RU" sz="1200" spc="-1" strike="noStrike">
                <a:solidFill>
                  <a:srgbClr val="d398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Прямая соединительная линия 6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3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98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D952-3D2E-4F10-B444-90870F12E9CC}" type="slidenum">
              <a:rPr b="0" lang="ru-RU" sz="1200" spc="-1" strike="noStrike">
                <a:solidFill>
                  <a:srgbClr val="d398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Прямая соединительная линия 6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7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98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D048-5CE1-4E7B-B8E3-704DF4134A5D}" type="slidenum">
              <a:rPr b="0" lang="ru-RU" sz="1200" spc="-1" strike="noStrike">
                <a:solidFill>
                  <a:srgbClr val="d398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dmhmao.ru/economic/foto/elek3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can.interfax.ru/GetImage.ashx?t=0&amp;sg=SMI2010&amp;id=elecru_20100817_483B4406_1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mtf.msiu.ru/kaf37/images/GES/gifebub6mw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bigpicture.ru/wp-content/uploads/2009/09/s32_2026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bigpicture.ru/wp-content/uploads/2009/09/s05_2005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kraspoisk.ru/img/gallery/055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1/49/168/49168389_Bratskaya_GYES__l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bigpicture.ru/wp-content/uploads/2009/09/s03_2005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518/3094518/f_17262274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2blogger.com/i/articles/siemens-zytes-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hoto.isurgut.ru/Images/Works/11.2006/158_583911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ro-volgograd.ru/attachments/ges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ansar.ru/uploads/imagesb/2010/02/3ebd1fad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5"/>
          <p:cNvSpPr/>
          <p:nvPr/>
        </p:nvSpPr>
        <p:spPr>
          <a:xfrm>
            <a:off x="324000" y="692280"/>
            <a:ext cx="8642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1608c8"/>
                </a:solidFill>
                <a:latin typeface="Times New Roman"/>
              </a:rPr>
              <a:t>Электроэнергетика России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7" descr="Картинка 5 из 19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0200" y="1785960"/>
            <a:ext cx="4378320" cy="3286080"/>
          </a:xfrm>
          <a:prstGeom prst="rect">
            <a:avLst/>
          </a:prstGeom>
          <a:ln w="0">
            <a:noFill/>
          </a:ln>
        </p:spPr>
      </p:pic>
      <p:sp>
        <p:nvSpPr>
          <p:cNvPr id="219" name="TextBox 3"/>
          <p:cNvSpPr/>
          <p:nvPr/>
        </p:nvSpPr>
        <p:spPr>
          <a:xfrm>
            <a:off x="6286680" y="5429160"/>
            <a:ext cx="27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зентация урока дл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 класс. Выполнил учитель географии СОШ №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. Сыктывкар Мамонтов Игорь Владимирови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59" name="Овал 2"/>
          <p:cNvSpPr/>
          <p:nvPr/>
        </p:nvSpPr>
        <p:spPr>
          <a:xfrm>
            <a:off x="642960" y="428760"/>
            <a:ext cx="5441760" cy="1344600"/>
          </a:xfrm>
          <a:prstGeom prst="ellipse">
            <a:avLst/>
          </a:prstGeom>
          <a:solidFill>
            <a:srgbClr val="bfe1eb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857160" y="85716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рупнейшие ГЭ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олния 4"/>
          <p:cNvSpPr/>
          <p:nvPr/>
        </p:nvSpPr>
        <p:spPr>
          <a:xfrm rot="1092600">
            <a:off x="4150800" y="5252760"/>
            <a:ext cx="336600" cy="566640"/>
          </a:xfrm>
          <a:prstGeom prst="lightningBolt">
            <a:avLst/>
          </a:prstGeom>
          <a:solidFill>
            <a:srgbClr val="003399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олния 5"/>
          <p:cNvSpPr/>
          <p:nvPr/>
        </p:nvSpPr>
        <p:spPr>
          <a:xfrm rot="1092600">
            <a:off x="4293720" y="4895640"/>
            <a:ext cx="336600" cy="566640"/>
          </a:xfrm>
          <a:prstGeom prst="lightningBolt">
            <a:avLst/>
          </a:prstGeom>
          <a:solidFill>
            <a:srgbClr val="003399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олния 6"/>
          <p:cNvSpPr/>
          <p:nvPr/>
        </p:nvSpPr>
        <p:spPr>
          <a:xfrm rot="1092600">
            <a:off x="4936680" y="4824000"/>
            <a:ext cx="336600" cy="566640"/>
          </a:xfrm>
          <a:prstGeom prst="lightningBolt">
            <a:avLst/>
          </a:prstGeom>
          <a:solidFill>
            <a:srgbClr val="003399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олния 7"/>
          <p:cNvSpPr/>
          <p:nvPr/>
        </p:nvSpPr>
        <p:spPr>
          <a:xfrm rot="1092600">
            <a:off x="5008320" y="4538160"/>
            <a:ext cx="336600" cy="567000"/>
          </a:xfrm>
          <a:prstGeom prst="lightningBolt">
            <a:avLst/>
          </a:prstGeom>
          <a:solidFill>
            <a:srgbClr val="003399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3214800" y="56437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Bookman Old Style"/>
              </a:rPr>
              <a:t>Саяно-Шушен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4429080" y="557208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Bookman Old Style"/>
              </a:rPr>
              <a:t>Краснояр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10"/>
          <p:cNvSpPr/>
          <p:nvPr/>
        </p:nvSpPr>
        <p:spPr>
          <a:xfrm>
            <a:off x="5286240" y="52149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Bookman Old Style"/>
              </a:rPr>
              <a:t>Брат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1"/>
          <p:cNvSpPr/>
          <p:nvPr/>
        </p:nvSpPr>
        <p:spPr>
          <a:xfrm>
            <a:off x="5357880" y="48578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Bookman Old Style"/>
              </a:rPr>
              <a:t>Усть-Илим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3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3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3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5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pic>
        <p:nvPicPr>
          <p:cNvPr id="270" name="Picture 5" descr="Картинка 1 из 116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325080" cy="68943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6"/>
          <p:cNvSpPr/>
          <p:nvPr/>
        </p:nvSpPr>
        <p:spPr>
          <a:xfrm>
            <a:off x="-324000" y="404640"/>
            <a:ext cx="56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аяно-Шушенская  ГЭ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вария на Саяно-Шушенской ГЭС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273" name="Picture 5" descr="Картинка 7 из 116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268280"/>
            <a:ext cx="3887640" cy="2589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Картинка 30 из 116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1268280"/>
            <a:ext cx="3816360" cy="2627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Картинка 35 из 1162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95640" y="4005360"/>
            <a:ext cx="3960720" cy="26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Картинка 3 из 38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380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Красноярская ГЭС</a:t>
            </a:r>
            <a:endParaRPr b="0" lang="en-US" sz="4000" spc="-1" strike="noStrike">
              <a:solidFill>
                <a:srgbClr val="5a6378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Картинка 4 из 19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640" y="4508640"/>
            <a:ext cx="868680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08c8"/>
                </a:solidFill>
                <a:latin typeface="Times New Roman"/>
              </a:rPr>
              <a:t>Братская ГЭС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достатки ГЭС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560" y="1125000"/>
            <a:ext cx="8839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08c8"/>
                </a:solidFill>
                <a:latin typeface="Times New Roman"/>
              </a:rPr>
              <a:t>а) ГЭС очень дороги и долго строятся (15-20 лет)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08c8"/>
                </a:solidFill>
                <a:latin typeface="Times New Roman"/>
              </a:rPr>
              <a:t>б) Требует создания крупных водохранилищ, вода из которых используется в промышленности, сельском хозяйстве, населением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08c8"/>
                </a:solidFill>
                <a:latin typeface="Times New Roman"/>
              </a:rPr>
              <a:t>в) Но водохранилища затапливают ценные земли, изменяют гидрологический режим и климат прилегающих территорий. 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08c8"/>
                </a:solidFill>
                <a:latin typeface="Times New Roman"/>
              </a:rPr>
              <a:t>г) Создание каскадов ГЭС снижают скорость течения воды.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08c8"/>
                </a:solidFill>
                <a:latin typeface="Times New Roman"/>
              </a:rPr>
              <a:t>д) Способствуют большому загрязнению рек.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08c8"/>
                </a:solidFill>
                <a:latin typeface="Times New Roman"/>
              </a:rPr>
              <a:t>ж) Нарушают естественные миграции рыб.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282" name="Picture 6" descr="Картинка 1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4149720"/>
            <a:ext cx="3671640" cy="2432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томные электростанции (АЭС).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Преимущества АЭС :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250920" y="2136600"/>
            <a:ext cx="90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1) Низкая  себестоимость  электро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2) Экологически  чистое  производ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3) Работают на ядерном топливе (Уран, плутони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8" descr="Картинка 3 из 64000"/>
          <p:cNvPicPr/>
          <p:nvPr/>
        </p:nvPicPr>
        <p:blipFill>
          <a:blip r:embed="rId1"/>
          <a:stretch/>
        </p:blipFill>
        <p:spPr>
          <a:xfrm>
            <a:off x="2195640" y="3429000"/>
            <a:ext cx="4680000" cy="3267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Картинка 1 из 1114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3244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6"/>
          <p:cNvSpPr/>
          <p:nvPr/>
        </p:nvSpPr>
        <p:spPr>
          <a:xfrm>
            <a:off x="1692360" y="285840"/>
            <a:ext cx="43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8c8"/>
                </a:solidFill>
                <a:latin typeface="Times New Roman"/>
              </a:rPr>
              <a:t>Крупнейшие АЭ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" descr="Картинка 7 из 114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6"/>
          <p:cNvSpPr/>
          <p:nvPr/>
        </p:nvSpPr>
        <p:spPr>
          <a:xfrm flipV="1" rot="10735800">
            <a:off x="2844360" y="403560"/>
            <a:ext cx="383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урская АЭ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Картинка 2 из 1572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моленская АЭС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33000"/>
            <a:ext cx="909144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8c8"/>
                </a:solidFill>
                <a:latin typeface="Times New Roman"/>
              </a:rPr>
              <a:t>Электроэнергетика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- отрасль, которая  производит  электроэнергию  на  электростанциях  и  передает  ее  на  расстояние  по  линиям  электропередач  (ЛЭП).</a:t>
            </a:r>
            <a:endParaRPr b="0" lang="en-US" sz="28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221" name="Picture 5" descr="Картинка 14 из 19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2276640"/>
            <a:ext cx="5077080" cy="3105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Картинка 3 из 4439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530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льская АЭС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достатки АЭС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560" y="1125000"/>
            <a:ext cx="8839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а) Работают  на  невозобновимых  ресурсах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б) Возникновение  экологической  катастрофы  в  случае  аварии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в) Проблема  утилизации  и  захоронения  отходов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297" name="Picture 6" descr="Картинка 24 из 4439"/>
          <p:cNvPicPr/>
          <p:nvPr/>
        </p:nvPicPr>
        <p:blipFill>
          <a:blip r:embed="rId1"/>
          <a:stretch/>
        </p:blipFill>
        <p:spPr>
          <a:xfrm>
            <a:off x="1979640" y="3068640"/>
            <a:ext cx="4535640" cy="3403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Прямоугольник 1" descr=""/>
          <p:cNvPicPr/>
          <p:nvPr/>
        </p:nvPicPr>
        <p:blipFill>
          <a:blip r:embed="rId1"/>
          <a:stretch/>
        </p:blipFill>
        <p:spPr>
          <a:xfrm>
            <a:off x="554040" y="115920"/>
            <a:ext cx="8004240" cy="1603440"/>
          </a:xfrm>
          <a:prstGeom prst="rect">
            <a:avLst/>
          </a:prstGeom>
          <a:ln w="0">
            <a:noFill/>
          </a:ln>
        </p:spPr>
      </p:pic>
      <p:cxnSp>
        <p:nvCxnSpPr>
          <p:cNvPr id="299" name="Прямая со стрелкой 3"/>
          <p:cNvCxnSpPr/>
          <p:nvPr/>
        </p:nvCxnSpPr>
        <p:spPr>
          <a:xfrm flipH="1">
            <a:off x="1283400" y="1285920"/>
            <a:ext cx="2520" cy="929520"/>
          </a:xfrm>
          <a:prstGeom prst="straightConnector1">
            <a:avLst/>
          </a:prstGeom>
          <a:ln w="5724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300" name="TextBox 5"/>
          <p:cNvSpPr/>
          <p:nvPr/>
        </p:nvSpPr>
        <p:spPr>
          <a:xfrm>
            <a:off x="785880" y="250020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ет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214200" y="2286000"/>
            <a:ext cx="2571840" cy="1868400"/>
          </a:xfrm>
          <a:prstGeom prst="rect">
            <a:avLst/>
          </a:prstGeom>
          <a:ln w="0">
            <a:noFill/>
          </a:ln>
        </p:spPr>
      </p:pic>
      <p:cxnSp>
        <p:nvCxnSpPr>
          <p:cNvPr id="302" name="Прямая со стрелкой 6"/>
          <p:cNvCxnSpPr/>
          <p:nvPr/>
        </p:nvCxnSpPr>
        <p:spPr>
          <a:xfrm flipH="1">
            <a:off x="3214440" y="1285920"/>
            <a:ext cx="2160" cy="3215520"/>
          </a:xfrm>
          <a:prstGeom prst="straightConnector1">
            <a:avLst/>
          </a:prstGeom>
          <a:ln w="5724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03" name="Прямая со стрелкой 7"/>
          <p:cNvCxnSpPr/>
          <p:nvPr/>
        </p:nvCxnSpPr>
        <p:spPr>
          <a:xfrm flipH="1">
            <a:off x="4571640" y="1357200"/>
            <a:ext cx="2160" cy="929520"/>
          </a:xfrm>
          <a:prstGeom prst="straightConnector1">
            <a:avLst/>
          </a:prstGeom>
          <a:ln w="5724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04" name="Прямая со стрелкой 8"/>
          <p:cNvCxnSpPr/>
          <p:nvPr/>
        </p:nvCxnSpPr>
        <p:spPr>
          <a:xfrm flipH="1">
            <a:off x="5857560" y="1285560"/>
            <a:ext cx="2160" cy="3143880"/>
          </a:xfrm>
          <a:prstGeom prst="straightConnector1">
            <a:avLst/>
          </a:prstGeom>
          <a:ln w="5724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05" name="Прямая со стрелкой 9"/>
          <p:cNvCxnSpPr/>
          <p:nvPr/>
        </p:nvCxnSpPr>
        <p:spPr>
          <a:xfrm flipH="1">
            <a:off x="7786440" y="1214280"/>
            <a:ext cx="2160" cy="929520"/>
          </a:xfrm>
          <a:prstGeom prst="straightConnector1">
            <a:avLst/>
          </a:prstGeom>
          <a:ln w="5724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306" name="TextBox 10"/>
          <p:cNvSpPr/>
          <p:nvPr/>
        </p:nvSpPr>
        <p:spPr>
          <a:xfrm>
            <a:off x="4000680" y="2428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солнц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3"/>
          <a:stretch/>
        </p:blipFill>
        <p:spPr>
          <a:xfrm>
            <a:off x="3714840" y="2357280"/>
            <a:ext cx="1706400" cy="1565280"/>
          </a:xfrm>
          <a:prstGeom prst="rect">
            <a:avLst/>
          </a:prstGeom>
          <a:ln w="0">
            <a:noFill/>
          </a:ln>
        </p:spPr>
      </p:pic>
      <p:sp>
        <p:nvSpPr>
          <p:cNvPr id="308" name="TextBox 12"/>
          <p:cNvSpPr/>
          <p:nvPr/>
        </p:nvSpPr>
        <p:spPr>
          <a:xfrm>
            <a:off x="7215120" y="22860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илив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5" descr=""/>
          <p:cNvPicPr/>
          <p:nvPr/>
        </p:nvPicPr>
        <p:blipFill>
          <a:blip r:embed="rId4"/>
          <a:stretch/>
        </p:blipFill>
        <p:spPr>
          <a:xfrm>
            <a:off x="6357960" y="2214720"/>
            <a:ext cx="2554200" cy="18572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16"/>
          <p:cNvSpPr/>
          <p:nvPr/>
        </p:nvSpPr>
        <p:spPr>
          <a:xfrm>
            <a:off x="2214720" y="4643280"/>
            <a:ext cx="200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нутреннее  тепло Зем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7" descr=""/>
          <p:cNvPicPr/>
          <p:nvPr/>
        </p:nvPicPr>
        <p:blipFill>
          <a:blip r:embed="rId5"/>
          <a:stretch/>
        </p:blipFill>
        <p:spPr>
          <a:xfrm>
            <a:off x="2071800" y="4643280"/>
            <a:ext cx="2428920" cy="178596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8"/>
          <p:cNvSpPr/>
          <p:nvPr/>
        </p:nvSpPr>
        <p:spPr>
          <a:xfrm>
            <a:off x="5000760" y="47862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етровые  вол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6"/>
          <a:stretch/>
        </p:blipFill>
        <p:spPr>
          <a:xfrm>
            <a:off x="4714920" y="4643280"/>
            <a:ext cx="243684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5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"/>
          <p:cNvSpPr/>
          <p:nvPr/>
        </p:nvSpPr>
        <p:spPr>
          <a:xfrm>
            <a:off x="3214800" y="857160"/>
            <a:ext cx="5682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древнейших времен человек использовал силу ветра: сначала в судоходстве, а затем для замены своей мускульной силы. Первые простейшие ветродвигатели применяли в глубокой древности в Китае и в Египте.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2922840" cy="4214880"/>
          </a:xfrm>
          <a:prstGeom prst="rect">
            <a:avLst/>
          </a:prstGeom>
          <a:ln w="0">
            <a:noFill/>
          </a:ln>
        </p:spPr>
      </p:pic>
      <p:pic>
        <p:nvPicPr>
          <p:cNvPr id="316" name="Прямоугольник 4" descr=""/>
          <p:cNvPicPr/>
          <p:nvPr/>
        </p:nvPicPr>
        <p:blipFill>
          <a:blip r:embed="rId2"/>
          <a:stretch/>
        </p:blipFill>
        <p:spPr>
          <a:xfrm>
            <a:off x="3560760" y="115920"/>
            <a:ext cx="5443560" cy="1116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3"/>
          <a:stretch/>
        </p:blipFill>
        <p:spPr>
          <a:xfrm>
            <a:off x="3429000" y="3214800"/>
            <a:ext cx="5405400" cy="3357360"/>
          </a:xfrm>
          <a:prstGeom prst="rect">
            <a:avLst/>
          </a:prstGeom>
          <a:ln w="0">
            <a:noFill/>
          </a:ln>
        </p:spPr>
      </p:pic>
      <p:sp>
        <p:nvSpPr>
          <p:cNvPr id="318" name="TextBox 6"/>
          <p:cNvSpPr/>
          <p:nvPr/>
        </p:nvSpPr>
        <p:spPr>
          <a:xfrm>
            <a:off x="500040" y="5929200"/>
            <a:ext cx="28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ременные  ветровые  установ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4"/>
          <a:stretch/>
        </p:blipFill>
        <p:spPr>
          <a:xfrm>
            <a:off x="7000920" y="2786040"/>
            <a:ext cx="1895400" cy="28576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8"/>
          <p:cNvSpPr/>
          <p:nvPr/>
        </p:nvSpPr>
        <p:spPr>
          <a:xfrm>
            <a:off x="214200" y="464328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тряная  мельн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6191280" cy="43909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5286240" y="3714840"/>
            <a:ext cx="3619800" cy="2714400"/>
          </a:xfrm>
          <a:prstGeom prst="rect">
            <a:avLst/>
          </a:prstGeom>
          <a:ln w="0">
            <a:noFill/>
          </a:ln>
        </p:spPr>
      </p:pic>
      <p:pic>
        <p:nvPicPr>
          <p:cNvPr id="323" name="Прямоугольник 7" descr=""/>
          <p:cNvPicPr/>
          <p:nvPr/>
        </p:nvPicPr>
        <p:blipFill>
          <a:blip r:embed="rId3"/>
          <a:stretch/>
        </p:blipFill>
        <p:spPr>
          <a:xfrm>
            <a:off x="3548160" y="115920"/>
            <a:ext cx="5413320" cy="111600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8"/>
          <p:cNvSpPr/>
          <p:nvPr/>
        </p:nvSpPr>
        <p:spPr>
          <a:xfrm>
            <a:off x="6461640" y="114300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ислогубская  ПЭ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9"/>
          <p:cNvSpPr/>
          <p:nvPr/>
        </p:nvSpPr>
        <p:spPr>
          <a:xfrm>
            <a:off x="1500120" y="578628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хема  работы  приливной электростан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Прямоугольник 1" descr=""/>
          <p:cNvPicPr/>
          <p:nvPr/>
        </p:nvPicPr>
        <p:blipFill>
          <a:blip r:embed="rId1"/>
          <a:stretch/>
        </p:blipFill>
        <p:spPr>
          <a:xfrm>
            <a:off x="3193920" y="115920"/>
            <a:ext cx="5742000" cy="1116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3"/>
          <p:cNvSpPr/>
          <p:nvPr/>
        </p:nvSpPr>
        <p:spPr>
          <a:xfrm>
            <a:off x="3357720" y="928800"/>
            <a:ext cx="557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 Cyr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Гелиоустановка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фокусирует свет и тепло при помощи линз или зеркал, причем зеркала меняют свое положение в зависимости от расположения.</a:t>
            </a:r>
            <a:r>
              <a:rPr b="1" lang="ru-RU" sz="20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3"/>
          <a:stretch/>
        </p:blipFill>
        <p:spPr>
          <a:xfrm>
            <a:off x="3857760" y="2571840"/>
            <a:ext cx="4929120" cy="325584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9"/>
          <p:cNvSpPr/>
          <p:nvPr/>
        </p:nvSpPr>
        <p:spPr>
          <a:xfrm>
            <a:off x="3828600" y="6000840"/>
            <a:ext cx="43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лнечная электростанция в Герма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6" descr=""/>
          <p:cNvPicPr/>
          <p:nvPr/>
        </p:nvPicPr>
        <p:blipFill>
          <a:blip r:embed="rId4"/>
          <a:stretch/>
        </p:blipFill>
        <p:spPr>
          <a:xfrm>
            <a:off x="285840" y="3357720"/>
            <a:ext cx="3214440" cy="2423880"/>
          </a:xfrm>
          <a:prstGeom prst="rect">
            <a:avLst/>
          </a:prstGeom>
          <a:ln w="0">
            <a:noFill/>
          </a:ln>
        </p:spPr>
      </p:pic>
      <p:sp>
        <p:nvSpPr>
          <p:cNvPr id="332" name="TextBox 11"/>
          <p:cNvSpPr/>
          <p:nvPr/>
        </p:nvSpPr>
        <p:spPr>
          <a:xfrm>
            <a:off x="357120" y="600084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лнечные  батаре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4143240" y="128592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3"/>
          <p:cNvSpPr/>
          <p:nvPr/>
        </p:nvSpPr>
        <p:spPr>
          <a:xfrm>
            <a:off x="4069800" y="5072040"/>
            <a:ext cx="44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тновская геотермальная стан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Прямоугольник 4" descr=""/>
          <p:cNvPicPr/>
          <p:nvPr/>
        </p:nvPicPr>
        <p:blipFill>
          <a:blip r:embed="rId2"/>
          <a:stretch/>
        </p:blipFill>
        <p:spPr>
          <a:xfrm>
            <a:off x="2054160" y="115920"/>
            <a:ext cx="6851880" cy="111600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5"/>
          <p:cNvSpPr/>
          <p:nvPr/>
        </p:nvSpPr>
        <p:spPr>
          <a:xfrm>
            <a:off x="214200" y="1071720"/>
            <a:ext cx="38577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Геотермальная энергия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, т.е. теплота недр Земли, уже используется в ряде стран, например в Исландии, России, Италии и Новой Зеландии</a:t>
            </a:r>
            <a:r>
              <a:rPr b="1" lang="ru-RU" sz="2000" spc="-1" strike="noStrike">
                <a:solidFill>
                  <a:srgbClr val="1608c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3"/>
          <a:stretch/>
        </p:blipFill>
        <p:spPr>
          <a:xfrm>
            <a:off x="214200" y="3214800"/>
            <a:ext cx="3786480" cy="284004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9"/>
          <p:cNvSpPr/>
          <p:nvPr/>
        </p:nvSpPr>
        <p:spPr>
          <a:xfrm>
            <a:off x="212040" y="6143760"/>
            <a:ext cx="43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ужетская геотермальная стан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8816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608c8"/>
                </a:solidFill>
                <a:latin typeface="Times New Roman"/>
              </a:rPr>
              <a:t>Энергосистема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– группа электростанций разных типов, объединенных линиями электропередачи (ЛЭП) и управляемых из одного центра.</a:t>
            </a:r>
            <a:endParaRPr b="0" lang="en-US" sz="25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340" name="Picture 5" descr="Картинка 3 из 37500"/>
          <p:cNvPicPr/>
          <p:nvPr/>
        </p:nvPicPr>
        <p:blipFill>
          <a:blip r:embed="rId1"/>
          <a:stretch/>
        </p:blipFill>
        <p:spPr>
          <a:xfrm>
            <a:off x="1116000" y="2492280"/>
            <a:ext cx="6354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04920" y="333000"/>
            <a:ext cx="86868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608c8"/>
                </a:solidFill>
                <a:latin typeface="Times New Roman"/>
              </a:rPr>
              <a:t>    </a:t>
            </a:r>
            <a:r>
              <a:rPr b="1" lang="ru-RU" sz="2200" spc="-1" strike="noStrike">
                <a:solidFill>
                  <a:srgbClr val="1608c8"/>
                </a:solidFill>
                <a:latin typeface="Times New Roman"/>
              </a:rPr>
              <a:t>В России – 73 крупные энергосистемы, которые, в свою очередь слагают районные энергосистемы: Центральную, Уральскую, Сибирскую и др. Большая часть районных энергосистем входит в состав </a:t>
            </a:r>
            <a:r>
              <a:rPr b="1" i="1" lang="ru-RU" sz="2200" spc="-1" strike="noStrike">
                <a:solidFill>
                  <a:srgbClr val="ff3300"/>
                </a:solidFill>
                <a:latin typeface="Times New Roman"/>
              </a:rPr>
              <a:t>Единой энергосистемы России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 (ЕЭС).</a:t>
            </a:r>
            <a:r>
              <a:rPr b="1" lang="ru-RU" sz="2200" spc="-1" strike="noStrike">
                <a:solidFill>
                  <a:srgbClr val="1608c8"/>
                </a:solidFill>
                <a:latin typeface="Times New Roman"/>
              </a:rPr>
              <a:t> ЕЭ</a:t>
            </a:r>
            <a:r>
              <a:rPr b="1" lang="en-US" sz="2200" spc="-1" strike="noStrike">
                <a:solidFill>
                  <a:srgbClr val="1608c8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1608c8"/>
                </a:solidFill>
                <a:latin typeface="Times New Roman"/>
              </a:rPr>
              <a:t> России работает в параллельном режиме с энергосистемами Украины, Прибалтики, Белоруссии и мн. др. странами.</a:t>
            </a:r>
            <a:endParaRPr b="0" lang="en-US" sz="22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342" name="Picture 5" descr="Картинка 54 из 37500"/>
          <p:cNvPicPr/>
          <p:nvPr/>
        </p:nvPicPr>
        <p:blipFill>
          <a:blip r:embed="rId1"/>
          <a:stretch/>
        </p:blipFill>
        <p:spPr>
          <a:xfrm>
            <a:off x="2124000" y="2637000"/>
            <a:ext cx="507708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08c8"/>
                </a:solidFill>
                <a:latin typeface="Times New Roman"/>
              </a:rPr>
              <a:t>Вывод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902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лектроэнергетика является важным источником энергии, без которой жизнь современного общества невозможна.</a:t>
            </a:r>
            <a:r>
              <a:rPr b="0" lang="ru-RU" sz="3200" spc="-1" strike="noStrike">
                <a:solidFill>
                  <a:srgbClr val="5a6378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ипы электростанций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8c8"/>
                </a:solidFill>
                <a:latin typeface="Times New Roman"/>
              </a:rPr>
              <a:t>1) Тепловые электростанции. (ТЭС)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8c8"/>
                </a:solidFill>
                <a:latin typeface="Times New Roman"/>
              </a:rPr>
              <a:t>2) Гидроэлектростанции. (ГЭС)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8c8"/>
                </a:solidFill>
                <a:latin typeface="Times New Roman"/>
              </a:rPr>
              <a:t>3) Атомные электростанции.(АЭС)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8c8"/>
                </a:solidFill>
                <a:latin typeface="Times New Roman"/>
              </a:rPr>
              <a:t>4)Альтернативные электростанции.(приливные, ветровые, солнечные, геотермальные). </a:t>
            </a:r>
            <a:endParaRPr b="0" lang="en-US" sz="20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 flipH="1">
            <a:off x="5223600" y="3500280"/>
            <a:ext cx="32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Доля  различных  типов  электростанций  в  производстве 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4149720" cy="300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пловые электростанции. (ТЭС)</a:t>
            </a:r>
            <a:r>
              <a:rPr b="0" lang="ru-RU" sz="3600" spc="-1" strike="noStrike">
                <a:solidFill>
                  <a:srgbClr val="5a6378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868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Преимущества ТЭС :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Могут работать на разных видах топлива(нефть, газ, уголь, торф, мазут)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Можно строить в различных районах страны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3. </a:t>
            </a: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Стоимость и время строительства невелики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4. </a:t>
            </a: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Обладают большой мощностью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228" name="Picture 7" descr="Картинка 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3789360"/>
            <a:ext cx="4175280" cy="2797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30" name="Овал 2"/>
          <p:cNvSpPr/>
          <p:nvPr/>
        </p:nvSpPr>
        <p:spPr>
          <a:xfrm>
            <a:off x="642960" y="428760"/>
            <a:ext cx="5715000" cy="1071360"/>
          </a:xfrm>
          <a:prstGeom prst="ellipse">
            <a:avLst/>
          </a:prstGeom>
          <a:solidFill>
            <a:srgbClr val="bfe1eb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2195640" y="71424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рупнейшие ТЭ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олния 4"/>
          <p:cNvSpPr/>
          <p:nvPr/>
        </p:nvSpPr>
        <p:spPr>
          <a:xfrm rot="1092600">
            <a:off x="1474560" y="2609640"/>
            <a:ext cx="336240" cy="566640"/>
          </a:xfrm>
          <a:prstGeom prst="lightningBolt">
            <a:avLst/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олния 7"/>
          <p:cNvSpPr/>
          <p:nvPr/>
        </p:nvSpPr>
        <p:spPr>
          <a:xfrm rot="1092600">
            <a:off x="2436480" y="3752640"/>
            <a:ext cx="336600" cy="566640"/>
          </a:xfrm>
          <a:prstGeom prst="lightningBolt">
            <a:avLst/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олния 8"/>
          <p:cNvSpPr/>
          <p:nvPr/>
        </p:nvSpPr>
        <p:spPr>
          <a:xfrm rot="1092600">
            <a:off x="3222360" y="3609720"/>
            <a:ext cx="336600" cy="566640"/>
          </a:xfrm>
          <a:prstGeom prst="lightningBolt">
            <a:avLst/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1714680" y="300024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Костром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0"/>
          <p:cNvSpPr/>
          <p:nvPr/>
        </p:nvSpPr>
        <p:spPr>
          <a:xfrm>
            <a:off x="1357200" y="428616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Рефтин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3429000" y="40006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Сургут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3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3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3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158_58391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75920"/>
            <a:ext cx="86868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ургутская ТЭС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достатки ТЭС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08c8"/>
                </a:solidFill>
                <a:latin typeface="Times New Roman"/>
              </a:rPr>
              <a:t>а) Они используют невозобновимые энергетические ресурсы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08c8"/>
                </a:solidFill>
                <a:latin typeface="Times New Roman"/>
              </a:rPr>
              <a:t>б) Дают много твердых и газообразных отходов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08c8"/>
                </a:solidFill>
                <a:latin typeface="Times New Roman"/>
              </a:rPr>
              <a:t>в) Рост стоимости транспортировок топлива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08c8"/>
                </a:solidFill>
                <a:latin typeface="Times New Roman"/>
              </a:rPr>
              <a:t>г) Размещение ТЭС зависит от качества топлива, на котором они работают.</a:t>
            </a:r>
            <a:endParaRPr b="0" lang="en-US" sz="24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2340000" y="3500280"/>
            <a:ext cx="4357800" cy="3049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Особая разновидность тепловых электростанций – теплоэлектроцентрали (ТЭЦ).</a:t>
            </a:r>
            <a:r>
              <a:rPr b="0" lang="ru-RU" sz="2900" spc="-1" strike="noStrike">
                <a:solidFill>
                  <a:srgbClr val="5a6378"/>
                </a:solidFill>
                <a:latin typeface="Franklin Gothic Medium"/>
              </a:rPr>
              <a:t> </a:t>
            </a:r>
            <a:endParaRPr b="0" lang="en-US" sz="2900" spc="-1" strike="noStrike">
              <a:solidFill>
                <a:srgbClr val="5a6378"/>
              </a:solidFill>
              <a:latin typeface="Arial"/>
            </a:endParaRPr>
          </a:p>
        </p:txBody>
      </p:sp>
      <p:pic>
        <p:nvPicPr>
          <p:cNvPr id="244" name="Прямоугольник 21" descr=""/>
          <p:cNvPicPr/>
          <p:nvPr/>
        </p:nvPicPr>
        <p:blipFill>
          <a:blip r:embed="rId1"/>
          <a:stretch/>
        </p:blipFill>
        <p:spPr>
          <a:xfrm>
            <a:off x="682560" y="1341360"/>
            <a:ext cx="2024280" cy="1120680"/>
          </a:xfrm>
          <a:prstGeom prst="rect">
            <a:avLst/>
          </a:prstGeom>
          <a:ln w="0">
            <a:noFill/>
          </a:ln>
        </p:spPr>
      </p:pic>
      <p:sp>
        <p:nvSpPr>
          <p:cNvPr id="245" name="Облако 25"/>
          <p:cNvSpPr/>
          <p:nvPr/>
        </p:nvSpPr>
        <p:spPr>
          <a:xfrm>
            <a:off x="971640" y="1989000"/>
            <a:ext cx="1714320" cy="785880"/>
          </a:xfrm>
          <a:prstGeom prst="pie">
            <a:avLst/>
          </a:prstGeom>
          <a:solidFill>
            <a:srgbClr val="ffffff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олния 33"/>
          <p:cNvSpPr/>
          <p:nvPr/>
        </p:nvSpPr>
        <p:spPr>
          <a:xfrm rot="1092600">
            <a:off x="1547280" y="2276640"/>
            <a:ext cx="447840" cy="680760"/>
          </a:xfrm>
          <a:prstGeom prst="lightningBolt">
            <a:avLst/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27"/>
          <p:cNvSpPr/>
          <p:nvPr/>
        </p:nvSpPr>
        <p:spPr>
          <a:xfrm>
            <a:off x="1546920" y="2781360"/>
            <a:ext cx="142920" cy="35712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28"/>
          <p:cNvSpPr/>
          <p:nvPr/>
        </p:nvSpPr>
        <p:spPr>
          <a:xfrm flipH="1">
            <a:off x="1907640" y="2852640"/>
            <a:ext cx="133560" cy="35712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29"/>
          <p:cNvSpPr/>
          <p:nvPr/>
        </p:nvSpPr>
        <p:spPr>
          <a:xfrm>
            <a:off x="1331280" y="2852640"/>
            <a:ext cx="142920" cy="35712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30"/>
          <p:cNvSpPr/>
          <p:nvPr/>
        </p:nvSpPr>
        <p:spPr>
          <a:xfrm flipH="1">
            <a:off x="2339640" y="2708280"/>
            <a:ext cx="142920" cy="45720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684360" y="3357720"/>
            <a:ext cx="2238120" cy="32382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3"/>
          <p:cNvSpPr/>
          <p:nvPr/>
        </p:nvSpPr>
        <p:spPr>
          <a:xfrm>
            <a:off x="3203640" y="1626120"/>
            <a:ext cx="56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На них помимо электроэнергии, вырабатывается тепло (горячая вода и пар). Они строятся непосредственно в крупных городах, поскольку передача тепла возможна только на расстояние в 20-30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идроэлектростанции. ГЭС</a:t>
            </a:r>
            <a:r>
              <a:rPr b="0" lang="ru-RU" sz="3600" spc="-1" strike="noStrike">
                <a:solidFill>
                  <a:srgbClr val="5a6378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Преимущества ГЭС :</a:t>
            </a: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2136600"/>
            <a:ext cx="90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1.Использование возобновимого вида энергоресур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2.Производят самую дешевую электроэнерг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08c8"/>
                </a:solidFill>
                <a:latin typeface="Times New Roman"/>
              </a:rPr>
              <a:t>3.Снижает выбросы в атмосферу</a:t>
            </a:r>
            <a:r>
              <a:rPr b="0" lang="ru-RU" sz="1800" spc="-1" strike="noStrike">
                <a:solidFill>
                  <a:srgbClr val="1608c8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6" descr="Картинка 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429000"/>
            <a:ext cx="3744720" cy="2809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Картинка 12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3429000"/>
            <a:ext cx="3745080" cy="2809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09:44:15Z</dcterms:created>
  <dc:creator>Ipatov</dc:creator>
  <dc:description/>
  <dc:language>en-US</dc:language>
  <cp:lastModifiedBy>User</cp:lastModifiedBy>
  <dcterms:modified xsi:type="dcterms:W3CDTF">2014-04-25T07:17:20Z</dcterms:modified>
  <cp:revision>1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e2e0000000000010250300207f7000400038000</vt:lpwstr>
  </property>
</Properties>
</file>