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png" ContentType="image/png"/>
  <Override PartName="/ppt/media/image8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C5F-ADA0-479B-B766-6A4FE703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4A4-2584-4F5A-A842-9B168C8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A17-97FB-4527-8E06-36831F06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C83-90F0-4CF8-904C-6CFE93A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BFA9-A162-4E5D-B1CB-7B7148AD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60C-BF68-4313-BBDA-61189D39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A005-F249-46D1-8748-8B434A8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B01-9455-47E5-9084-D526051E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6365-0E6B-45AE-A7CB-546B984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A0C-EB65-4456-9ABC-C6FA0316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3CBD-F12C-451B-8194-92FBD82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A63-AD4F-4C45-9DBF-F1FBBF1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2FB-BD53-4559-A896-A20E167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BCEA-86E7-4D5C-B1AB-5BBB9E2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F662-051A-4D9E-A94E-FA72DE5B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1143-84A2-4054-846A-ADA25C03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403-17EF-4F53-9274-FE0D82EB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538A-BF63-4D84-BC97-80F6C4EF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228C-12B7-47F2-B70A-CBFA25F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927E-01BB-4866-B42C-199F4104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1261-B166-450C-AE28-6B20423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CBE0-DC9F-442F-968D-392969F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B8F-D580-4501-9490-47ACAD1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6BC1-55D8-48C3-B703-54C65E97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7B2B-5D35-455A-A5BB-5FCA4C59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4A16-B0B7-47AC-9C2B-CDBF13F0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8EEC-B80D-4783-84C5-4798606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518E-5A3F-4FCD-B9AA-AAA5D638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8C00-5054-4C02-B891-8C1309DC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765B-9D54-4C78-BAD3-DDE11DE4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99DF-18FE-4C58-84CD-3AC2E766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A380-C98F-44B3-A721-E4225B2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E485-7908-4D4F-8230-3C76AD0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77B-2EF4-4CA0-A662-C3C99DA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E00C-B05A-4BC5-9CED-FF4EBED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F9E7-C8AA-4F39-A6C6-7C7173E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D5A4-1C18-4F99-B666-38474C9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BC86-DD3E-4586-B03E-474B106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2891-8D76-49EF-A3F0-BBD340C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ED4F-4E47-492F-B584-2E43DB3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0E3B-0911-4327-B113-F331C6CA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D597-B40F-40CA-B890-B9293C79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B795-EDCA-464A-A9D4-F69F3B3F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68B3-631D-4523-A363-FE39B57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D53-2940-46CF-9545-1383B305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C07D-4AC0-463A-A9B7-29A09DA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3AA6-5130-4F9C-81C8-E246733F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00D9-4E53-4F74-920E-A89F9003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24C3-32A4-4790-9B75-3E56FBC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5BA8-F60B-44A3-9CB4-669C623A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BB3C-8FE6-4323-A05A-22D10FFB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5C3F-571D-4595-9549-EF72EAF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6BFC-226C-483E-98FC-22773EE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8093-2CF6-497A-AB6A-7FE5DCF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433F-089B-4994-A14D-706DA8D1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BA1-1274-40F4-B2E0-90D952B3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625D-0D06-4BC3-9FEA-67CA862B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2B2-D122-440C-9F5E-EAB8BC3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693-367F-4F77-A0C5-85D9FF5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78A-0BE6-4969-80E2-624AE05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FE84-4FA8-491D-8992-AC019B00BEE7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106A-2F83-4A71-8E5D-B26B091E307C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1E8-3896-49C0-B29F-E8D378480D5C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23B2-AFD3-4B82-8829-EF76EC932B0E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FCDC-5E10-411D-A4F1-3428424A192B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mhmao.ru/economic/foto/elek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an.interfax.ru/GetImage.ashx?t=0&amp;sg=SMI2010&amp;id=elecru_20100817_483B4406_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mtf.msiu.ru/kaf37/images/GES/gifebub6mw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bigpicture.ru/wp-content/uploads/2009/09/s32_20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bigpicture.ru/wp-content/uploads/2009/09/s05_2005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raspoisk.ru/img/gallery/055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168/49168389_Bratskaya_GYES__l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gpicture.ru/wp-content/uploads/2009/09/s03_2005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18/3094518/f_1726227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blogger.com/i/articles/siemens-zytes-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isurgut.ru/Images/Works/11.2006/158_583911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ge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nsar.ru/uploads/imagesb/2010/02/3ebd1fad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324000" y="692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608c8"/>
                </a:solidFill>
                <a:latin typeface="Times New Roman"/>
              </a:rPr>
              <a:t>Электроэнергетика Росси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Картинка 5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785960"/>
            <a:ext cx="4378320" cy="3286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6286680" y="5429160"/>
            <a:ext cx="27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урока дл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класс. Выполнил учитель географии СОШ №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Сыктывкар Мамонтов Игорь Владимиро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2"/>
          <p:cNvSpPr/>
          <p:nvPr/>
        </p:nvSpPr>
        <p:spPr>
          <a:xfrm>
            <a:off x="642960" y="428760"/>
            <a:ext cx="5441760" cy="134460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857160" y="85716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Г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олния 4"/>
          <p:cNvSpPr/>
          <p:nvPr/>
        </p:nvSpPr>
        <p:spPr>
          <a:xfrm rot="1092600">
            <a:off x="4150800" y="525276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олния 5"/>
          <p:cNvSpPr/>
          <p:nvPr/>
        </p:nvSpPr>
        <p:spPr>
          <a:xfrm rot="1092600">
            <a:off x="4293720" y="489564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олния 6"/>
          <p:cNvSpPr/>
          <p:nvPr/>
        </p:nvSpPr>
        <p:spPr>
          <a:xfrm rot="1092600">
            <a:off x="4936680" y="482400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олния 7"/>
          <p:cNvSpPr/>
          <p:nvPr/>
        </p:nvSpPr>
        <p:spPr>
          <a:xfrm rot="1092600">
            <a:off x="5008320" y="4538160"/>
            <a:ext cx="336600" cy="56700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3214800" y="5643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Саяно-Шуше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29080" y="5572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Краснояр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5286240" y="52149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Бра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5357880" y="485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Усть-Или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pic>
        <p:nvPicPr>
          <p:cNvPr id="270" name="Picture 5" descr="Картинка 1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894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-324000" y="404640"/>
            <a:ext cx="56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яно-Шушенская  ГЭ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ария на Саяно-Шушенской ГЭС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73" name="Picture 5" descr="Картинка 7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3887640" cy="258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Картинка 30 из 116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3816360" cy="262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Картинка 35 из 11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4005360"/>
            <a:ext cx="3960720" cy="26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Картинка 3 из 3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380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асноярская ГЭС</a:t>
            </a:r>
            <a:endParaRPr b="0" lang="en-US" sz="40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Картинка 4 из 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86868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Братская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а) ГЭС очень дороги и долго строятся (15-20 лет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б) Требует создания крупных водохранилищ, вода из которых используется в промышленности, сельском хозяйстве, населением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в) Но водохранилища затапливают ценные земли, изменяют гидрологический режим и климат прилегающих территорий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г) Создание каскадов ГЭС снижают скорость течения воды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д) Способствуют большому загрязнению рек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ж) Нарушают естественные миграции рыб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82" name="Picture 6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49720"/>
            <a:ext cx="367164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томные электростанции (АЭС).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А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) Низкая  себестоимость  электро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) Экологически  чистое 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) Работают на ядерном топливе (Уран, плутон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Картинка 3 из 64000"/>
          <p:cNvPicPr/>
          <p:nvPr/>
        </p:nvPicPr>
        <p:blipFill>
          <a:blip r:embed="rId1"/>
          <a:stretch/>
        </p:blipFill>
        <p:spPr>
          <a:xfrm>
            <a:off x="2195640" y="3429000"/>
            <a:ext cx="46800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Картинка 1 из 1114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1692360" y="2858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Крупнейшие АЭ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Картинка 7 из 114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 flipV="1" rot="10735800">
            <a:off x="2844360" y="403560"/>
            <a:ext cx="38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урская АЭ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Картинка 2 из 157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лен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909144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Электроэнергетика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- отрасль, которая  производит  электроэнергию  на  электростанциях  и  передает  ее  на  расстояние  по  линиям  электропередач  (ЛЭП).</a:t>
            </a:r>
            <a:endParaRPr b="0" lang="en-US" sz="28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1" name="Picture 5" descr="Картинка 14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276640"/>
            <a:ext cx="507708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Картинка 3 из 4439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а) Работают  на  невозобновимых  ресурсах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б) Возникновение  экологической  катастрофы  в  случае  авари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в) Проблема  утилизации  и  захоронения 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97" name="Picture 6" descr="Картинка 24 из 4439"/>
          <p:cNvPicPr/>
          <p:nvPr/>
        </p:nvPicPr>
        <p:blipFill>
          <a:blip r:embed="rId1"/>
          <a:stretch/>
        </p:blipFill>
        <p:spPr>
          <a:xfrm>
            <a:off x="1979640" y="306864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15920"/>
            <a:ext cx="8004240" cy="160344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3"/>
          <p:cNvCxnSpPr/>
          <p:nvPr/>
        </p:nvCxnSpPr>
        <p:spPr>
          <a:xfrm flipH="1">
            <a:off x="1283400" y="1285920"/>
            <a:ext cx="252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0" name="TextBox 5"/>
          <p:cNvSpPr/>
          <p:nvPr/>
        </p:nvSpPr>
        <p:spPr>
          <a:xfrm>
            <a:off x="785880" y="25002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2571840" cy="186840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6"/>
          <p:cNvCxnSpPr/>
          <p:nvPr/>
        </p:nvCxnSpPr>
        <p:spPr>
          <a:xfrm flipH="1">
            <a:off x="3214440" y="1285920"/>
            <a:ext cx="2160" cy="3215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3" name="Прямая со стрелкой 7"/>
          <p:cNvCxnSpPr/>
          <p:nvPr/>
        </p:nvCxnSpPr>
        <p:spPr>
          <a:xfrm flipH="1">
            <a:off x="4571640" y="135720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4" name="Прямая со стрелкой 8"/>
          <p:cNvCxnSpPr/>
          <p:nvPr/>
        </p:nvCxnSpPr>
        <p:spPr>
          <a:xfrm flipH="1">
            <a:off x="5857560" y="1285560"/>
            <a:ext cx="2160" cy="314388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 flipH="1">
            <a:off x="7786440" y="121428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6" name="TextBox 10"/>
          <p:cNvSpPr/>
          <p:nvPr/>
        </p:nvSpPr>
        <p:spPr>
          <a:xfrm>
            <a:off x="4000680" y="2428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3714840" y="2357280"/>
            <a:ext cx="1706400" cy="1565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2"/>
          <p:cNvSpPr/>
          <p:nvPr/>
        </p:nvSpPr>
        <p:spPr>
          <a:xfrm>
            <a:off x="7215120" y="22860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ли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4"/>
          <a:stretch/>
        </p:blipFill>
        <p:spPr>
          <a:xfrm>
            <a:off x="6357960" y="2214720"/>
            <a:ext cx="2554200" cy="1857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6"/>
          <p:cNvSpPr/>
          <p:nvPr/>
        </p:nvSpPr>
        <p:spPr>
          <a:xfrm>
            <a:off x="2214720" y="464328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нутреннее  тепло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071800" y="4643280"/>
            <a:ext cx="2428920" cy="1785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8"/>
          <p:cNvSpPr/>
          <p:nvPr/>
        </p:nvSpPr>
        <p:spPr>
          <a:xfrm>
            <a:off x="5000760" y="4786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ровые  вол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6"/>
          <a:stretch/>
        </p:blipFill>
        <p:spPr>
          <a:xfrm>
            <a:off x="4714920" y="4643280"/>
            <a:ext cx="24368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3214800" y="857160"/>
            <a:ext cx="568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древнейших времен человек использовал силу ветра: сначала в судоходстве, а затем для замены своей мускульной силы. Первые простейшие ветродвигатели применяли в глубокой древности в Китае и в Египте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922840" cy="42148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4" descr=""/>
          <p:cNvPicPr/>
          <p:nvPr/>
        </p:nvPicPr>
        <p:blipFill>
          <a:blip r:embed="rId2"/>
          <a:stretch/>
        </p:blipFill>
        <p:spPr>
          <a:xfrm>
            <a:off x="3560760" y="115920"/>
            <a:ext cx="5443560" cy="111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3"/>
          <a:stretch/>
        </p:blipFill>
        <p:spPr>
          <a:xfrm>
            <a:off x="3429000" y="3214800"/>
            <a:ext cx="5405400" cy="3357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6"/>
          <p:cNvSpPr/>
          <p:nvPr/>
        </p:nvSpPr>
        <p:spPr>
          <a:xfrm>
            <a:off x="500040" y="5929200"/>
            <a:ext cx="28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ые  ветровые  устан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7000920" y="2786040"/>
            <a:ext cx="1895400" cy="2857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8"/>
          <p:cNvSpPr/>
          <p:nvPr/>
        </p:nvSpPr>
        <p:spPr>
          <a:xfrm>
            <a:off x="2142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тряная  ме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6191280" cy="4390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7" descr=""/>
          <p:cNvPicPr/>
          <p:nvPr/>
        </p:nvPicPr>
        <p:blipFill>
          <a:blip r:embed="rId3"/>
          <a:stretch/>
        </p:blipFill>
        <p:spPr>
          <a:xfrm>
            <a:off x="3548160" y="115920"/>
            <a:ext cx="5413320" cy="1116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8"/>
          <p:cNvSpPr/>
          <p:nvPr/>
        </p:nvSpPr>
        <p:spPr>
          <a:xfrm>
            <a:off x="6461640" y="11430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логубская  ПЭ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500120" y="578628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а  работы  приливной электроста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ольник 1" descr=""/>
          <p:cNvPicPr/>
          <p:nvPr/>
        </p:nvPicPr>
        <p:blipFill>
          <a:blip r:embed="rId1"/>
          <a:stretch/>
        </p:blipFill>
        <p:spPr>
          <a:xfrm>
            <a:off x="3193920" y="115920"/>
            <a:ext cx="5742000" cy="111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3357720" y="92880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 Cyr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лиоустановка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окусирует свет и тепло при помощи линз или зеркал, причем зеркала меняют свое положение в зависимости от расположения.</a:t>
            </a: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3857760" y="2571840"/>
            <a:ext cx="4929120" cy="32558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9"/>
          <p:cNvSpPr/>
          <p:nvPr/>
        </p:nvSpPr>
        <p:spPr>
          <a:xfrm>
            <a:off x="3828600" y="600084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нечная электростанция в Герм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3214440" cy="24238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357120" y="6000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ечные  батаре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4069800" y="507204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тнов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115920"/>
            <a:ext cx="6851880" cy="1116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214200" y="1071720"/>
            <a:ext cx="3857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еотермальная энерги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т.е. теплота недр Земли, уже используется в ряде стран, например в Исландии, России, Италии и Новой Зеландии</a:t>
            </a: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3786480" cy="2840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9"/>
          <p:cNvSpPr/>
          <p:nvPr/>
        </p:nvSpPr>
        <p:spPr>
          <a:xfrm>
            <a:off x="212040" y="614376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ужет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8816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608c8"/>
                </a:solidFill>
                <a:latin typeface="Times New Roman"/>
              </a:rPr>
              <a:t>Энергосистем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– группа электростанций разных типов, объединенных линиями электропередачи (ЛЭП) и управляемых из одного центра.</a:t>
            </a:r>
            <a:endParaRPr b="0" lang="en-US" sz="25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0" name="Picture 5" descr="Картинка 3 из 37500"/>
          <p:cNvPicPr/>
          <p:nvPr/>
        </p:nvPicPr>
        <p:blipFill>
          <a:blip r:embed="rId1"/>
          <a:stretch/>
        </p:blipFill>
        <p:spPr>
          <a:xfrm>
            <a:off x="1116000" y="2492280"/>
            <a:ext cx="6354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В России – 73 крупные энергосистемы, которые, в свою очередь слагают районные энергосистемы: Центральную, Уральскую, Сибирскую и др. Большая часть районных энергосистем входит в состав </a:t>
            </a:r>
            <a:r>
              <a:rPr b="1" i="1" lang="ru-RU" sz="2200" spc="-1" strike="noStrike">
                <a:solidFill>
                  <a:srgbClr val="ff3300"/>
                </a:solidFill>
                <a:latin typeface="Times New Roman"/>
              </a:rPr>
              <a:t>Единой энергосистемы России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(ЕЭС).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ЕЭ</a:t>
            </a:r>
            <a:r>
              <a:rPr b="1" lang="en-US" sz="2200" spc="-1" strike="noStrike">
                <a:solidFill>
                  <a:srgbClr val="1608c8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России работает в параллельном режиме с энергосистемами Украины, Прибалтики, Белоруссии и мн. др. странами.</a:t>
            </a:r>
            <a:endParaRPr b="0" lang="en-US" sz="2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2" name="Picture 5" descr="Картинка 54 из 37500"/>
          <p:cNvPicPr/>
          <p:nvPr/>
        </p:nvPicPr>
        <p:blipFill>
          <a:blip r:embed="rId1"/>
          <a:stretch/>
        </p:blipFill>
        <p:spPr>
          <a:xfrm>
            <a:off x="2124000" y="2637000"/>
            <a:ext cx="50770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энергетика является важным источником энергии, без которой жизнь современного общества невозможна.</a:t>
            </a:r>
            <a:r>
              <a:rPr b="0" lang="ru-RU" sz="3200" spc="-1" strike="noStrike">
                <a:solidFill>
                  <a:srgbClr val="5a6378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электростанций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1) Тепловые электростанции. (Т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2) Гидроэлектростанции. (Г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3) Атомные электростанции.(А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4)Альтернативные электростанции.(приливные, ветровые, солнечные, геотермальные)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 flipH="1">
            <a:off x="5223600" y="350028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ля  различных  типов  электростанций  в  производстве 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414972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пловые электростанции. (ТЭС)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еимущества ТЭС :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гут работать на разных видах топлива(нефть, газ, уголь, торф, мазут)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жно строить в различных районах стран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Стоимость и время строительства невелик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Обладают большой мощностью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8" name="Picture 7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789360"/>
            <a:ext cx="417528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30" name="Овал 2"/>
          <p:cNvSpPr/>
          <p:nvPr/>
        </p:nvSpPr>
        <p:spPr>
          <a:xfrm>
            <a:off x="642960" y="428760"/>
            <a:ext cx="5715000" cy="107136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195640" y="7142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Т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олния 4"/>
          <p:cNvSpPr/>
          <p:nvPr/>
        </p:nvSpPr>
        <p:spPr>
          <a:xfrm rot="1092600">
            <a:off x="1474560" y="2609640"/>
            <a:ext cx="33624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олния 7"/>
          <p:cNvSpPr/>
          <p:nvPr/>
        </p:nvSpPr>
        <p:spPr>
          <a:xfrm rot="1092600">
            <a:off x="2436480" y="375264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олния 8"/>
          <p:cNvSpPr/>
          <p:nvPr/>
        </p:nvSpPr>
        <p:spPr>
          <a:xfrm rot="1092600">
            <a:off x="3222360" y="360972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1714680" y="3000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остро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357200" y="42861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Рефти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429000" y="400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Сургу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58_5839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75920"/>
            <a:ext cx="86868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ургутская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а) Они используют невозобновимые энергетические ресурс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б) Дают много твердых и газообразных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в) Рост стоимости транспортировок топлива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г) Размещение ТЭС зависит от качества топлива, на котором они работают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357800" cy="304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обая разновидность тепловых электростанций – теплоэлектроцентрали (ТЭЦ).</a:t>
            </a:r>
            <a:r>
              <a:rPr b="0" lang="ru-RU" sz="29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4" name="Прямоугольник 21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2024280" cy="1120680"/>
          </a:xfrm>
          <a:prstGeom prst="rect">
            <a:avLst/>
          </a:prstGeom>
          <a:ln w="0">
            <a:noFill/>
          </a:ln>
        </p:spPr>
      </p:pic>
      <p:sp>
        <p:nvSpPr>
          <p:cNvPr id="245" name="Облако 25"/>
          <p:cNvSpPr/>
          <p:nvPr/>
        </p:nvSpPr>
        <p:spPr>
          <a:xfrm>
            <a:off x="971640" y="1989000"/>
            <a:ext cx="1714320" cy="785880"/>
          </a:xfrm>
          <a:prstGeom prst="pie">
            <a:avLst/>
          </a:prstGeom>
          <a:solidFill>
            <a:srgbClr val="ffffff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олния 33"/>
          <p:cNvSpPr/>
          <p:nvPr/>
        </p:nvSpPr>
        <p:spPr>
          <a:xfrm rot="1092600">
            <a:off x="1547280" y="2276640"/>
            <a:ext cx="447840" cy="68076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7"/>
          <p:cNvSpPr/>
          <p:nvPr/>
        </p:nvSpPr>
        <p:spPr>
          <a:xfrm>
            <a:off x="1546920" y="278136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 flipH="1">
            <a:off x="1907640" y="2852640"/>
            <a:ext cx="13356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9"/>
          <p:cNvSpPr/>
          <p:nvPr/>
        </p:nvSpPr>
        <p:spPr>
          <a:xfrm>
            <a:off x="1331280" y="285264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30"/>
          <p:cNvSpPr/>
          <p:nvPr/>
        </p:nvSpPr>
        <p:spPr>
          <a:xfrm flipH="1">
            <a:off x="2339640" y="2708280"/>
            <a:ext cx="142920" cy="45720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38120" cy="32382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3"/>
          <p:cNvSpPr/>
          <p:nvPr/>
        </p:nvSpPr>
        <p:spPr>
          <a:xfrm>
            <a:off x="3203640" y="1626120"/>
            <a:ext cx="56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На них помимо электроэнергии, вырабатывается тепло (горячая вода и пар). Они строятся непосредственно в крупных городах, поскольку передача тепла возможна только на расстояние в 20-30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дроэлектростанции. ГЭС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Г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.Использование возобновимого вида энергоресур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.Производят самую дешевую электроэнерг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.Снижает выбросы в атмосферу</a:t>
            </a:r>
            <a:r>
              <a:rPr b="0" lang="ru-RU" sz="18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429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1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3429000"/>
            <a:ext cx="37450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9:44:15Z</dcterms:created>
  <dc:creator>Ipatov</dc:creator>
  <dc:description/>
  <dc:language>en-US</dc:language>
  <cp:lastModifiedBy>User</cp:lastModifiedBy>
  <dcterms:modified xsi:type="dcterms:W3CDTF">2014-04-25T07:17:20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e0000000000010250300207f7000400038000</vt:lpwstr>
  </property>
</Properties>
</file>