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91A-1A05-4D69-920D-4A270845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260-F058-470E-BE78-5373F622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259-76BA-4DDD-8C3B-8611F5FC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F0C-527F-4E6B-8764-6DEA9F3A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5BF1-8EA1-413C-84DA-897D3E1A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403F-5164-4C4D-B74F-F3BA0D51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2E5F-5909-4E64-BDD9-15B9CC2A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DEA9-A767-4EED-B417-0458F0E7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8786-E8F3-422D-8333-9E3FBA63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E5F7-B589-4020-9D16-85AB588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8A10-70F9-45D0-89CB-D2E6F32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306-7232-48A2-9E16-E2AABEBB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8A23-EE87-48A4-9B56-0BBEC27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B2B-19BA-4A82-BD59-58970C68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C725-30DF-4481-B471-861D779E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CFC6-1360-401E-8347-7F73F532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B239-5E9F-473F-B684-5E108434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E67-3ACA-4399-B473-08B14372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5D9-7AD1-4398-826A-D1C382A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D69-F7F8-4B71-BF10-A5BFEC62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BC7-4E1A-411B-A276-26EA84FD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F28-5A45-48FF-9D43-D09FB2BD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426-6AA0-44FF-853E-2DFAA8A6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DF1-16EB-47B9-83CF-34EE497E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391F-D7F8-4798-BFCF-EE8847A63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27E7-040D-4467-9402-DC7E4CAFC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a060a"/>
                </a:solidFill>
                <a:latin typeface="Tahoma"/>
              </a:rPr>
              <a:t>«Государство существует не для того, чтобы превращать земную жизнь в рай, а для того, чтобы помешать ей окончательно превратиться в ад»</a:t>
            </a:r>
            <a:br>
              <a:rPr sz="3200"/>
            </a:b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Н.А. Бердяев, русский философ </a:t>
            </a:r>
            <a:br>
              <a:rPr sz="3200"/>
            </a:b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(1874-1948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2986200"/>
            <a:ext cx="59770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чины провала рын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54007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ункции государ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условий для стабильного экономического ро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изводство общественных бла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распределение дох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аничение отрицательных и стимулирование положительных внешних эффе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я денежного 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конодательное регул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55640" y="126828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кономика государств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коном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коном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ел экономики,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ий закономер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оса и предложения инд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уальных эконом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ов на рын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556000" y="148428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484280"/>
            <a:ext cx="1225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35640" y="2781360"/>
            <a:ext cx="3240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коном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коном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ел экономики,                        поведение всех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ий закономерности          эконом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оса и предложения инди-         агентов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уальных экономических           рынке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ов на рын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148428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1484280"/>
            <a:ext cx="1225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ешний эффект, ЭКСТЕРНАЛИЯ – воздействие экономической операции на экономических агентов, которые в ней участву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ЛАГО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Часть ресурсов, используемых в процессе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Имеющиеся в распоряжении человечества удовлетворения потреб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Ощущение недостаточности чего-либо необходимого, желаемого или полез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сурс, имеющий экономическую полезность и удовлетворяющий определенную потреб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лаг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бодные             Эконом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ное                       Обществен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курентность          Неконкурент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лючаемость           Неисключае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7640" y="836640"/>
            <a:ext cx="2232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765000"/>
            <a:ext cx="2087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92360" y="2133720"/>
            <a:ext cx="345600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2205000"/>
            <a:ext cx="1079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Фиаско рынка»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туация, при которой распределение ресурсов с помощью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7:14:08Z</dcterms:created>
  <dc:creator>www.PHILka.RU</dc:creator>
  <dc:description/>
  <dc:language>en-US</dc:language>
  <cp:lastModifiedBy>www.PHILka.RU</cp:lastModifiedBy>
  <dcterms:modified xsi:type="dcterms:W3CDTF">2011-03-29T19:59:55Z</dcterms:modified>
  <cp:revision>2</cp:revision>
  <dc:subject/>
  <dc:title>«Государство существует не для того, чтобы превращать земную жизнь в рай, а для того, чтобы помешать ей окончательно превратиться в ад» Н.А. Бердяев, русский философ  (1874-1948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20000000000010250300207f7000400038000</vt:lpwstr>
  </property>
</Properties>
</file>