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556-F6B9-4B34-8242-30074A29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86B-7146-4030-AC81-2E6BE9BF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AC1-E259-46AC-A48B-7F806C8C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470-6B7A-425D-8E05-B254D1AE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CE10-9300-4E1E-94AD-C8DDCFA5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230-E73E-42B8-B97F-698D46D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11F-9E7A-46E0-B5A3-AD7EA097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6041-B857-434B-857B-D101B90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7A14-DF9E-4613-92BD-2120BE26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31DD-8738-45E9-8F5F-D17852A7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8F6-81E8-4713-AE2B-C6AFFD9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292-E404-456B-AA61-FFCD48F1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CAB8-8A1A-438C-AB04-FDA361B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9B2F-A819-4250-9946-07D3C52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01AD-6AAF-4601-9C2F-7E072DE9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B50-6A27-4861-8032-017F5346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05C1-2826-4523-ACD1-6AB78B0E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472-AE5A-4386-B27A-89E385F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5EC-B7C8-45BE-AAA4-5E080BE1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8B1-57C3-43B4-AF09-E2F4048C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FBB-DD74-4BAD-AF5A-DB39D1B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C14-C8FD-401B-92B5-7FE8A0F7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30B-59B5-4FD1-B69A-D7F77557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3F8-8DC2-487A-997A-D4B1BF9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1A66-2942-4AF3-AF54-95BFDD6BD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E0A-BF43-4C74-BC72-6302F3715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a060a"/>
                </a:solidFill>
                <a:latin typeface="Tahoma"/>
              </a:rPr>
              <a:t>«Государство существует не для того, чтобы превращать земную жизнь в рай, а для того, чтобы помешать ей окончательно превратиться в ад»</a:t>
            </a:r>
            <a:br>
              <a:rPr sz="3200"/>
            </a:b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Н.А. Бердяев, русский философ </a:t>
            </a:r>
            <a:br>
              <a:rPr sz="3200"/>
            </a:b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(1874-1948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986200"/>
            <a:ext cx="59770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ины провала рын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4007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ункции государ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условий для стабильного экономического ро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изводство общественных бл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распределение дох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аничение отрицательных и стимулирование положительных внешних эффе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денежного 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конодательное регул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55640" y="126828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кономика государств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 экономики,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ий закономер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оса и предложения инд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уальных эконом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ов на ры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556000" y="1484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484280"/>
            <a:ext cx="1225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35640" y="2781360"/>
            <a:ext cx="3240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коном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ел экономики,                        поведение всех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ий закономерности          эконом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оса и предложения инди-         агентов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уальных экономических           рынке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ов на рын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х 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56000" y="148428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1484280"/>
            <a:ext cx="1225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ешний эффект, ЭКСТЕРНАЛИЯ – воздействие экономической операции на экономических агентов, которые в ней участву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ЛАГ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Часть ресурсов, используемых в процессе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Имеющиеся в распоряжении человечества удовлетворения потреб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Ощущение недостаточности чего-либо необходимого, желаемого или полез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сурс, имеющий экономическую полезность и удовлетворяющий определенную потреб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лаг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бодные             Эконом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ное                       Обществ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курентность          Неконкурент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лючаемость           Неисключаем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7640" y="836640"/>
            <a:ext cx="2232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765000"/>
            <a:ext cx="2087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92360" y="2133720"/>
            <a:ext cx="345600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2205000"/>
            <a:ext cx="107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Фиаско рынка»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туация, при которой распределение ресурсов с помощью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7:14:08Z</dcterms:created>
  <dc:creator>www.PHILka.RU</dc:creator>
  <dc:description/>
  <dc:language>en-US</dc:language>
  <cp:lastModifiedBy>www.PHILka.RU</cp:lastModifiedBy>
  <dcterms:modified xsi:type="dcterms:W3CDTF">2011-03-29T19:59:55Z</dcterms:modified>
  <cp:revision>2</cp:revision>
  <dc:subject/>
  <dc:title>«Государство существует не для того, чтобы превращать земную жизнь в рай, а для того, чтобы помешать ей окончательно превратиться в ад» Н.А. Бердяев, русский философ  (1874-1948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20000000000010250300207f7000400038000</vt:lpwstr>
  </property>
</Properties>
</file>