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5AD-3F82-432C-9FA4-A4342839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641-A3FA-4127-9559-DE820C3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047-EE98-4BD6-8C93-019551B3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09A-2AEB-47DB-B63E-5183A8AC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F13-C83D-47CB-A894-43D4D6ED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8E8-AF04-41D7-8D75-F53E16C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1A4A-C3D2-40B5-A912-945BF84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A28-0948-4C1A-9CEC-5631C63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2D7-1208-4CDD-A0ED-D6B1BA2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6CD0-0074-4181-BDE2-BF69BAA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2EA-E272-4728-A21C-27C8EA1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165-0EE1-48EC-A996-B79B9CD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F21-97FF-480B-97D2-77E7A11F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018-AD50-41A8-AF79-47AB3BE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7A66-F2D9-4BB5-A60B-672FD64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AF7-010A-4C76-B494-518E84AB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01DA-26CB-4D7C-9A9C-93C2C1C5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A08-5097-42D3-AA54-3FA6EC6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65C-DEAB-4A3C-A932-193E61CF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765-E909-47A8-9EB8-686B83E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634-D1C7-4990-90E7-F64EBBF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993-64A9-4501-AD01-CEEB4E1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054-3F27-4DF2-9DC7-3BF8341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7E6-9757-4503-BD05-FFDCD7AC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328-B856-408D-B9D6-BC9812D18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BBA-1B10-4E59-AAB0-7756A3500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a060a"/>
                </a:solidFill>
                <a:latin typeface="Tahoma"/>
              </a:rPr>
              <a:t>«Государство существует не для того, чтобы превращать земную жизнь в рай, а для того, чтобы помешать ей окончательно превратиться в ад»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Н.А. Бердяев, русский философ 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(1874-1948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986200"/>
            <a:ext cx="59770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ины провала рын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4007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ункции государ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условий для стабильного экономического ро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изводство общественных бл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распределение дох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аничение отрицательных и стимулирование положительных внешних эффе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денежного 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одательное регул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55640" y="126828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кономика государств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640" y="2781360"/>
            <a:ext cx="324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поведение всех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         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         агентов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           рынке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ешний эффект, ЭКСТЕРНАЛИЯ – воздействие экономической операции на экономических агентов, которые в ней участву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ЛАГ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Часть ресурсов, используемых в процессе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Имеющиеся в распоряжении человечества удовлетворения потреб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Ощущение недостаточности чего-либо необходимого, желаемого или полез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сурс, имеющий экономическую полезность и удовлетворяющий определенную потреб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ла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бодные             Эконом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ое                       Обществ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курентность          Неконкурент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лючаемость           Неисключае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7640" y="836640"/>
            <a:ext cx="223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765000"/>
            <a:ext cx="208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92360" y="2133720"/>
            <a:ext cx="345600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2205000"/>
            <a:ext cx="107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Фиаско рынка»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туация, при которой распределение ресурсов с помощью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4:08Z</dcterms:created>
  <dc:creator>www.PHILka.RU</dc:creator>
  <dc:description/>
  <dc:language>en-US</dc:language>
  <cp:lastModifiedBy>www.PHILka.RU</cp:lastModifiedBy>
  <dcterms:modified xsi:type="dcterms:W3CDTF">2011-03-29T19:59:55Z</dcterms:modified>
  <cp:revision>2</cp:revision>
  <dc:subject/>
  <dc:title>«Государство существует не для того, чтобы превращать земную жизнь в рай, а для того, чтобы помешать ей окончательно превратиться в ад» Н.А. Бердяев, русский философ  (1874-1948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20000000000010250300207f7000400038000</vt:lpwstr>
  </property>
</Properties>
</file>