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1D1-9C40-4843-A0E2-6FE2B9EC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828-78A4-41C5-95D4-3D1DF294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BDC-82CF-4DDA-AA6D-060484CF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F86-055F-47B4-B8B3-251BC58E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76D-8ED6-498A-8D1E-39D7E07E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7A4-C65B-4C3C-AC22-53A3752C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4AA-3750-41E4-B775-05A280E5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A73-F32B-4363-A82C-77671EB5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9ED-6C8F-4034-AAC7-9B5EE607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33E-CAAE-4FFE-82FF-35210645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5E3-957D-4B0D-BCE8-8C3CA25B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187-D218-4645-9E84-A71445B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2962-61F2-498B-98E1-01692DD0B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я земной к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380988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318200" cy="32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ла землетрясени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12 – балльной шка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ощущ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слаб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б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р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вольно с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с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уш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устош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ничтожа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аст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ьная катаст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ычуань ( Кита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427880" cy="522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60836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393696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856560" y="712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йсмические пояса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хоокеанский сейсмический поя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гненное кольц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ьпийско – Гималай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редиземноморско- Азиатский) сейсмический поя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15160" cy="643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уменьшить количество жерт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жно уметь предсказывать землетряс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м занимаю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йсмолог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йсмологических стан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ейсмогра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прибор, который фиксирует колебания земной к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ноз бывае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лгосрочный, краткосрочный и оператив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ы правильной формы, имеющие на вершине отверстие (кратер) из которого временами вырываются на поверхность горячие газы и изливается маг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68360" y="3645000"/>
            <a:ext cx="476280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образуются вулка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азы, растворенные в магме, вытесняют ее на поверхность через более тонкие места в земной 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 континентальной или океаническ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уше         материковая            в зо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мная кора          разл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не            тонкая                   л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еанов          океаническая       прожи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а                      з. кору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413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484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78936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24000" y="260280"/>
            <a:ext cx="8361720" cy="4391280"/>
            <a:chOff x="324000" y="260280"/>
            <a:chExt cx="8361720" cy="4391280"/>
          </a:xfrm>
        </p:grpSpPr>
        <p:cxnSp>
          <p:nvCxnSpPr>
            <p:cNvPr id="43" name="_s3084"/>
            <p:cNvCxnSpPr>
              <a:stCxn id="44" idx="0"/>
              <a:endCxn id="45" idx="2"/>
            </p:cNvCxnSpPr>
            <p:nvPr/>
          </p:nvCxnSpPr>
          <p:spPr>
            <a:xfrm flipV="1" rot="16200000">
              <a:off x="5190480" y="1329120"/>
              <a:ext cx="878760" cy="2252520"/>
            </a:xfrm>
            <a:prstGeom prst="bentConnector3">
              <a:avLst>
                <a:gd name="adj1" fmla="val 125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3082"/>
            <p:cNvCxnSpPr>
              <a:stCxn id="47" idx="0"/>
              <a:endCxn id="45" idx="2"/>
            </p:cNvCxnSpPr>
            <p:nvPr/>
          </p:nvCxnSpPr>
          <p:spPr>
            <a:xfrm flipH="1" flipV="1" rot="5400000">
              <a:off x="2939760" y="1329840"/>
              <a:ext cx="878760" cy="2251080"/>
            </a:xfrm>
            <a:prstGeom prst="bentConnector3">
              <a:avLst>
                <a:gd name="adj1" fmla="val 125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3078"/>
            <p:cNvSpPr/>
            <p:nvPr/>
          </p:nvSpPr>
          <p:spPr>
            <a:xfrm>
              <a:off x="2574720" y="260280"/>
              <a:ext cx="3859200" cy="1756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земной кор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079"/>
            <p:cNvSpPr/>
            <p:nvPr/>
          </p:nvSpPr>
          <p:spPr>
            <a:xfrm>
              <a:off x="324000" y="2895120"/>
              <a:ext cx="3859200" cy="1756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горизонталь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081"/>
            <p:cNvSpPr/>
            <p:nvPr/>
          </p:nvSpPr>
          <p:spPr>
            <a:xfrm>
              <a:off x="4826520" y="2895120"/>
              <a:ext cx="3859200" cy="1756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вертикаль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042920" y="4941720"/>
            <a:ext cx="2160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042560" y="5516640"/>
            <a:ext cx="20890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4869000"/>
            <a:ext cx="0" cy="1152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948360" y="4868640"/>
            <a:ext cx="0" cy="1152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ючевская Сопка на Камча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2655720"/>
            <a:ext cx="5033880" cy="377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0956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цесс превращения вещест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тия                 Магма                   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емпература 1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и более, скорость около 50 км/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улканически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п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вулканическ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аз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вулканическ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мбы и глыб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1916280"/>
            <a:ext cx="136836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1916280"/>
            <a:ext cx="2016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ующ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16872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5194440" cy="32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лауэа, Гавайские ост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65520" cy="34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1640" y="3476520"/>
            <a:ext cx="476568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ухш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4464000" cy="41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5148360" y="47973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тер Везу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илиманджар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638520" cy="323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3436920"/>
            <a:ext cx="4752720" cy="316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ьб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1324080"/>
            <a:ext cx="8136000" cy="551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78800" cy="64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дзия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403280"/>
            <a:ext cx="6985080" cy="52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зу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364000" cy="390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3162240"/>
            <a:ext cx="3600720" cy="33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чему приводят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ризонтальн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ви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242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ладки (г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357720"/>
            <a:ext cx="23749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92720" y="3429000"/>
            <a:ext cx="2448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4653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тоническ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5516640"/>
            <a:ext cx="2448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18920" y="5516640"/>
            <a:ext cx="25210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нтурную карту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нести материки,  океаны и вулк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зувий, Ключевская Сопка, Килиманджаро, Эт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пределите их географические координ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428760"/>
            <a:ext cx="7632720" cy="59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чему приводят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ертикальны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060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вышенности и плоского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627280" y="2565000"/>
            <a:ext cx="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067280" y="263700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64000" y="2565000"/>
            <a:ext cx="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4508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з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5084640"/>
            <a:ext cx="0" cy="1224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5084640"/>
            <a:ext cx="0" cy="1152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5157720"/>
            <a:ext cx="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дленные или вековые колебани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вертикальные движения земной поверхности до нескольких сантиметров в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когда совпадают горизонтальные и вертикальные дви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разуются горсты и граб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деформация земной коры из-за возникающего давления внутри литосф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ча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гипоцентр) – место в литосфере, где происходит смещение, разрыв или колебания горных п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Эпицент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место на земной поверхности над очагом (на него приходятся самые большие разруш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землетряс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пень проявления землетрясения на земной поверхности, оценивается в бал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большинстве стран принят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балльная шкала, в Япон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бал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5:42:25Z</dcterms:created>
  <dc:creator>admin</dc:creator>
  <dc:description/>
  <dc:language>en-US</dc:language>
  <cp:lastModifiedBy>admin</cp:lastModifiedBy>
  <dcterms:modified xsi:type="dcterms:W3CDTF">2009-12-17T19:42:34Z</dcterms:modified>
  <cp:revision>11</cp:revision>
  <dc:subject/>
  <dc:title>Движения земной коры</dc:title>
</cp:coreProperties>
</file>