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D55-8441-4BC9-ABF8-FE6288A4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918-5D91-4BC7-A4FC-CF163EEE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2BD-4D38-4C2C-A4AF-B395A94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A5D-847D-4608-AF66-DA1E6D05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DB8-7F77-4788-BC72-4822854F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4C9-BF79-4122-A0EE-363A45D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2F9-2693-438E-9BF1-20130905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58E-44F3-4132-94ED-37457461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E81-4A80-4675-B725-C85DBD7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D18-B5FD-47BD-9FD7-DC04EEF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FAE-40BE-4727-8CF4-D9ED27CF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06D-EBB6-4274-85F5-D975A3ED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509E-558A-4D9B-847F-314FCB81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я земной к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80988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3182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ла землетрясен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 12 – балльной шка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щу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р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о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с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у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устош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ничтожа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ычуань ( Кита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27880" cy="522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6083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93696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56560" y="712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йсмические пояса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хоокеанский сейсмический поя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гненное кольц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пийско – Гималай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редиземноморско- Азиатский) сейсмический по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15160" cy="643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уменьшить количество жер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жно уметь предсказывать землетряс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м занимаю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йсмологических станц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йсмогра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рибор, который фиксирует колебания земной к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з бывае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срочный, краткосрочный и операт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ы правильной формы, имеющие на вершине отверстие (кратер) из которого временами вырываются на поверхность горячие газы и изливается маг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4762800" cy="29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бразуются вулка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азы, растворенные в магме, вытесняют ее на поверхность через более тонкие места в земной 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 континентальной или океаничес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уше         материковая            в з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мная кора          разл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не            тонкая                   л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еанов          океаническая       прожи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а                      з. кору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1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484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78936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24000" y="260280"/>
            <a:ext cx="8361720" cy="4391280"/>
            <a:chOff x="324000" y="260280"/>
            <a:chExt cx="8361720" cy="4391280"/>
          </a:xfrm>
        </p:grpSpPr>
        <p:cxnSp>
          <p:nvCxnSpPr>
            <p:cNvPr id="43" name="_s308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190480" y="1329120"/>
              <a:ext cx="878760" cy="225252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3082"/>
            <p:cNvCxnSpPr>
              <a:stCxn id="47" idx="0"/>
              <a:endCxn id="45" idx="2"/>
            </p:cNvCxnSpPr>
            <p:nvPr/>
          </p:nvCxnSpPr>
          <p:spPr>
            <a:xfrm flipH="1" flipV="1" rot="5400000">
              <a:off x="2939760" y="1329840"/>
              <a:ext cx="878760" cy="2251080"/>
            </a:xfrm>
            <a:prstGeom prst="bentConnector3">
              <a:avLst>
                <a:gd name="adj1" fmla="val 125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3078"/>
            <p:cNvSpPr/>
            <p:nvPr/>
          </p:nvSpPr>
          <p:spPr>
            <a:xfrm>
              <a:off x="2574720" y="26028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земной кор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79"/>
            <p:cNvSpPr/>
            <p:nvPr/>
          </p:nvSpPr>
          <p:spPr>
            <a:xfrm>
              <a:off x="32400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оризонт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081"/>
            <p:cNvSpPr/>
            <p:nvPr/>
          </p:nvSpPr>
          <p:spPr>
            <a:xfrm>
              <a:off x="4826520" y="2895120"/>
              <a:ext cx="3859200" cy="1756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ертикаль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42920" y="4941720"/>
            <a:ext cx="2160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042560" y="5516640"/>
            <a:ext cx="2089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486900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948360" y="4868640"/>
            <a:ext cx="0" cy="115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ючевская Сопка на Камча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2655720"/>
            <a:ext cx="5033880" cy="37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цесс превращения веще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тия                 Магма                   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емпература 1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 более, скорость около 50 км/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улканическ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п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аз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вулканическ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мбы и глыб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1916280"/>
            <a:ext cx="136836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916280"/>
            <a:ext cx="2016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ующ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16872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194440" cy="32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ауэа, Гавайские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65520" cy="341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3476520"/>
            <a:ext cx="476568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ух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46400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148360" y="47973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тер Везу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лиманджар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638520" cy="32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3436920"/>
            <a:ext cx="4752720" cy="316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1324080"/>
            <a:ext cx="8136000" cy="551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78800" cy="64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дзия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403280"/>
            <a:ext cx="6985080" cy="52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зу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364000" cy="39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162240"/>
            <a:ext cx="3600720" cy="33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ризонталь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2421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ладки (г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357720"/>
            <a:ext cx="23749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92720" y="342900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4653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тоническ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5516640"/>
            <a:ext cx="244800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18920" y="5516640"/>
            <a:ext cx="25210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турную карту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нести материки,  океаны и вулк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езувий, Ключевская Сопка, Килиманджаро, Эт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пределите их географические координ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428760"/>
            <a:ext cx="7632720" cy="59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чему приводят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ертикальны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060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ышенности и плоског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67280" y="263700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64000" y="256500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4508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5084640"/>
            <a:ext cx="0" cy="1224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5084640"/>
            <a:ext cx="0" cy="1152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5157720"/>
            <a:ext cx="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дленные или вековые колебани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вертикальные движения земной поверхности до нескольких сантиметров в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когда совпадают горизонтальные и вертикальные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разуются горсты и граб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етряс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деформация земной коры из-за возникающего давления внутри литосф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ча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гипоцентр) – место в литосфере, где происходит смещение, разрыв или колебания горных п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Эпицент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место на земной поверхности над очагом (на него приходятся самые большие разруш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землетряс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пень проявления землетрясения на земной поверхности, оценивается в бал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большинстве стран приня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балльная шкала, в Япон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ал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42:25Z</dcterms:created>
  <dc:creator>admin</dc:creator>
  <dc:description/>
  <dc:language>en-US</dc:language>
  <cp:lastModifiedBy>admin</cp:lastModifiedBy>
  <dcterms:modified xsi:type="dcterms:W3CDTF">2009-12-17T19:42:34Z</dcterms:modified>
  <cp:revision>11</cp:revision>
  <dc:subject/>
  <dc:title>Движения земной коры</dc:title>
</cp:coreProperties>
</file>