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4DBC-29D5-4366-B615-B41D17BB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2CC7-4BE6-4EC2-9C03-FD26B986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9C73-0F69-40BB-9181-3C2BFE851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2E00-C261-4A05-B1DA-0E680C64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0799-EACF-4A57-81AD-0F5CE694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7BFA-A13B-436C-9341-357F45C3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F675-8A29-47DA-A0FA-F1A2B1D3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3AA4-9E49-4009-B251-7A7D4C77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CFE5-55A7-4E38-9407-5847298F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963E-6368-41B9-9635-06F7CE52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3170-D8F5-43DC-8DEF-30F1617E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4A96-46A3-464A-8172-B652B293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6170-19E5-4C83-AFC7-34C7F26A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EF52-A7F2-4F1F-B0DD-7270D265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FEB3-8CC5-425C-AA5E-060D60C8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9845-3ED6-45C7-BA08-CD55BA2E6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10CD-18E5-43B4-86ED-2C0679E1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21AD-11DD-4CA3-A887-B52E6BE9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57E8-4AB0-4B5F-AF8E-76719484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8FC4-D51B-4903-ADCB-D0275ED3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B6B9-2FA5-44BD-94BE-23B1319F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7D52-CFDF-4706-A1EA-159E7CC2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75A0-6D91-4FD9-8F98-58551E61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636E-23F7-44C6-9694-D11B1156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3049-66A1-449B-8401-FB298A4B4B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3A0A-BB14-4F55-BA9E-9DD5CDA99B56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51575"/>
                </a:solidFill>
                <a:latin typeface="Arial"/>
              </a:rPr>
              <a:t>Достопримечательности</a:t>
            </a:r>
            <a:br>
              <a:rPr sz="4800"/>
            </a:br>
            <a:r>
              <a:rPr b="1" lang="ru-RU" sz="4800" spc="-1" strike="noStrike">
                <a:solidFill>
                  <a:srgbClr val="851575"/>
                </a:solidFill>
                <a:latin typeface="Arial"/>
              </a:rPr>
              <a:t>  России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резентация к окружающему миру 2 класс по программе «Начальная школа ХХ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ека»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одготовила учитель МОУ « СОШ с.Липовка»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уховницкого района Саратовской област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Колоскова  Ольга Викторовн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имвол Росс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1" name="Picture 4" descr="1"/>
          <p:cNvPicPr/>
          <p:nvPr/>
        </p:nvPicPr>
        <p:blipFill>
          <a:blip r:embed="rId1"/>
          <a:stretch/>
        </p:blipFill>
        <p:spPr>
          <a:xfrm>
            <a:off x="1332000" y="1989000"/>
            <a:ext cx="69832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Царь-колокол и Царь - пушк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Picture 5" descr="pushka"/>
          <p:cNvPicPr/>
          <p:nvPr/>
        </p:nvPicPr>
        <p:blipFill>
          <a:blip r:embed="rId1"/>
          <a:stretch/>
        </p:blipFill>
        <p:spPr>
          <a:xfrm>
            <a:off x="4751280" y="1916280"/>
            <a:ext cx="4392720" cy="4941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Фото Питер 2008 031"/>
          <p:cNvPicPr/>
          <p:nvPr/>
        </p:nvPicPr>
        <p:blipFill>
          <a:blip r:embed="rId2"/>
          <a:stretch/>
        </p:blipFill>
        <p:spPr>
          <a:xfrm>
            <a:off x="0" y="1916280"/>
            <a:ext cx="45370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       </a:t>
            </a:r>
            <a:r>
              <a:rPr b="0" lang="ru-RU" sz="6000" spc="-1" strike="noStrike">
                <a:solidFill>
                  <a:srgbClr val="ffffcc"/>
                </a:solidFill>
                <a:latin typeface="Arial"/>
              </a:rPr>
              <a:t>Саратов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Picture 6" descr="getImage (1)"/>
          <p:cNvPicPr/>
          <p:nvPr/>
        </p:nvPicPr>
        <p:blipFill>
          <a:blip r:embed="rId1"/>
          <a:stretch/>
        </p:blipFill>
        <p:spPr>
          <a:xfrm>
            <a:off x="826920" y="1844640"/>
            <a:ext cx="801216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1" name="Picture 4" descr="290520103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    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онсерват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4" name="Picture 4" descr="DSCN3201"/>
          <p:cNvPicPr/>
          <p:nvPr/>
        </p:nvPicPr>
        <p:blipFill>
          <a:blip r:embed="rId1"/>
          <a:stretch/>
        </p:blipFill>
        <p:spPr>
          <a:xfrm>
            <a:off x="900000" y="1989000"/>
            <a:ext cx="79200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амятник « Журавли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7" name="Picture 4" descr="29052010334"/>
          <p:cNvPicPr/>
          <p:nvPr/>
        </p:nvPicPr>
        <p:blipFill>
          <a:blip r:embed="rId1"/>
          <a:stretch/>
        </p:blipFill>
        <p:spPr>
          <a:xfrm>
            <a:off x="826920" y="1916280"/>
            <a:ext cx="806616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уховницко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0" name="Picture 4" descr="DSCN2776"/>
          <p:cNvPicPr/>
          <p:nvPr/>
        </p:nvPicPr>
        <p:blipFill>
          <a:blip r:embed="rId1"/>
          <a:stretch/>
        </p:blipFill>
        <p:spPr>
          <a:xfrm>
            <a:off x="755640" y="1413000"/>
            <a:ext cx="74883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амятник  Баулину П.Ф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Picture 4" descr="Изображение 055"/>
          <p:cNvPicPr/>
          <p:nvPr/>
        </p:nvPicPr>
        <p:blipFill>
          <a:blip r:embed="rId1"/>
          <a:stretch/>
        </p:blipFill>
        <p:spPr>
          <a:xfrm>
            <a:off x="2195640" y="1700280"/>
            <a:ext cx="46814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260280"/>
            <a:ext cx="80074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4" descr="Изображение 059"/>
          <p:cNvPicPr/>
          <p:nvPr/>
        </p:nvPicPr>
        <p:blipFill>
          <a:blip r:embed="rId1"/>
          <a:stretch/>
        </p:blipFill>
        <p:spPr>
          <a:xfrm>
            <a:off x="2050920" y="260280"/>
            <a:ext cx="55454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9" name="Picture 4" descr="Изображение 058"/>
          <p:cNvPicPr/>
          <p:nvPr/>
        </p:nvPicPr>
        <p:blipFill>
          <a:blip r:embed="rId1"/>
          <a:stretch/>
        </p:blipFill>
        <p:spPr>
          <a:xfrm>
            <a:off x="826920" y="620640"/>
            <a:ext cx="7993080" cy="57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емерку лучших достопримечательностей страны огласили во время празднования Дня России на Красной площади. За победителей, которых определяли с осени прошлого года, успели проголосовать почти 26 миллионов человек. Одну из общепризнанных российских достопримечательностей собравшиеся на концерт в центре города могли лицезреть прямо на Красной площади. 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В итоге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победителями общероссийского голосования стали 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гора Эльбрус, озеро Байкал, Долина гейзеров, Столбы выветривания, Петергоф, Мамаев курган и статуя Родины-Матери и собор Василия Блаженного. </a:t>
            </a:r>
            <a:br>
              <a:rPr sz="2400"/>
            </a:br>
            <a:br>
              <a:rPr sz="24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Мой край – село Липовк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2" name="Picture 4" descr="Липовка 15-16072006 014"/>
          <p:cNvPicPr/>
          <p:nvPr/>
        </p:nvPicPr>
        <p:blipFill>
          <a:blip r:embed="rId1"/>
          <a:stretch/>
        </p:blipFill>
        <p:spPr>
          <a:xfrm>
            <a:off x="971640" y="1844640"/>
            <a:ext cx="69739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ша   школ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5" name="Picture 4" descr="Изображение 001"/>
          <p:cNvPicPr/>
          <p:nvPr/>
        </p:nvPicPr>
        <p:blipFill>
          <a:blip r:embed="rId1"/>
          <a:stretch/>
        </p:blipFill>
        <p:spPr>
          <a:xfrm>
            <a:off x="755640" y="1844640"/>
            <a:ext cx="81374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Церковь Покрова Божьей матер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8" name="Picture 4" descr="Изображение 073"/>
          <p:cNvPicPr/>
          <p:nvPr/>
        </p:nvPicPr>
        <p:blipFill>
          <a:blip r:embed="rId1"/>
          <a:stretch/>
        </p:blipFill>
        <p:spPr>
          <a:xfrm>
            <a:off x="755640" y="1916280"/>
            <a:ext cx="813744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1" name="Picture 4" descr="Изображение 074"/>
          <p:cNvPicPr/>
          <p:nvPr/>
        </p:nvPicPr>
        <p:blipFill>
          <a:blip r:embed="rId1"/>
          <a:stretch/>
        </p:blipFill>
        <p:spPr>
          <a:xfrm>
            <a:off x="826920" y="260280"/>
            <a:ext cx="799308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Монумент воинам Великой Отечественной войн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4" name="Picture 4" descr="Изображение 080"/>
          <p:cNvPicPr/>
          <p:nvPr/>
        </p:nvPicPr>
        <p:blipFill>
          <a:blip r:embed="rId1"/>
          <a:stretch/>
        </p:blipFill>
        <p:spPr>
          <a:xfrm>
            <a:off x="539640" y="1916280"/>
            <a:ext cx="835344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      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амятник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7" name="Picture 4" descr="Изображение 076"/>
          <p:cNvPicPr/>
          <p:nvPr/>
        </p:nvPicPr>
        <p:blipFill>
          <a:blip r:embed="rId1"/>
          <a:stretch/>
        </p:blipFill>
        <p:spPr>
          <a:xfrm>
            <a:off x="2771640" y="198108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ом  культур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9" name="Содержимое 3" descr="img033.jpg"/>
          <p:cNvPicPr/>
          <p:nvPr/>
        </p:nvPicPr>
        <p:blipFill>
          <a:blip r:embed="rId1"/>
          <a:stretch/>
        </p:blipFill>
        <p:spPr>
          <a:xfrm>
            <a:off x="900000" y="1844640"/>
            <a:ext cx="7848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Администрация и ФАП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1" name="Содержимое 3" descr="img045.jpg"/>
          <p:cNvPicPr/>
          <p:nvPr/>
        </p:nvPicPr>
        <p:blipFill>
          <a:blip r:embed="rId1"/>
          <a:stretch/>
        </p:blipFill>
        <p:spPr>
          <a:xfrm>
            <a:off x="900000" y="1844640"/>
            <a:ext cx="79930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На широком просторе</a:t>
            </a:r>
            <a:br>
              <a:rPr sz="3200"/>
            </a:b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Предрассветной порой</a:t>
            </a:r>
            <a:br>
              <a:rPr sz="3200"/>
            </a:b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Встали алые зори</a:t>
            </a:r>
            <a:br>
              <a:rPr sz="3200"/>
            </a:b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Над родимой страно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С каждым годом всё краше</a:t>
            </a:r>
            <a:br>
              <a:rPr sz="3200"/>
            </a:b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Дорогие края...</a:t>
            </a:r>
            <a:br>
              <a:rPr sz="3200"/>
            </a:b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Лучше Родины нашей</a:t>
            </a:r>
            <a:br>
              <a:rPr sz="3200"/>
            </a:b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Нет на свете, друзья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ора Эльбрус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Высочайшая вершина Европы гора Эльбрус располагается на границе Кабардино-Балкарии и Карачаево-Черкесии. Западная вершина Эльбруса возвышается над уровнем моря на 5642 метра, восточная – на 5621 метр. Эльбрус знаменит своими огромными ледниками, площадь которых составляет 144 кв. километра. </a:t>
            </a:r>
            <a:br>
              <a:rPr sz="1600"/>
            </a:b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 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Picture 4" descr="p8"/>
          <p:cNvPicPr/>
          <p:nvPr/>
        </p:nvPicPr>
        <p:blipFill>
          <a:blip r:embed="rId1"/>
          <a:stretch/>
        </p:blipFill>
        <p:spPr>
          <a:xfrm>
            <a:off x="3708360" y="3284640"/>
            <a:ext cx="51847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зеро Байка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Озеро Байкал является самым древним и глубоким озером в мире. Его глубина достигает 1637 метров. Озеро занимает более 23 тыс. кв. км, что составляет около 22% запасов всей пресной воды земного шара. </a:t>
            </a:r>
            <a:br>
              <a:rPr sz="1600"/>
            </a:b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4" descr="p9"/>
          <p:cNvPicPr/>
          <p:nvPr/>
        </p:nvPicPr>
        <p:blipFill>
          <a:blip r:embed="rId1"/>
          <a:stretch/>
        </p:blipFill>
        <p:spPr>
          <a:xfrm>
            <a:off x="0" y="2781360"/>
            <a:ext cx="529416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олина  гейзеро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 Долине гейзеров на Камчатке действует более 200 термальных источников, в том числе около 90 гейзеров, которые выбрасывают струи кипящей воды и пара на десятки метров в высоту. Температура почвы на глубине 1 метр вблизи гейзеров достигает 70 градусов по Цельсию. 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4" descr="p7"/>
          <p:cNvPicPr/>
          <p:nvPr/>
        </p:nvPicPr>
        <p:blipFill>
          <a:blip r:embed="rId1"/>
          <a:stretch/>
        </p:blipFill>
        <p:spPr>
          <a:xfrm>
            <a:off x="1835280" y="3429000"/>
            <a:ext cx="5976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Памятник «  Столбы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                 выветривания»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иродный памятник "Столбы выветривания" расположен на территории Троицко-Печорского района Коми, в междуречье Ичотляги и Печоры. Высота столбов достигает 42 метров. 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Picture 4" descr="p10"/>
          <p:cNvPicPr/>
          <p:nvPr/>
        </p:nvPicPr>
        <p:blipFill>
          <a:blip r:embed="rId1"/>
          <a:stretch/>
        </p:blipFill>
        <p:spPr>
          <a:xfrm>
            <a:off x="1042920" y="2852640"/>
            <a:ext cx="720108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      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етергоф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етергоф в Санкт-Петербурге известен своим красивым парком, тремя каскадами и 150 фонтанами. 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Picture 4" descr="p11"/>
          <p:cNvPicPr/>
          <p:nvPr/>
        </p:nvPicPr>
        <p:blipFill>
          <a:blip r:embed="rId1"/>
          <a:stretch/>
        </p:blipFill>
        <p:spPr>
          <a:xfrm>
            <a:off x="1619280" y="3068640"/>
            <a:ext cx="633744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Мамаев курган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амаев курган и статуя Родины-Матери в Волгограде созданы в память о решающем сражении в ходе Великой Отечественной войны – Сталинградской битве. 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Picture 4" descr="p12"/>
          <p:cNvPicPr/>
          <p:nvPr/>
        </p:nvPicPr>
        <p:blipFill>
          <a:blip r:embed="rId1"/>
          <a:stretch/>
        </p:blipFill>
        <p:spPr>
          <a:xfrm>
            <a:off x="5580000" y="2571840"/>
            <a:ext cx="3564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обор Василия Блаженного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Собор Василия Блаженного расположен в самом центре Москвы и является не только главным храмом Красной площади, но и символом всей России. Он построен в 1555–1561 годах по указу Ивана Грозного в честь взятия Казанского ханства. Собор представляет собой симметричный ансамбль из восьми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церквей,окружающих центральную церковь, увенчанную "шатром". 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4" descr="p13"/>
          <p:cNvPicPr/>
          <p:nvPr/>
        </p:nvPicPr>
        <p:blipFill>
          <a:blip r:embed="rId1"/>
          <a:stretch/>
        </p:blipFill>
        <p:spPr>
          <a:xfrm>
            <a:off x="0" y="3257640"/>
            <a:ext cx="34005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20:47:35Z</dcterms:created>
  <dc:creator>Колоскова</dc:creator>
  <dc:description/>
  <dc:language>en-US</dc:language>
  <cp:lastModifiedBy>Admin</cp:lastModifiedBy>
  <dcterms:modified xsi:type="dcterms:W3CDTF">2014-03-09T13:22:09Z</dcterms:modified>
  <cp:revision>5</cp:revision>
  <dc:subject/>
  <dc:title>Достопримечательности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e1a0000000000010250300207f7000400038000</vt:lpwstr>
  </property>
</Properties>
</file>