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EA9-EBA1-4CDC-AF8D-9F65B9FF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0B4-D388-4FD6-81C6-B655F69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51F-0ACE-4E50-9407-066F3BCA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255-3E22-4E9E-A550-E3BF26DA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2364-A06B-48E6-8506-F366BBF8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E05-DC76-4407-AE8B-3158FB2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EFD-1AF5-4925-A08A-450C6865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2FA0-6343-44A5-ACD1-CB11EBC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3127-504C-4535-9B9D-475D148E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3C04-6C90-4896-8049-9389850D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D2BB-29A7-4BF4-848A-9D5BBBA9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03D-4A29-467A-8767-B9B81FC7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813B-2DF0-47E5-8AB1-0690BED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1D52-98E2-4624-9969-E241085E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5DC1-3E3A-4FF7-B5A7-E55B219D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AD61-F3EA-4CC6-8DC2-16F55B2B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6BBA-8750-44F1-89BF-2775DB87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CEF-592A-4171-9A09-8CDF377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E00-C7EB-4498-AFAC-16790EA2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2A8-1981-4BC0-A5DD-7B53E45D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8EC-22DF-4D8E-A02C-ADB4FD4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119-4322-4290-84C2-2B60E356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59B-83F4-4472-8CE6-5F5AD86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4F2-693C-42B1-8F3E-E2D8C73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6A5-5B68-40C7-B0DB-03C283141F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6BBD-76B4-4EC0-A522-A488C74D4D0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51575"/>
                </a:solidFill>
                <a:latin typeface="Arial"/>
              </a:rPr>
              <a:t>Достопримечательности</a:t>
            </a:r>
            <a:br>
              <a:rPr sz="4800"/>
            </a:br>
            <a:r>
              <a:rPr b="1" lang="ru-RU" sz="4800" spc="-1" strike="noStrike">
                <a:solidFill>
                  <a:srgbClr val="851575"/>
                </a:solidFill>
                <a:latin typeface="Arial"/>
              </a:rPr>
              <a:t>  России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езентация к окружающему миру 2 класс по программе «Начальная школа ХХ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е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готовила учитель МОУ « СОШ с.Липов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уховницкого района Саратовской обла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олоскова  Ольга Викторов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мвол Ро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1332000" y="1989000"/>
            <a:ext cx="698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Царь-колокол и Царь - пушк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pushka"/>
          <p:cNvPicPr/>
          <p:nvPr/>
        </p:nvPicPr>
        <p:blipFill>
          <a:blip r:embed="rId1"/>
          <a:stretch/>
        </p:blipFill>
        <p:spPr>
          <a:xfrm>
            <a:off x="4751280" y="1916280"/>
            <a:ext cx="4392720" cy="4941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Фото Питер 2008 031"/>
          <p:cNvPicPr/>
          <p:nvPr/>
        </p:nvPicPr>
        <p:blipFill>
          <a:blip r:embed="rId2"/>
          <a:stretch/>
        </p:blipFill>
        <p:spPr>
          <a:xfrm>
            <a:off x="0" y="1916280"/>
            <a:ext cx="4537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Саратов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6" descr="getImage (1)"/>
          <p:cNvPicPr/>
          <p:nvPr/>
        </p:nvPicPr>
        <p:blipFill>
          <a:blip r:embed="rId1"/>
          <a:stretch/>
        </p:blipFill>
        <p:spPr>
          <a:xfrm>
            <a:off x="826920" y="1844640"/>
            <a:ext cx="80121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4" descr="290520103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ерва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4" descr="DSCN3201"/>
          <p:cNvPicPr/>
          <p:nvPr/>
        </p:nvPicPr>
        <p:blipFill>
          <a:blip r:embed="rId1"/>
          <a:stretch/>
        </p:blipFill>
        <p:spPr>
          <a:xfrm>
            <a:off x="900000" y="1989000"/>
            <a:ext cx="7920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« Журавл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4" descr="29052010334"/>
          <p:cNvPicPr/>
          <p:nvPr/>
        </p:nvPicPr>
        <p:blipFill>
          <a:blip r:embed="rId1"/>
          <a:stretch/>
        </p:blipFill>
        <p:spPr>
          <a:xfrm>
            <a:off x="826920" y="1916280"/>
            <a:ext cx="8066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уховницко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DSCN2776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 Баулину П.Ф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Изображение 055"/>
          <p:cNvPicPr/>
          <p:nvPr/>
        </p:nvPicPr>
        <p:blipFill>
          <a:blip r:embed="rId1"/>
          <a:stretch/>
        </p:blipFill>
        <p:spPr>
          <a:xfrm>
            <a:off x="2195640" y="1700280"/>
            <a:ext cx="468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2050920" y="260280"/>
            <a:ext cx="5545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Изображение 058"/>
          <p:cNvPicPr/>
          <p:nvPr/>
        </p:nvPicPr>
        <p:blipFill>
          <a:blip r:embed="rId1"/>
          <a:stretch/>
        </p:blipFill>
        <p:spPr>
          <a:xfrm>
            <a:off x="826920" y="620640"/>
            <a:ext cx="79930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емерку лучших достопримечательностей страны огласили во время празднования Дня России на Красной площади. За победителей, которых определяли с осени прошлого года, успели проголосовать почти 26 миллионов человек. Одну из общепризнанных российских достопримечательностей собравшиеся на концерт в центре города могли лицезреть прямо на Красной площади. 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 итог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победителями общероссийского голосования стали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гора Эльбрус, озеро Байкал, Долина гейзеров, Столбы выветривания, Петергоф, Мамаев курган и статуя Родины-Матери и собор Василия Блаженного. </a:t>
            </a: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й край – село Липов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4" descr="Липовка 15-16072006 014"/>
          <p:cNvPicPr/>
          <p:nvPr/>
        </p:nvPicPr>
        <p:blipFill>
          <a:blip r:embed="rId1"/>
          <a:stretch/>
        </p:blipFill>
        <p:spPr>
          <a:xfrm>
            <a:off x="971640" y="1844640"/>
            <a:ext cx="6973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ша   шко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755640" y="1844640"/>
            <a:ext cx="8137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Церковь Покрова Божьей матер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755640" y="1916280"/>
            <a:ext cx="813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4" descr="Изображение 074"/>
          <p:cNvPicPr/>
          <p:nvPr/>
        </p:nvPicPr>
        <p:blipFill>
          <a:blip r:embed="rId1"/>
          <a:stretch/>
        </p:blipFill>
        <p:spPr>
          <a:xfrm>
            <a:off x="826920" y="260280"/>
            <a:ext cx="7993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нумент воинам Великой Отечественной вой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Изображение 080"/>
          <p:cNvPicPr/>
          <p:nvPr/>
        </p:nvPicPr>
        <p:blipFill>
          <a:blip r:embed="rId1"/>
          <a:stretch/>
        </p:blipFill>
        <p:spPr>
          <a:xfrm>
            <a:off x="539640" y="1916280"/>
            <a:ext cx="8353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Изображение 076"/>
          <p:cNvPicPr/>
          <p:nvPr/>
        </p:nvPicPr>
        <p:blipFill>
          <a:blip r:embed="rId1"/>
          <a:stretch/>
        </p:blipFill>
        <p:spPr>
          <a:xfrm>
            <a:off x="277164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  культу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Содержимое 3" descr="img033.jpg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дминистрация и ФА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Содержимое 3" descr="img045.jpg"/>
          <p:cNvPicPr/>
          <p:nvPr/>
        </p:nvPicPr>
        <p:blipFill>
          <a:blip r:embed="rId1"/>
          <a:stretch/>
        </p:blipFill>
        <p:spPr>
          <a:xfrm>
            <a:off x="900000" y="1844640"/>
            <a:ext cx="7993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 широком просторе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Предрассветной порой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Встали алые зори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ад родимой стран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 каждым годом всё краше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Дорогие края...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Лучше Родины нашей</a:t>
            </a: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на свете, друзья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ора Эльбру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ысочайшая вершина Европы гора Эльбрус располагается на границе Кабардино-Балкарии и Карачаево-Черкесии. Западная вершина Эльбруса возвышается над уровнем моря на 5642 метра, восточная – на 5621 метр. Эльбрус знаменит своими огромными ледниками, площадь которых составляет 144 кв. километра. 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4" descr="p8"/>
          <p:cNvPicPr/>
          <p:nvPr/>
        </p:nvPicPr>
        <p:blipFill>
          <a:blip r:embed="rId1"/>
          <a:stretch/>
        </p:blipFill>
        <p:spPr>
          <a:xfrm>
            <a:off x="3708360" y="3284640"/>
            <a:ext cx="51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зеро Байка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зеро Байкал является самым древним и глубоким озером в мире. Его глубина достигает 1637 метров. Озеро занимает более 23 тыс. кв. км, что составляет около 22% запасов всей пресной воды земного шара. 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p9"/>
          <p:cNvPicPr/>
          <p:nvPr/>
        </p:nvPicPr>
        <p:blipFill>
          <a:blip r:embed="rId1"/>
          <a:stretch/>
        </p:blipFill>
        <p:spPr>
          <a:xfrm>
            <a:off x="0" y="2781360"/>
            <a:ext cx="529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лина  гейзер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олине гейзеров на Камчатке действует более 200 термальных источников, в том числе около 90 гейзеров, которые выбрасывают струи кипящей воды и пара на десятки метров в высоту. Температура почвы на глубине 1 метр вблизи гейзеров достигает 70 градусов по Цельсию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p7"/>
          <p:cNvPicPr/>
          <p:nvPr/>
        </p:nvPicPr>
        <p:blipFill>
          <a:blip r:embed="rId1"/>
          <a:stretch/>
        </p:blipFill>
        <p:spPr>
          <a:xfrm>
            <a:off x="1835280" y="3429000"/>
            <a:ext cx="59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амятник «  Столбы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                выветривания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родный памятник "Столбы выветривания" расположен на территории Троицко-Печорского района Коми, в междуречье Ичотляги и Печоры. Высота столбов достигает 42 метров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p10"/>
          <p:cNvPicPr/>
          <p:nvPr/>
        </p:nvPicPr>
        <p:blipFill>
          <a:blip r:embed="rId1"/>
          <a:stretch/>
        </p:blipFill>
        <p:spPr>
          <a:xfrm>
            <a:off x="1042920" y="2852640"/>
            <a:ext cx="7201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терго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тергоф в Санкт-Петербурге известен своим красивым парком, тремя каскадами и 150 фонтанами.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4" descr="p11"/>
          <p:cNvPicPr/>
          <p:nvPr/>
        </p:nvPicPr>
        <p:blipFill>
          <a:blip r:embed="rId1"/>
          <a:stretch/>
        </p:blipFill>
        <p:spPr>
          <a:xfrm>
            <a:off x="1619280" y="3068640"/>
            <a:ext cx="63374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амаев кург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ев курган и статуя Родины-Матери в Волгограде созданы в память о решающем сражении в ходе Великой Отечественной войны – Сталинградской битве.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p12"/>
          <p:cNvPicPr/>
          <p:nvPr/>
        </p:nvPicPr>
        <p:blipFill>
          <a:blip r:embed="rId1"/>
          <a:stretch/>
        </p:blipFill>
        <p:spPr>
          <a:xfrm>
            <a:off x="5580000" y="2571840"/>
            <a:ext cx="356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бор Василия Блаженног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обор Василия Блаженного расположен в самом центре Москвы и является не только главным храмом Красной площади, но и символом всей России. Он построен в 1555–1561 годах по указу Ивана Грозного в честь взятия Казанского ханства. Собор представляет собой симметричный ансамбль из восьм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церквей,окружающих центральную церковь, увенчанную "шатром". 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13"/>
          <p:cNvPicPr/>
          <p:nvPr/>
        </p:nvPicPr>
        <p:blipFill>
          <a:blip r:embed="rId1"/>
          <a:stretch/>
        </p:blipFill>
        <p:spPr>
          <a:xfrm>
            <a:off x="0" y="3257640"/>
            <a:ext cx="3400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47:35Z</dcterms:created>
  <dc:creator>Колоскова</dc:creator>
  <dc:description/>
  <dc:language>en-US</dc:language>
  <cp:lastModifiedBy>Admin</cp:lastModifiedBy>
  <dcterms:modified xsi:type="dcterms:W3CDTF">2014-03-09T13:22:09Z</dcterms:modified>
  <cp:revision>5</cp:revision>
  <dc:subject/>
  <dc:title>Достопримечательност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1a0000000000010250300207f7000400038000</vt:lpwstr>
  </property>
</Properties>
</file>