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333-9659-4B46-A847-E4EB37F9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4B7-9E3C-4863-9D24-E5270345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A6B-4B22-4BDF-84E8-B40537F8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6DA-AA08-40BE-B532-AFC03077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1D02-9F46-4117-8360-2461CE68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F6C3-EA20-49F4-AA2E-C07AF332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8E20-D0BB-43DB-9B92-D3212E92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5EC2-3D93-4463-B8B8-64C48C0E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F10A-D317-4838-92AA-089DA486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A45D-F9CF-47D5-A028-216F0E13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F8FC-DCFE-484C-A760-38094CD4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95A-B61C-4446-972D-D124BD7C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58D7-B083-48B2-A8DD-6A72914D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60B3-5A05-4336-B9FC-528E1C2C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1F75-CF4D-44A0-BFC0-4D062E40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F7DD-C7B6-444B-BD11-BF7AEAC0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F354-6822-4581-97E7-FF8501AC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216F-22F2-4DA7-B8E0-2F42D90E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9D7-E445-4164-88E5-1F2089B1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D0F2-70D0-4949-B290-D5F638BD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7D9-200E-46DE-9457-AC86C2E0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0EA-7A41-4CE0-8A23-16291F4C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FBC-4C8C-4B36-BAF6-E0224CB6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ADD7-6469-469A-A983-5E734843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D985-24E5-46D3-97A8-5E13380CCA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A828-5B14-450A-9125-CCECE7358D6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51575"/>
                </a:solidFill>
                <a:latin typeface="Arial"/>
              </a:rPr>
              <a:t>Достопримечательности</a:t>
            </a:r>
            <a:br>
              <a:rPr sz="4800"/>
            </a:br>
            <a:r>
              <a:rPr b="1" lang="ru-RU" sz="4800" spc="-1" strike="noStrike">
                <a:solidFill>
                  <a:srgbClr val="851575"/>
                </a:solidFill>
                <a:latin typeface="Arial"/>
              </a:rPr>
              <a:t>  России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езентация к окружающему миру 2 класс по программе «Начальная школа ХХ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ека»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дготовила учитель МОУ « СОШ с.Липовка»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уховницкого района Саратовской обла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олоскова  Ольга Викторов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имвол Росс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Picture 4" descr="1"/>
          <p:cNvPicPr/>
          <p:nvPr/>
        </p:nvPicPr>
        <p:blipFill>
          <a:blip r:embed="rId1"/>
          <a:stretch/>
        </p:blipFill>
        <p:spPr>
          <a:xfrm>
            <a:off x="1332000" y="1989000"/>
            <a:ext cx="6983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Царь-колокол и Царь - пушк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5" descr="pushka"/>
          <p:cNvPicPr/>
          <p:nvPr/>
        </p:nvPicPr>
        <p:blipFill>
          <a:blip r:embed="rId1"/>
          <a:stretch/>
        </p:blipFill>
        <p:spPr>
          <a:xfrm>
            <a:off x="4751280" y="1916280"/>
            <a:ext cx="4392720" cy="4941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Фото Питер 2008 031"/>
          <p:cNvPicPr/>
          <p:nvPr/>
        </p:nvPicPr>
        <p:blipFill>
          <a:blip r:embed="rId2"/>
          <a:stretch/>
        </p:blipFill>
        <p:spPr>
          <a:xfrm>
            <a:off x="0" y="1916280"/>
            <a:ext cx="4537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   </a:t>
            </a: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Саратов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6" descr="getImage (1)"/>
          <p:cNvPicPr/>
          <p:nvPr/>
        </p:nvPicPr>
        <p:blipFill>
          <a:blip r:embed="rId1"/>
          <a:stretch/>
        </p:blipFill>
        <p:spPr>
          <a:xfrm>
            <a:off x="826920" y="1844640"/>
            <a:ext cx="801216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4" descr="290520103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нсерват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4" descr="DSCN3201"/>
          <p:cNvPicPr/>
          <p:nvPr/>
        </p:nvPicPr>
        <p:blipFill>
          <a:blip r:embed="rId1"/>
          <a:stretch/>
        </p:blipFill>
        <p:spPr>
          <a:xfrm>
            <a:off x="900000" y="1989000"/>
            <a:ext cx="7920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амятник « Журавли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4" descr="29052010334"/>
          <p:cNvPicPr/>
          <p:nvPr/>
        </p:nvPicPr>
        <p:blipFill>
          <a:blip r:embed="rId1"/>
          <a:stretch/>
        </p:blipFill>
        <p:spPr>
          <a:xfrm>
            <a:off x="826920" y="1916280"/>
            <a:ext cx="80661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уховницко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4" descr="DSCN2776"/>
          <p:cNvPicPr/>
          <p:nvPr/>
        </p:nvPicPr>
        <p:blipFill>
          <a:blip r:embed="rId1"/>
          <a:stretch/>
        </p:blipFill>
        <p:spPr>
          <a:xfrm>
            <a:off x="755640" y="1413000"/>
            <a:ext cx="7488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амятник  Баулину П.Ф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Изображение 055"/>
          <p:cNvPicPr/>
          <p:nvPr/>
        </p:nvPicPr>
        <p:blipFill>
          <a:blip r:embed="rId1"/>
          <a:stretch/>
        </p:blipFill>
        <p:spPr>
          <a:xfrm>
            <a:off x="2195640" y="1700280"/>
            <a:ext cx="4681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260280"/>
            <a:ext cx="8007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4" descr="Изображение 059"/>
          <p:cNvPicPr/>
          <p:nvPr/>
        </p:nvPicPr>
        <p:blipFill>
          <a:blip r:embed="rId1"/>
          <a:stretch/>
        </p:blipFill>
        <p:spPr>
          <a:xfrm>
            <a:off x="2050920" y="260280"/>
            <a:ext cx="5545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4" descr="Изображение 058"/>
          <p:cNvPicPr/>
          <p:nvPr/>
        </p:nvPicPr>
        <p:blipFill>
          <a:blip r:embed="rId1"/>
          <a:stretch/>
        </p:blipFill>
        <p:spPr>
          <a:xfrm>
            <a:off x="826920" y="620640"/>
            <a:ext cx="799308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емерку лучших достопримечательностей страны огласили во время празднования Дня России на Красной площади. За победителей, которых определяли с осени прошлого года, успели проголосовать почти 26 миллионов человек. Одну из общепризнанных российских достопримечательностей собравшиеся на концерт в центре города могли лицезреть прямо на Красной площади. 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 итог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победителями общероссийского голосования стали 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гора Эльбрус, озеро Байкал, Долина гейзеров, Столбы выветривания, Петергоф, Мамаев курган и статуя Родины-Матери и собор Василия Блаженного. </a:t>
            </a:r>
            <a:br>
              <a:rPr sz="2400"/>
            </a:br>
            <a:br>
              <a:rPr sz="24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Мой край – село Липов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2" name="Picture 4" descr="Липовка 15-16072006 014"/>
          <p:cNvPicPr/>
          <p:nvPr/>
        </p:nvPicPr>
        <p:blipFill>
          <a:blip r:embed="rId1"/>
          <a:stretch/>
        </p:blipFill>
        <p:spPr>
          <a:xfrm>
            <a:off x="971640" y="1844640"/>
            <a:ext cx="69739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ша   шко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755640" y="1844640"/>
            <a:ext cx="81374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Церковь Покрова Божьей матер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Picture 4" descr="Изображение 073"/>
          <p:cNvPicPr/>
          <p:nvPr/>
        </p:nvPicPr>
        <p:blipFill>
          <a:blip r:embed="rId1"/>
          <a:stretch/>
        </p:blipFill>
        <p:spPr>
          <a:xfrm>
            <a:off x="755640" y="1916280"/>
            <a:ext cx="8137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Picture 4" descr="Изображение 074"/>
          <p:cNvPicPr/>
          <p:nvPr/>
        </p:nvPicPr>
        <p:blipFill>
          <a:blip r:embed="rId1"/>
          <a:stretch/>
        </p:blipFill>
        <p:spPr>
          <a:xfrm>
            <a:off x="826920" y="260280"/>
            <a:ext cx="7993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Монумент воинам Великой Отечественной войн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4" name="Picture 4" descr="Изображение 080"/>
          <p:cNvPicPr/>
          <p:nvPr/>
        </p:nvPicPr>
        <p:blipFill>
          <a:blip r:embed="rId1"/>
          <a:stretch/>
        </p:blipFill>
        <p:spPr>
          <a:xfrm>
            <a:off x="539640" y="1916280"/>
            <a:ext cx="8353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амятн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7" name="Picture 4" descr="Изображение 076"/>
          <p:cNvPicPr/>
          <p:nvPr/>
        </p:nvPicPr>
        <p:blipFill>
          <a:blip r:embed="rId1"/>
          <a:stretch/>
        </p:blipFill>
        <p:spPr>
          <a:xfrm>
            <a:off x="2771640" y="19810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  культу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Содержимое 3" descr="img033.jpg"/>
          <p:cNvPicPr/>
          <p:nvPr/>
        </p:nvPicPr>
        <p:blipFill>
          <a:blip r:embed="rId1"/>
          <a:stretch/>
        </p:blipFill>
        <p:spPr>
          <a:xfrm>
            <a:off x="900000" y="1844640"/>
            <a:ext cx="7848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дминистрация и ФА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1" name="Содержимое 3" descr="img045.jpg"/>
          <p:cNvPicPr/>
          <p:nvPr/>
        </p:nvPicPr>
        <p:blipFill>
          <a:blip r:embed="rId1"/>
          <a:stretch/>
        </p:blipFill>
        <p:spPr>
          <a:xfrm>
            <a:off x="900000" y="1844640"/>
            <a:ext cx="7993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На широком просторе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Предрассветной порой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Встали алые зори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Над родимой стран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С каждым годом всё краше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Дорогие края...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Лучше Родины нашей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Нет на свете, друзья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ора Эльбру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ысочайшая вершина Европы гора Эльбрус располагается на границе Кабардино-Балкарии и Карачаево-Черкесии. Западная вершина Эльбруса возвышается над уровнем моря на 5642 метра, восточная – на 5621 метр. Эльбрус знаменит своими огромными ледниками, площадь которых составляет 144 кв. километра. 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4" descr="p8"/>
          <p:cNvPicPr/>
          <p:nvPr/>
        </p:nvPicPr>
        <p:blipFill>
          <a:blip r:embed="rId1"/>
          <a:stretch/>
        </p:blipFill>
        <p:spPr>
          <a:xfrm>
            <a:off x="3708360" y="3284640"/>
            <a:ext cx="518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зеро Байка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Озеро Байкал является самым древним и глубоким озером в мире. Его глубина достигает 1637 метров. Озеро занимает более 23 тыс. кв. км, что составляет около 22% запасов всей пресной воды земного шара. 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p9"/>
          <p:cNvPicPr/>
          <p:nvPr/>
        </p:nvPicPr>
        <p:blipFill>
          <a:blip r:embed="rId1"/>
          <a:stretch/>
        </p:blipFill>
        <p:spPr>
          <a:xfrm>
            <a:off x="0" y="2781360"/>
            <a:ext cx="52941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лина  гейзер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Долине гейзеров на Камчатке действует более 200 термальных источников, в том числе около 90 гейзеров, которые выбрасывают струи кипящей воды и пара на десятки метров в высоту. Температура почвы на глубине 1 метр вблизи гейзеров достигает 70 градусов по Цельсию.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p7"/>
          <p:cNvPicPr/>
          <p:nvPr/>
        </p:nvPicPr>
        <p:blipFill>
          <a:blip r:embed="rId1"/>
          <a:stretch/>
        </p:blipFill>
        <p:spPr>
          <a:xfrm>
            <a:off x="1835280" y="3429000"/>
            <a:ext cx="5976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амятник «  Столбы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                выветривания»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иродный памятник "Столбы выветривания" расположен на территории Троицко-Печорского района Коми, в междуречье Ичотляги и Печоры. Высота столбов достигает 42 метров.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4" descr="p10"/>
          <p:cNvPicPr/>
          <p:nvPr/>
        </p:nvPicPr>
        <p:blipFill>
          <a:blip r:embed="rId1"/>
          <a:stretch/>
        </p:blipFill>
        <p:spPr>
          <a:xfrm>
            <a:off x="1042920" y="2852640"/>
            <a:ext cx="72010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етергоф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тергоф в Санкт-Петербурге известен своим красивым парком, тремя каскадами и 150 фонтанами. 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4" descr="p11"/>
          <p:cNvPicPr/>
          <p:nvPr/>
        </p:nvPicPr>
        <p:blipFill>
          <a:blip r:embed="rId1"/>
          <a:stretch/>
        </p:blipFill>
        <p:spPr>
          <a:xfrm>
            <a:off x="1619280" y="3068640"/>
            <a:ext cx="63374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амаев курга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амаев курган и статуя Родины-Матери в Волгограде созданы в память о решающем сражении в ходе Великой Отечественной войны – Сталинградской битве. 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4" descr="p12"/>
          <p:cNvPicPr/>
          <p:nvPr/>
        </p:nvPicPr>
        <p:blipFill>
          <a:blip r:embed="rId1"/>
          <a:stretch/>
        </p:blipFill>
        <p:spPr>
          <a:xfrm>
            <a:off x="5580000" y="2571840"/>
            <a:ext cx="3564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обор Василия Блаженног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Собор Василия Блаженного расположен в самом центре Москвы и является не только главным храмом Красной площади, но и символом всей России. Он построен в 1555–1561 годах по указу Ивана Грозного в честь взятия Казанского ханства. Собор представляет собой симметричный ансамбль из восьми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церквей,окружающих центральную церковь, увенчанную "шатром". 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13"/>
          <p:cNvPicPr/>
          <p:nvPr/>
        </p:nvPicPr>
        <p:blipFill>
          <a:blip r:embed="rId1"/>
          <a:stretch/>
        </p:blipFill>
        <p:spPr>
          <a:xfrm>
            <a:off x="0" y="3257640"/>
            <a:ext cx="34005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20:47:35Z</dcterms:created>
  <dc:creator>Колоскова</dc:creator>
  <dc:description/>
  <dc:language>en-US</dc:language>
  <cp:lastModifiedBy>Admin</cp:lastModifiedBy>
  <dcterms:modified xsi:type="dcterms:W3CDTF">2014-03-09T13:22:09Z</dcterms:modified>
  <cp:revision>5</cp:revision>
  <dc:subject/>
  <dc:title>Достопримечательности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1a0000000000010250300207f7000400038000</vt:lpwstr>
  </property>
</Properties>
</file>