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AB37-F937-4C96-80C1-BEE2518E4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981F-3653-4218-B1D5-B865FBA9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9D13-E76D-42F0-BACD-809F1813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CDBE-2719-4669-B4B8-5DE1332ED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F677-FEC1-46A0-837C-54B7DC18F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F083-C1B3-4B7A-B213-411EE33A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6EFC-1C60-4255-8CBE-D58DD575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D41A-9E60-4822-893E-676AEBCC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820C-1CAB-44B4-AF24-925E9601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AD97-C578-407A-B3CD-B5CA3273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8A40-A3F0-4D54-9612-73315505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F0E7-EAF1-4CAA-BDE7-99B8B48A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F950-87EA-4ED2-AC59-F4C3FBC1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9BF1-B09D-457D-B65C-749FA736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4E58-BD31-4718-99D8-A47144D4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4296-0123-4BE6-8CC3-3C0E5B79F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2167-124C-422A-BB3D-1C08B681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9677-867D-4275-8B2B-C88A109B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D61D-DA05-4917-B9B6-53B8EE1A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C15C-BB46-4F58-B3CE-58F99C81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97D9-70BC-4229-9FBB-505A5543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D4C8-E737-4E86-BE69-9E8B33CA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9FF9-2E62-4603-AA6E-FC66A4AD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C29C-CF94-4487-ADA5-2440B8BC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B5D4-D5D8-44E7-83AB-0A8B7B28D4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C2D1-081E-4C0A-8E76-E80D2AB53B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13/cska-moskow58.5/0_7004_2a8686e5_XL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300/antonio-2.1b/0_1b035_6e92987c_XL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vparke.ru/str/0079/16.jpg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omeland-tour.ru/pics_1/moscow/moscow_usadba_tsaritsyno_10.jp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upload.wikimedia.org/wikipedia/commons/3/37/&#1052;&#1072;&#1083;&#1099;&#1081;-&#1076;&#1074;&#1086;&#1088;&#1077;&#1094;-04.jpg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h14.ru/sites/default/files/images1111/photo/buildings/47ac417fadd8794faadcb05dc1bd181b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tihi.ru/pics/2008/08/07/229.jpg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biography.sgu.ru/bio/data/files/pictures/image/39879.jpg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content.tourall.ru/img/big/280566.jp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12.radikal.ru/i185/0911/1f/cddee561f9de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www.photo.inc.ru/photo/zakat09.jpg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yy.if.ua/ostankino/images/dsc08268.jpg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keep4u.ru/imgs/b/070918/3de7eff136327ffad7.jpg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centl.ru/users/269/posts/4104526949f06fcb/images/tchm.jpg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images.ng.ru/files/galleries/1104/12332-large.jpg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www.photo-moskva.ru/Metro_VDNH/Panorama_VDNH_03.jpg" TargetMode="External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3/worldoftourism.0/0_b2de_5e5006c1_X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photos.lifeisphoto.ru/53/0/536010.jpg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658/2459658/f_16051543.jpg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s14.radikal.ru/i187/0907/9a/ada5255f9510.jpg" TargetMode="External"/><Relationship Id="rId2" Type="http://schemas.openxmlformats.org/officeDocument/2006/relationships/image" Target="../media/image36.jpeg"/><Relationship Id="rId3" Type="http://schemas.openxmlformats.org/officeDocument/2006/relationships/hyperlink" Target="http://savepic.ru/392350.jpg" TargetMode="External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mo-la.ru/images/100.jpg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holeearth.ru/pic.php?f=/images002/image_s0HOC7b5SYythgSb64B143vV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055.radikal.ru/0908/68/04382d7b7356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12/atner.b/0_623c_2edecccd_XL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showbirja.ru/users/506102/newsfoto/4a03d923b2bfd.jpg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g1.liveinternet.ru/images/attach/c/0/30/594/30594038_0001.jpg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4/drug4all.7/0_220e_18e7dad6_XL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e.lidenz.ru/wp-content/gallery/activities_mow_metro/kiyevskaya-koltsevaya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otki.yandex.ru/users/fita1/view/276966/?page=0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metro-photo.ru/data/media/37/rizh-nom.JPG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kp.ru/upimg/photo/108720.jpg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forum.rin.ru/uploads/post-15-1113573660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Vasiliy3_titularnik.jp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smallbay.ru/images6/h4.jpg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narodna.pravda.com.ua/images/doc/4b01b-aleksej0mih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snailscity.ru/images/travel/kolomenskoe/_MG_3356.jpg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стопримечательности Моск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34544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Arial"/>
              </a:rPr>
              <a:t>Царицыно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Картинка 6 из 128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413000"/>
            <a:ext cx="7417080" cy="5111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26920" y="1501560"/>
            <a:ext cx="476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1775 году местность была купл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Екатериной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которая реш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строить здесь царскую резиденцию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Картинка 18 из 6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260280"/>
            <a:ext cx="5076720" cy="33908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Картинка 13 из 3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3716280"/>
            <a:ext cx="4762440" cy="29145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184360" y="691920"/>
            <a:ext cx="393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иаметр водной поверх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ющего фонтана составля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55 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80" y="4365000"/>
            <a:ext cx="43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Фонтан подсвечивают почти 4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дводных свети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Картинка 1 из 1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5076720" cy="3809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Файл:Малый-дворец-04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1700280"/>
            <a:ext cx="5389560" cy="4724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317200" y="475560"/>
            <a:ext cx="38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Фигурный мост был постро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1776-1778 год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Картинка 75 из 8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549360"/>
            <a:ext cx="849780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cc00"/>
                </a:solidFill>
                <a:latin typeface="Arial"/>
              </a:rPr>
              <a:t>Останкино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Картинка 4 из 111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052640"/>
            <a:ext cx="5076720" cy="3733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Картинка 4 из 23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8720" y="2637000"/>
            <a:ext cx="3095640" cy="38098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40360" y="5020560"/>
            <a:ext cx="48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ворец был выстроен по замыслу и зака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графа  Н.П. Шереметье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4360" y="1052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08720" y="113148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станкинский дворец – жемчуж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усского искусства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X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Картинка 18 из 111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620640"/>
            <a:ext cx="828036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Картинка 48 из 111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765000"/>
            <a:ext cx="3816360" cy="546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Картинка 17 из 22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836640"/>
            <a:ext cx="3958920" cy="53229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1240" y="123120"/>
            <a:ext cx="816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По высоте Останкинская телебашня занимает 5 место в мире. 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высота составляет 540 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Картинка 32 из 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60280"/>
            <a:ext cx="8351640" cy="5977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96000" y="259560"/>
            <a:ext cx="46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ид на Москву с высоты 337 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Картинка 11 из 273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413000"/>
            <a:ext cx="8207280" cy="4895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ВВ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Картинка 48 из 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0"/>
            <a:ext cx="3384360" cy="2957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Картинка 18 из 262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0"/>
            <a:ext cx="4286160" cy="2886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Картинка 75 из 29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84360" y="3048120"/>
            <a:ext cx="4133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Московский Кремль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Картинка 24 из 316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052640"/>
            <a:ext cx="8280360" cy="5472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192320" y="1347120"/>
            <a:ext cx="48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уществующие стены и башни Кр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Были построены в 1485-95 го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27720" y="5300280"/>
            <a:ext cx="559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бщая протяженность стен Кремля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5 м, высота от 5 до 20 метров, толщина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т 3,5 до 6,5 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Ростокинский акведу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Картинка 136 из 1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981000"/>
            <a:ext cx="8280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Лосиный остров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Картинка 34 из 35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413000"/>
            <a:ext cx="82803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Картинка 1 из 377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809960" cy="3809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Картинка 18 из 1216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4920" y="2852640"/>
            <a:ext cx="4429080" cy="3594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077440" y="475560"/>
            <a:ext cx="38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Обитатели Лосиного ост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Ботанический сад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Картинка 3 из 67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44640"/>
            <a:ext cx="6697800" cy="4608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709440" y="1059840"/>
            <a:ext cx="521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Ботанический сад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«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Аптекарский огород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«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тарейший 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Воробьевы гор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Картинка 12 из 13216"/>
          <p:cNvPicPr/>
          <p:nvPr/>
        </p:nvPicPr>
        <p:blipFill>
          <a:blip r:embed="rId1"/>
          <a:stretch/>
        </p:blipFill>
        <p:spPr>
          <a:xfrm>
            <a:off x="468360" y="1484280"/>
            <a:ext cx="3672000" cy="43149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Картинка 1 из 53067"/>
          <p:cNvPicPr/>
          <p:nvPr/>
        </p:nvPicPr>
        <p:blipFill>
          <a:blip r:embed="rId2"/>
          <a:stretch/>
        </p:blipFill>
        <p:spPr>
          <a:xfrm>
            <a:off x="4356000" y="907920"/>
            <a:ext cx="45626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Картинка 2 из 131"/>
          <p:cNvPicPr/>
          <p:nvPr/>
        </p:nvPicPr>
        <p:blipFill>
          <a:blip r:embed="rId1"/>
          <a:stretch/>
        </p:blipFill>
        <p:spPr>
          <a:xfrm>
            <a:off x="0" y="0"/>
            <a:ext cx="5076720" cy="33148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Картинка 10 из 1092"/>
          <p:cNvPicPr/>
          <p:nvPr/>
        </p:nvPicPr>
        <p:blipFill>
          <a:blip r:embed="rId2"/>
          <a:stretch/>
        </p:blipFill>
        <p:spPr>
          <a:xfrm>
            <a:off x="3851280" y="2637000"/>
            <a:ext cx="5076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Картинка 70 из 3642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1214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971640" y="620640"/>
            <a:ext cx="7200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внимание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Картинка 9 из 16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549360"/>
            <a:ext cx="3816360" cy="4319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Картинка 1 из 131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1916280"/>
            <a:ext cx="4032360" cy="4746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291560" y="333000"/>
            <a:ext cx="485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Царь-колокол был отлит Ива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 Михаилом Моториными в 1733-173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 Пушечном дво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4819680"/>
            <a:ext cx="4214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Царь-пушка была отлита из брон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1586 году Андреем Чоховым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ушечном дво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Картинка 3 из 605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04640"/>
            <a:ext cx="3598920" cy="4170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Картинка 8 из 767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620640"/>
            <a:ext cx="3395520" cy="4176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Картинка 33 из 318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0360" y="3429000"/>
            <a:ext cx="2808360" cy="3429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31068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Успенский Собор – старейшее пол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охранившееся здание Москв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85800" y="267840"/>
            <a:ext cx="464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локольня Ивана Великого – сам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ысокое здание Московского Крем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ысота – 81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85480" y="5013000"/>
            <a:ext cx="449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кровский собор был постро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1555-1561 г. по приказу Ив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розного в память о взятии Каза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767ff"/>
                </a:solidFill>
                <a:latin typeface="Arial"/>
              </a:rPr>
              <a:t>Московский метрополите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Картинка 13 из 17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125360"/>
            <a:ext cx="4237200" cy="5288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Картинка 7 из 37934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24360" y="2133720"/>
            <a:ext cx="5219640" cy="4321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788000" y="1131480"/>
            <a:ext cx="36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осковский метрополитен был откры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5 мая 193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04640"/>
            <a:ext cx="4762440" cy="3791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Картинка 14 из 12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1989000"/>
            <a:ext cx="5076720" cy="3381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Картинка 16 из 15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4360" y="3429000"/>
            <a:ext cx="4752720" cy="3152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859280" y="76464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настоящее время Мос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етрополитен насчитыв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82 стан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Коломенско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Картинка 16 из 225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197000"/>
            <a:ext cx="8137440" cy="5661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12000" y="1060200"/>
            <a:ext cx="539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ервое упоминание об усадьбе относится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336 году. Строительство же началось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528-1770 г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Василий II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981000"/>
            <a:ext cx="3243240" cy="4481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Картинка 6 из 58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1413000"/>
            <a:ext cx="4128840" cy="5178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853080" y="259920"/>
            <a:ext cx="491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Храм Вознесения Господня явля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ервым каменным шатровым храмом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7800" y="5660640"/>
            <a:ext cx="41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ньги на строительство бы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делены Василием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Картинка 12 из 844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04640"/>
            <a:ext cx="3529080" cy="4753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Картинка 11 из 13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08360" y="2997360"/>
            <a:ext cx="5076720" cy="3381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286160" y="555120"/>
            <a:ext cx="456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садьба Измайлово была постро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 указу царя Алексея Михайловича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VI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е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2T14:39:33Z</dcterms:created>
  <dc:creator>настя</dc:creator>
  <dc:description/>
  <dc:language>en-US</dc:language>
  <cp:lastModifiedBy>www.PHILka.RU</cp:lastModifiedBy>
  <dcterms:modified xsi:type="dcterms:W3CDTF">2011-09-23T10:08:07Z</dcterms:modified>
  <cp:revision>4</cp:revision>
  <dc:subject/>
  <dc:title>Достопримечательности Москв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41f0000000000010250300207f7000400038000</vt:lpwstr>
  </property>
</Properties>
</file>