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40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43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36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7EF3C-906D-449C-93F5-90B49579D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75E24-B2F8-4A37-B3D2-B934B9D08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58ED3-2BB7-4438-A961-01EC523C4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8ABAE-14F6-49AC-A32F-3B5D67F08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50088-0F28-4F50-BF08-474FC3852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8200A-BCA9-427E-93A9-512099986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485D7-B645-440D-ACBA-FB6CF8961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0AD29-2D7A-4B73-86D1-B7FC8D289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8AF77-3144-4B7C-86E2-AACE8DAE8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AC873-9065-43C2-B56A-FB0E0DC48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33F58-CF91-4CCF-AAD4-5CD54C28C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5469E-261A-4CB8-9171-63BD93D9D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0A335-A2AD-464D-9CE3-CBE962D93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BD361-6189-43CB-8156-C476DA155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1A9A4-AF41-4C75-8B1C-61761E782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68AE3-A614-4AE7-B6BC-94A198E3E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3F071-841D-4FF7-A5CF-22723AF99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2B893-B5C0-41B7-91CA-D7C698417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B720D-BD8C-427E-B044-13916F58F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C6573-749F-414E-BB4B-7619254E4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D82A8-F822-4306-84CF-F6523F959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3ACA5-1560-45EB-8672-8E7C7D8D2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21ADF-3257-458F-9A83-982A79EEC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05BB3-4BCE-426A-9D2F-B3F384D19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1C093-5C46-4421-9E4C-226442C046F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9C42A-9A90-46A3-BF5D-D8AF8615C93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img-fotki.yandex.ru/get/13/cska-moskow58.5/0_7004_2a8686e5_XL" TargetMode="External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img-fotki.yandex.ru/get/3300/antonio-2.1b/0_1b035_6e92987c_XL.jpg" TargetMode="External"/><Relationship Id="rId2" Type="http://schemas.openxmlformats.org/officeDocument/2006/relationships/image" Target="../media/image19.jpeg"/><Relationship Id="rId3" Type="http://schemas.openxmlformats.org/officeDocument/2006/relationships/hyperlink" Target="http://vparke.ru/str/0079/16.jpg" TargetMode="External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homeland-tour.ru/pics_1/moscow/moscow_usadba_tsaritsyno_10.jpg" TargetMode="External"/><Relationship Id="rId2" Type="http://schemas.openxmlformats.org/officeDocument/2006/relationships/image" Target="../media/image21.jpeg"/><Relationship Id="rId3" Type="http://schemas.openxmlformats.org/officeDocument/2006/relationships/hyperlink" Target="http://upload.wikimedia.org/wikipedia/commons/3/37/&#1052;&#1072;&#1083;&#1099;&#1081;-&#1076;&#1074;&#1086;&#1088;&#1077;&#1094;-04.jpg" TargetMode="External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sh14.ru/sites/default/files/images1111/photo/buildings/47ac417fadd8794faadcb05dc1bd181b.jpg" TargetMode="External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stihi.ru/pics/2008/08/07/229.jpg" TargetMode="External"/><Relationship Id="rId2" Type="http://schemas.openxmlformats.org/officeDocument/2006/relationships/image" Target="../media/image24.jpeg"/><Relationship Id="rId3" Type="http://schemas.openxmlformats.org/officeDocument/2006/relationships/hyperlink" Target="http://biography.sgu.ru/bio/data/files/pictures/image/39879.jpg" TargetMode="External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content.tourall.ru/img/big/280566.jpg" TargetMode="External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s12.radikal.ru/i185/0911/1f/cddee561f9de.jpg" TargetMode="External"/><Relationship Id="rId2" Type="http://schemas.openxmlformats.org/officeDocument/2006/relationships/image" Target="../media/image27.jpeg"/><Relationship Id="rId3" Type="http://schemas.openxmlformats.org/officeDocument/2006/relationships/hyperlink" Target="http://www.photo.inc.ru/photo/zakat09.jpg" TargetMode="External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yy.if.ua/ostankino/images/dsc08268.jpg" TargetMode="External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keep4u.ru/imgs/b/070918/3de7eff136327ffad7.jpg" TargetMode="External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centl.ru/users/269/posts/4104526949f06fcb/images/tchm.jpg" TargetMode="External"/><Relationship Id="rId2" Type="http://schemas.openxmlformats.org/officeDocument/2006/relationships/image" Target="../media/image31.jpeg"/><Relationship Id="rId3" Type="http://schemas.openxmlformats.org/officeDocument/2006/relationships/hyperlink" Target="http://images.ng.ru/files/galleries/1104/12332-large.jpg" TargetMode="External"/><Relationship Id="rId4" Type="http://schemas.openxmlformats.org/officeDocument/2006/relationships/image" Target="../media/image32.jpeg"/><Relationship Id="rId5" Type="http://schemas.openxmlformats.org/officeDocument/2006/relationships/hyperlink" Target="http://www.photo-moskva.ru/Metro_VDNH/Panorama_VDNH_03.jpg" TargetMode="External"/><Relationship Id="rId6" Type="http://schemas.openxmlformats.org/officeDocument/2006/relationships/image" Target="../media/image33.jpeg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g-fotki.yandex.ru/get/23/worldoftourism.0/0_b2de_5e5006c1_XL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photos.lifeisphoto.ru/53/0/536010.jpg" TargetMode="External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img1.liveinternet.ru/images/foto/b/3/658/2459658/f_16051543.jpg" TargetMode="External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s14.radikal.ru/i187/0907/9a/ada5255f9510.jpg" TargetMode="External"/><Relationship Id="rId2" Type="http://schemas.openxmlformats.org/officeDocument/2006/relationships/image" Target="../media/image36.jpeg"/><Relationship Id="rId3" Type="http://schemas.openxmlformats.org/officeDocument/2006/relationships/hyperlink" Target="http://savepic.ru/392350.jpg" TargetMode="External"/><Relationship Id="rId4" Type="http://schemas.openxmlformats.org/officeDocument/2006/relationships/image" Target="../media/image37.jpe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mo-la.ru/images/100.jpg" TargetMode="External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wholeearth.ru/pic.php?f=/images002/image_s0HOC7b5SYythgSb64B143vV.jpg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i055.radikal.ru/0908/68/04382d7b7356.jpg" TargetMode="Externa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g-fotki.yandex.ru/get/12/atner.b/0_623c_2edecccd_XL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www.showbirja.ru/users/506102/newsfoto/4a03d923b2bfd.jpg" TargetMode="External"/><Relationship Id="rId4" Type="http://schemas.openxmlformats.org/officeDocument/2006/relationships/image" Target="../media/image6.jpeg"/><Relationship Id="rId5" Type="http://schemas.openxmlformats.org/officeDocument/2006/relationships/hyperlink" Target="http://img1.liveinternet.ru/images/attach/c/0/30/594/30594038_0001.jpg" TargetMode="External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g-fotki.yandex.ru/get/4/drug4all.7/0_220e_18e7dad6_XL" TargetMode="External"/><Relationship Id="rId2" Type="http://schemas.openxmlformats.org/officeDocument/2006/relationships/image" Target="../media/image8.jpeg"/><Relationship Id="rId3" Type="http://schemas.openxmlformats.org/officeDocument/2006/relationships/hyperlink" Target="http://e.lidenz.ru/wp-content/gallery/activities_mow_metro/kiyevskaya-koltsevaya.jpg" TargetMode="External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fotki.yandex.ru/users/fita1/view/276966/?page=0" TargetMode="External"/><Relationship Id="rId2" Type="http://schemas.openxmlformats.org/officeDocument/2006/relationships/image" Target="../media/image10.jpeg"/><Relationship Id="rId3" Type="http://schemas.openxmlformats.org/officeDocument/2006/relationships/hyperlink" Target="http://www.metro-photo.ru/data/media/37/rizh-nom.JPG" TargetMode="External"/><Relationship Id="rId4" Type="http://schemas.openxmlformats.org/officeDocument/2006/relationships/image" Target="../media/image11.jpeg"/><Relationship Id="rId5" Type="http://schemas.openxmlformats.org/officeDocument/2006/relationships/hyperlink" Target="http://kp.ru/upimg/photo/108720.jpg" TargetMode="External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forum.rin.ru/uploads/post-15-1113573660.jpg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72;&#1081;&#1083;:Vasiliy3_titularnik.jpg" TargetMode="External"/><Relationship Id="rId2" Type="http://schemas.openxmlformats.org/officeDocument/2006/relationships/image" Target="../media/image14.jpeg"/><Relationship Id="rId3" Type="http://schemas.openxmlformats.org/officeDocument/2006/relationships/hyperlink" Target="http://smallbay.ru/images6/h4.jpg" TargetMode="External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narodna.pravda.com.ua/images/doc/4b01b-aleksej0mih.jpg" TargetMode="External"/><Relationship Id="rId2" Type="http://schemas.openxmlformats.org/officeDocument/2006/relationships/image" Target="../media/image16.jpeg"/><Relationship Id="rId3" Type="http://schemas.openxmlformats.org/officeDocument/2006/relationships/hyperlink" Target="http://www.snailscity.ru/images/travel/kolomenskoe/_MG_3356.jpg" TargetMode="External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Достопримечательности Москв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971640" y="1413000"/>
            <a:ext cx="7345440" cy="489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ff"/>
                </a:solidFill>
                <a:latin typeface="Arial"/>
              </a:rPr>
              <a:t>Царицыно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Картинка 6 из 1282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26920" y="1413000"/>
            <a:ext cx="7417080" cy="511164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826920" y="1501560"/>
            <a:ext cx="4762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В 1775 году местность была купле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Екатериной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I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, которая реши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устроить здесь царскую резиденцию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Картинка 18 из 6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5280" y="260280"/>
            <a:ext cx="5076720" cy="339084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Картинка 13 из 36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851280" y="3716280"/>
            <a:ext cx="4762440" cy="291456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5184360" y="691920"/>
            <a:ext cx="393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Диаметр водной поверх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поющего фонтана составля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55 метр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080" y="4365000"/>
            <a:ext cx="431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Фонтан подсвечивают почти 4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подводных светильник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Картинка 1 из 15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4000" y="189000"/>
            <a:ext cx="5076720" cy="380988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Файл:Малый-дворец-04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276720" y="1700280"/>
            <a:ext cx="5389560" cy="472428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5317200" y="475560"/>
            <a:ext cx="382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Фигурный мост был построе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в 1776-1778 год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1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Картинка 75 из 8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0920" y="549360"/>
            <a:ext cx="8497800" cy="59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cc00"/>
                </a:solidFill>
                <a:latin typeface="Arial"/>
              </a:rPr>
              <a:t>Останкино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Картинка 4 из 1114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4000" y="1052640"/>
            <a:ext cx="5076720" cy="373356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Картинка 4 из 234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508720" y="2637000"/>
            <a:ext cx="3095640" cy="380988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540360" y="5020560"/>
            <a:ext cx="486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Дворец был выстроен по замыслу и заказ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графа  Н.П. Шереметье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4360" y="10526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508720" y="1131480"/>
            <a:ext cx="302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Останкинский дворец – жемчуж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русского искусства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XV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Картинка 18 из 1114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5280" y="620640"/>
            <a:ext cx="8280360" cy="583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Картинка 48 из 1114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0920" y="765000"/>
            <a:ext cx="3816360" cy="546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Картинка 17 из 2202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500720" y="836640"/>
            <a:ext cx="3958920" cy="53229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71240" y="123120"/>
            <a:ext cx="816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По высоте Останкинская телебашня занимает 5 место в мире. Е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высота составляет 540 метр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Картинка 32 из 8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4000" y="260280"/>
            <a:ext cx="8351640" cy="597708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396000" y="259560"/>
            <a:ext cx="460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Вид на Москву с высоты 337 метр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Картинка 11 из 2739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1413000"/>
            <a:ext cx="8207280" cy="489564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ВВЦ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Картинка 48 из 6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0920" y="0"/>
            <a:ext cx="3384360" cy="295740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Картинка 18 из 2620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500720" y="0"/>
            <a:ext cx="4286160" cy="288612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Картинка 75 из 298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484360" y="3048120"/>
            <a:ext cx="41338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Московский Кремль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Картинка 24 из 3169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5280" y="1052640"/>
            <a:ext cx="8280360" cy="54720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1192320" y="1347120"/>
            <a:ext cx="487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Существующие стены и башни Кремл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Были построены в 1485-95 год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27720" y="5300280"/>
            <a:ext cx="5590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Общая протяженность стен Кремля 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5 м, высота от 5 до 20 метров, толщина 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от 3,5 до 6,5 метр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57200" y="188640"/>
            <a:ext cx="8229600" cy="59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Ростокинский акведук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Картинка 136 из 19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981000"/>
            <a:ext cx="828036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Лосиный остров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Картинка 34 из 358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1413000"/>
            <a:ext cx="8280360" cy="51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Картинка 1 из 3771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4809960" cy="380988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Картинка 18 из 121602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714920" y="2852640"/>
            <a:ext cx="4429080" cy="359424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5077440" y="475560"/>
            <a:ext cx="382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Обитатели Лосиного остр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Ботанический сад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Картинка 3 из 67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9280" y="1844640"/>
            <a:ext cx="6697800" cy="46087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3709440" y="1059840"/>
            <a:ext cx="521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Ботанический сад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«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  <a:ea typeface="Arial"/>
              </a:rPr>
              <a:t>Аптекарский огород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«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  <a:ea typeface="Arial"/>
              </a:rPr>
              <a:t> 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  <a:ea typeface="Arial"/>
              </a:rPr>
              <a:t>старейший в Росс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Воробьевы горы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Картинка 12 из 13216"/>
          <p:cNvPicPr/>
          <p:nvPr/>
        </p:nvPicPr>
        <p:blipFill>
          <a:blip r:embed="rId1"/>
          <a:stretch/>
        </p:blipFill>
        <p:spPr>
          <a:xfrm>
            <a:off x="468360" y="1484280"/>
            <a:ext cx="3672000" cy="431496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Картинка 1 из 53067"/>
          <p:cNvPicPr/>
          <p:nvPr/>
        </p:nvPicPr>
        <p:blipFill>
          <a:blip r:embed="rId2"/>
          <a:stretch/>
        </p:blipFill>
        <p:spPr>
          <a:xfrm>
            <a:off x="4356000" y="907920"/>
            <a:ext cx="456264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Картинка 2 из 131"/>
          <p:cNvPicPr/>
          <p:nvPr/>
        </p:nvPicPr>
        <p:blipFill>
          <a:blip r:embed="rId1"/>
          <a:stretch/>
        </p:blipFill>
        <p:spPr>
          <a:xfrm>
            <a:off x="0" y="0"/>
            <a:ext cx="5076720" cy="331488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Картинка 10 из 1092"/>
          <p:cNvPicPr/>
          <p:nvPr/>
        </p:nvPicPr>
        <p:blipFill>
          <a:blip r:embed="rId2"/>
          <a:stretch/>
        </p:blipFill>
        <p:spPr>
          <a:xfrm>
            <a:off x="3851280" y="2637000"/>
            <a:ext cx="507672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Картинка 70 из 3642"/>
          <p:cNvPicPr/>
          <p:nvPr/>
        </p:nvPicPr>
        <p:blipFill>
          <a:blip r:embed="rId1"/>
          <a:stretch/>
        </p:blipFill>
        <p:spPr>
          <a:xfrm>
            <a:off x="468360" y="260280"/>
            <a:ext cx="8207280" cy="612144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 txBox="1"/>
          <p:nvPr/>
        </p:nvSpPr>
        <p:spPr>
          <a:xfrm>
            <a:off x="971640" y="620640"/>
            <a:ext cx="720072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пасибо за внимание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Картинка 9 из 162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1280" y="549360"/>
            <a:ext cx="3816360" cy="43196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Картинка 1 из 131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716360" y="1916280"/>
            <a:ext cx="4032360" cy="47466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4291560" y="333000"/>
            <a:ext cx="4850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Царь-колокол был отлит Иван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И Михаилом Моториными в 1733-1735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на Пушечном двор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5280" y="4819680"/>
            <a:ext cx="4214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Царь-пушка была отлита из бронз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в 1586 году Андреем Чоховым 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Пушечном двор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Картинка 3 из 605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404640"/>
            <a:ext cx="3598920" cy="41706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Картинка 8 из 767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427640" y="620640"/>
            <a:ext cx="3395520" cy="41767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Картинка 33 из 3182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940360" y="3429000"/>
            <a:ext cx="2808360" cy="34290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250920" y="310680"/>
            <a:ext cx="3889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Успенский Собор – старейшее полностью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сохранившееся здание Москв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285800" y="267840"/>
            <a:ext cx="4649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Колокольня Ивана Великого – само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Высокое здание Московского Кремл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Высота – 81 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185480" y="5013000"/>
            <a:ext cx="4493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Покровский собор был построе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в 1555-1561 г. по приказу Ива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Грозного в память о взятии Казан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6767ff"/>
                </a:solidFill>
                <a:latin typeface="Arial"/>
              </a:rPr>
              <a:t>Московский метрополитен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Картинка 13 из 172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5280" y="1125360"/>
            <a:ext cx="4237200" cy="528804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Картинка 7 из 379342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924360" y="2133720"/>
            <a:ext cx="5219640" cy="432108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4788000" y="1131480"/>
            <a:ext cx="367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Московский метрополитен был откры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5 мая 1935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7" dur="3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9640" y="404640"/>
            <a:ext cx="4762440" cy="37911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Картинка 14 из 1294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067280" y="1989000"/>
            <a:ext cx="5076720" cy="33814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Картинка 16 из 154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84360" y="3429000"/>
            <a:ext cx="4752720" cy="315288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4859280" y="764640"/>
            <a:ext cx="4022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В настоящее время Москов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метрополитен насчитывае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82 стан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4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0000"/>
                </a:solidFill>
                <a:latin typeface="Arial"/>
              </a:rPr>
              <a:t>Коломенское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Картинка 16 из 2256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5280" y="1197000"/>
            <a:ext cx="8137440" cy="56610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612000" y="1060200"/>
            <a:ext cx="5398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Первое упоминание об усадьбе относится 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336 году. Строительство же началось 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528-1770 го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Василий III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9640" y="981000"/>
            <a:ext cx="3243240" cy="448164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Картинка 6 из 585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500720" y="1413000"/>
            <a:ext cx="4128840" cy="517824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3853080" y="259920"/>
            <a:ext cx="4915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Храм Вознесения Господня являетс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первым каменным шатровым храмом 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Росс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97800" y="5660640"/>
            <a:ext cx="411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Деньги на строительство был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Выделены Василием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Картинка 12 из 844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0920" y="404640"/>
            <a:ext cx="3529080" cy="475308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Картинка 11 из 133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708360" y="2997360"/>
            <a:ext cx="5076720" cy="338112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4286160" y="555120"/>
            <a:ext cx="4560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Усадьба Измайлово была построе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о указу царя Алексея Михайловича 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VII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век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2T14:39:33Z</dcterms:created>
  <dc:creator>настя</dc:creator>
  <dc:description/>
  <dc:language>en-US</dc:language>
  <cp:lastModifiedBy>www.PHILka.RU</cp:lastModifiedBy>
  <dcterms:modified xsi:type="dcterms:W3CDTF">2011-09-23T10:08:07Z</dcterms:modified>
  <cp:revision>4</cp:revision>
  <dc:subject/>
  <dc:title>Достопримечательности Москвы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b41f0000000000010250300207f7000400038000</vt:lpwstr>
  </property>
</Properties>
</file>