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069-DF94-4937-9717-2B58BA56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E71-FFDC-4F8E-8D7D-C4C07025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768-3D96-4AF6-85C3-33425FEA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45E-2403-4692-8971-C94F3D94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ED3B-4648-4814-8AEF-0F10AA10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C23-47CF-4017-ADBD-1215EA4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70B1-EA90-4EFC-988D-03ABFE4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0B1-4AE8-49C5-A1C8-5839417E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B719-3174-4465-A224-0E4E4FE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F73-8172-47C5-B2F2-A570E917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A33-0785-454A-832B-4E4708A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DA7-8DE3-4052-BCF1-6F6989C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9D7D-3CED-45D7-8F5D-FE13F56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881-1650-4BA8-A450-64E73BE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17F5-01B9-4B8D-A3BE-6786E84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B53-D95A-41CE-B008-D2AE8BCF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CFD-F82F-4A13-A45C-E402F379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CD5-BA2E-41CA-A04F-E4D8E0E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05B-266F-4D3F-A70F-6F01528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A0E-4012-42BE-B550-834CF6B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75E-432B-4D67-BCC3-8A452E6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302-A2FD-4F31-BD65-6DF0A7F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727-A1AD-48A8-B8CA-765FF46D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943-6A7E-4D05-B2EC-1B8FE29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F37C-A975-4E7F-9819-A60B6402EC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CA4-89CD-4669-897E-C74E0C99BA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cska-moskow58.5/0_7004_2a8686e5_X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0/antonio-2.1b/0_1b035_6e92987c_XL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vparke.ru/str/0079/16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meland-tour.ru/pics_1/moscow/moscow_usadba_tsaritsyno_1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3/37/&#1052;&#1072;&#1083;&#1099;&#1081;-&#1076;&#1074;&#1086;&#1088;&#1077;&#1094;-0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14.ru/sites/default/files/images1111/photo/buildings/47ac417fadd8794faadcb05dc1bd181b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ihi.ru/pics/2008/08/07/229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biography.sgu.ru/bio/data/files/pictures/image/39879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ntent.tourall.ru/img/big/280566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12.radikal.ru/i185/0911/1f/cddee561f9de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photo.inc.ru/photo/zakat09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y.if.ua/ostankino/images/dsc08268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keep4u.ru/imgs/b/070918/3de7eff136327ffad7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entl.ru/users/269/posts/4104526949f06fcb/images/tchm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ng.ru/files/galleries/1104/12332-large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photo-moskva.ru/Metro_VDNH/Panorama_VDNH_03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3/worldoftourism.0/0_b2de_5e5006c1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hotos.lifeisphoto.ru/53/0/536010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58/2459658/f_16051543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14.radikal.ru/i187/0907/9a/ada5255f9510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avepic.ru/392350.j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o-la.ru/images/100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leearth.ru/pic.php?f=/images002/image_s0HOC7b5SYythgSb64B143vV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055.radikal.ru/0908/68/04382d7b7356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atner.b/0_623c_2edecccd_X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showbirja.ru/users/506102/newsfoto/4a03d923b2bfd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g1.liveinternet.ru/images/attach/c/0/30/594/30594038_000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/drug4all.7/0_220e_18e7dad6_X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.lidenz.ru/wp-content/gallery/activities_mow_metro/kiyevskaya-koltsevay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ki.yandex.ru/users/fita1/view/276966/?page=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etro-photo.ru/data/media/37/rizh-nom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kp.ru/upimg/photo/10872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rin.ru/uploads/post-15-111357366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asiliy3_titularnik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smallbay.ru/images6/h4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arodna.pravda.com.ua/images/doc/4b01b-aleksej0mih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snailscity.ru/images/travel/kolomenskoe/_MG_3356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примечательности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3454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Царицы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6 из 12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1501560"/>
            <a:ext cx="47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775 году местность была куп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катерин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реш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роить здесь царскую резиденц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Картинка 18 из 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13 из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716280"/>
            <a:ext cx="4762440" cy="291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84360" y="691920"/>
            <a:ext cx="39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иаметр водн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ющего фонтана со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" y="4365000"/>
            <a:ext cx="43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нтан подсвечивают почти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водных свети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Файл:Малый-дворец-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700280"/>
            <a:ext cx="5389560" cy="4724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17200" y="47556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гурный мост был постро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776-1778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артинка 75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Arial"/>
              </a:rPr>
              <a:t>Останки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4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5076720" cy="3733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4 из 2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637000"/>
            <a:ext cx="309564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0360" y="502056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ворец был выстроен по замыслу и зак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рафа  Н.П. Шереме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1314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танкинский дворец – жемчу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усского искусства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Картинка 1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Картинка 4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546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7 из 2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836640"/>
            <a:ext cx="3958920" cy="5322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240" y="123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 высоте Останкинская телебашня занимает 5 место в мире.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ысота составляет 54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Картинка 32 из 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351640" cy="597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6000" y="2595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д на Москву с высоты 337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Картинка 11 из 27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В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Картинка 48 из 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384360" cy="29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8 из 26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28616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75 из 2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048120"/>
            <a:ext cx="4133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24 из 316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92320" y="134712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ществующие стены и башни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ыли построены в 1485-95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27720" y="5300280"/>
            <a:ext cx="55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ая протяженность стен Кремл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5 м, высота от 5 до 20 метров, толщин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3,5 до 6,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токинский аквед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136 из 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осиный остр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Картинка 34 из 3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артинка 1 из 37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996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8 из 1216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2640"/>
            <a:ext cx="4429080" cy="359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7440" y="47556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итатели Лосиного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отанический са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Картинка 3 из 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6697800" cy="460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09440" y="1059840"/>
            <a:ext cx="52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отанический сад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птекарский огород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ейший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оробьевы го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Картинка 12 из 13216"/>
          <p:cNvPicPr/>
          <p:nvPr/>
        </p:nvPicPr>
        <p:blipFill>
          <a:blip r:embed="rId1"/>
          <a:stretch/>
        </p:blipFill>
        <p:spPr>
          <a:xfrm>
            <a:off x="468360" y="1484280"/>
            <a:ext cx="3672000" cy="4314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1 из 53067"/>
          <p:cNvPicPr/>
          <p:nvPr/>
        </p:nvPicPr>
        <p:blipFill>
          <a:blip r:embed="rId2"/>
          <a:stretch/>
        </p:blipFill>
        <p:spPr>
          <a:xfrm>
            <a:off x="4356000" y="907920"/>
            <a:ext cx="4562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2 из 131"/>
          <p:cNvPicPr/>
          <p:nvPr/>
        </p:nvPicPr>
        <p:blipFill>
          <a:blip r:embed="rId1"/>
          <a:stretch/>
        </p:blipFill>
        <p:spPr>
          <a:xfrm>
            <a:off x="0" y="0"/>
            <a:ext cx="5076720" cy="3314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0 из 1092"/>
          <p:cNvPicPr/>
          <p:nvPr/>
        </p:nvPicPr>
        <p:blipFill>
          <a:blip r:embed="rId2"/>
          <a:stretch/>
        </p:blipFill>
        <p:spPr>
          <a:xfrm>
            <a:off x="3851280" y="263700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Картинка 70 из 3642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71640" y="620640"/>
            <a:ext cx="72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9 из 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49360"/>
            <a:ext cx="38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1 из 1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916280"/>
            <a:ext cx="4032360" cy="474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91560" y="333000"/>
            <a:ext cx="48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колокол был отлит Ив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Михаилом Моториными в 1733-17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81968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пушка была отлита из брон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86 году Андреем Чоховы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3 из 60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598920" cy="417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8 из 76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620640"/>
            <a:ext cx="3395520" cy="41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33 из 31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3429000"/>
            <a:ext cx="280836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3106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спенский Собор – старейшее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хранившееся здание Моск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5800" y="267840"/>
            <a:ext cx="46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локольня Ивана Великого – са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кое здание Московского Кр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та – 8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5480" y="501300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ровский собор был постро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55-1561 г. по приказу 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озного в память о взятии Каз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Московский метрополите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3 из 17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25360"/>
            <a:ext cx="4237200" cy="528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7 из 3793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2133720"/>
            <a:ext cx="5219640" cy="432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1314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сковский метрополитен был откр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 мая 19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4762440" cy="379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4 из 12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89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16 из 1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29000"/>
            <a:ext cx="4752720" cy="31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76464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астоящее время Мос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рополитен насчит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82 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Коломенско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а 16 из 22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97000"/>
            <a:ext cx="8137440" cy="5661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2000" y="106020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упоминание об усадьбе относит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336 году. Строительство же началос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28-1770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Василий I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81000"/>
            <a:ext cx="3243240" cy="448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6 из 5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413000"/>
            <a:ext cx="4128840" cy="5178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53080" y="259920"/>
            <a:ext cx="49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ам Вознесения Господня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м каменным шатровым храмо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800" y="566064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ньги на строительство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елены Василие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12 из 8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529080" cy="47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11 из 1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99736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86160" y="55512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адьба Измайлово была постро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указу царя Алексея Михайлович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4:39:33Z</dcterms:created>
  <dc:creator>настя</dc:creator>
  <dc:description/>
  <dc:language>en-US</dc:language>
  <cp:lastModifiedBy>www.PHILka.RU</cp:lastModifiedBy>
  <dcterms:modified xsi:type="dcterms:W3CDTF">2011-09-23T10:08:07Z</dcterms:modified>
  <cp:revision>4</cp:revision>
  <dc:subject/>
  <dc:title>Достопримечательности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1f0000000000010250300207f7000400038000</vt:lpwstr>
  </property>
</Properties>
</file>