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350-1627-4924-827A-BE03E10F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509-A6BD-420B-BF6E-AD52818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BAD-CF1A-4551-8F6B-CD8AAC93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737-E6CE-4586-99E1-9DE9D302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E513-6E24-497E-9086-7A691516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A68A-8583-4C10-9232-2A8EF83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7C20-B201-434B-87DF-A5BDA6B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DC9C-E582-425C-BD35-1646E13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9986-D882-4485-8BF8-7247B554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295C-6831-44EC-8BF9-7E7ECDD1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1F5-D3E6-4CD3-9291-543067D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A16-D0E0-4480-AE15-76B09522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E9C8-8BFA-4B17-8319-3D034BE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32F2-CC44-4E63-B2B7-1A2B45F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3AD5-53FB-4370-83B3-7E84759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2BA-FA4A-4DFD-9B92-D44EDA89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0A3B-4BB6-41C4-8976-8D10D8DA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CBB-B692-497C-840A-91F41A6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8EE-1BF0-45A0-8DB7-718CC90F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15D-D647-4FC2-90C0-663E572C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7CA-198E-4BE7-9CE6-427BD6D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CA0-BC10-4055-84A0-67DBDD01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343-89AA-4F2D-8C26-980B72F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AF7-A093-463D-868E-6CAE0C9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608-8320-4701-A183-4844AD89E8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687-9776-4F5D-887F-F1334B95F4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Доля России в мировых запасах цветных металл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еди                                         11%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винца                                      12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инка                                        16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лова                                        27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бальта                                   21%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икеля                                      3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Не хватает алюминиевых руд, ртути, сурьмы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!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476280"/>
            <a:ext cx="75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ные металл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2531880"/>
            <a:ext cx="9143640" cy="3153960"/>
            <a:chOff x="0" y="2531880"/>
            <a:chExt cx="9143640" cy="3153960"/>
          </a:xfrm>
        </p:grpSpPr>
        <p:cxnSp>
          <p:nvCxnSpPr>
            <p:cNvPr id="90" name="_s10322"/>
            <p:cNvCxnSpPr>
              <a:stCxn id="91" idx="0"/>
              <a:endCxn id="92" idx="2"/>
            </p:cNvCxnSpPr>
            <p:nvPr/>
          </p:nvCxnSpPr>
          <p:spPr>
            <a:xfrm flipV="1">
              <a:off x="8109360" y="3918960"/>
              <a:ext cx="252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20"/>
            <p:cNvCxnSpPr>
              <a:stCxn id="94" idx="0"/>
              <a:endCxn id="95" idx="2"/>
            </p:cNvCxnSpPr>
            <p:nvPr/>
          </p:nvCxnSpPr>
          <p:spPr>
            <a:xfrm flipV="1">
              <a:off x="5751360" y="3918960"/>
              <a:ext cx="252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318"/>
            <p:cNvCxnSpPr>
              <a:stCxn id="97" idx="0"/>
              <a:endCxn id="98" idx="2"/>
            </p:cNvCxnSpPr>
            <p:nvPr/>
          </p:nvCxnSpPr>
          <p:spPr>
            <a:xfrm flipV="1">
              <a:off x="3393720" y="3918960"/>
              <a:ext cx="28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16"/>
            <p:cNvCxnSpPr>
              <a:stCxn id="100" idx="0"/>
              <a:endCxn id="101" idx="2"/>
            </p:cNvCxnSpPr>
            <p:nvPr/>
          </p:nvCxnSpPr>
          <p:spPr>
            <a:xfrm flipV="1">
              <a:off x="1033920" y="3918960"/>
              <a:ext cx="28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314"/>
            <p:cNvCxnSpPr>
              <a:stCxn id="92" idx="0"/>
              <a:endCxn id="103" idx="2"/>
            </p:cNvCxnSpPr>
            <p:nvPr/>
          </p:nvCxnSpPr>
          <p:spPr>
            <a:xfrm flipV="1" rot="16200000">
              <a:off x="6225840" y="1578240"/>
              <a:ext cx="228960" cy="3538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10"/>
            <p:cNvCxnSpPr>
              <a:stCxn id="95" idx="0"/>
              <a:endCxn id="103" idx="2"/>
            </p:cNvCxnSpPr>
            <p:nvPr/>
          </p:nvCxnSpPr>
          <p:spPr>
            <a:xfrm flipV="1" rot="16200000">
              <a:off x="5047200" y="2756880"/>
              <a:ext cx="228960" cy="1180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9"/>
            <p:cNvCxnSpPr>
              <a:stCxn id="98" idx="0"/>
              <a:endCxn id="103" idx="2"/>
            </p:cNvCxnSpPr>
            <p:nvPr/>
          </p:nvCxnSpPr>
          <p:spPr>
            <a:xfrm flipH="1" flipV="1" rot="5400000">
              <a:off x="3867840" y="2758320"/>
              <a:ext cx="228960" cy="117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8"/>
            <p:cNvCxnSpPr>
              <a:stCxn id="101" idx="0"/>
              <a:endCxn id="103" idx="2"/>
            </p:cNvCxnSpPr>
            <p:nvPr/>
          </p:nvCxnSpPr>
          <p:spPr>
            <a:xfrm flipH="1" flipV="1" rot="5400000">
              <a:off x="2688120" y="1578600"/>
              <a:ext cx="228960" cy="3538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04"/>
            <p:cNvSpPr/>
            <p:nvPr/>
          </p:nvSpPr>
          <p:spPr>
            <a:xfrm>
              <a:off x="3710520" y="2531880"/>
              <a:ext cx="1721880" cy="7012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Цв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етал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05"/>
            <p:cNvSpPr/>
            <p:nvPr/>
          </p:nvSpPr>
          <p:spPr>
            <a:xfrm>
              <a:off x="0" y="3462120"/>
              <a:ext cx="207036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тяжел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6"/>
            <p:cNvSpPr/>
            <p:nvPr/>
          </p:nvSpPr>
          <p:spPr>
            <a:xfrm>
              <a:off x="2357280" y="3462120"/>
              <a:ext cx="207072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лег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07"/>
            <p:cNvSpPr/>
            <p:nvPr/>
          </p:nvSpPr>
          <p:spPr>
            <a:xfrm>
              <a:off x="4715280" y="3462120"/>
              <a:ext cx="207072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благород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13"/>
            <p:cNvSpPr/>
            <p:nvPr/>
          </p:nvSpPr>
          <p:spPr>
            <a:xfrm>
              <a:off x="7073280" y="3462120"/>
              <a:ext cx="207036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редкозем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15"/>
            <p:cNvSpPr/>
            <p:nvPr/>
          </p:nvSpPr>
          <p:spPr>
            <a:xfrm>
              <a:off x="175320" y="4147920"/>
              <a:ext cx="171972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мед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цинк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вине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оло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никел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17"/>
            <p:cNvSpPr/>
            <p:nvPr/>
          </p:nvSpPr>
          <p:spPr>
            <a:xfrm>
              <a:off x="2532600" y="4147920"/>
              <a:ext cx="172008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алюми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маг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тита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19"/>
            <p:cNvSpPr/>
            <p:nvPr/>
          </p:nvSpPr>
          <p:spPr>
            <a:xfrm>
              <a:off x="4890600" y="4147920"/>
              <a:ext cx="172008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золот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плати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еребр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21"/>
            <p:cNvSpPr/>
            <p:nvPr/>
          </p:nvSpPr>
          <p:spPr>
            <a:xfrm>
              <a:off x="7248600" y="4147920"/>
              <a:ext cx="171972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цирко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ел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герма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5320" y="628668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1761" y="17487"/>
                </a:moveTo>
                <a:cubicBezTo>
                  <a:pt x="1761" y="17428"/>
                  <a:pt x="1742" y="17588"/>
                  <a:pt x="1736" y="17636"/>
                </a:cubicBezTo>
              </a:path>
            </a:pathLst>
          </a:custGeom>
          <a:noFill/>
          <a:ln cap="rnd" w="349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цветной    металлург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3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349360"/>
            <a:ext cx="2087640" cy="574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Добыч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ру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256536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276640"/>
            <a:ext cx="223200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ГОК(обогащени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56536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276640"/>
            <a:ext cx="2160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лав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чер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2492280"/>
            <a:ext cx="539640" cy="217440"/>
          </a:xfrm>
          <a:prstGeom prst="rightArrow">
            <a:avLst>
              <a:gd name="adj1" fmla="val 50000"/>
              <a:gd name="adj2" fmla="val 620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4076640"/>
            <a:ext cx="4392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лавка рафинированного (чистог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365720"/>
            <a:ext cx="1150920" cy="71280"/>
          </a:xfrm>
          <a:prstGeom prst="rightArrow">
            <a:avLst>
              <a:gd name="adj1" fmla="val 50000"/>
              <a:gd name="adj2" fmla="val 40366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005360"/>
            <a:ext cx="187164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ок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держание металла в ру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Железа в руде от 25%  до4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еди в руде – 1-2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лова в руде менее1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получения 1т меди требуется около 100т ру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олова необходимо более300т ру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карте «Металлургия» найдите медеплавильные, никелевые, оловянные и цинковые заводы. Где сформирована основная металлургическая база тяжелых цветных металлов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Легкие, благородные металлы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итан, алюминий, магний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изводят у источников дешевой энерг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овите крупные за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быча золот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м-Магаданская-29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м-Красноярский край-18 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м-Якутия-13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м-Иркутская-12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дется в Восточной Сибири и на Дальнем Вост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блемы и перспективы цветной           металлур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стощение месторождений медных, алюминиевых ру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тсутствие крупных месторождений марганцевых, хромитовых, титановых ру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ороговизна российского металла из-за монополии заводов-гига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кологическая проблема грязных отрас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бросы вредных веществ в атмосфе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66640" y="1752480"/>
          <a:ext cx="8001000" cy="41608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сли промыш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ных веществ, в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пл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ная металлур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 и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спектив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витие Дальневосточной металлургической баз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Применение новых технологий добычи руд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работаны гео- и биотехнологии, позволяющие сохранять ландшаф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создание автоматизированных мини-завод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использование вторсырья (металлолом), при плавке 1т металлолома экономится 4т руды, 530т мед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Загрязнение атмосферы сокращается в 7 раз, количество отходов снизится в 16 раз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Межотраслевые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аллург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92360" y="4220280"/>
            <a:ext cx="792000" cy="71640"/>
          </a:xfrm>
          <a:prstGeom prst="leftArrow">
            <a:avLst>
              <a:gd name="adj1" fmla="val 50000"/>
              <a:gd name="adj2" fmla="val 27638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149720"/>
            <a:ext cx="1295640" cy="71280"/>
          </a:xfrm>
          <a:prstGeom prst="rightArrow">
            <a:avLst>
              <a:gd name="adj1" fmla="val 50000"/>
              <a:gd name="adj2" fmla="val 45441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2781360"/>
            <a:ext cx="72720" cy="1295280"/>
          </a:xfrm>
          <a:prstGeom prst="upArrow">
            <a:avLst>
              <a:gd name="adj1" fmla="val 50000"/>
              <a:gd name="adj2" fmla="val 44529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437000"/>
            <a:ext cx="72720" cy="792360"/>
          </a:xfrm>
          <a:prstGeom prst="downArrow">
            <a:avLst>
              <a:gd name="adj1" fmla="val 50000"/>
              <a:gd name="adj2" fmla="val 27240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205000"/>
            <a:ext cx="280836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2303280" cy="649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ктр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нерг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5229360"/>
            <a:ext cx="4105440" cy="107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лезнодор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005360"/>
            <a:ext cx="1441440" cy="1008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аш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443700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20:17Z</dcterms:created>
  <dc:creator>Nik</dc:creator>
  <dc:description/>
  <dc:language>en-US</dc:language>
  <cp:lastModifiedBy>Loner-XP</cp:lastModifiedBy>
  <dcterms:modified xsi:type="dcterms:W3CDTF">2009-08-05T16:42:05Z</dcterms:modified>
  <cp:revision>15</cp:revision>
  <dc:subject/>
  <dc:title>Доля России в мировых запасах цветных метал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00000000000010250300207f7000400038000</vt:lpwstr>
  </property>
</Properties>
</file>