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323-815B-4CB4-989B-F184FDE4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B60-D94B-494D-8E73-8F4B3642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702-CFC2-4A8E-9570-86127DA2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733-889C-47AD-807C-752E4119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E242-674B-43FB-A256-43DE82D5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3ED7-92F4-4F3D-A98F-8E7E10F6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28E0-4D45-48EA-A91D-8FD0EA2A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DAC3-C702-40BE-BB3B-A96855DC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3DD4-6073-49B4-99E0-B0530791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37DA-DE77-4D79-A29F-80EF7CB5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812A-B83C-492B-A947-C11CF58A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D48-A7AF-41D8-8B8E-727F2CF6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9FDE-9432-4A72-B1F7-69A1718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BFE7-B21B-42CF-9387-06BB78D1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4808-21CF-4D81-BAD2-977FC58C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E341-7316-4D51-8BDF-8A9BF2EA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DAF3-0B20-4F32-885E-1BCAD860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164-7D74-44F4-B048-B3563647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772-51CF-45E0-A2B7-B7965139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9B9-331C-4FE5-82E1-83F725E8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D1A-D660-4294-8CF5-1CCD2A9D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737-D061-46D2-AF30-2EC1C032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EE6-CDF8-40CA-81B9-1E19990E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DA6-34B4-46CD-A0E4-E904CC7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84CC-28F7-41A0-BA99-0B0555FFA8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9F68-30E3-46B5-BDD9-06A73BB526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Доля России в мировых запасах цветных металл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270792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еди                                         11%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винца                                      12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Цинка                                        16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лова                                        27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бальта                                   21%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икеля                                      31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Не хватает алюминиевых руд, ртути, сурьмы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!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476280"/>
            <a:ext cx="75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ные металл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2531880"/>
            <a:ext cx="9143640" cy="3153960"/>
            <a:chOff x="0" y="2531880"/>
            <a:chExt cx="9143640" cy="3153960"/>
          </a:xfrm>
        </p:grpSpPr>
        <p:cxnSp>
          <p:nvCxnSpPr>
            <p:cNvPr id="90" name="_s10322"/>
            <p:cNvCxnSpPr>
              <a:stCxn id="91" idx="0"/>
              <a:endCxn id="92" idx="2"/>
            </p:cNvCxnSpPr>
            <p:nvPr/>
          </p:nvCxnSpPr>
          <p:spPr>
            <a:xfrm flipV="1">
              <a:off x="8109360" y="3918960"/>
              <a:ext cx="252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320"/>
            <p:cNvCxnSpPr>
              <a:stCxn id="94" idx="0"/>
              <a:endCxn id="95" idx="2"/>
            </p:cNvCxnSpPr>
            <p:nvPr/>
          </p:nvCxnSpPr>
          <p:spPr>
            <a:xfrm flipV="1">
              <a:off x="5751360" y="3918960"/>
              <a:ext cx="252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318"/>
            <p:cNvCxnSpPr>
              <a:stCxn id="97" idx="0"/>
              <a:endCxn id="98" idx="2"/>
            </p:cNvCxnSpPr>
            <p:nvPr/>
          </p:nvCxnSpPr>
          <p:spPr>
            <a:xfrm flipV="1">
              <a:off x="3393720" y="3918960"/>
              <a:ext cx="288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0316"/>
            <p:cNvCxnSpPr>
              <a:stCxn id="100" idx="0"/>
              <a:endCxn id="101" idx="2"/>
            </p:cNvCxnSpPr>
            <p:nvPr/>
          </p:nvCxnSpPr>
          <p:spPr>
            <a:xfrm flipV="1">
              <a:off x="1033920" y="3918960"/>
              <a:ext cx="288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314"/>
            <p:cNvCxnSpPr>
              <a:stCxn id="92" idx="0"/>
              <a:endCxn id="103" idx="2"/>
            </p:cNvCxnSpPr>
            <p:nvPr/>
          </p:nvCxnSpPr>
          <p:spPr>
            <a:xfrm flipV="1" rot="16200000">
              <a:off x="6225840" y="1578240"/>
              <a:ext cx="228960" cy="35384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310"/>
            <p:cNvCxnSpPr>
              <a:stCxn id="95" idx="0"/>
              <a:endCxn id="103" idx="2"/>
            </p:cNvCxnSpPr>
            <p:nvPr/>
          </p:nvCxnSpPr>
          <p:spPr>
            <a:xfrm flipV="1" rot="16200000">
              <a:off x="5047200" y="2756880"/>
              <a:ext cx="228960" cy="1180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9"/>
            <p:cNvCxnSpPr>
              <a:stCxn id="98" idx="0"/>
              <a:endCxn id="103" idx="2"/>
            </p:cNvCxnSpPr>
            <p:nvPr/>
          </p:nvCxnSpPr>
          <p:spPr>
            <a:xfrm flipH="1" flipV="1" rot="5400000">
              <a:off x="3867840" y="2758320"/>
              <a:ext cx="228960" cy="1178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8"/>
            <p:cNvCxnSpPr>
              <a:stCxn id="101" idx="0"/>
              <a:endCxn id="103" idx="2"/>
            </p:cNvCxnSpPr>
            <p:nvPr/>
          </p:nvCxnSpPr>
          <p:spPr>
            <a:xfrm flipH="1" flipV="1" rot="5400000">
              <a:off x="2688120" y="1578600"/>
              <a:ext cx="228960" cy="35380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04"/>
            <p:cNvSpPr/>
            <p:nvPr/>
          </p:nvSpPr>
          <p:spPr>
            <a:xfrm>
              <a:off x="3710520" y="2531880"/>
              <a:ext cx="1721880" cy="7012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Цв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метал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05"/>
            <p:cNvSpPr/>
            <p:nvPr/>
          </p:nvSpPr>
          <p:spPr>
            <a:xfrm>
              <a:off x="0" y="3462120"/>
              <a:ext cx="207036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тяжел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06"/>
            <p:cNvSpPr/>
            <p:nvPr/>
          </p:nvSpPr>
          <p:spPr>
            <a:xfrm>
              <a:off x="2357280" y="3462120"/>
              <a:ext cx="207072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лег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07"/>
            <p:cNvSpPr/>
            <p:nvPr/>
          </p:nvSpPr>
          <p:spPr>
            <a:xfrm>
              <a:off x="4715280" y="3462120"/>
              <a:ext cx="207072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благород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13"/>
            <p:cNvSpPr/>
            <p:nvPr/>
          </p:nvSpPr>
          <p:spPr>
            <a:xfrm>
              <a:off x="7073280" y="3462120"/>
              <a:ext cx="207036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редкоземель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15"/>
            <p:cNvSpPr/>
            <p:nvPr/>
          </p:nvSpPr>
          <p:spPr>
            <a:xfrm>
              <a:off x="175320" y="4147920"/>
              <a:ext cx="171972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мед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цинк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свине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олов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никел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17"/>
            <p:cNvSpPr/>
            <p:nvPr/>
          </p:nvSpPr>
          <p:spPr>
            <a:xfrm>
              <a:off x="2532600" y="4147920"/>
              <a:ext cx="172008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алюми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маг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тита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19"/>
            <p:cNvSpPr/>
            <p:nvPr/>
          </p:nvSpPr>
          <p:spPr>
            <a:xfrm>
              <a:off x="4890600" y="4147920"/>
              <a:ext cx="172008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золот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платин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серебр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21"/>
            <p:cNvSpPr/>
            <p:nvPr/>
          </p:nvSpPr>
          <p:spPr>
            <a:xfrm>
              <a:off x="7248600" y="4147920"/>
              <a:ext cx="171972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цирко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Сел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герма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25320" y="6286680"/>
            <a:ext cx="9720" cy="63360"/>
          </a:xfrm>
          <a:custGeom>
            <a:avLst/>
            <a:gdLst/>
            <a:ahLst/>
            <a:rect l="l" t="t" r="r" b="b"/>
            <a:pathLst>
              <a:path w="26" h="175">
                <a:moveTo>
                  <a:pt x="1761" y="17487"/>
                </a:moveTo>
                <a:cubicBezTo>
                  <a:pt x="1761" y="17428"/>
                  <a:pt x="1742" y="17588"/>
                  <a:pt x="1736" y="17636"/>
                </a:cubicBezTo>
              </a:path>
            </a:pathLst>
          </a:custGeom>
          <a:noFill/>
          <a:ln cap="rnd" w="349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ехнологическая цепочка производства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цветной    металлург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43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349360"/>
            <a:ext cx="2087640" cy="5749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Добыч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ру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256536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2276640"/>
            <a:ext cx="223200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ГОК(обогащени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2565360"/>
            <a:ext cx="720720" cy="71640"/>
          </a:xfrm>
          <a:prstGeom prst="rightArrow">
            <a:avLst>
              <a:gd name="adj1" fmla="val 50000"/>
              <a:gd name="adj2" fmla="val 25150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3640" y="2276640"/>
            <a:ext cx="216072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лав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чер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4360" y="2492280"/>
            <a:ext cx="539640" cy="217440"/>
          </a:xfrm>
          <a:prstGeom prst="rightArrow">
            <a:avLst>
              <a:gd name="adj1" fmla="val 50000"/>
              <a:gd name="adj2" fmla="val 6204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4076640"/>
            <a:ext cx="439272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лавка рафинированного (чистог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4365720"/>
            <a:ext cx="1150920" cy="71280"/>
          </a:xfrm>
          <a:prstGeom prst="rightArrow">
            <a:avLst>
              <a:gd name="adj1" fmla="val 50000"/>
              <a:gd name="adj2" fmla="val 40366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436572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005360"/>
            <a:ext cx="187164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рок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держание металла в ру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5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Железа в руде от 25%  до45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еди в руде – 1-2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лова в руде менее1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ля получения 1т меди требуется около 100т ру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ля олова необходимо более300т ру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 карте «Металлургия» найдите медеплавильные, никелевые, оловянные и цинковые заводы. Где сформирована основная металлургическая база тяжелых цветных металлов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Легкие, благородные металлы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итан, алюминий, магний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изводят у источников дешевой энерг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зовите крупные за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быча золот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м-Магаданская-29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м-Красноярский край-18 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м-Якутия-13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м-Иркутская-12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едется в Восточной Сибири и на Дальнем Восто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блемы и перспективы цветной           металлур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стощение месторождений медных, алюминиевых ру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тсутствие крупных месторождений марганцевых, хромитовых, титановых ру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ороговизна российского металла из-за монополии заводов-гига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кологическая проблема грязных отрас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бросы вредных веществ в атмосфе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66640" y="1752480"/>
          <a:ext cx="8001000" cy="41608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расли промышл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б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редных веществ, в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лектроэнерге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пл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рная металлур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мия и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шино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спектив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звитие Дальневосточной металлургической баз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Применение новых технологий добычи руд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зработаны гео- и биотехнологии, позволяющие сохранять ландшаф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создание автоматизированных мини-завод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использование вторсырья (металлолом), при плавке 1т металлолома экономится 4т руды, 530т медн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Загрязнение атмосферы сокращается в 7 раз, количество отходов снизится в 16 раз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Межотраслевые связ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таллург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692360" y="4220280"/>
            <a:ext cx="792000" cy="71640"/>
          </a:xfrm>
          <a:prstGeom prst="leftArrow">
            <a:avLst>
              <a:gd name="adj1" fmla="val 50000"/>
              <a:gd name="adj2" fmla="val 27638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149720"/>
            <a:ext cx="1295640" cy="71280"/>
          </a:xfrm>
          <a:prstGeom prst="rightArrow">
            <a:avLst>
              <a:gd name="adj1" fmla="val 50000"/>
              <a:gd name="adj2" fmla="val 45441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2781360"/>
            <a:ext cx="72720" cy="1295280"/>
          </a:xfrm>
          <a:prstGeom prst="upArrow">
            <a:avLst>
              <a:gd name="adj1" fmla="val 50000"/>
              <a:gd name="adj2" fmla="val 44529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4437000"/>
            <a:ext cx="72720" cy="792360"/>
          </a:xfrm>
          <a:prstGeom prst="downArrow">
            <a:avLst>
              <a:gd name="adj1" fmla="val 50000"/>
              <a:gd name="adj2" fmla="val 27240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205000"/>
            <a:ext cx="2808360" cy="57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2303280" cy="649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лектр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нерг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5229360"/>
            <a:ext cx="4105440" cy="107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лезнодор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4005360"/>
            <a:ext cx="1441440" cy="1008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аш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4437000"/>
            <a:ext cx="71640" cy="720720"/>
          </a:xfrm>
          <a:prstGeom prst="upArrow">
            <a:avLst>
              <a:gd name="adj1" fmla="val 50000"/>
              <a:gd name="adj2" fmla="val 25150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6:20:17Z</dcterms:created>
  <dc:creator>Nik</dc:creator>
  <dc:description/>
  <dc:language>en-US</dc:language>
  <cp:lastModifiedBy>Loner-XP</cp:lastModifiedBy>
  <dcterms:modified xsi:type="dcterms:W3CDTF">2009-08-05T16:42:05Z</dcterms:modified>
  <cp:revision>15</cp:revision>
  <dc:subject/>
  <dc:title>Доля России в мировых запасах цветных металл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000000000000010250300207f7000400038000</vt:lpwstr>
  </property>
</Properties>
</file>