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FED-525E-4258-8853-D89CA575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43A-DC00-4DF0-8A79-8366899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357-F5C9-4E90-B97D-65CF4D60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BA-C6B7-47AC-9827-0B7D368A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E4FA-800D-42C1-9582-FCD9BB6D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C56C-686E-445B-A160-AC89CC9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8F19-F125-4A81-B572-5166B4A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972-FB57-452E-AD0E-0439B1A3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53A-42DE-4C4F-8C73-CFB4C4E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0D4-4FA0-4B78-ABAD-1F7D7F4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7274-2ED1-483B-817A-3EB8825F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1FB-9980-48DD-9D2A-0254442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3826-297C-4802-8A39-000092C3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D847-B779-44AC-BB31-1BDC5D3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BB08-7C43-446E-BAD0-32E2D9F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D715-B57A-4163-A3C9-B88424B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364-42EC-4FA0-A2E5-03D9895C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099-18DB-40D4-AA76-2BD63B54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1FE-9D45-454C-B63A-FD1BA182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B68-AD63-4C91-BEBD-2B1CC51E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D4D-0C35-4E77-9830-7B37B49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0B4-5326-463F-A87E-6EC7F9E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359-AD02-4798-9996-0DF9CFB8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6C6-75AB-4528-B300-4644678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9DEC-D515-4BF3-9C16-2BD155ED36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E707-683C-4FAF-8680-DCBC4D592D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ля России в мировых запасах цветных металл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270792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еди                                         11%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инца                                      12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инка                                        16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лова                                        27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бальта                                   21%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икеля                                      3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Не хватает алюминиевых руд, ртути, сурьмы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!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360" y="476280"/>
            <a:ext cx="75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ные металл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2531880"/>
            <a:ext cx="9143640" cy="3153960"/>
            <a:chOff x="0" y="2531880"/>
            <a:chExt cx="9143640" cy="3153960"/>
          </a:xfrm>
        </p:grpSpPr>
        <p:cxnSp>
          <p:nvCxnSpPr>
            <p:cNvPr id="90" name="_s10322"/>
            <p:cNvCxnSpPr>
              <a:stCxn id="91" idx="0"/>
              <a:endCxn id="92" idx="2"/>
            </p:cNvCxnSpPr>
            <p:nvPr/>
          </p:nvCxnSpPr>
          <p:spPr>
            <a:xfrm flipV="1">
              <a:off x="8109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20"/>
            <p:cNvCxnSpPr>
              <a:stCxn id="94" idx="0"/>
              <a:endCxn id="95" idx="2"/>
            </p:cNvCxnSpPr>
            <p:nvPr/>
          </p:nvCxnSpPr>
          <p:spPr>
            <a:xfrm flipV="1">
              <a:off x="5751360" y="3918960"/>
              <a:ext cx="252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318"/>
            <p:cNvCxnSpPr>
              <a:stCxn id="97" idx="0"/>
              <a:endCxn id="98" idx="2"/>
            </p:cNvCxnSpPr>
            <p:nvPr/>
          </p:nvCxnSpPr>
          <p:spPr>
            <a:xfrm flipV="1">
              <a:off x="33937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16"/>
            <p:cNvCxnSpPr>
              <a:stCxn id="100" idx="0"/>
              <a:endCxn id="101" idx="2"/>
            </p:cNvCxnSpPr>
            <p:nvPr/>
          </p:nvCxnSpPr>
          <p:spPr>
            <a:xfrm flipV="1">
              <a:off x="1033920" y="3918960"/>
              <a:ext cx="2880" cy="228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14"/>
            <p:cNvCxnSpPr>
              <a:stCxn id="92" idx="0"/>
              <a:endCxn id="103" idx="2"/>
            </p:cNvCxnSpPr>
            <p:nvPr/>
          </p:nvCxnSpPr>
          <p:spPr>
            <a:xfrm flipV="1" rot="16200000">
              <a:off x="6225840" y="1578240"/>
              <a:ext cx="228960" cy="35384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10"/>
            <p:cNvCxnSpPr>
              <a:stCxn id="95" idx="0"/>
              <a:endCxn id="103" idx="2"/>
            </p:cNvCxnSpPr>
            <p:nvPr/>
          </p:nvCxnSpPr>
          <p:spPr>
            <a:xfrm flipV="1" rot="16200000">
              <a:off x="5047200" y="2756880"/>
              <a:ext cx="228960" cy="1180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9"/>
            <p:cNvCxnSpPr>
              <a:stCxn id="98" idx="0"/>
              <a:endCxn id="103" idx="2"/>
            </p:cNvCxnSpPr>
            <p:nvPr/>
          </p:nvCxnSpPr>
          <p:spPr>
            <a:xfrm flipH="1" flipV="1" rot="5400000">
              <a:off x="3867840" y="2758320"/>
              <a:ext cx="228960" cy="11782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8"/>
            <p:cNvCxnSpPr>
              <a:stCxn id="101" idx="0"/>
              <a:endCxn id="103" idx="2"/>
            </p:cNvCxnSpPr>
            <p:nvPr/>
          </p:nvCxnSpPr>
          <p:spPr>
            <a:xfrm flipH="1" flipV="1" rot="5400000">
              <a:off x="2688120" y="1578600"/>
              <a:ext cx="228960" cy="35380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04"/>
            <p:cNvSpPr/>
            <p:nvPr/>
          </p:nvSpPr>
          <p:spPr>
            <a:xfrm>
              <a:off x="3710520" y="2531880"/>
              <a:ext cx="1721880" cy="7012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Цв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етал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05"/>
            <p:cNvSpPr/>
            <p:nvPr/>
          </p:nvSpPr>
          <p:spPr>
            <a:xfrm>
              <a:off x="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яжел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6"/>
            <p:cNvSpPr/>
            <p:nvPr/>
          </p:nvSpPr>
          <p:spPr>
            <a:xfrm>
              <a:off x="2357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07"/>
            <p:cNvSpPr/>
            <p:nvPr/>
          </p:nvSpPr>
          <p:spPr>
            <a:xfrm>
              <a:off x="4715280" y="3462120"/>
              <a:ext cx="207072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благород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3"/>
            <p:cNvSpPr/>
            <p:nvPr/>
          </p:nvSpPr>
          <p:spPr>
            <a:xfrm>
              <a:off x="7073280" y="3462120"/>
              <a:ext cx="2070360" cy="45684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редкозем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15"/>
            <p:cNvSpPr/>
            <p:nvPr/>
          </p:nvSpPr>
          <p:spPr>
            <a:xfrm>
              <a:off x="17532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ед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нк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вине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оло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никел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17"/>
            <p:cNvSpPr/>
            <p:nvPr/>
          </p:nvSpPr>
          <p:spPr>
            <a:xfrm>
              <a:off x="2532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алюми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маг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тита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19"/>
            <p:cNvSpPr/>
            <p:nvPr/>
          </p:nvSpPr>
          <p:spPr>
            <a:xfrm>
              <a:off x="4890600" y="4147920"/>
              <a:ext cx="172008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золот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плати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ребр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21"/>
            <p:cNvSpPr/>
            <p:nvPr/>
          </p:nvSpPr>
          <p:spPr>
            <a:xfrm>
              <a:off x="7248600" y="4147920"/>
              <a:ext cx="1719720" cy="153792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цирко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Сел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герма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25320" y="6286680"/>
            <a:ext cx="9720" cy="63360"/>
          </a:xfrm>
          <a:custGeom>
            <a:avLst/>
            <a:gdLst/>
            <a:ahLst/>
            <a:rect l="l" t="t" r="r" b="b"/>
            <a:pathLst>
              <a:path w="26" h="175">
                <a:moveTo>
                  <a:pt x="1761" y="17487"/>
                </a:moveTo>
                <a:cubicBezTo>
                  <a:pt x="1761" y="17428"/>
                  <a:pt x="1742" y="17588"/>
                  <a:pt x="1736" y="17636"/>
                </a:cubicBezTo>
              </a:path>
            </a:pathLst>
          </a:custGeom>
          <a:noFill/>
          <a:ln cap="rnd" w="349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цветной    металлург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3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349360"/>
            <a:ext cx="2087640" cy="5749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Добыч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56536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276640"/>
            <a:ext cx="223200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ГОК(обогащени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565360"/>
            <a:ext cx="720720" cy="71640"/>
          </a:xfrm>
          <a:prstGeom prst="right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276640"/>
            <a:ext cx="2160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чер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2492280"/>
            <a:ext cx="539640" cy="217440"/>
          </a:xfrm>
          <a:prstGeom prst="rightArrow">
            <a:avLst>
              <a:gd name="adj1" fmla="val 50000"/>
              <a:gd name="adj2" fmla="val 6204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4076640"/>
            <a:ext cx="439272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лавка рафинированного (чистог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365720"/>
            <a:ext cx="1150920" cy="71280"/>
          </a:xfrm>
          <a:prstGeom prst="rightArrow">
            <a:avLst>
              <a:gd name="adj1" fmla="val 50000"/>
              <a:gd name="adj2" fmla="val 40366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436572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005360"/>
            <a:ext cx="1871640" cy="720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про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металла в ру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Железа в руде от 25%  до4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еди в руде – 1-2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лова в руде менее1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получения 1т меди требуется около 1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ля олова необходимо более300т ру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карте «Металлургия» найдите медеплавильные, никелевые, оловянные и цинковые заводы. Где сформирована основная металлургическая база тяжелых цветных металлов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Легкие, благородные металлы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итан, алюминий, магний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изводят у источников дешевой энерг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овите крупные за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быча золот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м-Магаданская-29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м-Красноярский край-18 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м-Якутия-13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м-Иркутская-12т в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едется в Восточной Сибири и на Дальнем Вост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          металлур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стощение месторождений медных, алюминие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тсутствие крупных месторождений марганцевых, хромитовых, титановых ру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ороговизна российского металла из-за монополии заводов-гига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кологическая проблема грязных отрас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66640" y="1752480"/>
          <a:ext cx="8001000" cy="41608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ных веществ, в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пл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ная металлур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спектив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витие Дальневосточной металлургической баз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Применение новых технологий добычи руд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зработаны гео- и биотехнологии, позволяющие сохранять ландшаф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создание автоматизированных мини-завод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использование вторсырья (металлолом), при плавке 1т металлолома экономится 4т руды, 530т ме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Загрязнение атмосферы сокращается в 7 раз, количество отходов снизится в 16 раз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Межотраслевые связ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ллург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92360" y="4220280"/>
            <a:ext cx="792000" cy="71640"/>
          </a:xfrm>
          <a:prstGeom prst="leftArrow">
            <a:avLst>
              <a:gd name="adj1" fmla="val 50000"/>
              <a:gd name="adj2" fmla="val 27638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149720"/>
            <a:ext cx="1295640" cy="71280"/>
          </a:xfrm>
          <a:prstGeom prst="rightArrow">
            <a:avLst>
              <a:gd name="adj1" fmla="val 50000"/>
              <a:gd name="adj2" fmla="val 45441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2781360"/>
            <a:ext cx="72720" cy="1295280"/>
          </a:xfrm>
          <a:prstGeom prst="upArrow">
            <a:avLst>
              <a:gd name="adj1" fmla="val 50000"/>
              <a:gd name="adj2" fmla="val 44529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437000"/>
            <a:ext cx="72720" cy="792360"/>
          </a:xfrm>
          <a:prstGeom prst="downArrow">
            <a:avLst>
              <a:gd name="adj1" fmla="val 50000"/>
              <a:gd name="adj2" fmla="val 27240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2205000"/>
            <a:ext cx="280836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2303280" cy="649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лектр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нерг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5229360"/>
            <a:ext cx="4105440" cy="107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лезнодор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005360"/>
            <a:ext cx="1441440" cy="1008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аш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443700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20:17Z</dcterms:created>
  <dc:creator>Nik</dc:creator>
  <dc:description/>
  <dc:language>en-US</dc:language>
  <cp:lastModifiedBy>Loner-XP</cp:lastModifiedBy>
  <dcterms:modified xsi:type="dcterms:W3CDTF">2009-08-05T16:42:05Z</dcterms:modified>
  <cp:revision>15</cp:revision>
  <dc:subject/>
  <dc:title>Доля России в мировых запасах цветных метал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00000000000010250300207f7000400038000</vt:lpwstr>
  </property>
</Properties>
</file>