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AC8-B845-43C6-94A3-DB995FE2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1E6-EA65-4228-ABEB-183309E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37B-82F6-4008-A1F4-FC9F9A25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D5F-04D6-434B-AB42-944D5E76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5BAE-5E1A-4703-97AE-0AE107FB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75F7-7090-4803-97F2-2F68423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CD3-8F2D-44E0-B4F4-AC4EA822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B05-F748-44E2-A454-678395D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1F6C-DF89-4678-9961-F806E465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B81-DA23-4C87-8599-6FA223B0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875D-C28F-4D62-94BA-3867B70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683-4052-42D7-8F7D-FE5413D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886B-EA38-4E5E-9534-7B214DC9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9CDD-FF48-4EE7-9F9C-5A1AF61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E2E1-6C8C-463B-87B9-D873AE21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F215-E4E1-4228-B5AA-C1628A38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7E87-D71B-4BF1-B895-DF310408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BBC-5C97-4B03-AC28-B71DBE4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FA6-F10E-4786-890A-94B9F245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ACD-64AE-4CCD-9F71-5720EC6C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4B7-7698-49C8-A4DC-5BA4ED1D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FAB-AB5C-4BDA-9435-9FE14DE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9C6-BEE2-4DFA-9505-BA67AEF8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00C-A4F5-43FA-B830-16D7F170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78DF-1C81-4EFD-A71C-42BA094D09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0A5-8673-4C31-8DDF-ECC4E01AE2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4/Kolihapeltis_01_Pengo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d/Psilotum.jpg" TargetMode="External"/><Relationship Id="rId3" Type="http://schemas.openxmlformats.org/officeDocument/2006/relationships/image" Target="../media/image83.jpeg"/><Relationship Id="rId4" Type="http://schemas.openxmlformats.org/officeDocument/2006/relationships/image" Target="../media/image84.png"/><Relationship Id="rId5" Type="http://schemas.openxmlformats.org/officeDocument/2006/relationships/hyperlink" Target="http://ru.wikipedia.org/wiki/&#1060;&#1072;&#1081;&#1083;:Rhynia_reconstruction.jpg" TargetMode="External"/><Relationship Id="rId6" Type="http://schemas.openxmlformats.org/officeDocument/2006/relationships/image" Target="../media/image85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583560"/>
            <a:ext cx="9144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Девонский 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1430280"/>
            <a:ext cx="8748720" cy="252756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т Девоншир — графство в Великобритании, четвёртая по порядку система палеозойской группы слоёв земной коры, соответствующая четвёртому периоду палеозойской эры геологической истории Земли. Следует за силурийской системой и предшествует каменноугольной (карбо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пределяется радиологическими методами от 410 млн. до 350 млн. лет тому назад, продолжительность около 60 млн. лет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Подразделяется на три отдела: нижний, средний и верх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521080" cy="249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916360" y="765000"/>
            <a:ext cx="3168360" cy="2633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227640" y="765000"/>
            <a:ext cx="2665440" cy="242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3" name=""/>
          <p:cNvSpPr/>
          <p:nvPr/>
        </p:nvSpPr>
        <p:spPr>
          <a:xfrm>
            <a:off x="971640" y="263880"/>
            <a:ext cx="676908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нообразны раковины двустворчатых моллюсков и гастропод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5185080" cy="297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5" name="" descr=""/>
          <p:cNvPicPr/>
          <p:nvPr/>
        </p:nvPicPr>
        <p:blipFill>
          <a:blip r:embed="rId6"/>
          <a:stretch/>
        </p:blipFill>
        <p:spPr>
          <a:xfrm>
            <a:off x="7029360" y="3284640"/>
            <a:ext cx="1920960" cy="33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82800"/>
            <a:ext cx="903600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В позднем девоне доминировали ругозы и представители гидроид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124520" cy="47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6556320" y="476280"/>
            <a:ext cx="2468520" cy="36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2237040" cy="25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635280" y="3429000"/>
            <a:ext cx="2814840" cy="331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1" name="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259236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2" name=""/>
          <p:cNvSpPr/>
          <p:nvPr/>
        </p:nvSpPr>
        <p:spPr>
          <a:xfrm>
            <a:off x="6227640" y="6400800"/>
            <a:ext cx="2916360" cy="45900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конструкция прижизненного облика гидроидного организма и руго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722920" y="3827520"/>
            <a:ext cx="3386160" cy="26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250920" y="3324240"/>
            <a:ext cx="5381640" cy="3489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179280" y="227160"/>
            <a:ext cx="220356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5508720" y="299880"/>
            <a:ext cx="3384360" cy="331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2484360" y="227160"/>
            <a:ext cx="1739880" cy="302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8" name=""/>
          <p:cNvSpPr/>
          <p:nvPr/>
        </p:nvSpPr>
        <p:spPr>
          <a:xfrm>
            <a:off x="4204800" y="731880"/>
            <a:ext cx="125532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диноч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46240" y="3611520"/>
            <a:ext cx="15753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колониаль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77440" y="3600"/>
            <a:ext cx="510480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озднем девоне на смену табулятам пришли ругозы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52040" y="32400"/>
            <a:ext cx="5775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девонский период нередко называют веком ры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79400" y="476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6192720" cy="4492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08000" y="1557360"/>
            <a:ext cx="3533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6696360" cy="3462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279400" y="1484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64000" cy="31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327640" cy="46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275360" cy="320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0" name=""/>
          <p:cNvSpPr/>
          <p:nvPr/>
        </p:nvSpPr>
        <p:spPr>
          <a:xfrm>
            <a:off x="5782680" y="2492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5238720" cy="554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744720" cy="35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771720" cy="265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4" name=""/>
          <p:cNvSpPr/>
          <p:nvPr/>
        </p:nvSpPr>
        <p:spPr>
          <a:xfrm>
            <a:off x="3407760" y="11592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219640" y="65160"/>
            <a:ext cx="3867120" cy="307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87640" y="3357720"/>
            <a:ext cx="5985000" cy="326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7" name=""/>
          <p:cNvSpPr/>
          <p:nvPr/>
        </p:nvSpPr>
        <p:spPr>
          <a:xfrm>
            <a:off x="345240" y="192960"/>
            <a:ext cx="1881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бесчелюс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08000" y="3284640"/>
            <a:ext cx="2843280" cy="255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108000" y="793800"/>
            <a:ext cx="4751280" cy="238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39272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421956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1147680" y="27612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41180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267160" cy="271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179280" y="2979720"/>
            <a:ext cx="4969080" cy="372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6" name=""/>
          <p:cNvSpPr/>
          <p:nvPr/>
        </p:nvSpPr>
        <p:spPr>
          <a:xfrm>
            <a:off x="6393600" y="696240"/>
            <a:ext cx="1881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бесчелюс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189000"/>
            <a:ext cx="9144000" cy="580680"/>
          </a:xfrm>
          <a:prstGeom prst="rect">
            <a:avLst/>
          </a:prstGeom>
          <a:solidFill>
            <a:srgbClr val="ffe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Глобальная палеографическая реконструкция Земли позднего Девонского периода, 370 миллионов лет наз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50920" y="1413000"/>
            <a:ext cx="8381880" cy="4824360"/>
            <a:chOff x="250920" y="1413000"/>
            <a:chExt cx="8381880" cy="482436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250920" y="1413000"/>
              <a:ext cx="838188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069800" y="23050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ибир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68760" y="380988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Лавраз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37080" y="54450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Гондва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65080" y="37893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ети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605800" cy="6137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39840" y="11592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718160" y="1413000"/>
            <a:ext cx="4425840" cy="53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3933720" cy="18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3673440" cy="31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2" name=""/>
          <p:cNvSpPr/>
          <p:nvPr/>
        </p:nvSpPr>
        <p:spPr>
          <a:xfrm>
            <a:off x="1247040" y="4292640"/>
            <a:ext cx="3489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учепёрые (костистые)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725280" y="549360"/>
            <a:ext cx="2925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Хрящевые (предки аку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908000" y="87480"/>
            <a:ext cx="5038920" cy="35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144360" y="3871800"/>
            <a:ext cx="4572000" cy="279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4067280" cy="289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7" name=""/>
          <p:cNvSpPr/>
          <p:nvPr/>
        </p:nvSpPr>
        <p:spPr>
          <a:xfrm>
            <a:off x="6332400" y="141300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979640" y="3236760"/>
            <a:ext cx="5977080" cy="34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5435640" y="766800"/>
            <a:ext cx="3533760" cy="23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5238720" cy="32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1" name=""/>
          <p:cNvSpPr/>
          <p:nvPr/>
        </p:nvSpPr>
        <p:spPr>
          <a:xfrm>
            <a:off x="4777920" y="189000"/>
            <a:ext cx="25138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опастепёр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240000" cy="222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3851280" y="58680"/>
            <a:ext cx="524844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5257800" cy="385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5" name=""/>
          <p:cNvSpPr/>
          <p:nvPr/>
        </p:nvSpPr>
        <p:spPr>
          <a:xfrm>
            <a:off x="890280" y="115920"/>
            <a:ext cx="25138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опастепёр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3048120" y="189000"/>
            <a:ext cx="609588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2736720" cy="249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4324320" cy="28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4707000" y="4173480"/>
            <a:ext cx="40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овременная двоякодышащая ры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1080" y="404640"/>
            <a:ext cx="349992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Современная кистеперая ры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461080" cy="597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2" name=""/>
          <p:cNvSpPr/>
          <p:nvPr/>
        </p:nvSpPr>
        <p:spPr>
          <a:xfrm>
            <a:off x="2522160" y="115920"/>
            <a:ext cx="327744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Раннедевонский ландшаф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280" y="181080"/>
            <a:ext cx="9001440" cy="6495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4" name=""/>
          <p:cNvSpPr/>
          <p:nvPr/>
        </p:nvSpPr>
        <p:spPr>
          <a:xfrm>
            <a:off x="2523240" y="115920"/>
            <a:ext cx="34117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Среднедевонский ландшаф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715000" cy="49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106200" y="620640"/>
            <a:ext cx="3097440" cy="24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4319640" cy="23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8" name=""/>
          <p:cNvSpPr/>
          <p:nvPr/>
        </p:nvSpPr>
        <p:spPr>
          <a:xfrm>
            <a:off x="549360" y="192960"/>
            <a:ext cx="4518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первые земноводные — стегоцефа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31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68360" y="3638520"/>
            <a:ext cx="8207280" cy="309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4076640" y="3361680"/>
            <a:ext cx="4518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первые земноводные — стегоцефа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Файл:Kolihapeltis 01 Pen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404640"/>
            <a:ext cx="5245200" cy="614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4057920" y="189000"/>
            <a:ext cx="287964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Продолжали суще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243864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6" name=""/>
          <p:cNvSpPr/>
          <p:nvPr/>
        </p:nvSpPr>
        <p:spPr>
          <a:xfrm>
            <a:off x="3690720" y="616572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ahoma"/>
              </a:rPr>
              <a:t>трилоб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79280" y="3573360"/>
            <a:ext cx="3384720" cy="225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663840" y="3429000"/>
            <a:ext cx="1238400" cy="307080"/>
          </a:xfrm>
          <a:prstGeom prst="rect">
            <a:avLst/>
          </a:prstGeom>
          <a:solidFill>
            <a:srgbClr val="ffe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ahoma"/>
              </a:rPr>
              <a:t>криноиде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Файл:Psilotu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476280"/>
            <a:ext cx="4891320" cy="366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3" name=""/>
          <p:cNvSpPr/>
          <p:nvPr/>
        </p:nvSpPr>
        <p:spPr>
          <a:xfrm>
            <a:off x="4029480" y="115920"/>
            <a:ext cx="14745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силоф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77040" y="6532560"/>
            <a:ext cx="49233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ahoma"/>
              </a:rPr>
              <a:t>Риниофиты, реконструкция ископаемых остат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51280" y="4149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врем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3895920" cy="453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7" name="" descr="Rhyn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3500280"/>
            <a:ext cx="2151000" cy="302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Ш񮠲3"/>
          <p:cNvPicPr/>
          <p:nvPr/>
        </p:nvPicPr>
        <p:blipFill>
          <a:blip r:embed="rId2"/>
          <a:stretch/>
        </p:blipFill>
        <p:spPr>
          <a:xfrm>
            <a:off x="324000" y="333360"/>
            <a:ext cx="262224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9" name="" descr="Ш񮠲2"/>
          <p:cNvPicPr/>
          <p:nvPr/>
        </p:nvPicPr>
        <p:blipFill>
          <a:blip r:embed="rId3"/>
          <a:stretch/>
        </p:blipFill>
        <p:spPr>
          <a:xfrm>
            <a:off x="2700360" y="1916280"/>
            <a:ext cx="3124080" cy="47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0" name="" descr="Ш񮠲5"/>
          <p:cNvPicPr/>
          <p:nvPr/>
        </p:nvPicPr>
        <p:blipFill>
          <a:blip r:embed="rId4"/>
          <a:stretch/>
        </p:blipFill>
        <p:spPr>
          <a:xfrm>
            <a:off x="5700600" y="189000"/>
            <a:ext cx="3276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1" name=""/>
          <p:cNvSpPr/>
          <p:nvPr/>
        </p:nvSpPr>
        <p:spPr>
          <a:xfrm>
            <a:off x="3223800" y="419040"/>
            <a:ext cx="924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хв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Ш񮠳8"/>
          <p:cNvPicPr/>
          <p:nvPr/>
        </p:nvPicPr>
        <p:blipFill>
          <a:blip r:embed="rId2"/>
          <a:stretch/>
        </p:blipFill>
        <p:spPr>
          <a:xfrm>
            <a:off x="250920" y="755640"/>
            <a:ext cx="294624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3" name="" descr="Картинка 6 из 248"/>
          <p:cNvPicPr/>
          <p:nvPr/>
        </p:nvPicPr>
        <p:blipFill>
          <a:blip r:embed="rId3"/>
          <a:stretch/>
        </p:blipFill>
        <p:spPr>
          <a:xfrm>
            <a:off x="3419640" y="755640"/>
            <a:ext cx="5483160" cy="411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4" name=""/>
          <p:cNvSpPr/>
          <p:nvPr/>
        </p:nvSpPr>
        <p:spPr>
          <a:xfrm>
            <a:off x="2166480" y="189000"/>
            <a:ext cx="464616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Отпечатки растений девонского пери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Картинка 12 из 248"/>
          <p:cNvPicPr/>
          <p:nvPr/>
        </p:nvPicPr>
        <p:blipFill>
          <a:blip r:embed="rId2"/>
          <a:stretch/>
        </p:blipFill>
        <p:spPr>
          <a:xfrm>
            <a:off x="250920" y="260280"/>
            <a:ext cx="2779560" cy="388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6" name="" descr="Ш񮠳7"/>
          <p:cNvPicPr/>
          <p:nvPr/>
        </p:nvPicPr>
        <p:blipFill>
          <a:blip r:embed="rId3"/>
          <a:stretch/>
        </p:blipFill>
        <p:spPr>
          <a:xfrm>
            <a:off x="4284720" y="146160"/>
            <a:ext cx="459900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6516720" y="4411800"/>
            <a:ext cx="2448000" cy="227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8" name="" descr="Картинка 60 из 248"/>
          <p:cNvPicPr/>
          <p:nvPr/>
        </p:nvPicPr>
        <p:blipFill>
          <a:blip r:embed="rId5"/>
          <a:stretch/>
        </p:blipFill>
        <p:spPr>
          <a:xfrm>
            <a:off x="1908000" y="2997360"/>
            <a:ext cx="45532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9" name=""/>
          <p:cNvSpPr/>
          <p:nvPr/>
        </p:nvSpPr>
        <p:spPr>
          <a:xfrm>
            <a:off x="192600" y="38160"/>
            <a:ext cx="403812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ahoma"/>
              </a:rPr>
              <a:t>Современный древовидный папорот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Семейство кордаитовые (Cordaitaceae)"/>
          <p:cNvPicPr/>
          <p:nvPr/>
        </p:nvPicPr>
        <p:blipFill>
          <a:blip r:embed="rId2"/>
          <a:stretch/>
        </p:blipFill>
        <p:spPr>
          <a:xfrm>
            <a:off x="4452840" y="333360"/>
            <a:ext cx="4456080" cy="6048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Картинка 1 из 6"/>
          <p:cNvPicPr/>
          <p:nvPr/>
        </p:nvPicPr>
        <p:blipFill>
          <a:blip r:embed="rId3"/>
          <a:stretch/>
        </p:blipFill>
        <p:spPr>
          <a:xfrm>
            <a:off x="324000" y="115920"/>
            <a:ext cx="3708360" cy="4895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Ш񮠴1"/>
          <p:cNvPicPr/>
          <p:nvPr/>
        </p:nvPicPr>
        <p:blipFill>
          <a:blip r:embed="rId4"/>
          <a:stretch/>
        </p:blipFill>
        <p:spPr>
          <a:xfrm>
            <a:off x="900000" y="4005360"/>
            <a:ext cx="1982880" cy="27813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073840" y="-12600"/>
            <a:ext cx="16725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кордаит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76720" cy="41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4174920" cy="344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2" name=""/>
          <p:cNvSpPr/>
          <p:nvPr/>
        </p:nvSpPr>
        <p:spPr>
          <a:xfrm>
            <a:off x="1884600" y="188280"/>
            <a:ext cx="28126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замковые брахиопо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75400" y="4508640"/>
            <a:ext cx="4254480" cy="52020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рахиоподы из пригидротермального оази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869000"/>
            <a:ext cx="863640" cy="21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885080" y="4005360"/>
            <a:ext cx="719280" cy="57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9280" y="376200"/>
            <a:ext cx="4392720" cy="329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823000" y="189000"/>
            <a:ext cx="311472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4211640" y="3406680"/>
            <a:ext cx="4680000" cy="330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179280" y="3870360"/>
            <a:ext cx="3672000" cy="27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3506760" y="333360"/>
            <a:ext cx="315396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абулятоморфные коралл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38148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3708360" y="3573360"/>
            <a:ext cx="5108760" cy="317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3060720" y="189000"/>
            <a:ext cx="2509920" cy="388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179280" y="4046400"/>
            <a:ext cx="3872160" cy="264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108000" y="189000"/>
            <a:ext cx="2889360" cy="26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6" name=""/>
          <p:cNvSpPr/>
          <p:nvPr/>
        </p:nvSpPr>
        <p:spPr>
          <a:xfrm>
            <a:off x="0" y="3213000"/>
            <a:ext cx="2987640" cy="94644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раллы из пригидротерма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азиса 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6543720"/>
            <a:ext cx="15141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Чашка руго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935520" cy="28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9236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076720" y="189000"/>
            <a:ext cx="3882960" cy="343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1258920" y="3789360"/>
            <a:ext cx="396072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2" name=""/>
          <p:cNvSpPr/>
          <p:nvPr/>
        </p:nvSpPr>
        <p:spPr>
          <a:xfrm>
            <a:off x="0" y="3500280"/>
            <a:ext cx="2987640" cy="94644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ауна из пригидротерма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азиса 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30840" y="64720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Трубки черв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280" y="4924440"/>
            <a:ext cx="4083840" cy="3070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рубчатые черви рифтии </a:t>
            </a:r>
            <a:r>
              <a:rPr b="1" i="1" lang="ru-RU" sz="1400" spc="-1" strike="noStrike">
                <a:solidFill>
                  <a:srgbClr val="000099"/>
                </a:solidFill>
                <a:latin typeface="Tahoma"/>
              </a:rPr>
              <a:t>Riftia pachyptil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67240" y="76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32920" y="189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опа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960" y="115920"/>
            <a:ext cx="5560560" cy="3682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Бентосная макрофауна «Черных курильщ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5456160" y="620640"/>
            <a:ext cx="3564000" cy="603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179280" y="1258920"/>
            <a:ext cx="5184720" cy="353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1" name=""/>
          <p:cNvSpPr/>
          <p:nvPr/>
        </p:nvSpPr>
        <p:spPr>
          <a:xfrm>
            <a:off x="1321920" y="530064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people.whitman.ed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1440" y="4435920"/>
            <a:ext cx="4726800" cy="3070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Paralvinella sulfincola Desbruyères &amp; Laubier, 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1920" y="472428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people.whitman.ed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432400" y="1413000"/>
            <a:ext cx="3554280" cy="5225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5113080" cy="405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6" name=""/>
          <p:cNvSpPr/>
          <p:nvPr/>
        </p:nvSpPr>
        <p:spPr>
          <a:xfrm>
            <a:off x="1911600" y="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88560" y="765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опа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250920" y="5019840"/>
            <a:ext cx="2376360" cy="172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9" name=""/>
          <p:cNvSpPr/>
          <p:nvPr/>
        </p:nvSpPr>
        <p:spPr>
          <a:xfrm>
            <a:off x="2611080" y="5589720"/>
            <a:ext cx="2704320" cy="52020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Двустворчатые моллюс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ahoma"/>
              </a:rPr>
              <a:t>Calyptogena magni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5:23:41Z</dcterms:created>
  <dc:creator>Korolev</dc:creator>
  <dc:description/>
  <dc:language>en-US</dc:language>
  <cp:lastModifiedBy>Леонова</cp:lastModifiedBy>
  <dcterms:modified xsi:type="dcterms:W3CDTF">2009-10-10T15:12:43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2f000000000001024140</vt:lpwstr>
  </property>
</Properties>
</file>