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62.jpeg" ContentType="image/jpeg"/>
  <Override PartName="/ppt/media/image79.jpeg" ContentType="image/jpeg"/>
  <Override PartName="/ppt/media/image84.png" ContentType="image/png"/>
  <Override PartName="/ppt/media/image17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9E9-ADAF-42B4-AAA0-90419253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96B-2F03-4E3B-A08D-2620C32A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39D-AB78-4E22-AB46-A2ADB92D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DB1-A283-4A71-A3CA-6AD87AEB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3A16-A032-4BC9-9274-242B176E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D119-11D9-4B2F-AB22-3C02EDC5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CBA-44AB-4D4C-B729-CAC51CB1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20FA-DA47-4E8F-B9F3-499251E6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F1C-8D01-4BF0-86ED-EA255266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BE2F-9752-4632-8EAA-210A0B6B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0DDA-0B29-4DAC-AD47-29C2462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D7C-DE16-4DF6-B2C5-0A59E40D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E49A-BCE2-4B3C-B993-D591B6D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CB85-D8CC-4896-9C88-BA799670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C0BF-793C-4BB5-82FC-65608351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D883-AC64-425B-8637-1889958B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1D89-4794-4D63-AC1D-036D8BE9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FC4-9083-4811-AD6E-0E42950D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DC0-22BE-462C-BD31-0B792EAF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915-EEA5-4011-8711-8C5EBA17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5F8-23FB-4A90-80FA-8E7CD569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CFC-DD09-4A56-B3D3-774DE651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190-A654-4BAF-A2EF-EAF7E819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162-7B35-4591-AA51-78D3FBD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8889-C3E4-4DF4-91F7-C08897E3B3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0660-1CF6-4A22-B8F2-597461EC28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4/Kolihapeltis_01_Pengo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d/Psilotum.jpg" TargetMode="External"/><Relationship Id="rId3" Type="http://schemas.openxmlformats.org/officeDocument/2006/relationships/image" Target="../media/image83.jpeg"/><Relationship Id="rId4" Type="http://schemas.openxmlformats.org/officeDocument/2006/relationships/image" Target="../media/image84.png"/><Relationship Id="rId5" Type="http://schemas.openxmlformats.org/officeDocument/2006/relationships/hyperlink" Target="http://ru.wikipedia.org/wiki/&#1060;&#1072;&#1081;&#1083;:Rhynia_reconstruction.jpg" TargetMode="External"/><Relationship Id="rId6" Type="http://schemas.openxmlformats.org/officeDocument/2006/relationships/image" Target="../media/image85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583560"/>
            <a:ext cx="91440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Девонский 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1430280"/>
            <a:ext cx="8748720" cy="252756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т Девоншир — графство в Великобритании, четвёртая по порядку система палеозойской группы слоёв земной коры, соответствующая четвёртому периоду палеозойской эры геологической истории Земли. Следует за силурийской системой и предшествует каменноугольной (карбон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пределяется радиологическими методами от 410 млн. до 350 млн. лет тому назад, продолжительность около 60 млн. лет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Подразделяется на три отдела: нижний, средний и верх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521080" cy="249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916360" y="765000"/>
            <a:ext cx="3168360" cy="2633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6227640" y="765000"/>
            <a:ext cx="2665440" cy="2422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3" name=""/>
          <p:cNvSpPr/>
          <p:nvPr/>
        </p:nvSpPr>
        <p:spPr>
          <a:xfrm>
            <a:off x="971640" y="263880"/>
            <a:ext cx="676908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знообразны раковины двустворчатых моллюсков и гастропод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5185080" cy="297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5" name="" descr=""/>
          <p:cNvPicPr/>
          <p:nvPr/>
        </p:nvPicPr>
        <p:blipFill>
          <a:blip r:embed="rId6"/>
          <a:stretch/>
        </p:blipFill>
        <p:spPr>
          <a:xfrm>
            <a:off x="7029360" y="3284640"/>
            <a:ext cx="1920960" cy="3357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82800"/>
            <a:ext cx="903600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В позднем девоне доминировали ругозы и представители гидроид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124520" cy="47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6556320" y="476280"/>
            <a:ext cx="2468520" cy="367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4643280" y="476280"/>
            <a:ext cx="2237040" cy="259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635280" y="3429000"/>
            <a:ext cx="2814840" cy="331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1" name="" descr=""/>
          <p:cNvPicPr/>
          <p:nvPr/>
        </p:nvPicPr>
        <p:blipFill>
          <a:blip r:embed="rId6"/>
          <a:stretch/>
        </p:blipFill>
        <p:spPr>
          <a:xfrm>
            <a:off x="6300720" y="4005360"/>
            <a:ext cx="2592360" cy="250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2" name=""/>
          <p:cNvSpPr/>
          <p:nvPr/>
        </p:nvSpPr>
        <p:spPr>
          <a:xfrm>
            <a:off x="6227640" y="6400800"/>
            <a:ext cx="2916360" cy="45900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конструкция прижизненного облика гидроидного организма и руго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722920" y="3827520"/>
            <a:ext cx="3386160" cy="26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250920" y="3324240"/>
            <a:ext cx="5381640" cy="3489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179280" y="227160"/>
            <a:ext cx="220356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5508720" y="299880"/>
            <a:ext cx="3384360" cy="3318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2484360" y="227160"/>
            <a:ext cx="1739880" cy="302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8" name=""/>
          <p:cNvSpPr/>
          <p:nvPr/>
        </p:nvSpPr>
        <p:spPr>
          <a:xfrm>
            <a:off x="4204800" y="731880"/>
            <a:ext cx="125532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диноч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46240" y="3611520"/>
            <a:ext cx="157536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колониаль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77440" y="3600"/>
            <a:ext cx="510480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позднем девоне на смену табулятам пришли ругозы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652040" y="32400"/>
            <a:ext cx="57754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девонский период нередко называют веком ры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79400" y="47628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6192720" cy="4492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08000" y="1557360"/>
            <a:ext cx="35337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6696360" cy="3462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279400" y="148428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64000" cy="31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5327640" cy="469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275360" cy="320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0" name=""/>
          <p:cNvSpPr/>
          <p:nvPr/>
        </p:nvSpPr>
        <p:spPr>
          <a:xfrm>
            <a:off x="5782680" y="249228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851280" y="189000"/>
            <a:ext cx="5238720" cy="554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744720" cy="3521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3771720" cy="2657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4" name=""/>
          <p:cNvSpPr/>
          <p:nvPr/>
        </p:nvSpPr>
        <p:spPr>
          <a:xfrm>
            <a:off x="3407760" y="115920"/>
            <a:ext cx="22014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нцирн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219640" y="65160"/>
            <a:ext cx="3867120" cy="307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987640" y="3357720"/>
            <a:ext cx="5985000" cy="326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7" name=""/>
          <p:cNvSpPr/>
          <p:nvPr/>
        </p:nvSpPr>
        <p:spPr>
          <a:xfrm>
            <a:off x="345240" y="192960"/>
            <a:ext cx="18813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бесчелюс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08000" y="3284640"/>
            <a:ext cx="2843280" cy="255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108000" y="793800"/>
            <a:ext cx="4751280" cy="238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39272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4219560" cy="609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1147680" y="276120"/>
            <a:ext cx="29041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Фауна девонски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441180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267160" cy="271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179280" y="2979720"/>
            <a:ext cx="4969080" cy="372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86" name=""/>
          <p:cNvSpPr/>
          <p:nvPr/>
        </p:nvSpPr>
        <p:spPr>
          <a:xfrm>
            <a:off x="6393600" y="696240"/>
            <a:ext cx="18813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бесчелюс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189000"/>
            <a:ext cx="9144000" cy="580680"/>
          </a:xfrm>
          <a:prstGeom prst="rect">
            <a:avLst/>
          </a:prstGeom>
          <a:solidFill>
            <a:srgbClr val="ffe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Глобальная палеографическая реконструкция Земли позднего Девонского периода, 370 миллионов лет наза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50920" y="1413000"/>
            <a:ext cx="8381880" cy="4824360"/>
            <a:chOff x="250920" y="1413000"/>
            <a:chExt cx="8381880" cy="4824360"/>
          </a:xfrm>
        </p:grpSpPr>
        <p:pic>
          <p:nvPicPr>
            <p:cNvPr id="388" name="" descr=""/>
            <p:cNvPicPr/>
            <p:nvPr/>
          </p:nvPicPr>
          <p:blipFill>
            <a:blip r:embed="rId2"/>
            <a:stretch/>
          </p:blipFill>
          <p:spPr>
            <a:xfrm>
              <a:off x="250920" y="1413000"/>
              <a:ext cx="838188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069800" y="23050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Сибир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68760" y="3809880"/>
              <a:ext cx="9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Лавраз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37080" y="54450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Гондва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65080" y="37893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ети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605800" cy="61372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039840" y="115920"/>
            <a:ext cx="29041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Фауна девонски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718160" y="1413000"/>
            <a:ext cx="4425840" cy="53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3933720" cy="187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3673440" cy="31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2" name=""/>
          <p:cNvSpPr/>
          <p:nvPr/>
        </p:nvSpPr>
        <p:spPr>
          <a:xfrm>
            <a:off x="1247040" y="4292640"/>
            <a:ext cx="34894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учепёрые (костистые)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725280" y="549360"/>
            <a:ext cx="29253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Хрящевые (предки аку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908000" y="87480"/>
            <a:ext cx="5038920" cy="35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144360" y="3871800"/>
            <a:ext cx="4572000" cy="2797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4067280" cy="289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97" name=""/>
          <p:cNvSpPr/>
          <p:nvPr/>
        </p:nvSpPr>
        <p:spPr>
          <a:xfrm>
            <a:off x="6332400" y="1413000"/>
            <a:ext cx="29041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Фауна девонски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1979640" y="3236760"/>
            <a:ext cx="5977080" cy="340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5435640" y="766800"/>
            <a:ext cx="3533760" cy="237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5238720" cy="32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1" name=""/>
          <p:cNvSpPr/>
          <p:nvPr/>
        </p:nvSpPr>
        <p:spPr>
          <a:xfrm>
            <a:off x="4777920" y="189000"/>
            <a:ext cx="25138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опастепёр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240000" cy="222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3851280" y="58680"/>
            <a:ext cx="524844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5257800" cy="385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5" name=""/>
          <p:cNvSpPr/>
          <p:nvPr/>
        </p:nvSpPr>
        <p:spPr>
          <a:xfrm>
            <a:off x="890280" y="115920"/>
            <a:ext cx="25138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опастепёрые 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3048120" y="189000"/>
            <a:ext cx="609588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2736720" cy="249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4324320" cy="28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09" name=""/>
          <p:cNvSpPr/>
          <p:nvPr/>
        </p:nvSpPr>
        <p:spPr>
          <a:xfrm>
            <a:off x="4707000" y="4173480"/>
            <a:ext cx="40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овременная двоякодышащая ры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1080" y="404640"/>
            <a:ext cx="349992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Современная кистеперая ры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461080" cy="597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2" name=""/>
          <p:cNvSpPr/>
          <p:nvPr/>
        </p:nvSpPr>
        <p:spPr>
          <a:xfrm>
            <a:off x="2522160" y="115920"/>
            <a:ext cx="327744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Раннедевонский ландшаф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1280" y="181080"/>
            <a:ext cx="9001440" cy="6495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4" name=""/>
          <p:cNvSpPr/>
          <p:nvPr/>
        </p:nvSpPr>
        <p:spPr>
          <a:xfrm>
            <a:off x="2523240" y="115920"/>
            <a:ext cx="341172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Среднедевонский ландшаф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5715000" cy="4933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106200" y="620640"/>
            <a:ext cx="3097440" cy="243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4319640" cy="232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8" name=""/>
          <p:cNvSpPr/>
          <p:nvPr/>
        </p:nvSpPr>
        <p:spPr>
          <a:xfrm>
            <a:off x="549360" y="192960"/>
            <a:ext cx="45180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первые земноводные — стегоцефа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31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68360" y="3638520"/>
            <a:ext cx="8207280" cy="3098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4076640" y="3361680"/>
            <a:ext cx="451800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первые земноводные — стегоцефа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Файл:Kolihapeltis 01 Pen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404640"/>
            <a:ext cx="5245200" cy="614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4057920" y="189000"/>
            <a:ext cx="287964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Tahoma"/>
              </a:rPr>
              <a:t>Продолжали суще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826920" y="260280"/>
            <a:ext cx="2438640" cy="32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6" name=""/>
          <p:cNvSpPr/>
          <p:nvPr/>
        </p:nvSpPr>
        <p:spPr>
          <a:xfrm>
            <a:off x="3690720" y="616572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ahoma"/>
              </a:rPr>
              <a:t>трилоби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179280" y="3573360"/>
            <a:ext cx="3384720" cy="225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663840" y="3429000"/>
            <a:ext cx="1238400" cy="307080"/>
          </a:xfrm>
          <a:prstGeom prst="rect">
            <a:avLst/>
          </a:prstGeom>
          <a:solidFill>
            <a:srgbClr val="ffe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ahoma"/>
              </a:rPr>
              <a:t>криноиде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Файл:Psilotu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476280"/>
            <a:ext cx="4891320" cy="366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23" name=""/>
          <p:cNvSpPr/>
          <p:nvPr/>
        </p:nvSpPr>
        <p:spPr>
          <a:xfrm>
            <a:off x="4029480" y="115920"/>
            <a:ext cx="14745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силоф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77040" y="6532560"/>
            <a:ext cx="492336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Tahoma"/>
              </a:rPr>
              <a:t>Риниофиты, реконструкция ископаемых остат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651280" y="4149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врем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3895920" cy="4533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7" name="" descr="Rhyn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3500280"/>
            <a:ext cx="2151000" cy="302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Ш񮠲3"/>
          <p:cNvPicPr/>
          <p:nvPr/>
        </p:nvPicPr>
        <p:blipFill>
          <a:blip r:embed="rId2"/>
          <a:stretch/>
        </p:blipFill>
        <p:spPr>
          <a:xfrm>
            <a:off x="324000" y="333360"/>
            <a:ext cx="262224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9" name="" descr="Ш񮠲2"/>
          <p:cNvPicPr/>
          <p:nvPr/>
        </p:nvPicPr>
        <p:blipFill>
          <a:blip r:embed="rId3"/>
          <a:stretch/>
        </p:blipFill>
        <p:spPr>
          <a:xfrm>
            <a:off x="2700360" y="1916280"/>
            <a:ext cx="3124080" cy="475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0" name="" descr="Ш񮠲5"/>
          <p:cNvPicPr/>
          <p:nvPr/>
        </p:nvPicPr>
        <p:blipFill>
          <a:blip r:embed="rId4"/>
          <a:stretch/>
        </p:blipFill>
        <p:spPr>
          <a:xfrm>
            <a:off x="5700600" y="189000"/>
            <a:ext cx="3276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1" name=""/>
          <p:cNvSpPr/>
          <p:nvPr/>
        </p:nvSpPr>
        <p:spPr>
          <a:xfrm>
            <a:off x="3223800" y="419040"/>
            <a:ext cx="9244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хво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Ш񮠳8"/>
          <p:cNvPicPr/>
          <p:nvPr/>
        </p:nvPicPr>
        <p:blipFill>
          <a:blip r:embed="rId2"/>
          <a:stretch/>
        </p:blipFill>
        <p:spPr>
          <a:xfrm>
            <a:off x="250920" y="755640"/>
            <a:ext cx="294624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3" name="" descr="Картинка 6 из 248"/>
          <p:cNvPicPr/>
          <p:nvPr/>
        </p:nvPicPr>
        <p:blipFill>
          <a:blip r:embed="rId3"/>
          <a:stretch/>
        </p:blipFill>
        <p:spPr>
          <a:xfrm>
            <a:off x="3419640" y="755640"/>
            <a:ext cx="5483160" cy="4113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4" name=""/>
          <p:cNvSpPr/>
          <p:nvPr/>
        </p:nvSpPr>
        <p:spPr>
          <a:xfrm>
            <a:off x="2166480" y="189000"/>
            <a:ext cx="464616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Отпечатки растений девонского пери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Картинка 12 из 248"/>
          <p:cNvPicPr/>
          <p:nvPr/>
        </p:nvPicPr>
        <p:blipFill>
          <a:blip r:embed="rId2"/>
          <a:stretch/>
        </p:blipFill>
        <p:spPr>
          <a:xfrm>
            <a:off x="250920" y="260280"/>
            <a:ext cx="2779560" cy="388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6" name="" descr="Ш񮠳7"/>
          <p:cNvPicPr/>
          <p:nvPr/>
        </p:nvPicPr>
        <p:blipFill>
          <a:blip r:embed="rId3"/>
          <a:stretch/>
        </p:blipFill>
        <p:spPr>
          <a:xfrm>
            <a:off x="4284720" y="146160"/>
            <a:ext cx="459900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6516720" y="4411800"/>
            <a:ext cx="2448000" cy="2279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8" name="" descr="Картинка 60 из 248"/>
          <p:cNvPicPr/>
          <p:nvPr/>
        </p:nvPicPr>
        <p:blipFill>
          <a:blip r:embed="rId5"/>
          <a:stretch/>
        </p:blipFill>
        <p:spPr>
          <a:xfrm>
            <a:off x="1908000" y="2997360"/>
            <a:ext cx="455328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39" name=""/>
          <p:cNvSpPr/>
          <p:nvPr/>
        </p:nvSpPr>
        <p:spPr>
          <a:xfrm>
            <a:off x="192600" y="38160"/>
            <a:ext cx="403812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ahoma"/>
              </a:rPr>
              <a:t>Современный древовидный папорот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Семейство кордаитовые (Cordaitaceae)"/>
          <p:cNvPicPr/>
          <p:nvPr/>
        </p:nvPicPr>
        <p:blipFill>
          <a:blip r:embed="rId2"/>
          <a:stretch/>
        </p:blipFill>
        <p:spPr>
          <a:xfrm>
            <a:off x="4452840" y="333360"/>
            <a:ext cx="4456080" cy="6048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Картинка 1 из 6"/>
          <p:cNvPicPr/>
          <p:nvPr/>
        </p:nvPicPr>
        <p:blipFill>
          <a:blip r:embed="rId3"/>
          <a:stretch/>
        </p:blipFill>
        <p:spPr>
          <a:xfrm>
            <a:off x="324000" y="115920"/>
            <a:ext cx="3708360" cy="48956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Ш񮠴1"/>
          <p:cNvPicPr/>
          <p:nvPr/>
        </p:nvPicPr>
        <p:blipFill>
          <a:blip r:embed="rId4"/>
          <a:stretch/>
        </p:blipFill>
        <p:spPr>
          <a:xfrm>
            <a:off x="900000" y="4005360"/>
            <a:ext cx="1982880" cy="27813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073840" y="-12600"/>
            <a:ext cx="167256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кордаит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4176720" cy="41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684360" y="3213000"/>
            <a:ext cx="4174920" cy="344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2" name=""/>
          <p:cNvSpPr/>
          <p:nvPr/>
        </p:nvSpPr>
        <p:spPr>
          <a:xfrm>
            <a:off x="1884600" y="188280"/>
            <a:ext cx="2812680" cy="3682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замковые брахиопо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75400" y="4508640"/>
            <a:ext cx="4254480" cy="52020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Брахиоподы из пригидротермального оазис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метановое высачив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869000"/>
            <a:ext cx="863640" cy="21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885080" y="4005360"/>
            <a:ext cx="719280" cy="57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9280" y="376200"/>
            <a:ext cx="4392720" cy="3295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823000" y="189000"/>
            <a:ext cx="311472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4211640" y="3406680"/>
            <a:ext cx="4680000" cy="330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179280" y="3870360"/>
            <a:ext cx="3672000" cy="27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3506760" y="333360"/>
            <a:ext cx="3153960" cy="33732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абулятоморфные коралл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5580000" y="189000"/>
            <a:ext cx="3381480" cy="3295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3708360" y="3573360"/>
            <a:ext cx="5108760" cy="3170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3060720" y="189000"/>
            <a:ext cx="2509920" cy="388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179280" y="4046400"/>
            <a:ext cx="3872160" cy="264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108000" y="189000"/>
            <a:ext cx="2889360" cy="26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16" name=""/>
          <p:cNvSpPr/>
          <p:nvPr/>
        </p:nvSpPr>
        <p:spPr>
          <a:xfrm>
            <a:off x="0" y="3213000"/>
            <a:ext cx="2987640" cy="94644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раллы из пригидротермаль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азиса (метановое высачив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6543720"/>
            <a:ext cx="1514160" cy="30708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Чашка руго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935520" cy="28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9236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5076720" y="189000"/>
            <a:ext cx="3882960" cy="3436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1258920" y="3789360"/>
            <a:ext cx="396072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22" name=""/>
          <p:cNvSpPr/>
          <p:nvPr/>
        </p:nvSpPr>
        <p:spPr>
          <a:xfrm>
            <a:off x="0" y="3500280"/>
            <a:ext cx="2987640" cy="946440"/>
          </a:xfrm>
          <a:prstGeom prst="rect">
            <a:avLst/>
          </a:prstGeom>
          <a:solidFill>
            <a:srgbClr val="ffed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ауна из пригидротермаль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азиса (метановое высачив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30840" y="647208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Трубки черв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280" y="4924440"/>
            <a:ext cx="4083840" cy="30708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трубчатые черви рифтии </a:t>
            </a:r>
            <a:r>
              <a:rPr b="1" i="1" lang="ru-RU" sz="1400" spc="-1" strike="noStrike">
                <a:solidFill>
                  <a:srgbClr val="000099"/>
                </a:solidFill>
                <a:latin typeface="Tahoma"/>
              </a:rPr>
              <a:t>Riftia pachyptil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67240" y="765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32920" y="189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копа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960" y="115920"/>
            <a:ext cx="5560560" cy="36828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Бентосная макрофауна «Черных курильщи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5456160" y="620640"/>
            <a:ext cx="3564000" cy="603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179280" y="1258920"/>
            <a:ext cx="5184720" cy="3538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1" name=""/>
          <p:cNvSpPr/>
          <p:nvPr/>
        </p:nvSpPr>
        <p:spPr>
          <a:xfrm>
            <a:off x="1321920" y="5300640"/>
            <a:ext cx="29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people.whitman.ed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1440" y="4435920"/>
            <a:ext cx="4726800" cy="30708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Paralvinella sulfincola Desbruyères &amp; Laubier, 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21920" y="4724280"/>
            <a:ext cx="29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www.people.whitman.ed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5432400" y="1413000"/>
            <a:ext cx="3554280" cy="5225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5113080" cy="405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6" name=""/>
          <p:cNvSpPr/>
          <p:nvPr/>
        </p:nvSpPr>
        <p:spPr>
          <a:xfrm>
            <a:off x="1911600" y="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88560" y="765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копае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250920" y="5019840"/>
            <a:ext cx="2376360" cy="172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9" name=""/>
          <p:cNvSpPr/>
          <p:nvPr/>
        </p:nvSpPr>
        <p:spPr>
          <a:xfrm>
            <a:off x="2611080" y="5589720"/>
            <a:ext cx="2704320" cy="520200"/>
          </a:xfrm>
          <a:prstGeom prst="rect">
            <a:avLst/>
          </a:prstGeom>
          <a:solidFill>
            <a:srgbClr val="b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ahoma"/>
              </a:rPr>
              <a:t>Двустворчатые моллюс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ahoma"/>
              </a:rPr>
              <a:t>Calyptogena magnif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5:23:41Z</dcterms:created>
  <dc:creator>Korolev</dc:creator>
  <dc:description/>
  <dc:language>en-US</dc:language>
  <cp:lastModifiedBy>Леонова</cp:lastModifiedBy>
  <dcterms:modified xsi:type="dcterms:W3CDTF">2009-10-10T15:12:43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2f000000000001024140</vt:lpwstr>
  </property>
</Properties>
</file>