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62.jpeg" ContentType="image/jpeg"/>
  <Override PartName="/ppt/media/image79.jpeg" ContentType="image/jpeg"/>
  <Override PartName="/ppt/media/image84.png" ContentType="image/png"/>
  <Override PartName="/ppt/media/image17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7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4023-55A8-42CD-80FD-E0C23926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116B-DAE0-40EF-B311-E412CF70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9E59-8C5B-47E6-9C33-8F56D643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4EDB-1D36-4767-B0E6-84ADFBD8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CAFB-190B-479C-9CCB-C05C246A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10C4-9259-4C5E-8966-7BF20E8D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09A4-ACFC-4546-B7E7-2F7EE12F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3441-DE09-4917-A0F1-4B472F8E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FA0F-3053-4B31-B555-59FC8840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C8C7-A6FB-4F98-9954-533B120F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BFF6-0434-4096-BAC6-C02235AC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9D91-8D57-4EA8-BADB-14F52362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477E-E487-42F0-BB7E-68929713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5532-E2FE-4260-8080-5D06AFDB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6FF8-6F49-4FB8-8D64-0B9EC79B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3B9F-EAD5-4094-B509-B517ECF92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E5BA-F3B8-4108-AE9B-77AA08FA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F98F-C3C7-4458-9415-9355527E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D1DA-7971-4004-BA8B-24D92EDF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CE1B-99A7-43F6-B3A3-68DA34D5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1F8F-D1FF-4D83-859E-FA7D546D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5542-567F-4015-B208-CDBF2CEB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FD3E-E976-48F9-86C8-2A90DA4E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2A8D-E6D5-4850-B9CA-93E066C4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0A28-308F-46A3-8433-479010DAC9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2FF3-2632-4756-B42D-C46BAAD574B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1/14/Kolihapeltis_01_Pengo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0/0d/Psilotum.jpg" TargetMode="External"/><Relationship Id="rId3" Type="http://schemas.openxmlformats.org/officeDocument/2006/relationships/image" Target="../media/image83.jpeg"/><Relationship Id="rId4" Type="http://schemas.openxmlformats.org/officeDocument/2006/relationships/image" Target="../media/image84.png"/><Relationship Id="rId5" Type="http://schemas.openxmlformats.org/officeDocument/2006/relationships/hyperlink" Target="http://ru.wikipedia.org/wiki/&#1060;&#1072;&#1081;&#1083;:Rhynia_reconstruction.jpg" TargetMode="External"/><Relationship Id="rId6" Type="http://schemas.openxmlformats.org/officeDocument/2006/relationships/image" Target="../media/image85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image" Target="../media/image94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5.jpeg"/><Relationship Id="rId3" Type="http://schemas.openxmlformats.org/officeDocument/2006/relationships/image" Target="../media/image96.jpeg"/><Relationship Id="rId4" Type="http://schemas.openxmlformats.org/officeDocument/2006/relationships/image" Target="../media/image9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583560"/>
            <a:ext cx="914400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ahoma"/>
              </a:rPr>
              <a:t>Девонский пери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1430280"/>
            <a:ext cx="8748720" cy="252756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от Девоншир — графство в Великобритании, четвёртая по порядку система палеозойской группы слоёв земной коры, соответствующая четвёртому периоду палеозойской эры геологической истории Земли. Следует за силурийской системой и предшествует каменноугольной (карбону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Определяется радиологическими методами от 410 млн. до 350 млн. лет тому назад, продолжительность около 60 млн. лет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Подразделяется на три отдела: нижний, средний и верх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2521080" cy="2490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2916360" y="765000"/>
            <a:ext cx="3168360" cy="2633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2" name="" descr=""/>
          <p:cNvPicPr/>
          <p:nvPr/>
        </p:nvPicPr>
        <p:blipFill>
          <a:blip r:embed="rId4"/>
          <a:stretch/>
        </p:blipFill>
        <p:spPr>
          <a:xfrm>
            <a:off x="6227640" y="765000"/>
            <a:ext cx="2665440" cy="2422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43" name=""/>
          <p:cNvSpPr/>
          <p:nvPr/>
        </p:nvSpPr>
        <p:spPr>
          <a:xfrm>
            <a:off x="971640" y="263880"/>
            <a:ext cx="6769080" cy="3070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азнообразны раковины двустворчатых моллюсков и гастропод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5"/>
          <a:stretch/>
        </p:blipFill>
        <p:spPr>
          <a:xfrm>
            <a:off x="1187280" y="3789360"/>
            <a:ext cx="5185080" cy="2973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5" name="" descr=""/>
          <p:cNvPicPr/>
          <p:nvPr/>
        </p:nvPicPr>
        <p:blipFill>
          <a:blip r:embed="rId6"/>
          <a:stretch/>
        </p:blipFill>
        <p:spPr>
          <a:xfrm>
            <a:off x="7029360" y="3284640"/>
            <a:ext cx="1920960" cy="3357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82800"/>
            <a:ext cx="9036000" cy="3070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В позднем девоне доминировали ругозы и представители гидроид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4124520" cy="4752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8" name="" descr=""/>
          <p:cNvPicPr/>
          <p:nvPr/>
        </p:nvPicPr>
        <p:blipFill>
          <a:blip r:embed="rId3"/>
          <a:stretch/>
        </p:blipFill>
        <p:spPr>
          <a:xfrm>
            <a:off x="6556320" y="476280"/>
            <a:ext cx="2468520" cy="3673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9" name="" descr=""/>
          <p:cNvPicPr/>
          <p:nvPr/>
        </p:nvPicPr>
        <p:blipFill>
          <a:blip r:embed="rId4"/>
          <a:stretch/>
        </p:blipFill>
        <p:spPr>
          <a:xfrm>
            <a:off x="4643280" y="476280"/>
            <a:ext cx="2237040" cy="259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0" name="" descr=""/>
          <p:cNvPicPr/>
          <p:nvPr/>
        </p:nvPicPr>
        <p:blipFill>
          <a:blip r:embed="rId5"/>
          <a:stretch/>
        </p:blipFill>
        <p:spPr>
          <a:xfrm>
            <a:off x="3635280" y="3429000"/>
            <a:ext cx="2814840" cy="3313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1" name="" descr=""/>
          <p:cNvPicPr/>
          <p:nvPr/>
        </p:nvPicPr>
        <p:blipFill>
          <a:blip r:embed="rId6"/>
          <a:stretch/>
        </p:blipFill>
        <p:spPr>
          <a:xfrm>
            <a:off x="6300720" y="4005360"/>
            <a:ext cx="2592360" cy="2503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52" name=""/>
          <p:cNvSpPr/>
          <p:nvPr/>
        </p:nvSpPr>
        <p:spPr>
          <a:xfrm>
            <a:off x="6227640" y="6400800"/>
            <a:ext cx="2916360" cy="45900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Реконструкция прижизненного облика гидроидного организма и руго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5722920" y="3827520"/>
            <a:ext cx="3386160" cy="2652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250920" y="3324240"/>
            <a:ext cx="5381640" cy="3489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179280" y="227160"/>
            <a:ext cx="2203560" cy="338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6" name="" descr=""/>
          <p:cNvPicPr/>
          <p:nvPr/>
        </p:nvPicPr>
        <p:blipFill>
          <a:blip r:embed="rId5"/>
          <a:stretch/>
        </p:blipFill>
        <p:spPr>
          <a:xfrm>
            <a:off x="5508720" y="299880"/>
            <a:ext cx="3384360" cy="3318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7" name="" descr=""/>
          <p:cNvPicPr/>
          <p:nvPr/>
        </p:nvPicPr>
        <p:blipFill>
          <a:blip r:embed="rId6"/>
          <a:stretch/>
        </p:blipFill>
        <p:spPr>
          <a:xfrm>
            <a:off x="2484360" y="227160"/>
            <a:ext cx="1739880" cy="3024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58" name=""/>
          <p:cNvSpPr/>
          <p:nvPr/>
        </p:nvSpPr>
        <p:spPr>
          <a:xfrm>
            <a:off x="4204800" y="731880"/>
            <a:ext cx="1255320" cy="3070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одиноч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846240" y="3611520"/>
            <a:ext cx="1575360" cy="3070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колониаль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477440" y="3600"/>
            <a:ext cx="5104800" cy="3070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позднем девоне на смену табулятам пришли ругозы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652040" y="32400"/>
            <a:ext cx="577548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девонский период нередко называют веком рыб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79400" y="476280"/>
            <a:ext cx="220140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анцирные ры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2843280" y="1197000"/>
            <a:ext cx="6192720" cy="4492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08000" y="1557360"/>
            <a:ext cx="35337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1908000" y="3213000"/>
            <a:ext cx="6696360" cy="34624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5279400" y="1484280"/>
            <a:ext cx="220140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анцирные ры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464000" cy="3184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5327640" cy="4692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4275360" cy="3206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70" name=""/>
          <p:cNvSpPr/>
          <p:nvPr/>
        </p:nvSpPr>
        <p:spPr>
          <a:xfrm>
            <a:off x="5782680" y="2492280"/>
            <a:ext cx="220140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анцирные ры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3851280" y="189000"/>
            <a:ext cx="5238720" cy="5543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468360" y="3141720"/>
            <a:ext cx="3744720" cy="3521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3" name="" descr=""/>
          <p:cNvPicPr/>
          <p:nvPr/>
        </p:nvPicPr>
        <p:blipFill>
          <a:blip r:embed="rId4"/>
          <a:stretch/>
        </p:blipFill>
        <p:spPr>
          <a:xfrm>
            <a:off x="250920" y="260280"/>
            <a:ext cx="3771720" cy="2657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74" name=""/>
          <p:cNvSpPr/>
          <p:nvPr/>
        </p:nvSpPr>
        <p:spPr>
          <a:xfrm>
            <a:off x="3407760" y="115920"/>
            <a:ext cx="220140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анцирные ры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5219640" y="65160"/>
            <a:ext cx="3867120" cy="3076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2987640" y="3357720"/>
            <a:ext cx="5985000" cy="3268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77" name=""/>
          <p:cNvSpPr/>
          <p:nvPr/>
        </p:nvSpPr>
        <p:spPr>
          <a:xfrm>
            <a:off x="345240" y="192960"/>
            <a:ext cx="188136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бесчелюст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4"/>
          <a:stretch/>
        </p:blipFill>
        <p:spPr>
          <a:xfrm>
            <a:off x="108000" y="3284640"/>
            <a:ext cx="2843280" cy="2558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9" name="" descr=""/>
          <p:cNvPicPr/>
          <p:nvPr/>
        </p:nvPicPr>
        <p:blipFill>
          <a:blip r:embed="rId5"/>
          <a:stretch/>
        </p:blipFill>
        <p:spPr>
          <a:xfrm>
            <a:off x="108000" y="793800"/>
            <a:ext cx="4751280" cy="2384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4392720" cy="36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81" name="" descr=""/>
          <p:cNvPicPr/>
          <p:nvPr/>
        </p:nvPicPr>
        <p:blipFill>
          <a:blip r:embed="rId3"/>
          <a:stretch/>
        </p:blipFill>
        <p:spPr>
          <a:xfrm>
            <a:off x="4643280" y="260280"/>
            <a:ext cx="4219560" cy="6096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82" name=""/>
          <p:cNvSpPr/>
          <p:nvPr/>
        </p:nvSpPr>
        <p:spPr>
          <a:xfrm>
            <a:off x="1147680" y="276120"/>
            <a:ext cx="290412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Фауна девонских мор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4572000" y="1341360"/>
            <a:ext cx="4411800" cy="3657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84" name="" descr=""/>
          <p:cNvPicPr/>
          <p:nvPr/>
        </p:nvPicPr>
        <p:blipFill>
          <a:blip r:embed="rId3"/>
          <a:stretch/>
        </p:blipFill>
        <p:spPr>
          <a:xfrm>
            <a:off x="971640" y="189000"/>
            <a:ext cx="5267160" cy="2717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85" name="" descr=""/>
          <p:cNvPicPr/>
          <p:nvPr/>
        </p:nvPicPr>
        <p:blipFill>
          <a:blip r:embed="rId4"/>
          <a:stretch/>
        </p:blipFill>
        <p:spPr>
          <a:xfrm>
            <a:off x="179280" y="2979720"/>
            <a:ext cx="4969080" cy="3727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86" name=""/>
          <p:cNvSpPr/>
          <p:nvPr/>
        </p:nvSpPr>
        <p:spPr>
          <a:xfrm>
            <a:off x="6393600" y="696240"/>
            <a:ext cx="188136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бесчелюст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0" y="189000"/>
            <a:ext cx="9144000" cy="580680"/>
          </a:xfrm>
          <a:prstGeom prst="rect">
            <a:avLst/>
          </a:prstGeom>
          <a:solidFill>
            <a:srgbClr val="ffed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Глобальная палеографическая реконструкция Земли позднего Девонского периода, 370 миллионов лет назад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50920" y="1413000"/>
            <a:ext cx="8381880" cy="4824360"/>
            <a:chOff x="250920" y="1413000"/>
            <a:chExt cx="8381880" cy="4824360"/>
          </a:xfrm>
        </p:grpSpPr>
        <p:pic>
          <p:nvPicPr>
            <p:cNvPr id="388" name="" descr=""/>
            <p:cNvPicPr/>
            <p:nvPr/>
          </p:nvPicPr>
          <p:blipFill>
            <a:blip r:embed="rId2"/>
            <a:stretch/>
          </p:blipFill>
          <p:spPr>
            <a:xfrm>
              <a:off x="250920" y="1413000"/>
              <a:ext cx="8381880" cy="48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4069800" y="2305080"/>
              <a:ext cx="75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Сибир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68760" y="3809880"/>
              <a:ext cx="9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Лавраз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37080" y="544500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Гондван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65080" y="3789360"/>
              <a:ext cx="61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Тетис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8605800" cy="61372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3039840" y="115920"/>
            <a:ext cx="290412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Фауна девонских мор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4718160" y="1413000"/>
            <a:ext cx="4425840" cy="534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250920" y="4797360"/>
            <a:ext cx="3933720" cy="1876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91" name="" descr=""/>
          <p:cNvPicPr/>
          <p:nvPr/>
        </p:nvPicPr>
        <p:blipFill>
          <a:blip r:embed="rId4"/>
          <a:stretch/>
        </p:blipFill>
        <p:spPr>
          <a:xfrm>
            <a:off x="250920" y="333360"/>
            <a:ext cx="3673440" cy="314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92" name=""/>
          <p:cNvSpPr/>
          <p:nvPr/>
        </p:nvSpPr>
        <p:spPr>
          <a:xfrm>
            <a:off x="1247040" y="4292640"/>
            <a:ext cx="348948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Лучепёрые (костистые) ры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725280" y="549360"/>
            <a:ext cx="292536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Хрящевые (предки аку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908000" y="87480"/>
            <a:ext cx="5038920" cy="3566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144360" y="3871800"/>
            <a:ext cx="4572000" cy="2797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4932360" y="3645000"/>
            <a:ext cx="4067280" cy="2896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97" name=""/>
          <p:cNvSpPr/>
          <p:nvPr/>
        </p:nvSpPr>
        <p:spPr>
          <a:xfrm>
            <a:off x="6332400" y="1413000"/>
            <a:ext cx="290412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Фауна девонских мор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1979640" y="3236760"/>
            <a:ext cx="5977080" cy="3400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99" name="" descr=""/>
          <p:cNvPicPr/>
          <p:nvPr/>
        </p:nvPicPr>
        <p:blipFill>
          <a:blip r:embed="rId3"/>
          <a:stretch/>
        </p:blipFill>
        <p:spPr>
          <a:xfrm>
            <a:off x="5435640" y="766800"/>
            <a:ext cx="3533760" cy="2378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0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5238720" cy="3286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01" name=""/>
          <p:cNvSpPr/>
          <p:nvPr/>
        </p:nvSpPr>
        <p:spPr>
          <a:xfrm>
            <a:off x="4777920" y="189000"/>
            <a:ext cx="251388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Лопастепёрые ры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240000" cy="2220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3851280" y="58680"/>
            <a:ext cx="5248440" cy="3657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4" name="" descr=""/>
          <p:cNvPicPr/>
          <p:nvPr/>
        </p:nvPicPr>
        <p:blipFill>
          <a:blip r:embed="rId4"/>
          <a:stretch/>
        </p:blipFill>
        <p:spPr>
          <a:xfrm>
            <a:off x="1403280" y="2852640"/>
            <a:ext cx="5257800" cy="3853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05" name=""/>
          <p:cNvSpPr/>
          <p:nvPr/>
        </p:nvSpPr>
        <p:spPr>
          <a:xfrm>
            <a:off x="890280" y="115920"/>
            <a:ext cx="251388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Лопастепёрые ры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3048120" y="189000"/>
            <a:ext cx="6095880" cy="45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108000" y="836640"/>
            <a:ext cx="2736720" cy="2496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8" name="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4324320" cy="2886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09" name=""/>
          <p:cNvSpPr/>
          <p:nvPr/>
        </p:nvSpPr>
        <p:spPr>
          <a:xfrm>
            <a:off x="4707000" y="4173480"/>
            <a:ext cx="409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Современная двоякодышащая рыб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-1080" y="404640"/>
            <a:ext cx="3499920" cy="33732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Современная кистеперая рыб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8461080" cy="5972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12" name=""/>
          <p:cNvSpPr/>
          <p:nvPr/>
        </p:nvSpPr>
        <p:spPr>
          <a:xfrm>
            <a:off x="2522160" y="115920"/>
            <a:ext cx="327744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Раннедевонский ландшаф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71280" y="181080"/>
            <a:ext cx="9001440" cy="6495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14" name=""/>
          <p:cNvSpPr/>
          <p:nvPr/>
        </p:nvSpPr>
        <p:spPr>
          <a:xfrm>
            <a:off x="2523240" y="115920"/>
            <a:ext cx="341172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Среднедевонский ландшаф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3276720" y="189000"/>
            <a:ext cx="5715000" cy="4933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106200" y="620640"/>
            <a:ext cx="3097440" cy="2436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17" name="" descr=""/>
          <p:cNvPicPr/>
          <p:nvPr/>
        </p:nvPicPr>
        <p:blipFill>
          <a:blip r:embed="rId4"/>
          <a:stretch/>
        </p:blipFill>
        <p:spPr>
          <a:xfrm>
            <a:off x="250920" y="4149720"/>
            <a:ext cx="4319640" cy="2325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18" name=""/>
          <p:cNvSpPr/>
          <p:nvPr/>
        </p:nvSpPr>
        <p:spPr>
          <a:xfrm>
            <a:off x="549360" y="192960"/>
            <a:ext cx="451800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первые земноводные — стегоцефал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353440" cy="3184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468360" y="3638520"/>
            <a:ext cx="8207280" cy="3098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21" name=""/>
          <p:cNvSpPr/>
          <p:nvPr/>
        </p:nvSpPr>
        <p:spPr>
          <a:xfrm>
            <a:off x="4076640" y="3361680"/>
            <a:ext cx="451800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первые земноводные — стегоцефал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Файл:Kolihapeltis 01 Pengo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08360" y="404640"/>
            <a:ext cx="5245200" cy="6147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94" name=""/>
          <p:cNvSpPr/>
          <p:nvPr/>
        </p:nvSpPr>
        <p:spPr>
          <a:xfrm>
            <a:off x="4057920" y="189000"/>
            <a:ext cx="2879640" cy="33732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ahoma"/>
              </a:rPr>
              <a:t>Продолжали существо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826920" y="260280"/>
            <a:ext cx="2438640" cy="324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96" name=""/>
          <p:cNvSpPr/>
          <p:nvPr/>
        </p:nvSpPr>
        <p:spPr>
          <a:xfrm>
            <a:off x="3690720" y="616572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ahoma"/>
              </a:rPr>
              <a:t>трилоби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5"/>
          <a:stretch/>
        </p:blipFill>
        <p:spPr>
          <a:xfrm>
            <a:off x="179280" y="3573360"/>
            <a:ext cx="3384720" cy="2254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98" name=""/>
          <p:cNvSpPr/>
          <p:nvPr/>
        </p:nvSpPr>
        <p:spPr>
          <a:xfrm>
            <a:off x="663840" y="3429000"/>
            <a:ext cx="1238400" cy="307080"/>
          </a:xfrm>
          <a:prstGeom prst="rect">
            <a:avLst/>
          </a:prstGeom>
          <a:solidFill>
            <a:srgbClr val="ffed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ahoma"/>
              </a:rPr>
              <a:t>криноиде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Файл:Psilotum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476280"/>
            <a:ext cx="4891320" cy="3668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23" name=""/>
          <p:cNvSpPr/>
          <p:nvPr/>
        </p:nvSpPr>
        <p:spPr>
          <a:xfrm>
            <a:off x="4029480" y="115920"/>
            <a:ext cx="147456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силофи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77040" y="6532560"/>
            <a:ext cx="4923360" cy="3070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ahoma"/>
              </a:rPr>
              <a:t>Риниофиты, реконструкция ископаемых остат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651280" y="414972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врем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3895920" cy="4533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27" name="" descr="Rhyni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03640" y="3500280"/>
            <a:ext cx="2151000" cy="3025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Ш񮠲3"/>
          <p:cNvPicPr/>
          <p:nvPr/>
        </p:nvPicPr>
        <p:blipFill>
          <a:blip r:embed="rId2"/>
          <a:stretch/>
        </p:blipFill>
        <p:spPr>
          <a:xfrm>
            <a:off x="324000" y="333360"/>
            <a:ext cx="2622240" cy="38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29" name="" descr="Ш񮠲2"/>
          <p:cNvPicPr/>
          <p:nvPr/>
        </p:nvPicPr>
        <p:blipFill>
          <a:blip r:embed="rId3"/>
          <a:stretch/>
        </p:blipFill>
        <p:spPr>
          <a:xfrm>
            <a:off x="2700360" y="1916280"/>
            <a:ext cx="3124080" cy="4751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30" name="" descr="Ш񮠲5"/>
          <p:cNvPicPr/>
          <p:nvPr/>
        </p:nvPicPr>
        <p:blipFill>
          <a:blip r:embed="rId4"/>
          <a:stretch/>
        </p:blipFill>
        <p:spPr>
          <a:xfrm>
            <a:off x="5700600" y="189000"/>
            <a:ext cx="3276720" cy="482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31" name=""/>
          <p:cNvSpPr/>
          <p:nvPr/>
        </p:nvSpPr>
        <p:spPr>
          <a:xfrm>
            <a:off x="3223800" y="419040"/>
            <a:ext cx="92448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хвощ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Ш񮠳8"/>
          <p:cNvPicPr/>
          <p:nvPr/>
        </p:nvPicPr>
        <p:blipFill>
          <a:blip r:embed="rId2"/>
          <a:stretch/>
        </p:blipFill>
        <p:spPr>
          <a:xfrm>
            <a:off x="250920" y="755640"/>
            <a:ext cx="2946240" cy="38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33" name="" descr="Картинка 6 из 248"/>
          <p:cNvPicPr/>
          <p:nvPr/>
        </p:nvPicPr>
        <p:blipFill>
          <a:blip r:embed="rId3"/>
          <a:stretch/>
        </p:blipFill>
        <p:spPr>
          <a:xfrm>
            <a:off x="3419640" y="755640"/>
            <a:ext cx="5483160" cy="4113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34" name=""/>
          <p:cNvSpPr/>
          <p:nvPr/>
        </p:nvSpPr>
        <p:spPr>
          <a:xfrm>
            <a:off x="2166480" y="189000"/>
            <a:ext cx="4646160" cy="33732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Отпечатки растений девонского перио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Картинка 12 из 248"/>
          <p:cNvPicPr/>
          <p:nvPr/>
        </p:nvPicPr>
        <p:blipFill>
          <a:blip r:embed="rId2"/>
          <a:stretch/>
        </p:blipFill>
        <p:spPr>
          <a:xfrm>
            <a:off x="250920" y="260280"/>
            <a:ext cx="2779560" cy="3889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36" name="" descr="Ш񮠳7"/>
          <p:cNvPicPr/>
          <p:nvPr/>
        </p:nvPicPr>
        <p:blipFill>
          <a:blip r:embed="rId3"/>
          <a:stretch/>
        </p:blipFill>
        <p:spPr>
          <a:xfrm>
            <a:off x="4284720" y="146160"/>
            <a:ext cx="459900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6516720" y="4411800"/>
            <a:ext cx="2448000" cy="2279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38" name="" descr="Картинка 60 из 248"/>
          <p:cNvPicPr/>
          <p:nvPr/>
        </p:nvPicPr>
        <p:blipFill>
          <a:blip r:embed="rId5"/>
          <a:stretch/>
        </p:blipFill>
        <p:spPr>
          <a:xfrm>
            <a:off x="1908000" y="2997360"/>
            <a:ext cx="4553280" cy="3809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39" name=""/>
          <p:cNvSpPr/>
          <p:nvPr/>
        </p:nvSpPr>
        <p:spPr>
          <a:xfrm>
            <a:off x="192600" y="38160"/>
            <a:ext cx="4038120" cy="3070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ahoma"/>
              </a:rPr>
              <a:t>Современный древовидный папоротни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Семейство кордаитовые (Cordaitaceae)"/>
          <p:cNvPicPr/>
          <p:nvPr/>
        </p:nvPicPr>
        <p:blipFill>
          <a:blip r:embed="rId2"/>
          <a:stretch/>
        </p:blipFill>
        <p:spPr>
          <a:xfrm>
            <a:off x="4452840" y="333360"/>
            <a:ext cx="4456080" cy="60483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Картинка 1 из 6"/>
          <p:cNvPicPr/>
          <p:nvPr/>
        </p:nvPicPr>
        <p:blipFill>
          <a:blip r:embed="rId3"/>
          <a:stretch/>
        </p:blipFill>
        <p:spPr>
          <a:xfrm>
            <a:off x="324000" y="115920"/>
            <a:ext cx="3708360" cy="489564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Ш񮠴1"/>
          <p:cNvPicPr/>
          <p:nvPr/>
        </p:nvPicPr>
        <p:blipFill>
          <a:blip r:embed="rId4"/>
          <a:stretch/>
        </p:blipFill>
        <p:spPr>
          <a:xfrm>
            <a:off x="900000" y="4005360"/>
            <a:ext cx="1982880" cy="278136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5073840" y="-12600"/>
            <a:ext cx="167256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кордаит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3192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4788000" y="260280"/>
            <a:ext cx="4176720" cy="4129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684360" y="3213000"/>
            <a:ext cx="4174920" cy="3440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02" name=""/>
          <p:cNvSpPr/>
          <p:nvPr/>
        </p:nvSpPr>
        <p:spPr>
          <a:xfrm>
            <a:off x="1884600" y="188280"/>
            <a:ext cx="281268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замковые брахиопо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775400" y="4508640"/>
            <a:ext cx="4254480" cy="52020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Брахиоподы из пригидротермального оазис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(метановое высачивани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4284360" y="4869000"/>
            <a:ext cx="863640" cy="21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7885080" y="4005360"/>
            <a:ext cx="719280" cy="576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179280" y="376200"/>
            <a:ext cx="4392720" cy="3295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5823000" y="189000"/>
            <a:ext cx="3114720" cy="338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4211640" y="3406680"/>
            <a:ext cx="4680000" cy="3306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179280" y="3870360"/>
            <a:ext cx="3672000" cy="2757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10" name=""/>
          <p:cNvSpPr/>
          <p:nvPr/>
        </p:nvSpPr>
        <p:spPr>
          <a:xfrm>
            <a:off x="3506760" y="333360"/>
            <a:ext cx="3153960" cy="33732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Табулятоморфные коралл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5580000" y="189000"/>
            <a:ext cx="3381480" cy="3295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3708360" y="3573360"/>
            <a:ext cx="5108760" cy="3170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13" name="" descr=""/>
          <p:cNvPicPr/>
          <p:nvPr/>
        </p:nvPicPr>
        <p:blipFill>
          <a:blip r:embed="rId4"/>
          <a:stretch/>
        </p:blipFill>
        <p:spPr>
          <a:xfrm>
            <a:off x="3060720" y="189000"/>
            <a:ext cx="2509920" cy="3887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14" name="" descr=""/>
          <p:cNvPicPr/>
          <p:nvPr/>
        </p:nvPicPr>
        <p:blipFill>
          <a:blip r:embed="rId5"/>
          <a:stretch/>
        </p:blipFill>
        <p:spPr>
          <a:xfrm>
            <a:off x="179280" y="4046400"/>
            <a:ext cx="3872160" cy="2641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15" name="" descr=""/>
          <p:cNvPicPr/>
          <p:nvPr/>
        </p:nvPicPr>
        <p:blipFill>
          <a:blip r:embed="rId6"/>
          <a:stretch/>
        </p:blipFill>
        <p:spPr>
          <a:xfrm>
            <a:off x="108000" y="189000"/>
            <a:ext cx="2889360" cy="2627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16" name=""/>
          <p:cNvSpPr/>
          <p:nvPr/>
        </p:nvSpPr>
        <p:spPr>
          <a:xfrm>
            <a:off x="0" y="3213000"/>
            <a:ext cx="2987640" cy="94644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раллы из пригидротермальн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азиса (метановое высачивани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51640" y="6543720"/>
            <a:ext cx="1514160" cy="3070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Чашка ругоз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5076720" y="3860640"/>
            <a:ext cx="3935520" cy="288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392360" cy="3809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20" name="" descr=""/>
          <p:cNvPicPr/>
          <p:nvPr/>
        </p:nvPicPr>
        <p:blipFill>
          <a:blip r:embed="rId4"/>
          <a:stretch/>
        </p:blipFill>
        <p:spPr>
          <a:xfrm>
            <a:off x="5076720" y="189000"/>
            <a:ext cx="3882960" cy="3436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21" name="" descr=""/>
          <p:cNvPicPr/>
          <p:nvPr/>
        </p:nvPicPr>
        <p:blipFill>
          <a:blip r:embed="rId5"/>
          <a:stretch/>
        </p:blipFill>
        <p:spPr>
          <a:xfrm>
            <a:off x="1258920" y="3789360"/>
            <a:ext cx="3960720" cy="2971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22" name=""/>
          <p:cNvSpPr/>
          <p:nvPr/>
        </p:nvSpPr>
        <p:spPr>
          <a:xfrm>
            <a:off x="0" y="3500280"/>
            <a:ext cx="2987640" cy="94644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фауна из пригидротермальн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азиса (метановое высачивани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230840" y="647208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Трубки черв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0280" y="4924440"/>
            <a:ext cx="4083840" cy="307080"/>
          </a:xfrm>
          <a:prstGeom prst="rect">
            <a:avLst/>
          </a:prstGeom>
          <a:solidFill>
            <a:srgbClr val="b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трубчатые черви рифтии </a:t>
            </a:r>
            <a:r>
              <a:rPr b="1" i="1" lang="ru-RU" sz="1400" spc="-1" strike="noStrike">
                <a:solidFill>
                  <a:srgbClr val="000099"/>
                </a:solidFill>
                <a:latin typeface="Tahoma"/>
              </a:rPr>
              <a:t>Riftia pachyptila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767240" y="76500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врем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532920" y="18900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скопаем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2960" y="115920"/>
            <a:ext cx="5560560" cy="368280"/>
          </a:xfrm>
          <a:prstGeom prst="rect">
            <a:avLst/>
          </a:prstGeom>
          <a:solidFill>
            <a:srgbClr val="b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Бентосная макрофауна «Черных курильщик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5456160" y="620640"/>
            <a:ext cx="3564000" cy="6034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179280" y="1258920"/>
            <a:ext cx="5184720" cy="3538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31" name=""/>
          <p:cNvSpPr/>
          <p:nvPr/>
        </p:nvSpPr>
        <p:spPr>
          <a:xfrm>
            <a:off x="1321920" y="5300640"/>
            <a:ext cx="29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www.people.whitman.ed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61440" y="4435920"/>
            <a:ext cx="4726800" cy="307080"/>
          </a:xfrm>
          <a:prstGeom prst="rect">
            <a:avLst/>
          </a:prstGeom>
          <a:solidFill>
            <a:srgbClr val="b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Paralvinella sulfincola Desbruyères &amp; Laubier, 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321920" y="4724280"/>
            <a:ext cx="29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www.people.whitman.ed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5432400" y="1413000"/>
            <a:ext cx="3554280" cy="5225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5113080" cy="4056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36" name=""/>
          <p:cNvSpPr/>
          <p:nvPr/>
        </p:nvSpPr>
        <p:spPr>
          <a:xfrm>
            <a:off x="1911600" y="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врем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388560" y="76500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скопаем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250920" y="5019840"/>
            <a:ext cx="2376360" cy="1722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39" name=""/>
          <p:cNvSpPr/>
          <p:nvPr/>
        </p:nvSpPr>
        <p:spPr>
          <a:xfrm>
            <a:off x="2611080" y="5589720"/>
            <a:ext cx="2704320" cy="520200"/>
          </a:xfrm>
          <a:prstGeom prst="rect">
            <a:avLst/>
          </a:prstGeom>
          <a:solidFill>
            <a:srgbClr val="b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Двустворчатые моллюск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Tahoma"/>
              </a:rPr>
              <a:t>Calyptogena magnif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05:23:41Z</dcterms:created>
  <dc:creator>Korolev</dc:creator>
  <dc:description/>
  <dc:language>en-US</dc:language>
  <cp:lastModifiedBy>Леонова</cp:lastModifiedBy>
  <dcterms:modified xsi:type="dcterms:W3CDTF">2009-10-10T15:12:43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2f000000000001024140</vt:lpwstr>
  </property>
</Properties>
</file>