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20F-FDDD-40D4-8A5E-EAEBD13D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BDB-7FAB-43F4-9CFF-EFC24A9D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997-9E65-4EB6-A354-BD1AC9B5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101-D4AF-4ABD-A4A3-6A6D1609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1F6-2402-4FB1-B73A-187CF342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254-1233-4538-858A-2E00A21D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04B-B6A7-4B37-9DFD-FC7F0B34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B67-6905-4825-BBEF-7006BDBE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946-2A81-49B3-AAA2-D65E7131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F7D-E37C-4967-8A33-D38CC9B6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1C3-75AA-4852-BD7D-3597CA3B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170-BE35-4BF3-902D-105AB15E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ABCF-3D58-4C0D-9825-9D0BFECAC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67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емографический порт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560" y="2421000"/>
            <a:ext cx="6697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мерть каждого человека – это потеря всего челове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.Хемингуэй. «По ком звонит колокол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ttp://festival.1september.ru/articles/410903/img7.gif"/>
          <p:cNvPicPr/>
          <p:nvPr/>
        </p:nvPicPr>
        <p:blipFill>
          <a:blip r:embed="rId1"/>
          <a:stretch/>
        </p:blipFill>
        <p:spPr>
          <a:xfrm>
            <a:off x="1406520" y="217440"/>
            <a:ext cx="75992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festival.1september.ru/articles/410903/img8.gif"/>
          <p:cNvPicPr/>
          <p:nvPr/>
        </p:nvPicPr>
        <p:blipFill>
          <a:blip r:embed="rId1"/>
          <a:stretch/>
        </p:blipFill>
        <p:spPr>
          <a:xfrm>
            <a:off x="1403280" y="797040"/>
            <a:ext cx="76629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считаете, какие факторы могут влиять на СП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rganization Chart 2"/>
          <p:cNvGrpSpPr/>
          <p:nvPr/>
        </p:nvGrpSpPr>
        <p:grpSpPr>
          <a:xfrm>
            <a:off x="1042920" y="1341360"/>
            <a:ext cx="7402680" cy="2822760"/>
            <a:chOff x="1042920" y="1341360"/>
            <a:chExt cx="7402680" cy="2822760"/>
          </a:xfrm>
        </p:grpSpPr>
        <p:cxnSp>
          <p:nvCxnSpPr>
            <p:cNvPr id="62" name="_s1028"/>
            <p:cNvCxnSpPr>
              <a:stCxn id="63" idx="0"/>
              <a:endCxn id="64" idx="0"/>
            </p:cNvCxnSpPr>
            <p:nvPr/>
          </p:nvCxnSpPr>
          <p:spPr>
            <a:xfrm flipV="1">
              <a:off x="718236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65" name="_s1029"/>
            <p:cNvCxnSpPr>
              <a:stCxn id="66" idx="0"/>
              <a:endCxn id="67" idx="0"/>
            </p:cNvCxnSpPr>
            <p:nvPr/>
          </p:nvCxnSpPr>
          <p:spPr>
            <a:xfrm flipV="1">
              <a:off x="338976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68" name="_s1030"/>
            <p:cNvCxnSpPr>
              <a:stCxn id="69" idx="0"/>
              <a:endCxn id="70" idx="0"/>
            </p:cNvCxnSpPr>
            <p:nvPr/>
          </p:nvCxnSpPr>
          <p:spPr>
            <a:xfrm flipV="1">
              <a:off x="844488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1" name="_s1031"/>
            <p:cNvCxnSpPr>
              <a:stCxn id="72" idx="0"/>
              <a:endCxn id="73" idx="0"/>
            </p:cNvCxnSpPr>
            <p:nvPr/>
          </p:nvCxnSpPr>
          <p:spPr>
            <a:xfrm flipV="1">
              <a:off x="591768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4" name="_s1032"/>
            <p:cNvCxnSpPr>
              <a:stCxn id="75" idx="0"/>
              <a:endCxn id="76" idx="0"/>
            </p:cNvCxnSpPr>
            <p:nvPr/>
          </p:nvCxnSpPr>
          <p:spPr>
            <a:xfrm flipV="1">
              <a:off x="212580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7" name="_s1033"/>
            <p:cNvCxnSpPr>
              <a:stCxn id="78" idx="0"/>
              <a:endCxn id="79" idx="0"/>
            </p:cNvCxnSpPr>
            <p:nvPr/>
          </p:nvCxnSpPr>
          <p:spPr>
            <a:xfrm flipV="1">
              <a:off x="465336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0" name="_s1034"/>
            <p:cNvCxnSpPr>
              <a:stCxn id="70" idx="1"/>
              <a:endCxn id="81" idx="0"/>
            </p:cNvCxnSpPr>
            <p:nvPr/>
          </p:nvCxnSpPr>
          <p:spPr>
            <a:xfrm flipV="1" rot="16200000">
              <a:off x="6688440" y="642960"/>
              <a:ext cx="353520" cy="316008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2" name="_s1035"/>
            <p:cNvCxnSpPr>
              <a:stCxn id="64" idx="1"/>
              <a:endCxn id="81" idx="1"/>
            </p:cNvCxnSpPr>
            <p:nvPr/>
          </p:nvCxnSpPr>
          <p:spPr>
            <a:xfrm flipV="1" rot="16200000">
              <a:off x="6057000" y="1274400"/>
              <a:ext cx="353520" cy="189756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3" name="_s1036"/>
            <p:cNvCxnSpPr>
              <a:stCxn id="73" idx="1"/>
              <a:endCxn id="81" idx="2"/>
            </p:cNvCxnSpPr>
            <p:nvPr/>
          </p:nvCxnSpPr>
          <p:spPr>
            <a:xfrm flipV="1" rot="16200000">
              <a:off x="5424840" y="1906560"/>
              <a:ext cx="353520" cy="63324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4" name="_s1037"/>
            <p:cNvCxnSpPr>
              <a:stCxn id="79" idx="1"/>
              <a:endCxn id="81" idx="3"/>
            </p:cNvCxnSpPr>
            <p:nvPr/>
          </p:nvCxnSpPr>
          <p:spPr>
            <a:xfrm flipH="1" flipV="1" rot="5400000">
              <a:off x="4793040" y="1907640"/>
              <a:ext cx="353520" cy="63144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5" name="_s1038"/>
            <p:cNvCxnSpPr>
              <a:stCxn id="67" idx="1"/>
              <a:endCxn id="81" idx="4"/>
            </p:cNvCxnSpPr>
            <p:nvPr/>
          </p:nvCxnSpPr>
          <p:spPr>
            <a:xfrm flipH="1" flipV="1" rot="5400000">
              <a:off x="4160880" y="1275480"/>
              <a:ext cx="353520" cy="189576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6" name="_s1039"/>
            <p:cNvCxnSpPr>
              <a:stCxn id="76" idx="1"/>
              <a:endCxn id="81" idx="5"/>
            </p:cNvCxnSpPr>
            <p:nvPr/>
          </p:nvCxnSpPr>
          <p:spPr>
            <a:xfrm flipH="1" flipV="1" rot="5400000">
              <a:off x="3528720" y="643320"/>
              <a:ext cx="353520" cy="315972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81" name="_s1040"/>
            <p:cNvSpPr/>
            <p:nvPr/>
          </p:nvSpPr>
          <p:spPr>
            <a:xfrm>
              <a:off x="4202280" y="13413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0897c">
                <a:alpha val="50000"/>
              </a:srgbClr>
            </a:soli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акторы, влияющие на СП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1"/>
            <p:cNvSpPr/>
            <p:nvPr/>
          </p:nvSpPr>
          <p:spPr>
            <a:xfrm>
              <a:off x="104292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ЦИАЛ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42"/>
            <p:cNvSpPr/>
            <p:nvPr/>
          </p:nvSpPr>
          <p:spPr>
            <a:xfrm>
              <a:off x="230688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ОНОМИЧЕСК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3"/>
            <p:cNvSpPr/>
            <p:nvPr/>
          </p:nvSpPr>
          <p:spPr>
            <a:xfrm>
              <a:off x="357084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УЛЬТУРНО-НРАВСТВЕН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44"/>
            <p:cNvSpPr/>
            <p:nvPr/>
          </p:nvSpPr>
          <p:spPr>
            <a:xfrm>
              <a:off x="4834800" y="239976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ОЛОГИЧЕСК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5"/>
            <p:cNvSpPr/>
            <p:nvPr/>
          </p:nvSpPr>
          <p:spPr>
            <a:xfrm>
              <a:off x="609840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ЕНЕТИЧЕС-КИЕ ФАКТОР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6"/>
            <p:cNvSpPr/>
            <p:nvPr/>
          </p:nvSpPr>
          <p:spPr>
            <a:xfrm>
              <a:off x="7362720" y="239976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ЛЬТЕРНАТИВ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7"/>
            <p:cNvSpPr/>
            <p:nvPr/>
          </p:nvSpPr>
          <p:spPr>
            <a:xfrm>
              <a:off x="357120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ТСУТСТВИ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ДЕАЛ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8"/>
            <p:cNvSpPr/>
            <p:nvPr/>
          </p:nvSpPr>
          <p:spPr>
            <a:xfrm>
              <a:off x="104328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ЕЗРАБОТИЦ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УЛЬТУРА ПОТРЕБЛ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9"/>
            <p:cNvSpPr/>
            <p:nvPr/>
          </p:nvSpPr>
          <p:spPr>
            <a:xfrm>
              <a:off x="483480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СТОЯНИЕ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Д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ЧВ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ЗДУХ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50"/>
            <p:cNvSpPr/>
            <p:nvPr/>
          </p:nvSpPr>
          <p:spPr>
            <a:xfrm>
              <a:off x="736272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ЙСТВИЯ ЭЛЕКТРОМАГНИТ-НЫХ ПОЛЕЙ И РАЗЛИЧНЫХ БЫТОВЫХ ПРИБОРОВ И ТЕХНИ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51"/>
            <p:cNvSpPr/>
            <p:nvPr/>
          </p:nvSpPr>
          <p:spPr>
            <a:xfrm>
              <a:off x="2306880" y="345852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ОНОМИЧЕСКИ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РИЗИСЫ УРОВЕНЬ ПОТРЕБЛ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РОВЕНЬ РАЗВИТ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затраты  на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дравоохранение, охрана труда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52"/>
            <p:cNvSpPr/>
            <p:nvPr/>
          </p:nvSpPr>
          <p:spPr>
            <a:xfrm>
              <a:off x="609912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ДРАСПОЛОЖЕН-НОСТЬ К РАЗЛИЧНЫМ ЗАБОЛЕВАНИЯМ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Object 29" descr=""/>
          <p:cNvPicPr/>
          <p:nvPr/>
        </p:nvPicPr>
        <p:blipFill>
          <a:blip r:embed="rId1"/>
          <a:stretch/>
        </p:blipFill>
        <p:spPr>
          <a:xfrm>
            <a:off x="1403280" y="4437000"/>
            <a:ext cx="7613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71080" cy="5099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ры, способствующих повышению продолжительности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Жилищное хозяйство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можно сделать вывод о состоянии демографической ситуации в Росси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4390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России складывается неблагоприятная демографическая ситуация, обусловленная уменьшением численности населения, увеличением смертности, снижением рождаемости и количества брако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0"/>
            <a:ext cx="93250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пути решения проблем связанных со снижением численности населения выбирает сейчас наше государство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59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являются новые национальные проекты в здравоохранении, образовании, сельском хозяйстве, обеспечение жильем молодых семей и выплаты денежных пособий матерям за первого ребенка и значительные выплаты за рождение второго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76360" y="1557360"/>
          <a:ext cx="7345440" cy="5040360"/>
        </p:xfrm>
        <a:graphic>
          <a:graphicData uri="http://schemas.openxmlformats.org/drawingml/2006/table">
            <a:tbl>
              <a:tblPr/>
              <a:tblGrid>
                <a:gridCol w="3672000"/>
                <a:gridCol w="3673440"/>
              </a:tblGrid>
              <a:tr h="504036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Естественный прирост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Демографическая политика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Демографический кризис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СПЖ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Средний мировой показатель ЕП на регулирование ЕП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) Воспроизводство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12 чел./1000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роцесс непрерывной смены поколений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азница между рождаемостью или деппопуляция смертностью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совокупность мер, направленная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реднее число лет, которое проживёт новорождённый при существующей в настоящее время смертности в различных возрас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258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560" y="981000"/>
            <a:ext cx="788508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уйте данные, находящие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аблице и скажите как обсто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в стране в 1990 г. и 2004г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уйте возрастно-полов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у: Каково соотношение численности мужского и жен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я не трудоспособного, трудоспособного и пенсионного возра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02920" y="764640"/>
            <a:ext cx="74898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те характеристику демографической ситуации в Амурской области, используя данные на ваших ли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средняя продолжительность жизни составляет около 60 лет, а в Японии  - 87 лет. Укажите факторы влияющие на продолжительность жизни в эт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то такое демографическая ситу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оанализировать возрастную структуру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festival.1september.ru/articles/410903/img10.jpg"/>
          <p:cNvPicPr/>
          <p:nvPr/>
        </p:nvPicPr>
        <p:blipFill>
          <a:blip r:embed="rId1"/>
          <a:stretch/>
        </p:blipFill>
        <p:spPr>
          <a:xfrm>
            <a:off x="2268360" y="4221000"/>
            <a:ext cx="42865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1357200" y="1197000"/>
            <a:ext cx="6094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демографические показатели: рождаемость, смертность, ЕП, СП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ПЖ влияют различные факторы: социально-экономический, культурно-нравственный, генетический, экологический, группа альтернатив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выделить 2 основных направления повышения СПЖ: семейная политика и здоровый образ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festival.1september.ru/articles/410903/img9.gif"/>
          <p:cNvPicPr/>
          <p:nvPr/>
        </p:nvPicPr>
        <p:blipFill>
          <a:blip r:embed="rId1"/>
          <a:stretch/>
        </p:blipFill>
        <p:spPr>
          <a:xfrm>
            <a:off x="6286680" y="115920"/>
            <a:ext cx="2857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000" y="160020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тать §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чать на вопросы стр.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учит.gif"/>
          <p:cNvPicPr/>
          <p:nvPr/>
        </p:nvPicPr>
        <p:blipFill>
          <a:blip r:embed="rId1"/>
          <a:stretch/>
        </p:blipFill>
        <p:spPr>
          <a:xfrm>
            <a:off x="5508720" y="4005360"/>
            <a:ext cx="2400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тественное движение нас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festival.1september.ru/articles/410903/img1.gif"/>
          <p:cNvPicPr/>
          <p:nvPr/>
        </p:nvPicPr>
        <p:blipFill>
          <a:blip r:embed="rId1"/>
          <a:stretch/>
        </p:blipFill>
        <p:spPr>
          <a:xfrm>
            <a:off x="1457280" y="1879560"/>
            <a:ext cx="7578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festival.1september.ru/articles/410903/img2.gif"/>
          <p:cNvPicPr/>
          <p:nvPr/>
        </p:nvPicPr>
        <p:blipFill>
          <a:blip r:embed="rId1"/>
          <a:stretch/>
        </p:blipFill>
        <p:spPr>
          <a:xfrm>
            <a:off x="1446120" y="189000"/>
            <a:ext cx="7697880" cy="4844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festival.1september.ru/articles/410903/img3.gif"/>
          <p:cNvPicPr/>
          <p:nvPr/>
        </p:nvPicPr>
        <p:blipFill>
          <a:blip r:embed="rId2"/>
          <a:stretch/>
        </p:blipFill>
        <p:spPr>
          <a:xfrm>
            <a:off x="1763640" y="5105520"/>
            <a:ext cx="5877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вы темпы роста населения в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Федеральные округа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РАСТНО-ПОЛОВАЯ СТРУКТУРА НАСЕЛЕ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1 января 2005 г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ысяч челов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mage7171"/>
          <p:cNvPicPr/>
          <p:nvPr/>
        </p:nvPicPr>
        <p:blipFill>
          <a:blip r:embed="rId1"/>
          <a:stretch/>
        </p:blipFill>
        <p:spPr>
          <a:xfrm>
            <a:off x="46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festival.1september.ru/articles/410903/img4.gif"/>
          <p:cNvPicPr/>
          <p:nvPr/>
        </p:nvPicPr>
        <p:blipFill>
          <a:blip r:embed="rId1"/>
          <a:stretch/>
        </p:blipFill>
        <p:spPr>
          <a:xfrm>
            <a:off x="1619280" y="882720"/>
            <a:ext cx="7331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ttp://festival.1september.ru/articles/410903/img5.gif"/>
          <p:cNvPicPr/>
          <p:nvPr/>
        </p:nvPicPr>
        <p:blipFill>
          <a:blip r:embed="rId1"/>
          <a:stretch/>
        </p:blipFill>
        <p:spPr>
          <a:xfrm>
            <a:off x="1252440" y="504720"/>
            <a:ext cx="75675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http://festival.1september.ru/articles/410903/img6.gif"/>
          <p:cNvPicPr/>
          <p:nvPr/>
        </p:nvPicPr>
        <p:blipFill>
          <a:blip r:embed="rId1"/>
          <a:stretch/>
        </p:blipFill>
        <p:spPr>
          <a:xfrm>
            <a:off x="1728720" y="981000"/>
            <a:ext cx="7186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4:48:50Z</dcterms:created>
  <dc:creator>татьяна</dc:creator>
  <dc:description/>
  <dc:language>en-US</dc:language>
  <cp:lastModifiedBy>User</cp:lastModifiedBy>
  <dcterms:modified xsi:type="dcterms:W3CDTF">2011-09-04T07:43:50Z</dcterms:modified>
  <cp:revision>6</cp:revision>
  <dc:subject/>
  <dc:title>Демографический портр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60000000000010243100207f6000400038000</vt:lpwstr>
  </property>
</Properties>
</file>