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28C-A254-4F92-BAFF-A5B93CF4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010-2DB6-4888-A06B-7F8C467D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C19-7F68-4222-974E-513B2846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820-3B2C-4DBA-8D33-3A445E71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1A2-FADA-4543-A409-7AF72173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8DA-D8C1-4A76-91FC-E60DBC24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F61-AA81-446D-93E9-2F05D295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2F1-3FFB-42E1-B61E-40D5ECC6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C19-973E-47ED-BA97-465E2502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DFA-B0BC-4974-9255-285EAB3F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7EC9-11A7-43CB-95F4-930889CE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3FE-D16C-47AC-A330-D0D84377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A864-5E60-4024-A71F-F52D604480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67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емографический портр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560" y="2421000"/>
            <a:ext cx="6697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мерть каждого человека – это потеря всего человеч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.Хемингуэй. «По ком звонит колокол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http://festival.1september.ru/articles/410903/img7.gif"/>
          <p:cNvPicPr/>
          <p:nvPr/>
        </p:nvPicPr>
        <p:blipFill>
          <a:blip r:embed="rId1"/>
          <a:stretch/>
        </p:blipFill>
        <p:spPr>
          <a:xfrm>
            <a:off x="1406520" y="217440"/>
            <a:ext cx="75992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festival.1september.ru/articles/410903/img8.gif"/>
          <p:cNvPicPr/>
          <p:nvPr/>
        </p:nvPicPr>
        <p:blipFill>
          <a:blip r:embed="rId1"/>
          <a:stretch/>
        </p:blipFill>
        <p:spPr>
          <a:xfrm>
            <a:off x="1403280" y="797040"/>
            <a:ext cx="766296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вы считаете, какие факторы могут влиять на СП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rganization Chart 2"/>
          <p:cNvGrpSpPr/>
          <p:nvPr/>
        </p:nvGrpSpPr>
        <p:grpSpPr>
          <a:xfrm>
            <a:off x="1042920" y="1341360"/>
            <a:ext cx="7402680" cy="2822760"/>
            <a:chOff x="1042920" y="1341360"/>
            <a:chExt cx="7402680" cy="2822760"/>
          </a:xfrm>
        </p:grpSpPr>
        <p:cxnSp>
          <p:nvCxnSpPr>
            <p:cNvPr id="62" name="_s1028"/>
            <p:cNvCxnSpPr>
              <a:stCxn id="63" idx="0"/>
              <a:endCxn id="64" idx="0"/>
            </p:cNvCxnSpPr>
            <p:nvPr/>
          </p:nvCxnSpPr>
          <p:spPr>
            <a:xfrm flipV="1">
              <a:off x="7182360" y="3105000"/>
              <a:ext cx="1080" cy="35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65" name="_s1029"/>
            <p:cNvCxnSpPr>
              <a:stCxn id="66" idx="0"/>
              <a:endCxn id="67" idx="0"/>
            </p:cNvCxnSpPr>
            <p:nvPr/>
          </p:nvCxnSpPr>
          <p:spPr>
            <a:xfrm flipV="1">
              <a:off x="3389760" y="3105000"/>
              <a:ext cx="1080" cy="35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68" name="_s1030"/>
            <p:cNvCxnSpPr>
              <a:stCxn id="69" idx="0"/>
              <a:endCxn id="70" idx="0"/>
            </p:cNvCxnSpPr>
            <p:nvPr/>
          </p:nvCxnSpPr>
          <p:spPr>
            <a:xfrm flipV="1">
              <a:off x="8444880" y="3105000"/>
              <a:ext cx="1080" cy="35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1" name="_s1031"/>
            <p:cNvCxnSpPr>
              <a:stCxn id="72" idx="0"/>
              <a:endCxn id="73" idx="0"/>
            </p:cNvCxnSpPr>
            <p:nvPr/>
          </p:nvCxnSpPr>
          <p:spPr>
            <a:xfrm flipV="1">
              <a:off x="5917680" y="3105000"/>
              <a:ext cx="1080" cy="35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4" name="_s1032"/>
            <p:cNvCxnSpPr>
              <a:stCxn id="75" idx="0"/>
              <a:endCxn id="76" idx="0"/>
            </p:cNvCxnSpPr>
            <p:nvPr/>
          </p:nvCxnSpPr>
          <p:spPr>
            <a:xfrm flipV="1">
              <a:off x="2125800" y="3105000"/>
              <a:ext cx="1080" cy="35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7" name="_s1033"/>
            <p:cNvCxnSpPr>
              <a:stCxn id="78" idx="0"/>
              <a:endCxn id="79" idx="0"/>
            </p:cNvCxnSpPr>
            <p:nvPr/>
          </p:nvCxnSpPr>
          <p:spPr>
            <a:xfrm flipV="1">
              <a:off x="4653360" y="3105000"/>
              <a:ext cx="1080" cy="35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0" name="_s1034"/>
            <p:cNvCxnSpPr>
              <a:stCxn id="70" idx="1"/>
              <a:endCxn id="81" idx="0"/>
            </p:cNvCxnSpPr>
            <p:nvPr/>
          </p:nvCxnSpPr>
          <p:spPr>
            <a:xfrm flipV="1" rot="16200000">
              <a:off x="6688440" y="642960"/>
              <a:ext cx="353520" cy="3160080"/>
            </a:xfrm>
            <a:prstGeom prst="bentConnector3">
              <a:avLst>
                <a:gd name="adj1" fmla="val 25790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2" name="_s1035"/>
            <p:cNvCxnSpPr>
              <a:stCxn id="64" idx="1"/>
              <a:endCxn id="81" idx="1"/>
            </p:cNvCxnSpPr>
            <p:nvPr/>
          </p:nvCxnSpPr>
          <p:spPr>
            <a:xfrm flipV="1" rot="16200000">
              <a:off x="6057000" y="1274400"/>
              <a:ext cx="353520" cy="1897560"/>
            </a:xfrm>
            <a:prstGeom prst="bentConnector3">
              <a:avLst>
                <a:gd name="adj1" fmla="val 25790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3" name="_s1036"/>
            <p:cNvCxnSpPr>
              <a:stCxn id="73" idx="1"/>
              <a:endCxn id="81" idx="2"/>
            </p:cNvCxnSpPr>
            <p:nvPr/>
          </p:nvCxnSpPr>
          <p:spPr>
            <a:xfrm flipV="1" rot="16200000">
              <a:off x="5424840" y="1906560"/>
              <a:ext cx="353520" cy="633240"/>
            </a:xfrm>
            <a:prstGeom prst="bentConnector3">
              <a:avLst>
                <a:gd name="adj1" fmla="val 25790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4" name="_s1037"/>
            <p:cNvCxnSpPr>
              <a:stCxn id="79" idx="1"/>
              <a:endCxn id="81" idx="3"/>
            </p:cNvCxnSpPr>
            <p:nvPr/>
          </p:nvCxnSpPr>
          <p:spPr>
            <a:xfrm flipH="1" flipV="1" rot="5400000">
              <a:off x="4793040" y="1907640"/>
              <a:ext cx="353520" cy="631440"/>
            </a:xfrm>
            <a:prstGeom prst="bentConnector3">
              <a:avLst>
                <a:gd name="adj1" fmla="val 25790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5" name="_s1038"/>
            <p:cNvCxnSpPr>
              <a:stCxn id="67" idx="1"/>
              <a:endCxn id="81" idx="4"/>
            </p:cNvCxnSpPr>
            <p:nvPr/>
          </p:nvCxnSpPr>
          <p:spPr>
            <a:xfrm flipH="1" flipV="1" rot="5400000">
              <a:off x="4160880" y="1275480"/>
              <a:ext cx="353520" cy="1895760"/>
            </a:xfrm>
            <a:prstGeom prst="bentConnector3">
              <a:avLst>
                <a:gd name="adj1" fmla="val 25790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6" name="_s1039"/>
            <p:cNvCxnSpPr>
              <a:stCxn id="76" idx="1"/>
              <a:endCxn id="81" idx="5"/>
            </p:cNvCxnSpPr>
            <p:nvPr/>
          </p:nvCxnSpPr>
          <p:spPr>
            <a:xfrm flipH="1" flipV="1" rot="5400000">
              <a:off x="3528720" y="643320"/>
              <a:ext cx="353520" cy="3159720"/>
            </a:xfrm>
            <a:prstGeom prst="bentConnector3">
              <a:avLst>
                <a:gd name="adj1" fmla="val 25790"/>
              </a:avLst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81" name="_s1040"/>
            <p:cNvSpPr/>
            <p:nvPr/>
          </p:nvSpPr>
          <p:spPr>
            <a:xfrm>
              <a:off x="4202280" y="1341360"/>
              <a:ext cx="1083240" cy="705600"/>
            </a:xfrm>
            <a:custGeom>
              <a:avLst/>
              <a:gdLst>
                <a:gd name="textAreaLeft" fmla="*/ 169200 w 1083240"/>
                <a:gd name="textAreaRight" fmla="*/ 1083600 w 108324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0897c">
                <a:alpha val="50000"/>
              </a:srgbClr>
            </a:solidFill>
            <a:ln w="3240">
              <a:solidFill>
                <a:srgbClr val="6089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акторы, влияющие на СП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1"/>
            <p:cNvSpPr/>
            <p:nvPr/>
          </p:nvSpPr>
          <p:spPr>
            <a:xfrm>
              <a:off x="1042920" y="2399760"/>
              <a:ext cx="1083240" cy="705600"/>
            </a:xfrm>
            <a:custGeom>
              <a:avLst/>
              <a:gdLst>
                <a:gd name="textAreaLeft" fmla="*/ 169200 w 1083240"/>
                <a:gd name="textAreaRight" fmla="*/ 1083600 w 108324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ЦИАЛ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42"/>
            <p:cNvSpPr/>
            <p:nvPr/>
          </p:nvSpPr>
          <p:spPr>
            <a:xfrm>
              <a:off x="2306880" y="2399760"/>
              <a:ext cx="1083240" cy="705600"/>
            </a:xfrm>
            <a:custGeom>
              <a:avLst/>
              <a:gdLst>
                <a:gd name="textAreaLeft" fmla="*/ 169200 w 1083240"/>
                <a:gd name="textAreaRight" fmla="*/ 1083600 w 108324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ЭКОНОМИЧЕСКИ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3"/>
            <p:cNvSpPr/>
            <p:nvPr/>
          </p:nvSpPr>
          <p:spPr>
            <a:xfrm>
              <a:off x="3570840" y="2399760"/>
              <a:ext cx="1083240" cy="705600"/>
            </a:xfrm>
            <a:custGeom>
              <a:avLst/>
              <a:gdLst>
                <a:gd name="textAreaLeft" fmla="*/ 169200 w 1083240"/>
                <a:gd name="textAreaRight" fmla="*/ 1083600 w 108324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УЛЬТУРНО-НРАВСТВЕН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44"/>
            <p:cNvSpPr/>
            <p:nvPr/>
          </p:nvSpPr>
          <p:spPr>
            <a:xfrm>
              <a:off x="4834800" y="239976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ЭКОЛОГИЧЕСКИ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45"/>
            <p:cNvSpPr/>
            <p:nvPr/>
          </p:nvSpPr>
          <p:spPr>
            <a:xfrm>
              <a:off x="6098400" y="2399760"/>
              <a:ext cx="1083240" cy="705600"/>
            </a:xfrm>
            <a:custGeom>
              <a:avLst/>
              <a:gdLst>
                <a:gd name="textAreaLeft" fmla="*/ 169200 w 1083240"/>
                <a:gd name="textAreaRight" fmla="*/ 1083600 w 108324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ЕНЕТИЧЕС-КИЕ ФАКТОР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46"/>
            <p:cNvSpPr/>
            <p:nvPr/>
          </p:nvSpPr>
          <p:spPr>
            <a:xfrm>
              <a:off x="7362720" y="239976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ЛЬТЕРНАТИВ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7"/>
            <p:cNvSpPr/>
            <p:nvPr/>
          </p:nvSpPr>
          <p:spPr>
            <a:xfrm>
              <a:off x="3571200" y="345852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ТСУТСТВИЕ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ДЕАЛО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8"/>
            <p:cNvSpPr/>
            <p:nvPr/>
          </p:nvSpPr>
          <p:spPr>
            <a:xfrm>
              <a:off x="1043280" y="345852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ЕЗРАБОТИЦ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УЛЬТУРА ПОТРЕБЛЕН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49"/>
            <p:cNvSpPr/>
            <p:nvPr/>
          </p:nvSpPr>
          <p:spPr>
            <a:xfrm>
              <a:off x="4834800" y="345852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СТОЯНИЕ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ОД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ЧВ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ОЗДУХ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50"/>
            <p:cNvSpPr/>
            <p:nvPr/>
          </p:nvSpPr>
          <p:spPr>
            <a:xfrm>
              <a:off x="7362720" y="345852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ЙСТВИЯ ЭЛЕКТРОМАГНИТ-НЫХ ПОЛЕЙ И РАЗЛИЧНЫХ БЫТОВЫХ ПРИБОРОВ И ТЕХНИК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51"/>
            <p:cNvSpPr/>
            <p:nvPr/>
          </p:nvSpPr>
          <p:spPr>
            <a:xfrm>
              <a:off x="2306880" y="3458520"/>
              <a:ext cx="1083240" cy="705600"/>
            </a:xfrm>
            <a:custGeom>
              <a:avLst/>
              <a:gdLst>
                <a:gd name="textAreaLeft" fmla="*/ 169200 w 1083240"/>
                <a:gd name="textAreaRight" fmla="*/ 1083600 w 108324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ЭКОНОМИЧЕСКИЕ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РИЗИСЫ УРОВЕНЬ ПОТРЕБЛЕН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РОВЕНЬ РАЗВИТ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затраты  на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дравоохранение, охрана труда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52"/>
            <p:cNvSpPr/>
            <p:nvPr/>
          </p:nvSpPr>
          <p:spPr>
            <a:xfrm>
              <a:off x="6099120" y="345852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ЕДРАСПОЛОЖЕН-НОСТЬ К РАЗЛИЧНЫМ ЗАБОЛЕВАНИЯМ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Object 29" descr=""/>
          <p:cNvPicPr/>
          <p:nvPr/>
        </p:nvPicPr>
        <p:blipFill>
          <a:blip r:embed="rId1"/>
          <a:stretch/>
        </p:blipFill>
        <p:spPr>
          <a:xfrm>
            <a:off x="1403280" y="4437000"/>
            <a:ext cx="7613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371080" cy="5099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ры, способствующих повышению продолжительности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Жилищное хозяйство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можно сделать вывод о состоянии демографической ситуации в Росси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8920" y="1915920"/>
            <a:ext cx="74390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России складывается неблагоприятная демографическая ситуация, обусловленная уменьшением численности населения, увеличением смертности, снижением рождаемости и количества брако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0"/>
            <a:ext cx="932508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пути решения проблем связанных со снижением численности населения выбирает сейчас наше государство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59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являются новые национальные проекты в здравоохранении, образовании, сельском хозяйстве, обеспечение жильем молодых семей и выплаты денежных пособий матерям за первого ребенка и значительные выплаты за рождение второго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ите соответств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76360" y="1557360"/>
          <a:ext cx="7345440" cy="5040360"/>
        </p:xfrm>
        <a:graphic>
          <a:graphicData uri="http://schemas.openxmlformats.org/drawingml/2006/table">
            <a:tbl>
              <a:tblPr/>
              <a:tblGrid>
                <a:gridCol w="3672000"/>
                <a:gridCol w="3673440"/>
              </a:tblGrid>
              <a:tr h="504036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Естественный прирост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Демографическая политика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Демографический кризис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СПЖ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) Средний мировой показатель ЕП на регулирование ЕП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) Воспроизводство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12 чел./1000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роцесс непрерывной смены поколений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азница между рождаемостью или деппопуляция смертностью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совокупность мер, направленная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реднее число лет, которое проживёт новорождённый при существующей в настоящее время смертности в различных возрас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258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групп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8560" y="981000"/>
            <a:ext cx="788508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анализируйте данные, находящие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аблице и скажите как обсто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 в стране в 1990 г. и 2004г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анализируйте возрастно-полов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у: Каково соотношение численности мужского и жен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еления не трудоспособного, трудоспособного и пенсионного возра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402920" y="764640"/>
            <a:ext cx="74898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йте характеристику демографической ситуации в Амурской области, используя данные на ваших ли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средняя продолжительность жизни составляет около 60 лет, а в Японии  - 87 лет. Укажите факторы влияющие на продолжительность жизни в эти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Це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Что такое демографическая ситу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оанализировать возрастную структуру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festival.1september.ru/articles/410903/img10.jpg"/>
          <p:cNvPicPr/>
          <p:nvPr/>
        </p:nvPicPr>
        <p:blipFill>
          <a:blip r:embed="rId1"/>
          <a:stretch/>
        </p:blipFill>
        <p:spPr>
          <a:xfrm>
            <a:off x="2268360" y="4221000"/>
            <a:ext cx="42865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1357200" y="1197000"/>
            <a:ext cx="6094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демографические показатели: рождаемость, смертность, ЕП, СП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ПЖ влияют различные факторы: социально-экономический, культурно-нравственный, генетический, экологический, группа альтернатив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выделить 2 основных направления повышения СПЖ: семейная политика и здоровый образ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festival.1september.ru/articles/410903/img9.gif"/>
          <p:cNvPicPr/>
          <p:nvPr/>
        </p:nvPicPr>
        <p:blipFill>
          <a:blip r:embed="rId1"/>
          <a:stretch/>
        </p:blipFill>
        <p:spPr>
          <a:xfrm>
            <a:off x="6286680" y="115920"/>
            <a:ext cx="28573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76000" y="160020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тать §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чать на вопросы стр.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4" descr="учит.gif"/>
          <p:cNvPicPr/>
          <p:nvPr/>
        </p:nvPicPr>
        <p:blipFill>
          <a:blip r:embed="rId1"/>
          <a:stretch/>
        </p:blipFill>
        <p:spPr>
          <a:xfrm>
            <a:off x="5508720" y="4005360"/>
            <a:ext cx="2400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тественное движение нас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festival.1september.ru/articles/410903/img1.gif"/>
          <p:cNvPicPr/>
          <p:nvPr/>
        </p:nvPicPr>
        <p:blipFill>
          <a:blip r:embed="rId1"/>
          <a:stretch/>
        </p:blipFill>
        <p:spPr>
          <a:xfrm>
            <a:off x="1457280" y="1879560"/>
            <a:ext cx="75787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festival.1september.ru/articles/410903/img2.gif"/>
          <p:cNvPicPr/>
          <p:nvPr/>
        </p:nvPicPr>
        <p:blipFill>
          <a:blip r:embed="rId1"/>
          <a:stretch/>
        </p:blipFill>
        <p:spPr>
          <a:xfrm>
            <a:off x="1446120" y="189000"/>
            <a:ext cx="7697880" cy="4844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festival.1september.ru/articles/410903/img3.gif"/>
          <p:cNvPicPr/>
          <p:nvPr/>
        </p:nvPicPr>
        <p:blipFill>
          <a:blip r:embed="rId2"/>
          <a:stretch/>
        </p:blipFill>
        <p:spPr>
          <a:xfrm>
            <a:off x="1763640" y="5105520"/>
            <a:ext cx="5877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вы темпы роста населения в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Федеральные округа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88000" y="274320"/>
            <a:ext cx="38988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РАСТНО-ПОЛОВАЯ СТРУКТУРА НАСЕЛЕН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1 января 2005 г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тысяч челов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Image7171"/>
          <p:cNvPicPr/>
          <p:nvPr/>
        </p:nvPicPr>
        <p:blipFill>
          <a:blip r:embed="rId1"/>
          <a:stretch/>
        </p:blipFill>
        <p:spPr>
          <a:xfrm>
            <a:off x="46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ttp://festival.1september.ru/articles/410903/img4.gif"/>
          <p:cNvPicPr/>
          <p:nvPr/>
        </p:nvPicPr>
        <p:blipFill>
          <a:blip r:embed="rId1"/>
          <a:stretch/>
        </p:blipFill>
        <p:spPr>
          <a:xfrm>
            <a:off x="1619280" y="882720"/>
            <a:ext cx="7331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http://festival.1september.ru/articles/410903/img5.gif"/>
          <p:cNvPicPr/>
          <p:nvPr/>
        </p:nvPicPr>
        <p:blipFill>
          <a:blip r:embed="rId1"/>
          <a:stretch/>
        </p:blipFill>
        <p:spPr>
          <a:xfrm>
            <a:off x="1252440" y="504720"/>
            <a:ext cx="756756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http://festival.1september.ru/articles/410903/img6.gif"/>
          <p:cNvPicPr/>
          <p:nvPr/>
        </p:nvPicPr>
        <p:blipFill>
          <a:blip r:embed="rId1"/>
          <a:stretch/>
        </p:blipFill>
        <p:spPr>
          <a:xfrm>
            <a:off x="1728720" y="981000"/>
            <a:ext cx="71866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4:48:50Z</dcterms:created>
  <dc:creator>татьяна</dc:creator>
  <dc:description/>
  <dc:language>en-US</dc:language>
  <cp:lastModifiedBy>User</cp:lastModifiedBy>
  <dcterms:modified xsi:type="dcterms:W3CDTF">2011-09-04T07:43:50Z</dcterms:modified>
  <cp:revision>6</cp:revision>
  <dc:subject/>
  <dc:title>Демографический портр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60000000000010243100207f6000400038000</vt:lpwstr>
  </property>
</Properties>
</file>