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1CC-F2A6-44ED-AD2E-76A1F557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C86-8FC9-41DF-8D42-3C85C42F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71A-80F1-4B23-8AC8-816A65D0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D57-6E4D-4922-8F03-15CACE13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603-1DC6-4634-8135-2E52548C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10C2-FBB5-4AA6-A267-E2437572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A2D6-F04A-4922-B206-EA49444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CB8-D6B9-44C4-96CF-225EE2E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5DCB-EA79-437D-8495-3931F02F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129E-B173-428A-93DD-8DE8D255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2156-D079-4BCA-A807-6A6E2FC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157-8EA3-4976-91AB-917956B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4102-1811-442F-9176-96E6179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3BB-45A3-410E-B537-973B08E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766D-4CF2-4A4C-AC15-A1F6CDC2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82C0-AE0C-473E-8495-53405203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E1A4-DBE8-4641-AF87-23C90D3B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800-2534-4EEB-8883-A9F64B74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946-E4B4-44CA-B789-314B333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FEC-F45D-4E6A-BC34-40369B77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783-6DA3-41AC-A38E-5C40DC9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CF4-CC50-4EB4-96E5-1F3B015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2EA-200F-42FD-A136-A6A610A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C37-28A8-48E2-AE82-3807E95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CAB4-27E1-48AB-9FC4-56B1677B1A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8ACA-DF1C-4E18-9DA6-1AF97FB652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мографическая обстановка в ми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ая обстановка в Росси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я вступила в период быстрого снижения ежегодной рождаемости. Совершенно очевид-но, что если в ближайшие годы не удастся переломить эти тенденции, то Россию ожидает гораздо больший демографический «провал», чем в 60-е годы, со всеми вытекающими отсюда последствиями: диспропорциями на брачном «рынке», спадом численности трудовых ресурсов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дети5"/>
          <p:cNvPicPr/>
          <p:nvPr/>
        </p:nvPicPr>
        <p:blipFill>
          <a:blip r:embed="rId1"/>
          <a:stretch/>
        </p:blipFill>
        <p:spPr>
          <a:xfrm>
            <a:off x="5902200" y="836640"/>
            <a:ext cx="3241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3212640"/>
            <a:ext cx="961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первых, последующее поколение обладает меньшим потенциалом здоровь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вторых, больные матери рожают больных дет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третьих, бедные семьи воспроизводят бедных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четвертых, в обществе образовался большой слой маргинал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пятых, снижение интеллектуального уровня российской популя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шестых, эпидемический характер приобрели болезни, имеющие социальную этимологию: СПИД, сифилис, наркомания, туберкулез, алкоголизм, а также суици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дети3"/>
          <p:cNvPicPr/>
          <p:nvPr/>
        </p:nvPicPr>
        <p:blipFill>
          <a:blip r:embed="rId1"/>
          <a:stretch/>
        </p:blipFill>
        <p:spPr>
          <a:xfrm>
            <a:off x="2195640" y="0"/>
            <a:ext cx="43923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alcogol%207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Картинка 7 из 15529"/>
          <p:cNvPicPr/>
          <p:nvPr/>
        </p:nvPicPr>
        <p:blipFill>
          <a:blip r:embed="rId2"/>
          <a:stretch/>
        </p:blipFill>
        <p:spPr>
          <a:xfrm>
            <a:off x="250920" y="336600"/>
            <a:ext cx="88027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ий оптиму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 последние годы не только поискового, 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нормативного демографического прогнозирования породило  понятие «демографический оптимум», под которым понимается такой режим  воспроизводства населения, когда  демографическая ситуация   может стабилизироваться, оказаться в относительно равно-весном состоянии и в глобальном, и в региональном масштаба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Картинка 16 из 15529"/>
          <p:cNvPicPr/>
          <p:nvPr/>
        </p:nvPicPr>
        <p:blipFill>
          <a:blip r:embed="rId2"/>
          <a:stretch/>
        </p:blipFill>
        <p:spPr>
          <a:xfrm>
            <a:off x="406728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артинка 47 из 15529"/>
          <p:cNvPicPr/>
          <p:nvPr/>
        </p:nvPicPr>
        <p:blipFill>
          <a:blip r:embed="rId3"/>
          <a:srcRect l="0" t="0" r="0" b="15357"/>
          <a:stretch/>
        </p:blipFill>
        <p:spPr>
          <a:xfrm>
            <a:off x="0" y="0"/>
            <a:ext cx="43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Картинка 374 из 15529"/>
          <p:cNvPicPr/>
          <p:nvPr/>
        </p:nvPicPr>
        <p:blipFill>
          <a:blip r:embed="rId4"/>
          <a:stretch/>
        </p:blipFill>
        <p:spPr>
          <a:xfrm>
            <a:off x="0" y="350028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7" descr="Картинка 418 из 155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ife%20Russia%201991"/>
          <p:cNvPicPr/>
          <p:nvPr/>
        </p:nvPicPr>
        <p:blipFill>
          <a:blip r:embed="rId1"/>
          <a:srcRect l="3385" t="8445" r="8861" b="0"/>
          <a:stretch/>
        </p:blipFill>
        <p:spPr>
          <a:xfrm>
            <a:off x="539640" y="1844640"/>
            <a:ext cx="7634520" cy="4718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должительность жизни в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7596360" y="1773360"/>
            <a:ext cx="86328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729920" y="1195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5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отнош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50920" y="1341360"/>
            <a:ext cx="5041800" cy="460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867280" y="4076640"/>
            <a:ext cx="2305080" cy="187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фр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900000" y="2637000"/>
            <a:ext cx="3745080" cy="32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86880" y="6922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4,5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78880" y="126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кономически развитые стра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дерланды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цар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923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3975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56400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03640" y="1773360"/>
            <a:ext cx="2746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012000" y="1628640"/>
            <a:ext cx="2746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148360" y="19152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стрия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ьгия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угал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в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88200" y="1197720"/>
            <a:ext cx="492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Таблица 1</a:t>
            </a:r>
            <a:br>
              <a:rPr sz="1000"/>
            </a:b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Страны Европы с отрицательным естественным приростом насел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119240" y="119844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9209160" cy="6654960"/>
        </p:xfrm>
        <a:graphic>
          <a:graphicData uri="http://schemas.openxmlformats.org/drawingml/2006/table">
            <a:tbl>
              <a:tblPr/>
              <a:tblGrid>
                <a:gridCol w="981000"/>
                <a:gridCol w="609840"/>
                <a:gridCol w="1110960"/>
                <a:gridCol w="1959120"/>
                <a:gridCol w="2271600"/>
                <a:gridCol w="22766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смертн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естественного прироста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уммарный коэффициент рождаем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елору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765000"/>
          <a:ext cx="9144000" cy="6212160"/>
        </p:xfrm>
        <a:graphic>
          <a:graphicData uri="http://schemas.openxmlformats.org/drawingml/2006/table">
            <a:tbl>
              <a:tblPr/>
              <a:tblGrid>
                <a:gridCol w="971640"/>
                <a:gridCol w="1439640"/>
                <a:gridCol w="3219480"/>
                <a:gridCol w="1030320"/>
                <a:gridCol w="976320"/>
                <a:gridCol w="150660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исленностьнаселен, млн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овой естественный прирост или убыль (-) населения, млн ч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ое движение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ждаем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мертн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ый прирост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74"/>
          <p:cNvSpPr/>
          <p:nvPr/>
        </p:nvSpPr>
        <p:spPr>
          <a:xfrm>
            <a:off x="0" y="8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го естественное движение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graphs246529"/>
          <p:cNvPicPr/>
          <p:nvPr/>
        </p:nvPicPr>
        <p:blipFill>
          <a:blip r:embed="rId1"/>
          <a:srcRect l="0" t="23452" r="0" b="3445"/>
          <a:stretch/>
        </p:blipFill>
        <p:spPr>
          <a:xfrm>
            <a:off x="155520" y="0"/>
            <a:ext cx="85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death%20rate%207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death%20rate%20per%201000%20%20all%20countries%20CI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7:00Z</dcterms:created>
  <dc:creator>XTreme</dc:creator>
  <dc:description/>
  <dc:language>en-US</dc:language>
  <cp:lastModifiedBy>STAR</cp:lastModifiedBy>
  <dcterms:modified xsi:type="dcterms:W3CDTF">2012-09-02T05:55:49Z</dcterms:modified>
  <cp:revision>3</cp:revision>
  <dc:subject/>
  <dc:title>Слайд 1</dc:title>
</cp:coreProperties>
</file>