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79F-E27C-4759-96F7-1D2329AC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FF6-1F0A-487F-A4B1-3BFA3339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024-D9A6-42ED-9D78-293AF34E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D3D-E779-461A-B62B-DB4F1546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ADEC-A566-4CB7-ABBA-2847A0AC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93A4-6DC3-444B-B3CD-8780A743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5538-2C4D-4FA7-ADD2-7DA95931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5D0D-1175-4BD3-83BB-4FC66E16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FA7D-259A-4863-9137-C3E4A6CA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C329-C315-45DF-B189-8F09A127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4AE3-C36F-4EEA-B6F7-AB3A6E9B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F8A-DEF6-4A00-AE11-6421FEA6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DAAA-A9D2-4839-9863-CE007095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FB19-6F6A-4222-9E30-A5389FF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9000-6370-47D1-9C56-DF0727FD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16E2-ADED-4A41-93BB-EBB18A0E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5EC5-87C9-45A6-A867-863E5148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67C-902A-4019-8C7B-64B82D3E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424-3484-4302-B76D-EDE832F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622-DF00-4FD5-B792-D14925CA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255-C0BD-4B89-8311-EC9E76E1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15E-F73B-4506-83CB-0BDE20E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213-8D05-48F2-A3F4-F418955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122-D855-4F72-BF6E-AF0ADD3F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6A1D-E946-4C68-965A-F953E1FC8F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D898-BD4E-4C90-88E7-2C2059F670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емографическая обстановка в мир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ая обстановка в Росси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97080" y="1125360"/>
            <a:ext cx="655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сия вступила в период быстрого снижения ежегодной рождаемости. Совершенно очевид-но, что если в ближайшие годы не удастся переломить эти тенденции, то Россию ожидает гораздо больший демографический «провал», чем в 60-е годы, со всеми вытекающими отсюда последствиями: диспропорциями на брачном «рынке», спадом численности трудовых ресурсов и т.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дети5"/>
          <p:cNvPicPr/>
          <p:nvPr/>
        </p:nvPicPr>
        <p:blipFill>
          <a:blip r:embed="rId1"/>
          <a:stretch/>
        </p:blipFill>
        <p:spPr>
          <a:xfrm>
            <a:off x="5902200" y="836640"/>
            <a:ext cx="3241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3212640"/>
            <a:ext cx="96123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первых, последующее поколение обладает меньшим потенциалом здоровь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вторых, больные матери рожают больных дете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третьих, бедные семьи воспроизводят бедных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четвертых, в обществе образовался большой слой маргинал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пятых, снижение интеллектуального уровня российской популяци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шестых, эпидемический характер приобрели болезни, имеющие социальную этимологию: СПИД, сифилис, наркомания, туберкулез, алкоголизм, а также суици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дети3"/>
          <p:cNvPicPr/>
          <p:nvPr/>
        </p:nvPicPr>
        <p:blipFill>
          <a:blip r:embed="rId1"/>
          <a:stretch/>
        </p:blipFill>
        <p:spPr>
          <a:xfrm>
            <a:off x="2195640" y="0"/>
            <a:ext cx="439236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alcogol%207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Картинка 7 из 15529"/>
          <p:cNvPicPr/>
          <p:nvPr/>
        </p:nvPicPr>
        <p:blipFill>
          <a:blip r:embed="rId2"/>
          <a:stretch/>
        </p:blipFill>
        <p:spPr>
          <a:xfrm>
            <a:off x="250920" y="336600"/>
            <a:ext cx="88027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ий оптиму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8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в последние годы не только поискового, 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нормативного демографического прогнозирования породило  понятие «демографический оптимум», под которым понимается такой режим  воспроизводства населения, когда  демографическая ситуация   может стабилизироваться, оказаться в относительно равно-весном состоянии и в глобальном, и в региональном масштабах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Картинка 16 из 15529"/>
          <p:cNvPicPr/>
          <p:nvPr/>
        </p:nvPicPr>
        <p:blipFill>
          <a:blip r:embed="rId2"/>
          <a:stretch/>
        </p:blipFill>
        <p:spPr>
          <a:xfrm>
            <a:off x="406728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Картинка 47 из 15529"/>
          <p:cNvPicPr/>
          <p:nvPr/>
        </p:nvPicPr>
        <p:blipFill>
          <a:blip r:embed="rId3"/>
          <a:srcRect l="0" t="0" r="0" b="15357"/>
          <a:stretch/>
        </p:blipFill>
        <p:spPr>
          <a:xfrm>
            <a:off x="0" y="0"/>
            <a:ext cx="4356000" cy="312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5" descr="Картинка 374 из 15529"/>
          <p:cNvPicPr/>
          <p:nvPr/>
        </p:nvPicPr>
        <p:blipFill>
          <a:blip r:embed="rId4"/>
          <a:stretch/>
        </p:blipFill>
        <p:spPr>
          <a:xfrm>
            <a:off x="0" y="350028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7" descr="Картинка 418 из 15529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life%20Russia%201991"/>
          <p:cNvPicPr/>
          <p:nvPr/>
        </p:nvPicPr>
        <p:blipFill>
          <a:blip r:embed="rId1"/>
          <a:srcRect l="3385" t="8445" r="8861" b="0"/>
          <a:stretch/>
        </p:blipFill>
        <p:spPr>
          <a:xfrm>
            <a:off x="539640" y="1844640"/>
            <a:ext cx="7634520" cy="4718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должительность жизни в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7596360" y="1773360"/>
            <a:ext cx="863280" cy="20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729920" y="11959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95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оотношение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50920" y="1341360"/>
            <a:ext cx="5041800" cy="460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867280" y="4076640"/>
            <a:ext cx="2305080" cy="187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фр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900000" y="2637000"/>
            <a:ext cx="3745080" cy="32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286880" y="6922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4,5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78880" y="12682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2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кономически развитые стра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34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1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на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ан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дерланды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ве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вейцар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4923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3975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56400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203640" y="1773360"/>
            <a:ext cx="2746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012000" y="1628640"/>
            <a:ext cx="2746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148360" y="19152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2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стрия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ьгия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тугал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ват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88200" y="1197720"/>
            <a:ext cx="492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Таблица 1</a:t>
            </a:r>
            <a:br>
              <a:rPr sz="1000"/>
            </a:b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Страны Европы с отрицательным естественным приростом насел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1119240" y="119844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9209160" cy="6654960"/>
        </p:xfrm>
        <a:graphic>
          <a:graphicData uri="http://schemas.openxmlformats.org/drawingml/2006/table">
            <a:tbl>
              <a:tblPr/>
              <a:tblGrid>
                <a:gridCol w="981000"/>
                <a:gridCol w="609840"/>
                <a:gridCol w="1110960"/>
                <a:gridCol w="1959120"/>
                <a:gridCol w="2271600"/>
                <a:gridCol w="22766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рождаем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смертн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естественного прироста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уммарный коэффициент рождаем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а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Эст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елору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и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р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765000"/>
          <a:ext cx="9144000" cy="6212160"/>
        </p:xfrm>
        <a:graphic>
          <a:graphicData uri="http://schemas.openxmlformats.org/drawingml/2006/table">
            <a:tbl>
              <a:tblPr/>
              <a:tblGrid>
                <a:gridCol w="971640"/>
                <a:gridCol w="1439640"/>
                <a:gridCol w="3219480"/>
                <a:gridCol w="1030320"/>
                <a:gridCol w="976320"/>
                <a:gridCol w="150660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исленностьнаселен, млн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овой естественный прирост или убыль (-) населения, млн ч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ое движение на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ждаем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мертн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ый прирост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174"/>
          <p:cNvSpPr/>
          <p:nvPr/>
        </p:nvSpPr>
        <p:spPr>
          <a:xfrm>
            <a:off x="0" y="89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намика численности насел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го естественное движение в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graphs246529"/>
          <p:cNvPicPr/>
          <p:nvPr/>
        </p:nvPicPr>
        <p:blipFill>
          <a:blip r:embed="rId1"/>
          <a:srcRect l="0" t="23452" r="0" b="3445"/>
          <a:stretch/>
        </p:blipFill>
        <p:spPr>
          <a:xfrm>
            <a:off x="155520" y="0"/>
            <a:ext cx="85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5" descr="death%20rate%207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death%20rate%20per%201000%20%20all%20countries%20CIS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7:00Z</dcterms:created>
  <dc:creator>XTreme</dc:creator>
  <dc:description/>
  <dc:language>en-US</dc:language>
  <cp:lastModifiedBy>STAR</cp:lastModifiedBy>
  <dcterms:modified xsi:type="dcterms:W3CDTF">2012-09-02T05:55:49Z</dcterms:modified>
  <cp:revision>3</cp:revision>
  <dc:subject/>
  <dc:title>Слайд 1</dc:title>
</cp:coreProperties>
</file>