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ADB2-4FCE-43FC-9281-2C68C2FB71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91FA-EE63-4FFD-9447-712354FC34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кий пояс       умеренный пояс           холодный пояс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2D5-6F1F-4AED-99B0-1B6BF840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202-3B2C-43F6-9103-8B6A6B7D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208-7B43-4733-B5CA-F2E0FED8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4AA-3D2F-4AEE-B0F2-CA4601DE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C1A-8D1E-4333-9CDF-9CC468CD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32A-2004-4C38-941E-C9766CF8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917-448B-4FEE-B665-BEF391F8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5BA-6FDD-4A29-ACCC-863BD7BF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DF0-4B24-465A-803C-D3866193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6FD-0E9E-453D-864D-C154FCA0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12E-AB40-4BFA-AA8B-AD3DD211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9EC-0323-413B-B87C-55D8CA25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02DD-75D6-4471-A7C3-1CD4BF87F3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2"/>
          <a:stretch/>
        </p:blipFill>
        <p:spPr>
          <a:xfrm>
            <a:off x="2571840" y="5132520"/>
            <a:ext cx="6578640" cy="8967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-476280" y="853920"/>
            <a:ext cx="96267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ь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Таблица 6" descr=""/>
          <p:cNvPicPr/>
          <p:nvPr/>
        </p:nvPicPr>
        <p:blipFill>
          <a:blip r:embed="rId1"/>
          <a:stretch/>
        </p:blipFill>
        <p:spPr>
          <a:xfrm>
            <a:off x="969840" y="1322280"/>
            <a:ext cx="7491600" cy="541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www.prosv.ru/ebooks/Mahov_Geografia_7kl/images/A.jpg"/>
          <p:cNvPicPr/>
          <p:nvPr/>
        </p:nvPicPr>
        <p:blipFill>
          <a:blip r:embed="rId2"/>
          <a:stretch/>
        </p:blipFill>
        <p:spPr>
          <a:xfrm>
            <a:off x="0" y="0"/>
            <a:ext cx="123840" cy="2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prosv.ru/ebooks/Mahov_Geografia_7kl/images/B.jpg"/>
          <p:cNvPicPr/>
          <p:nvPr/>
        </p:nvPicPr>
        <p:blipFill>
          <a:blip r:embed="rId3"/>
          <a:stretch/>
        </p:blipFill>
        <p:spPr>
          <a:xfrm>
            <a:off x="0" y="0"/>
            <a:ext cx="123840" cy="22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www.prosv.ru/ebooks/Mahov_Geografia_7kl/images/B.jpg"/>
          <p:cNvPicPr/>
          <p:nvPr/>
        </p:nvPicPr>
        <p:blipFill>
          <a:blip r:embed="rId4"/>
          <a:stretch/>
        </p:blipFill>
        <p:spPr>
          <a:xfrm>
            <a:off x="0" y="0"/>
            <a:ext cx="123840" cy="22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ttp://www.prosv.ru/ebooks/Mahov_Geografia_7kl/images/A.jpg"/>
          <p:cNvPicPr/>
          <p:nvPr/>
        </p:nvPicPr>
        <p:blipFill>
          <a:blip r:embed="rId5"/>
          <a:stretch/>
        </p:blipFill>
        <p:spPr>
          <a:xfrm>
            <a:off x="0" y="-106200"/>
            <a:ext cx="1238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472428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деляют три пояса пониженного давления и четыре пояса повышенного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Картинка 21 из 42"/>
          <p:cNvPicPr/>
          <p:nvPr/>
        </p:nvPicPr>
        <p:blipFill>
          <a:blip r:embed="rId1"/>
          <a:stretch/>
        </p:blipFill>
        <p:spPr>
          <a:xfrm>
            <a:off x="307800" y="260280"/>
            <a:ext cx="83934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6266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 изучить § 12; 2) ответить на вопросы 1—4; 3) выполнить задания 5 и 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9" descr="71071210141303_shkola.jpg"/>
          <p:cNvPicPr/>
          <p:nvPr/>
        </p:nvPicPr>
        <p:blipFill>
          <a:blip r:embed="rId1"/>
          <a:stretch/>
        </p:blipFill>
        <p:spPr>
          <a:xfrm>
            <a:off x="2916360" y="3860640"/>
            <a:ext cx="361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•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ть знания о распределении поясов атмосферного давления на Земл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• Выявить причины неравномерного распределения осадков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• Формировать умения работы с различными источниками географической информации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5" descr=""/>
          <p:cNvPicPr/>
          <p:nvPr/>
        </p:nvPicPr>
        <p:blipFill>
          <a:blip r:embed="rId1"/>
          <a:stretch/>
        </p:blipFill>
        <p:spPr>
          <a:xfrm>
            <a:off x="3108240" y="225360"/>
            <a:ext cx="29275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оверка домашнего зад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8209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Назовите и покажите на карте тепловые пояса Зем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спользуя климатическую карту, докажите, что температура воздуха зависит от географической широт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Объясните, от чего зависят различия в поступлении тепла на земной поверхност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В каком тепловом поясе расположена ваша местность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Нужны ли вам знания о том, в каком тепловом поясе расположена местность? Свой ответ пояснит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Определите по карте атласа средние температуры июля и января в районе Москвы, Санкт-Петербурга, Ига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рисунок 30 учебника и определите количество поясов низкого и высокого давления. Используя рисунок и текст § 12, ответьте на вопрос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1. Почему на экваторе формируется область пониженного давления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2. Что происходит с теплым воздухом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3. Почему у полюсов формируется область повышенного дав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280" y="4221000"/>
            <a:ext cx="8388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яса атмосферного давления образуются в результате неравномерного распределения солнечного тепла на земной поверхности, а также отклоняющей силы вращения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Картинка 1 из 42"/>
          <p:cNvPicPr/>
          <p:nvPr/>
        </p:nvPicPr>
        <p:blipFill>
          <a:blip r:embed="rId1"/>
          <a:stretch/>
        </p:blipFill>
        <p:spPr>
          <a:xfrm>
            <a:off x="2340000" y="52560"/>
            <a:ext cx="469116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яса атмосферного давления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SDC12124(1)"/>
          <p:cNvPicPr/>
          <p:nvPr/>
        </p:nvPicPr>
        <p:blipFill>
          <a:blip r:embed="rId1"/>
          <a:stretch/>
        </p:blipFill>
        <p:spPr>
          <a:xfrm>
            <a:off x="539640" y="1700280"/>
            <a:ext cx="8137800" cy="408132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  <p:sp>
        <p:nvSpPr>
          <p:cNvPr id="62" name="Rectangle 10"/>
          <p:cNvSpPr/>
          <p:nvPr/>
        </p:nvSpPr>
        <p:spPr>
          <a:xfrm>
            <a:off x="2557440" y="155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6157800" y="155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630216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262872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6229080" y="29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622908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255744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2557440" y="29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55744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255744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4"/>
          <p:cNvSpPr/>
          <p:nvPr/>
        </p:nvSpPr>
        <p:spPr>
          <a:xfrm>
            <a:off x="2557440" y="2319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6229080" y="450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6227640" y="3429000"/>
            <a:ext cx="3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6229080" y="2319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кваториальном поясе низкого давления преобладает восходящее движение воздуха, он содержит много влаги и, поднимаясь, охлаждается, становится насыщенным и отдает влагу в виде дож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Картинка 2 из 358"/>
          <p:cNvPicPr/>
          <p:nvPr/>
        </p:nvPicPr>
        <p:blipFill>
          <a:blip r:embed="rId1"/>
          <a:stretch/>
        </p:blipFill>
        <p:spPr>
          <a:xfrm>
            <a:off x="1258920" y="0"/>
            <a:ext cx="67658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ясах высокого давления преобладает нисходящее движение воздуха. Опускаясь, воздух сжимается, нагревается и удаляется от состояния насыщения. Поэтому осадков здесь выпадает м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а 1 из 1206"/>
          <p:cNvPicPr/>
          <p:nvPr/>
        </p:nvPicPr>
        <p:blipFill>
          <a:blip r:embed="rId1"/>
          <a:stretch/>
        </p:blipFill>
        <p:spPr>
          <a:xfrm>
            <a:off x="1187280" y="0"/>
            <a:ext cx="69469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рисунку 31 определите, где на Земле выпадает осадков много, где — мало. Затем определите годовое количество осадков для своей м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Картинка 5 из 432"/>
          <p:cNvPicPr/>
          <p:nvPr/>
        </p:nvPicPr>
        <p:blipFill>
          <a:blip r:embed="rId1"/>
          <a:stretch/>
        </p:blipFill>
        <p:spPr>
          <a:xfrm>
            <a:off x="539640" y="0"/>
            <a:ext cx="81201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3:45:45Z</dcterms:created>
  <dc:creator>татьяна</dc:creator>
  <dc:description/>
  <dc:language>en-US</dc:language>
  <cp:lastModifiedBy>User</cp:lastModifiedBy>
  <dcterms:modified xsi:type="dcterms:W3CDTF">2011-09-04T08:25:18Z</dcterms:modified>
  <cp:revision>8</cp:revision>
  <dc:subject/>
  <dc:title>Давление воздуха и осадки на разных широт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f0000000000010243100207f6000400038000</vt:lpwstr>
  </property>
</Properties>
</file>