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2654-3D66-49DF-895B-CC4BA2E96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861B-4D20-41CC-8B0C-58F4BCE02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кий пояс       умеренный пояс           холодный пояс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65A-3B09-4632-82F6-EF4972E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DCB-4982-404B-B4F0-8BD9569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1D2-F03A-44F7-848E-414D4111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351-426E-43AB-BA4C-C125CCB9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E61-41A4-4075-96BE-0C4C9C2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CA6-0F90-4092-80E9-D3F07D38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ED7-F57F-4369-A695-F89C8FE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F2F-C617-43DB-B2E1-EBFD15C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319-E6CD-4DE3-9EDF-FBE5FD30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C9B-F8B8-404E-BDC1-A893382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768-5E19-4362-9783-B60A542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31A-CCAB-4880-BB7F-3F26FE3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73AD-C488-4465-A274-926895289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2571840" y="5132520"/>
            <a:ext cx="6578640" cy="896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-476280" y="853920"/>
            <a:ext cx="9626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Таблица 6" descr=""/>
          <p:cNvPicPr/>
          <p:nvPr/>
        </p:nvPicPr>
        <p:blipFill>
          <a:blip r:embed="rId1"/>
          <a:stretch/>
        </p:blipFill>
        <p:spPr>
          <a:xfrm>
            <a:off x="969840" y="1322280"/>
            <a:ext cx="7491600" cy="541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prosv.ru/ebooks/Mahov_Geografia_7kl/images/A.jpg"/>
          <p:cNvPicPr/>
          <p:nvPr/>
        </p:nvPicPr>
        <p:blipFill>
          <a:blip r:embed="rId2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prosv.ru/ebooks/Mahov_Geografia_7kl/images/B.jpg"/>
          <p:cNvPicPr/>
          <p:nvPr/>
        </p:nvPicPr>
        <p:blipFill>
          <a:blip r:embed="rId3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www.prosv.ru/ebooks/Mahov_Geografia_7kl/images/B.jpg"/>
          <p:cNvPicPr/>
          <p:nvPr/>
        </p:nvPicPr>
        <p:blipFill>
          <a:blip r:embed="rId4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prosv.ru/ebooks/Mahov_Geografia_7kl/images/A.jpg"/>
          <p:cNvPicPr/>
          <p:nvPr/>
        </p:nvPicPr>
        <p:blipFill>
          <a:blip r:embed="rId5"/>
          <a:stretch/>
        </p:blipFill>
        <p:spPr>
          <a:xfrm>
            <a:off x="0" y="-106200"/>
            <a:ext cx="123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яют три пояса пониженного давления и четыре пояса повышен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21 из 42"/>
          <p:cNvPicPr/>
          <p:nvPr/>
        </p:nvPicPr>
        <p:blipFill>
          <a:blip r:embed="rId1"/>
          <a:stretch/>
        </p:blipFill>
        <p:spPr>
          <a:xfrm>
            <a:off x="307800" y="260280"/>
            <a:ext cx="83934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6266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 изучить § 12; 2) ответить на вопросы 1—4; 3) выполнить задания 5 и 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9" descr="71071210141303_shkola.jpg"/>
          <p:cNvPicPr/>
          <p:nvPr/>
        </p:nvPicPr>
        <p:blipFill>
          <a:blip r:embed="rId1"/>
          <a:stretch/>
        </p:blipFill>
        <p:spPr>
          <a:xfrm>
            <a:off x="2916360" y="386064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знания о распределении поясов атмосферного давления на Земл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Выявить причины неравномерного распределения осад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я работы с различными источниками географической информаци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3108240" y="225360"/>
            <a:ext cx="2927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20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овите и покажите на карте тепловые пояса Зем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спользуя климатическую карту, докажите, что температура воздуха зависит от географической шир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бъясните, от чего зависят различия в поступлении тепла на земной поверхно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 каком тепловом поясе расположена ваша местнос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ужны ли вам знания о том, в каком тепловом поясе расположена местность? Свой ответ поясни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пределите по карте атласа средние температуры июля и января в районе Москвы, Санкт-Петербурга, И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ок 30 учебника и определите количество поясов низкого и высокого давления. Используя рисунок и текст § 12, ответьте на вопрос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1. Почему на экваторе формируется область пониженного давлени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Что происходит с теплым воздухом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Почему у полюсов формируется область повышенного да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838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а атмосферного давления образуются в результате неравномерного распределения солнечного тепла на земной поверхности, а также отклоняющей силы вращения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1 из 42"/>
          <p:cNvPicPr/>
          <p:nvPr/>
        </p:nvPicPr>
        <p:blipFill>
          <a:blip r:embed="rId1"/>
          <a:stretch/>
        </p:blipFill>
        <p:spPr>
          <a:xfrm>
            <a:off x="2340000" y="52560"/>
            <a:ext cx="46911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яса атмосферного давления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SDC12124(1)"/>
          <p:cNvPicPr/>
          <p:nvPr/>
        </p:nvPicPr>
        <p:blipFill>
          <a:blip r:embed="rId1"/>
          <a:stretch/>
        </p:blipFill>
        <p:spPr>
          <a:xfrm>
            <a:off x="539640" y="1700280"/>
            <a:ext cx="8137800" cy="40813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62" name="Rectangle 10"/>
          <p:cNvSpPr/>
          <p:nvPr/>
        </p:nvSpPr>
        <p:spPr>
          <a:xfrm>
            <a:off x="255744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15780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30216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62872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22908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229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2557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5574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557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255744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255744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6229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6227640" y="3429000"/>
            <a:ext cx="3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622908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кваториальном поясе низкого давления преобладает восходящее движение воздуха, он содержит много влаги и, поднимаясь, охлаждается, становится насыщенным и отдает влагу в виде дож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Картинка 2 из 358"/>
          <p:cNvPicPr/>
          <p:nvPr/>
        </p:nvPicPr>
        <p:blipFill>
          <a:blip r:embed="rId1"/>
          <a:stretch/>
        </p:blipFill>
        <p:spPr>
          <a:xfrm>
            <a:off x="1258920" y="0"/>
            <a:ext cx="67658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ясах высокого давления преобладает нисходящее движение воздуха. Опускаясь, воздух сжимается, нагревается и удаляется от состояния насыщения. Поэтому осадков здесь выпадает м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а 1 из 1206"/>
          <p:cNvPicPr/>
          <p:nvPr/>
        </p:nvPicPr>
        <p:blipFill>
          <a:blip r:embed="rId1"/>
          <a:stretch/>
        </p:blipFill>
        <p:spPr>
          <a:xfrm>
            <a:off x="1187280" y="0"/>
            <a:ext cx="6946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исунку 31 определите, где на Земле выпадает осадков много, где — мало. Затем определите годовое количество осадков для своей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артинка 5 из 432"/>
          <p:cNvPicPr/>
          <p:nvPr/>
        </p:nvPicPr>
        <p:blipFill>
          <a:blip r:embed="rId1"/>
          <a:stretch/>
        </p:blipFill>
        <p:spPr>
          <a:xfrm>
            <a:off x="539640" y="0"/>
            <a:ext cx="81201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45:45Z</dcterms:created>
  <dc:creator>татьяна</dc:creator>
  <dc:description/>
  <dc:language>en-US</dc:language>
  <cp:lastModifiedBy>User</cp:lastModifiedBy>
  <dcterms:modified xsi:type="dcterms:W3CDTF">2011-09-04T08:25:18Z</dcterms:modified>
  <cp:revision>8</cp:revision>
  <dc:subject/>
  <dc:title>Давление воздуха и осадки на разных широ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f0000000000010243100207f6000400038000</vt:lpwstr>
  </property>
</Properties>
</file>