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41B0-BBE1-4A45-910A-973B41AC7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D5EB-5AB4-4DF4-B1D0-16766A64D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кий пояс       умеренный пояс           холодный пояс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3DF-E606-40CC-8E51-C4E44DE4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D4D-CD66-4702-B9F5-84E94AB9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E9F-2491-4B37-9658-CCB6434D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691-01EF-4C5B-8CD9-9EE76E7F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432-0970-4037-9F97-5960C8B1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EBA-D14F-4D59-B1C9-9BB9AEC1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FF2-92FB-44FE-81CF-394889A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2CD-E4D7-45DD-BE51-A71ECEE4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2CE-B111-4CC2-B0BD-E529A467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35C-93C9-4260-80E5-F890245B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685-42FB-461F-86EB-76A1E9B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F31-AC8E-40AD-BD06-8AF36EB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CADE-EBBC-4A36-97E8-F5A55B768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2571840" y="5132520"/>
            <a:ext cx="6578640" cy="896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-476280" y="853920"/>
            <a:ext cx="96267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Таблица 6" descr=""/>
          <p:cNvPicPr/>
          <p:nvPr/>
        </p:nvPicPr>
        <p:blipFill>
          <a:blip r:embed="rId1"/>
          <a:stretch/>
        </p:blipFill>
        <p:spPr>
          <a:xfrm>
            <a:off x="969840" y="1322280"/>
            <a:ext cx="7491600" cy="541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prosv.ru/ebooks/Mahov_Geografia_7kl/images/A.jpg"/>
          <p:cNvPicPr/>
          <p:nvPr/>
        </p:nvPicPr>
        <p:blipFill>
          <a:blip r:embed="rId2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prosv.ru/ebooks/Mahov_Geografia_7kl/images/B.jpg"/>
          <p:cNvPicPr/>
          <p:nvPr/>
        </p:nvPicPr>
        <p:blipFill>
          <a:blip r:embed="rId3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www.prosv.ru/ebooks/Mahov_Geografia_7kl/images/B.jpg"/>
          <p:cNvPicPr/>
          <p:nvPr/>
        </p:nvPicPr>
        <p:blipFill>
          <a:blip r:embed="rId4"/>
          <a:stretch/>
        </p:blipFill>
        <p:spPr>
          <a:xfrm>
            <a:off x="0" y="0"/>
            <a:ext cx="12384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prosv.ru/ebooks/Mahov_Geografia_7kl/images/A.jpg"/>
          <p:cNvPicPr/>
          <p:nvPr/>
        </p:nvPicPr>
        <p:blipFill>
          <a:blip r:embed="rId5"/>
          <a:stretch/>
        </p:blipFill>
        <p:spPr>
          <a:xfrm>
            <a:off x="0" y="-106200"/>
            <a:ext cx="123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яют три пояса пониженного давления и четыре пояса повышен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21 из 42"/>
          <p:cNvPicPr/>
          <p:nvPr/>
        </p:nvPicPr>
        <p:blipFill>
          <a:blip r:embed="rId1"/>
          <a:stretch/>
        </p:blipFill>
        <p:spPr>
          <a:xfrm>
            <a:off x="307800" y="260280"/>
            <a:ext cx="83934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6266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 изучить § 12; 2) ответить на вопросы 1—4; 3) выполнить задания 5 и 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9" descr="71071210141303_shkola.jpg"/>
          <p:cNvPicPr/>
          <p:nvPr/>
        </p:nvPicPr>
        <p:blipFill>
          <a:blip r:embed="rId1"/>
          <a:stretch/>
        </p:blipFill>
        <p:spPr>
          <a:xfrm>
            <a:off x="2916360" y="3860640"/>
            <a:ext cx="361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•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знания о распределении поясов атмосферного давления на Земл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Выявить причины неравномерного распределения осадк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• Формировать умения работы с различными источниками географической информаци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5" descr=""/>
          <p:cNvPicPr/>
          <p:nvPr/>
        </p:nvPicPr>
        <p:blipFill>
          <a:blip r:embed="rId1"/>
          <a:stretch/>
        </p:blipFill>
        <p:spPr>
          <a:xfrm>
            <a:off x="3108240" y="225360"/>
            <a:ext cx="2927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8209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зовите и покажите на карте тепловые пояса Зем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спользуя климатическую карту, докажите, что температура воздуха зависит от географической широт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Объясните, от чего зависят различия в поступлении тепла на земной поверхнос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 каком тепловом поясе расположена ваша местнос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ужны ли вам знания о том, в каком тепловом поясе расположена местность? Свой ответ поясни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Определите по карте атласа средние температуры июля и января в районе Москвы, Санкт-Петербурга, Иг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рисунок 30 учебника и определите количество поясов низкого и высокого давления. Используя рисунок и текст § 12, ответьте на вопрос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1. Почему на экваторе формируется область пониженного давлени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2. Что происходит с теплым воздухом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3. Почему у полюсов формируется область повышенного да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8388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а атмосферного давления образуются в результате неравномерного распределения солнечного тепла на земной поверхности, а также отклоняющей силы вращения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1 из 42"/>
          <p:cNvPicPr/>
          <p:nvPr/>
        </p:nvPicPr>
        <p:blipFill>
          <a:blip r:embed="rId1"/>
          <a:stretch/>
        </p:blipFill>
        <p:spPr>
          <a:xfrm>
            <a:off x="2340000" y="52560"/>
            <a:ext cx="469116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яса атмосферного давления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SDC12124(1)"/>
          <p:cNvPicPr/>
          <p:nvPr/>
        </p:nvPicPr>
        <p:blipFill>
          <a:blip r:embed="rId1"/>
          <a:stretch/>
        </p:blipFill>
        <p:spPr>
          <a:xfrm>
            <a:off x="539640" y="1700280"/>
            <a:ext cx="8137800" cy="408132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62" name="Rectangle 10"/>
          <p:cNvSpPr/>
          <p:nvPr/>
        </p:nvSpPr>
        <p:spPr>
          <a:xfrm>
            <a:off x="255744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6157800" y="155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630216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62872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622908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622908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255744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55744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557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255744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"/>
          <p:cNvSpPr/>
          <p:nvPr/>
        </p:nvSpPr>
        <p:spPr>
          <a:xfrm>
            <a:off x="255744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6229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6227640" y="3429000"/>
            <a:ext cx="3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6229080" y="2319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кваториальном поясе низкого давления преобладает восходящее движение воздуха, он содержит много влаги и, поднимаясь, охлаждается, становится насыщенным и отдает влагу в виде дож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Картинка 2 из 358"/>
          <p:cNvPicPr/>
          <p:nvPr/>
        </p:nvPicPr>
        <p:blipFill>
          <a:blip r:embed="rId1"/>
          <a:stretch/>
        </p:blipFill>
        <p:spPr>
          <a:xfrm>
            <a:off x="1258920" y="0"/>
            <a:ext cx="67658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ясах высокого давления преобладает нисходящее движение воздуха. Опускаясь, воздух сжимается, нагревается и удаляется от состояния насыщения. Поэтому осадков здесь выпадает м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а 1 из 1206"/>
          <p:cNvPicPr/>
          <p:nvPr/>
        </p:nvPicPr>
        <p:blipFill>
          <a:blip r:embed="rId1"/>
          <a:stretch/>
        </p:blipFill>
        <p:spPr>
          <a:xfrm>
            <a:off x="1187280" y="0"/>
            <a:ext cx="69469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исунку 31 определите, где на Земле выпадает осадков много, где — мало. Затем определите годовое количество осадков для своей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артинка 5 из 432"/>
          <p:cNvPicPr/>
          <p:nvPr/>
        </p:nvPicPr>
        <p:blipFill>
          <a:blip r:embed="rId1"/>
          <a:stretch/>
        </p:blipFill>
        <p:spPr>
          <a:xfrm>
            <a:off x="539640" y="0"/>
            <a:ext cx="81201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3:45:45Z</dcterms:created>
  <dc:creator>татьяна</dc:creator>
  <dc:description/>
  <dc:language>en-US</dc:language>
  <cp:lastModifiedBy>User</cp:lastModifiedBy>
  <dcterms:modified xsi:type="dcterms:W3CDTF">2011-09-04T08:25:18Z</dcterms:modified>
  <cp:revision>8</cp:revision>
  <dc:subject/>
  <dc:title>Давление воздуха и осадки на разных широт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f0000000000010243100207f6000400038000</vt:lpwstr>
  </property>
</Properties>
</file>