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EC3-EA46-454D-829F-001A00BD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FE3-2675-4EF9-8857-686D77AF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ECF-7487-470D-8BEB-2AB12211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D2E-EE98-43B7-9791-F213F51A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6F95F-58EE-40A7-AF2A-669AC744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36541-31AE-4330-988B-F3F37F43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E0652-A208-46E1-B051-29A57F06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74027-EB14-4526-9BBE-10AAF4FD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2B8E7-94E5-42D9-ACA2-BAF36B72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6D2C7-8692-4E6D-B7FC-7E972974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91F8E-C31E-4C4D-803E-68963A78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C05-E4B5-49F7-AAA8-4E05B017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B1132-7412-4927-BA18-7BBACA21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6A361-7251-4472-A060-651DB0C7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51531-5B62-4166-A015-60131BA8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CD552-D26F-4D2F-8FB8-FB85C20F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8B0D4-B23A-4A98-9FE2-A5088067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5D7C1-971E-475C-9B76-AF67661D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CCEA6-8301-4805-BEA3-CFCD036A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105EF-43E7-4802-962B-018BB743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B257B-53F3-4784-B749-BAEA1B76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36D36-F8F2-42E8-AA5C-75716707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A32-4685-4604-893B-B1413698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4B47C-3B11-4EBE-8944-7498D358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E187F-8E25-401A-918D-7B2CC0FC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039BC-30E1-435F-96B1-0A1BA58A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613B3-E114-448C-BD84-4A95ED59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EEDB5-2163-4A19-928B-14034CA5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45220-68EE-4DFD-B735-8A2A077B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FA33B-2217-4BE9-902E-3396B20D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AB742-9E76-4EC1-B717-EF1AF122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0F569-E5FF-4922-9B2D-3C2CD567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EC846-23F1-4C3E-AE66-D10DA9D9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BA8-3D86-4DB5-918E-5BD2C735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61550-6EFD-4C5C-90F8-2FFEC12A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4B26B-820F-4803-90F0-391312A9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16BD5-AF72-4748-9360-9712DA5F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95181C-7272-4B77-B37B-CF4567E0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E67E5-E704-41CA-9CAD-EF597AC1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D6B1C-FFC9-41A0-8145-D9C2F497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CF718-F0BB-44FA-9C73-7FD48EA3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1FBA0E-5618-4221-9E03-2AABDA1B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AF430-AD42-42E0-AA86-BD3C79B3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6020D-760A-4E20-B3F9-70B44A7B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4E2-6667-4EFF-B407-1ED77B4A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5A1A9-8519-4076-ABCF-5266361F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86754-6BD0-4F5F-BA23-8222FA0B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2E5A8-559B-44DD-A7FA-1B8134F1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96BCD-5AA6-4A89-9C40-ED35AF54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6740F-033A-4641-BAE5-89C0132E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2EBB0-7DA1-4ECC-A6D4-A52D3E7C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FC7A6-51B1-4B3D-AE34-121DAF00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C0B04-F8EB-4709-B4C9-D787EEB3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3AED79-D7AB-48F5-A259-0C90AC27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21E7B-C7D9-4AF5-9D1D-33DCDB28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5EC-11DD-4856-BA8F-2B18966F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2376F-2043-4792-8E58-90F573EB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E6854-BE79-47F1-8100-03A8196D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8692F-1222-4E3E-928D-B15C610B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051C0-1458-4E8B-A4AF-A01CDDCD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38450-780B-4C9B-BC3C-07298CC0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253C4-ABE2-4BB7-AD08-80F50E03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629E8-5227-4EA5-9CBD-CF082F6E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0ED061-9A83-4F79-8AAB-36F546F6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12BB9-8997-4644-ADD6-3EAB38A9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1BF09-C1D0-40EB-AF0C-9448A768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0FC-E37F-4617-8A34-CC2B43E2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2E10F8-7AB3-40AF-B2BC-CAC8EFC5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86672-1A37-45F9-A2C4-F6A2FA94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5BCFD-E77C-4378-BFBD-0B310977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91B7B-8E17-477C-99C6-8D3E999C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024FD-6AC4-46D5-A4D1-89A5EE6C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E123A-DBCD-44C8-B493-960801F9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AAEEE-F8F8-426B-B2E6-454A2D09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59A23-6ED6-45CD-AB06-D7E6F985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FA748-A887-42F9-B008-B288C8F7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4482B-8B57-4E88-8D8C-F4CA5B3C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506-D585-4CB5-9E40-9D974E24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21692-E741-4B4F-9AE7-A048A3F1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AC06A-4782-4F6D-B75B-6C592E7B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9A293-0EA2-4A2D-9E16-A15A7181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85B0A-40A6-4CD4-84BE-BB9DAF38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115DB-6E2A-44C5-BA8A-CBD5C422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EC9-DFB2-4154-9517-3C88D47B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AE6E-310B-41E5-8858-33A5FF33AA4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64C9-6F9C-4B41-AD13-3C39DA8E2F3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07C1-A4CE-4A48-9D0C-EEA90816652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09DE-4C45-4410-8168-A11E63AC646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0254-8EA7-4E1E-8636-851B1B4D830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31DC-2623-4ED6-B371-CD731BE6ACD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314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317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320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7832-E524-4E28-91A9-187AA1E0632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71440" y="2708280"/>
            <a:ext cx="7072200" cy="293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Цветная металлургия мира </a:t>
            </a:r>
            <a:br>
              <a:rPr sz="4800"/>
            </a:br>
            <a:br>
              <a:rPr sz="48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 презентации: учитель географии МАОУ «Гимназия №1» г.Перми Кошурникова Т.А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042920" y="1628640"/>
            <a:ext cx="741384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пределить значение цветной металлурги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ссмотреть классификацию цветных металлов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ыявить факторы размещения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становить страны-лидеры по производству цветных металлов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пределить проблемы и перспективы цветной металлургии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 и задачи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39280" y="333360"/>
            <a:ext cx="768996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Цветная металлургия - это отрасль тяжелой промышленности, занимающаяся добычей, обогащением и переработкой руды цветных металлов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7" name="Picture 2" descr="http://www.buyquiksilver.ru/image.php?aHR0cDovL2Jpem5lc3RvZGF5LnJ1L2ltYWdlcy9zdG9yaWVzL29sZC9tZXRhbGx1cmdpeWEuanBn"/>
          <p:cNvPicPr/>
          <p:nvPr/>
        </p:nvPicPr>
        <p:blipFill>
          <a:blip r:embed="rId1"/>
          <a:stretch/>
        </p:blipFill>
        <p:spPr>
          <a:xfrm>
            <a:off x="1332000" y="2276640"/>
            <a:ext cx="640872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685800" y="1700280"/>
            <a:ext cx="791856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зкое содержание цветных металлов в руде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ное залегание руд цветных металлов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ветные металлы: жаропрочны, хорошо проводят электрический       ток, не ржавеют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личия цветной металлургии от черной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70" name="Picture 7" descr="цв"/>
          <p:cNvPicPr/>
          <p:nvPr/>
        </p:nvPicPr>
        <p:blipFill>
          <a:blip r:embed="rId1"/>
          <a:stretch/>
        </p:blipFill>
        <p:spPr>
          <a:xfrm>
            <a:off x="1979640" y="3645000"/>
            <a:ext cx="48243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25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ассификация цветных металлов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27892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Тяжелые (медь, свинец, олово, никель, цинк, ртуть, хром и т.д.)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Легкие (алюминий, титан, магний, натрий, калий и т.д.)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Драгоценные (золото, серебро, платина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чие (редкие, рассеянные – цирконий, галий, индий, германий, селен, теллур, цезий, тантал, стронций и т.д.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60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73" name="Picture 6" descr="слиток золота"/>
          <p:cNvPicPr/>
          <p:nvPr/>
        </p:nvPicPr>
        <p:blipFill>
          <a:blip r:embed="rId1"/>
          <a:stretch/>
        </p:blipFill>
        <p:spPr>
          <a:xfrm>
            <a:off x="4500720" y="4292640"/>
            <a:ext cx="2447640" cy="2565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золото2"/>
          <p:cNvPicPr/>
          <p:nvPr/>
        </p:nvPicPr>
        <p:blipFill>
          <a:blip r:embed="rId2"/>
          <a:stretch/>
        </p:blipFill>
        <p:spPr>
          <a:xfrm>
            <a:off x="6610320" y="4292640"/>
            <a:ext cx="2568600" cy="2565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золото1"/>
          <p:cNvPicPr/>
          <p:nvPr/>
        </p:nvPicPr>
        <p:blipFill>
          <a:blip r:embed="rId3"/>
          <a:stretch/>
        </p:blipFill>
        <p:spPr>
          <a:xfrm>
            <a:off x="2284560" y="4286160"/>
            <a:ext cx="2366640" cy="2571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ser2"/>
          <p:cNvPicPr/>
          <p:nvPr/>
        </p:nvPicPr>
        <p:blipFill>
          <a:blip r:embed="rId4"/>
          <a:stretch/>
        </p:blipFill>
        <p:spPr>
          <a:xfrm>
            <a:off x="0" y="4292640"/>
            <a:ext cx="23353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Факторы размещения цветной металлургии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590400" y="181764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рьевой  (производство тяжелых металл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пор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и дешевой электроэнергии-ГЭС                       ( производство легких металл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99680" y="356760"/>
            <a:ext cx="79009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роизводят в мире 40 млн.т. различных цветных металлов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96% всех производимых металлов – алюминий, медь, цинк, свинец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Главные производители цветных металлов: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Алюминий – 25 млн. т. 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Лидеры: США, Россия, Китай, Канада, Бразилия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едь – 8 млн. т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Лидеры: США, Чили, Япония, Китай, ФРГ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Цинк – 4 млн. т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Лидеры: Китай, Канада, Япония, Австралия, Россия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Свинец – 3,8 млн. т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  <a:p>
            <a:pPr marL="528120" indent="-528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Лидеры: Россия, Австралия, США, Канада, Перу.</a:t>
            </a:r>
            <a:endParaRPr b="0" lang="en-US" sz="17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80" name="Picture 5" descr="Саянский алюминиевый завод"/>
          <p:cNvPicPr/>
          <p:nvPr/>
        </p:nvPicPr>
        <p:blipFill>
          <a:blip r:embed="rId1"/>
          <a:stretch/>
        </p:blipFill>
        <p:spPr>
          <a:xfrm>
            <a:off x="5651640" y="3933720"/>
            <a:ext cx="3492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1000080" y="714240"/>
            <a:ext cx="76438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цветной металлур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Цветная металлургия оказывает большое влияние на окружающую среду. При производстве алюминия  наблюдаются выбросы фтора, при производстве меди - сернистые газы и загрязненная вода (при рафинировании), цинк - выбросы оксида ци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При добыче и переработке руд цветных металлов  далеко не все минеральные вещества используются  человеком. Многие, особенно редкие металлы остаются в пустой пор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Основные месторождения руд цветных металлов находятся в развивающихся странах, а главные потребители цветных металлов – развит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06:00:54Z</dcterms:created>
  <dc:creator>Serega</dc:creator>
  <dc:description/>
  <dc:language>en-US</dc:language>
  <cp:lastModifiedBy>Home</cp:lastModifiedBy>
  <dcterms:modified xsi:type="dcterms:W3CDTF">2014-11-25T01:03:54Z</dcterms:modified>
  <cp:revision>102</cp:revision>
  <dc:subject/>
  <dc:title>Общая характеристика Мирового хозяй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2b0000000000010250300207f7000400038000</vt:lpwstr>
  </property>
</Properties>
</file>