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506-9706-4212-9C72-AE4845CC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018-F66C-4F29-A5B1-A2122854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443-EA80-49DA-8721-F1159A8C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B7C-DF74-4980-BDA8-3F615F9E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DAC19-BD31-4F9F-B24C-D0EBCC15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F0F68-B473-449E-9BD8-EB0DA07E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87203-9B26-4AA5-8A27-E095AE6B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5E834-7EDF-48F6-8D8B-0F3ECD3C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FEAE5-50C0-4E7A-B1EE-CC9976B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ED765-488C-4C56-92BC-E77F5D6E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12674-20A4-46B3-85A3-14CD2DD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AFD-ECBD-492A-9568-B6418F43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A078D-A037-44BC-A94A-133FDB0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BE43A-6EEE-4B33-B6A2-79A1E9ED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0E291-6E67-4C6C-A989-8489F72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E1EAB-ABD2-4EEE-9CA3-487C18DA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0549E-2D0A-4C86-ACBA-B127BE6E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61047-4FF7-4B61-81E6-030CF87E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C1338-14B8-4633-8367-1D56FE39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D05A1-D1E8-435B-8558-26A933C9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5C47A-FF9B-4A8A-AA84-FEB923A9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1EF3A-05CE-46E5-A58B-5AACE141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CCD-03DB-4D56-838C-D59B347E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5774F-ABF3-4A47-89A2-6A40EFE4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86F74-07A0-47DA-9E70-E79E2DD2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C4FFF-C4AE-4F5E-B679-D5185ECF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117F6-4842-4E71-993C-CD55815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2CFB1-5F70-4770-9D8D-6BF3F8B3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64266-6BF5-4D43-82DE-E5A0D656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120A6-08DE-4612-BC94-2909ECCC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3166A-7282-454C-9DC9-BE4C6757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4F529-FC7A-4731-8AA7-DAE1EB53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F038B-731D-44D8-A32A-B3DE55CC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710-3B97-44AB-90D2-E990F686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53806-DEE8-4565-99B8-6C907B0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481EC-B666-4CA7-BEB8-0A657007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2D785-461B-4ADC-B02F-EBAC65A7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B2E09-B201-473E-9202-17B1223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46D35-C6D3-4420-B723-ADBDBF00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1476A-47E4-44B5-B9F8-A4EF660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12D1B-714D-43B7-AEC4-2A6B2FF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D0156-D548-4FD3-95B7-F3AC6B4E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9654E-82A1-43CC-884C-99FC9C03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6950E-2882-4818-8E3F-8FFC5DAF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CAA-2A71-4138-A251-D030A72D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73BAF-386F-4F34-86B0-2A16EC11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73ED1-F6B0-43A6-8689-090C8427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FED19-E17A-485F-B251-85C6189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9BF3E-6C5F-4025-A380-5CCC073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BB343-086C-449F-8835-E16F6075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F0B55-3545-4AEA-BA60-EE87BC2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11623-01DF-44A7-839F-1619E45A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1AC8C-FE39-4480-BB1A-30783227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D5B36-7DD4-41AC-A725-4EFCA0D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E47F6-9F55-4E07-960B-E04B27F5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95F-31DA-4CF3-B603-E215303E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3997A-3101-421D-B978-BC0B9F9D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94881-D46C-4442-9C0D-955AE586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F742A-4A30-4A05-A6AF-E5EE3CD2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2234E-8491-465F-A0C9-7C5D7CF9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D2047-F5D7-4CA0-A288-FD643D78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35D64-C56C-4332-AAA3-540F2B8A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BC5AF-831A-45B5-9D42-C131088E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71018-92B8-48FB-A691-414D2CE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0D115-0004-48DF-92EA-E01CFF19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BEDD7-B199-450E-90B9-59F82BC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6C0-359D-4D8C-8032-E6E8555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C6F4C-BCB9-4F73-A0A7-61E25694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B2D7B-E019-465B-9EAD-28762321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1ECDF-D7ED-45DA-BCE2-2D4B38BA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8D92A-5C63-4B3A-8E4E-92B7722A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CDF36-3B5E-4550-92D2-13BD9EC9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442A8-7390-423A-AD0D-AF42E72E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7B4F2-8CC4-42C3-8047-74554A5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0EC87-557A-4172-ADE5-130CFB82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A2A5B-4FEA-48E8-A4C1-275751C5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8285-6B96-4FA2-9828-3FBC60D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CA3-937B-4106-AB2C-D57F08B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569C8-CBCF-4AC5-9ADD-D332E05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FA7E-2D33-4E56-961D-A6D3DA7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C997-1C7C-41A5-92B8-D8D2450A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4707-E8FB-47F6-99CB-D8E8C68A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A3AAE-9F01-4316-9E4B-F3FA4C37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F13-4545-4993-9A27-E1BBE1F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6286-C2A4-41F3-97F8-3552089ABAD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F4CC-A15E-4C25-8915-FB80B0D648C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279C-5D76-4977-A173-448FAE1A506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13E0-DD0E-4834-9C00-FBBA3200027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AB9C-7ECD-4835-9986-0C7EDC2CA38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E9C-41B0-4CC7-933A-C0F1BE43323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7F5-55D7-4F37-A9F7-C9820E106E6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71440" y="2708280"/>
            <a:ext cx="7072200" cy="293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ветная металлургия мира </a:t>
            </a:r>
            <a:br>
              <a:rPr sz="4800"/>
            </a:br>
            <a:br>
              <a:rPr sz="4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презентации: учитель географии МАОУ «Гимназия №1» г.Перми Кошурникова Т.А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42920" y="1628640"/>
            <a:ext cx="741384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ределить значение цветной металлурги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ссмотреть классификацию цветных металлов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ить факторы размещения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становить страны-лидеры по производству цветных металлов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ределить проблемы и перспективы цветной металлурги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 задачи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280" y="333360"/>
            <a:ext cx="768996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Цветная металлургия - это отрасль тяжелой промышленности, занимающаяся добычей, обогащением и переработкой руды цветных металлов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7" name="Picture 2" descr="http://www.buyquiksilver.ru/image.php?aHR0cDovL2Jpem5lc3RvZGF5LnJ1L2ltYWdlcy9zdG9yaWVzL29sZC9tZXRhbGx1cmdpeWEuanBn"/>
          <p:cNvPicPr/>
          <p:nvPr/>
        </p:nvPicPr>
        <p:blipFill>
          <a:blip r:embed="rId1"/>
          <a:stretch/>
        </p:blipFill>
        <p:spPr>
          <a:xfrm>
            <a:off x="1332000" y="2276640"/>
            <a:ext cx="64087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5800" y="1700280"/>
            <a:ext cx="791856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зкое содержание цветных металлов в руде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ное залегание руд цветных металлов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ветные металлы: жаропрочны, хорошо проводят электрический       ток, не ржавеют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я цветной металлургии от черной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70" name="Picture 7" descr="цв"/>
          <p:cNvPicPr/>
          <p:nvPr/>
        </p:nvPicPr>
        <p:blipFill>
          <a:blip r:embed="rId1"/>
          <a:stretch/>
        </p:blipFill>
        <p:spPr>
          <a:xfrm>
            <a:off x="1979640" y="3645000"/>
            <a:ext cx="4824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ификация цветных металлов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2789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яжелые (медь, свинец, олово, никель, цинк, ртуть, хром и т.д.)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Легкие (алюминий, титан, магний, натрий, калий и т.д.)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Драгоценные (золото, серебро, платина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чие (редкие, рассеянные – цирконий, галий, индий, германий, селен, теллур, цезий, тантал, стронций и т.д.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73" name="Picture 6" descr="слиток золота"/>
          <p:cNvPicPr/>
          <p:nvPr/>
        </p:nvPicPr>
        <p:blipFill>
          <a:blip r:embed="rId1"/>
          <a:stretch/>
        </p:blipFill>
        <p:spPr>
          <a:xfrm>
            <a:off x="4500720" y="4292640"/>
            <a:ext cx="2447640" cy="2565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золото2"/>
          <p:cNvPicPr/>
          <p:nvPr/>
        </p:nvPicPr>
        <p:blipFill>
          <a:blip r:embed="rId2"/>
          <a:stretch/>
        </p:blipFill>
        <p:spPr>
          <a:xfrm>
            <a:off x="6610320" y="4292640"/>
            <a:ext cx="2568600" cy="2565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золото1"/>
          <p:cNvPicPr/>
          <p:nvPr/>
        </p:nvPicPr>
        <p:blipFill>
          <a:blip r:embed="rId3"/>
          <a:stretch/>
        </p:blipFill>
        <p:spPr>
          <a:xfrm>
            <a:off x="2284560" y="4286160"/>
            <a:ext cx="2366640" cy="2571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ser2"/>
          <p:cNvPicPr/>
          <p:nvPr/>
        </p:nvPicPr>
        <p:blipFill>
          <a:blip r:embed="rId4"/>
          <a:stretch/>
        </p:blipFill>
        <p:spPr>
          <a:xfrm>
            <a:off x="0" y="4292640"/>
            <a:ext cx="2335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Факторы размещения цветной металлургии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590400" y="1817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рьевой  (производство тяжелых метал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пор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 дешевой электроэнергии-ГЭС                       ( производство легких метал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99680" y="356760"/>
            <a:ext cx="7900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роизводят в мире 40 млн.т. различных цветных металлов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96% всех производимых металлов – алюминий, медь, цинк, свинец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Главные производители цветных металлов: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Алюминий – 25 млн. т. 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США, Россия, Китай, Канада, Бразилия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едь – 8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США, Чили, Япония, Китай, ФРГ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Цинк – 4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Китай, Канада, Япония, Австралия, Россия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винец – 3,8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Россия, Австралия, США, Канада, Перу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80" name="Picture 5" descr="Саянский алюминиевый завод"/>
          <p:cNvPicPr/>
          <p:nvPr/>
        </p:nvPicPr>
        <p:blipFill>
          <a:blip r:embed="rId1"/>
          <a:stretch/>
        </p:blipFill>
        <p:spPr>
          <a:xfrm>
            <a:off x="5651640" y="3933720"/>
            <a:ext cx="3492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1000080" y="714240"/>
            <a:ext cx="76438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цветной металлур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Цветная металлургия оказывает большое влияние на окружающую среду. При производстве алюминия  наблюдаются выбросы фтора, при производстве меди - сернистые газы и загрязненная вода (при рафинировании), цинк - выбросы оксида ци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При добыче и переработке руд цветных металлов  далеко не все минеральные вещества используются  человеком. Многие, особенно редкие металлы остаются в пустой пор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Основные месторождения руд цветных металлов находятся в развивающихся странах, а главные потребители цветных металлов – развит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6:00:54Z</dcterms:created>
  <dc:creator>Serega</dc:creator>
  <dc:description/>
  <dc:language>en-US</dc:language>
  <cp:lastModifiedBy>Home</cp:lastModifiedBy>
  <dcterms:modified xsi:type="dcterms:W3CDTF">2014-11-25T01:03:54Z</dcterms:modified>
  <cp:revision>102</cp:revision>
  <dc:subject/>
  <dc:title>Общая характеристика Мирового хозя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2b0000000000010250300207f7000400038000</vt:lpwstr>
  </property>
</Properties>
</file>