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996C-A879-41FE-AE65-903FDB7B2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0503-EE83-4194-B4E8-0BA731DD4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DF37-7519-4F67-A799-593B1D240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990C-1D94-4391-BE21-A3DE21492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BFD7F2-A9C5-4262-90E6-15E0DA8D7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D0343F-0A43-4B6D-AA91-B8050ADD3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F33B9E-78CE-46D1-BF34-0B6719206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879EB4-B592-4881-A872-680111209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58B582-73BF-41C0-899C-1EA19B045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4F56AE-D981-447A-B597-6D2D823FB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D98CA0-1FE0-4C0C-9E8B-B543A5FD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B7B9-9377-42C1-A551-7CB282E22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70F599-8C68-4996-BEE2-BB82F48F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65559D-1A19-49A6-BC94-B80B1B931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5EFEE5-8828-4460-BF53-554E0051A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CAEC81-8B28-476C-B733-BE9CCC281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CBB33F-84E5-48F0-8038-7F14568D9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944083-69DF-40AB-847F-36288682A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5FB154-0876-45AF-962B-C4A9B0CA7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2D211A-4DC7-478C-8DB5-5FE6C63D5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DBA0FF-4289-490B-B8FF-2A51A1EB3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C6DF6D-9FE5-42E8-844B-1A9F873AB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CB67-00B2-4CF0-A42A-754D05C6A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BDED02-601D-4B66-8F8A-A621EB99A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8C376D-3B87-455B-AB37-5F3F9073C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879638-9F78-4EBE-8DBC-59BBEDD1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888656-FC39-4908-B876-00F996C0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B575FA-3644-4772-ADD8-1C31AEE7C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F1BB5B-0342-4A6B-AE31-1683CA2EA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182323-2E2C-4DC3-8B9C-D1F84F5DB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4AD772-8163-45B3-ABEB-DE24232D2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F82EDB-E032-4223-AD94-E79D79094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A3514E-E1E4-4DB7-A52A-682C00748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C476-421E-4A9F-9163-9440AB23C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D584A0-CA92-4EF7-A7B6-3BAA16892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5B59CC-48F7-4DF3-8AC3-BFFC3EA78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B3A94A-E419-45C0-A790-F55B5DB5D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F6DE8F-2DFA-450E-9C69-661C7BC3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2C3B1F-0E3A-4A8B-BF5A-11B18412E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7A0D68-F8F4-4ECF-A6CB-747704D1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6F3A34-BA9D-43F7-A72C-6B4A87B03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73556A-5FF4-4F8E-94ED-12FF5C994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6D4655-AB96-48C1-AC3B-2E951E7CA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F4BFBD-EC82-491F-B985-3B1C4DC3E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CE25-F8CC-4067-9754-B2B41F723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5EC700-E089-46CA-97BA-4CE5058B7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42CCAA-E4F0-4736-9DC6-7DAE27024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CA1987-3C1E-49DA-8B0B-8524BDA01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D1A8DB-A406-4346-A54E-AB15FCEFE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AFD345-8B16-4041-A27B-448955BA8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A22156-D5CF-41F2-B43D-9D2D30DC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BAF3F9-901F-443B-9B98-3A59F3C22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84F55A-AB29-4AD4-A15C-87D4CF0A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83F3FF-E9AB-4091-B4B3-22886527F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D1BF79-1970-4F6A-9569-A4883A6E2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3D7A-C924-4745-8279-27D171E6B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9415F3-3A22-4241-8D4D-A8C07CB54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34E885-0255-4FA4-8DBA-442B7694A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FC8272-B4F7-451C-8440-8332C2422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A7B706-617D-400B-A6A3-F11FC1229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8A799B-CCE6-419C-AEBD-CFA51A500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E16683-7A65-454A-8612-417CC4F37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F9EFCA-A628-4D03-B911-ACDAD92B6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0807D9-F54A-42F3-A8B6-E824FF89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1848EE-DF88-4442-BBAD-C6FF5460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CDD69F-43D9-47A8-8B19-DC291F17E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5F76-90A0-411A-85DE-BA4DD3364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27D169-57B8-4890-98D3-B9E172B73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D53A40-E0AC-4A3B-B4DA-154D13FAB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2310BA-2130-4AEB-8091-ED6020B15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CED54F-4CD6-4D97-A3C4-DF1364F7F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50F456-BE8A-467F-ABE6-A0E18F9A1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7443F9-4062-4B37-B8B4-6A8BDA287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184FF5-9E23-43E6-8321-26FB0A1E0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D87CED-2A4F-47A3-947D-585BA61C9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A28581-C248-460A-84F4-863973C46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5EA575-CFB9-4723-9F21-7E000A862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6861-BE09-4A54-B513-90883D62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7909F3-2661-47C8-A69B-AD965CE2E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AFC4DA-D6B0-4B92-9C5E-1A865B64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F5C537-0CA4-421E-8E04-B01D60500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17DF81-67FF-413C-8E14-B0DE723DB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9A3B25-547A-46FC-A058-BBCCBB4DC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67D7-66E8-4AF9-900E-2B7B9350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2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9B5AE-7DE7-4C76-800B-E260B9FFAD08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53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56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" name="TextBox 10"/>
          <p:cNvSpPr/>
          <p:nvPr/>
        </p:nvSpPr>
        <p:spPr>
          <a:xfrm>
            <a:off x="1828800" y="3164400"/>
            <a:ext cx="4572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5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16C38-E3FA-41FA-9717-B8DA952644D1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ftr" idx="6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105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108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0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111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" name="TextBox 10"/>
          <p:cNvSpPr/>
          <p:nvPr/>
        </p:nvSpPr>
        <p:spPr>
          <a:xfrm>
            <a:off x="4267080" y="4075200"/>
            <a:ext cx="45720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sldNum" idx="8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748DF-5D4E-4FF9-BBE1-330C2D84E8C1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9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157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9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160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2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163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" name="TextBox 10"/>
          <p:cNvSpPr/>
          <p:nvPr/>
        </p:nvSpPr>
        <p:spPr>
          <a:xfrm>
            <a:off x="105732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Box 11"/>
          <p:cNvSpPr/>
          <p:nvPr/>
        </p:nvSpPr>
        <p:spPr>
          <a:xfrm>
            <a:off x="478008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1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F118A-429C-46CD-A82F-B0C1FF5820EA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210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2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213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5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216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8" name="TextBox 10"/>
          <p:cNvSpPr/>
          <p:nvPr/>
        </p:nvSpPr>
        <p:spPr>
          <a:xfrm>
            <a:off x="5329080" y="1774800"/>
            <a:ext cx="457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3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sldNum" idx="14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613DE-BC9C-4BD3-9D89-57BD9A54EA24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ftr" idx="15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262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4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26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7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26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0" name="TextBox 10"/>
          <p:cNvSpPr/>
          <p:nvPr/>
        </p:nvSpPr>
        <p:spPr>
          <a:xfrm>
            <a:off x="2435400" y="33321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sldNum" idx="17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174C0-456E-4BCC-AF30-4D2A9A365787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ftr" idx="18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3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314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6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317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320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5E9E6-F1AA-4168-A7A8-17F0A03BD5E7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071440" y="2708280"/>
            <a:ext cx="7072200" cy="293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Цветная металлургия мира </a:t>
            </a:r>
            <a:br>
              <a:rPr sz="4800"/>
            </a:br>
            <a:br>
              <a:rPr sz="48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втор презентации: учитель географии МАОУ «Гимназия №1» г.Перми Кошурникова Т.А.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1042920" y="1628640"/>
            <a:ext cx="741384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Определить значение цветной металлургии</a:t>
            </a:r>
            <a:endParaRPr b="0" lang="en-US" sz="19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Рассмотреть классификацию цветных металлов</a:t>
            </a:r>
            <a:endParaRPr b="0" lang="en-US" sz="19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Выявить факторы размещения</a:t>
            </a:r>
            <a:endParaRPr b="0" lang="en-US" sz="19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Установить страны-лидеры по производству цветных металлов</a:t>
            </a:r>
            <a:endParaRPr b="0" lang="en-US" sz="19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Определить проблемы и перспективы цветной металлургии</a:t>
            </a:r>
            <a:endParaRPr b="0" lang="en-US" sz="19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Цели и задачи: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539280" y="333360"/>
            <a:ext cx="7689960" cy="209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76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Palatino Linotype"/>
              </a:rPr>
              <a:t>Цветная металлургия - это отрасль тяжелой промышленности, занимающаяся добычей, обогащением и переработкой руды цветных металлов. 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67" name="Picture 2" descr="http://www.buyquiksilver.ru/image.php?aHR0cDovL2Jpem5lc3RvZGF5LnJ1L2ltYWdlcy9zdG9yaWVzL29sZC9tZXRhbGx1cmdpeWEuanBn"/>
          <p:cNvPicPr/>
          <p:nvPr/>
        </p:nvPicPr>
        <p:blipFill>
          <a:blip r:embed="rId1"/>
          <a:stretch/>
        </p:blipFill>
        <p:spPr>
          <a:xfrm>
            <a:off x="1332000" y="2276640"/>
            <a:ext cx="6408720" cy="41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685800" y="1700280"/>
            <a:ext cx="7918560" cy="22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изкое содержание цветных металлов в руде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мплексное залегание руд цветных металлов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Цветные металлы: жаропрочны, хорошо проводят электрический       ток, не ржавеют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тличия цветной металлургии от черной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70" name="Picture 7" descr="цв"/>
          <p:cNvPicPr/>
          <p:nvPr/>
        </p:nvPicPr>
        <p:blipFill>
          <a:blip r:embed="rId1"/>
          <a:stretch/>
        </p:blipFill>
        <p:spPr>
          <a:xfrm>
            <a:off x="1979640" y="3645000"/>
            <a:ext cx="482436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70256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лассификация цветных металлов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827892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09480" indent="-60948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Тяжелые (медь, свинец, олово, никель, цинк, ртуть, хром и т.д.) 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609480" indent="-60948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Легкие (алюминий, титан, магний, натрий, калий и т.д.) 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609480" indent="-60948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Драгоценные (золото, серебро, платина)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609480" indent="-60948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Прочие (редкие, рассеянные – цирконий, галий, индий, германий, селен, теллур, цезий, тантал, стронций и т.д.)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6094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73" name="Picture 6" descr="слиток золота"/>
          <p:cNvPicPr/>
          <p:nvPr/>
        </p:nvPicPr>
        <p:blipFill>
          <a:blip r:embed="rId1"/>
          <a:stretch/>
        </p:blipFill>
        <p:spPr>
          <a:xfrm>
            <a:off x="4500720" y="4292640"/>
            <a:ext cx="2447640" cy="256536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8" descr="золото2"/>
          <p:cNvPicPr/>
          <p:nvPr/>
        </p:nvPicPr>
        <p:blipFill>
          <a:blip r:embed="rId2"/>
          <a:stretch/>
        </p:blipFill>
        <p:spPr>
          <a:xfrm>
            <a:off x="6610320" y="4292640"/>
            <a:ext cx="2568600" cy="256536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10" descr="золото1"/>
          <p:cNvPicPr/>
          <p:nvPr/>
        </p:nvPicPr>
        <p:blipFill>
          <a:blip r:embed="rId3"/>
          <a:stretch/>
        </p:blipFill>
        <p:spPr>
          <a:xfrm>
            <a:off x="2284560" y="4286160"/>
            <a:ext cx="2366640" cy="25718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11" descr="ser2"/>
          <p:cNvPicPr/>
          <p:nvPr/>
        </p:nvPicPr>
        <p:blipFill>
          <a:blip r:embed="rId4"/>
          <a:stretch/>
        </p:blipFill>
        <p:spPr>
          <a:xfrm>
            <a:off x="0" y="4292640"/>
            <a:ext cx="233532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Palatino Linotype"/>
              </a:rPr>
              <a:t>Факторы размещения цветной металлургии</a:t>
            </a:r>
            <a:endParaRPr b="0" lang="en-US" sz="4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8" name="Прямоугольник 5"/>
          <p:cNvSpPr/>
          <p:nvPr/>
        </p:nvSpPr>
        <p:spPr>
          <a:xfrm>
            <a:off x="590400" y="1817640"/>
            <a:ext cx="8353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ырьевой  (производство тяжелых металлов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ранспорт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точники дешевой электроэнергии-ГЭС                       ( производство легких металлов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99680" y="356760"/>
            <a:ext cx="7900920" cy="43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Производят в мире 40 млн.т. различных цветных металлов.</a:t>
            </a:r>
            <a:endParaRPr b="0" lang="en-US" sz="1700" spc="-1" strike="noStrike">
              <a:solidFill>
                <a:srgbClr val="ffffff"/>
              </a:solidFill>
              <a:latin typeface="Palatino Linotype"/>
            </a:endParaRPr>
          </a:p>
          <a:p>
            <a:pPr marL="528120" indent="-5281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Palatino Linotype"/>
            </a:endParaRPr>
          </a:p>
          <a:p>
            <a:pPr marL="528120" indent="-5281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96% всех производимых металлов – алюминий, медь, цинк, свинец.</a:t>
            </a:r>
            <a:endParaRPr b="0" lang="en-US" sz="1700" spc="-1" strike="noStrike">
              <a:solidFill>
                <a:srgbClr val="ffffff"/>
              </a:solidFill>
              <a:latin typeface="Palatino Linotype"/>
            </a:endParaRPr>
          </a:p>
          <a:p>
            <a:pPr marL="528120" indent="-5281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Главные производители цветных металлов:</a:t>
            </a:r>
            <a:endParaRPr b="0" lang="en-US" sz="1700" spc="-1" strike="noStrike">
              <a:solidFill>
                <a:srgbClr val="ffffff"/>
              </a:solidFill>
              <a:latin typeface="Palatino Linotype"/>
            </a:endParaRPr>
          </a:p>
          <a:p>
            <a:pPr marL="528120" indent="-5281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Алюминий – 25 млн. т. </a:t>
            </a:r>
            <a:endParaRPr b="0" lang="en-US" sz="1700" spc="-1" strike="noStrike">
              <a:solidFill>
                <a:srgbClr val="ffffff"/>
              </a:solidFill>
              <a:latin typeface="Palatino Linotype"/>
            </a:endParaRPr>
          </a:p>
          <a:p>
            <a:pPr marL="528120" indent="-5281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Лидеры: США, Россия, Китай, Канада, Бразилия.</a:t>
            </a:r>
            <a:endParaRPr b="0" lang="en-US" sz="1700" spc="-1" strike="noStrike">
              <a:solidFill>
                <a:srgbClr val="ffffff"/>
              </a:solidFill>
              <a:latin typeface="Palatino Linotype"/>
            </a:endParaRPr>
          </a:p>
          <a:p>
            <a:pPr marL="528120" indent="-5281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Palatino Linotype"/>
            </a:endParaRPr>
          </a:p>
          <a:p>
            <a:pPr marL="528120" indent="-5281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Медь – 8 млн. т.</a:t>
            </a:r>
            <a:endParaRPr b="0" lang="en-US" sz="1700" spc="-1" strike="noStrike">
              <a:solidFill>
                <a:srgbClr val="ffffff"/>
              </a:solidFill>
              <a:latin typeface="Palatino Linotype"/>
            </a:endParaRPr>
          </a:p>
          <a:p>
            <a:pPr marL="528120" indent="-5281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Лидеры: США, Чили, Япония, Китай, ФРГ.</a:t>
            </a:r>
            <a:endParaRPr b="0" lang="en-US" sz="1700" spc="-1" strike="noStrike">
              <a:solidFill>
                <a:srgbClr val="ffffff"/>
              </a:solidFill>
              <a:latin typeface="Palatino Linotype"/>
            </a:endParaRPr>
          </a:p>
          <a:p>
            <a:pPr marL="528120" indent="-5281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Palatino Linotype"/>
            </a:endParaRPr>
          </a:p>
          <a:p>
            <a:pPr marL="528120" indent="-5281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Цинк – 4 млн. т.</a:t>
            </a:r>
            <a:endParaRPr b="0" lang="en-US" sz="1700" spc="-1" strike="noStrike">
              <a:solidFill>
                <a:srgbClr val="ffffff"/>
              </a:solidFill>
              <a:latin typeface="Palatino Linotype"/>
            </a:endParaRPr>
          </a:p>
          <a:p>
            <a:pPr marL="528120" indent="-5281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Лидеры: Китай, Канада, Япония, Австралия, Россия.</a:t>
            </a:r>
            <a:endParaRPr b="0" lang="en-US" sz="1700" spc="-1" strike="noStrike">
              <a:solidFill>
                <a:srgbClr val="ffffff"/>
              </a:solidFill>
              <a:latin typeface="Palatino Linotype"/>
            </a:endParaRPr>
          </a:p>
          <a:p>
            <a:pPr marL="528120" indent="-5281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Palatino Linotype"/>
            </a:endParaRPr>
          </a:p>
          <a:p>
            <a:pPr marL="528120" indent="-5281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Свинец – 3,8 млн. т.</a:t>
            </a:r>
            <a:endParaRPr b="0" lang="en-US" sz="1700" spc="-1" strike="noStrike">
              <a:solidFill>
                <a:srgbClr val="ffffff"/>
              </a:solidFill>
              <a:latin typeface="Palatino Linotype"/>
            </a:endParaRPr>
          </a:p>
          <a:p>
            <a:pPr marL="528120" indent="-5281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Лидеры: Россия, Австралия, США, Канада, Перу.</a:t>
            </a:r>
            <a:endParaRPr b="0" lang="en-US" sz="17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80" name="Picture 5" descr="Саянский алюминиевый завод"/>
          <p:cNvPicPr/>
          <p:nvPr/>
        </p:nvPicPr>
        <p:blipFill>
          <a:blip r:embed="rId1"/>
          <a:stretch/>
        </p:blipFill>
        <p:spPr>
          <a:xfrm>
            <a:off x="5651640" y="3933720"/>
            <a:ext cx="349236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Прямоугольник 1"/>
          <p:cNvSpPr/>
          <p:nvPr/>
        </p:nvSpPr>
        <p:spPr>
          <a:xfrm>
            <a:off x="1000080" y="714240"/>
            <a:ext cx="764388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блемы цветной металлург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Цветная металлургия оказывает большое влияние на окружающую среду. При производстве алюминия  наблюдаются выбросы фтора, при производстве меди - сернистые газы и загрязненная вода (при рафинировании), цинк - выбросы оксида цин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При добыче и переработке руд цветных металлов  далеко не все минеральные вещества используются  человеком. Многие, особенно редкие металлы остаются в пустой пород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 Основные месторождения руд цветных металлов находятся в развивающихся странах, а главные потребители цветных металлов – развиты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8T06:00:54Z</dcterms:created>
  <dc:creator>Serega</dc:creator>
  <dc:description/>
  <dc:language>en-US</dc:language>
  <cp:lastModifiedBy>Home</cp:lastModifiedBy>
  <dcterms:modified xsi:type="dcterms:W3CDTF">2014-11-25T01:03:54Z</dcterms:modified>
  <cp:revision>102</cp:revision>
  <dc:subject/>
  <dc:title>Общая характеристика Мирового хозяйств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42b0000000000010250300207f7000400038000</vt:lpwstr>
  </property>
</Properties>
</file>