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401840" y="914400"/>
            <a:ext cx="4052880" cy="31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A03B9-8F09-4659-BE1A-964C23200B9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69857BE9-A556-4605-ADF8-D2084914DF3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464AC-A39C-439E-A4F6-42B27DCC05F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3D379DE9-2124-4555-8A82-DA73E77D3D2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9CFEE-B431-4A78-9F7C-2068BF6737B4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3C82732D-C541-4706-AA27-702EB910102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04454-5D6D-4FF0-BAE3-4F9C47B9CB6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504765CF-D0D9-4929-9E2B-730F49100B9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24667-60DC-451E-8E97-D8C8B005CCC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2C6AE463-A6C0-4552-979B-E72E608ADCD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4EE89-81A9-4A6D-9688-338BF6E7FD1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13F0B1A2-669D-4DE2-AF96-BE9AB6E52B4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2B912-2F11-465F-BB14-73B1D939660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DDD183D2-C2E6-4697-B697-9673D7D3797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21C-497E-4B22-AFCB-42EAAABB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4F9-2939-477E-AD66-3A5C8C53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245-C21F-4540-B118-45699E97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120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36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204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120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36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308-2C58-4C68-9215-25AB29C7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62040" y="514440"/>
            <a:ext cx="7805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A20-C3B0-426B-A52D-CA0B8E22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0120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36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04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0120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36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DCA-50E3-4CB4-883A-EC9B187B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E51-B0F5-4D44-A83C-2E7F98CD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801-7875-47AD-8D05-203A7F29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2040" y="514440"/>
            <a:ext cx="7805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2AD-50E0-46FF-BA8A-8946BC87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F7D-1589-44A5-A4E0-320F31DC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CFD-E79B-4CAA-92DB-D2614E14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85F-D37F-44D2-8FE7-595F3513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302680" cy="1139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372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1.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666520" y="6356160"/>
            <a:ext cx="3349800" cy="361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160"/>
            <a:ext cx="758880" cy="657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BC5EC2-73B5-41C0-ABCD-D31E6C91E734}" type="slidenum"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fld id="{1D161F66-5147-4ABB-A0AA-9D43C1EEB17D}" type="slidenum"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1079640"/>
            <a:ext cx="1979640" cy="4859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2519280" y="0"/>
            <a:ext cx="4199040" cy="922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Искусств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79640" y="1081080"/>
            <a:ext cx="7164360" cy="485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Искусство древних майя достигло своего развития во время классического периода (окол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250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900 г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н. э.). Настенные фрески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Паленк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опан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Бономпак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считаются одними из самых красивых. Красота изображения людей на фресках позволяют сравнить эти памятники культуры с памятниками культур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античного мир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 Поэтому этот период развития цивилизации майя и принято считать классическим. К сожалению, многие из памятников культуры не дошли до наших дней, так как были либо уничтожен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инквизици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либо времен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1440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50760"/>
            <a:ext cx="8229600" cy="1209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92d050"/>
                </a:solidFill>
                <a:latin typeface="Calibri"/>
              </a:rPr>
              <a:t>Архитектура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0" y="1260360"/>
            <a:ext cx="9144000" cy="504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2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Для искусства майя, нашедшего выражение в каменной скульптуре и барельефах, произведениях мелкой пластики, росписях на стенах и керамике, характерна религиозная и мифологическая тематика, воплощенная в стилизованных гротескных образах. Основные мотивы искусства майя — антропоморфные божества, змеи и маски; ему свойственны стилистическое изящество и изощренность линий. Главным строительным материалом для майя служил камень, в первую очередь известняк. Типичными для архитектуры майя были ложные своды, устремленные вверх фасады и крыши с гребнем. Эти массивные фасады и крыши, венчавшие дворцы и храмы, создавали впечатление высоты и величеств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2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4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680000" y="0"/>
            <a:ext cx="4464000" cy="34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0" y="3419640"/>
            <a:ext cx="4680000" cy="343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4680000" y="3419640"/>
            <a:ext cx="445464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исьменность 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0" y="1260360"/>
            <a:ext cx="91440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Основными элементами системы письма служили знаки, которых известно около 800. Обычно знаки имеют вид квадрата или продолговатого овала; один или несколько знаков могут располагаться вместе, образуя так называемый иероглифический блок. Многие такие блоки расположены в определённом порядке в прямолинейной решётке, которая определяла пространственные рамки для большинства известных надписей. Внутри этой решётки иероглифические блоки образуют ряды и колонки, чтение которых подчинялось особым правилам. Также большой вес имеют пиктографические знаки, изображающие, зачастую детально, животных, людей, части тела и предметы бы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исьменность и счисление време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440000"/>
            <a:ext cx="2411280" cy="3857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19280" y="1260360"/>
            <a:ext cx="66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Исключительными интеллектуальными достижениями доколумбового Нового Света были созданные народом майя системы письма и счисления времени. Иероглифы майя служили как для идеографического, так и для фонетического письма. Их вырезали на камне, рисовали на керамике, ими написаны складные книги на местной бумаге, именуемы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одекс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 Эти кодексы являются важнейшим источником для исследования письменности майя..В дополнение к этому майя использовали «цолкин» или «тоналаматль» — системы счёта, основанные на числах 20 и 13. Система цолкин, распространённая в Центральной Америке, очень древняя и не обязательно была изобретена народом майя. 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ольмек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и в культуре сапотеков формативной эпохи сходные и достаточно развитые системы счисления времени сложились даже раньше, чем у майя. Однако майя в усовершенствовании числовой системы и астрономических наблюдениях продвинулись гораздо дальше, чем любой другой коренной народ Центральной Амер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3240000" y="6300720"/>
            <a:ext cx="2700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ＭＳ Ｐ明朝"/>
              </a:rPr>
              <a:t>Письмо ма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785880" y="0"/>
            <a:ext cx="7710480" cy="1754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Географическое полож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4906800" cy="2857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0" y="4643280"/>
            <a:ext cx="4859280" cy="2214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Территория, которую занимала цивилизация майя. Красным выделена граница культуры майя, чёрным — территория Месоамериканской циви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859280" y="1800360"/>
            <a:ext cx="4284720" cy="5057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В настоящее время (2011 год) территория, на которой происходило развитие цивилизации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май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входит в состав государств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Мексик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(штаты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Чьяпа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ампеч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Юката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интана-Роо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)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Гватемал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Белиз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Сальвадо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Гондура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(западная част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Найдено около 1000 городищ культуры майя (на начало 80-х годов XX века), но не все из них раскопаны или исследованы археологами, а также 3000 посёл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лигия 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11120" y="1190520"/>
            <a:ext cx="8229600" cy="492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2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Среди руин городов майя доминируют постройки религиозного характера. Как предполагается, религия вместе со служителями храмов играли в жизни майя ключевую роль. В период с 250 года н. э. до 900-х годов н. э. (классический период развития майя) во главе городов-государств региона стояли правители, которые заключали в себе если не высшую, то по крайней мере очень важную религиозную функцию. Археологические раскопки позволяют говорить о том, что в религиозных ритуалах также принимали участие представители высших слоёв обще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78920"/>
            <a:ext cx="8229600" cy="1127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ремя,космос и конец света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0" y="1467000"/>
            <a:ext cx="914400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Как и другие народы, населявшие Центральную Америку того времени, майя верили в цикличный характер времени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астрологию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 Например их расчёты движе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Венер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расходились с современными астрономическими данными всего на несколько секунд в год. Они представляли себ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Вселенную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разделённую на три уровня — подземный мир, земля и небо. Религиозные ритуалы и церемонии были тесно связаны с природными и астрономическими циклами. Повторяющиеся явления подвергались систематическим наблюдениям, после чего отображались в различного рода календарях. Задача религиозного лидера майя состояла при этом в интерпретации этих цик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В частности, по астрологии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алендарю май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«время пятого Солнца»  закончится 21-25 декабря 2012 года (зимне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солнцестояни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)."Пятое Солнце" известно как «Солнце Движения», потому что, по представлениям индейцев, в эту эпоху произойдет движение Земли, от которого все погибнут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онцом све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за которыми должно последовать очередное рождение Вселенной. Эта дата вызывает много современных паникёрских лжепророчеств и эзотерических спекуляций. Особенно эта теория популярна в движении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Новая эр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», где смешивается с христианской антиязыческой идее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Апокалипсис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11-05-10T09:49:27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90000000000010243100207f6000400038000</vt:lpwstr>
  </property>
</Properties>
</file>