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401840" y="914400"/>
            <a:ext cx="4052880" cy="31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71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ABE08-5A13-40D8-B0B9-C0AD083C6FB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0443C07E-2029-4110-A0E2-C6FDC3510E3D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88571-E466-44AB-9CB5-645FF3CC54C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22C16977-DCBE-417D-A6AA-CBB288212F6E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8A6F5-04F9-4D1C-B97E-72549BCD38C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3B57037D-1A46-4B73-BA20-3E76352D3BD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288F9-7644-4D72-AAEC-2252A318F95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8DF291AA-EB84-4A3C-BB7C-82B8A966C6AC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47F65-7BC0-4291-81D8-9DD24ABF362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306FA681-D52B-49AD-A05A-AF8A886896F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5C7E9-581B-4B1B-A976-EDF3D7BCEDD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4FD429BE-4E48-43C8-819E-109C4A28639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1045800" y="4347720"/>
            <a:ext cx="4768920" cy="349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16F79-4D30-4A68-B786-794B34A1C58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03172F80-8363-47A6-832C-C901C6E76A3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4C8-8ABC-42D6-8AE3-A628A8F9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2040" y="118548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B410-A12E-4943-B808-AC6037F8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6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5AD-4CB0-402D-B536-AEAEBF68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120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36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204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120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36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172-B37D-4604-981B-72CCBC12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040" y="-5013720"/>
            <a:ext cx="780552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780552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62040" y="514440"/>
            <a:ext cx="7805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2040" y="-5013720"/>
            <a:ext cx="780552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1E1-D2D5-4CAF-9A6B-1D779820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16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040" y="118548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16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0120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360" y="-501372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04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0120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360" y="118548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780552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6CE-8A65-4727-A7CA-5E5E2CC2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3F8-27E7-4433-A08C-FBD4CEED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D85-E8CF-4FCE-9E8D-905F884F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2040" y="514440"/>
            <a:ext cx="7805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981-FE6E-4642-BF63-9303FAF5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AA2-5AD6-4B93-A1A6-BAC22285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640" y="118548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1B62-88D0-49A5-9014-303A8CF2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20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640" y="-5013720"/>
            <a:ext cx="3808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2040" y="1185480"/>
            <a:ext cx="780552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957-C731-473F-8FD8-8C0B7C1E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302680" cy="1139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0480" cy="372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marL="216000"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1.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666520" y="6356160"/>
            <a:ext cx="3349800" cy="361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160"/>
            <a:ext cx="758880" cy="657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marL="216000"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13A9BD-1C37-438C-9899-586065273712}" type="slidenum">
              <a:rPr b="0" lang="ru-RU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fld id="{810B5C73-0ECD-4D97-91AA-B14B964C0170}" type="slidenum">
              <a:rPr b="0" lang="ru-RU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2040" y="514440"/>
            <a:ext cx="7805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62040" y="-5013720"/>
            <a:ext cx="780552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7445520" y="678168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7445520" y="665172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7445520" y="650880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7445520" y="638028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7445520" y="6237360"/>
            <a:ext cx="54432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7445520" y="6107040"/>
            <a:ext cx="54432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8107200" y="678168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8107200" y="665172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8107200" y="650880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8107200" y="638028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8107200" y="6237360"/>
            <a:ext cx="54468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8107200" y="6107040"/>
            <a:ext cx="54468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1079640"/>
            <a:ext cx="1979640" cy="4859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2519280" y="0"/>
            <a:ext cx="4199040" cy="9223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Искусств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79640" y="1081080"/>
            <a:ext cx="7164360" cy="485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Искусство древних майя достигло своего развития во время классического периода (окол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250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—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900 г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н. э.). Настенные фрески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Паленк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опан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Бономпак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считаются одними из самых красивых. Красота изображения людей на фресках позволяют сравнить эти памятники культуры с памятниками культур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античного мир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. Поэтому этот период развития цивилизации майя и принято считать классическим. К сожалению, многие из памятников культуры не дошли до наших дней, так как были либо уничтожен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инквизици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либо времен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144000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50760"/>
            <a:ext cx="8229600" cy="12096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92d050"/>
                </a:solidFill>
                <a:latin typeface="Calibri"/>
              </a:rPr>
              <a:t>Архитектура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0" y="1260360"/>
            <a:ext cx="9144000" cy="5040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1440" indent="-271440">
              <a:lnSpc>
                <a:spcPct val="102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Для искусства майя, нашедшего выражение в каменной скульптуре и барельефах, произведениях мелкой пластики, росписях на стенах и керамике, характерна религиозная и мифологическая тематика, воплощенная в стилизованных гротескных образах. Основные мотивы искусства майя — антропоморфные божества, змеи и маски; ему свойственны стилистическое изящество и изощренность линий. Главным строительным материалом для майя служил камень, в первую очередь известняк. Типичными для архитектуры майя были ложные своды, устремленные вверх фасады и крыши с гребнем. Эти массивные фасады и крыши, венчавшие дворцы и храмы, создавали впечатление высоты и величеств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2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680000" cy="34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680000" y="0"/>
            <a:ext cx="4464000" cy="34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0" y="3419640"/>
            <a:ext cx="4680000" cy="343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4"/>
          <a:stretch/>
        </p:blipFill>
        <p:spPr>
          <a:xfrm>
            <a:off x="4680000" y="3419640"/>
            <a:ext cx="445464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исьменность 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0" y="1260360"/>
            <a:ext cx="914400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Основными элементами системы письма служили знаки, которых известно около 800. Обычно знаки имеют вид квадрата или продолговатого овала; один или несколько знаков могут располагаться вместе, образуя так называемый иероглифический блок. Многие такие блоки расположены в определённом порядке в прямолинейной решётке, которая определяла пространственные рамки для большинства известных надписей. Внутри этой решётки иероглифические блоки образуют ряды и колонки, чтение которых подчинялось особым правилам. Также большой вес имеют пиктографические знаки, изображающие, зачастую детально, животных, людей, части тела и предметы бы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исьменность и счисление времен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440000"/>
            <a:ext cx="2411280" cy="3857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519280" y="1260360"/>
            <a:ext cx="662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Исключительными интеллектуальными достижениями доколумбового Нового Света были созданные народом майя системы письма и счисления времени. Иероглифы майя служили как для идеографического, так и для фонетического письма. Их вырезали на камне, рисовали на керамике, ими написаны складные книги на местной бумаге, именуемы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одексам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. Эти кодексы являются важнейшим источником для исследования письменности майя..В дополнение к этому майя использовали «цолкин» или «тоналаматль» — системы счёта, основанные на числах 20 и 13. Система цолкин, распространённая в Центральной Америке, очень древняя и не обязательно была изобретена народом майя. 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ольмеков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и в культуре сапотеков формативной эпохи сходные и достаточно развитые системы счисления времени сложились даже раньше, чем у майя. Однако майя в усовершенствовании числовой системы и астрономических наблюдениях продвинулись гораздо дальше, чем любой другой коренной народ Центральной Амер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00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"/>
          <p:cNvSpPr/>
          <p:nvPr/>
        </p:nvSpPr>
        <p:spPr>
          <a:xfrm>
            <a:off x="3240000" y="6300720"/>
            <a:ext cx="2700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ＭＳ Ｐ明朝"/>
              </a:rPr>
              <a:t>Письмо май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785880" y="0"/>
            <a:ext cx="7710480" cy="1754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Географическое положе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4906800" cy="2857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0" y="4643280"/>
            <a:ext cx="4859280" cy="2214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Территория, которую занимала цивилизация майя. Красным выделена граница культуры майя, чёрным — территория Месоамериканской цивил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859280" y="1800360"/>
            <a:ext cx="4284720" cy="5057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В настоящее время (2011 год) территория, на которой происходило развитие цивилизации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май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входит в состав государств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Мексик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(штаты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Чьяпас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ампеч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Юката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интана-Роо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)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Гватемал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Белиз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Сальвадор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Гондурас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(западная часть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Найдено около 1000 городищ культуры майя (на начало 80-х годов XX века), но не все из них раскопаны или исследованы археологами, а также 3000 посёл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лигия 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11120" y="1190520"/>
            <a:ext cx="8229600" cy="492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1440" indent="-271440">
              <a:lnSpc>
                <a:spcPct val="102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Среди руин городов майя доминируют постройки религиозного характера. Как предполагается, религия вместе со служителями храмов играли в жизни майя ключевую роль. В период с 250 года н. э. до 900-х годов н. э. (классический период развития майя) во главе городов-государств региона стояли правители, которые заключали в себе если не высшую, то по крайней мере очень важную религиозную функцию. Археологические раскопки позволяют говорить о том, что в религиозных ритуалах также принимали участие представители высших слоёв общест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78920"/>
            <a:ext cx="8229600" cy="1127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ремя,космос и конец света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0" y="1467000"/>
            <a:ext cx="914400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Как и другие народы, населявшие Центральную Америку того времени, майя верили в цикличный характер времени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астрологию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. Например их расчёты движе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Венер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 расходились с современными астрономическими данными всего на несколько секунд в год. Они представляли себ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Вселенную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разделённую на три уровня — подземный мир, земля и небо. Религиозные ритуалы и церемонии были тесно связаны с природными и астрономическими циклами. Повторяющиеся явления подвергались систематическим наблюдениям, после чего отображались в различного рода календарях. Задача религиозного лидера майя состояла при этом в интерпретации этих цик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В частности, по астрологии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алендарю май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«время пятого Солнца»  закончится 21-25 декабря 2012 года (зимне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солнцестояни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)."Пятое Солнце" известно как «Солнце Движения», потому что, по представлениям индейцев, в эту эпоху произойдет движение Земли, от которого все погибнут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Концом све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, за которыми должно последовать очередное рождение Вселенной. Эта дата вызывает много современных паникёрских лжепророчеств и эзотерических спекуляций. Особенно эта теория популярна в движении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Новая эр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», где смешивается с христианской антиязыческой идее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  <a:ea typeface="ＭＳ Ｐ明朝"/>
              </a:rPr>
              <a:t>Апокалипсис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ＭＳ Ｐ明朝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11-05-10T09:49:27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90000000000010243100207f6000400038000</vt:lpwstr>
  </property>
</Properties>
</file>