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401840" y="914400"/>
            <a:ext cx="4052880" cy="31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283EE-4FBA-4C54-BABC-DC0F884827C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E49F8666-6031-4F13-8626-9A9AC89A449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05DFC-F3AD-4C6F-8E56-54286E4481D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AD63B2CE-37AB-4246-86A2-E8970C734B2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0D4BC-CDD4-4CA0-8CE0-DF1DD3E1B12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E095A4A9-EE7F-4EB0-AFD6-D935C6E3A04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6E1D-A79D-4D84-979B-5F39F630FE5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1B0A3FCC-BD99-48C3-8FDD-39CE20630DE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E4F5-1019-4CAD-9497-B9AD1A9887B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7D4792E5-72B9-4376-812B-5269D6C7505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08712-E98A-4CC6-AA67-9164154C849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303CF236-104D-4E5E-AEE1-C4C58EBECB6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61656-FAB7-41F9-A487-E28C1FFED6F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9AC22CA2-3E81-4E51-BE89-33559AD3007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551-70CA-40D6-8907-4F43B65B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340-9491-4B84-A2E6-F0C87B91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CCB-4357-418D-9B68-63418246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20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36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204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20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36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B41-50B9-4C56-A9DA-043DE9E3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2040" y="514440"/>
            <a:ext cx="7805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A35-AA16-4DB5-BD21-2AED4D0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120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36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04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120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36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84A-DA4B-4EAB-8760-E8DDD57D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79E-D40C-44FA-A83C-6DA841C3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60B-E6A6-4563-8E5D-655FA92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2040" y="514440"/>
            <a:ext cx="7805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4FE-0AA1-40A5-89CF-31CA2B84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38B-06BE-4B85-9C4F-04CAD5F3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985-2492-46C3-ACB2-A2E398B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592-BFC0-4659-BF31-C3DBB49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302680" cy="1139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7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1.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66520" y="6356160"/>
            <a:ext cx="3349800" cy="361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160"/>
            <a:ext cx="758880" cy="657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EBC7B4-8CF1-4616-B3AD-BCCC7DE6D81C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fld id="{708B33FE-4804-4A89-93E4-279BF1233007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079640"/>
            <a:ext cx="1979640" cy="4859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519280" y="0"/>
            <a:ext cx="4199040" cy="922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ус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79640" y="1081080"/>
            <a:ext cx="7164360" cy="485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усство древних майя достигло своего развития во время классического периода (око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250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900 г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. э.). Настенные фрески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Паленк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пан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Бономпак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читаются одними из самых красивых. Красота изображения людей на фресках позволяют сравнить эти памятники культуры с памятниками культур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нтичного ми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Поэтому этот период развития цивилизации майя и принято считать классическим. К сожалению, многие из памятников культуры не дошли до наших дней, так как были либо уничтоже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инквизици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либо време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1440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50760"/>
            <a:ext cx="8229600" cy="1209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92d050"/>
                </a:solidFill>
                <a:latin typeface="Calibri"/>
              </a:rPr>
              <a:t>Архитектура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1260360"/>
            <a:ext cx="9144000" cy="504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Для искусства майя, нашедшего выражение в каменной скульптуре и барельефах, произведениях мелкой пластики, росписях на стенах и керамике, характерна религиозная и мифологическая тематика, воплощенная в стилизованных гротескных образах. Основные мотивы искусства майя — антропоморфные божества, змеи и маски; ему свойственны стилистическое изящество и изощренность линий. Главным строительным материалом для майя служил камень, в первую очередь известняк. Типичными для архитектуры майя были ложные своды, устремленные вверх фасады и крыши с гребнем. Эти массивные фасады и крыши, венчавшие дворцы и храмы, создавали впечатление высоты и величе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4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680000" y="0"/>
            <a:ext cx="4464000" cy="34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0" y="3419640"/>
            <a:ext cx="4680000" cy="34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4680000" y="3419640"/>
            <a:ext cx="44546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исьменность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1260360"/>
            <a:ext cx="91440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Основными элементами системы письма служили знаки, которых известно около 800. Обычно знаки имеют вид квадрата или продолговатого овала; один или несколько знаков могут располагаться вместе, образуя так называемый иероглифический блок. Многие такие блоки расположены в определённом порядке в прямолинейной решётке, которая определяла пространственные рамки для большинства известных надписей. Внутри этой решётки иероглифические блоки образуют ряды и колонки, чтение которых подчинялось особым правилам. Также большой вес имеют пиктографические знаки, изображающие, зачастую детально, животных, людей, части тела и предметы бы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исьменность и счисление време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440000"/>
            <a:ext cx="2411280" cy="3857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19280" y="1260360"/>
            <a:ext cx="66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лючительными интеллектуальными достижениями доколумбового Нового Света были созданные народом майя системы письма и счисления времени. Иероглифы майя служили как для идеографического, так и для фонетического письма. Их вырезали на камне, рисовали на керамике, ими написаны складные книги на местной бумаге, именуемы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декс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Эти кодексы являются важнейшим источником для исследования письменности майя..В дополнение к этому майя использовали «цолкин» или «тоналаматль» — системы счёта, основанные на числах 20 и 13. Система цолкин, распространённая в Центральной Америке, очень древняя и не обязательно была изобретена народом майя. 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ольмек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и в культуре сапотеков формативной эпохи сходные и достаточно развитые системы счисления времени сложились даже раньше, чем у майя. Однако майя в усовершенствовании числовой системы и астрономических наблюдениях продвинулись гораздо дальше, чем любой другой коренной народ Центральной Амер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3240000" y="6300720"/>
            <a:ext cx="2700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ＭＳ Ｐ明朝"/>
              </a:rPr>
              <a:t>Письмо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785880" y="0"/>
            <a:ext cx="7710480" cy="1754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Географическое полож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906800" cy="285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4643280"/>
            <a:ext cx="4859280" cy="2214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Территория, которую занимала цивилизация майя. Красным выделена граница культуры майя, чёрным — территория Месоамериканской циви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59280" y="1800360"/>
            <a:ext cx="4284720" cy="505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настоящее время (2011 год) территория, на которой происходило развитие цивилизаци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май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входит в состав государств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Мекси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(штат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Чьяпа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ампеч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Юката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интана-Роо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)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Гватема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Бели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Сальвадо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Гондура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(западная ча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айдено около 1000 городищ культуры майя (на начало 80-х годов XX века), но не все из них раскопаны или исследованы археологами, а также 3000 посёл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лигия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11120" y="1190520"/>
            <a:ext cx="8229600" cy="492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реди руин городов майя доминируют постройки религиозного характера. Как предполагается, религия вместе со служителями храмов играли в жизни майя ключевую роль. В период с 250 года н. э. до 900-х годов н. э. (классический период развития майя) во главе городов-государств региона стояли правители, которые заключали в себе если не высшую, то по крайней мере очень важную религиозную функцию. Археологические раскопки позволяют говорить о том, что в религиозных ритуалах также принимали участие представители высших слоёв обще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229600" cy="1127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ремя,космос и конец свет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1467000"/>
            <a:ext cx="9144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Как и другие народы, населявшие Центральную Америку того времени, майя верили в цикличный характер времени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стрологи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Например их расчёты движе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Венер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расходились с современными астрономическими данными всего на несколько секунд в год. Они представляли себ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Вселенну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разделённую на три уровня — подземный мир, земля и небо. Религиозные ритуалы и церемонии были тесно связаны с природными и астрономическими циклами. Повторяющиеся явления подвергались систематическим наблюдениям, после чего отображались в различного рода календарях. Задача религиозного лидера майя состояла при этом в интерпретации этих цик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частности, по астрологии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алендарю май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«время пятого Солнца»  закончится 21-25 декабря 2012 года (зимне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солнцестоян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)."Пятое Солнце" известно как «Солнце Движения», потому что, по представлениям индейцев, в эту эпоху произойдет движение Земли, от которого все погибнут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нцом с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за которыми должно последовать очередное рождение Вселенной. Эта дата вызывает много современных паникёрских лжепророчеств и эзотерических спекуляций. Особенно эта теория популярна в движении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Новая эр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», где смешивается с христианской антиязыческой идее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покалипси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1-05-10T09:49:27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90000000000010243100207f6000400038000</vt:lpwstr>
  </property>
</Properties>
</file>