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112-8419-4B58-8D17-9E3649BB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17C-B767-4FB5-8F83-2AFDD00E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D4A-9B99-4691-B5A5-985B0C4B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EA8-5062-48DD-A8D0-27BB0669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D75-64AC-4CCC-A03A-8F8530EC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47B-6EDE-4B17-AAD8-A5D58938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992-4A1A-4983-BEBA-90F4AF28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1D8-7F2A-4DCE-8E68-B10D2061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F48-7980-4C67-A340-50DE71BB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569-D8B5-419A-B45A-DB18B2D7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764-E4BA-4CB0-B84D-B746154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E15-681C-4581-AA6D-2909014A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39E6-F7E0-40FB-9D18-A375ADB66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DSC06866.jpg"/>
          <p:cNvPicPr/>
          <p:nvPr/>
        </p:nvPicPr>
        <p:blipFill>
          <a:blip r:embed="rId1"/>
          <a:stretch/>
        </p:blipFill>
        <p:spPr>
          <a:xfrm>
            <a:off x="214200" y="214200"/>
            <a:ext cx="2411640" cy="321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500280" y="3286080"/>
            <a:ext cx="535788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2603520" y="1725480"/>
            <a:ext cx="635148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PH01046J.JPG"/>
          <p:cNvPicPr/>
          <p:nvPr/>
        </p:nvPicPr>
        <p:blipFill>
          <a:blip r:embed="rId3"/>
          <a:stretch/>
        </p:blipFill>
        <p:spPr>
          <a:xfrm>
            <a:off x="7643880" y="3571920"/>
            <a:ext cx="1071360" cy="1357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786040" y="28584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0" t="0" r="37" b="82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rcRect l="0" t="0" r="-44" b="0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rcRect l="0" t="0" r="132" b="35"/>
          <a:stretch/>
        </p:blipFill>
        <p:spPr>
          <a:xfrm>
            <a:off x="457200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rcRect l="0" t="0" r="95" b="-129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>
            <a:hlinkClick r:id="rId5" action="ppaction://hlinksldjump"/>
          </p:cNvPr>
          <p:cNvSpPr/>
          <p:nvPr/>
        </p:nvSpPr>
        <p:spPr>
          <a:xfrm>
            <a:off x="8317080" y="6237360"/>
            <a:ext cx="682560" cy="4665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592" h="21600">
                <a:moveTo>
                  <a:pt x="0" y="0"/>
                </a:moveTo>
                <a:lnTo>
                  <a:pt x="31592" y="0"/>
                </a:lnTo>
                <a:lnTo>
                  <a:pt x="31592" y="21600"/>
                </a:lnTo>
                <a:lnTo>
                  <a:pt x="0" y="21600"/>
                </a:lnTo>
                <a:close/>
              </a:path>
              <a:path fill="lightenLess" w="31592" h="21600">
                <a:moveTo>
                  <a:pt x="0" y="0"/>
                </a:moveTo>
                <a:lnTo>
                  <a:pt x="31592" y="0"/>
                </a:lnTo>
                <a:lnTo>
                  <a:pt x="30192" y="1400"/>
                </a:lnTo>
                <a:lnTo>
                  <a:pt x="1400" y="1400"/>
                </a:lnTo>
                <a:close/>
              </a:path>
              <a:path fill="darken" w="31592" h="21600">
                <a:moveTo>
                  <a:pt x="31592" y="0"/>
                </a:moveTo>
                <a:lnTo>
                  <a:pt x="31592" y="21600"/>
                </a:lnTo>
                <a:lnTo>
                  <a:pt x="30192" y="20200"/>
                </a:lnTo>
                <a:lnTo>
                  <a:pt x="30192" y="1400"/>
                </a:lnTo>
                <a:close/>
              </a:path>
              <a:path fill="darkenLess" w="31592" h="21600">
                <a:moveTo>
                  <a:pt x="31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2" y="20200"/>
                </a:lnTo>
                <a:close/>
              </a:path>
              <a:path fill="lighten" w="31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2" h="21600">
                <a:moveTo>
                  <a:pt x="8790" y="3794"/>
                </a:moveTo>
                <a:lnTo>
                  <a:pt x="22803" y="10800"/>
                </a:lnTo>
                <a:lnTo>
                  <a:pt x="87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13800" y="-243000"/>
            <a:ext cx="26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765000"/>
          <a:ext cx="8229600" cy="5851800"/>
        </p:xfrm>
        <a:graphic>
          <a:graphicData uri="http://schemas.openxmlformats.org/drawingml/2006/table">
            <a:tbl>
              <a:tblPr/>
              <a:tblGrid>
                <a:gridCol w="2232000"/>
                <a:gridCol w="3254400"/>
                <a:gridCol w="2743200"/>
              </a:tblGrid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е в цент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ифер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и воздух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ходящ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ходящ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 часовой стрел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часовой стрелк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ог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: снег, ветер, облачно, потеп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: дождь, ветер, облачно, похоло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: морозно, ясно, без осадк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: жарко, ясно, без осад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преоблад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е районы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ые районы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AutoShape 118">
            <a:hlinkClick r:id="rId1" action="ppaction://hlinksldjump"/>
          </p:cNvPr>
          <p:cNvSpPr/>
          <p:nvPr/>
        </p:nvSpPr>
        <p:spPr>
          <a:xfrm>
            <a:off x="8317080" y="6237360"/>
            <a:ext cx="682560" cy="4665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592" h="21600">
                <a:moveTo>
                  <a:pt x="0" y="0"/>
                </a:moveTo>
                <a:lnTo>
                  <a:pt x="31592" y="0"/>
                </a:lnTo>
                <a:lnTo>
                  <a:pt x="31592" y="21600"/>
                </a:lnTo>
                <a:lnTo>
                  <a:pt x="0" y="21600"/>
                </a:lnTo>
                <a:close/>
              </a:path>
              <a:path fill="lightenLess" w="31592" h="21600">
                <a:moveTo>
                  <a:pt x="0" y="0"/>
                </a:moveTo>
                <a:lnTo>
                  <a:pt x="31592" y="0"/>
                </a:lnTo>
                <a:lnTo>
                  <a:pt x="30192" y="1400"/>
                </a:lnTo>
                <a:lnTo>
                  <a:pt x="1400" y="1400"/>
                </a:lnTo>
                <a:close/>
              </a:path>
              <a:path fill="darken" w="31592" h="21600">
                <a:moveTo>
                  <a:pt x="31592" y="0"/>
                </a:moveTo>
                <a:lnTo>
                  <a:pt x="31592" y="21600"/>
                </a:lnTo>
                <a:lnTo>
                  <a:pt x="30192" y="20200"/>
                </a:lnTo>
                <a:lnTo>
                  <a:pt x="30192" y="1400"/>
                </a:lnTo>
                <a:close/>
              </a:path>
              <a:path fill="darkenLess" w="31592" h="21600">
                <a:moveTo>
                  <a:pt x="31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2" y="20200"/>
                </a:lnTo>
                <a:close/>
              </a:path>
              <a:path fill="lighten" w="31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2" h="21600">
                <a:moveTo>
                  <a:pt x="8790" y="3794"/>
                </a:moveTo>
                <a:lnTo>
                  <a:pt x="22803" y="10800"/>
                </a:lnTo>
                <a:lnTo>
                  <a:pt x="87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"/>
          <p:cNvPicPr/>
          <p:nvPr/>
        </p:nvPicPr>
        <p:blipFill>
          <a:blip r:embed="rId1"/>
          <a:srcRect l="0" t="0" r="0" b="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6497640" y="352440"/>
            <a:ext cx="371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864560" y="70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68360" y="4724280"/>
            <a:ext cx="251928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635280" y="4724280"/>
            <a:ext cx="252108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>
            <a:hlinkClick r:id="rId2" action="ppaction://hlinksldjump"/>
          </p:cNvPr>
          <p:cNvSpPr/>
          <p:nvPr/>
        </p:nvSpPr>
        <p:spPr>
          <a:xfrm>
            <a:off x="8675640" y="6462720"/>
            <a:ext cx="468360" cy="395280"/>
          </a:xfrm>
          <a:custGeom>
            <a:avLst/>
            <a:gdLst>
              <a:gd name="textAreaLeft" fmla="*/ 25560 w 468360"/>
              <a:gd name="textAreaRight" fmla="*/ 442800 w 4683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590" h="21600">
                <a:moveTo>
                  <a:pt x="0" y="0"/>
                </a:moveTo>
                <a:lnTo>
                  <a:pt x="25590" y="0"/>
                </a:lnTo>
                <a:lnTo>
                  <a:pt x="25590" y="21600"/>
                </a:lnTo>
                <a:lnTo>
                  <a:pt x="0" y="21600"/>
                </a:lnTo>
                <a:close/>
              </a:path>
              <a:path fill="lightenLess" w="25590" h="21600">
                <a:moveTo>
                  <a:pt x="0" y="0"/>
                </a:moveTo>
                <a:lnTo>
                  <a:pt x="25590" y="0"/>
                </a:lnTo>
                <a:lnTo>
                  <a:pt x="24190" y="1400"/>
                </a:lnTo>
                <a:lnTo>
                  <a:pt x="1400" y="1400"/>
                </a:lnTo>
                <a:close/>
              </a:path>
              <a:path fill="darken" w="25590" h="21600">
                <a:moveTo>
                  <a:pt x="25590" y="0"/>
                </a:moveTo>
                <a:lnTo>
                  <a:pt x="25590" y="21600"/>
                </a:lnTo>
                <a:lnTo>
                  <a:pt x="24190" y="20200"/>
                </a:lnTo>
                <a:lnTo>
                  <a:pt x="24190" y="1400"/>
                </a:lnTo>
                <a:close/>
              </a:path>
              <a:path fill="darkenLess" w="25590" h="21600">
                <a:moveTo>
                  <a:pt x="25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0" y="20200"/>
                </a:lnTo>
                <a:close/>
              </a:path>
              <a:path fill="lighten" w="25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0" h="21600">
                <a:moveTo>
                  <a:pt x="5788" y="3794"/>
                </a:moveTo>
                <a:lnTo>
                  <a:pt x="19801" y="10800"/>
                </a:lnTo>
                <a:lnTo>
                  <a:pt x="57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5650" r="28046" b="30698"/>
          <a:stretch/>
        </p:blipFill>
        <p:spPr>
          <a:xfrm>
            <a:off x="395280" y="1197000"/>
            <a:ext cx="8353440" cy="5297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39640" y="2421000"/>
            <a:ext cx="8172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93640" y="322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641280" y="32259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340000" y="450864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411280" y="4437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412720" y="5367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6858000" y="4233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878520" y="54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2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542160" y="333360"/>
            <a:ext cx="8257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общего между циклон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антициклон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м они отлич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погода связана с прих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лонов?  Антициклон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ком направлении чаще все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ижутся циклоны на запа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и?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ких районах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обладает циклон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антициклональная пог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ение температуры воздуха по территор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е отличия в распределении летних и зимних температур воздуха по территории России (с. 14 – 15 атл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е причины различий в температурах воздуха на территории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ы зональных и азональных факторов, влияющих на распределение температур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0" t="0" r="-75" b="164"/>
          <a:stretch/>
        </p:blipFill>
        <p:spPr>
          <a:xfrm>
            <a:off x="0" y="0"/>
            <a:ext cx="5364000" cy="434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rcRect l="0" t="0" r="0" b="-37"/>
          <a:stretch/>
        </p:blipFill>
        <p:spPr>
          <a:xfrm>
            <a:off x="4427640" y="328464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rcRect l="0" t="0" r="0" b="167"/>
          <a:stretch/>
        </p:blipFill>
        <p:spPr>
          <a:xfrm>
            <a:off x="0" y="3282840"/>
            <a:ext cx="4716360" cy="357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635080" y="279360"/>
            <a:ext cx="304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бъяс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олюса хол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шари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о-Восто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би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181800" y="26028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помните тему сегодняшнего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0920" y="162864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оставьте 3 вопроса разного уровня сложности по изученной теме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дайте вопросы ребятам в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§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20, 21 Ответить на вопросы устно стр. 61,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ыявите черты сходства и отличия температуры лета и зимы в Москве. Ханты-Мансийске, Чите, Владиво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ак проявляется  зависимость размещения населения России от температурного режима территор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8532720" y="6391440"/>
            <a:ext cx="611280" cy="46656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95" h="21600">
                <a:moveTo>
                  <a:pt x="0" y="0"/>
                </a:moveTo>
                <a:lnTo>
                  <a:pt x="28295" y="0"/>
                </a:lnTo>
                <a:lnTo>
                  <a:pt x="28295" y="21600"/>
                </a:lnTo>
                <a:lnTo>
                  <a:pt x="0" y="21600"/>
                </a:lnTo>
                <a:close/>
              </a:path>
              <a:path fill="lightenLess" w="28295" h="21600">
                <a:moveTo>
                  <a:pt x="0" y="0"/>
                </a:moveTo>
                <a:lnTo>
                  <a:pt x="28295" y="0"/>
                </a:lnTo>
                <a:lnTo>
                  <a:pt x="26895" y="1400"/>
                </a:lnTo>
                <a:lnTo>
                  <a:pt x="1400" y="1400"/>
                </a:lnTo>
                <a:close/>
              </a:path>
              <a:path fill="darken" w="28295" h="21600">
                <a:moveTo>
                  <a:pt x="28295" y="0"/>
                </a:moveTo>
                <a:lnTo>
                  <a:pt x="28295" y="21600"/>
                </a:lnTo>
                <a:lnTo>
                  <a:pt x="26895" y="20200"/>
                </a:lnTo>
                <a:lnTo>
                  <a:pt x="26895" y="1400"/>
                </a:lnTo>
                <a:close/>
              </a:path>
              <a:path fill="darkenLess" w="28295" h="21600">
                <a:moveTo>
                  <a:pt x="28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95" y="20200"/>
                </a:lnTo>
                <a:close/>
              </a:path>
              <a:path fill="lighten" w="28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95" h="21600">
                <a:moveTo>
                  <a:pt x="7141" y="3794"/>
                </a:moveTo>
                <a:lnTo>
                  <a:pt x="21154" y="10800"/>
                </a:lnTo>
                <a:lnTo>
                  <a:pt x="71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765000"/>
            <a:ext cx="82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атмосферный фро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шите процесс формирования теплого фр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погода устанавливается после прохождения теплого фро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шите процесс формирования холодного фр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погода устанавливается после прохождения холодного фро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важно знать над какой территорией они формиру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>
            <a:hlinkClick r:id="rId2" action="ppaction://hlinksldjump"/>
          </p:cNvPr>
          <p:cNvSpPr/>
          <p:nvPr/>
        </p:nvSpPr>
        <p:spPr>
          <a:xfrm>
            <a:off x="8101080" y="609300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Оцените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годня на уроке мне был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нания, полученные на уроке, мне пригодятс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годня я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не было легк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не было слож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 том, что я узнал (а), я расскажу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rcRect l="0" t="0" r="31" b="-79"/>
          <a:stretch/>
        </p:blipFill>
        <p:spPr>
          <a:xfrm>
            <a:off x="3382920" y="3197160"/>
            <a:ext cx="5761080" cy="3660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635280" y="357336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Желаю успешной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о новых встре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-159480" y="692280"/>
            <a:ext cx="978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 каких условиях возникаю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е мощные атмосфер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ро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Какой фронт формируется меж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ктическим и умеренным воздух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севере нашей стр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воздушные массы разделя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ярный фро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Какие фронты назыв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иматически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2" action="ppaction://hlinksldjump"/>
          </p:cNvPr>
          <p:cNvSpPr/>
          <p:nvPr/>
        </p:nvSpPr>
        <p:spPr>
          <a:xfrm>
            <a:off x="8244000" y="6093000"/>
            <a:ext cx="684000" cy="53964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7374" h="21600">
                <a:moveTo>
                  <a:pt x="0" y="0"/>
                </a:moveTo>
                <a:lnTo>
                  <a:pt x="27374" y="0"/>
                </a:lnTo>
                <a:lnTo>
                  <a:pt x="27374" y="21600"/>
                </a:lnTo>
                <a:lnTo>
                  <a:pt x="0" y="21600"/>
                </a:lnTo>
                <a:close/>
              </a:path>
              <a:path fill="lightenLess" w="27374" h="21600">
                <a:moveTo>
                  <a:pt x="0" y="0"/>
                </a:moveTo>
                <a:lnTo>
                  <a:pt x="27374" y="0"/>
                </a:lnTo>
                <a:lnTo>
                  <a:pt x="25974" y="1400"/>
                </a:lnTo>
                <a:lnTo>
                  <a:pt x="1400" y="1400"/>
                </a:lnTo>
                <a:close/>
              </a:path>
              <a:path fill="darken" w="27374" h="21600">
                <a:moveTo>
                  <a:pt x="27374" y="0"/>
                </a:moveTo>
                <a:lnTo>
                  <a:pt x="27374" y="21600"/>
                </a:lnTo>
                <a:lnTo>
                  <a:pt x="25974" y="20200"/>
                </a:lnTo>
                <a:lnTo>
                  <a:pt x="25974" y="1400"/>
                </a:lnTo>
                <a:close/>
              </a:path>
              <a:path fill="darkenLess" w="27374" h="21600">
                <a:moveTo>
                  <a:pt x="27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74" y="20200"/>
                </a:lnTo>
                <a:close/>
              </a:path>
              <a:path fill="lighten" w="27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74" h="21600">
                <a:moveTo>
                  <a:pt x="6681" y="3794"/>
                </a:moveTo>
                <a:lnTo>
                  <a:pt x="20694" y="10800"/>
                </a:lnTo>
                <a:lnTo>
                  <a:pt x="66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0" t="0" r="-75" b="0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8172360" y="6093000"/>
            <a:ext cx="755640" cy="61092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6714" h="21600">
                <a:moveTo>
                  <a:pt x="0" y="0"/>
                </a:moveTo>
                <a:lnTo>
                  <a:pt x="26714" y="0"/>
                </a:lnTo>
                <a:lnTo>
                  <a:pt x="26714" y="21600"/>
                </a:lnTo>
                <a:lnTo>
                  <a:pt x="0" y="21600"/>
                </a:lnTo>
                <a:close/>
              </a:path>
              <a:path fill="lightenLess" w="26714" h="21600">
                <a:moveTo>
                  <a:pt x="0" y="0"/>
                </a:moveTo>
                <a:lnTo>
                  <a:pt x="26714" y="0"/>
                </a:lnTo>
                <a:lnTo>
                  <a:pt x="25314" y="1400"/>
                </a:lnTo>
                <a:lnTo>
                  <a:pt x="1400" y="1400"/>
                </a:lnTo>
                <a:close/>
              </a:path>
              <a:path fill="darken" w="26714" h="21600">
                <a:moveTo>
                  <a:pt x="26714" y="0"/>
                </a:moveTo>
                <a:lnTo>
                  <a:pt x="26714" y="21600"/>
                </a:lnTo>
                <a:lnTo>
                  <a:pt x="25314" y="20200"/>
                </a:lnTo>
                <a:lnTo>
                  <a:pt x="25314" y="1400"/>
                </a:lnTo>
                <a:close/>
              </a:path>
              <a:path fill="darkenLess" w="26714" h="21600">
                <a:moveTo>
                  <a:pt x="2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4" y="20200"/>
                </a:lnTo>
                <a:close/>
              </a:path>
              <a:path fill="lighten" w="2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14" h="21600">
                <a:moveTo>
                  <a:pt x="6350" y="3794"/>
                </a:moveTo>
                <a:lnTo>
                  <a:pt x="20363" y="10800"/>
                </a:lnTo>
                <a:lnTo>
                  <a:pt x="6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-75" b="0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332000" y="1916280"/>
            <a:ext cx="676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Цикло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антицикло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2" action="ppaction://hlinksldjump"/>
          </p:cNvPr>
          <p:cNvSpPr/>
          <p:nvPr/>
        </p:nvSpPr>
        <p:spPr>
          <a:xfrm>
            <a:off x="8172360" y="6093000"/>
            <a:ext cx="755640" cy="61092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6714" h="21600">
                <a:moveTo>
                  <a:pt x="0" y="0"/>
                </a:moveTo>
                <a:lnTo>
                  <a:pt x="26714" y="0"/>
                </a:lnTo>
                <a:lnTo>
                  <a:pt x="26714" y="21600"/>
                </a:lnTo>
                <a:lnTo>
                  <a:pt x="0" y="21600"/>
                </a:lnTo>
                <a:close/>
              </a:path>
              <a:path fill="lightenLess" w="26714" h="21600">
                <a:moveTo>
                  <a:pt x="0" y="0"/>
                </a:moveTo>
                <a:lnTo>
                  <a:pt x="26714" y="0"/>
                </a:lnTo>
                <a:lnTo>
                  <a:pt x="25314" y="1400"/>
                </a:lnTo>
                <a:lnTo>
                  <a:pt x="1400" y="1400"/>
                </a:lnTo>
                <a:close/>
              </a:path>
              <a:path fill="darken" w="26714" h="21600">
                <a:moveTo>
                  <a:pt x="26714" y="0"/>
                </a:moveTo>
                <a:lnTo>
                  <a:pt x="26714" y="21600"/>
                </a:lnTo>
                <a:lnTo>
                  <a:pt x="25314" y="20200"/>
                </a:lnTo>
                <a:lnTo>
                  <a:pt x="25314" y="1400"/>
                </a:lnTo>
                <a:close/>
              </a:path>
              <a:path fill="darkenLess" w="26714" h="21600">
                <a:moveTo>
                  <a:pt x="2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4" y="20200"/>
                </a:lnTo>
                <a:close/>
              </a:path>
              <a:path fill="lighten" w="2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14" h="21600">
                <a:moveTo>
                  <a:pt x="6350" y="3794"/>
                </a:moveTo>
                <a:lnTo>
                  <a:pt x="20363" y="10800"/>
                </a:lnTo>
                <a:lnTo>
                  <a:pt x="6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79280" y="549360"/>
            <a:ext cx="94330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наю                 Уме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я: *циклон          *сравнивать Ц 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антициклон   * находить 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погоду в Ц        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погоду в А     *объяснять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о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районы распрост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он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цик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 работать с источ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2987280" y="907920"/>
            <a:ext cx="158436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5148360" y="907920"/>
            <a:ext cx="143964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>
            <a:hlinkClick r:id="rId1" action="ppaction://hlinksldjump"/>
          </p:cNvPr>
          <p:cNvSpPr/>
          <p:nvPr/>
        </p:nvSpPr>
        <p:spPr>
          <a:xfrm>
            <a:off x="8317080" y="623736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3794"/>
                </a:moveTo>
                <a:lnTo>
                  <a:pt x="21146" y="10800"/>
                </a:lnTo>
                <a:lnTo>
                  <a:pt x="71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0" t="0" r="-75" b="0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23440" y="345960"/>
            <a:ext cx="83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такое циклоны и антицикл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>
            <a:hlinkClick r:id="rId2" action="ppaction://hlinksldjump"/>
          </p:cNvPr>
          <p:cNvSpPr/>
          <p:nvPr/>
        </p:nvSpPr>
        <p:spPr>
          <a:xfrm>
            <a:off x="8317080" y="623736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3794"/>
                </a:moveTo>
                <a:lnTo>
                  <a:pt x="21146" y="10800"/>
                </a:lnTo>
                <a:lnTo>
                  <a:pt x="71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3" descr=""/>
          <p:cNvPicPr/>
          <p:nvPr/>
        </p:nvPicPr>
        <p:blipFill>
          <a:blip r:embed="rId1"/>
          <a:srcRect l="53041" t="52535" r="0" b="-9"/>
          <a:stretch/>
        </p:blipFill>
        <p:spPr>
          <a:xfrm>
            <a:off x="4284720" y="2732040"/>
            <a:ext cx="4859280" cy="412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"/>
          <p:cNvPicPr/>
          <p:nvPr/>
        </p:nvPicPr>
        <p:blipFill>
          <a:blip r:embed="rId2"/>
          <a:srcRect l="0" t="0" r="52973" b="51858"/>
          <a:stretch/>
        </p:blipFill>
        <p:spPr>
          <a:xfrm>
            <a:off x="0" y="0"/>
            <a:ext cx="4859280" cy="41162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4">
            <a:hlinkClick r:id="rId3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84320" y="179280"/>
            <a:ext cx="87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а циклона и антицикл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равнитель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052640"/>
          <a:ext cx="8229600" cy="4965480"/>
        </p:xfrm>
        <a:graphic>
          <a:graphicData uri="http://schemas.openxmlformats.org/drawingml/2006/table">
            <a:tbl>
              <a:tblPr/>
              <a:tblGrid>
                <a:gridCol w="2232000"/>
                <a:gridCol w="32544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е в цент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ифер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и воздух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ог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преоблад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AutoShape 82">
            <a:hlinkClick r:id="rId1" action="ppaction://hlinksldjump"/>
          </p:cNvPr>
          <p:cNvSpPr/>
          <p:nvPr/>
        </p:nvSpPr>
        <p:spPr>
          <a:xfrm>
            <a:off x="8388360" y="6237360"/>
            <a:ext cx="539640" cy="4665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81" h="21600">
                <a:moveTo>
                  <a:pt x="5484" y="3794"/>
                </a:moveTo>
                <a:lnTo>
                  <a:pt x="19497" y="10800"/>
                </a:lnTo>
                <a:lnTo>
                  <a:pt x="54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22:44Z</dcterms:created>
  <dc:creator>user</dc:creator>
  <dc:description/>
  <dc:language>en-US</dc:language>
  <cp:lastModifiedBy>User</cp:lastModifiedBy>
  <dcterms:modified xsi:type="dcterms:W3CDTF">2011-09-21T19:04:0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0b0000000000010250300207f7000400038000</vt:lpwstr>
  </property>
</Properties>
</file>