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253-CC11-4466-87A0-5689AC59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CEB-B130-47E8-B5A5-4C5663C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889-310E-4BF8-9918-23E4117C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69A-75D9-47D3-BFF1-DA73633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7C6-989D-4E36-BA2C-E4C71D2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B49-07A7-4BC3-8D6F-950CD25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C1B-8CC0-44E5-AFD3-F10BFF29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E64-60F3-4C62-9DE5-CD2BF6F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C97-4E54-4F4A-BD96-5063CBB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C6C-46FB-493F-A46A-FDEAD55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399-899C-4130-AFC8-6F2750B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6E6-3C33-4080-B975-D4DD458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FF7-95C3-403C-AEC5-21FFF8D03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DSC06866.jpg"/>
          <p:cNvPicPr/>
          <p:nvPr/>
        </p:nvPicPr>
        <p:blipFill>
          <a:blip r:embed="rId1"/>
          <a:stretch/>
        </p:blipFill>
        <p:spPr>
          <a:xfrm>
            <a:off x="214200" y="214200"/>
            <a:ext cx="2411640" cy="321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500280" y="3286080"/>
            <a:ext cx="535788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603520" y="1725480"/>
            <a:ext cx="635148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PH01046J.JPG"/>
          <p:cNvPicPr/>
          <p:nvPr/>
        </p:nvPicPr>
        <p:blipFill>
          <a:blip r:embed="rId3"/>
          <a:stretch/>
        </p:blipFill>
        <p:spPr>
          <a:xfrm>
            <a:off x="7643880" y="3571920"/>
            <a:ext cx="107136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78604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0" t="0" r="37" b="82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0" r="-44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rcRect l="0" t="0" r="132" b="35"/>
          <a:stretch/>
        </p:blipFill>
        <p:spPr>
          <a:xfrm>
            <a:off x="457200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rcRect l="0" t="0" r="95" b="-129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rId5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13800" y="-243000"/>
            <a:ext cx="26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765000"/>
          <a:ext cx="8229600" cy="585180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часовой стрел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часовой стрел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снег, ветер, облачно, пот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дождь, ветер, облачно, похоло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морозно, ясно, без осад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жарко, ясно, без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AutoShape 118">
            <a:hlinkClick r:id="rId1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6497640" y="352440"/>
            <a:ext cx="371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864560" y="70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68360" y="4724280"/>
            <a:ext cx="25192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635280" y="4724280"/>
            <a:ext cx="25210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>
            <a:hlinkClick r:id="rId2" action="ppaction://hlinksldjump"/>
          </p:cNvPr>
          <p:cNvSpPr/>
          <p:nvPr/>
        </p:nvSpPr>
        <p:spPr>
          <a:xfrm>
            <a:off x="8675640" y="6462720"/>
            <a:ext cx="468360" cy="395280"/>
          </a:xfrm>
          <a:custGeom>
            <a:avLst/>
            <a:gdLst>
              <a:gd name="textAreaLeft" fmla="*/ 25560 w 468360"/>
              <a:gd name="textAreaRight" fmla="*/ 442800 w 468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90" h="21600">
                <a:moveTo>
                  <a:pt x="0" y="0"/>
                </a:moveTo>
                <a:lnTo>
                  <a:pt x="25590" y="0"/>
                </a:lnTo>
                <a:lnTo>
                  <a:pt x="25590" y="21600"/>
                </a:lnTo>
                <a:lnTo>
                  <a:pt x="0" y="21600"/>
                </a:lnTo>
                <a:close/>
              </a:path>
              <a:path fill="lightenLess" w="25590" h="21600">
                <a:moveTo>
                  <a:pt x="0" y="0"/>
                </a:moveTo>
                <a:lnTo>
                  <a:pt x="25590" y="0"/>
                </a:lnTo>
                <a:lnTo>
                  <a:pt x="24190" y="1400"/>
                </a:lnTo>
                <a:lnTo>
                  <a:pt x="1400" y="1400"/>
                </a:lnTo>
                <a:close/>
              </a:path>
              <a:path fill="darken" w="25590" h="21600">
                <a:moveTo>
                  <a:pt x="25590" y="0"/>
                </a:moveTo>
                <a:lnTo>
                  <a:pt x="25590" y="21600"/>
                </a:lnTo>
                <a:lnTo>
                  <a:pt x="24190" y="20200"/>
                </a:lnTo>
                <a:lnTo>
                  <a:pt x="24190" y="1400"/>
                </a:lnTo>
                <a:close/>
              </a:path>
              <a:path fill="darkenLess" w="25590" h="21600">
                <a:moveTo>
                  <a:pt x="25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" y="20200"/>
                </a:lnTo>
                <a:close/>
              </a:path>
              <a:path fill="lighten" w="25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0" h="21600">
                <a:moveTo>
                  <a:pt x="5788" y="3794"/>
                </a:moveTo>
                <a:lnTo>
                  <a:pt x="19801" y="10800"/>
                </a:lnTo>
                <a:lnTo>
                  <a:pt x="57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5650" r="28046" b="30698"/>
          <a:stretch/>
        </p:blipFill>
        <p:spPr>
          <a:xfrm>
            <a:off x="395280" y="1197000"/>
            <a:ext cx="8353440" cy="5297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9640" y="2421000"/>
            <a:ext cx="8172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936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641280" y="32259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340000" y="450864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411280" y="443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412720" y="5367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858000" y="4233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87852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542160" y="333360"/>
            <a:ext cx="8257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бщего между цикло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погода связана с прих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онов?  Антицикл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ом направлении чаще вс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утся циклоны на запа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их районах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ладает циклон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льная пог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температуры воздуха по терри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отличия в распределении летних и зимних температур воздуха по территории России (с. 14 – 15 атл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причины различий в температурах воздуха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зональных и азональных факторов, влияющих на распределение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-75" b="164"/>
          <a:stretch/>
        </p:blipFill>
        <p:spPr>
          <a:xfrm>
            <a:off x="0" y="0"/>
            <a:ext cx="5364000" cy="434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0" t="0" r="0" b="-37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rcRect l="0" t="0" r="0" b="167"/>
          <a:stretch/>
        </p:blipFill>
        <p:spPr>
          <a:xfrm>
            <a:off x="0" y="3282840"/>
            <a:ext cx="4716360" cy="35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635080" y="279360"/>
            <a:ext cx="304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ъяс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люса хол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шар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о-Вост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181800" y="26028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помните тему сегодняшнего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162864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оставьте 3 вопроса разного уровня сложности по изученной теме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дайте вопросы ребятам в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§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20, 21 Ответить на вопросы устно стр. 61,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ыявите черты сходства и отличия температуры лета и зимы в Москве. Ханты-Мансийске, Чите, Влади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ак проявляется  зависимость размещения населения России от температурного режима территор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532720" y="639144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7141" y="3794"/>
                </a:moveTo>
                <a:lnTo>
                  <a:pt x="21154" y="10800"/>
                </a:lnTo>
                <a:lnTo>
                  <a:pt x="71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76500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атмосферный фро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тепл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тепл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холодн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холодн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ажно знать над какой территорией они формиру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8101080" y="609300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Оцените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ния, полученные на уроке, мне пригодятс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rcRect l="0" t="0" r="31" b="-79"/>
          <a:stretch/>
        </p:blipFill>
        <p:spPr>
          <a:xfrm>
            <a:off x="3382920" y="3197160"/>
            <a:ext cx="5761080" cy="366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635280" y="357336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Желаю успешн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о новых встр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-159480" y="692280"/>
            <a:ext cx="978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каких условиях возникаю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е мощные атмосфер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ро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Какой фронт формируется меж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ктическим и умеренным воздух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севере нашей стр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воздушные массы разде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ярный фро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Какие фронты назыв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8244000" y="6093000"/>
            <a:ext cx="684000" cy="53964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74" h="21600">
                <a:moveTo>
                  <a:pt x="0" y="0"/>
                </a:moveTo>
                <a:lnTo>
                  <a:pt x="27374" y="0"/>
                </a:lnTo>
                <a:lnTo>
                  <a:pt x="27374" y="21600"/>
                </a:lnTo>
                <a:lnTo>
                  <a:pt x="0" y="21600"/>
                </a:lnTo>
                <a:close/>
              </a:path>
              <a:path fill="lightenLess" w="27374" h="21600">
                <a:moveTo>
                  <a:pt x="0" y="0"/>
                </a:moveTo>
                <a:lnTo>
                  <a:pt x="27374" y="0"/>
                </a:lnTo>
                <a:lnTo>
                  <a:pt x="25974" y="1400"/>
                </a:lnTo>
                <a:lnTo>
                  <a:pt x="1400" y="1400"/>
                </a:lnTo>
                <a:close/>
              </a:path>
              <a:path fill="darken" w="27374" h="21600">
                <a:moveTo>
                  <a:pt x="27374" y="0"/>
                </a:moveTo>
                <a:lnTo>
                  <a:pt x="27374" y="21600"/>
                </a:lnTo>
                <a:lnTo>
                  <a:pt x="25974" y="20200"/>
                </a:lnTo>
                <a:lnTo>
                  <a:pt x="25974" y="1400"/>
                </a:lnTo>
                <a:close/>
              </a:path>
              <a:path fill="darkenLess" w="27374" h="21600">
                <a:moveTo>
                  <a:pt x="27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4" y="20200"/>
                </a:lnTo>
                <a:close/>
              </a:path>
              <a:path fill="lighten" w="27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4" h="21600">
                <a:moveTo>
                  <a:pt x="6681" y="3794"/>
                </a:moveTo>
                <a:lnTo>
                  <a:pt x="20694" y="10800"/>
                </a:lnTo>
                <a:lnTo>
                  <a:pt x="6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332000" y="1916280"/>
            <a:ext cx="67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анти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9280" y="549360"/>
            <a:ext cx="9433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наю                 Уме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я: *циклон          *сравнивать Ц 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антициклон   * находить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Ц       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А     *объяснять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районы распрост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работать с источ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987280" y="907920"/>
            <a:ext cx="158436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148360" y="907920"/>
            <a:ext cx="14396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1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3440" y="345960"/>
            <a:ext cx="83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циклоны и антицикл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rId2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3" descr=""/>
          <p:cNvPicPr/>
          <p:nvPr/>
        </p:nvPicPr>
        <p:blipFill>
          <a:blip r:embed="rId1"/>
          <a:srcRect l="53041" t="52535" r="0" b="-9"/>
          <a:stretch/>
        </p:blipFill>
        <p:spPr>
          <a:xfrm>
            <a:off x="4284720" y="2732040"/>
            <a:ext cx="4859280" cy="412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"/>
          <p:cNvPicPr/>
          <p:nvPr/>
        </p:nvPicPr>
        <p:blipFill>
          <a:blip r:embed="rId2"/>
          <a:srcRect l="0" t="0" r="52973" b="51858"/>
          <a:stretch/>
        </p:blipFill>
        <p:spPr>
          <a:xfrm>
            <a:off x="0" y="0"/>
            <a:ext cx="4859280" cy="41162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4">
            <a:hlinkClick r:id="rId3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4320" y="179280"/>
            <a:ext cx="87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циклона и антицикл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равните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052640"/>
          <a:ext cx="8229600" cy="496548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82">
            <a:hlinkClick r:id="rId1" action="ppaction://hlinksldjump"/>
          </p:cNvPr>
          <p:cNvSpPr/>
          <p:nvPr/>
        </p:nvSpPr>
        <p:spPr>
          <a:xfrm>
            <a:off x="8388360" y="6237360"/>
            <a:ext cx="539640" cy="4665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81" h="21600">
                <a:moveTo>
                  <a:pt x="5484" y="3794"/>
                </a:moveTo>
                <a:lnTo>
                  <a:pt x="19497" y="10800"/>
                </a:lnTo>
                <a:lnTo>
                  <a:pt x="54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22:44Z</dcterms:created>
  <dc:creator>user</dc:creator>
  <dc:description/>
  <dc:language>en-US</dc:language>
  <cp:lastModifiedBy>User</cp:lastModifiedBy>
  <dcterms:modified xsi:type="dcterms:W3CDTF">2011-09-21T19:04:0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b0000000000010250300207f7000400038000</vt:lpwstr>
  </property>
</Properties>
</file>