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3E06-6D37-4A3A-BE87-BE7B790A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2EC-EE21-4CFC-AF92-8156F829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2D5-2B9C-44AC-8E4B-1C697A75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468-4E45-4A83-94A1-9D17D228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A49F-522E-46DB-82D8-C50AA251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10CD-AF43-48F0-AD3A-F05BD3D9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9F73-8E16-4CD8-B736-F1845E08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D71B-8418-4D56-80D9-88804B9C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3635-E7FF-4DEA-9302-1C26C7D2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2F0A-C39F-4AA8-B2CB-83F93F30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F7AE-6694-4ED5-944F-301CA444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555-7A3E-42A7-8756-4DB46384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EC0F-3BB5-473A-A221-D4A16673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F713-A014-4265-B8C9-285DDB16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ECC9-3FC3-4070-9DED-02B04204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7D42-9E61-4D8D-BDD4-230FA163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BE4B-C755-4DC7-BABC-272DEEB0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ADF-BC58-4679-AD78-0ED64E44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7CF-3B90-4634-935A-2C137B08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61C-F32F-42D1-B18D-693D9898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7F2A-9D1D-4D20-B930-410F8B60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01B-912F-4B3D-98AF-43D97BBA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79C-E978-4D3E-9F8A-22DF2456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C1D4-F5D4-4F82-BF7E-6A19EA41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8B08-8D98-495A-A4D9-653CFA8C88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6F80-F213-4BEE-9EE6-581D0EF303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urzim.ru/uploads/posts/2010-10/1288205757_chukotsko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11.nnm.ru/0/3/6/f/3/e27933ff661ced0170278722c79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ictionbook.ru/static/bookimages/00/09/01/00090178.bin.dir/h/b03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Чукотское море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готовила Кускова Анастас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Чукотском море довольно редко бывают волнения. Чаше всего они происходят осенью, при этом волнения в море достигают 5 – 7 баллов. Большие волны здесь не образуются, так как море отличается небольшими глубинами и практически все воды покрыты льдом. Ледяной покров существует на Чукотском море весь год. В холодный период лед полностью сковывает воду, и лишь вдали от берега наблюдаются плавучие льдины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Промышленность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Чукотском море практически не развито рыболовство и охота на морского зверя. По просторам этого моря осуществляются транспортные перевозки. В основном это транзитный груза обмен, иногда осуществляются перевозки через Певек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Экологические проблем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укотское море расположено достаточно далеко от основных больших индустриальных центров. В связи с этим серьезных нарушений в экологии этого моря не наблюдаются. Единственным сильным источником загрязнения являются поды, поступающие из Северной Америки. Эти водные потоки содержат большое количество аэрозольных материалов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Значение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укотское море имеет очень важное коммуникационное значение, так как здесь пересекаются морские пути, идущие вдоль северных берегов Азии и через Северо-Западный проход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Чукотское мор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укотское море среди российских арктических морей имеет самое восточное расположение. Границами этого моря служат как условные линии, так и суша. Чукотское море несколько вытянуто к северу-западу. Это море беспрепятственно связано с водами Северного Ледовитого океана. По своему географическому положению оно принадлежит к типу материковых окраинных морей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Чукотское море"/>
          <p:cNvPicPr/>
          <p:nvPr/>
        </p:nvPicPr>
        <p:blipFill>
          <a:blip r:embed="rId1"/>
          <a:stretch/>
        </p:blipFill>
        <p:spPr>
          <a:xfrm>
            <a:off x="2050920" y="2060640"/>
            <a:ext cx="561672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ды Чукотского моря расположены на территории, площадь которой составляет около 595 тысяч км2. Его воды имеют объем примерно 42 тысячи км3. Средняя глубина моря составляет 71 м, максимальная – 1256 м. В водах Чукотского моря расположено мало островов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Картинка 1 из 37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989000"/>
            <a:ext cx="63374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Рельеф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рельефе береговой линии преобладают горы. На восточном побережье острова Врангеля имеются небольшие холмы, с обрывистыми склонами. На северном побережье американского и азиатского материков расположены горы, которые находятся вдали от побережья. Между горами и водой имеются песчаные косы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льеф дна Чукотского моря преимущественно ровный. Лишь иногда дно моря пересекают углубления и возвышенности. Наиболее частая глубина моря составляет 50 м. Самые глубоководные места не превышают 200 м. Центральная часть моря несколько ниже, чем ее окраины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Картинка 37 из 37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1916280"/>
            <a:ext cx="54738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Климат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специфику климата Чукотского моря оказали влияние следующие факторы: расположение моря в высоких широтах, постоянный контакт с Арктическим бассейном, близость двух материков (Азии и Америки), близкое соседство Тихого океана. В целом климат Чукотского моря можно охарактеризовать как полярный морской. Пространство Чукотского моря получает маленькое количество солнечного тепла. В течение года происходят незначительные изменения температуры воздуха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Картинка 162 из 37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333360"/>
            <a:ext cx="409896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03:31:53Z</dcterms:created>
  <dc:creator>пк</dc:creator>
  <dc:description/>
  <dc:language>en-US</dc:language>
  <cp:lastModifiedBy>пк</cp:lastModifiedBy>
  <dcterms:modified xsi:type="dcterms:W3CDTF">2012-03-09T03:46:59Z</dcterms:modified>
  <cp:revision>2</cp:revision>
  <dc:subject/>
  <dc:title>Чукотское море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40000000000010250300207f7000400038000</vt:lpwstr>
  </property>
</Properties>
</file>