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058A-D8D2-47D5-BE49-3230A146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A10-41B7-41EA-AB1D-3C34BD69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69E-A2C0-4AC0-90E8-52E3EEEF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A29-60EC-4EF6-8AE2-BA7B904E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F4E0-F942-4446-97DC-C5BAC6CD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9938-22BD-4D8A-9E41-03346BF4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C43A-890D-4137-B25F-39595B66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ACA4-2CB7-46C3-A1FA-AB70F94F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970E-688A-47A0-AF02-C34725FA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88AB-E2F5-49CF-90AF-D9D0F358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5C72-8660-48EB-BD44-FE758066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9A33-A9C5-40BB-B563-99523AE6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8D47-808D-438C-B812-4959E3EE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50D8-6D7A-4FBA-8F86-CF814CC0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D7C5-0BBC-44D8-9737-4F56D9CA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8395-2849-48BC-9AC9-C8CD800F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ADEC-4E34-4BF4-A459-4B0A364A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8C5-292D-45DE-9210-E8EFAC8D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0AF-CF1B-4FF7-8680-091270E8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1BE-2492-4467-A73C-64664D3B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3C0-D2A9-4FC2-9069-DE773918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59C-0D9C-4814-9BDC-C8CF16D9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B638-EB10-4192-9367-DE642347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EEC4-16E8-405E-AD6A-06DC4438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2F4D-CD02-4D77-B39C-9AB56DEAC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6D55-B417-430D-9C32-A7249F4A4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urzim.ru/uploads/posts/2010-10/1288205757_chukotsko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11.nnm.ru/0/3/6/f/3/e27933ff661ced0170278722c79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ictionbook.ru/static/bookimages/00/09/01/00090178.bin.dir/h/b03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Чукотское море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готовила Кускова Анастас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Чукотском море довольно редко бывают волнения. Чаше всего они происходят осенью, при этом волнения в море достигают 5 – 7 баллов. Большие волны здесь не образуются, так как море отличается небольшими глубинами и практически все воды покрыты льдом. Ледяной покров существует на Чукотском море весь год. В холодный период лед полностью сковывает воду, и лишь вдали от берега наблюдаются плавучие льдины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Промышленность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Чукотском море практически не развито рыболовство и охота на морского зверя. По просторам этого моря осуществляются транспортные перевозки. В основном это транзитный груза обмен, иногда осуществляются перевозки через Певек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Экологические проблем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укотское море расположено достаточно далеко от основных больших индустриальных центров. В связи с этим серьезных нарушений в экологии этого моря не наблюдаются. Единственным сильным источником загрязнения являются поды, поступающие из Северной Америки. Эти водные потоки содержат большое количество аэрозольных материалов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начение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укотское море имеет очень важное коммуникационное значение, так как здесь пересекаются морские пути, идущие вдоль северных берегов Азии и через Северо-Западный проход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Чукотское мор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укотское море среди российских арктических морей имеет самое восточное расположение. Границами этого моря служат как условные линии, так и суша. Чукотское море несколько вытянуто к северу-западу. Это море беспрепятственно связано с водами Северного Ледовитого океана. По своему географическому положению оно принадлежит к типу материковых окраинных морей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Чукотское море"/>
          <p:cNvPicPr/>
          <p:nvPr/>
        </p:nvPicPr>
        <p:blipFill>
          <a:blip r:embed="rId1"/>
          <a:stretch/>
        </p:blipFill>
        <p:spPr>
          <a:xfrm>
            <a:off x="2050920" y="2060640"/>
            <a:ext cx="561672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ды Чукотского моря расположены на территории, площадь которой составляет около 595 тысяч км2. Его воды имеют объем примерно 42 тысячи км3. Средняя глубина моря составляет 71 м, максимальная – 1256 м. В водах Чукотского моря расположено мало островов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Картинка 1 из 37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989000"/>
            <a:ext cx="63374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Рельеф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рельефе береговой линии преобладают горы. На восточном побережье острова Врангеля имеются небольшие холмы, с обрывистыми склонами. На северном побережье американского и азиатского материков расположены горы, которые находятся вдали от побережья. Между горами и водой имеются песчаные косы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льеф дна Чукотского моря преимущественно ровный. Лишь иногда дно моря пересекают углубления и возвышенности. Наиболее частая глубина моря составляет 50 м. Самые глубоководные места не превышают 200 м. Центральная часть моря несколько ниже, чем ее окраины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Картинка 37 из 37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1916280"/>
            <a:ext cx="54738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Климат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специфику климата Чукотского моря оказали влияние следующие факторы: расположение моря в высоких широтах, постоянный контакт с Арктическим бассейном, близость двух материков (Азии и Америки), близкое соседство Тихого океана. В целом климат Чукотского моря можно охарактеризовать как полярный морской. Пространство Чукотского моря получает маленькое количество солнечного тепла. В течение года происходят незначительные изменения температуры воздуха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Картинка 162 из 37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333360"/>
            <a:ext cx="409896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03:31:53Z</dcterms:created>
  <dc:creator>пк</dc:creator>
  <dc:description/>
  <dc:language>en-US</dc:language>
  <cp:lastModifiedBy>пк</cp:lastModifiedBy>
  <dcterms:modified xsi:type="dcterms:W3CDTF">2012-03-09T03:46:59Z</dcterms:modified>
  <cp:revision>2</cp:revision>
  <dc:subject/>
  <dc:title>Чукотское море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40000000000010250300207f7000400038000</vt:lpwstr>
  </property>
</Properties>
</file>