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25B-51E8-4D9F-8BCB-D1883E7C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E5E-C566-41C9-8462-DDA2451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487-EE41-4B80-8C81-7B0B8529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94C-1ACB-4195-8801-A48D2FEE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621A-6391-47A2-8833-EAC2790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EC4-2673-4425-88C1-393A959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8D75-30A4-45CC-91C9-05219607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750-90A6-4199-BAAB-1EF053C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55F-3C8B-4185-A6F4-E0493205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BA8-413E-412C-8119-991FA3A1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C05-6AC2-4769-A220-0E7083E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040-A948-4616-ABCA-01C6496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A04-23D2-4898-9C23-850874F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440F-1D44-49AE-A978-49E9CD7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1AB4-3180-47D1-A01F-6AA0DAF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407-AB2F-4943-912D-669AEBCC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640-B657-40DB-BABF-CEE2CA82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FFC-B5A1-4EAC-88C9-8940065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8C2-EFE1-49A2-9C9F-DC1A2B46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60B-27DC-4F91-BD35-54FDBA5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6C5-B7B1-4C50-8E31-CC2B5D9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C3C-19BB-4860-8C5F-A82EF2F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E00-C374-443E-9D3D-D9F3F69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AEE-CC73-4DD9-952E-315D986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A39-117D-42C9-AA23-10B9378C8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7DDD-B7BE-439C-BA85-208E0A686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urzim.ru/uploads/posts/2010-10/1288205757_chukotsko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1.nnm.ru/0/3/6/f/3/e27933ff661ced0170278722c79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ctionbook.ru/static/bookimages/00/09/01/00090178.bin.dir/h/b03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товила Кускова Анаста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укотском море довольно редко бывают волнения. Чаше всего они происходят осенью, при этом волнения в море достигают 5 – 7 баллов. Большие волны здесь не образуются, так как море отличается небольшими глубинами и практически все воды покрыты льдом. Ледяной покров существует на Чукотском море весь год. В холодный период лед полностью сковывает воду, и лишь вдали от берега наблюдаются плавучие льдины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омышленность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Чукотском море практически не развито рыболовство и охота на морского зверя. По просторам этого моря осуществляются транспортные перевозки. В основном это транзитный груза обмен, иногда осуществляются перевозки через Певек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укотское море расположено достаточно далеко от основных больших индустриальных центров. В связи с этим серьезных нарушений в экологии этого моря не наблюдаются. Единственным сильным источником загрязнения являются поды, поступающие из Северной Америки. Эти водные потоки содержат большое количество аэрозольных материалов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чение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укотское море имеет очень важное коммуникационное значение, так как здесь пересекаются морские пути, идущие вдоль северных берегов Азии и через Северо-Западный проход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котское море среди российских арктических морей имеет самое восточное расположение. Границами этого моря служат как условные линии, так и суша. Чукотское море несколько вытянуто к северу-западу. Это море беспрепятственно связано с водами Северного Ледовитого океана. По своему географическому положению оно принадлежит к типу материковых окраинных морей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Чукотское море"/>
          <p:cNvPicPr/>
          <p:nvPr/>
        </p:nvPicPr>
        <p:blipFill>
          <a:blip r:embed="rId1"/>
          <a:stretch/>
        </p:blipFill>
        <p:spPr>
          <a:xfrm>
            <a:off x="2050920" y="2060640"/>
            <a:ext cx="561672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ы Чукотского моря расположены на территории, площадь которой составляет около 595 тысяч км2. Его воды имеют объем примерно 42 тысячи км3. Средняя глубина моря составляет 71 м, максимальная – 1256 м. В водах Чукотского моря расположено мало островов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1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989000"/>
            <a:ext cx="63374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ельеф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ельефе береговой линии преобладают горы. На восточном побережье острова Врангеля имеются небольшие холмы, с обрывистыми склонами. На северном побережье американского и азиатского материков расположены горы, которые находятся вдали от побережья. Между горами и водой имеются песчаные косы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дна Чукотского моря преимущественно ровный. Лишь иногда дно моря пересекают углубления и возвышенности. Наиболее частая глубина моря составляет 50 м. Самые глубоководные места не превышают 200 м. Центральная часть моря несколько ниже, чем ее окраи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37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5473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Климат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пецифику климата Чукотского моря оказали влияние следующие факторы: расположение моря в высоких широтах, постоянный контакт с Арктическим бассейном, близость двух материков (Азии и Америки), близкое соседство Тихого океана. В целом климат Чукотского моря можно охарактеризовать как полярный морской. Пространство Чукотского моря получает маленькое количество солнечного тепла. В течение года происходят незначительные изменения температуры воздуха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162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40989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3:31:53Z</dcterms:created>
  <dc:creator>пк</dc:creator>
  <dc:description/>
  <dc:language>en-US</dc:language>
  <cp:lastModifiedBy>пк</cp:lastModifiedBy>
  <dcterms:modified xsi:type="dcterms:W3CDTF">2012-03-09T03:46:59Z</dcterms:modified>
  <cp:revision>2</cp:revision>
  <dc:subject/>
  <dc:title>Чукотское мор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40000000000010250300207f7000400038000</vt:lpwstr>
  </property>
</Properties>
</file>