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0E41-0DBF-4CBE-94AA-254EF5F4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78F-5C2D-409C-914C-52CCB22D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90A-53B2-4495-8433-66AF51D9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F7C-5B0D-47FD-BEE4-4D9D36F5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EB4B-43F7-4A5E-B75E-8952DD98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1C2C-D004-49D7-ABF6-AAFF4961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BE28-60D8-4023-B09C-DEDAD4BE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D9E7-1201-446B-AE91-A419720B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A343-B230-484F-A7D7-B7096529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EE4E-6607-4C04-BB1E-AE6FF8F6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4E15-D951-49A7-B053-0FA3DD6A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A69-F929-4281-9B05-3CCB7D26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25E1-AECF-472D-BF8C-4015163D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4CB3-7727-462F-A63D-0142DCE0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8F4D-21DB-46CF-B7F3-FEE4BBCB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9009-02D6-4CFA-B5FE-20D3324B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768A-371F-48CE-8908-6E0EBEB2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DA5B-24F0-4A5B-BC01-6628B711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CE8-35CD-46C4-929B-557650FA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AAA-766B-4E18-9B66-427B6663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8B1-ED18-4DF1-81A7-11A9C4BC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5D0-7898-40BB-9534-D534D77A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6CC-D2C4-4BF8-ADF5-4E089482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BC2-4139-4C91-AE8F-AE548FE6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187B-FEBC-4E21-85DC-E60AE8F35D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0361-7316-447C-9DE3-C6C1834FE1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6" descr="1"/>
          <p:cNvPicPr/>
          <p:nvPr/>
        </p:nvPicPr>
        <p:blipFill>
          <a:blip r:embed="rId1"/>
          <a:stretch/>
        </p:blipFill>
        <p:spPr>
          <a:xfrm>
            <a:off x="1187280" y="-127080"/>
            <a:ext cx="6985080" cy="6985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2f2f2"/>
                </a:solidFill>
                <a:latin typeface="Garamond"/>
              </a:rPr>
              <a:t>Численность населения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Garamond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Второй демографический кризис (1933-1934)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600200"/>
            <a:ext cx="874872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Был вызван насильственной коллективизацией, в результате вызвала голод (5-6 млн человек)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1800" y="-184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8" name="Picture 2" descr="http://www.polit.ru/img/content/idea/demography_1.gif"/>
          <p:cNvPicPr/>
          <p:nvPr/>
        </p:nvPicPr>
        <p:blipFill>
          <a:blip r:embed="rId1"/>
          <a:stretch/>
        </p:blipFill>
        <p:spPr>
          <a:xfrm>
            <a:off x="324000" y="3540240"/>
            <a:ext cx="85690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Третий демографический кризис (1941-1946)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7640" y="1600200"/>
            <a:ext cx="4032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Выпал на годы ВОВ, потери населения с учетом снижения рождаемости составили 21-27 млн чел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211640" y="1773360"/>
          <a:ext cx="4680000" cy="4771800"/>
        </p:xfrm>
        <a:graphic>
          <a:graphicData uri="http://schemas.openxmlformats.org/drawingml/2006/table">
            <a:tbl>
              <a:tblPr/>
              <a:tblGrid>
                <a:gridCol w="1170000"/>
                <a:gridCol w="1170000"/>
                <a:gridCol w="1170000"/>
                <a:gridCol w="1170000"/>
              </a:tblGrid>
              <a:tr h="657720"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втор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ата публ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ямые людские поте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ефицит ро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. Тимаш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. Урла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. Кург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4460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Е. Андреев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0, 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657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Л. Рыбак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. Сивар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. Кв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. Максу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,5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. Грив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657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. Вишне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. Соко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-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. Соко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. Исуп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ыше 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выше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</a:tbl>
          </a:graphicData>
        </a:graphic>
      </p:graphicFrame>
      <p:sp>
        <p:nvSpPr>
          <p:cNvPr id="152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Четвертый демографический кризис (1990-     )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7640" y="1600200"/>
            <a:ext cx="878508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В 1990 годы началось постепенное сокращение населения России – из-за снижения рождаемости и роста смерт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5" name="Picture 2" descr="Картинка 21 из 284"/>
          <p:cNvPicPr/>
          <p:nvPr/>
        </p:nvPicPr>
        <p:blipFill>
          <a:blip r:embed="rId1"/>
          <a:stretch/>
        </p:blipFill>
        <p:spPr>
          <a:xfrm>
            <a:off x="3348000" y="3728880"/>
            <a:ext cx="5675400" cy="3009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Картинка 18 из 284"/>
          <p:cNvPicPr/>
          <p:nvPr/>
        </p:nvPicPr>
        <p:blipFill>
          <a:blip r:embed="rId2"/>
          <a:stretch/>
        </p:blipFill>
        <p:spPr>
          <a:xfrm>
            <a:off x="539640" y="4292640"/>
            <a:ext cx="1909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www.polit.ru/img/content/idea/demography_10.gif"/>
          <p:cNvPicPr/>
          <p:nvPr/>
        </p:nvPicPr>
        <p:blipFill>
          <a:blip r:embed="rId1"/>
          <a:stretch/>
        </p:blipFill>
        <p:spPr>
          <a:xfrm>
            <a:off x="0" y="1700280"/>
            <a:ext cx="9155160" cy="5157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Гипотетическая численность населения России при отсутствии потерь вследствие демографических катастроф первой половины и кризиса смертности последней трети ХХ века в сравнении в фактической численностью, 1900-2000, млн. человек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Picture 2" descr="Картинка 11 из 284"/>
          <p:cNvPicPr/>
          <p:nvPr/>
        </p:nvPicPr>
        <p:blipFill>
          <a:blip r:embed="rId1"/>
          <a:stretch/>
        </p:blipFill>
        <p:spPr>
          <a:xfrm>
            <a:off x="324000" y="260280"/>
            <a:ext cx="847224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Демографические потери России в ХХ в. колоссальны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2" name="Picture 2" descr="Картинка 9 из 284"/>
          <p:cNvPicPr/>
          <p:nvPr/>
        </p:nvPicPr>
        <p:blipFill>
          <a:blip r:embed="rId1"/>
          <a:stretch/>
        </p:blipFill>
        <p:spPr>
          <a:xfrm>
            <a:off x="6084720" y="5229360"/>
            <a:ext cx="2606760" cy="1514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Картинка 5 из 284"/>
          <p:cNvPicPr/>
          <p:nvPr/>
        </p:nvPicPr>
        <p:blipFill>
          <a:blip r:embed="rId2"/>
          <a:stretch/>
        </p:blipFill>
        <p:spPr>
          <a:xfrm>
            <a:off x="0" y="3573360"/>
            <a:ext cx="5238720" cy="3162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Картинка 17 из 64000"/>
          <p:cNvPicPr/>
          <p:nvPr/>
        </p:nvPicPr>
        <p:blipFill>
          <a:blip r:embed="rId3"/>
          <a:stretch/>
        </p:blipFill>
        <p:spPr>
          <a:xfrm>
            <a:off x="5651640" y="1812960"/>
            <a:ext cx="3378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Домашнее задание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Читать § 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Отвечать на вопросы стр. 34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Письменно зад. 9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Picture 2" descr="Картинка 14 из 284"/>
          <p:cNvPicPr/>
          <p:nvPr/>
        </p:nvPicPr>
        <p:blipFill>
          <a:blip r:embed="rId1"/>
          <a:stretch/>
        </p:blipFill>
        <p:spPr>
          <a:xfrm>
            <a:off x="5724360" y="2708280"/>
            <a:ext cx="2857680" cy="4029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Картинка 30 из 284"/>
          <p:cNvPicPr/>
          <p:nvPr/>
        </p:nvPicPr>
        <p:blipFill>
          <a:blip r:embed="rId2"/>
          <a:stretch/>
        </p:blipFill>
        <p:spPr>
          <a:xfrm>
            <a:off x="4859280" y="765000"/>
            <a:ext cx="32036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Garamond"/>
              </a:rPr>
              <a:t>Цель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640" y="2060280"/>
            <a:ext cx="6119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Garamond"/>
              </a:rPr>
              <a:t>Познакомиться с численностью населения, определить причины, влияющие на изменения численности населения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Garamond"/>
              </a:rPr>
              <a:t>Дать определение понятий «демографический кризис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0" name="Рисунок 4" descr="j4.gif"/>
          <p:cNvPicPr/>
          <p:nvPr/>
        </p:nvPicPr>
        <p:blipFill>
          <a:blip r:embed="rId2"/>
          <a:stretch/>
        </p:blipFill>
        <p:spPr>
          <a:xfrm>
            <a:off x="5940360" y="3068640"/>
            <a:ext cx="236376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2ddd4"/>
                </a:solidFill>
                <a:latin typeface="Garamond"/>
              </a:rPr>
              <a:t>Человек – высшая ценность на Земле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Какова численность населения России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Какое место занимает Россия среди других стран мира по численности населения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Как можно получить сведения о численности и составе населения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Как изменяется численность населения России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Что такое демографический кризис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Garamond"/>
              </a:rPr>
              <a:t>Нас 144 млн человек (2002г.)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5" name="Picture 6" descr="Картинка 1 из 64000"/>
          <p:cNvPicPr/>
          <p:nvPr/>
        </p:nvPicPr>
        <p:blipFill>
          <a:blip r:embed="rId2"/>
          <a:stretch/>
        </p:blipFill>
        <p:spPr>
          <a:xfrm>
            <a:off x="1042920" y="1197000"/>
            <a:ext cx="6985080" cy="55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78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Garamond"/>
              </a:rPr>
              <a:t>Россия занимает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8 место </a:t>
            </a:r>
            <a:r>
              <a:rPr b="1" lang="ru-RU" sz="4400" spc="-1" strike="noStrike">
                <a:solidFill>
                  <a:srgbClr val="f2f2f2"/>
                </a:solidFill>
                <a:latin typeface="Garamond"/>
              </a:rPr>
              <a:t>в мире по численности населения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2205000"/>
            <a:ext cx="4968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Garamond"/>
              </a:rPr>
              <a:t>Первая перепись населения прошла в России в 1897 г. под руководством П.П.Семенова-Тян-Шанского (67,5 млн чел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Garamond"/>
              </a:rPr>
              <a:t>Последняя перепись прошла в 2002 г. (144 млн чел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9" name="Picture 6" descr="Картинка 2 из 64000"/>
          <p:cNvPicPr/>
          <p:nvPr/>
        </p:nvPicPr>
        <p:blipFill>
          <a:blip r:embed="rId2"/>
          <a:stretch/>
        </p:blipFill>
        <p:spPr>
          <a:xfrm>
            <a:off x="5003640" y="3068640"/>
            <a:ext cx="397224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2ddd4"/>
                </a:solidFill>
                <a:latin typeface="Garamond"/>
              </a:rPr>
              <a:t>ЕП=Р - С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1599840"/>
            <a:ext cx="4751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Изменение численности населения связано с естественным приростом населения, который определяется соотношением родившихся и умерших жителей страны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Picture 4" descr="Картинка 7 из 1994"/>
          <p:cNvPicPr/>
          <p:nvPr/>
        </p:nvPicPr>
        <p:blipFill>
          <a:blip r:embed="rId1"/>
          <a:stretch/>
        </p:blipFill>
        <p:spPr>
          <a:xfrm>
            <a:off x="4859280" y="2133720"/>
            <a:ext cx="4132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ddd4"/>
                </a:solidFill>
                <a:latin typeface="Garamond"/>
              </a:rPr>
              <a:t>Динамика естественного прироста населения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317600"/>
          <a:ext cx="8640720" cy="4559400"/>
        </p:xfrm>
        <a:graphic>
          <a:graphicData uri="http://schemas.openxmlformats.org/drawingml/2006/table">
            <a:tbl>
              <a:tblPr/>
              <a:tblGrid>
                <a:gridCol w="820800"/>
                <a:gridCol w="2449440"/>
                <a:gridCol w="1719360"/>
                <a:gridCol w="1922400"/>
                <a:gridCol w="1728720"/>
              </a:tblGrid>
              <a:tr h="78120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ожда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мер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Естест.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уммарная рожда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2048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190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208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190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208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190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190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208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19040"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53640" rIns="53640" tIns="26640" bIns="26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640" marR="53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</a:tbl>
          </a:graphicData>
        </a:graphic>
      </p:graphicFrame>
      <p:sp>
        <p:nvSpPr>
          <p:cNvPr id="135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108000" y="6093000"/>
            <a:ext cx="8928000" cy="765000"/>
          </a:xfrm>
          <a:prstGeom prst="rect">
            <a:avLst/>
          </a:prstGeom>
          <a:solidFill>
            <a:srgbClr val="f2f2f2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Вывод: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Численность населения России с 1990 гг. стала падать. А естественный прирост с 1991 г. стал отрицательным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-83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96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-83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96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Garamond"/>
              </a:rPr>
              <a:t>Демографический кризис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3419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Garamond"/>
              </a:rPr>
              <a:t>   </a:t>
            </a:r>
            <a:r>
              <a:rPr b="0" lang="ru-RU" sz="4000" spc="-1" strike="noStrike">
                <a:solidFill>
                  <a:srgbClr val="f2f2f2"/>
                </a:solidFill>
                <a:latin typeface="Garamond"/>
              </a:rPr>
              <a:t>-это резкое снижение численности населения страны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0" name="Picture 6" descr="Картинка 19 из 3100"/>
          <p:cNvPicPr/>
          <p:nvPr/>
        </p:nvPicPr>
        <p:blipFill>
          <a:blip r:embed="rId2"/>
          <a:stretch/>
        </p:blipFill>
        <p:spPr>
          <a:xfrm>
            <a:off x="3462480" y="1739880"/>
            <a:ext cx="550224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Первый демографический кризис (1914-1922)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412640"/>
            <a:ext cx="4788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Был связан с Первой мировой войной, революцией и Гражданской войной, которые сопровождались хозяйственной разрухой, голодом и эмиграцие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Россия потеряла около 18 млн человек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751280" y="1628640"/>
          <a:ext cx="4392720" cy="4896000"/>
        </p:xfrm>
        <a:graphic>
          <a:graphicData uri="http://schemas.openxmlformats.org/drawingml/2006/table">
            <a:tbl>
              <a:tblPr/>
              <a:tblGrid>
                <a:gridCol w="878040"/>
                <a:gridCol w="879480"/>
                <a:gridCol w="893880"/>
                <a:gridCol w="863280"/>
                <a:gridCol w="878040"/>
              </a:tblGrid>
              <a:tr h="278640">
                <a:tc rowSpan="2"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втор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 rowSpan="2"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ата публикации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 rowSpan="2"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ериод, к которому относитс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 gridSpan="2"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отери, млн.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Люд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емогра-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5644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. Струмил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21-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,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0716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Ф. Лори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082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Е. Кулиш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0860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. Бояр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58-1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5-19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-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786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. Урла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7-1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768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,5-16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4082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. Мак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38196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Ю. Поля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4-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786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. Ису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8-1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  <a:tr h="2750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. Адам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18-19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,1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dd4"/>
                    </a:solidFill>
                  </a:tcPr>
                </a:tc>
              </a:tr>
            </a:tbl>
          </a:graphicData>
        </a:graphic>
      </p:graphicFrame>
      <p:sp>
        <p:nvSpPr>
          <p:cNvPr id="144" name="Rectangle 1"/>
          <p:cNvSpPr/>
          <p:nvPr/>
        </p:nvSpPr>
        <p:spPr>
          <a:xfrm>
            <a:off x="590760" y="-122760"/>
            <a:ext cx="79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аблица 19.1. Некоторые оценки сокращения населения Российской империи и СССР (смертность и эмиграция), 1914-1926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3:41:35Z</dcterms:created>
  <dc:creator>татьяна</dc:creator>
  <dc:description/>
  <dc:language>en-US</dc:language>
  <cp:lastModifiedBy>User</cp:lastModifiedBy>
  <dcterms:modified xsi:type="dcterms:W3CDTF">2010-12-22T15:21:34Z</dcterms:modified>
  <cp:revision>11</cp:revision>
  <dc:subject/>
  <dc:title>Численность насе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110000000000010243100207f6000400038000</vt:lpwstr>
  </property>
</Properties>
</file>