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9.jpeg" ContentType="image/jpeg"/>
  <Override PartName="/ppt/media/image3.gif" ContentType="image/gif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D27A-64D5-4907-922E-FDA15108E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622A-8316-4F9D-864E-025E225B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3E4B-2838-48E5-8C82-CC5890D93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501A-310F-484C-B149-DF8421F6F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BDC0-0578-41E1-9A39-E7E73AF01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287E-B493-4A52-8578-0B1E6EDF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E54C-1A6D-40E8-B318-40051838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F427D-EC0B-4355-BBD0-5FB7FC8E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82A2-483C-42CF-9754-EA9CC9B7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6795-8045-41FE-8787-62C484FA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DF28E-4741-47A0-816A-72B13580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DEC8-BE63-4D1D-872D-C1754FA9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2346-8782-4611-A42F-6AEB066C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91F0-2C5E-4D3D-9325-67B82AA6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665D-D5B0-46DD-A543-B713A290A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6E19-A1AA-4CAA-95FE-CC432DC88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720BC-5374-4BF8-A8DB-95D804DA6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518A-A152-49AE-81CF-4AD09D1D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B5B0-46AC-402D-B57F-9B7B1FE9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DDD3-00EB-4224-B117-0D832A84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E598-5123-46FF-ACE2-A371D8E1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D89B-4339-44DC-92E6-8594FEAA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B874-7B86-4738-B6B1-C2159DD1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E50E-C371-44B1-92CD-EBCD334A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5d0c8"/>
                </a:gs>
                <a:gs pos="50000">
                  <a:srgbClr val="e2ddd4"/>
                </a:gs>
                <a:gs pos="100000">
                  <a:srgbClr val="d5d0c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102C-F3DF-4752-B7BB-AF7D2B86DE4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f8e7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5d0c8"/>
                </a:gs>
                <a:gs pos="50000">
                  <a:srgbClr val="e2ddd4"/>
                </a:gs>
                <a:gs pos="100000">
                  <a:srgbClr val="d5d0c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f8e7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092A-D074-4CD5-A116-814088066E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6" descr="1"/>
          <p:cNvPicPr/>
          <p:nvPr/>
        </p:nvPicPr>
        <p:blipFill>
          <a:blip r:embed="rId1"/>
          <a:stretch/>
        </p:blipFill>
        <p:spPr>
          <a:xfrm>
            <a:off x="1187280" y="-127080"/>
            <a:ext cx="6985080" cy="69850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2f2f2"/>
                </a:solidFill>
                <a:latin typeface="Garamond"/>
              </a:rPr>
              <a:t>Численность населения</a:t>
            </a:r>
            <a:endParaRPr b="1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Garamond"/>
              </a:rPr>
              <a:t>8 класс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Второй демографический кризис (1933-1934)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0" y="1600200"/>
            <a:ext cx="874872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Был вызван насильственной коллективизацией, в результате вызвала голод (5-6 млн человек)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Rectangle 1"/>
          <p:cNvSpPr/>
          <p:nvPr/>
        </p:nvSpPr>
        <p:spPr>
          <a:xfrm>
            <a:off x="1800" y="-1843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8" name="Picture 2" descr="http://www.polit.ru/img/content/idea/demography_1.gif"/>
          <p:cNvPicPr/>
          <p:nvPr/>
        </p:nvPicPr>
        <p:blipFill>
          <a:blip r:embed="rId1"/>
          <a:stretch/>
        </p:blipFill>
        <p:spPr>
          <a:xfrm>
            <a:off x="324000" y="3540240"/>
            <a:ext cx="856908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Третий демографический кризис (1941-1946)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7640" y="1600200"/>
            <a:ext cx="40323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Выпал на годы ВОВ, потери населения с учетом снижения рождаемости составили 21-27 млн чел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211640" y="1773360"/>
          <a:ext cx="4680000" cy="4771800"/>
        </p:xfrm>
        <a:graphic>
          <a:graphicData uri="http://schemas.openxmlformats.org/drawingml/2006/table">
            <a:tbl>
              <a:tblPr/>
              <a:tblGrid>
                <a:gridCol w="1170000"/>
                <a:gridCol w="1170000"/>
                <a:gridCol w="1170000"/>
                <a:gridCol w="1170000"/>
              </a:tblGrid>
              <a:tr h="657720"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Автор оцен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Дата публик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ямые людские поте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Дефицит рожд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. Тимаш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Б. Урлани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И. Курга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44460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Е. Андреев и д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90, 19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65772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Л. Рыбаков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Р. Сивар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А. Ква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. Максу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4,5-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В. Гривен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65772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А. Вишнев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Б. Соко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6-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Б. Соко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В. Исуп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выше 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выше 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</a:tbl>
          </a:graphicData>
        </a:graphic>
      </p:graphicFrame>
      <p:sp>
        <p:nvSpPr>
          <p:cNvPr id="152" name="Rectangle 1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Четвертый демографический кризис (1990-     )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07640" y="1600200"/>
            <a:ext cx="878508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001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В 1990 годы началось постепенное сокращение населения России – из-за снижения рождаемости и роста смертност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5" name="Picture 2" descr="Картинка 21 из 284"/>
          <p:cNvPicPr/>
          <p:nvPr/>
        </p:nvPicPr>
        <p:blipFill>
          <a:blip r:embed="rId1"/>
          <a:stretch/>
        </p:blipFill>
        <p:spPr>
          <a:xfrm>
            <a:off x="3348000" y="3728880"/>
            <a:ext cx="5675400" cy="30099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Картинка 18 из 284"/>
          <p:cNvPicPr/>
          <p:nvPr/>
        </p:nvPicPr>
        <p:blipFill>
          <a:blip r:embed="rId2"/>
          <a:stretch/>
        </p:blipFill>
        <p:spPr>
          <a:xfrm>
            <a:off x="539640" y="4292640"/>
            <a:ext cx="19098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http://www.polit.ru/img/content/idea/demography_10.gif"/>
          <p:cNvPicPr/>
          <p:nvPr/>
        </p:nvPicPr>
        <p:blipFill>
          <a:blip r:embed="rId1"/>
          <a:stretch/>
        </p:blipFill>
        <p:spPr>
          <a:xfrm>
            <a:off x="0" y="1700280"/>
            <a:ext cx="9155160" cy="51577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 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Гипотетическая численность населения России при отсутствии потерь вследствие демографических катастроф первой половины и кризиса смертности последней трети ХХ века в сравнении в фактической численностью, 1900-2000, млн. человек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0" name="Picture 2" descr="Картинка 11 из 284"/>
          <p:cNvPicPr/>
          <p:nvPr/>
        </p:nvPicPr>
        <p:blipFill>
          <a:blip r:embed="rId1"/>
          <a:stretch/>
        </p:blipFill>
        <p:spPr>
          <a:xfrm>
            <a:off x="324000" y="260280"/>
            <a:ext cx="8472240" cy="645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Демографические потери России в ХХ в. колоссальны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2" name="Picture 2" descr="Картинка 9 из 284"/>
          <p:cNvPicPr/>
          <p:nvPr/>
        </p:nvPicPr>
        <p:blipFill>
          <a:blip r:embed="rId1"/>
          <a:stretch/>
        </p:blipFill>
        <p:spPr>
          <a:xfrm>
            <a:off x="6084720" y="5229360"/>
            <a:ext cx="2606760" cy="15145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Картинка 5 из 284"/>
          <p:cNvPicPr/>
          <p:nvPr/>
        </p:nvPicPr>
        <p:blipFill>
          <a:blip r:embed="rId2"/>
          <a:stretch/>
        </p:blipFill>
        <p:spPr>
          <a:xfrm>
            <a:off x="0" y="3573360"/>
            <a:ext cx="5238720" cy="3162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Картинка 17 из 64000"/>
          <p:cNvPicPr/>
          <p:nvPr/>
        </p:nvPicPr>
        <p:blipFill>
          <a:blip r:embed="rId3"/>
          <a:stretch/>
        </p:blipFill>
        <p:spPr>
          <a:xfrm>
            <a:off x="5651640" y="1812960"/>
            <a:ext cx="33782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Домашнее задание: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Читать § 6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11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Отвечать на вопросы стр. 34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11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Письменно зад. 9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7" name="Picture 2" descr="Картинка 14 из 284"/>
          <p:cNvPicPr/>
          <p:nvPr/>
        </p:nvPicPr>
        <p:blipFill>
          <a:blip r:embed="rId1"/>
          <a:stretch/>
        </p:blipFill>
        <p:spPr>
          <a:xfrm>
            <a:off x="5724360" y="2708280"/>
            <a:ext cx="2857680" cy="4029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Картинка 30 из 284"/>
          <p:cNvPicPr/>
          <p:nvPr/>
        </p:nvPicPr>
        <p:blipFill>
          <a:blip r:embed="rId2"/>
          <a:stretch/>
        </p:blipFill>
        <p:spPr>
          <a:xfrm>
            <a:off x="4859280" y="765000"/>
            <a:ext cx="320364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2089080" cy="20890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f2f2"/>
                </a:solidFill>
                <a:latin typeface="Garamond"/>
              </a:rPr>
              <a:t>Цель: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7640" y="2060280"/>
            <a:ext cx="61196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Garamond"/>
              </a:rPr>
              <a:t>Познакомиться с численностью населения, определить причины, влияющие на изменения численности населения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Garamond"/>
              </a:rPr>
              <a:t>Дать определение понятий «демографический кризис»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0" name="Рисунок 4" descr="j4.gif"/>
          <p:cNvPicPr/>
          <p:nvPr/>
        </p:nvPicPr>
        <p:blipFill>
          <a:blip r:embed="rId2"/>
          <a:stretch/>
        </p:blipFill>
        <p:spPr>
          <a:xfrm>
            <a:off x="5940360" y="3068640"/>
            <a:ext cx="2363760" cy="23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2ddd4"/>
                </a:solidFill>
                <a:latin typeface="Garamond"/>
              </a:rPr>
              <a:t>Человек – высшая ценность на Земле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aramond"/>
              </a:rPr>
              <a:t>Какова численность населения России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aramond"/>
              </a:rPr>
              <a:t>Какое место занимает Россия среди других стран мира по численности населения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aramond"/>
              </a:rPr>
              <a:t>Как можно получить сведения о численности и составе населения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aramond"/>
              </a:rPr>
              <a:t>Как изменяется численность населения России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aramond"/>
              </a:rPr>
              <a:t>Что такое демографический кризис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2089080" cy="20890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f2f2"/>
                </a:solidFill>
                <a:latin typeface="Garamond"/>
              </a:rPr>
              <a:t>Нас 144 млн человек (2002г.)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5" name="Picture 6" descr="Картинка 1 из 64000"/>
          <p:cNvPicPr/>
          <p:nvPr/>
        </p:nvPicPr>
        <p:blipFill>
          <a:blip r:embed="rId2"/>
          <a:stretch/>
        </p:blipFill>
        <p:spPr>
          <a:xfrm>
            <a:off x="1042920" y="1197000"/>
            <a:ext cx="6985080" cy="558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2089080" cy="20890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785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f2f2"/>
                </a:solidFill>
                <a:latin typeface="Garamond"/>
              </a:rPr>
              <a:t>Россия занимает </a:t>
            </a: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8 место </a:t>
            </a:r>
            <a:r>
              <a:rPr b="1" lang="ru-RU" sz="4400" spc="-1" strike="noStrike">
                <a:solidFill>
                  <a:srgbClr val="f2f2f2"/>
                </a:solidFill>
                <a:latin typeface="Garamond"/>
              </a:rPr>
              <a:t>в мире по численности населения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8000" y="2205000"/>
            <a:ext cx="4968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Garamond"/>
              </a:rPr>
              <a:t>Первая перепись населения прошла в России в 1897 г. под руководством П.П.Семенова-Тян-Шанского (67,5 млн чел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Garamond"/>
              </a:rPr>
              <a:t>Последняя перепись прошла в 2002 г. (144 млн чел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9" name="Picture 6" descr="Картинка 2 из 64000"/>
          <p:cNvPicPr/>
          <p:nvPr/>
        </p:nvPicPr>
        <p:blipFill>
          <a:blip r:embed="rId2"/>
          <a:stretch/>
        </p:blipFill>
        <p:spPr>
          <a:xfrm>
            <a:off x="5003640" y="3068640"/>
            <a:ext cx="3972240" cy="297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2ddd4"/>
                </a:solidFill>
                <a:latin typeface="Garamond"/>
              </a:rPr>
              <a:t>ЕП=Р - С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8000" y="1599840"/>
            <a:ext cx="4751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aramond"/>
              </a:rPr>
              <a:t>Изменение численности населения связано с естественным приростом населения, который определяется соотношением родившихся и умерших жителей страны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2" name="Picture 4" descr="Картинка 7 из 1994"/>
          <p:cNvPicPr/>
          <p:nvPr/>
        </p:nvPicPr>
        <p:blipFill>
          <a:blip r:embed="rId1"/>
          <a:stretch/>
        </p:blipFill>
        <p:spPr>
          <a:xfrm>
            <a:off x="4859280" y="2133720"/>
            <a:ext cx="41324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0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2ddd4"/>
                </a:solidFill>
                <a:latin typeface="Garamond"/>
              </a:rPr>
              <a:t>Динамика естественного прироста населения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79280" y="1317600"/>
          <a:ext cx="8640720" cy="4559400"/>
        </p:xfrm>
        <a:graphic>
          <a:graphicData uri="http://schemas.openxmlformats.org/drawingml/2006/table">
            <a:tbl>
              <a:tblPr/>
              <a:tblGrid>
                <a:gridCol w="820800"/>
                <a:gridCol w="2449440"/>
                <a:gridCol w="1719360"/>
                <a:gridCol w="1922400"/>
                <a:gridCol w="1728720"/>
              </a:tblGrid>
              <a:tr h="781200"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Рождаем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мерт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Естест. прир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уммарная рождаем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420480"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419040"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420840"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419040"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420840"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419040"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5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419040"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420840"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419040"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</a:tbl>
          </a:graphicData>
        </a:graphic>
      </p:graphicFrame>
      <p:sp>
        <p:nvSpPr>
          <p:cNvPr id="135" name="Rectangle 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Прямоугольник 6"/>
          <p:cNvSpPr/>
          <p:nvPr/>
        </p:nvSpPr>
        <p:spPr>
          <a:xfrm>
            <a:off x="108000" y="6093000"/>
            <a:ext cx="8928000" cy="765000"/>
          </a:xfrm>
          <a:prstGeom prst="rect">
            <a:avLst/>
          </a:prstGeom>
          <a:solidFill>
            <a:srgbClr val="f2f2f2"/>
          </a:solidFill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Garamond"/>
              </a:rPr>
              <a:t>Вывод: 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Численность населения России с 1990 гг. стала падать. А естественный прирост с 1991 г. стал отрицательным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6,-83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96,-9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6,-83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96,-9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2089080" cy="20890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f2f2"/>
                </a:solidFill>
                <a:latin typeface="Garamond"/>
              </a:rPr>
              <a:t>Демографический кризис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-360" y="2205000"/>
            <a:ext cx="3419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Garamond"/>
              </a:rPr>
              <a:t>   </a:t>
            </a:r>
            <a:r>
              <a:rPr b="0" lang="ru-RU" sz="4000" spc="-1" strike="noStrike">
                <a:solidFill>
                  <a:srgbClr val="f2f2f2"/>
                </a:solidFill>
                <a:latin typeface="Garamond"/>
              </a:rPr>
              <a:t>-это резкое снижение численности населения страны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0" name="Picture 6" descr="Картинка 19 из 3100"/>
          <p:cNvPicPr/>
          <p:nvPr/>
        </p:nvPicPr>
        <p:blipFill>
          <a:blip r:embed="rId2"/>
          <a:stretch/>
        </p:blipFill>
        <p:spPr>
          <a:xfrm>
            <a:off x="3462480" y="1739880"/>
            <a:ext cx="5502240" cy="43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Первый демографический кризис (1914-1922)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1412640"/>
            <a:ext cx="4788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aramond"/>
              </a:rPr>
              <a:t>Был связан с Первой мировой войной, революцией и Гражданской войной, которые сопровождались хозяйственной разрухой, голодом и эмиграцией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aramond"/>
              </a:rPr>
              <a:t>Россия потеряла около 18 млн человек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751280" y="1628640"/>
          <a:ext cx="4392720" cy="4896000"/>
        </p:xfrm>
        <a:graphic>
          <a:graphicData uri="http://schemas.openxmlformats.org/drawingml/2006/table">
            <a:tbl>
              <a:tblPr/>
              <a:tblGrid>
                <a:gridCol w="878040"/>
                <a:gridCol w="879480"/>
                <a:gridCol w="893880"/>
                <a:gridCol w="863280"/>
                <a:gridCol w="878040"/>
              </a:tblGrid>
              <a:tr h="278640">
                <a:tc rowSpan="2"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Автор оцен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 rowSpan="2"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Дата публикации оцен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 rowSpan="2"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ериод, к которому относится оц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 gridSpan="2"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отери, млн. челов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Люд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Демогра-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ф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5644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. Струмил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21-19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14-19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,3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40716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Ф. Лорим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14-19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40824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Е. Кулиш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14-19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3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40860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А. Бояр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58-19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15-19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1-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27864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Б. Урлан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17-19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27684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14-19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,5-16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40824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. Максу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14-19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38196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Ю. Поля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14-19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27864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В. Исуп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18-19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27504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. Адам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18-19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7,1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</a:tbl>
          </a:graphicData>
        </a:graphic>
      </p:graphicFrame>
      <p:sp>
        <p:nvSpPr>
          <p:cNvPr id="144" name="Rectangle 1"/>
          <p:cNvSpPr/>
          <p:nvPr/>
        </p:nvSpPr>
        <p:spPr>
          <a:xfrm>
            <a:off x="590760" y="-122760"/>
            <a:ext cx="79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Таблица 19.1. Некоторые оценки сокращения населения Российской империи и СССР (смертность и эмиграция), 1914-1926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03:41:35Z</dcterms:created>
  <dc:creator>татьяна</dc:creator>
  <dc:description/>
  <dc:language>en-US</dc:language>
  <cp:lastModifiedBy>User</cp:lastModifiedBy>
  <dcterms:modified xsi:type="dcterms:W3CDTF">2010-12-22T15:21:34Z</dcterms:modified>
  <cp:revision>11</cp:revision>
  <dc:subject/>
  <dc:title>Численность насел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c110000000000010243100207f6000400038000</vt:lpwstr>
  </property>
</Properties>
</file>