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83D-BF8F-4668-8E5D-D8100924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E78-DE54-47BB-82D0-D7FA9C68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EFA-21B1-450A-8D8D-BB91F8E0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4BE-3353-4AC4-ABFE-23B9893E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9FD5-6B8A-4CB5-BF18-9ED899A2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3856-56B0-491A-AF35-71FE9C1D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E47A-93D3-4500-8EA9-18AA9DB3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4273-5D08-4ABA-854E-89342FD6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B331-8426-4FB2-A67A-E65AC09B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801D-5E1B-4030-A14D-2BD3784C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28C8-F1EF-46C0-916A-55D0AE5E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7AF-E280-461B-95B0-4618E5A0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8E04-9A33-4069-A8D9-9A193FBC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DD8E-AC62-4A64-BA89-4E69EE62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093A-F724-4E06-A8E7-C5F37E65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3C50-D579-4300-A2DB-73633292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46DA-B223-42CC-99C9-8E4C2395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C00-EE18-48F0-B605-88350988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39A-4EE6-4792-86D7-3EB61C8B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9F4-8825-4D0A-B357-521F7381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41E-B0FD-4F6A-B7F2-60FDCE58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2E6-9542-4D59-B58D-12122C5E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7D2-F089-4696-A915-36B4351F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F8B-9B49-4924-886F-705FF8B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D361-A218-4067-A18F-1A43D1BF27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8BB6-34BF-4177-ACE0-23788A5D89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6" descr="1"/>
          <p:cNvPicPr/>
          <p:nvPr/>
        </p:nvPicPr>
        <p:blipFill>
          <a:blip r:embed="rId1"/>
          <a:stretch/>
        </p:blipFill>
        <p:spPr>
          <a:xfrm>
            <a:off x="1187280" y="-127080"/>
            <a:ext cx="6985080" cy="6985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f2f2"/>
                </a:solidFill>
                <a:latin typeface="Garamond"/>
              </a:rPr>
              <a:t>Численность населен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торой демографический кризис (1933-1934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600200"/>
            <a:ext cx="87487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Был вызван насильственной коллективизацией, в результате вызвала голод (5-6 млн человек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800" y="-184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8" name="Picture 2" descr="http://www.polit.ru/img/content/idea/demography_1.gif"/>
          <p:cNvPicPr/>
          <p:nvPr/>
        </p:nvPicPr>
        <p:blipFill>
          <a:blip r:embed="rId1"/>
          <a:stretch/>
        </p:blipFill>
        <p:spPr>
          <a:xfrm>
            <a:off x="324000" y="3540240"/>
            <a:ext cx="856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ретий демографический кризис (1941-1946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7640" y="1600200"/>
            <a:ext cx="4032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Выпал на годы ВОВ, потери населения с учетом снижения рождаемости составили 21-27 млн чел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211640" y="1773360"/>
          <a:ext cx="4680000" cy="4771800"/>
        </p:xfrm>
        <a:graphic>
          <a:graphicData uri="http://schemas.openxmlformats.org/drawingml/2006/table">
            <a:tbl>
              <a:tblPr/>
              <a:tblGrid>
                <a:gridCol w="1170000"/>
                <a:gridCol w="1170000"/>
                <a:gridCol w="1170000"/>
                <a:gridCol w="1170000"/>
              </a:tblGrid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втор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ата публ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ямые людские пот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фицит р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. Тимаш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Урла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. Кур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4460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. Андреев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0, 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Л. Рыба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. Сива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. Кв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Максу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,5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. Грив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. Вишн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Соко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Соко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. Исуп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ыше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ыше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</a:tbl>
          </a:graphicData>
        </a:graphic>
      </p:graphicFrame>
      <p:sp>
        <p:nvSpPr>
          <p:cNvPr id="152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етвертый демографический кризис (1990-     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7640" y="1600200"/>
            <a:ext cx="878508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В 1990 годы началось постепенное сокращение населения России – из-за снижения рождаемости и роста смерт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5" name="Picture 2" descr="Картинка 21 из 284"/>
          <p:cNvPicPr/>
          <p:nvPr/>
        </p:nvPicPr>
        <p:blipFill>
          <a:blip r:embed="rId1"/>
          <a:stretch/>
        </p:blipFill>
        <p:spPr>
          <a:xfrm>
            <a:off x="3348000" y="3728880"/>
            <a:ext cx="5675400" cy="3009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Картинка 18 из 284"/>
          <p:cNvPicPr/>
          <p:nvPr/>
        </p:nvPicPr>
        <p:blipFill>
          <a:blip r:embed="rId2"/>
          <a:stretch/>
        </p:blipFill>
        <p:spPr>
          <a:xfrm>
            <a:off x="539640" y="4292640"/>
            <a:ext cx="1909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www.polit.ru/img/content/idea/demography_10.gif"/>
          <p:cNvPicPr/>
          <p:nvPr/>
        </p:nvPicPr>
        <p:blipFill>
          <a:blip r:embed="rId1"/>
          <a:stretch/>
        </p:blipFill>
        <p:spPr>
          <a:xfrm>
            <a:off x="0" y="1700280"/>
            <a:ext cx="9155160" cy="5157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Гипотетическая численность населения России при отсутствии потерь вследствие демографических катастроф первой половины и кризиса смертности последней трети ХХ века в сравнении в фактической численностью, 1900-2000, млн. человек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Picture 2" descr="Картинка 11 из 284"/>
          <p:cNvPicPr/>
          <p:nvPr/>
        </p:nvPicPr>
        <p:blipFill>
          <a:blip r:embed="rId1"/>
          <a:stretch/>
        </p:blipFill>
        <p:spPr>
          <a:xfrm>
            <a:off x="324000" y="260280"/>
            <a:ext cx="847224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емографические потери России в ХХ в. колоссальн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2" name="Picture 2" descr="Картинка 9 из 284"/>
          <p:cNvPicPr/>
          <p:nvPr/>
        </p:nvPicPr>
        <p:blipFill>
          <a:blip r:embed="rId1"/>
          <a:stretch/>
        </p:blipFill>
        <p:spPr>
          <a:xfrm>
            <a:off x="6084720" y="5229360"/>
            <a:ext cx="2606760" cy="1514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Картинка 5 из 284"/>
          <p:cNvPicPr/>
          <p:nvPr/>
        </p:nvPicPr>
        <p:blipFill>
          <a:blip r:embed="rId2"/>
          <a:stretch/>
        </p:blipFill>
        <p:spPr>
          <a:xfrm>
            <a:off x="0" y="3573360"/>
            <a:ext cx="5238720" cy="316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артинка 17 из 64000"/>
          <p:cNvPicPr/>
          <p:nvPr/>
        </p:nvPicPr>
        <p:blipFill>
          <a:blip r:embed="rId3"/>
          <a:stretch/>
        </p:blipFill>
        <p:spPr>
          <a:xfrm>
            <a:off x="5651640" y="1812960"/>
            <a:ext cx="3378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омашнее задание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Читать § 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Отвечать на вопросы стр. 34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исьменно зад. 9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2" descr="Картинка 14 из 284"/>
          <p:cNvPicPr/>
          <p:nvPr/>
        </p:nvPicPr>
        <p:blipFill>
          <a:blip r:embed="rId1"/>
          <a:stretch/>
        </p:blipFill>
        <p:spPr>
          <a:xfrm>
            <a:off x="5724360" y="2708280"/>
            <a:ext cx="2857680" cy="402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Картинка 30 из 284"/>
          <p:cNvPicPr/>
          <p:nvPr/>
        </p:nvPicPr>
        <p:blipFill>
          <a:blip r:embed="rId2"/>
          <a:stretch/>
        </p:blipFill>
        <p:spPr>
          <a:xfrm>
            <a:off x="4859280" y="765000"/>
            <a:ext cx="32036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640" y="2060280"/>
            <a:ext cx="6119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Познакомиться с численностью населения, определить причины, влияющие на изменения численности населения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Дать определение понятий «демографический кризис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Рисунок 4" descr="j4.gif"/>
          <p:cNvPicPr/>
          <p:nvPr/>
        </p:nvPicPr>
        <p:blipFill>
          <a:blip r:embed="rId2"/>
          <a:stretch/>
        </p:blipFill>
        <p:spPr>
          <a:xfrm>
            <a:off x="5940360" y="3068640"/>
            <a:ext cx="236376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ddd4"/>
                </a:solidFill>
                <a:latin typeface="Garamond"/>
              </a:rPr>
              <a:t>Человек – высшая ценность на Земл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ова численность населения России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ое место занимает Россия среди других стран мира по численности населения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 можно получить сведения о численности и составе населения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 изменяется численность населения России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Что такое демографический кризис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Нас 144 млн человек (2002г.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6" descr="Картинка 1 из 64000"/>
          <p:cNvPicPr/>
          <p:nvPr/>
        </p:nvPicPr>
        <p:blipFill>
          <a:blip r:embed="rId2"/>
          <a:stretch/>
        </p:blipFill>
        <p:spPr>
          <a:xfrm>
            <a:off x="1042920" y="1197000"/>
            <a:ext cx="698508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Россия занимает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8 место </a:t>
            </a: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в мире по численности населен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2205000"/>
            <a:ext cx="4968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Первая перепись населения прошла в России в 1897 г. под руководством П.П.Семенова-Тян-Шанского (67,5 млн чел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Последняя перепись прошла в 2002 г. (144 млн чел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Picture 6" descr="Картинка 2 из 64000"/>
          <p:cNvPicPr/>
          <p:nvPr/>
        </p:nvPicPr>
        <p:blipFill>
          <a:blip r:embed="rId2"/>
          <a:stretch/>
        </p:blipFill>
        <p:spPr>
          <a:xfrm>
            <a:off x="5003640" y="3068640"/>
            <a:ext cx="397224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ddd4"/>
                </a:solidFill>
                <a:latin typeface="Garamond"/>
              </a:rPr>
              <a:t>ЕП=Р - С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599840"/>
            <a:ext cx="4751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Изменение численности населения связано с естественным приростом населения, который определяется соотношением родившихся и умерших жителей стран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4" descr="Картинка 7 из 1994"/>
          <p:cNvPicPr/>
          <p:nvPr/>
        </p:nvPicPr>
        <p:blipFill>
          <a:blip r:embed="rId1"/>
          <a:stretch/>
        </p:blipFill>
        <p:spPr>
          <a:xfrm>
            <a:off x="4859280" y="2133720"/>
            <a:ext cx="4132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ddd4"/>
                </a:solidFill>
                <a:latin typeface="Garamond"/>
              </a:rPr>
              <a:t>Динамика естественного прироста населен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317600"/>
          <a:ext cx="8640720" cy="4559400"/>
        </p:xfrm>
        <a:graphic>
          <a:graphicData uri="http://schemas.openxmlformats.org/drawingml/2006/table">
            <a:tbl>
              <a:tblPr/>
              <a:tblGrid>
                <a:gridCol w="820800"/>
                <a:gridCol w="2449440"/>
                <a:gridCol w="1719360"/>
                <a:gridCol w="1922400"/>
                <a:gridCol w="1728720"/>
              </a:tblGrid>
              <a:tr h="78120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ожд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мер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стест.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уммарная рожд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48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8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8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8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</a:tbl>
          </a:graphicData>
        </a:graphic>
      </p:graphicFrame>
      <p:sp>
        <p:nvSpPr>
          <p:cNvPr id="135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108000" y="6093000"/>
            <a:ext cx="8928000" cy="765000"/>
          </a:xfrm>
          <a:prstGeom prst="rect">
            <a:avLst/>
          </a:prstGeom>
          <a:solidFill>
            <a:srgbClr val="f2f2f2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Численность населения России с 1990 гг. стала падать. А естественный прирост с 1991 г. стал отрицательным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Демографический кризис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3419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f2f2f2"/>
                </a:solidFill>
                <a:latin typeface="Garamond"/>
              </a:rPr>
              <a:t>-это резкое снижение численности населения стран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Picture 6" descr="Картинка 19 из 3100"/>
          <p:cNvPicPr/>
          <p:nvPr/>
        </p:nvPicPr>
        <p:blipFill>
          <a:blip r:embed="rId2"/>
          <a:stretch/>
        </p:blipFill>
        <p:spPr>
          <a:xfrm>
            <a:off x="3462480" y="1739880"/>
            <a:ext cx="55022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ервый демографический кризис (1914-1922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Был связан с Первой мировой войной, революцией и Гражданской войной, которые сопровождались хозяйственной разрухой, голодом и эмиграци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Россия потеряла около 18 млн человек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751280" y="1628640"/>
          <a:ext cx="4392720" cy="4896000"/>
        </p:xfrm>
        <a:graphic>
          <a:graphicData uri="http://schemas.openxmlformats.org/drawingml/2006/table">
            <a:tbl>
              <a:tblPr/>
              <a:tblGrid>
                <a:gridCol w="878040"/>
                <a:gridCol w="879480"/>
                <a:gridCol w="893880"/>
                <a:gridCol w="863280"/>
                <a:gridCol w="878040"/>
              </a:tblGrid>
              <a:tr h="278640"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втор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ата публикации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ериод, к которому относитс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grid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тери, млн.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Люд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могра-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5644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Струмил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21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716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. Лори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82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. Кулиш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860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. Боя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58-1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5-1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-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8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Урла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7-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68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5-16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82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Мак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38196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Ю. Поля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8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. Ис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8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50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Адам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8-1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,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590760" y="-122760"/>
            <a:ext cx="79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блица 19.1. Некоторые оценки сокращения населения Российской империи и СССР (смертность и эмиграция), 1914-1926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3:41:35Z</dcterms:created>
  <dc:creator>татьяна</dc:creator>
  <dc:description/>
  <dc:language>en-US</dc:language>
  <cp:lastModifiedBy>User</cp:lastModifiedBy>
  <dcterms:modified xsi:type="dcterms:W3CDTF">2010-12-22T15:21:34Z</dcterms:modified>
  <cp:revision>11</cp:revision>
  <dc:subject/>
  <dc:title>Численность насе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110000000000010243100207f6000400038000</vt:lpwstr>
  </property>
</Properties>
</file>