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B5A-608E-4956-9D46-6EF3F961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7DF-3E47-4819-83F5-ABA5E069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2CC-48F0-4D27-8DD4-1BFA46BC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D26-390D-4243-823C-1BF250FD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B40-4D33-4875-8744-87883979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D4B-FC72-47E0-80A3-6AE0F68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B6E-4B7A-471A-96AD-5809089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F74-F702-474C-A1BE-4150DAA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BF8-6C06-45EF-B40B-D311B514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724-65C3-498C-8699-9E8958F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B15-2B20-4CB3-A48E-67B8EC2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4FB-033F-4E66-BEAD-40187EA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2A9-FEDE-44DE-9C70-727270A0A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75000" y="-291960"/>
            <a:ext cx="3187440" cy="1742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-317520" y="3889440"/>
            <a:ext cx="5840280" cy="299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572080" y="0"/>
            <a:ext cx="3571920" cy="46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3071880" y="2714760"/>
            <a:ext cx="249228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3071880" cy="326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tretch/>
        </p:blipFill>
        <p:spPr>
          <a:xfrm>
            <a:off x="5159520" y="4786200"/>
            <a:ext cx="3984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коло 6 тысяч лет назад на территории современного Чада жили негроиды, занимавшиеся ох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9-м веке возле озера Чад возникло государство Канем, которое в 12-13 веках занимало обширную территорию от нагорья Тибести на севере до районов южнее озера Ч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 11-го века началась арабская исламизация, в первую очередь ислам принимала правящая верхушка Кан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4-го века государство Канем прекратило существование, в 16-м веке восточнее озера Чад образовалось государство Вадаи, южнее — государство Багирми. Они постоянно воевали между собой и против соседей, захватывая рабов, часть которых продавалась в Османскую империю (Багирми было основным поставщиком рабов-евнухов в импер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9-го века части Вадаи и Багирми вошли в состав государства Рабб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О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джа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С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6,45 млн. человек.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ранцузский язык в качестве официального, арабский, широко используются местные наречия - багирми, сари, хаус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ЛИ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сульмане-сунниты - 50%, приверженцы местных верований - 43%, христиане - 7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ЕОГРА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спублика находится в Центральной Африке, равноудалена от всех океанических побережий и занимает территорию в 1284 тыс. кв. км. Граничит с Ливией - на севере, с Нигером, Нигерией (по озеру Чад) и Камеруном - на западе, с ЦАР - на юге, с Суданом - на востоке. Большая часть территории — плоская пустынная равнина, на севере — нагорье Тибести (высота до 3415 м.). Северная часть страны лежит в пределах пустыни Сахара, южная - захватывает Сахель (полупустыни и опустыненные саванны переходной полосы) и часть суданской природной области. Рек мало, главная из них - Шари (с притоком Логоне) течет на юге страны и впадает в озеро Чад, остальные реки существуют практически только после дождей и представляют собой сухие русла-вади всё оста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ЛИМ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лан Описания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7858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надобятся физическая, климатическая и политическая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трана расположена в центральной Африке. Столица Ндж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авнины, высота от 200 до 500 метров от уровня мо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зеро Ч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)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4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3100207f6000400038000</vt:lpwstr>
  </property>
</Properties>
</file>