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642F-9660-4859-B5DB-FEBCCAC5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4412-2B19-4105-AC7D-B67A70AD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F21-519A-4A96-A00C-4EC73F5D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6366-EE58-4F26-8EC2-AAD53F8B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D623-D1AA-41E8-A443-A7BACE30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B78A-CC17-409B-B5EA-8AC32345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BF34-361C-48C3-A757-87666C29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4875-4CFC-4264-AF55-62D9BB1F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C39-9CBC-4F6F-89EB-D2DD74AF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FBE-4F01-4A19-8AC4-638F0EFF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123B-D91D-4C8A-8673-CDDB7E9F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1C90-4C80-47D8-8266-44E0A524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5BF8-2EAA-4BEE-885A-B6ABC2CCEA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2475000" y="-291960"/>
            <a:ext cx="3187440" cy="17427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-317520" y="3889440"/>
            <a:ext cx="5840280" cy="2998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5572080" y="0"/>
            <a:ext cx="3571920" cy="464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4"/>
          <a:stretch/>
        </p:blipFill>
        <p:spPr>
          <a:xfrm>
            <a:off x="3071880" y="2714760"/>
            <a:ext cx="2492280" cy="1662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5"/>
          <a:stretch/>
        </p:blipFill>
        <p:spPr>
          <a:xfrm>
            <a:off x="0" y="0"/>
            <a:ext cx="3071880" cy="3263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6"/>
          <a:stretch/>
        </p:blipFill>
        <p:spPr>
          <a:xfrm>
            <a:off x="5159520" y="4786200"/>
            <a:ext cx="39844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с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коло 6 тысяч лет назад на территории современного Чада жили негроиды, занимавшиеся ох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 9-м веке возле озера Чад возникло государство Канем, которое в 12-13 веках занимало обширную территорию от нагорья Тибести на севере до районов южнее озера Ч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 11-го века началась арабская исламизация, в первую очередь ислам принимала правящая верхушка Кан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 конце 14-го века государство Канем прекратило существование, в 16-м веке восточнее озера Чад образовалось государство Вадаи, южнее — государство Багирми. Они постоянно воевали между собой и против соседей, захватывая рабов, часть которых продавалась в Османскую империю (Багирми было основным поставщиком рабов-евнухов в импери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 конце 19-го века части Вадаи и Багирми вошли в состав государства Рабба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ТОЛ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Нджам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АСЕ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6,45 млн. человек. Этнический состав населения крайне разнообразен. На севере, в основном, арабы (до 11%) и тубу (сахарская группа), ведущие кочевой образ жизни, на юге — хауса, маса, сари, багирми (шари-нильская языковая группа). Всего проживает более 200 этнических групп. Кроме того, в стране живет 5 тыс. французов и других выходцев из Европы. Около 20% населения страны - кочев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ЯЗЫ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Французский язык в качестве официального, арабский, широко используются местные наречия - багирми, сари, хаус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0" y="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РЕЛИГ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Мусульмане-сунниты - 50%, приверженцы местных верований - 43%, христиане - 7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ГЕОГРАФ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Республика находится в Центральной Африке, равноудалена от всех океанических побережий и занимает территорию в 1284 тыс. кв. км. Граничит с Ливией - на севере, с Нигером, Нигерией (по озеру Чад) и Камеруном - на западе, с ЦАР - на юге, с Суданом - на востоке. Большая часть территории — плоская пустынная равнина, на севере — нагорье Тибести (высота до 3415 м.). Северная часть страны лежит в пределах пустыни Сахара, южная - захватывает Сахель (полупустыни и опустыненные саванны переходной полосы) и часть суданской природной области. Рек мало, главная из них - Шари (с притоком Логоне) течет на юге страны и впадает в озеро Чад, остальные реки существуют практически только после дождей и представляют собой сухие русла-вади всё осталь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0" y="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ЛИМ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На севере страны тропический пустынный, среднемесячные температуры изменяются от +15 C в январе до +35 C в июле (при этом максимальные температуры достигают +56 C), осадков выпадает обычно 100–250 мм., в основном в виде сильных кратковременных ливней, которые даже приводят к наводнениям. Климат крайней южной части экваториально–муссонный с температурами воздуха от +21 С до +24 C зимой и от +30 С до +35 C летом и годовым количеством осадков до 800–1000 мм., выпадающих, в основном, в муссонный пери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0" y="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лан Описания стра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0" y="78588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онадобятся физическая, климатическая и политическая ка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Страна расположена в центральной Африке. Столица Нджа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Равнины, высота от 200 до 500 метров от уровня мор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На севере страны тропический пустынный, среднемесячные температуры изменяются от +15 C в январе до +35 C в июле (при этом максимальные температуры достигают +56 C), осадков выпадает обычно 100–250 мм., в основном в виде сильных кратковременных ливней, которые даже приводят к наводнениям. Климат крайней южной части экваториально–муссонный с температурами воздуха от +21 С до +24 C зимой и от +30 С до +35 C летом и годовым количеством осадков до 800–1000 мм., выпадающих, в основном, в муссонный пери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Озеро Ч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7) Этнический состав населения крайне разнообразен. На севере, в основном, арабы (до 11%) и тубу (сахарская группа), ведущие кочевой образ жизни, на юге — хауса, маса, сари, багирми (шари-нильская языковая группа). Всего проживает более 200 этнических групп. Кроме того, в стране живет 5 тыс. французов и других выходцев из Европы. Около 20% населения страны - кочев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our User Name</cp:lastModifiedBy>
  <dcterms:modified xsi:type="dcterms:W3CDTF">2011-05-10T09:44:39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50000000000010243100207f6000400038000</vt:lpwstr>
  </property>
</Properties>
</file>