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93F6D-C956-4408-8591-87FC72EB0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44DA5-3A13-4E67-8287-19BF53952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C8CBC-674A-4D07-B92A-29829F4EA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CB602-583B-4F72-A4FD-1DD2FEBAC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22CEF-0460-4BCF-99E1-E8E82BABE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00280-3C6E-4D69-927C-571FBA4EC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1FE69-9842-4BCC-A554-FF6C114E1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A45B5-97E5-4A52-B5E6-C46431F3F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5B5D0-40B8-4EFA-B32E-9C2A40874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7687E-40DC-4ECF-AB4F-538BCE34B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8A5FA-8BD6-457F-B8A1-D84DDAD9A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543D8-A3C7-487E-9918-C818E0B49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4DE9D-5031-4360-9E11-A9C8C3CB8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6B8EC-D610-495B-BC32-285885077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EC825-6315-4A72-9057-FE1A26858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81A16-1FFE-4CAE-8659-66580AA82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CBEC0-EFEB-4145-BD80-B98FA78F1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B2CE5-2C31-482A-A3B4-A074DFD9F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28DA0-9B17-46C2-B9A3-181D7063B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EA49D-D28E-42B2-B025-483C52177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BBED8-6B32-4B6B-8E0D-8FC3BEA74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B2D9E-844A-4753-AF10-0A75ADC94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878A6-4AC0-4740-BE15-571E1AA25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69FDE-9B9D-43F8-B6C1-FDFFDFA2A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51119-77D1-4865-9DAB-06D019166BAA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52A84-2089-4801-BC4A-DE2C513C1592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50920" y="1692360"/>
            <a:ext cx="8642160" cy="18079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cc00"/>
                </a:solidFill>
                <a:latin typeface="Arial"/>
              </a:rPr>
              <a:t>Бразилия</a:t>
            </a:r>
            <a:endParaRPr b="0" lang="en-US" sz="9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57" name="Picture 6" descr="GauntSUNGEM"/>
          <p:cNvPicPr/>
          <p:nvPr/>
        </p:nvPicPr>
        <p:blipFill>
          <a:blip r:embed="rId1"/>
          <a:stretch/>
        </p:blipFill>
        <p:spPr>
          <a:xfrm>
            <a:off x="3059280" y="3789360"/>
            <a:ext cx="2881080" cy="2376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6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25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Arial"/>
              </a:rPr>
              <a:t>Географическое положение</a:t>
            </a: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-252720" y="1267920"/>
            <a:ext cx="482436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Государство в Южной Америке. На западе граничит с Аргентиной (длина границы 1 224 км), Боливией (3 400 км), Парагваем (1 290 км) и Перу (1 560 км), на севере - с Венесуэлой (2 200 км), Гайаной (1 119 км), Французской Гвианой (673 км) и Суринамом (597 км), на северо-западе-с Колумбией (1 643 км), на юге - с Уругваем (985 км). На востоке и севере Бразилия омывается Атлантическим океаном. Общая протяженность границы - 14 691 км, длина береговой линии - 7491 км. Общая площадь страны 8 511 965 км (площадь суши - 8 456 510 км2). Бразилия является самым крупным государством Южной Америки и занимает почти половину континента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0" name="Picture 9" descr="бразилия"/>
          <p:cNvPicPr/>
          <p:nvPr/>
        </p:nvPicPr>
        <p:blipFill>
          <a:blip r:embed="rId1"/>
          <a:stretch/>
        </p:blipFill>
        <p:spPr>
          <a:xfrm>
            <a:off x="4788000" y="1557360"/>
            <a:ext cx="4233600" cy="4680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Arial"/>
              </a:rPr>
              <a:t>Население</a:t>
            </a:r>
            <a:r>
              <a:rPr b="0" lang="ru-RU" sz="44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-324360" y="764640"/>
            <a:ext cx="5472360" cy="10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Население составляет 160 737 489 человек (1995), средняя плотность населения почти 19 чел/км2. Большинство жителей проживает в районе Атлантического побережья. Самая крупная этническая группа представлена европейцами (португальцы, испанцы, немцы, итальянцы) - 54,7%, черные африканцы составляют 5,89% населения страны, мулаты - 38,45%. Кроме граждан Бразилии, в стране более 3 млн. иммигрантов - это, главным образом, индийцы, арабы, японцы, итальянцы, немцы, французы. Официальный язык португальский, распространены также испанский, английский, немецкий, итальянский языки. Большинство верующих исповедуют католицизм (70%), есть также протестанты, иудеи. Рождаемость - 21 чел.на 1 000 (1995). Смертность - 9 чел. на 1 000  (уровень детской смертности - 57 детей на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1 000 новорожденных). Средняя продолжительность жизни: мужчин-57 лет, женщин-67 лет (1995). Из всего трудоспособного населения (57 000 000 человек по данным 1989 г.) в сфере услуг занято 42%, в сельском хозяйстве -31%, в промышленности - 27%.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3" name="Picture 17" descr="BRA[1]"/>
          <p:cNvPicPr/>
          <p:nvPr/>
        </p:nvPicPr>
        <p:blipFill>
          <a:blip r:embed="rId1"/>
          <a:stretch/>
        </p:blipFill>
        <p:spPr>
          <a:xfrm>
            <a:off x="5219640" y="1628640"/>
            <a:ext cx="371628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cc00"/>
                </a:solidFill>
                <a:latin typeface="Arial"/>
              </a:rPr>
              <a:t>Климат</a:t>
            </a:r>
            <a:r>
              <a:rPr b="0" lang="ru-RU" sz="48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-181440" y="1268280"/>
            <a:ext cx="4426200" cy="542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Климат меняется с северо-запада на юго-восток от влажного экваториального до сезонно-влажного субтропического. Средние температуры января от 23 до 29°С, июля - от 16 до 24°С. Осадки: от 500 мм в год на северо-востоке Бразильского плоскогорья до 1 200 мм в южных областях страны, среднегодовая норма выпадения осадков на западе Амазонской низменности - 3 000 мм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6" name="Picture 7" descr="p0074-23[1]"/>
          <p:cNvPicPr/>
          <p:nvPr/>
        </p:nvPicPr>
        <p:blipFill>
          <a:blip r:embed="rId1"/>
          <a:stretch/>
        </p:blipFill>
        <p:spPr>
          <a:xfrm>
            <a:off x="4356000" y="1773360"/>
            <a:ext cx="4608720" cy="41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Arial"/>
              </a:rPr>
              <a:t>Государственное устройство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-252360" y="1412640"/>
            <a:ext cx="5256000" cy="655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Полное наименование - Федеративная Республика Бразилия. Государственный строй - федеративная президентская республика. Страна состоит из 26 штатов и 1 федерального округа, в котором расположена столица - Бразилиа. Независимость от Португалии Бразилия получила 7 сентября 1822 г. Последняя конституция была принята 5 октября 1988 г. Национальный праздник - 7 сентября - День независимости. Глава правительства - президент, назначающий правительство. Законодательная власть принадлежит двухпалатному парламенту (Национальныому конгрессу), состоящему из Сената и Палаты депутатов. Наиболее влиятельные политические партии: Партия бразильской социал-демократии (ПБСД), Партия Бразильского демократического движения (ПБДД), Партия либерального фронта (ПЛФ), Социал-демократическая партия (СДП).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9" name="Picture 10" descr="рио"/>
          <p:cNvPicPr/>
          <p:nvPr/>
        </p:nvPicPr>
        <p:blipFill>
          <a:blip r:embed="rId1"/>
          <a:stretch/>
        </p:blipFill>
        <p:spPr>
          <a:xfrm>
            <a:off x="4932360" y="2060640"/>
            <a:ext cx="403848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6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734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Arial"/>
              </a:rPr>
              <a:t>Экономика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-181440" y="907920"/>
            <a:ext cx="9325080" cy="682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Аграрный сектор играет важную роль в экономике страны. Бразилия является самым крупным в мире производителем и экспортером кофе и цитрусового концентрированного сока и вторым по величине экспортером сои. Выращиваются также рис, маниока (</a:t>
            </a:r>
            <a:r>
              <a:rPr b="1" lang="ru-RU" sz="2000" spc="-1" strike="noStrike">
                <a:solidFill>
                  <a:srgbClr val="ff0000"/>
                </a:solidFill>
                <a:latin typeface="Verdana"/>
              </a:rPr>
              <a:t>первое место в мире</a:t>
            </a: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), зерновые, сахарный тростник, какао-бобы (</a:t>
            </a:r>
            <a:r>
              <a:rPr b="1" lang="ru-RU" sz="2000" spc="-1" strike="noStrike">
                <a:solidFill>
                  <a:srgbClr val="ff0000"/>
                </a:solidFill>
                <a:latin typeface="Verdana"/>
              </a:rPr>
              <a:t>второе место в мире</a:t>
            </a: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). В животноводстве преобладает крупный рогатый скот. За исключением пшеницы, страна полностью обеспечивает свои внутренние потребности в продовольствии. Значительная доля больших земельных владений находится в частном пользовании с государственным финансированием этого сектора. Собственность на основные индустриальные и добывающие средства производства поделена между частными собственниками, включая нескольких мультинациональных, и правительством. Наиболее развитые отрасли промышленности: химическая, деревообрабатывающая, текстильная, металлургическая, машиностроение. Основным потенциалом для развития экономики Бразилии служат ее громадные природные ресурсы. ВНП в 1994 г. составил $886,3 млрд. (ВНП надушу населения - $5 580). Денежная единица - реал (1 (R$) реал равен 100 сентаво)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fade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Arial"/>
              </a:rPr>
              <a:t>Транспортные коммуникации</a:t>
            </a: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-181080" y="1557000"/>
            <a:ext cx="468792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В стране проложено 30 612 км железных дорог, общая протяженность автодорог - 1 670 000 км. Многие реки (в первую очередь Амазонка) судоходны, внутренние водные пути составляют 50 000 км. Главные порты страны - Парамарибо, Кайенна, Форта-леза, Натал, Жуан-Песоа, Масейо, Салвадор, Витория, Рио-де-Жанейро, Нитерой, Порту-Алегри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4" name="Picture 7" descr="brasil8"/>
          <p:cNvPicPr/>
          <p:nvPr/>
        </p:nvPicPr>
        <p:blipFill>
          <a:blip r:embed="rId1"/>
          <a:stretch/>
        </p:blipFill>
        <p:spPr>
          <a:xfrm>
            <a:off x="4427640" y="2060640"/>
            <a:ext cx="4495680" cy="3240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1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Arial"/>
              </a:rPr>
              <a:t>Достопримечательности</a:t>
            </a:r>
            <a:r>
              <a:rPr b="0" lang="ru-RU" sz="44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-252360" y="1412640"/>
            <a:ext cx="4392720" cy="51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В Бразилии  иностранных туристов привлекает  знаменитый карнавал в Рио-де-Жанейро. Кроме того, в этом городе находятся известные океанские пляжи Копакабана, Ипанема, Лебнон; статуя Христа на вершине вулкана Корковадо; зоопарк. Среди музеев можно отметить Музей современного искусства, Национальный Музей, Музей индейцев в Рио-де-Жанейро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7" name="Picture 20" descr="content_countries_10_1[1]"/>
          <p:cNvPicPr/>
          <p:nvPr/>
        </p:nvPicPr>
        <p:blipFill>
          <a:blip r:embed="rId1"/>
          <a:stretch/>
        </p:blipFill>
        <p:spPr>
          <a:xfrm>
            <a:off x="4067280" y="1628640"/>
            <a:ext cx="482580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84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898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Arial"/>
              </a:rPr>
              <a:t>Участие в международных организациях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44956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Бразилия участвует в организациях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:</a:t>
            </a: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 АфБР, ЭКЛАК, ФАО, ГАТТ, МАГАТЭ, МБРР, ИКАО, МТП, МСКП, MAP, ИФАД, МФК, МОТ, МВФ, ИМО, ИНМАРСАТ, ИНТЕЛСАТ, ИНТЕРПОЛ, МОК, ИСО, ЛАЭС, ОАГ, ООН, ЮНЕСКО, УВКБ, ЮНИДО, ВПС, ВКТ, ВФП, ВОИС, ВМО, ВТО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0" name="Picture 6" descr="80_19909[1]"/>
          <p:cNvPicPr/>
          <p:nvPr/>
        </p:nvPicPr>
        <p:blipFill>
          <a:blip r:embed="rId1"/>
          <a:stretch/>
        </p:blipFill>
        <p:spPr>
          <a:xfrm>
            <a:off x="4643280" y="2133720"/>
            <a:ext cx="4249800" cy="33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9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4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4T07:25:24Z</dcterms:created>
  <dc:creator>Плазма</dc:creator>
  <dc:description/>
  <dc:language>en-US</dc:language>
  <cp:lastModifiedBy>Спиридонова Наталья Николаевна</cp:lastModifiedBy>
  <dcterms:modified xsi:type="dcterms:W3CDTF">2011-09-14T06:52:41Z</dcterms:modified>
  <cp:revision>18</cp:revision>
  <dc:subject/>
  <dc:title>Бразили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000b0000000000010250300207f7000400038000</vt:lpwstr>
  </property>
</Properties>
</file>