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6CE-6A13-4DC2-A7BC-84CB9B6C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B43-A2F1-4F73-A93C-D7ACFA2B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031-3DFB-4E71-8FC2-5275A4E1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649-A839-4417-A696-74C08C5C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22BA-0E5E-439D-80F0-115671D6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B3FE-BDBC-4EEB-B233-1A6A4A3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9B8B-CDE7-4B91-A682-1C8E6A6A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70FE-2FD7-4414-92BC-5DC2AE0A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49EA-9B57-4388-AA3B-87EA31F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3F71-AFAE-4735-A6C1-BE3347E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433B-325F-40FD-BB73-007918E5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35D-0F00-45EE-8072-553A0EB6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E702-C815-4594-A57E-005B79D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07A5-3B9B-4F27-94DA-7381B763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E301-E5CA-425F-9A44-240FFBD5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7091-332E-41E7-BF5F-07B77FC2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696F-B5F2-4870-BC5F-C3DF93CD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047-56F2-46B7-9D06-D7AE9172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29E-E797-48A1-9040-2724C5B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690-88CE-40C9-B225-E1CDFF39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ACF-B861-49F8-9291-98A6CCA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EFB-EAA3-4AF8-9DB4-B23F00C3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C07-6534-4C5D-8CF4-0E3BC978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0A0-A358-4886-862B-F17F4FC5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F00A-A56C-4CCB-9D5A-6ECE8858DB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7381-F819-4C15-A6CB-8304EFC824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692360"/>
            <a:ext cx="8642160" cy="18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00"/>
                </a:solidFill>
                <a:latin typeface="Arial"/>
              </a:rPr>
              <a:t>Бразилия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6" descr="GauntSUNGEM"/>
          <p:cNvPicPr/>
          <p:nvPr/>
        </p:nvPicPr>
        <p:blipFill>
          <a:blip r:embed="rId1"/>
          <a:stretch/>
        </p:blipFill>
        <p:spPr>
          <a:xfrm>
            <a:off x="3059280" y="3789360"/>
            <a:ext cx="28810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Географическое положен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52720" y="1267920"/>
            <a:ext cx="4824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осударство в Южной Америке. На западе граничит с Аргентиной (длина границы 1 224 км), Боливией (3 400 км), Парагваем (1 290 км) и Перу (1 560 км), на севере - с Венесуэлой (2 200 км), Гайаной (1 119 км), Французской Гвианой (673 км) и Суринамом (597 км), на северо-западе-с Колумбией (1 643 км), на юге - с Уругваем (985 км). На востоке и севере Бразилия омывается Атлантическим океаном. Общая протяженность границы - 14 691 км, длина береговой линии - 7491 км. Общая площадь страны 8 511 965 км (площадь суши - 8 456 510 км2). Бразилия является самым крупным государством Южной Америки и занимает почти половину континен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9" descr="бразилия"/>
          <p:cNvPicPr/>
          <p:nvPr/>
        </p:nvPicPr>
        <p:blipFill>
          <a:blip r:embed="rId1"/>
          <a:stretch/>
        </p:blipFill>
        <p:spPr>
          <a:xfrm>
            <a:off x="4788000" y="1557360"/>
            <a:ext cx="42336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селение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24360" y="764640"/>
            <a:ext cx="5472360" cy="10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селение составляет 160 737 489 человек (1995), средняя плотность населения почти 19 чел/км2. Большинство жителей проживает в районе Атлантического побережья. Самая крупная этническая группа представлена европейцами (португальцы, испанцы, немцы, итальянцы) - 54,7%, черные африканцы составляют 5,89% населения страны, мулаты - 38,45%. Кроме граждан Бразилии, в стране более 3 млн. иммигрантов - это, главным образом, индийцы, арабы, японцы, итальянцы, немцы, французы. Официальный язык португальский, распространены также испанский, английский, немецкий, итальянский языки. Большинство верующих исповедуют католицизм (70%), есть также протестанты, иудеи. Рождаемость - 21 чел.на 1 000 (1995). Смертность - 9 чел. на 1 000  (уровень детской смертности - 57 детей н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 000 новорожденных). Средняя продолжительность жизни: мужчин-57 лет, женщин-67 лет (1995). Из всего трудоспособного населения (57 000 000 человек по данным 1989 г.) в сфере услуг занято 42%, в сельском хозяйстве -31%, в промышленности - 27%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7" descr="BRA[1]"/>
          <p:cNvPicPr/>
          <p:nvPr/>
        </p:nvPicPr>
        <p:blipFill>
          <a:blip r:embed="rId1"/>
          <a:stretch/>
        </p:blipFill>
        <p:spPr>
          <a:xfrm>
            <a:off x="5219640" y="1628640"/>
            <a:ext cx="3716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Климат</a:t>
            </a: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181440" y="1268280"/>
            <a:ext cx="4426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лимат меняется с северо-запада на юго-восток от влажного экваториального до сезонно-влажного субтропического. Средние температуры января от 23 до 29°С, июля - от 16 до 24°С. Осадки: от 500 мм в год на северо-востоке Бразильского плоскогорья до 1 200 мм в южных областях страны, среднегодовая норма выпадения осадков на западе Амазонской низменности - 3 000 м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7" descr="p0074-23[1]"/>
          <p:cNvPicPr/>
          <p:nvPr/>
        </p:nvPicPr>
        <p:blipFill>
          <a:blip r:embed="rId1"/>
          <a:stretch/>
        </p:blipFill>
        <p:spPr>
          <a:xfrm>
            <a:off x="4356000" y="1773360"/>
            <a:ext cx="460872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Государственное устрой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2360" y="1412640"/>
            <a:ext cx="52560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лное наименование - Федеративная Республика Бразилия. Государственный строй - федеративная президентская республика. Страна состоит из 26 штатов и 1 федерального округа, в котором расположена столица - Бразилиа. Независимость от Португалии Бразилия получила 7 сентября 1822 г. Последняя конституция была принята 5 октября 1988 г. Национальный праздник - 7 сентября - День независимости. Глава правительства - президент, назначающий правительство. Законодательная власть принадлежит двухпалатному парламенту (Национальныому конгрессу), состоящему из Сената и Палаты депутатов. Наиболее влиятельные политические партии: Партия бразильской социал-демократии (ПБСД), Партия Бразильского демократического движения (ПБДД), Партия либерального фронта (ПЛФ), Социал-демократическая партия (СДП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10" descr="рио"/>
          <p:cNvPicPr/>
          <p:nvPr/>
        </p:nvPicPr>
        <p:blipFill>
          <a:blip r:embed="rId1"/>
          <a:stretch/>
        </p:blipFill>
        <p:spPr>
          <a:xfrm>
            <a:off x="4932360" y="2060640"/>
            <a:ext cx="4038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Эконом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181440" y="907920"/>
            <a:ext cx="9325080" cy="682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Аграрный сектор играет важную роль в экономике страны. Бразилия является самым крупным в мире производителем и экспортером кофе и цитрусового концентрированного сока и вторым по величине экспортером сои. Выращиваются также рис, маниока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ервое место в мир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), зерновые, сахарный тростник, какао-бобы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торое место в мир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). В животноводстве преобладает крупный рогатый скот. За исключением пшеницы, страна полностью обеспечивает свои внутренние потребности в продовольствии. Значительная доля больших земельных владений находится в частном пользовании с государственным финансированием этого сектора. Собственность на основные индустриальные и добывающие средства производства поделена между частными собственниками, включая нескольких мультинациональных, и правительством. Наиболее развитые отрасли промышленности: химическая, деревообрабатывающая, текстильная, металлургическая, машиностроение. Основным потенциалом для развития экономики Бразилии служат ее громадные природные ресурсы. ВНП в 1994 г. составил $886,3 млрд. (ВНП надушу населения - $5 580). Денежная единица - реал (1 (R$) реал равен 100 сентаво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Транспортные коммуникаци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181080" y="1557000"/>
            <a:ext cx="4687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стране проложено 30 612 км железных дорог, общая протяженность автодорог - 1 670 000 км. Многие реки (в первую очередь Амазонка) судоходны, внутренние водные пути составляют 50 000 км. Главные порты страны - Парамарибо, Кайенна, Форта-леза, Натал, Жуан-Песоа, Масейо, Салвадор, Витория, Рио-де-Жанейро, Нитерой, Порту-Алегр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7" descr="brasil8"/>
          <p:cNvPicPr/>
          <p:nvPr/>
        </p:nvPicPr>
        <p:blipFill>
          <a:blip r:embed="rId1"/>
          <a:stretch/>
        </p:blipFill>
        <p:spPr>
          <a:xfrm>
            <a:off x="4427640" y="2060640"/>
            <a:ext cx="449568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остопримечательности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252360" y="1412640"/>
            <a:ext cx="4392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Бразилии  иностранных туристов привлекает  знаменитый карнавал в Рио-де-Жанейро. Кроме того, в этом городе находятся известные океанские пляжи Копакабана, Ипанема, Лебнон; статуя Христа на вершине вулкана Корковадо; зоопарк. Среди музеев можно отметить Музей современного искусства, Национальный Музей, Музей индейцев в Рио-де-Жанейр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20" descr="content_countries_10_1[1]"/>
          <p:cNvPicPr/>
          <p:nvPr/>
        </p:nvPicPr>
        <p:blipFill>
          <a:blip r:embed="rId1"/>
          <a:stretch/>
        </p:blipFill>
        <p:spPr>
          <a:xfrm>
            <a:off x="4067280" y="1628640"/>
            <a:ext cx="482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частие в международных организациях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разилия участвует в организациях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АфБР, ЭКЛАК, ФАО, ГАТТ, МАГАТЭ, МБРР, ИКАО, МТП, МСКП, MAP, ИФАД, МФК, МОТ, МВФ, ИМО, ИНМАРСАТ, ИНТЕЛСАТ, ИНТЕРПОЛ, МОК, ИСО, ЛАЭС, ОАГ, ООН, ЮНЕСКО, УВКБ, ЮНИДО, ВПС, ВКТ, ВФП, ВОИС, ВМО, ВТ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80_19909[1]"/>
          <p:cNvPicPr/>
          <p:nvPr/>
        </p:nvPicPr>
        <p:blipFill>
          <a:blip r:embed="rId1"/>
          <a:stretch/>
        </p:blipFill>
        <p:spPr>
          <a:xfrm>
            <a:off x="4643280" y="2133720"/>
            <a:ext cx="4249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07:25:24Z</dcterms:created>
  <dc:creator>Плазма</dc:creator>
  <dc:description/>
  <dc:language>en-US</dc:language>
  <cp:lastModifiedBy>Спиридонова Наталья Николаевна</cp:lastModifiedBy>
  <dcterms:modified xsi:type="dcterms:W3CDTF">2011-09-14T06:52:41Z</dcterms:modified>
  <cp:revision>18</cp:revision>
  <dc:subject/>
  <dc:title>Бразил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b0000000000010250300207f7000400038000</vt:lpwstr>
  </property>
</Properties>
</file>