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D50-85BC-4B07-81DF-9CA38C63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397-7EA4-4B13-B7BB-7E74D72D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F71-F9B5-4C02-AE8D-AA982010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06D-30AF-4335-96A9-CD7E6E89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CB26-DAB5-42BD-A275-AB3F8E68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AE25-14AE-40F9-BE13-3073F198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34B0-3C87-4144-AAED-8B9D114C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EBAC-BD57-4E8E-AA57-93A4F29C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5FAF-1B24-4473-BD5F-297329BC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1B80-27CC-42E3-BAF9-3015E9AF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F9C1-36E3-4BDB-BC55-CBA6EC8F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2F8-6A6E-4351-8285-D5C19346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F060-D187-4B4F-BE7E-49B6C2CB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AA57-8CE1-496E-8587-04CB117C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6A4C-403A-4EF9-9F8B-86B20BBF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5476-5687-463D-8715-1AFA25B7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AE65-46E9-4240-A058-038E2375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F85-85CA-4CA7-AF4E-CC0A47BF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912-87A0-4F9B-9A8F-6860B5E8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540-6F33-4942-90EE-16A54BBB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26E-7794-4941-BC6F-A0305EA8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CEA-EEEA-4A78-923D-55D912A8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E22-725F-48E1-B3DD-369E8115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4BF-CD33-4E82-8041-986C50F5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30CE-55C8-4584-92C0-44B41CDBC1A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7783-230E-4492-8BB3-ED1CEA36D0C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1692360"/>
            <a:ext cx="8642160" cy="180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c00"/>
                </a:solidFill>
                <a:latin typeface="Arial"/>
              </a:rPr>
              <a:t>Бразилия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Picture 6" descr="GauntSUNGEM"/>
          <p:cNvPicPr/>
          <p:nvPr/>
        </p:nvPicPr>
        <p:blipFill>
          <a:blip r:embed="rId1"/>
          <a:stretch/>
        </p:blipFill>
        <p:spPr>
          <a:xfrm>
            <a:off x="3059280" y="3789360"/>
            <a:ext cx="288108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Географическое положени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252720" y="1267920"/>
            <a:ext cx="4824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Государство в Южной Америке. На западе граничит с Аргентиной (длина границы 1 224 км), Боливией (3 400 км), Парагваем (1 290 км) и Перу (1 560 км), на севере - с Венесуэлой (2 200 км), Гайаной (1 119 км), Французской Гвианой (673 км) и Суринамом (597 км), на северо-западе-с Колумбией (1 643 км), на юге - с Уругваем (985 км). На востоке и севере Бразилия омывается Атлантическим океаном. Общая протяженность границы - 14 691 км, длина береговой линии - 7491 км. Общая площадь страны 8 511 965 км (площадь суши - 8 456 510 км2). Бразилия является самым крупным государством Южной Америки и занимает почти половину континент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9" descr="бразилия"/>
          <p:cNvPicPr/>
          <p:nvPr/>
        </p:nvPicPr>
        <p:blipFill>
          <a:blip r:embed="rId1"/>
          <a:stretch/>
        </p:blipFill>
        <p:spPr>
          <a:xfrm>
            <a:off x="4788000" y="1557360"/>
            <a:ext cx="42336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аселение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24360" y="764640"/>
            <a:ext cx="5472360" cy="10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аселение составляет 160 737 489 человек (1995), средняя плотность населения почти 19 чел/км2. Большинство жителей проживает в районе Атлантического побережья. Самая крупная этническая группа представлена европейцами (португальцы, испанцы, немцы, итальянцы) - 54,7%, черные африканцы составляют 5,89% населения страны, мулаты - 38,45%. Кроме граждан Бразилии, в стране более 3 млн. иммигрантов - это, главным образом, индийцы, арабы, японцы, итальянцы, немцы, французы. Официальный язык португальский, распространены также испанский, английский, немецкий, итальянский языки. Большинство верующих исповедуют католицизм (70%), есть также протестанты, иудеи. Рождаемость - 21 чел.на 1 000 (1995). Смертность - 9 чел. на 1 000  (уровень детской смертности - 57 детей на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 000 новорожденных). Средняя продолжительность жизни: мужчин-57 лет, женщин-67 лет (1995). Из всего трудоспособного населения (57 000 000 человек по данным 1989 г.) в сфере услуг занято 42%, в сельском хозяйстве -31%, в промышленности - 27%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17" descr="BRA[1]"/>
          <p:cNvPicPr/>
          <p:nvPr/>
        </p:nvPicPr>
        <p:blipFill>
          <a:blip r:embed="rId1"/>
          <a:stretch/>
        </p:blipFill>
        <p:spPr>
          <a:xfrm>
            <a:off x="5219640" y="1628640"/>
            <a:ext cx="3716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Климат</a:t>
            </a:r>
            <a:r>
              <a:rPr b="0" lang="ru-RU" sz="4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181440" y="1268280"/>
            <a:ext cx="44262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лимат меняется с северо-запада на юго-восток от влажного экваториального до сезонно-влажного субтропического. Средние температуры января от 23 до 29°С, июля - от 16 до 24°С. Осадки: от 500 мм в год на северо-востоке Бразильского плоскогорья до 1 200 мм в южных областях страны, среднегодовая норма выпадения осадков на западе Амазонской низменности - 3 000 мм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7" descr="p0074-23[1]"/>
          <p:cNvPicPr/>
          <p:nvPr/>
        </p:nvPicPr>
        <p:blipFill>
          <a:blip r:embed="rId1"/>
          <a:stretch/>
        </p:blipFill>
        <p:spPr>
          <a:xfrm>
            <a:off x="4356000" y="1773360"/>
            <a:ext cx="460872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Государственное устройств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252360" y="1412640"/>
            <a:ext cx="525600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лное наименование - Федеративная Республика Бразилия. Государственный строй - федеративная президентская республика. Страна состоит из 26 штатов и 1 федерального округа, в котором расположена столица - Бразилиа. Независимость от Португалии Бразилия получила 7 сентября 1822 г. Последняя конституция была принята 5 октября 1988 г. Национальный праздник - 7 сентября - День независимости. Глава правительства - президент, назначающий правительство. Законодательная власть принадлежит двухпалатному парламенту (Национальныому конгрессу), состоящему из Сената и Палаты депутатов. Наиболее влиятельные политические партии: Партия бразильской социал-демократии (ПБСД), Партия Бразильского демократического движения (ПБДД), Партия либерального фронта (ПЛФ), Социал-демократическая партия (СДП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10" descr="рио"/>
          <p:cNvPicPr/>
          <p:nvPr/>
        </p:nvPicPr>
        <p:blipFill>
          <a:blip r:embed="rId1"/>
          <a:stretch/>
        </p:blipFill>
        <p:spPr>
          <a:xfrm>
            <a:off x="4932360" y="2060640"/>
            <a:ext cx="40384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Эконом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181440" y="907920"/>
            <a:ext cx="9325080" cy="682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Аграрный сектор играет важную роль в экономике страны. Бразилия является самым крупным в мире производителем и экспортером кофе и цитрусового концентрированного сока и вторым по величине экспортером сои. Выращиваются также рис, маниока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первое место в мире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), зерновые, сахарный тростник, какао-бобы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второе место в мире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). В животноводстве преобладает крупный рогатый скот. За исключением пшеницы, страна полностью обеспечивает свои внутренние потребности в продовольствии. Значительная доля больших земельных владений находится в частном пользовании с государственным финансированием этого сектора. Собственность на основные индустриальные и добывающие средства производства поделена между частными собственниками, включая нескольких мультинациональных, и правительством. Наиболее развитые отрасли промышленности: химическая, деревообрабатывающая, текстильная, металлургическая, машиностроение. Основным потенциалом для развития экономики Бразилии служат ее громадные природные ресурсы. ВНП в 1994 г. составил $886,3 млрд. (ВНП надушу населения - $5 580). Денежная единица - реал (1 (R$) реал равен 100 сентаво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Транспортные коммуникаци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181080" y="1557000"/>
            <a:ext cx="4687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стране проложено 30 612 км железных дорог, общая протяженность автодорог - 1 670 000 км. Многие реки (в первую очередь Амазонка) судоходны, внутренние водные пути составляют 50 000 км. Главные порты страны - Парамарибо, Кайенна, Форта-леза, Натал, Жуан-Песоа, Масейо, Салвадор, Витория, Рио-де-Жанейро, Нитерой, Порту-Алегр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7" descr="brasil8"/>
          <p:cNvPicPr/>
          <p:nvPr/>
        </p:nvPicPr>
        <p:blipFill>
          <a:blip r:embed="rId1"/>
          <a:stretch/>
        </p:blipFill>
        <p:spPr>
          <a:xfrm>
            <a:off x="4427640" y="2060640"/>
            <a:ext cx="4495680" cy="32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Достопримечательности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252360" y="1412640"/>
            <a:ext cx="4392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 Бразилии  иностранных туристов привлекает  знаменитый карнавал в Рио-де-Жанейро. Кроме того, в этом городе находятся известные океанские пляжи Копакабана, Ипанема, Лебнон; статуя Христа на вершине вулкана Корковадо; зоопарк. Среди музеев можно отметить Музей современного искусства, Национальный Музей, Музей индейцев в Рио-де-Жанейр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20" descr="content_countries_10_1[1]"/>
          <p:cNvPicPr/>
          <p:nvPr/>
        </p:nvPicPr>
        <p:blipFill>
          <a:blip r:embed="rId1"/>
          <a:stretch/>
        </p:blipFill>
        <p:spPr>
          <a:xfrm>
            <a:off x="4067280" y="1628640"/>
            <a:ext cx="4825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Участие в международных организациях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Бразилия участвует в организациях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АфБР, ЭКЛАК, ФАО, ГАТТ, МАГАТЭ, МБРР, ИКАО, МТП, МСКП, MAP, ИФАД, МФК, МОТ, МВФ, ИМО, ИНМАРСАТ, ИНТЕЛСАТ, ИНТЕРПОЛ, МОК, ИСО, ЛАЭС, ОАГ, ООН, ЮНЕСКО, УВКБ, ЮНИДО, ВПС, ВКТ, ВФП, ВОИС, ВМО, ВТ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6" descr="80_19909[1]"/>
          <p:cNvPicPr/>
          <p:nvPr/>
        </p:nvPicPr>
        <p:blipFill>
          <a:blip r:embed="rId1"/>
          <a:stretch/>
        </p:blipFill>
        <p:spPr>
          <a:xfrm>
            <a:off x="4643280" y="2133720"/>
            <a:ext cx="42498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4T07:25:24Z</dcterms:created>
  <dc:creator>Плазма</dc:creator>
  <dc:description/>
  <dc:language>en-US</dc:language>
  <cp:lastModifiedBy>Спиридонова Наталья Николаевна</cp:lastModifiedBy>
  <dcterms:modified xsi:type="dcterms:W3CDTF">2011-09-14T06:52:41Z</dcterms:modified>
  <cp:revision>18</cp:revision>
  <dc:subject/>
  <dc:title>Бразил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b0000000000010250300207f7000400038000</vt:lpwstr>
  </property>
</Properties>
</file>